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9251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316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468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00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316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0468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000" y="369000"/>
            <a:ext cx="61556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720720" y="4098960"/>
            <a:ext cx="5398920" cy="402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841" y="9896"/>
                </a:moveTo>
                <a:cubicBezTo>
                  <a:pt x="4223" y="8847"/>
                  <a:pt x="4630" y="7846"/>
                  <a:pt x="5278" y="7102"/>
                </a:cubicBezTo>
                <a:cubicBezTo>
                  <a:pt x="5749" y="6560"/>
                  <a:pt x="6520" y="6836"/>
                  <a:pt x="7103" y="6551"/>
                </a:cubicBezTo>
                <a:cubicBezTo>
                  <a:pt x="7643" y="6285"/>
                  <a:pt x="8078" y="5714"/>
                  <a:pt x="8615" y="5477"/>
                </a:cubicBezTo>
                <a:cubicBezTo>
                  <a:pt x="9241" y="5216"/>
                  <a:pt x="9925" y="5303"/>
                  <a:pt x="10559" y="5081"/>
                </a:cubicBezTo>
                <a:cubicBezTo>
                  <a:pt x="11196" y="4854"/>
                  <a:pt x="11830" y="4554"/>
                  <a:pt x="12413" y="4129"/>
                </a:cubicBezTo>
                <a:cubicBezTo>
                  <a:pt x="12535" y="4046"/>
                  <a:pt x="12650" y="3959"/>
                  <a:pt x="12755" y="3858"/>
                </a:cubicBezTo>
                <a:cubicBezTo>
                  <a:pt x="13536" y="3926"/>
                  <a:pt x="14346" y="4104"/>
                  <a:pt x="15116" y="3858"/>
                </a:cubicBezTo>
                <a:cubicBezTo>
                  <a:pt x="15340" y="3785"/>
                  <a:pt x="14695" y="3244"/>
                  <a:pt x="14832" y="2988"/>
                </a:cubicBezTo>
                <a:cubicBezTo>
                  <a:pt x="14962" y="2741"/>
                  <a:pt x="15286" y="3191"/>
                  <a:pt x="15502" y="3109"/>
                </a:cubicBezTo>
                <a:cubicBezTo>
                  <a:pt x="15692" y="3041"/>
                  <a:pt x="15746" y="2644"/>
                  <a:pt x="15937" y="2562"/>
                </a:cubicBezTo>
                <a:cubicBezTo>
                  <a:pt x="16103" y="2490"/>
                  <a:pt x="16268" y="2673"/>
                  <a:pt x="16434" y="2717"/>
                </a:cubicBezTo>
                <a:cubicBezTo>
                  <a:pt x="16650" y="2756"/>
                  <a:pt x="16895" y="2959"/>
                  <a:pt x="17078" y="2804"/>
                </a:cubicBezTo>
                <a:cubicBezTo>
                  <a:pt x="17273" y="2635"/>
                  <a:pt x="17424" y="2398"/>
                  <a:pt x="17564" y="2132"/>
                </a:cubicBezTo>
                <a:cubicBezTo>
                  <a:pt x="17564" y="1426"/>
                  <a:pt x="17546" y="725"/>
                  <a:pt x="17539" y="24"/>
                </a:cubicBezTo>
                <a:cubicBezTo>
                  <a:pt x="17928" y="73"/>
                  <a:pt x="18306" y="121"/>
                  <a:pt x="18695" y="184"/>
                </a:cubicBezTo>
                <a:cubicBezTo>
                  <a:pt x="19577" y="324"/>
                  <a:pt x="20790" y="570"/>
                  <a:pt x="21600" y="744"/>
                </a:cubicBezTo>
                <a:cubicBezTo>
                  <a:pt x="21600" y="744"/>
                  <a:pt x="21600" y="21600"/>
                  <a:pt x="21600" y="21600"/>
                </a:cubicBezTo>
                <a:cubicBezTo>
                  <a:pt x="21600" y="21600"/>
                  <a:pt x="0" y="21600"/>
                  <a:pt x="0" y="21600"/>
                </a:cubicBezTo>
                <a:cubicBezTo>
                  <a:pt x="0" y="21600"/>
                  <a:pt x="0" y="1213"/>
                  <a:pt x="0" y="1213"/>
                </a:cubicBezTo>
                <a:cubicBezTo>
                  <a:pt x="738" y="919"/>
                  <a:pt x="1519" y="643"/>
                  <a:pt x="2236" y="416"/>
                </a:cubicBezTo>
                <a:cubicBezTo>
                  <a:pt x="2729" y="266"/>
                  <a:pt x="3226" y="121"/>
                  <a:pt x="3719" y="0"/>
                </a:cubicBezTo>
                <a:cubicBezTo>
                  <a:pt x="3719" y="358"/>
                  <a:pt x="3737" y="715"/>
                  <a:pt x="3744" y="1068"/>
                </a:cubicBezTo>
                <a:cubicBezTo>
                  <a:pt x="3780" y="4008"/>
                  <a:pt x="3809" y="6962"/>
                  <a:pt x="3841" y="9896"/>
                </a:cubicBezTo>
              </a:path>
            </a:pathLst>
          </a:custGeom>
          <a:solidFill>
            <a:srgbClr val="ccc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720720" y="1130400"/>
            <a:ext cx="5398920" cy="16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21600"/>
                  <a:pt x="21600" y="21600"/>
                </a:cubicBezTo>
                <a:cubicBezTo>
                  <a:pt x="21503" y="21278"/>
                  <a:pt x="21395" y="20980"/>
                  <a:pt x="21272" y="20718"/>
                </a:cubicBezTo>
                <a:cubicBezTo>
                  <a:pt x="21096" y="20373"/>
                  <a:pt x="20894" y="20075"/>
                  <a:pt x="20689" y="20146"/>
                </a:cubicBezTo>
                <a:cubicBezTo>
                  <a:pt x="20416" y="20218"/>
                  <a:pt x="20171" y="20754"/>
                  <a:pt x="19897" y="20802"/>
                </a:cubicBezTo>
                <a:cubicBezTo>
                  <a:pt x="19638" y="20849"/>
                  <a:pt x="19386" y="20516"/>
                  <a:pt x="19127" y="20349"/>
                </a:cubicBezTo>
                <a:cubicBezTo>
                  <a:pt x="18785" y="20087"/>
                  <a:pt x="18421" y="19968"/>
                  <a:pt x="18076" y="20194"/>
                </a:cubicBezTo>
                <a:cubicBezTo>
                  <a:pt x="17910" y="20313"/>
                  <a:pt x="17752" y="20552"/>
                  <a:pt x="17590" y="20814"/>
                </a:cubicBezTo>
                <a:cubicBezTo>
                  <a:pt x="17579" y="20695"/>
                  <a:pt x="17568" y="20599"/>
                  <a:pt x="17554" y="20468"/>
                </a:cubicBezTo>
                <a:cubicBezTo>
                  <a:pt x="17417" y="19348"/>
                  <a:pt x="17172" y="18300"/>
                  <a:pt x="16862" y="17525"/>
                </a:cubicBezTo>
                <a:cubicBezTo>
                  <a:pt x="16600" y="16870"/>
                  <a:pt x="16290" y="16453"/>
                  <a:pt x="15973" y="16298"/>
                </a:cubicBezTo>
                <a:cubicBezTo>
                  <a:pt x="15574" y="16096"/>
                  <a:pt x="15167" y="16096"/>
                  <a:pt x="14764" y="16096"/>
                </a:cubicBezTo>
                <a:cubicBezTo>
                  <a:pt x="14321" y="16096"/>
                  <a:pt x="13849" y="16191"/>
                  <a:pt x="13471" y="15512"/>
                </a:cubicBezTo>
                <a:cubicBezTo>
                  <a:pt x="13248" y="15143"/>
                  <a:pt x="13126" y="14356"/>
                  <a:pt x="13036" y="13558"/>
                </a:cubicBezTo>
                <a:cubicBezTo>
                  <a:pt x="12913" y="12450"/>
                  <a:pt x="12816" y="11283"/>
                  <a:pt x="12701" y="10163"/>
                </a:cubicBezTo>
                <a:cubicBezTo>
                  <a:pt x="12571" y="8852"/>
                  <a:pt x="12449" y="7518"/>
                  <a:pt x="12161" y="6636"/>
                </a:cubicBezTo>
                <a:cubicBezTo>
                  <a:pt x="11902" y="5850"/>
                  <a:pt x="11545" y="5552"/>
                  <a:pt x="11185" y="5552"/>
                </a:cubicBezTo>
                <a:cubicBezTo>
                  <a:pt x="10912" y="5552"/>
                  <a:pt x="10638" y="5814"/>
                  <a:pt x="10397" y="6291"/>
                </a:cubicBezTo>
                <a:cubicBezTo>
                  <a:pt x="10206" y="6660"/>
                  <a:pt x="10044" y="7196"/>
                  <a:pt x="9932" y="7827"/>
                </a:cubicBezTo>
                <a:cubicBezTo>
                  <a:pt x="9749" y="8804"/>
                  <a:pt x="9637" y="9877"/>
                  <a:pt x="9598" y="11020"/>
                </a:cubicBezTo>
                <a:cubicBezTo>
                  <a:pt x="9558" y="12152"/>
                  <a:pt x="9619" y="13272"/>
                  <a:pt x="9475" y="14154"/>
                </a:cubicBezTo>
                <a:cubicBezTo>
                  <a:pt x="9364" y="14845"/>
                  <a:pt x="9133" y="15440"/>
                  <a:pt x="8878" y="15488"/>
                </a:cubicBezTo>
                <a:cubicBezTo>
                  <a:pt x="8561" y="15548"/>
                  <a:pt x="8320" y="15012"/>
                  <a:pt x="8053" y="14738"/>
                </a:cubicBezTo>
                <a:cubicBezTo>
                  <a:pt x="7628" y="14309"/>
                  <a:pt x="7164" y="14285"/>
                  <a:pt x="6700" y="14404"/>
                </a:cubicBezTo>
                <a:cubicBezTo>
                  <a:pt x="6199" y="14559"/>
                  <a:pt x="5702" y="15059"/>
                  <a:pt x="5270" y="15893"/>
                </a:cubicBezTo>
                <a:cubicBezTo>
                  <a:pt x="4856" y="16668"/>
                  <a:pt x="4511" y="17728"/>
                  <a:pt x="4248" y="19038"/>
                </a:cubicBezTo>
                <a:cubicBezTo>
                  <a:pt x="4097" y="19170"/>
                  <a:pt x="3938" y="19289"/>
                  <a:pt x="3780" y="19372"/>
                </a:cubicBezTo>
                <a:cubicBezTo>
                  <a:pt x="3416" y="19551"/>
                  <a:pt x="3049" y="19849"/>
                  <a:pt x="2682" y="19694"/>
                </a:cubicBezTo>
                <a:cubicBezTo>
                  <a:pt x="2437" y="19587"/>
                  <a:pt x="2207" y="19146"/>
                  <a:pt x="1962" y="19241"/>
                </a:cubicBezTo>
                <a:cubicBezTo>
                  <a:pt x="1724" y="19348"/>
                  <a:pt x="1534" y="19992"/>
                  <a:pt x="1300" y="19992"/>
                </a:cubicBezTo>
                <a:cubicBezTo>
                  <a:pt x="1033" y="19992"/>
                  <a:pt x="810" y="19408"/>
                  <a:pt x="562" y="19384"/>
                </a:cubicBezTo>
                <a:cubicBezTo>
                  <a:pt x="364" y="19372"/>
                  <a:pt x="184" y="19646"/>
                  <a:pt x="0" y="19968"/>
                </a:cubicBezTo>
                <a:cubicBezTo>
                  <a:pt x="0" y="19968"/>
                  <a:pt x="0" y="0"/>
                  <a:pt x="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5146560" y="2711520"/>
            <a:ext cx="97308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1526"/>
                </a:moveTo>
                <a:cubicBezTo>
                  <a:pt x="21600" y="11526"/>
                  <a:pt x="21600" y="20854"/>
                  <a:pt x="21600" y="20854"/>
                </a:cubicBezTo>
                <a:cubicBezTo>
                  <a:pt x="20223" y="21476"/>
                  <a:pt x="18805" y="21600"/>
                  <a:pt x="17548" y="20771"/>
                </a:cubicBezTo>
                <a:cubicBezTo>
                  <a:pt x="15032" y="19071"/>
                  <a:pt x="13874" y="16003"/>
                  <a:pt x="12696" y="13060"/>
                </a:cubicBezTo>
                <a:cubicBezTo>
                  <a:pt x="11020" y="8748"/>
                  <a:pt x="9103" y="4478"/>
                  <a:pt x="6628" y="3856"/>
                </a:cubicBezTo>
                <a:cubicBezTo>
                  <a:pt x="5290" y="3483"/>
                  <a:pt x="4092" y="5265"/>
                  <a:pt x="3074" y="7338"/>
                </a:cubicBezTo>
                <a:cubicBezTo>
                  <a:pt x="2116" y="9453"/>
                  <a:pt x="1218" y="11816"/>
                  <a:pt x="379" y="14179"/>
                </a:cubicBezTo>
                <a:cubicBezTo>
                  <a:pt x="260" y="11194"/>
                  <a:pt x="180" y="8333"/>
                  <a:pt x="0" y="5597"/>
                </a:cubicBezTo>
                <a:cubicBezTo>
                  <a:pt x="978" y="4395"/>
                  <a:pt x="1996" y="3275"/>
                  <a:pt x="2955" y="2197"/>
                </a:cubicBezTo>
                <a:cubicBezTo>
                  <a:pt x="4152" y="954"/>
                  <a:pt x="5390" y="0"/>
                  <a:pt x="6548" y="332"/>
                </a:cubicBezTo>
                <a:cubicBezTo>
                  <a:pt x="10620" y="1575"/>
                  <a:pt x="13715" y="8499"/>
                  <a:pt x="17727" y="11318"/>
                </a:cubicBezTo>
                <a:cubicBezTo>
                  <a:pt x="18705" y="12023"/>
                  <a:pt x="20462" y="11816"/>
                  <a:pt x="21600" y="1152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5119560" y="2638440"/>
            <a:ext cx="1000080" cy="3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7998"/>
                </a:moveTo>
                <a:cubicBezTo>
                  <a:pt x="21600" y="7998"/>
                  <a:pt x="21600" y="20899"/>
                  <a:pt x="21600" y="20899"/>
                </a:cubicBezTo>
                <a:cubicBezTo>
                  <a:pt x="20493" y="21308"/>
                  <a:pt x="18783" y="21600"/>
                  <a:pt x="17832" y="20608"/>
                </a:cubicBezTo>
                <a:cubicBezTo>
                  <a:pt x="13927" y="16638"/>
                  <a:pt x="10917" y="6889"/>
                  <a:pt x="6954" y="5137"/>
                </a:cubicBezTo>
                <a:cubicBezTo>
                  <a:pt x="5827" y="4670"/>
                  <a:pt x="4623" y="6013"/>
                  <a:pt x="3458" y="7764"/>
                </a:cubicBezTo>
                <a:cubicBezTo>
                  <a:pt x="2525" y="9282"/>
                  <a:pt x="1573" y="10975"/>
                  <a:pt x="622" y="12726"/>
                </a:cubicBezTo>
                <a:cubicBezTo>
                  <a:pt x="544" y="9749"/>
                  <a:pt x="291" y="6889"/>
                  <a:pt x="0" y="4320"/>
                </a:cubicBezTo>
                <a:cubicBezTo>
                  <a:pt x="874" y="2977"/>
                  <a:pt x="1690" y="1693"/>
                  <a:pt x="2583" y="1109"/>
                </a:cubicBezTo>
                <a:cubicBezTo>
                  <a:pt x="4448" y="0"/>
                  <a:pt x="6410" y="584"/>
                  <a:pt x="8255" y="1868"/>
                </a:cubicBezTo>
                <a:cubicBezTo>
                  <a:pt x="9654" y="2685"/>
                  <a:pt x="11014" y="4320"/>
                  <a:pt x="12412" y="4086"/>
                </a:cubicBezTo>
                <a:cubicBezTo>
                  <a:pt x="13888" y="3853"/>
                  <a:pt x="15209" y="1226"/>
                  <a:pt x="16686" y="876"/>
                </a:cubicBezTo>
                <a:cubicBezTo>
                  <a:pt x="17793" y="525"/>
                  <a:pt x="18881" y="1985"/>
                  <a:pt x="19832" y="3678"/>
                </a:cubicBezTo>
                <a:cubicBezTo>
                  <a:pt x="20493" y="4962"/>
                  <a:pt x="21076" y="6422"/>
                  <a:pt x="21600" y="799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20720" y="2700360"/>
            <a:ext cx="955800" cy="55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761"/>
                </a:moveTo>
                <a:cubicBezTo>
                  <a:pt x="0" y="20761"/>
                  <a:pt x="0" y="4404"/>
                  <a:pt x="0" y="4404"/>
                </a:cubicBezTo>
                <a:cubicBezTo>
                  <a:pt x="2319" y="2726"/>
                  <a:pt x="4637" y="1398"/>
                  <a:pt x="7037" y="874"/>
                </a:cubicBezTo>
                <a:cubicBezTo>
                  <a:pt x="11024" y="0"/>
                  <a:pt x="15214" y="105"/>
                  <a:pt x="19159" y="1678"/>
                </a:cubicBezTo>
                <a:cubicBezTo>
                  <a:pt x="19973" y="2062"/>
                  <a:pt x="20786" y="2482"/>
                  <a:pt x="21600" y="3181"/>
                </a:cubicBezTo>
                <a:cubicBezTo>
                  <a:pt x="20746" y="6781"/>
                  <a:pt x="20054" y="10241"/>
                  <a:pt x="20054" y="10241"/>
                </a:cubicBezTo>
                <a:cubicBezTo>
                  <a:pt x="20054" y="10241"/>
                  <a:pt x="18346" y="9262"/>
                  <a:pt x="17471" y="8843"/>
                </a:cubicBezTo>
                <a:cubicBezTo>
                  <a:pt x="15722" y="7899"/>
                  <a:pt x="13953" y="7060"/>
                  <a:pt x="12325" y="7654"/>
                </a:cubicBezTo>
                <a:cubicBezTo>
                  <a:pt x="10373" y="8388"/>
                  <a:pt x="8807" y="10625"/>
                  <a:pt x="7932" y="13491"/>
                </a:cubicBezTo>
                <a:cubicBezTo>
                  <a:pt x="7119" y="16217"/>
                  <a:pt x="6834" y="19118"/>
                  <a:pt x="5634" y="20272"/>
                </a:cubicBezTo>
                <a:cubicBezTo>
                  <a:pt x="4292" y="21600"/>
                  <a:pt x="1973" y="21355"/>
                  <a:pt x="0" y="2076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20720" y="2700360"/>
            <a:ext cx="955800" cy="55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4474"/>
                </a:moveTo>
                <a:cubicBezTo>
                  <a:pt x="2319" y="2761"/>
                  <a:pt x="4637" y="1398"/>
                  <a:pt x="7037" y="874"/>
                </a:cubicBezTo>
                <a:cubicBezTo>
                  <a:pt x="11024" y="0"/>
                  <a:pt x="15214" y="105"/>
                  <a:pt x="19159" y="1678"/>
                </a:cubicBezTo>
                <a:cubicBezTo>
                  <a:pt x="19973" y="2062"/>
                  <a:pt x="20786" y="2482"/>
                  <a:pt x="21600" y="3181"/>
                </a:cubicBezTo>
                <a:cubicBezTo>
                  <a:pt x="20746" y="6781"/>
                  <a:pt x="20054" y="10241"/>
                  <a:pt x="20054" y="10241"/>
                </a:cubicBezTo>
                <a:cubicBezTo>
                  <a:pt x="20054" y="10241"/>
                  <a:pt x="18346" y="9262"/>
                  <a:pt x="17471" y="8843"/>
                </a:cubicBezTo>
                <a:cubicBezTo>
                  <a:pt x="15722" y="7899"/>
                  <a:pt x="13953" y="7060"/>
                  <a:pt x="12325" y="7654"/>
                </a:cubicBezTo>
                <a:cubicBezTo>
                  <a:pt x="10373" y="8388"/>
                  <a:pt x="8807" y="10625"/>
                  <a:pt x="7932" y="13491"/>
                </a:cubicBezTo>
                <a:cubicBezTo>
                  <a:pt x="7119" y="16217"/>
                  <a:pt x="6834" y="19118"/>
                  <a:pt x="5634" y="20272"/>
                </a:cubicBezTo>
                <a:cubicBezTo>
                  <a:pt x="4292" y="21600"/>
                  <a:pt x="1973" y="21355"/>
                  <a:pt x="0" y="20761"/>
                </a:cubicBezTo>
                <a:cubicBezTo>
                  <a:pt x="0" y="20761"/>
                  <a:pt x="0" y="4474"/>
                  <a:pt x="0" y="4474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2568600"/>
            <a:ext cx="1062000" cy="244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0" y="6353"/>
                  <a:pt x="0" y="6353"/>
                </a:cubicBezTo>
                <a:cubicBezTo>
                  <a:pt x="934" y="4209"/>
                  <a:pt x="1849" y="2224"/>
                  <a:pt x="2856" y="2303"/>
                </a:cubicBezTo>
                <a:cubicBezTo>
                  <a:pt x="4119" y="2462"/>
                  <a:pt x="5254" y="6353"/>
                  <a:pt x="6608" y="6353"/>
                </a:cubicBezTo>
                <a:cubicBezTo>
                  <a:pt x="7798" y="6353"/>
                  <a:pt x="8768" y="2065"/>
                  <a:pt x="9976" y="1350"/>
                </a:cubicBezTo>
                <a:cubicBezTo>
                  <a:pt x="11221" y="715"/>
                  <a:pt x="12393" y="3653"/>
                  <a:pt x="13637" y="4368"/>
                </a:cubicBezTo>
                <a:cubicBezTo>
                  <a:pt x="15504" y="5400"/>
                  <a:pt x="17372" y="3415"/>
                  <a:pt x="19220" y="2224"/>
                </a:cubicBezTo>
                <a:cubicBezTo>
                  <a:pt x="20026" y="1668"/>
                  <a:pt x="20831" y="874"/>
                  <a:pt x="21600" y="0"/>
                </a:cubicBezTo>
                <a:cubicBezTo>
                  <a:pt x="21417" y="1350"/>
                  <a:pt x="21234" y="2700"/>
                  <a:pt x="21033" y="4050"/>
                </a:cubicBezTo>
                <a:cubicBezTo>
                  <a:pt x="20520" y="7703"/>
                  <a:pt x="19953" y="13421"/>
                  <a:pt x="19440" y="18821"/>
                </a:cubicBezTo>
                <a:cubicBezTo>
                  <a:pt x="18708" y="17232"/>
                  <a:pt x="17976" y="16279"/>
                  <a:pt x="17243" y="15406"/>
                </a:cubicBezTo>
                <a:cubicBezTo>
                  <a:pt x="13692" y="11832"/>
                  <a:pt x="9921" y="11594"/>
                  <a:pt x="6334" y="13579"/>
                </a:cubicBezTo>
                <a:cubicBezTo>
                  <a:pt x="4174" y="14771"/>
                  <a:pt x="2087" y="17788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49520" y="3983040"/>
            <a:ext cx="3370320" cy="72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3474"/>
                </a:moveTo>
                <a:cubicBezTo>
                  <a:pt x="1142" y="2505"/>
                  <a:pt x="2290" y="1724"/>
                  <a:pt x="3438" y="1266"/>
                </a:cubicBezTo>
                <a:cubicBezTo>
                  <a:pt x="5729" y="404"/>
                  <a:pt x="8094" y="0"/>
                  <a:pt x="10460" y="296"/>
                </a:cubicBezTo>
                <a:cubicBezTo>
                  <a:pt x="12808" y="593"/>
                  <a:pt x="15092" y="970"/>
                  <a:pt x="17371" y="1724"/>
                </a:cubicBezTo>
                <a:cubicBezTo>
                  <a:pt x="18796" y="2182"/>
                  <a:pt x="20198" y="2693"/>
                  <a:pt x="21600" y="3313"/>
                </a:cubicBezTo>
                <a:cubicBezTo>
                  <a:pt x="21415" y="4498"/>
                  <a:pt x="21237" y="5521"/>
                  <a:pt x="21000" y="6491"/>
                </a:cubicBezTo>
                <a:cubicBezTo>
                  <a:pt x="20377" y="9049"/>
                  <a:pt x="19748" y="11743"/>
                  <a:pt x="18987" y="13332"/>
                </a:cubicBezTo>
                <a:cubicBezTo>
                  <a:pt x="17844" y="15756"/>
                  <a:pt x="16621" y="17237"/>
                  <a:pt x="15392" y="18422"/>
                </a:cubicBezTo>
                <a:cubicBezTo>
                  <a:pt x="13771" y="19957"/>
                  <a:pt x="12138" y="21385"/>
                  <a:pt x="10477" y="21519"/>
                </a:cubicBezTo>
                <a:cubicBezTo>
                  <a:pt x="8042" y="21600"/>
                  <a:pt x="5579" y="21196"/>
                  <a:pt x="3196" y="19095"/>
                </a:cubicBezTo>
                <a:cubicBezTo>
                  <a:pt x="2071" y="18099"/>
                  <a:pt x="1044" y="15432"/>
                  <a:pt x="35" y="12631"/>
                </a:cubicBezTo>
                <a:cubicBezTo>
                  <a:pt x="35" y="11554"/>
                  <a:pt x="35" y="10531"/>
                  <a:pt x="35" y="9453"/>
                </a:cubicBezTo>
                <a:cubicBezTo>
                  <a:pt x="23" y="7460"/>
                  <a:pt x="0" y="5467"/>
                  <a:pt x="0" y="347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60680" y="4722840"/>
            <a:ext cx="2249280" cy="122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" y="21600"/>
                </a:moveTo>
                <a:cubicBezTo>
                  <a:pt x="147" y="14883"/>
                  <a:pt x="78" y="8213"/>
                  <a:pt x="0" y="1480"/>
                </a:cubicBezTo>
                <a:cubicBezTo>
                  <a:pt x="354" y="1799"/>
                  <a:pt x="752" y="2022"/>
                  <a:pt x="1149" y="2085"/>
                </a:cubicBezTo>
                <a:cubicBezTo>
                  <a:pt x="1737" y="2149"/>
                  <a:pt x="1953" y="0"/>
                  <a:pt x="2540" y="48"/>
                </a:cubicBezTo>
                <a:cubicBezTo>
                  <a:pt x="3836" y="111"/>
                  <a:pt x="4933" y="1990"/>
                  <a:pt x="6212" y="2388"/>
                </a:cubicBezTo>
                <a:cubicBezTo>
                  <a:pt x="7379" y="2770"/>
                  <a:pt x="8588" y="2467"/>
                  <a:pt x="9772" y="2388"/>
                </a:cubicBezTo>
                <a:cubicBezTo>
                  <a:pt x="10921" y="2324"/>
                  <a:pt x="12087" y="2117"/>
                  <a:pt x="13236" y="1990"/>
                </a:cubicBezTo>
                <a:cubicBezTo>
                  <a:pt x="14610" y="1831"/>
                  <a:pt x="15975" y="1560"/>
                  <a:pt x="17349" y="1480"/>
                </a:cubicBezTo>
                <a:cubicBezTo>
                  <a:pt x="18386" y="1417"/>
                  <a:pt x="19449" y="1560"/>
                  <a:pt x="20485" y="1592"/>
                </a:cubicBezTo>
                <a:cubicBezTo>
                  <a:pt x="20848" y="1592"/>
                  <a:pt x="21220" y="1608"/>
                  <a:pt x="21600" y="1655"/>
                </a:cubicBezTo>
                <a:cubicBezTo>
                  <a:pt x="21349" y="1990"/>
                  <a:pt x="21056" y="2324"/>
                  <a:pt x="20762" y="2595"/>
                </a:cubicBezTo>
                <a:cubicBezTo>
                  <a:pt x="19354" y="3979"/>
                  <a:pt x="17833" y="4966"/>
                  <a:pt x="16304" y="5714"/>
                </a:cubicBezTo>
                <a:cubicBezTo>
                  <a:pt x="14792" y="6447"/>
                  <a:pt x="13150" y="6160"/>
                  <a:pt x="11647" y="7036"/>
                </a:cubicBezTo>
                <a:cubicBezTo>
                  <a:pt x="10351" y="7800"/>
                  <a:pt x="9314" y="9694"/>
                  <a:pt x="8018" y="10553"/>
                </a:cubicBezTo>
                <a:cubicBezTo>
                  <a:pt x="6610" y="11492"/>
                  <a:pt x="4769" y="10585"/>
                  <a:pt x="3637" y="12384"/>
                </a:cubicBezTo>
                <a:cubicBezTo>
                  <a:pt x="2082" y="14819"/>
                  <a:pt x="1123" y="18162"/>
                  <a:pt x="207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55640" y="4095720"/>
            <a:ext cx="345456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37" y="0"/>
                </a:moveTo>
                <a:cubicBezTo>
                  <a:pt x="21217" y="50"/>
                  <a:pt x="21386" y="99"/>
                  <a:pt x="21549" y="174"/>
                </a:cubicBezTo>
                <a:cubicBezTo>
                  <a:pt x="21561" y="3774"/>
                  <a:pt x="21589" y="7423"/>
                  <a:pt x="21600" y="11073"/>
                </a:cubicBezTo>
                <a:cubicBezTo>
                  <a:pt x="21386" y="12414"/>
                  <a:pt x="21150" y="13630"/>
                  <a:pt x="20840" y="14499"/>
                </a:cubicBezTo>
                <a:cubicBezTo>
                  <a:pt x="20553" y="15294"/>
                  <a:pt x="20177" y="14251"/>
                  <a:pt x="19839" y="14052"/>
                </a:cubicBezTo>
                <a:cubicBezTo>
                  <a:pt x="19580" y="13829"/>
                  <a:pt x="19321" y="12886"/>
                  <a:pt x="19057" y="13258"/>
                </a:cubicBezTo>
                <a:cubicBezTo>
                  <a:pt x="18759" y="13680"/>
                  <a:pt x="18674" y="15716"/>
                  <a:pt x="18382" y="16088"/>
                </a:cubicBezTo>
                <a:cubicBezTo>
                  <a:pt x="18044" y="16510"/>
                  <a:pt x="17532" y="14201"/>
                  <a:pt x="17335" y="15468"/>
                </a:cubicBezTo>
                <a:cubicBezTo>
                  <a:pt x="17116" y="16759"/>
                  <a:pt x="18128" y="19539"/>
                  <a:pt x="17774" y="19912"/>
                </a:cubicBezTo>
                <a:cubicBezTo>
                  <a:pt x="16345" y="21426"/>
                  <a:pt x="14837" y="19788"/>
                  <a:pt x="13374" y="19763"/>
                </a:cubicBezTo>
                <a:cubicBezTo>
                  <a:pt x="12699" y="19713"/>
                  <a:pt x="12007" y="19490"/>
                  <a:pt x="11332" y="19589"/>
                </a:cubicBezTo>
                <a:cubicBezTo>
                  <a:pt x="10437" y="19713"/>
                  <a:pt x="9548" y="20135"/>
                  <a:pt x="8654" y="20383"/>
                </a:cubicBezTo>
                <a:cubicBezTo>
                  <a:pt x="7905" y="20582"/>
                  <a:pt x="7146" y="20905"/>
                  <a:pt x="6397" y="21004"/>
                </a:cubicBezTo>
                <a:cubicBezTo>
                  <a:pt x="5626" y="21128"/>
                  <a:pt x="4839" y="21600"/>
                  <a:pt x="4079" y="21004"/>
                </a:cubicBezTo>
                <a:cubicBezTo>
                  <a:pt x="3246" y="20383"/>
                  <a:pt x="2532" y="17454"/>
                  <a:pt x="1688" y="17354"/>
                </a:cubicBezTo>
                <a:cubicBezTo>
                  <a:pt x="1305" y="17280"/>
                  <a:pt x="1165" y="20632"/>
                  <a:pt x="782" y="20532"/>
                </a:cubicBezTo>
                <a:cubicBezTo>
                  <a:pt x="523" y="20433"/>
                  <a:pt x="287" y="20135"/>
                  <a:pt x="62" y="19663"/>
                </a:cubicBezTo>
                <a:cubicBezTo>
                  <a:pt x="45" y="15989"/>
                  <a:pt x="11" y="12240"/>
                  <a:pt x="0" y="8590"/>
                </a:cubicBezTo>
                <a:cubicBezTo>
                  <a:pt x="985" y="11148"/>
                  <a:pt x="1986" y="13581"/>
                  <a:pt x="3083" y="14499"/>
                </a:cubicBezTo>
                <a:cubicBezTo>
                  <a:pt x="5407" y="16436"/>
                  <a:pt x="7810" y="16808"/>
                  <a:pt x="10184" y="16734"/>
                </a:cubicBezTo>
                <a:cubicBezTo>
                  <a:pt x="11804" y="16610"/>
                  <a:pt x="13397" y="15294"/>
                  <a:pt x="14978" y="13879"/>
                </a:cubicBezTo>
                <a:cubicBezTo>
                  <a:pt x="16176" y="12786"/>
                  <a:pt x="17369" y="11421"/>
                  <a:pt x="18483" y="9186"/>
                </a:cubicBezTo>
                <a:cubicBezTo>
                  <a:pt x="19226" y="7721"/>
                  <a:pt x="19839" y="5239"/>
                  <a:pt x="20447" y="2880"/>
                </a:cubicBezTo>
                <a:cubicBezTo>
                  <a:pt x="20677" y="1986"/>
                  <a:pt x="20863" y="1092"/>
                  <a:pt x="21037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2568600"/>
            <a:ext cx="1062000" cy="24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87" y="17737"/>
                  <a:pt x="4174" y="14663"/>
                  <a:pt x="6334" y="13480"/>
                </a:cubicBezTo>
                <a:cubicBezTo>
                  <a:pt x="9921" y="11509"/>
                  <a:pt x="13692" y="11746"/>
                  <a:pt x="17243" y="15293"/>
                </a:cubicBezTo>
                <a:cubicBezTo>
                  <a:pt x="17976" y="16161"/>
                  <a:pt x="18708" y="17107"/>
                  <a:pt x="19440" y="18683"/>
                </a:cubicBezTo>
                <a:cubicBezTo>
                  <a:pt x="19953" y="13323"/>
                  <a:pt x="20520" y="7647"/>
                  <a:pt x="21033" y="4020"/>
                </a:cubicBezTo>
                <a:cubicBezTo>
                  <a:pt x="21234" y="2680"/>
                  <a:pt x="21417" y="1340"/>
                  <a:pt x="21600" y="0"/>
                </a:cubicBezTo>
                <a:cubicBezTo>
                  <a:pt x="20831" y="867"/>
                  <a:pt x="20026" y="1655"/>
                  <a:pt x="19220" y="2207"/>
                </a:cubicBezTo>
                <a:cubicBezTo>
                  <a:pt x="17372" y="3390"/>
                  <a:pt x="15504" y="5361"/>
                  <a:pt x="13637" y="4336"/>
                </a:cubicBezTo>
                <a:cubicBezTo>
                  <a:pt x="12393" y="3626"/>
                  <a:pt x="11221" y="709"/>
                  <a:pt x="9976" y="1340"/>
                </a:cubicBezTo>
                <a:cubicBezTo>
                  <a:pt x="8768" y="2050"/>
                  <a:pt x="7798" y="6307"/>
                  <a:pt x="6608" y="6307"/>
                </a:cubicBezTo>
                <a:cubicBezTo>
                  <a:pt x="5254" y="6307"/>
                  <a:pt x="4119" y="2444"/>
                  <a:pt x="2856" y="2286"/>
                </a:cubicBezTo>
                <a:cubicBezTo>
                  <a:pt x="1849" y="2207"/>
                  <a:pt x="934" y="4020"/>
                  <a:pt x="0" y="6149"/>
                </a:cubicBezTo>
                <a:cubicBezTo>
                  <a:pt x="0" y="6149"/>
                  <a:pt x="0" y="21600"/>
                  <a:pt x="0" y="21600"/>
                </a:cubicBezTo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1130400"/>
            <a:ext cx="5398920" cy="16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68"/>
                </a:moveTo>
                <a:cubicBezTo>
                  <a:pt x="184" y="19646"/>
                  <a:pt x="364" y="19372"/>
                  <a:pt x="562" y="19384"/>
                </a:cubicBezTo>
                <a:cubicBezTo>
                  <a:pt x="810" y="19408"/>
                  <a:pt x="1033" y="19992"/>
                  <a:pt x="1300" y="19992"/>
                </a:cubicBezTo>
                <a:cubicBezTo>
                  <a:pt x="1534" y="19992"/>
                  <a:pt x="1724" y="19348"/>
                  <a:pt x="1962" y="19241"/>
                </a:cubicBezTo>
                <a:cubicBezTo>
                  <a:pt x="2207" y="19146"/>
                  <a:pt x="2437" y="19587"/>
                  <a:pt x="2682" y="19694"/>
                </a:cubicBezTo>
                <a:cubicBezTo>
                  <a:pt x="3049" y="19849"/>
                  <a:pt x="3416" y="19551"/>
                  <a:pt x="3780" y="19372"/>
                </a:cubicBezTo>
                <a:cubicBezTo>
                  <a:pt x="3938" y="19289"/>
                  <a:pt x="4097" y="19170"/>
                  <a:pt x="4248" y="19038"/>
                </a:cubicBezTo>
                <a:cubicBezTo>
                  <a:pt x="4511" y="17728"/>
                  <a:pt x="4856" y="16668"/>
                  <a:pt x="5270" y="15893"/>
                </a:cubicBezTo>
                <a:cubicBezTo>
                  <a:pt x="5702" y="15059"/>
                  <a:pt x="6199" y="14559"/>
                  <a:pt x="6700" y="14404"/>
                </a:cubicBezTo>
                <a:cubicBezTo>
                  <a:pt x="7164" y="14285"/>
                  <a:pt x="7628" y="14309"/>
                  <a:pt x="8053" y="14738"/>
                </a:cubicBezTo>
                <a:cubicBezTo>
                  <a:pt x="8320" y="15012"/>
                  <a:pt x="8561" y="15548"/>
                  <a:pt x="8878" y="15488"/>
                </a:cubicBezTo>
                <a:cubicBezTo>
                  <a:pt x="9133" y="15440"/>
                  <a:pt x="9364" y="14845"/>
                  <a:pt x="9475" y="14154"/>
                </a:cubicBezTo>
                <a:cubicBezTo>
                  <a:pt x="9619" y="13272"/>
                  <a:pt x="9558" y="12152"/>
                  <a:pt x="9598" y="11020"/>
                </a:cubicBezTo>
                <a:cubicBezTo>
                  <a:pt x="9637" y="9877"/>
                  <a:pt x="9749" y="8804"/>
                  <a:pt x="9932" y="7827"/>
                </a:cubicBezTo>
                <a:cubicBezTo>
                  <a:pt x="10044" y="7196"/>
                  <a:pt x="10206" y="6660"/>
                  <a:pt x="10397" y="6291"/>
                </a:cubicBezTo>
                <a:cubicBezTo>
                  <a:pt x="10638" y="5814"/>
                  <a:pt x="10912" y="5552"/>
                  <a:pt x="11185" y="5552"/>
                </a:cubicBezTo>
                <a:cubicBezTo>
                  <a:pt x="11545" y="5552"/>
                  <a:pt x="11902" y="5850"/>
                  <a:pt x="12161" y="6636"/>
                </a:cubicBezTo>
                <a:cubicBezTo>
                  <a:pt x="12449" y="7518"/>
                  <a:pt x="12571" y="8852"/>
                  <a:pt x="12701" y="10163"/>
                </a:cubicBezTo>
                <a:cubicBezTo>
                  <a:pt x="12816" y="11283"/>
                  <a:pt x="12913" y="12450"/>
                  <a:pt x="13036" y="13558"/>
                </a:cubicBezTo>
                <a:cubicBezTo>
                  <a:pt x="13126" y="14356"/>
                  <a:pt x="13248" y="15143"/>
                  <a:pt x="13471" y="15512"/>
                </a:cubicBezTo>
                <a:cubicBezTo>
                  <a:pt x="13849" y="16191"/>
                  <a:pt x="14321" y="16096"/>
                  <a:pt x="14764" y="16096"/>
                </a:cubicBezTo>
                <a:cubicBezTo>
                  <a:pt x="15167" y="16096"/>
                  <a:pt x="15574" y="16096"/>
                  <a:pt x="15973" y="16298"/>
                </a:cubicBezTo>
                <a:cubicBezTo>
                  <a:pt x="16290" y="16453"/>
                  <a:pt x="16600" y="16870"/>
                  <a:pt x="16862" y="17525"/>
                </a:cubicBezTo>
                <a:cubicBezTo>
                  <a:pt x="17172" y="18300"/>
                  <a:pt x="17417" y="19348"/>
                  <a:pt x="17554" y="20468"/>
                </a:cubicBezTo>
                <a:cubicBezTo>
                  <a:pt x="17568" y="20599"/>
                  <a:pt x="17582" y="20718"/>
                  <a:pt x="17597" y="20849"/>
                </a:cubicBezTo>
                <a:cubicBezTo>
                  <a:pt x="17759" y="20575"/>
                  <a:pt x="17910" y="20313"/>
                  <a:pt x="18076" y="20194"/>
                </a:cubicBezTo>
                <a:cubicBezTo>
                  <a:pt x="18421" y="19968"/>
                  <a:pt x="18785" y="20087"/>
                  <a:pt x="19127" y="20349"/>
                </a:cubicBezTo>
                <a:cubicBezTo>
                  <a:pt x="19386" y="20516"/>
                  <a:pt x="19638" y="20849"/>
                  <a:pt x="19897" y="20802"/>
                </a:cubicBezTo>
                <a:cubicBezTo>
                  <a:pt x="20171" y="20754"/>
                  <a:pt x="20416" y="20218"/>
                  <a:pt x="20689" y="20146"/>
                </a:cubicBezTo>
                <a:cubicBezTo>
                  <a:pt x="20894" y="20075"/>
                  <a:pt x="21096" y="20373"/>
                  <a:pt x="21272" y="20718"/>
                </a:cubicBezTo>
                <a:cubicBezTo>
                  <a:pt x="21395" y="20980"/>
                  <a:pt x="21503" y="21278"/>
                  <a:pt x="21600" y="21600"/>
                </a:cubicBezTo>
                <a:cubicBezTo>
                  <a:pt x="21600" y="21600"/>
                  <a:pt x="21600" y="0"/>
                  <a:pt x="21600" y="0"/>
                </a:cubicBezTo>
                <a:cubicBezTo>
                  <a:pt x="21600" y="0"/>
                  <a:pt x="0" y="0"/>
                  <a:pt x="0" y="0"/>
                </a:cubicBezTo>
                <a:cubicBezTo>
                  <a:pt x="0" y="0"/>
                  <a:pt x="0" y="19968"/>
                  <a:pt x="0" y="1996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2546280"/>
            <a:ext cx="114156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868" y="16046"/>
                  <a:pt x="1719" y="10903"/>
                  <a:pt x="2655" y="11109"/>
                </a:cubicBezTo>
                <a:cubicBezTo>
                  <a:pt x="3830" y="11520"/>
                  <a:pt x="4885" y="21600"/>
                  <a:pt x="6145" y="21600"/>
                </a:cubicBezTo>
                <a:cubicBezTo>
                  <a:pt x="7251" y="21600"/>
                  <a:pt x="8153" y="10491"/>
                  <a:pt x="9277" y="8640"/>
                </a:cubicBezTo>
                <a:cubicBezTo>
                  <a:pt x="10434" y="6994"/>
                  <a:pt x="11523" y="14606"/>
                  <a:pt x="12681" y="16457"/>
                </a:cubicBezTo>
                <a:cubicBezTo>
                  <a:pt x="14417" y="19131"/>
                  <a:pt x="16153" y="13989"/>
                  <a:pt x="17872" y="10903"/>
                </a:cubicBezTo>
                <a:cubicBezTo>
                  <a:pt x="19132" y="8640"/>
                  <a:pt x="20374" y="432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18120" y="2638440"/>
            <a:ext cx="1001520" cy="3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59" y="12726"/>
                </a:moveTo>
                <a:cubicBezTo>
                  <a:pt x="1609" y="10975"/>
                  <a:pt x="2559" y="9282"/>
                  <a:pt x="3490" y="7764"/>
                </a:cubicBezTo>
                <a:cubicBezTo>
                  <a:pt x="4654" y="6013"/>
                  <a:pt x="5856" y="4670"/>
                  <a:pt x="6980" y="5137"/>
                </a:cubicBezTo>
                <a:cubicBezTo>
                  <a:pt x="10936" y="6889"/>
                  <a:pt x="13941" y="16638"/>
                  <a:pt x="17838" y="20608"/>
                </a:cubicBezTo>
                <a:cubicBezTo>
                  <a:pt x="18789" y="21600"/>
                  <a:pt x="20495" y="21308"/>
                  <a:pt x="21600" y="20899"/>
                </a:cubicBezTo>
                <a:cubicBezTo>
                  <a:pt x="21600" y="20899"/>
                  <a:pt x="21600" y="7998"/>
                  <a:pt x="21600" y="7998"/>
                </a:cubicBezTo>
                <a:cubicBezTo>
                  <a:pt x="21076" y="6422"/>
                  <a:pt x="20495" y="4962"/>
                  <a:pt x="19836" y="3678"/>
                </a:cubicBezTo>
                <a:cubicBezTo>
                  <a:pt x="18885" y="1985"/>
                  <a:pt x="17800" y="525"/>
                  <a:pt x="16694" y="876"/>
                </a:cubicBezTo>
                <a:cubicBezTo>
                  <a:pt x="15221" y="1226"/>
                  <a:pt x="13902" y="3853"/>
                  <a:pt x="12429" y="4086"/>
                </a:cubicBezTo>
                <a:cubicBezTo>
                  <a:pt x="11033" y="4320"/>
                  <a:pt x="9675" y="2685"/>
                  <a:pt x="8279" y="1868"/>
                </a:cubicBezTo>
                <a:cubicBezTo>
                  <a:pt x="6437" y="584"/>
                  <a:pt x="4479" y="0"/>
                  <a:pt x="2618" y="1109"/>
                </a:cubicBezTo>
                <a:cubicBezTo>
                  <a:pt x="1726" y="1693"/>
                  <a:pt x="873" y="2861"/>
                  <a:pt x="0" y="4145"/>
                </a:cubicBezTo>
                <a:cubicBezTo>
                  <a:pt x="291" y="6772"/>
                  <a:pt x="582" y="9749"/>
                  <a:pt x="659" y="12726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48360" y="2711520"/>
            <a:ext cx="97128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5721"/>
                </a:moveTo>
                <a:cubicBezTo>
                  <a:pt x="980" y="4478"/>
                  <a:pt x="1960" y="3275"/>
                  <a:pt x="2920" y="2197"/>
                </a:cubicBezTo>
                <a:cubicBezTo>
                  <a:pt x="4120" y="954"/>
                  <a:pt x="5360" y="0"/>
                  <a:pt x="6520" y="332"/>
                </a:cubicBezTo>
                <a:cubicBezTo>
                  <a:pt x="10600" y="1575"/>
                  <a:pt x="13700" y="8499"/>
                  <a:pt x="17720" y="11318"/>
                </a:cubicBezTo>
                <a:cubicBezTo>
                  <a:pt x="18700" y="12023"/>
                  <a:pt x="20460" y="11816"/>
                  <a:pt x="21600" y="11526"/>
                </a:cubicBezTo>
                <a:cubicBezTo>
                  <a:pt x="21600" y="11526"/>
                  <a:pt x="21600" y="20854"/>
                  <a:pt x="21600" y="20854"/>
                </a:cubicBezTo>
                <a:cubicBezTo>
                  <a:pt x="20220" y="21476"/>
                  <a:pt x="18800" y="21600"/>
                  <a:pt x="17540" y="20771"/>
                </a:cubicBezTo>
                <a:cubicBezTo>
                  <a:pt x="15020" y="19071"/>
                  <a:pt x="13860" y="16003"/>
                  <a:pt x="12680" y="13060"/>
                </a:cubicBezTo>
                <a:cubicBezTo>
                  <a:pt x="11000" y="8748"/>
                  <a:pt x="9080" y="4478"/>
                  <a:pt x="6600" y="3856"/>
                </a:cubicBezTo>
                <a:cubicBezTo>
                  <a:pt x="5260" y="3483"/>
                  <a:pt x="4060" y="5265"/>
                  <a:pt x="3040" y="7338"/>
                </a:cubicBezTo>
                <a:cubicBezTo>
                  <a:pt x="2080" y="9453"/>
                  <a:pt x="1180" y="11816"/>
                  <a:pt x="340" y="14179"/>
                </a:cubicBezTo>
                <a:cubicBezTo>
                  <a:pt x="220" y="11194"/>
                  <a:pt x="180" y="8375"/>
                  <a:pt x="0" y="5721"/>
                </a:cubicBezTo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57640" y="2638440"/>
            <a:ext cx="106200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" y="17974"/>
                </a:moveTo>
                <a:cubicBezTo>
                  <a:pt x="37" y="17343"/>
                  <a:pt x="0" y="16555"/>
                  <a:pt x="73" y="16239"/>
                </a:cubicBezTo>
                <a:cubicBezTo>
                  <a:pt x="1262" y="11194"/>
                  <a:pt x="2433" y="5361"/>
                  <a:pt x="3694" y="2996"/>
                </a:cubicBezTo>
                <a:cubicBezTo>
                  <a:pt x="5450" y="0"/>
                  <a:pt x="7298" y="1577"/>
                  <a:pt x="9035" y="5045"/>
                </a:cubicBezTo>
                <a:cubicBezTo>
                  <a:pt x="10352" y="7253"/>
                  <a:pt x="11632" y="11667"/>
                  <a:pt x="12949" y="11036"/>
                </a:cubicBezTo>
                <a:cubicBezTo>
                  <a:pt x="14339" y="10406"/>
                  <a:pt x="15583" y="3311"/>
                  <a:pt x="16973" y="2365"/>
                </a:cubicBezTo>
                <a:cubicBezTo>
                  <a:pt x="18015" y="1419"/>
                  <a:pt x="19039" y="5361"/>
                  <a:pt x="19936" y="9933"/>
                </a:cubicBezTo>
                <a:cubicBezTo>
                  <a:pt x="20557" y="13401"/>
                  <a:pt x="21106" y="17343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65360" y="4722840"/>
            <a:ext cx="224316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" y="21600"/>
                </a:moveTo>
                <a:cubicBezTo>
                  <a:pt x="1057" y="18141"/>
                  <a:pt x="2045" y="14841"/>
                  <a:pt x="3604" y="12402"/>
                </a:cubicBezTo>
                <a:cubicBezTo>
                  <a:pt x="4739" y="10601"/>
                  <a:pt x="6585" y="11509"/>
                  <a:pt x="7997" y="10569"/>
                </a:cubicBezTo>
                <a:cubicBezTo>
                  <a:pt x="9297" y="9708"/>
                  <a:pt x="10336" y="7811"/>
                  <a:pt x="11636" y="7046"/>
                </a:cubicBezTo>
                <a:cubicBezTo>
                  <a:pt x="13144" y="6169"/>
                  <a:pt x="14790" y="6456"/>
                  <a:pt x="16306" y="5723"/>
                </a:cubicBezTo>
                <a:cubicBezTo>
                  <a:pt x="17840" y="4974"/>
                  <a:pt x="19365" y="3985"/>
                  <a:pt x="20777" y="2598"/>
                </a:cubicBezTo>
                <a:cubicBezTo>
                  <a:pt x="21071" y="2327"/>
                  <a:pt x="21340" y="2025"/>
                  <a:pt x="21600" y="1690"/>
                </a:cubicBezTo>
                <a:cubicBezTo>
                  <a:pt x="21219" y="1658"/>
                  <a:pt x="20864" y="1594"/>
                  <a:pt x="20500" y="1594"/>
                </a:cubicBezTo>
                <a:cubicBezTo>
                  <a:pt x="19460" y="1562"/>
                  <a:pt x="18394" y="1419"/>
                  <a:pt x="17355" y="1483"/>
                </a:cubicBezTo>
                <a:cubicBezTo>
                  <a:pt x="15977" y="1562"/>
                  <a:pt x="14608" y="1833"/>
                  <a:pt x="13230" y="1993"/>
                </a:cubicBezTo>
                <a:cubicBezTo>
                  <a:pt x="12078" y="2120"/>
                  <a:pt x="10908" y="2327"/>
                  <a:pt x="9756" y="2391"/>
                </a:cubicBezTo>
                <a:cubicBezTo>
                  <a:pt x="8569" y="2471"/>
                  <a:pt x="7356" y="2774"/>
                  <a:pt x="6186" y="2391"/>
                </a:cubicBezTo>
                <a:cubicBezTo>
                  <a:pt x="4904" y="1993"/>
                  <a:pt x="3804" y="112"/>
                  <a:pt x="2504" y="48"/>
                </a:cubicBezTo>
                <a:cubicBezTo>
                  <a:pt x="1915" y="0"/>
                  <a:pt x="1698" y="2152"/>
                  <a:pt x="1109" y="2088"/>
                </a:cubicBezTo>
                <a:cubicBezTo>
                  <a:pt x="710" y="2025"/>
                  <a:pt x="347" y="1833"/>
                  <a:pt x="0" y="1530"/>
                </a:cubicBezTo>
                <a:cubicBezTo>
                  <a:pt x="52" y="8257"/>
                  <a:pt x="87" y="14873"/>
                  <a:pt x="147" y="21600"/>
                </a:cubicBezTo>
              </a:path>
            </a:pathLst>
          </a:custGeom>
          <a:solidFill>
            <a:srgbClr val="ccb8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55640" y="4094280"/>
            <a:ext cx="3454560" cy="78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2" y="19668"/>
                </a:moveTo>
                <a:cubicBezTo>
                  <a:pt x="287" y="20139"/>
                  <a:pt x="523" y="20436"/>
                  <a:pt x="782" y="20535"/>
                </a:cubicBezTo>
                <a:cubicBezTo>
                  <a:pt x="1165" y="20634"/>
                  <a:pt x="1305" y="17290"/>
                  <a:pt x="1688" y="17364"/>
                </a:cubicBezTo>
                <a:cubicBezTo>
                  <a:pt x="2532" y="17463"/>
                  <a:pt x="3246" y="20386"/>
                  <a:pt x="4079" y="21006"/>
                </a:cubicBezTo>
                <a:cubicBezTo>
                  <a:pt x="4839" y="21600"/>
                  <a:pt x="5626" y="21129"/>
                  <a:pt x="6397" y="21006"/>
                </a:cubicBezTo>
                <a:cubicBezTo>
                  <a:pt x="7146" y="20906"/>
                  <a:pt x="7905" y="20584"/>
                  <a:pt x="8654" y="20386"/>
                </a:cubicBezTo>
                <a:cubicBezTo>
                  <a:pt x="9548" y="20139"/>
                  <a:pt x="10437" y="19717"/>
                  <a:pt x="11332" y="19594"/>
                </a:cubicBezTo>
                <a:cubicBezTo>
                  <a:pt x="12007" y="19494"/>
                  <a:pt x="12699" y="19717"/>
                  <a:pt x="13374" y="19767"/>
                </a:cubicBezTo>
                <a:cubicBezTo>
                  <a:pt x="14837" y="19792"/>
                  <a:pt x="16345" y="21427"/>
                  <a:pt x="17774" y="19916"/>
                </a:cubicBezTo>
                <a:cubicBezTo>
                  <a:pt x="18128" y="19544"/>
                  <a:pt x="17116" y="16770"/>
                  <a:pt x="17335" y="15482"/>
                </a:cubicBezTo>
                <a:cubicBezTo>
                  <a:pt x="17532" y="14218"/>
                  <a:pt x="18044" y="16522"/>
                  <a:pt x="18382" y="16101"/>
                </a:cubicBezTo>
                <a:cubicBezTo>
                  <a:pt x="18674" y="15729"/>
                  <a:pt x="18759" y="13698"/>
                  <a:pt x="19057" y="13277"/>
                </a:cubicBezTo>
                <a:cubicBezTo>
                  <a:pt x="19321" y="12906"/>
                  <a:pt x="19580" y="13847"/>
                  <a:pt x="19839" y="14070"/>
                </a:cubicBezTo>
                <a:cubicBezTo>
                  <a:pt x="20177" y="14268"/>
                  <a:pt x="20553" y="15308"/>
                  <a:pt x="20840" y="14516"/>
                </a:cubicBezTo>
                <a:cubicBezTo>
                  <a:pt x="21150" y="13649"/>
                  <a:pt x="21386" y="12484"/>
                  <a:pt x="21600" y="11147"/>
                </a:cubicBezTo>
                <a:cubicBezTo>
                  <a:pt x="21600" y="7530"/>
                  <a:pt x="21577" y="3864"/>
                  <a:pt x="21561" y="272"/>
                </a:cubicBezTo>
                <a:cubicBezTo>
                  <a:pt x="21397" y="149"/>
                  <a:pt x="21206" y="50"/>
                  <a:pt x="21032" y="0"/>
                </a:cubicBezTo>
                <a:cubicBezTo>
                  <a:pt x="20852" y="1090"/>
                  <a:pt x="20677" y="2031"/>
                  <a:pt x="20447" y="2923"/>
                </a:cubicBezTo>
                <a:cubicBezTo>
                  <a:pt x="19839" y="5276"/>
                  <a:pt x="19226" y="7753"/>
                  <a:pt x="18483" y="9215"/>
                </a:cubicBezTo>
                <a:cubicBezTo>
                  <a:pt x="17369" y="11444"/>
                  <a:pt x="16176" y="12806"/>
                  <a:pt x="14978" y="13896"/>
                </a:cubicBezTo>
                <a:cubicBezTo>
                  <a:pt x="13397" y="15308"/>
                  <a:pt x="11804" y="16621"/>
                  <a:pt x="10184" y="16745"/>
                </a:cubicBezTo>
                <a:cubicBezTo>
                  <a:pt x="7810" y="16819"/>
                  <a:pt x="5407" y="16448"/>
                  <a:pt x="3083" y="14516"/>
                </a:cubicBezTo>
                <a:cubicBezTo>
                  <a:pt x="1986" y="13599"/>
                  <a:pt x="985" y="11147"/>
                  <a:pt x="0" y="8571"/>
                </a:cubicBezTo>
                <a:cubicBezTo>
                  <a:pt x="11" y="12237"/>
                  <a:pt x="45" y="16002"/>
                  <a:pt x="62" y="19668"/>
                </a:cubicBezTo>
              </a:path>
            </a:pathLst>
          </a:custGeom>
          <a:solidFill>
            <a:srgbClr val="ccb8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49520" y="3983040"/>
            <a:ext cx="3370320" cy="72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" y="12631"/>
                </a:moveTo>
                <a:cubicBezTo>
                  <a:pt x="1044" y="15432"/>
                  <a:pt x="2071" y="18099"/>
                  <a:pt x="3195" y="19095"/>
                </a:cubicBezTo>
                <a:cubicBezTo>
                  <a:pt x="5577" y="21196"/>
                  <a:pt x="8040" y="21600"/>
                  <a:pt x="10474" y="21519"/>
                </a:cubicBezTo>
                <a:cubicBezTo>
                  <a:pt x="12135" y="21385"/>
                  <a:pt x="13767" y="19957"/>
                  <a:pt x="15388" y="18422"/>
                </a:cubicBezTo>
                <a:cubicBezTo>
                  <a:pt x="16617" y="17237"/>
                  <a:pt x="17839" y="15756"/>
                  <a:pt x="18981" y="13332"/>
                </a:cubicBezTo>
                <a:cubicBezTo>
                  <a:pt x="19743" y="11743"/>
                  <a:pt x="20371" y="9049"/>
                  <a:pt x="20994" y="6491"/>
                </a:cubicBezTo>
                <a:cubicBezTo>
                  <a:pt x="21231" y="5521"/>
                  <a:pt x="21421" y="4444"/>
                  <a:pt x="21600" y="3232"/>
                </a:cubicBezTo>
                <a:cubicBezTo>
                  <a:pt x="20198" y="2639"/>
                  <a:pt x="18791" y="2182"/>
                  <a:pt x="17367" y="1724"/>
                </a:cubicBezTo>
                <a:cubicBezTo>
                  <a:pt x="15088" y="970"/>
                  <a:pt x="12804" y="593"/>
                  <a:pt x="10457" y="296"/>
                </a:cubicBezTo>
                <a:cubicBezTo>
                  <a:pt x="8092" y="0"/>
                  <a:pt x="5727" y="404"/>
                  <a:pt x="3438" y="1266"/>
                </a:cubicBezTo>
                <a:cubicBezTo>
                  <a:pt x="2290" y="1724"/>
                  <a:pt x="1142" y="2505"/>
                  <a:pt x="0" y="3474"/>
                </a:cubicBezTo>
                <a:cubicBezTo>
                  <a:pt x="0" y="5467"/>
                  <a:pt x="23" y="7460"/>
                  <a:pt x="35" y="9453"/>
                </a:cubicBezTo>
                <a:cubicBezTo>
                  <a:pt x="35" y="10531"/>
                  <a:pt x="35" y="11554"/>
                  <a:pt x="35" y="12631"/>
                </a:cubicBezTo>
              </a:path>
            </a:pathLst>
          </a:custGeom>
          <a:solidFill>
            <a:srgbClr val="cc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0720" y="1549440"/>
            <a:ext cx="5398920" cy="277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2566"/>
                </a:moveTo>
                <a:cubicBezTo>
                  <a:pt x="21600" y="12566"/>
                  <a:pt x="21600" y="20941"/>
                  <a:pt x="21600" y="20941"/>
                </a:cubicBezTo>
                <a:cubicBezTo>
                  <a:pt x="20804" y="20682"/>
                  <a:pt x="19577" y="20324"/>
                  <a:pt x="18695" y="20121"/>
                </a:cubicBezTo>
                <a:cubicBezTo>
                  <a:pt x="18306" y="20030"/>
                  <a:pt x="17917" y="19946"/>
                  <a:pt x="17528" y="19876"/>
                </a:cubicBezTo>
                <a:cubicBezTo>
                  <a:pt x="17518" y="18614"/>
                  <a:pt x="17507" y="17367"/>
                  <a:pt x="17485" y="16112"/>
                </a:cubicBezTo>
                <a:cubicBezTo>
                  <a:pt x="17456" y="14339"/>
                  <a:pt x="17456" y="12580"/>
                  <a:pt x="17377" y="10814"/>
                </a:cubicBezTo>
                <a:cubicBezTo>
                  <a:pt x="17334" y="9749"/>
                  <a:pt x="17082" y="8789"/>
                  <a:pt x="16697" y="8053"/>
                </a:cubicBezTo>
                <a:cubicBezTo>
                  <a:pt x="16481" y="7653"/>
                  <a:pt x="16207" y="7443"/>
                  <a:pt x="15919" y="7359"/>
                </a:cubicBezTo>
                <a:cubicBezTo>
                  <a:pt x="15502" y="7219"/>
                  <a:pt x="15066" y="7254"/>
                  <a:pt x="14638" y="7205"/>
                </a:cubicBezTo>
                <a:cubicBezTo>
                  <a:pt x="14224" y="7177"/>
                  <a:pt x="13799" y="7086"/>
                  <a:pt x="13439" y="6749"/>
                </a:cubicBezTo>
                <a:cubicBezTo>
                  <a:pt x="13259" y="6567"/>
                  <a:pt x="13082" y="6350"/>
                  <a:pt x="12960" y="6055"/>
                </a:cubicBezTo>
                <a:cubicBezTo>
                  <a:pt x="12823" y="5726"/>
                  <a:pt x="12737" y="5347"/>
                  <a:pt x="12661" y="4955"/>
                </a:cubicBezTo>
                <a:cubicBezTo>
                  <a:pt x="12510" y="4177"/>
                  <a:pt x="12420" y="3315"/>
                  <a:pt x="12280" y="2460"/>
                </a:cubicBezTo>
                <a:cubicBezTo>
                  <a:pt x="12236" y="2166"/>
                  <a:pt x="12078" y="1556"/>
                  <a:pt x="11804" y="1219"/>
                </a:cubicBezTo>
                <a:cubicBezTo>
                  <a:pt x="11498" y="827"/>
                  <a:pt x="11113" y="743"/>
                  <a:pt x="10768" y="1009"/>
                </a:cubicBezTo>
                <a:cubicBezTo>
                  <a:pt x="10501" y="1219"/>
                  <a:pt x="10274" y="1619"/>
                  <a:pt x="10145" y="2131"/>
                </a:cubicBezTo>
                <a:cubicBezTo>
                  <a:pt x="10001" y="2719"/>
                  <a:pt x="9979" y="3406"/>
                  <a:pt x="9954" y="4100"/>
                </a:cubicBezTo>
                <a:cubicBezTo>
                  <a:pt x="9940" y="4619"/>
                  <a:pt x="9904" y="5151"/>
                  <a:pt x="9778" y="5670"/>
                </a:cubicBezTo>
                <a:cubicBezTo>
                  <a:pt x="9698" y="6006"/>
                  <a:pt x="9551" y="6308"/>
                  <a:pt x="9338" y="6483"/>
                </a:cubicBezTo>
                <a:cubicBezTo>
                  <a:pt x="9104" y="6672"/>
                  <a:pt x="8852" y="6672"/>
                  <a:pt x="8600" y="6602"/>
                </a:cubicBezTo>
                <a:cubicBezTo>
                  <a:pt x="8046" y="6434"/>
                  <a:pt x="7506" y="6055"/>
                  <a:pt x="6952" y="6069"/>
                </a:cubicBezTo>
                <a:cubicBezTo>
                  <a:pt x="6570" y="6083"/>
                  <a:pt x="6167" y="6350"/>
                  <a:pt x="5825" y="6672"/>
                </a:cubicBezTo>
                <a:cubicBezTo>
                  <a:pt x="5378" y="7086"/>
                  <a:pt x="5011" y="7639"/>
                  <a:pt x="4730" y="8291"/>
                </a:cubicBezTo>
                <a:cubicBezTo>
                  <a:pt x="4302" y="9265"/>
                  <a:pt x="4046" y="10457"/>
                  <a:pt x="3938" y="11725"/>
                </a:cubicBezTo>
                <a:cubicBezTo>
                  <a:pt x="3719" y="14381"/>
                  <a:pt x="3701" y="17122"/>
                  <a:pt x="3726" y="19855"/>
                </a:cubicBezTo>
                <a:cubicBezTo>
                  <a:pt x="3233" y="20030"/>
                  <a:pt x="2729" y="20240"/>
                  <a:pt x="2236" y="20465"/>
                </a:cubicBezTo>
                <a:cubicBezTo>
                  <a:pt x="1519" y="20787"/>
                  <a:pt x="767" y="21172"/>
                  <a:pt x="29" y="21600"/>
                </a:cubicBezTo>
                <a:cubicBezTo>
                  <a:pt x="29" y="21600"/>
                  <a:pt x="0" y="13120"/>
                  <a:pt x="0" y="13120"/>
                </a:cubicBezTo>
                <a:cubicBezTo>
                  <a:pt x="349" y="13239"/>
                  <a:pt x="760" y="13288"/>
                  <a:pt x="997" y="13022"/>
                </a:cubicBezTo>
                <a:cubicBezTo>
                  <a:pt x="1210" y="12790"/>
                  <a:pt x="1260" y="12209"/>
                  <a:pt x="1404" y="11662"/>
                </a:cubicBezTo>
                <a:cubicBezTo>
                  <a:pt x="1559" y="11087"/>
                  <a:pt x="1836" y="10639"/>
                  <a:pt x="2182" y="10492"/>
                </a:cubicBezTo>
                <a:cubicBezTo>
                  <a:pt x="2470" y="10372"/>
                  <a:pt x="2783" y="10541"/>
                  <a:pt x="3092" y="10730"/>
                </a:cubicBezTo>
                <a:cubicBezTo>
                  <a:pt x="3247" y="10814"/>
                  <a:pt x="3550" y="11010"/>
                  <a:pt x="3550" y="11010"/>
                </a:cubicBezTo>
                <a:cubicBezTo>
                  <a:pt x="3550" y="11010"/>
                  <a:pt x="3884" y="9132"/>
                  <a:pt x="4136" y="8291"/>
                </a:cubicBezTo>
                <a:cubicBezTo>
                  <a:pt x="4403" y="7373"/>
                  <a:pt x="4795" y="6616"/>
                  <a:pt x="5270" y="6083"/>
                </a:cubicBezTo>
                <a:cubicBezTo>
                  <a:pt x="5702" y="5593"/>
                  <a:pt x="6199" y="5298"/>
                  <a:pt x="6700" y="5207"/>
                </a:cubicBezTo>
                <a:cubicBezTo>
                  <a:pt x="7164" y="5137"/>
                  <a:pt x="7628" y="5151"/>
                  <a:pt x="8053" y="5404"/>
                </a:cubicBezTo>
                <a:cubicBezTo>
                  <a:pt x="8320" y="5565"/>
                  <a:pt x="8561" y="5880"/>
                  <a:pt x="8878" y="5845"/>
                </a:cubicBezTo>
                <a:cubicBezTo>
                  <a:pt x="9133" y="5817"/>
                  <a:pt x="9364" y="5467"/>
                  <a:pt x="9475" y="5060"/>
                </a:cubicBezTo>
                <a:cubicBezTo>
                  <a:pt x="9619" y="4541"/>
                  <a:pt x="9558" y="3883"/>
                  <a:pt x="9598" y="3217"/>
                </a:cubicBezTo>
                <a:cubicBezTo>
                  <a:pt x="9637" y="2544"/>
                  <a:pt x="9749" y="1913"/>
                  <a:pt x="9932" y="1339"/>
                </a:cubicBezTo>
                <a:cubicBezTo>
                  <a:pt x="10044" y="967"/>
                  <a:pt x="10206" y="652"/>
                  <a:pt x="10397" y="435"/>
                </a:cubicBezTo>
                <a:cubicBezTo>
                  <a:pt x="10638" y="154"/>
                  <a:pt x="10912" y="0"/>
                  <a:pt x="11185" y="0"/>
                </a:cubicBezTo>
                <a:cubicBezTo>
                  <a:pt x="11545" y="0"/>
                  <a:pt x="11902" y="175"/>
                  <a:pt x="12161" y="638"/>
                </a:cubicBezTo>
                <a:cubicBezTo>
                  <a:pt x="12449" y="1156"/>
                  <a:pt x="12571" y="1941"/>
                  <a:pt x="12701" y="2712"/>
                </a:cubicBezTo>
                <a:cubicBezTo>
                  <a:pt x="12816" y="3371"/>
                  <a:pt x="12913" y="4058"/>
                  <a:pt x="13036" y="4710"/>
                </a:cubicBezTo>
                <a:cubicBezTo>
                  <a:pt x="13126" y="5179"/>
                  <a:pt x="13248" y="5642"/>
                  <a:pt x="13471" y="5859"/>
                </a:cubicBezTo>
                <a:cubicBezTo>
                  <a:pt x="13849" y="6259"/>
                  <a:pt x="14321" y="6202"/>
                  <a:pt x="14764" y="6202"/>
                </a:cubicBezTo>
                <a:cubicBezTo>
                  <a:pt x="15167" y="6202"/>
                  <a:pt x="15574" y="6202"/>
                  <a:pt x="15973" y="6322"/>
                </a:cubicBezTo>
                <a:cubicBezTo>
                  <a:pt x="16290" y="6413"/>
                  <a:pt x="16600" y="6658"/>
                  <a:pt x="16862" y="7043"/>
                </a:cubicBezTo>
                <a:cubicBezTo>
                  <a:pt x="17172" y="7499"/>
                  <a:pt x="17417" y="8116"/>
                  <a:pt x="17554" y="8775"/>
                </a:cubicBezTo>
                <a:cubicBezTo>
                  <a:pt x="17723" y="9574"/>
                  <a:pt x="17737" y="10478"/>
                  <a:pt x="17773" y="11438"/>
                </a:cubicBezTo>
                <a:cubicBezTo>
                  <a:pt x="17924" y="11038"/>
                  <a:pt x="18086" y="10639"/>
                  <a:pt x="18259" y="10281"/>
                </a:cubicBezTo>
                <a:cubicBezTo>
                  <a:pt x="18443" y="9931"/>
                  <a:pt x="18659" y="9630"/>
                  <a:pt x="18900" y="9693"/>
                </a:cubicBezTo>
                <a:cubicBezTo>
                  <a:pt x="19346" y="9798"/>
                  <a:pt x="19692" y="10520"/>
                  <a:pt x="19994" y="11249"/>
                </a:cubicBezTo>
                <a:cubicBezTo>
                  <a:pt x="20207" y="11746"/>
                  <a:pt x="20416" y="12265"/>
                  <a:pt x="20869" y="12552"/>
                </a:cubicBezTo>
                <a:cubicBezTo>
                  <a:pt x="21096" y="12692"/>
                  <a:pt x="21352" y="12671"/>
                  <a:pt x="21600" y="1256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43040" y="1644480"/>
            <a:ext cx="3459240" cy="245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9" y="21576"/>
                </a:moveTo>
                <a:cubicBezTo>
                  <a:pt x="1152" y="21291"/>
                  <a:pt x="2271" y="21062"/>
                  <a:pt x="3389" y="20927"/>
                </a:cubicBezTo>
                <a:cubicBezTo>
                  <a:pt x="5621" y="20674"/>
                  <a:pt x="7925" y="20556"/>
                  <a:pt x="10230" y="20643"/>
                </a:cubicBezTo>
                <a:cubicBezTo>
                  <a:pt x="12517" y="20730"/>
                  <a:pt x="14743" y="20840"/>
                  <a:pt x="16963" y="21062"/>
                </a:cubicBezTo>
                <a:cubicBezTo>
                  <a:pt x="18520" y="21212"/>
                  <a:pt x="20071" y="21378"/>
                  <a:pt x="21600" y="21600"/>
                </a:cubicBezTo>
                <a:cubicBezTo>
                  <a:pt x="21583" y="20176"/>
                  <a:pt x="21566" y="18767"/>
                  <a:pt x="21533" y="17351"/>
                </a:cubicBezTo>
                <a:cubicBezTo>
                  <a:pt x="21488" y="15349"/>
                  <a:pt x="21488" y="13364"/>
                  <a:pt x="21364" y="11370"/>
                </a:cubicBezTo>
                <a:cubicBezTo>
                  <a:pt x="21296" y="10167"/>
                  <a:pt x="20903" y="9083"/>
                  <a:pt x="20302" y="8252"/>
                </a:cubicBezTo>
                <a:cubicBezTo>
                  <a:pt x="19964" y="7801"/>
                  <a:pt x="19537" y="7564"/>
                  <a:pt x="19088" y="7469"/>
                </a:cubicBezTo>
                <a:cubicBezTo>
                  <a:pt x="18436" y="7311"/>
                  <a:pt x="17756" y="7350"/>
                  <a:pt x="17087" y="7295"/>
                </a:cubicBezTo>
                <a:cubicBezTo>
                  <a:pt x="16440" y="7263"/>
                  <a:pt x="15777" y="7160"/>
                  <a:pt x="15215" y="6781"/>
                </a:cubicBezTo>
                <a:cubicBezTo>
                  <a:pt x="14934" y="6575"/>
                  <a:pt x="14659" y="6330"/>
                  <a:pt x="14467" y="5997"/>
                </a:cubicBezTo>
                <a:cubicBezTo>
                  <a:pt x="14254" y="5625"/>
                  <a:pt x="14119" y="5198"/>
                  <a:pt x="14001" y="4755"/>
                </a:cubicBezTo>
                <a:cubicBezTo>
                  <a:pt x="13765" y="3877"/>
                  <a:pt x="13624" y="2904"/>
                  <a:pt x="13405" y="1938"/>
                </a:cubicBezTo>
                <a:cubicBezTo>
                  <a:pt x="13338" y="1606"/>
                  <a:pt x="13090" y="918"/>
                  <a:pt x="12663" y="538"/>
                </a:cubicBezTo>
                <a:cubicBezTo>
                  <a:pt x="12185" y="95"/>
                  <a:pt x="11584" y="0"/>
                  <a:pt x="11044" y="301"/>
                </a:cubicBezTo>
                <a:cubicBezTo>
                  <a:pt x="10629" y="538"/>
                  <a:pt x="10274" y="989"/>
                  <a:pt x="10072" y="1567"/>
                </a:cubicBezTo>
                <a:cubicBezTo>
                  <a:pt x="9847" y="2231"/>
                  <a:pt x="9814" y="3007"/>
                  <a:pt x="9774" y="3790"/>
                </a:cubicBezTo>
                <a:cubicBezTo>
                  <a:pt x="9752" y="4375"/>
                  <a:pt x="9696" y="4977"/>
                  <a:pt x="9499" y="5562"/>
                </a:cubicBezTo>
                <a:cubicBezTo>
                  <a:pt x="9375" y="5942"/>
                  <a:pt x="9145" y="6282"/>
                  <a:pt x="8813" y="6480"/>
                </a:cubicBezTo>
                <a:cubicBezTo>
                  <a:pt x="8448" y="6694"/>
                  <a:pt x="8054" y="6694"/>
                  <a:pt x="7661" y="6615"/>
                </a:cubicBezTo>
                <a:cubicBezTo>
                  <a:pt x="6795" y="6425"/>
                  <a:pt x="5952" y="5997"/>
                  <a:pt x="5087" y="6013"/>
                </a:cubicBezTo>
                <a:cubicBezTo>
                  <a:pt x="4491" y="6029"/>
                  <a:pt x="3861" y="6330"/>
                  <a:pt x="3327" y="6694"/>
                </a:cubicBezTo>
                <a:cubicBezTo>
                  <a:pt x="2630" y="7160"/>
                  <a:pt x="2057" y="7785"/>
                  <a:pt x="1619" y="8521"/>
                </a:cubicBezTo>
                <a:cubicBezTo>
                  <a:pt x="950" y="9621"/>
                  <a:pt x="551" y="10966"/>
                  <a:pt x="382" y="12398"/>
                </a:cubicBezTo>
                <a:cubicBezTo>
                  <a:pt x="39" y="15397"/>
                  <a:pt x="0" y="18491"/>
                  <a:pt x="39" y="21576"/>
                </a:cubicBezTo>
              </a:path>
            </a:pathLst>
          </a:custGeom>
          <a:solidFill>
            <a:srgbClr val="fff7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3983040"/>
            <a:ext cx="5398920" cy="34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" y="21600"/>
                  <a:pt x="22" y="21486"/>
                  <a:pt x="29" y="21486"/>
                </a:cubicBezTo>
                <a:cubicBezTo>
                  <a:pt x="767" y="18019"/>
                  <a:pt x="1519" y="14893"/>
                  <a:pt x="2236" y="12278"/>
                </a:cubicBezTo>
                <a:cubicBezTo>
                  <a:pt x="3445" y="7787"/>
                  <a:pt x="4644" y="4206"/>
                  <a:pt x="5864" y="2672"/>
                </a:cubicBezTo>
                <a:cubicBezTo>
                  <a:pt x="7294" y="853"/>
                  <a:pt x="8770" y="0"/>
                  <a:pt x="10246" y="625"/>
                </a:cubicBezTo>
                <a:cubicBezTo>
                  <a:pt x="11711" y="1251"/>
                  <a:pt x="13136" y="2046"/>
                  <a:pt x="14558" y="3638"/>
                </a:cubicBezTo>
                <a:cubicBezTo>
                  <a:pt x="15948" y="5173"/>
                  <a:pt x="17323" y="6821"/>
                  <a:pt x="18695" y="9493"/>
                </a:cubicBezTo>
                <a:cubicBezTo>
                  <a:pt x="19577" y="11141"/>
                  <a:pt x="20804" y="14040"/>
                  <a:pt x="21600" y="16143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36760" y="3659040"/>
            <a:ext cx="297000" cy="33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143"/>
                </a:moveTo>
                <a:cubicBezTo>
                  <a:pt x="985" y="21143"/>
                  <a:pt x="1970" y="21143"/>
                  <a:pt x="2889" y="21143"/>
                </a:cubicBezTo>
                <a:cubicBezTo>
                  <a:pt x="9191" y="21257"/>
                  <a:pt x="15363" y="21371"/>
                  <a:pt x="21600" y="21600"/>
                </a:cubicBezTo>
                <a:cubicBezTo>
                  <a:pt x="21272" y="18743"/>
                  <a:pt x="20681" y="14400"/>
                  <a:pt x="20353" y="11771"/>
                </a:cubicBezTo>
                <a:cubicBezTo>
                  <a:pt x="20287" y="10514"/>
                  <a:pt x="19959" y="8800"/>
                  <a:pt x="19696" y="7714"/>
                </a:cubicBezTo>
                <a:cubicBezTo>
                  <a:pt x="18843" y="4857"/>
                  <a:pt x="18317" y="2057"/>
                  <a:pt x="16348" y="0"/>
                </a:cubicBezTo>
                <a:cubicBezTo>
                  <a:pt x="14312" y="514"/>
                  <a:pt x="12080" y="971"/>
                  <a:pt x="9979" y="1829"/>
                </a:cubicBezTo>
                <a:cubicBezTo>
                  <a:pt x="8338" y="2514"/>
                  <a:pt x="6762" y="3771"/>
                  <a:pt x="5646" y="5086"/>
                </a:cubicBezTo>
                <a:cubicBezTo>
                  <a:pt x="4005" y="6857"/>
                  <a:pt x="2495" y="8971"/>
                  <a:pt x="1773" y="11257"/>
                </a:cubicBezTo>
                <a:cubicBezTo>
                  <a:pt x="853" y="14457"/>
                  <a:pt x="394" y="17886"/>
                  <a:pt x="0" y="21143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9160" y="2530440"/>
            <a:ext cx="119160" cy="21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325" y="20769"/>
                  <a:pt x="325" y="20769"/>
                </a:cubicBezTo>
                <a:cubicBezTo>
                  <a:pt x="3735" y="20769"/>
                  <a:pt x="6821" y="21046"/>
                  <a:pt x="9257" y="21046"/>
                </a:cubicBezTo>
                <a:cubicBezTo>
                  <a:pt x="12018" y="21231"/>
                  <a:pt x="15591" y="21415"/>
                  <a:pt x="18839" y="21600"/>
                </a:cubicBezTo>
                <a:cubicBezTo>
                  <a:pt x="18839" y="19662"/>
                  <a:pt x="18839" y="17169"/>
                  <a:pt x="18839" y="14769"/>
                </a:cubicBezTo>
                <a:cubicBezTo>
                  <a:pt x="18839" y="10892"/>
                  <a:pt x="21600" y="2492"/>
                  <a:pt x="21600" y="2492"/>
                </a:cubicBezTo>
                <a:cubicBezTo>
                  <a:pt x="21600" y="2492"/>
                  <a:pt x="0" y="0"/>
                  <a:pt x="0" y="0"/>
                </a:cubicBezTo>
              </a:path>
            </a:pathLst>
          </a:custGeom>
          <a:solidFill>
            <a:srgbClr val="cc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03400" y="3151080"/>
            <a:ext cx="2287440" cy="89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2" y="21600"/>
                </a:moveTo>
                <a:cubicBezTo>
                  <a:pt x="722" y="21469"/>
                  <a:pt x="1224" y="21316"/>
                  <a:pt x="1725" y="21228"/>
                </a:cubicBezTo>
                <a:cubicBezTo>
                  <a:pt x="5098" y="20529"/>
                  <a:pt x="8582" y="20201"/>
                  <a:pt x="12066" y="20441"/>
                </a:cubicBezTo>
                <a:cubicBezTo>
                  <a:pt x="15312" y="20682"/>
                  <a:pt x="18456" y="20988"/>
                  <a:pt x="21600" y="21469"/>
                </a:cubicBezTo>
                <a:cubicBezTo>
                  <a:pt x="21575" y="19764"/>
                  <a:pt x="21558" y="17840"/>
                  <a:pt x="21541" y="16528"/>
                </a:cubicBezTo>
                <a:cubicBezTo>
                  <a:pt x="21524" y="14211"/>
                  <a:pt x="21524" y="9466"/>
                  <a:pt x="21524" y="9466"/>
                </a:cubicBezTo>
                <a:cubicBezTo>
                  <a:pt x="21524" y="9466"/>
                  <a:pt x="20121" y="9685"/>
                  <a:pt x="19425" y="9772"/>
                </a:cubicBezTo>
                <a:cubicBezTo>
                  <a:pt x="18762" y="9838"/>
                  <a:pt x="17428" y="9904"/>
                  <a:pt x="17428" y="9904"/>
                </a:cubicBezTo>
                <a:cubicBezTo>
                  <a:pt x="17428" y="9904"/>
                  <a:pt x="17470" y="6602"/>
                  <a:pt x="17470" y="4941"/>
                </a:cubicBezTo>
                <a:cubicBezTo>
                  <a:pt x="17470" y="3301"/>
                  <a:pt x="17487" y="1640"/>
                  <a:pt x="17394" y="87"/>
                </a:cubicBezTo>
                <a:cubicBezTo>
                  <a:pt x="16910" y="44"/>
                  <a:pt x="16136" y="0"/>
                  <a:pt x="15669" y="0"/>
                </a:cubicBezTo>
                <a:cubicBezTo>
                  <a:pt x="14666" y="44"/>
                  <a:pt x="13638" y="44"/>
                  <a:pt x="12635" y="87"/>
                </a:cubicBezTo>
                <a:cubicBezTo>
                  <a:pt x="11845" y="131"/>
                  <a:pt x="11046" y="175"/>
                  <a:pt x="10248" y="240"/>
                </a:cubicBezTo>
                <a:cubicBezTo>
                  <a:pt x="9602" y="284"/>
                  <a:pt x="8540" y="328"/>
                  <a:pt x="7843" y="415"/>
                </a:cubicBezTo>
                <a:cubicBezTo>
                  <a:pt x="7715" y="2208"/>
                  <a:pt x="7809" y="4154"/>
                  <a:pt x="7843" y="6143"/>
                </a:cubicBezTo>
                <a:cubicBezTo>
                  <a:pt x="7877" y="7892"/>
                  <a:pt x="7894" y="11500"/>
                  <a:pt x="7894" y="11500"/>
                </a:cubicBezTo>
                <a:cubicBezTo>
                  <a:pt x="7894" y="11500"/>
                  <a:pt x="3875" y="11893"/>
                  <a:pt x="3875" y="11893"/>
                </a:cubicBezTo>
                <a:cubicBezTo>
                  <a:pt x="3875" y="11893"/>
                  <a:pt x="0" y="12418"/>
                  <a:pt x="0" y="12418"/>
                </a:cubicBezTo>
                <a:cubicBezTo>
                  <a:pt x="0" y="12418"/>
                  <a:pt x="119" y="18102"/>
                  <a:pt x="195" y="20813"/>
                </a:cubicBezTo>
                <a:cubicBezTo>
                  <a:pt x="195" y="21097"/>
                  <a:pt x="195" y="21316"/>
                  <a:pt x="212" y="21600"/>
                </a:cubicBezTo>
              </a:path>
            </a:pathLst>
          </a:custGeom>
          <a:solidFill>
            <a:srgbClr val="cc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3983040"/>
            <a:ext cx="5398920" cy="34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" y="21600"/>
                  <a:pt x="22" y="21486"/>
                  <a:pt x="29" y="21486"/>
                </a:cubicBezTo>
                <a:cubicBezTo>
                  <a:pt x="767" y="18019"/>
                  <a:pt x="1519" y="14893"/>
                  <a:pt x="2236" y="12278"/>
                </a:cubicBezTo>
                <a:cubicBezTo>
                  <a:pt x="3445" y="7787"/>
                  <a:pt x="4644" y="4206"/>
                  <a:pt x="5864" y="2672"/>
                </a:cubicBezTo>
                <a:cubicBezTo>
                  <a:pt x="7294" y="853"/>
                  <a:pt x="8770" y="0"/>
                  <a:pt x="10246" y="625"/>
                </a:cubicBezTo>
                <a:cubicBezTo>
                  <a:pt x="11711" y="1251"/>
                  <a:pt x="13136" y="2046"/>
                  <a:pt x="14558" y="3638"/>
                </a:cubicBezTo>
                <a:cubicBezTo>
                  <a:pt x="15948" y="5173"/>
                  <a:pt x="17323" y="6821"/>
                  <a:pt x="18695" y="9493"/>
                </a:cubicBezTo>
                <a:cubicBezTo>
                  <a:pt x="19577" y="11141"/>
                  <a:pt x="20804" y="14040"/>
                  <a:pt x="21600" y="16143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49520" y="3244680"/>
            <a:ext cx="242640" cy="66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0" y="21600"/>
                </a:moveTo>
                <a:cubicBezTo>
                  <a:pt x="0" y="14517"/>
                  <a:pt x="480" y="7491"/>
                  <a:pt x="2320" y="583"/>
                </a:cubicBezTo>
                <a:cubicBezTo>
                  <a:pt x="4320" y="845"/>
                  <a:pt x="7040" y="1020"/>
                  <a:pt x="8960" y="1079"/>
                </a:cubicBezTo>
                <a:cubicBezTo>
                  <a:pt x="10640" y="1137"/>
                  <a:pt x="11760" y="233"/>
                  <a:pt x="13840" y="87"/>
                </a:cubicBezTo>
                <a:cubicBezTo>
                  <a:pt x="15840" y="0"/>
                  <a:pt x="17840" y="525"/>
                  <a:pt x="19440" y="1020"/>
                </a:cubicBezTo>
                <a:cubicBezTo>
                  <a:pt x="21120" y="1574"/>
                  <a:pt x="21600" y="2507"/>
                  <a:pt x="21600" y="3236"/>
                </a:cubicBezTo>
                <a:cubicBezTo>
                  <a:pt x="21600" y="3848"/>
                  <a:pt x="21280" y="4781"/>
                  <a:pt x="20560" y="5393"/>
                </a:cubicBezTo>
                <a:cubicBezTo>
                  <a:pt x="19760" y="6151"/>
                  <a:pt x="16880" y="6442"/>
                  <a:pt x="16880" y="6996"/>
                </a:cubicBezTo>
                <a:cubicBezTo>
                  <a:pt x="16880" y="7550"/>
                  <a:pt x="18560" y="7870"/>
                  <a:pt x="19040" y="8512"/>
                </a:cubicBezTo>
                <a:cubicBezTo>
                  <a:pt x="19760" y="9503"/>
                  <a:pt x="18240" y="10581"/>
                  <a:pt x="16080" y="11310"/>
                </a:cubicBezTo>
                <a:cubicBezTo>
                  <a:pt x="14160" y="11922"/>
                  <a:pt x="10640" y="12155"/>
                  <a:pt x="9760" y="13030"/>
                </a:cubicBezTo>
                <a:cubicBezTo>
                  <a:pt x="8800" y="14079"/>
                  <a:pt x="11760" y="15158"/>
                  <a:pt x="12160" y="16470"/>
                </a:cubicBezTo>
                <a:cubicBezTo>
                  <a:pt x="12480" y="17519"/>
                  <a:pt x="10800" y="18568"/>
                  <a:pt x="9440" y="19472"/>
                </a:cubicBezTo>
                <a:cubicBezTo>
                  <a:pt x="8640" y="20026"/>
                  <a:pt x="7280" y="20667"/>
                  <a:pt x="5680" y="20959"/>
                </a:cubicBezTo>
                <a:cubicBezTo>
                  <a:pt x="4080" y="21250"/>
                  <a:pt x="2000" y="21513"/>
                  <a:pt x="160" y="21600"/>
                </a:cubicBezTo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3040" y="3807000"/>
            <a:ext cx="90720" cy="43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80" y="19275"/>
                  <a:pt x="1512" y="16815"/>
                  <a:pt x="1944" y="14445"/>
                </a:cubicBezTo>
                <a:cubicBezTo>
                  <a:pt x="2376" y="12924"/>
                  <a:pt x="2376" y="11493"/>
                  <a:pt x="2808" y="10017"/>
                </a:cubicBezTo>
                <a:cubicBezTo>
                  <a:pt x="3240" y="8407"/>
                  <a:pt x="3672" y="6887"/>
                  <a:pt x="3672" y="5277"/>
                </a:cubicBezTo>
                <a:cubicBezTo>
                  <a:pt x="3672" y="3801"/>
                  <a:pt x="432" y="2057"/>
                  <a:pt x="3672" y="626"/>
                </a:cubicBezTo>
                <a:cubicBezTo>
                  <a:pt x="5184" y="0"/>
                  <a:pt x="12096" y="626"/>
                  <a:pt x="13176" y="1297"/>
                </a:cubicBezTo>
                <a:cubicBezTo>
                  <a:pt x="15552" y="2370"/>
                  <a:pt x="12744" y="3712"/>
                  <a:pt x="13176" y="4919"/>
                </a:cubicBezTo>
                <a:cubicBezTo>
                  <a:pt x="14256" y="7111"/>
                  <a:pt x="16848" y="9257"/>
                  <a:pt x="17496" y="11404"/>
                </a:cubicBezTo>
                <a:cubicBezTo>
                  <a:pt x="17928" y="12656"/>
                  <a:pt x="15552" y="13908"/>
                  <a:pt x="15984" y="15116"/>
                </a:cubicBezTo>
                <a:cubicBezTo>
                  <a:pt x="16848" y="16725"/>
                  <a:pt x="19224" y="18291"/>
                  <a:pt x="21600" y="19945"/>
                </a:cubicBezTo>
              </a:path>
            </a:pathLst>
          </a:custGeom>
          <a:solidFill>
            <a:srgbClr val="9966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74600" y="2971800"/>
            <a:ext cx="601920" cy="101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26" y="19958"/>
                </a:moveTo>
                <a:cubicBezTo>
                  <a:pt x="20661" y="15317"/>
                  <a:pt x="20855" y="10714"/>
                  <a:pt x="21600" y="6188"/>
                </a:cubicBezTo>
                <a:cubicBezTo>
                  <a:pt x="21211" y="6131"/>
                  <a:pt x="20855" y="6035"/>
                  <a:pt x="20564" y="5863"/>
                </a:cubicBezTo>
                <a:cubicBezTo>
                  <a:pt x="19754" y="5481"/>
                  <a:pt x="20110" y="4679"/>
                  <a:pt x="19948" y="4068"/>
                </a:cubicBezTo>
                <a:cubicBezTo>
                  <a:pt x="19916" y="3648"/>
                  <a:pt x="20240" y="3132"/>
                  <a:pt x="19851" y="2807"/>
                </a:cubicBezTo>
                <a:cubicBezTo>
                  <a:pt x="19625" y="2655"/>
                  <a:pt x="19139" y="2731"/>
                  <a:pt x="18880" y="2674"/>
                </a:cubicBezTo>
                <a:cubicBezTo>
                  <a:pt x="17843" y="2578"/>
                  <a:pt x="16678" y="2616"/>
                  <a:pt x="15803" y="2292"/>
                </a:cubicBezTo>
                <a:cubicBezTo>
                  <a:pt x="15091" y="2005"/>
                  <a:pt x="14994" y="1451"/>
                  <a:pt x="14378" y="1127"/>
                </a:cubicBezTo>
                <a:cubicBezTo>
                  <a:pt x="13472" y="630"/>
                  <a:pt x="12533" y="57"/>
                  <a:pt x="11334" y="38"/>
                </a:cubicBezTo>
                <a:cubicBezTo>
                  <a:pt x="10590" y="0"/>
                  <a:pt x="9845" y="325"/>
                  <a:pt x="9294" y="592"/>
                </a:cubicBezTo>
                <a:cubicBezTo>
                  <a:pt x="9294" y="592"/>
                  <a:pt x="14832" y="3228"/>
                  <a:pt x="15933" y="5634"/>
                </a:cubicBezTo>
                <a:cubicBezTo>
                  <a:pt x="16969" y="7926"/>
                  <a:pt x="14540" y="10313"/>
                  <a:pt x="13342" y="12567"/>
                </a:cubicBezTo>
                <a:cubicBezTo>
                  <a:pt x="12694" y="13693"/>
                  <a:pt x="11691" y="14744"/>
                  <a:pt x="10525" y="15660"/>
                </a:cubicBezTo>
                <a:cubicBezTo>
                  <a:pt x="10233" y="15871"/>
                  <a:pt x="9586" y="15641"/>
                  <a:pt x="9294" y="15794"/>
                </a:cubicBezTo>
                <a:cubicBezTo>
                  <a:pt x="7772" y="16673"/>
                  <a:pt x="6671" y="17761"/>
                  <a:pt x="5311" y="18735"/>
                </a:cubicBezTo>
                <a:cubicBezTo>
                  <a:pt x="5052" y="18984"/>
                  <a:pt x="4858" y="19404"/>
                  <a:pt x="4372" y="19385"/>
                </a:cubicBezTo>
                <a:cubicBezTo>
                  <a:pt x="3692" y="19346"/>
                  <a:pt x="3336" y="18773"/>
                  <a:pt x="2655" y="18602"/>
                </a:cubicBezTo>
                <a:cubicBezTo>
                  <a:pt x="2040" y="18506"/>
                  <a:pt x="1425" y="18372"/>
                  <a:pt x="810" y="18258"/>
                </a:cubicBezTo>
                <a:cubicBezTo>
                  <a:pt x="939" y="18659"/>
                  <a:pt x="0" y="18888"/>
                  <a:pt x="130" y="19251"/>
                </a:cubicBezTo>
                <a:cubicBezTo>
                  <a:pt x="389" y="19824"/>
                  <a:pt x="1554" y="20149"/>
                  <a:pt x="2364" y="20435"/>
                </a:cubicBezTo>
                <a:cubicBezTo>
                  <a:pt x="3012" y="20626"/>
                  <a:pt x="3821" y="20912"/>
                  <a:pt x="4501" y="20855"/>
                </a:cubicBezTo>
                <a:cubicBezTo>
                  <a:pt x="5181" y="20836"/>
                  <a:pt x="5732" y="20282"/>
                  <a:pt x="6412" y="20340"/>
                </a:cubicBezTo>
                <a:cubicBezTo>
                  <a:pt x="7060" y="20435"/>
                  <a:pt x="7157" y="20951"/>
                  <a:pt x="7643" y="21142"/>
                </a:cubicBezTo>
                <a:cubicBezTo>
                  <a:pt x="8128" y="21352"/>
                  <a:pt x="8679" y="21600"/>
                  <a:pt x="9229" y="21562"/>
                </a:cubicBezTo>
                <a:cubicBezTo>
                  <a:pt x="10169" y="21505"/>
                  <a:pt x="10719" y="20702"/>
                  <a:pt x="11593" y="20626"/>
                </a:cubicBezTo>
                <a:cubicBezTo>
                  <a:pt x="12694" y="20550"/>
                  <a:pt x="13731" y="21409"/>
                  <a:pt x="14767" y="21180"/>
                </a:cubicBezTo>
                <a:cubicBezTo>
                  <a:pt x="15479" y="21084"/>
                  <a:pt x="15868" y="20588"/>
                  <a:pt x="16289" y="20225"/>
                </a:cubicBezTo>
                <a:cubicBezTo>
                  <a:pt x="16742" y="19824"/>
                  <a:pt x="16548" y="19022"/>
                  <a:pt x="17390" y="18888"/>
                </a:cubicBezTo>
                <a:cubicBezTo>
                  <a:pt x="18200" y="18773"/>
                  <a:pt x="18653" y="19690"/>
                  <a:pt x="19463" y="19824"/>
                </a:cubicBezTo>
                <a:cubicBezTo>
                  <a:pt x="19916" y="19862"/>
                  <a:pt x="20305" y="19958"/>
                  <a:pt x="20726" y="19958"/>
                </a:cubicBezTo>
              </a:path>
            </a:pathLst>
          </a:custGeom>
          <a:solidFill>
            <a:srgbClr val="006600"/>
          </a:solidFill>
          <a:ln w="3600">
            <a:solidFill>
              <a:srgbClr val="0066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19720" y="3807000"/>
            <a:ext cx="128520" cy="37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525"/>
                </a:moveTo>
                <a:cubicBezTo>
                  <a:pt x="2266" y="18375"/>
                  <a:pt x="1208" y="16328"/>
                  <a:pt x="1813" y="14025"/>
                </a:cubicBezTo>
                <a:cubicBezTo>
                  <a:pt x="2417" y="11158"/>
                  <a:pt x="4078" y="8138"/>
                  <a:pt x="4078" y="5221"/>
                </a:cubicBezTo>
                <a:cubicBezTo>
                  <a:pt x="4078" y="3788"/>
                  <a:pt x="1208" y="1740"/>
                  <a:pt x="4683" y="973"/>
                </a:cubicBezTo>
                <a:cubicBezTo>
                  <a:pt x="6948" y="563"/>
                  <a:pt x="8912" y="2252"/>
                  <a:pt x="11480" y="2201"/>
                </a:cubicBezTo>
                <a:cubicBezTo>
                  <a:pt x="13745" y="2099"/>
                  <a:pt x="14199" y="0"/>
                  <a:pt x="16766" y="307"/>
                </a:cubicBezTo>
                <a:cubicBezTo>
                  <a:pt x="21600" y="973"/>
                  <a:pt x="17220" y="3890"/>
                  <a:pt x="17220" y="5630"/>
                </a:cubicBezTo>
                <a:cubicBezTo>
                  <a:pt x="17220" y="7985"/>
                  <a:pt x="16464" y="10288"/>
                  <a:pt x="16162" y="12643"/>
                </a:cubicBezTo>
                <a:cubicBezTo>
                  <a:pt x="16162" y="13001"/>
                  <a:pt x="16464" y="13308"/>
                  <a:pt x="16464" y="13615"/>
                </a:cubicBezTo>
                <a:cubicBezTo>
                  <a:pt x="16011" y="16328"/>
                  <a:pt x="14954" y="19041"/>
                  <a:pt x="13897" y="21600"/>
                </a:cubicBezTo>
              </a:path>
            </a:pathLst>
          </a:custGeom>
          <a:solidFill>
            <a:srgbClr val="9966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84640" y="3154320"/>
            <a:ext cx="590760" cy="82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5128"/>
                </a:moveTo>
                <a:cubicBezTo>
                  <a:pt x="66" y="7468"/>
                  <a:pt x="132" y="9831"/>
                  <a:pt x="263" y="12218"/>
                </a:cubicBezTo>
                <a:cubicBezTo>
                  <a:pt x="329" y="13967"/>
                  <a:pt x="395" y="15692"/>
                  <a:pt x="460" y="17464"/>
                </a:cubicBezTo>
                <a:cubicBezTo>
                  <a:pt x="1019" y="17417"/>
                  <a:pt x="1644" y="17252"/>
                  <a:pt x="2137" y="17488"/>
                </a:cubicBezTo>
                <a:cubicBezTo>
                  <a:pt x="2827" y="17842"/>
                  <a:pt x="2827" y="18646"/>
                  <a:pt x="3255" y="19237"/>
                </a:cubicBezTo>
                <a:cubicBezTo>
                  <a:pt x="3715" y="19946"/>
                  <a:pt x="4373" y="20655"/>
                  <a:pt x="5260" y="21104"/>
                </a:cubicBezTo>
                <a:cubicBezTo>
                  <a:pt x="5885" y="21435"/>
                  <a:pt x="6773" y="21600"/>
                  <a:pt x="7627" y="21505"/>
                </a:cubicBezTo>
                <a:cubicBezTo>
                  <a:pt x="8877" y="21387"/>
                  <a:pt x="9830" y="20655"/>
                  <a:pt x="11112" y="20560"/>
                </a:cubicBezTo>
                <a:cubicBezTo>
                  <a:pt x="11868" y="20513"/>
                  <a:pt x="12690" y="20915"/>
                  <a:pt x="13545" y="21033"/>
                </a:cubicBezTo>
                <a:cubicBezTo>
                  <a:pt x="14433" y="21198"/>
                  <a:pt x="15321" y="21600"/>
                  <a:pt x="16142" y="21505"/>
                </a:cubicBezTo>
                <a:cubicBezTo>
                  <a:pt x="16800" y="21435"/>
                  <a:pt x="17556" y="21104"/>
                  <a:pt x="17918" y="20655"/>
                </a:cubicBezTo>
                <a:cubicBezTo>
                  <a:pt x="18312" y="20111"/>
                  <a:pt x="18312" y="19308"/>
                  <a:pt x="18247" y="18646"/>
                </a:cubicBezTo>
                <a:cubicBezTo>
                  <a:pt x="18181" y="17961"/>
                  <a:pt x="17260" y="16708"/>
                  <a:pt x="17260" y="16708"/>
                </a:cubicBezTo>
                <a:cubicBezTo>
                  <a:pt x="17260" y="16708"/>
                  <a:pt x="18937" y="16448"/>
                  <a:pt x="19595" y="16094"/>
                </a:cubicBezTo>
                <a:cubicBezTo>
                  <a:pt x="20088" y="15857"/>
                  <a:pt x="20416" y="15408"/>
                  <a:pt x="20745" y="14959"/>
                </a:cubicBezTo>
                <a:cubicBezTo>
                  <a:pt x="21173" y="14463"/>
                  <a:pt x="21468" y="13825"/>
                  <a:pt x="21600" y="13211"/>
                </a:cubicBezTo>
                <a:cubicBezTo>
                  <a:pt x="21600" y="13116"/>
                  <a:pt x="21600" y="13021"/>
                  <a:pt x="21600" y="12903"/>
                </a:cubicBezTo>
                <a:cubicBezTo>
                  <a:pt x="20811" y="13211"/>
                  <a:pt x="20121" y="13612"/>
                  <a:pt x="19430" y="13967"/>
                </a:cubicBezTo>
                <a:cubicBezTo>
                  <a:pt x="18477" y="14463"/>
                  <a:pt x="17819" y="15267"/>
                  <a:pt x="16800" y="15692"/>
                </a:cubicBezTo>
                <a:cubicBezTo>
                  <a:pt x="16142" y="16023"/>
                  <a:pt x="15321" y="15975"/>
                  <a:pt x="14597" y="16046"/>
                </a:cubicBezTo>
                <a:cubicBezTo>
                  <a:pt x="14367" y="16094"/>
                  <a:pt x="14137" y="16094"/>
                  <a:pt x="13940" y="16094"/>
                </a:cubicBezTo>
                <a:cubicBezTo>
                  <a:pt x="12625" y="16094"/>
                  <a:pt x="10751" y="16850"/>
                  <a:pt x="9995" y="16094"/>
                </a:cubicBezTo>
                <a:cubicBezTo>
                  <a:pt x="8712" y="14818"/>
                  <a:pt x="9567" y="12974"/>
                  <a:pt x="9205" y="11414"/>
                </a:cubicBezTo>
                <a:cubicBezTo>
                  <a:pt x="8614" y="8791"/>
                  <a:pt x="7266" y="6239"/>
                  <a:pt x="6937" y="3521"/>
                </a:cubicBezTo>
                <a:cubicBezTo>
                  <a:pt x="6937" y="3521"/>
                  <a:pt x="7134" y="0"/>
                  <a:pt x="7134" y="0"/>
                </a:cubicBezTo>
                <a:cubicBezTo>
                  <a:pt x="6510" y="95"/>
                  <a:pt x="5622" y="142"/>
                  <a:pt x="5129" y="544"/>
                </a:cubicBezTo>
                <a:cubicBezTo>
                  <a:pt x="4636" y="945"/>
                  <a:pt x="4504" y="1536"/>
                  <a:pt x="4438" y="2056"/>
                </a:cubicBezTo>
                <a:cubicBezTo>
                  <a:pt x="4373" y="2741"/>
                  <a:pt x="5490" y="3639"/>
                  <a:pt x="4833" y="4230"/>
                </a:cubicBezTo>
                <a:cubicBezTo>
                  <a:pt x="4274" y="4797"/>
                  <a:pt x="3058" y="4443"/>
                  <a:pt x="2137" y="4632"/>
                </a:cubicBezTo>
                <a:cubicBezTo>
                  <a:pt x="1447" y="4797"/>
                  <a:pt x="658" y="4986"/>
                  <a:pt x="0" y="5128"/>
                </a:cubicBezTo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78440" y="3349800"/>
            <a:ext cx="119160" cy="46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309" y="0"/>
                </a:moveTo>
                <a:cubicBezTo>
                  <a:pt x="19636" y="4097"/>
                  <a:pt x="19964" y="8234"/>
                  <a:pt x="20618" y="12414"/>
                </a:cubicBezTo>
                <a:cubicBezTo>
                  <a:pt x="20945" y="15476"/>
                  <a:pt x="21273" y="18497"/>
                  <a:pt x="21600" y="21600"/>
                </a:cubicBezTo>
                <a:cubicBezTo>
                  <a:pt x="20127" y="21600"/>
                  <a:pt x="18818" y="21517"/>
                  <a:pt x="17836" y="21434"/>
                </a:cubicBezTo>
                <a:cubicBezTo>
                  <a:pt x="15055" y="21062"/>
                  <a:pt x="11945" y="20524"/>
                  <a:pt x="10145" y="19821"/>
                </a:cubicBezTo>
                <a:cubicBezTo>
                  <a:pt x="8836" y="19324"/>
                  <a:pt x="7527" y="18621"/>
                  <a:pt x="7691" y="18083"/>
                </a:cubicBezTo>
                <a:cubicBezTo>
                  <a:pt x="8182" y="17048"/>
                  <a:pt x="14073" y="16593"/>
                  <a:pt x="14400" y="15476"/>
                </a:cubicBezTo>
                <a:cubicBezTo>
                  <a:pt x="14727" y="14607"/>
                  <a:pt x="9655" y="13986"/>
                  <a:pt x="7691" y="13283"/>
                </a:cubicBezTo>
                <a:cubicBezTo>
                  <a:pt x="5400" y="12331"/>
                  <a:pt x="2618" y="11462"/>
                  <a:pt x="1636" y="10386"/>
                </a:cubicBezTo>
                <a:cubicBezTo>
                  <a:pt x="0" y="8648"/>
                  <a:pt x="164" y="6621"/>
                  <a:pt x="1964" y="4883"/>
                </a:cubicBezTo>
                <a:cubicBezTo>
                  <a:pt x="3273" y="3476"/>
                  <a:pt x="6382" y="2110"/>
                  <a:pt x="10473" y="1159"/>
                </a:cubicBezTo>
                <a:cubicBezTo>
                  <a:pt x="12927" y="538"/>
                  <a:pt x="16036" y="290"/>
                  <a:pt x="19309" y="0"/>
                </a:cubicBez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59160" y="2530440"/>
            <a:ext cx="119160" cy="2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325" y="20960"/>
                  <a:pt x="325" y="20960"/>
                </a:cubicBezTo>
                <a:cubicBezTo>
                  <a:pt x="325" y="20960"/>
                  <a:pt x="12830" y="21360"/>
                  <a:pt x="18839" y="21600"/>
                </a:cubicBezTo>
                <a:cubicBezTo>
                  <a:pt x="18839" y="18880"/>
                  <a:pt x="18839" y="16000"/>
                  <a:pt x="18839" y="12800"/>
                </a:cubicBezTo>
                <a:cubicBezTo>
                  <a:pt x="18839" y="9440"/>
                  <a:pt x="21600" y="2160"/>
                  <a:pt x="21600" y="2160"/>
                </a:cubicBezTo>
                <a:cubicBezTo>
                  <a:pt x="21600" y="216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3640" y="2725560"/>
            <a:ext cx="366480" cy="10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136"/>
                </a:moveTo>
                <a:cubicBezTo>
                  <a:pt x="0" y="20136"/>
                  <a:pt x="900" y="0"/>
                  <a:pt x="900" y="0"/>
                </a:cubicBezTo>
                <a:cubicBezTo>
                  <a:pt x="900" y="0"/>
                  <a:pt x="8524" y="1098"/>
                  <a:pt x="12176" y="2014"/>
                </a:cubicBezTo>
                <a:cubicBezTo>
                  <a:pt x="15300" y="2746"/>
                  <a:pt x="21600" y="5492"/>
                  <a:pt x="21600" y="5492"/>
                </a:cubicBezTo>
                <a:cubicBezTo>
                  <a:pt x="21600" y="5492"/>
                  <a:pt x="20912" y="11898"/>
                  <a:pt x="20594" y="15010"/>
                </a:cubicBezTo>
                <a:cubicBezTo>
                  <a:pt x="20329" y="17024"/>
                  <a:pt x="20118" y="19403"/>
                  <a:pt x="19906" y="21600"/>
                </a:cubicBezTo>
                <a:cubicBezTo>
                  <a:pt x="16465" y="17756"/>
                  <a:pt x="12865" y="15925"/>
                  <a:pt x="9053" y="15925"/>
                </a:cubicBezTo>
                <a:cubicBezTo>
                  <a:pt x="6035" y="15925"/>
                  <a:pt x="2912" y="17390"/>
                  <a:pt x="0" y="20136"/>
                </a:cubicBezTo>
              </a:path>
            </a:pathLst>
          </a:custGeom>
          <a:solidFill>
            <a:srgbClr val="cc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98960" y="2725560"/>
            <a:ext cx="37116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139"/>
                </a:moveTo>
                <a:cubicBezTo>
                  <a:pt x="0" y="19139"/>
                  <a:pt x="1101" y="0"/>
                  <a:pt x="1101" y="0"/>
                </a:cubicBezTo>
                <a:cubicBezTo>
                  <a:pt x="1101" y="0"/>
                  <a:pt x="8650" y="820"/>
                  <a:pt x="12268" y="1504"/>
                </a:cubicBezTo>
                <a:cubicBezTo>
                  <a:pt x="15361" y="2051"/>
                  <a:pt x="21600" y="4101"/>
                  <a:pt x="21600" y="4101"/>
                </a:cubicBezTo>
                <a:cubicBezTo>
                  <a:pt x="21600" y="4101"/>
                  <a:pt x="20918" y="8886"/>
                  <a:pt x="20604" y="11210"/>
                </a:cubicBezTo>
                <a:cubicBezTo>
                  <a:pt x="20132" y="14765"/>
                  <a:pt x="19450" y="21600"/>
                  <a:pt x="19450" y="21600"/>
                </a:cubicBezTo>
                <a:cubicBezTo>
                  <a:pt x="19450" y="21600"/>
                  <a:pt x="0" y="19139"/>
                  <a:pt x="0" y="19139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33560" y="2805120"/>
            <a:ext cx="101124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38" y="21282"/>
                  <a:pt x="77" y="20910"/>
                  <a:pt x="115" y="20592"/>
                </a:cubicBezTo>
                <a:cubicBezTo>
                  <a:pt x="596" y="15072"/>
                  <a:pt x="1864" y="10296"/>
                  <a:pt x="3478" y="6581"/>
                </a:cubicBezTo>
                <a:cubicBezTo>
                  <a:pt x="4420" y="4458"/>
                  <a:pt x="5515" y="3131"/>
                  <a:pt x="6688" y="2070"/>
                </a:cubicBezTo>
                <a:cubicBezTo>
                  <a:pt x="8148" y="902"/>
                  <a:pt x="9666" y="0"/>
                  <a:pt x="11165" y="0"/>
                </a:cubicBezTo>
                <a:cubicBezTo>
                  <a:pt x="13106" y="0"/>
                  <a:pt x="14893" y="743"/>
                  <a:pt x="16680" y="3343"/>
                </a:cubicBezTo>
                <a:cubicBezTo>
                  <a:pt x="18602" y="5997"/>
                  <a:pt x="20255" y="9977"/>
                  <a:pt x="21120" y="15550"/>
                </a:cubicBezTo>
                <a:cubicBezTo>
                  <a:pt x="21350" y="17248"/>
                  <a:pt x="21523" y="18893"/>
                  <a:pt x="21600" y="20698"/>
                </a:cubicBezTo>
                <a:cubicBezTo>
                  <a:pt x="20505" y="20592"/>
                  <a:pt x="18756" y="20486"/>
                  <a:pt x="17699" y="20486"/>
                </a:cubicBezTo>
                <a:cubicBezTo>
                  <a:pt x="15431" y="20592"/>
                  <a:pt x="13106" y="20592"/>
                  <a:pt x="10838" y="20698"/>
                </a:cubicBezTo>
                <a:cubicBezTo>
                  <a:pt x="9051" y="20804"/>
                  <a:pt x="7245" y="20910"/>
                  <a:pt x="5438" y="21069"/>
                </a:cubicBezTo>
                <a:cubicBezTo>
                  <a:pt x="3978" y="21175"/>
                  <a:pt x="1576" y="21335"/>
                  <a:pt x="0" y="21600"/>
                </a:cubicBezTo>
              </a:path>
            </a:pathLst>
          </a:custGeom>
          <a:solidFill>
            <a:srgbClr val="cc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33560" y="3151080"/>
            <a:ext cx="1011240" cy="1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576" y="17053"/>
                  <a:pt x="3978" y="14779"/>
                  <a:pt x="5438" y="12505"/>
                </a:cubicBezTo>
                <a:cubicBezTo>
                  <a:pt x="7245" y="9095"/>
                  <a:pt x="9051" y="6821"/>
                  <a:pt x="10838" y="4547"/>
                </a:cubicBezTo>
                <a:cubicBezTo>
                  <a:pt x="13106" y="2274"/>
                  <a:pt x="15431" y="2274"/>
                  <a:pt x="17699" y="0"/>
                </a:cubicBezTo>
                <a:cubicBezTo>
                  <a:pt x="18756" y="0"/>
                  <a:pt x="20505" y="2274"/>
                  <a:pt x="21600" y="4547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5160" y="3736800"/>
            <a:ext cx="6480" cy="2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200" y="14427"/>
                  <a:pt x="18000" y="7173"/>
                  <a:pt x="21600" y="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43320" y="3701880"/>
            <a:ext cx="14400" cy="27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4400" y="15035"/>
                  <a:pt x="7200" y="8471"/>
                  <a:pt x="0" y="1906"/>
                </a:cubicBezTo>
                <a:cubicBezTo>
                  <a:pt x="0" y="1341"/>
                  <a:pt x="0" y="706"/>
                  <a:pt x="0" y="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78240" y="3668760"/>
            <a:ext cx="111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4400" y="14449"/>
                  <a:pt x="5400" y="7078"/>
                  <a:pt x="0" y="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3659040"/>
            <a:ext cx="14040" cy="26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550" y="14522"/>
                  <a:pt x="5400" y="7151"/>
                  <a:pt x="0" y="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65360" y="3695760"/>
            <a:ext cx="972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673" y="14622"/>
                  <a:pt x="5891" y="7089"/>
                  <a:pt x="0" y="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82760" y="3613320"/>
            <a:ext cx="281160" cy="37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54" y="21600"/>
                </a:moveTo>
                <a:cubicBezTo>
                  <a:pt x="1869" y="21600"/>
                  <a:pt x="3185" y="21600"/>
                  <a:pt x="4569" y="21600"/>
                </a:cubicBezTo>
                <a:cubicBezTo>
                  <a:pt x="4915" y="18682"/>
                  <a:pt x="5400" y="15663"/>
                  <a:pt x="6438" y="12745"/>
                </a:cubicBezTo>
                <a:cubicBezTo>
                  <a:pt x="7131" y="10698"/>
                  <a:pt x="8792" y="8855"/>
                  <a:pt x="10523" y="7217"/>
                </a:cubicBezTo>
                <a:cubicBezTo>
                  <a:pt x="11700" y="6040"/>
                  <a:pt x="13292" y="4965"/>
                  <a:pt x="15092" y="4300"/>
                </a:cubicBezTo>
                <a:cubicBezTo>
                  <a:pt x="17238" y="3532"/>
                  <a:pt x="19385" y="3122"/>
                  <a:pt x="21600" y="2662"/>
                </a:cubicBezTo>
                <a:cubicBezTo>
                  <a:pt x="21462" y="2457"/>
                  <a:pt x="21392" y="2252"/>
                  <a:pt x="21046" y="2047"/>
                </a:cubicBezTo>
                <a:cubicBezTo>
                  <a:pt x="18831" y="409"/>
                  <a:pt x="15300" y="0"/>
                  <a:pt x="12392" y="205"/>
                </a:cubicBezTo>
                <a:cubicBezTo>
                  <a:pt x="9346" y="409"/>
                  <a:pt x="6300" y="1587"/>
                  <a:pt x="4085" y="3429"/>
                </a:cubicBezTo>
                <a:cubicBezTo>
                  <a:pt x="2354" y="4965"/>
                  <a:pt x="1315" y="7012"/>
                  <a:pt x="692" y="8855"/>
                </a:cubicBezTo>
                <a:cubicBezTo>
                  <a:pt x="0" y="11005"/>
                  <a:pt x="138" y="13359"/>
                  <a:pt x="138" y="15509"/>
                </a:cubicBezTo>
                <a:cubicBezTo>
                  <a:pt x="138" y="17147"/>
                  <a:pt x="415" y="19553"/>
                  <a:pt x="554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82760" y="3613320"/>
            <a:ext cx="360720" cy="45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8" y="21600"/>
                </a:moveTo>
                <a:cubicBezTo>
                  <a:pt x="808" y="21600"/>
                  <a:pt x="108" y="15941"/>
                  <a:pt x="108" y="13090"/>
                </a:cubicBezTo>
                <a:cubicBezTo>
                  <a:pt x="108" y="11275"/>
                  <a:pt x="0" y="9288"/>
                  <a:pt x="539" y="7474"/>
                </a:cubicBezTo>
                <a:cubicBezTo>
                  <a:pt x="1023" y="5918"/>
                  <a:pt x="1831" y="4190"/>
                  <a:pt x="3178" y="2894"/>
                </a:cubicBezTo>
                <a:cubicBezTo>
                  <a:pt x="4902" y="1339"/>
                  <a:pt x="7272" y="346"/>
                  <a:pt x="9642" y="173"/>
                </a:cubicBezTo>
                <a:cubicBezTo>
                  <a:pt x="11904" y="0"/>
                  <a:pt x="14651" y="346"/>
                  <a:pt x="16375" y="1728"/>
                </a:cubicBezTo>
                <a:cubicBezTo>
                  <a:pt x="18530" y="3456"/>
                  <a:pt x="18907" y="5746"/>
                  <a:pt x="19661" y="8078"/>
                </a:cubicBezTo>
                <a:cubicBezTo>
                  <a:pt x="19930" y="8942"/>
                  <a:pt x="20092" y="10195"/>
                  <a:pt x="20253" y="11146"/>
                </a:cubicBezTo>
                <a:cubicBezTo>
                  <a:pt x="20738" y="14386"/>
                  <a:pt x="21600" y="20952"/>
                  <a:pt x="21600" y="20952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57680" y="3755880"/>
            <a:ext cx="83880" cy="147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23" y="17411"/>
                </a:moveTo>
                <a:cubicBezTo>
                  <a:pt x="2323" y="17411"/>
                  <a:pt x="0" y="0"/>
                  <a:pt x="0" y="0"/>
                </a:cubicBezTo>
                <a:cubicBezTo>
                  <a:pt x="0" y="0"/>
                  <a:pt x="21135" y="0"/>
                  <a:pt x="21135" y="0"/>
                </a:cubicBezTo>
                <a:cubicBezTo>
                  <a:pt x="21135" y="0"/>
                  <a:pt x="21600" y="6022"/>
                  <a:pt x="21600" y="6022"/>
                </a:cubicBezTo>
                <a:cubicBezTo>
                  <a:pt x="19045" y="7462"/>
                  <a:pt x="16955" y="8902"/>
                  <a:pt x="14865" y="10473"/>
                </a:cubicBezTo>
                <a:cubicBezTo>
                  <a:pt x="13703" y="11913"/>
                  <a:pt x="14865" y="13876"/>
                  <a:pt x="14632" y="15447"/>
                </a:cubicBezTo>
                <a:cubicBezTo>
                  <a:pt x="14168" y="17411"/>
                  <a:pt x="14168" y="19636"/>
                  <a:pt x="11613" y="20945"/>
                </a:cubicBezTo>
                <a:cubicBezTo>
                  <a:pt x="10684" y="21600"/>
                  <a:pt x="8129" y="20815"/>
                  <a:pt x="7200" y="20160"/>
                </a:cubicBezTo>
                <a:cubicBezTo>
                  <a:pt x="7200" y="20160"/>
                  <a:pt x="5110" y="18851"/>
                  <a:pt x="5110" y="18851"/>
                </a:cubicBezTo>
                <a:cubicBezTo>
                  <a:pt x="4181" y="18327"/>
                  <a:pt x="3252" y="17935"/>
                  <a:pt x="2323" y="17411"/>
                </a:cubicBezTo>
              </a:path>
            </a:pathLst>
          </a:custGeom>
          <a:solidFill>
            <a:srgbClr val="ffe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67040" y="3797280"/>
            <a:ext cx="7920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699" y="20785"/>
                  <a:pt x="1699" y="20785"/>
                </a:cubicBezTo>
                <a:cubicBezTo>
                  <a:pt x="1699" y="20785"/>
                  <a:pt x="0" y="11819"/>
                  <a:pt x="0" y="11819"/>
                </a:cubicBezTo>
                <a:cubicBezTo>
                  <a:pt x="1699" y="13042"/>
                  <a:pt x="2912" y="13857"/>
                  <a:pt x="5097" y="14672"/>
                </a:cubicBezTo>
                <a:cubicBezTo>
                  <a:pt x="6067" y="15351"/>
                  <a:pt x="8737" y="16166"/>
                  <a:pt x="9708" y="15487"/>
                </a:cubicBezTo>
                <a:cubicBezTo>
                  <a:pt x="12378" y="14128"/>
                  <a:pt x="12378" y="11819"/>
                  <a:pt x="12863" y="9781"/>
                </a:cubicBezTo>
                <a:cubicBezTo>
                  <a:pt x="13106" y="8151"/>
                  <a:pt x="11892" y="6113"/>
                  <a:pt x="13106" y="4619"/>
                </a:cubicBezTo>
                <a:cubicBezTo>
                  <a:pt x="15290" y="2989"/>
                  <a:pt x="17960" y="1494"/>
                  <a:pt x="20387" y="0"/>
                </a:cubicBezTo>
                <a:cubicBezTo>
                  <a:pt x="20387" y="0"/>
                  <a:pt x="216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57680" y="3755880"/>
            <a:ext cx="88560" cy="1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3709" y="20968"/>
                  <a:pt x="3709" y="20968"/>
                </a:cubicBezTo>
                <a:cubicBezTo>
                  <a:pt x="3709" y="20968"/>
                  <a:pt x="0" y="0"/>
                  <a:pt x="0" y="0"/>
                </a:cubicBezTo>
                <a:cubicBezTo>
                  <a:pt x="0" y="0"/>
                  <a:pt x="19855" y="0"/>
                  <a:pt x="19855" y="0"/>
                </a:cubicBezTo>
                <a:cubicBezTo>
                  <a:pt x="19855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78240" y="3780000"/>
            <a:ext cx="83880" cy="14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55" y="17411"/>
                </a:moveTo>
                <a:cubicBezTo>
                  <a:pt x="2555" y="17411"/>
                  <a:pt x="0" y="0"/>
                  <a:pt x="0" y="0"/>
                </a:cubicBezTo>
                <a:cubicBezTo>
                  <a:pt x="0" y="0"/>
                  <a:pt x="20903" y="0"/>
                  <a:pt x="20903" y="0"/>
                </a:cubicBezTo>
                <a:cubicBezTo>
                  <a:pt x="20903" y="0"/>
                  <a:pt x="21600" y="6153"/>
                  <a:pt x="21600" y="6153"/>
                </a:cubicBezTo>
                <a:cubicBezTo>
                  <a:pt x="19045" y="7593"/>
                  <a:pt x="17187" y="8902"/>
                  <a:pt x="15097" y="10604"/>
                </a:cubicBezTo>
                <a:cubicBezTo>
                  <a:pt x="13703" y="11913"/>
                  <a:pt x="15097" y="13876"/>
                  <a:pt x="14632" y="15447"/>
                </a:cubicBezTo>
                <a:cubicBezTo>
                  <a:pt x="14168" y="17411"/>
                  <a:pt x="14168" y="19636"/>
                  <a:pt x="11845" y="21076"/>
                </a:cubicBezTo>
                <a:cubicBezTo>
                  <a:pt x="10684" y="21600"/>
                  <a:pt x="8361" y="20815"/>
                  <a:pt x="7200" y="20291"/>
                </a:cubicBezTo>
                <a:cubicBezTo>
                  <a:pt x="7200" y="20291"/>
                  <a:pt x="5342" y="18851"/>
                  <a:pt x="5342" y="18851"/>
                </a:cubicBezTo>
                <a:cubicBezTo>
                  <a:pt x="4413" y="18327"/>
                  <a:pt x="3252" y="18065"/>
                  <a:pt x="2555" y="17411"/>
                </a:cubicBezTo>
              </a:path>
            </a:pathLst>
          </a:custGeom>
          <a:solidFill>
            <a:srgbClr val="ffe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9040" y="3822840"/>
            <a:ext cx="78120" cy="14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473" y="20649"/>
                  <a:pt x="1473" y="20649"/>
                </a:cubicBezTo>
                <a:cubicBezTo>
                  <a:pt x="1473" y="20649"/>
                  <a:pt x="0" y="11683"/>
                  <a:pt x="0" y="11683"/>
                </a:cubicBezTo>
                <a:cubicBezTo>
                  <a:pt x="1473" y="12906"/>
                  <a:pt x="2945" y="13721"/>
                  <a:pt x="4909" y="14672"/>
                </a:cubicBezTo>
                <a:cubicBezTo>
                  <a:pt x="6136" y="15215"/>
                  <a:pt x="8591" y="16030"/>
                  <a:pt x="9818" y="15487"/>
                </a:cubicBezTo>
                <a:cubicBezTo>
                  <a:pt x="12273" y="13992"/>
                  <a:pt x="12273" y="11683"/>
                  <a:pt x="12764" y="9645"/>
                </a:cubicBezTo>
                <a:cubicBezTo>
                  <a:pt x="13255" y="8015"/>
                  <a:pt x="11782" y="5977"/>
                  <a:pt x="13255" y="4619"/>
                </a:cubicBezTo>
                <a:cubicBezTo>
                  <a:pt x="15464" y="2853"/>
                  <a:pt x="18164" y="1494"/>
                  <a:pt x="20618" y="0"/>
                </a:cubicBezTo>
                <a:cubicBezTo>
                  <a:pt x="20618" y="0"/>
                  <a:pt x="216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78240" y="3780000"/>
            <a:ext cx="88920" cy="18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3709" y="20866"/>
                  <a:pt x="3709" y="20866"/>
                </a:cubicBezTo>
                <a:cubicBezTo>
                  <a:pt x="3709" y="20866"/>
                  <a:pt x="0" y="0"/>
                  <a:pt x="0" y="0"/>
                </a:cubicBezTo>
                <a:cubicBezTo>
                  <a:pt x="0" y="0"/>
                  <a:pt x="19636" y="0"/>
                  <a:pt x="19636" y="0"/>
                </a:cubicBezTo>
                <a:cubicBezTo>
                  <a:pt x="19636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3320" y="3801960"/>
            <a:ext cx="82440" cy="14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23" y="17411"/>
                </a:moveTo>
                <a:cubicBezTo>
                  <a:pt x="2323" y="17411"/>
                  <a:pt x="0" y="0"/>
                  <a:pt x="0" y="0"/>
                </a:cubicBezTo>
                <a:cubicBezTo>
                  <a:pt x="0" y="0"/>
                  <a:pt x="21135" y="0"/>
                  <a:pt x="21135" y="0"/>
                </a:cubicBezTo>
                <a:cubicBezTo>
                  <a:pt x="21135" y="0"/>
                  <a:pt x="21600" y="6153"/>
                  <a:pt x="21600" y="6153"/>
                </a:cubicBezTo>
                <a:cubicBezTo>
                  <a:pt x="19045" y="7462"/>
                  <a:pt x="17187" y="8771"/>
                  <a:pt x="15097" y="10473"/>
                </a:cubicBezTo>
                <a:cubicBezTo>
                  <a:pt x="13703" y="11913"/>
                  <a:pt x="15097" y="13876"/>
                  <a:pt x="14865" y="15447"/>
                </a:cubicBezTo>
                <a:cubicBezTo>
                  <a:pt x="14168" y="17411"/>
                  <a:pt x="14168" y="19636"/>
                  <a:pt x="11613" y="20945"/>
                </a:cubicBezTo>
                <a:cubicBezTo>
                  <a:pt x="10916" y="21600"/>
                  <a:pt x="8129" y="20684"/>
                  <a:pt x="7432" y="20160"/>
                </a:cubicBezTo>
                <a:cubicBezTo>
                  <a:pt x="7432" y="20160"/>
                  <a:pt x="5342" y="18720"/>
                  <a:pt x="5342" y="18720"/>
                </a:cubicBezTo>
                <a:cubicBezTo>
                  <a:pt x="4413" y="18327"/>
                  <a:pt x="3484" y="17935"/>
                  <a:pt x="2323" y="17411"/>
                </a:cubicBezTo>
              </a:path>
            </a:pathLst>
          </a:custGeom>
          <a:solidFill>
            <a:srgbClr val="ffe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81240" y="3843360"/>
            <a:ext cx="81000" cy="14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699" y="20912"/>
                  <a:pt x="1699" y="20912"/>
                </a:cubicBezTo>
                <a:cubicBezTo>
                  <a:pt x="1699" y="20912"/>
                  <a:pt x="0" y="11832"/>
                  <a:pt x="0" y="11832"/>
                </a:cubicBezTo>
                <a:cubicBezTo>
                  <a:pt x="1699" y="12932"/>
                  <a:pt x="3155" y="13896"/>
                  <a:pt x="5339" y="14721"/>
                </a:cubicBezTo>
                <a:cubicBezTo>
                  <a:pt x="6067" y="15271"/>
                  <a:pt x="8980" y="16234"/>
                  <a:pt x="9708" y="15546"/>
                </a:cubicBezTo>
                <a:cubicBezTo>
                  <a:pt x="12378" y="14171"/>
                  <a:pt x="12378" y="11832"/>
                  <a:pt x="13106" y="9768"/>
                </a:cubicBezTo>
                <a:cubicBezTo>
                  <a:pt x="13348" y="8117"/>
                  <a:pt x="11892" y="6054"/>
                  <a:pt x="13348" y="4540"/>
                </a:cubicBezTo>
                <a:cubicBezTo>
                  <a:pt x="15533" y="2752"/>
                  <a:pt x="17960" y="1376"/>
                  <a:pt x="20629" y="0"/>
                </a:cubicBezTo>
                <a:cubicBezTo>
                  <a:pt x="20629" y="0"/>
                  <a:pt x="216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73320" y="3801960"/>
            <a:ext cx="88920" cy="18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3709" y="21071"/>
                  <a:pt x="3709" y="21071"/>
                </a:cubicBezTo>
                <a:cubicBezTo>
                  <a:pt x="3709" y="21071"/>
                  <a:pt x="0" y="0"/>
                  <a:pt x="0" y="0"/>
                </a:cubicBezTo>
                <a:cubicBezTo>
                  <a:pt x="0" y="0"/>
                  <a:pt x="19855" y="0"/>
                  <a:pt x="19855" y="0"/>
                </a:cubicBezTo>
                <a:cubicBezTo>
                  <a:pt x="19855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48040" y="3292560"/>
            <a:ext cx="77760" cy="8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12" y="17187"/>
                </a:moveTo>
                <a:cubicBezTo>
                  <a:pt x="2512" y="17187"/>
                  <a:pt x="0" y="0"/>
                  <a:pt x="0" y="0"/>
                </a:cubicBez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6271"/>
                  <a:pt x="21600" y="6271"/>
                </a:cubicBezTo>
                <a:cubicBezTo>
                  <a:pt x="20093" y="7432"/>
                  <a:pt x="17833" y="8361"/>
                  <a:pt x="15823" y="10219"/>
                </a:cubicBezTo>
                <a:cubicBezTo>
                  <a:pt x="13563" y="11845"/>
                  <a:pt x="15823" y="13703"/>
                  <a:pt x="15321" y="15794"/>
                </a:cubicBezTo>
                <a:cubicBezTo>
                  <a:pt x="14819" y="17187"/>
                  <a:pt x="14819" y="19742"/>
                  <a:pt x="12307" y="20439"/>
                </a:cubicBezTo>
                <a:cubicBezTo>
                  <a:pt x="11051" y="21600"/>
                  <a:pt x="8540" y="19974"/>
                  <a:pt x="7284" y="19974"/>
                </a:cubicBezTo>
                <a:cubicBezTo>
                  <a:pt x="7284" y="19974"/>
                  <a:pt x="5274" y="18581"/>
                  <a:pt x="5274" y="18581"/>
                </a:cubicBezTo>
                <a:cubicBezTo>
                  <a:pt x="4270" y="18116"/>
                  <a:pt x="4270" y="18116"/>
                  <a:pt x="2512" y="17187"/>
                </a:cubicBezTo>
              </a:path>
            </a:pathLst>
          </a:custGeom>
          <a:solidFill>
            <a:srgbClr val="ffe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57400" y="3316320"/>
            <a:ext cx="76320" cy="7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779" y="20110"/>
                  <a:pt x="1779" y="20110"/>
                </a:cubicBezTo>
                <a:cubicBezTo>
                  <a:pt x="1779" y="20110"/>
                  <a:pt x="0" y="11669"/>
                  <a:pt x="0" y="11669"/>
                </a:cubicBezTo>
                <a:cubicBezTo>
                  <a:pt x="1779" y="12662"/>
                  <a:pt x="2795" y="14400"/>
                  <a:pt x="4828" y="14648"/>
                </a:cubicBezTo>
                <a:cubicBezTo>
                  <a:pt x="6099" y="14648"/>
                  <a:pt x="8640" y="16386"/>
                  <a:pt x="9911" y="15145"/>
                </a:cubicBezTo>
                <a:cubicBezTo>
                  <a:pt x="12452" y="14400"/>
                  <a:pt x="12452" y="11669"/>
                  <a:pt x="12960" y="10179"/>
                </a:cubicBezTo>
                <a:cubicBezTo>
                  <a:pt x="13468" y="7945"/>
                  <a:pt x="11181" y="5959"/>
                  <a:pt x="13468" y="4221"/>
                </a:cubicBezTo>
                <a:cubicBezTo>
                  <a:pt x="15501" y="2234"/>
                  <a:pt x="17788" y="1241"/>
                  <a:pt x="20584" y="0"/>
                </a:cubicBezTo>
                <a:cubicBezTo>
                  <a:pt x="20584" y="0"/>
                  <a:pt x="216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48040" y="3292560"/>
            <a:ext cx="85680" cy="10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3865" y="20463"/>
                  <a:pt x="3865" y="20463"/>
                </a:cubicBezTo>
                <a:cubicBezTo>
                  <a:pt x="3865" y="20463"/>
                  <a:pt x="0" y="0"/>
                  <a:pt x="0" y="0"/>
                </a:cubicBezTo>
                <a:cubicBezTo>
                  <a:pt x="0" y="0"/>
                  <a:pt x="19554" y="0"/>
                  <a:pt x="19554" y="0"/>
                </a:cubicBezTo>
                <a:cubicBezTo>
                  <a:pt x="19554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16440" y="3738600"/>
            <a:ext cx="79200" cy="13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670" y="17605"/>
                </a:moveTo>
                <a:cubicBezTo>
                  <a:pt x="2670" y="17605"/>
                  <a:pt x="0" y="0"/>
                  <a:pt x="0" y="0"/>
                </a:cubicBezTo>
                <a:cubicBezTo>
                  <a:pt x="0" y="0"/>
                  <a:pt x="21115" y="0"/>
                  <a:pt x="21115" y="0"/>
                </a:cubicBezTo>
                <a:cubicBezTo>
                  <a:pt x="21115" y="0"/>
                  <a:pt x="21600" y="6362"/>
                  <a:pt x="21600" y="6362"/>
                </a:cubicBezTo>
                <a:cubicBezTo>
                  <a:pt x="19658" y="7545"/>
                  <a:pt x="17474" y="8729"/>
                  <a:pt x="15533" y="10652"/>
                </a:cubicBezTo>
                <a:cubicBezTo>
                  <a:pt x="13834" y="11836"/>
                  <a:pt x="15533" y="13759"/>
                  <a:pt x="14804" y="15534"/>
                </a:cubicBezTo>
                <a:cubicBezTo>
                  <a:pt x="14319" y="17605"/>
                  <a:pt x="14319" y="19825"/>
                  <a:pt x="11892" y="21008"/>
                </a:cubicBezTo>
                <a:cubicBezTo>
                  <a:pt x="10679" y="21600"/>
                  <a:pt x="8252" y="20564"/>
                  <a:pt x="7281" y="20268"/>
                </a:cubicBezTo>
                <a:cubicBezTo>
                  <a:pt x="7281" y="20268"/>
                  <a:pt x="5339" y="18789"/>
                  <a:pt x="5339" y="18789"/>
                </a:cubicBezTo>
                <a:cubicBezTo>
                  <a:pt x="4126" y="18493"/>
                  <a:pt x="3640" y="18049"/>
                  <a:pt x="2670" y="17605"/>
                </a:cubicBezTo>
              </a:path>
            </a:pathLst>
          </a:custGeom>
          <a:solidFill>
            <a:srgbClr val="ffe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5800" y="3776760"/>
            <a:ext cx="76320" cy="12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543" y="20817"/>
                  <a:pt x="1543" y="20817"/>
                </a:cubicBezTo>
                <a:cubicBezTo>
                  <a:pt x="1543" y="20817"/>
                  <a:pt x="0" y="11896"/>
                  <a:pt x="0" y="11896"/>
                </a:cubicBezTo>
                <a:cubicBezTo>
                  <a:pt x="1543" y="12835"/>
                  <a:pt x="2829" y="13774"/>
                  <a:pt x="4886" y="14713"/>
                </a:cubicBezTo>
                <a:cubicBezTo>
                  <a:pt x="5914" y="15026"/>
                  <a:pt x="8486" y="16122"/>
                  <a:pt x="9771" y="15496"/>
                </a:cubicBezTo>
                <a:cubicBezTo>
                  <a:pt x="12343" y="14243"/>
                  <a:pt x="12343" y="11896"/>
                  <a:pt x="12857" y="9704"/>
                </a:cubicBezTo>
                <a:cubicBezTo>
                  <a:pt x="13629" y="7826"/>
                  <a:pt x="11829" y="5791"/>
                  <a:pt x="13629" y="4539"/>
                </a:cubicBezTo>
                <a:cubicBezTo>
                  <a:pt x="15686" y="2504"/>
                  <a:pt x="18000" y="1252"/>
                  <a:pt x="20571" y="0"/>
                </a:cubicBezTo>
                <a:cubicBezTo>
                  <a:pt x="20571" y="0"/>
                  <a:pt x="216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16440" y="3738600"/>
            <a:ext cx="85680" cy="16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3865" y="21003"/>
                  <a:pt x="3865" y="21003"/>
                </a:cubicBezTo>
                <a:cubicBezTo>
                  <a:pt x="3865" y="21003"/>
                  <a:pt x="0" y="0"/>
                  <a:pt x="0" y="0"/>
                </a:cubicBezTo>
                <a:cubicBezTo>
                  <a:pt x="0" y="0"/>
                  <a:pt x="19781" y="0"/>
                  <a:pt x="19781" y="0"/>
                </a:cubicBezTo>
                <a:cubicBezTo>
                  <a:pt x="19781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25960" y="3736800"/>
            <a:ext cx="79200" cy="13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455" y="17605"/>
                </a:moveTo>
                <a:cubicBezTo>
                  <a:pt x="2455" y="17605"/>
                  <a:pt x="0" y="0"/>
                  <a:pt x="0" y="0"/>
                </a:cubicBezTo>
                <a:cubicBezTo>
                  <a:pt x="0" y="0"/>
                  <a:pt x="21109" y="0"/>
                  <a:pt x="21109" y="0"/>
                </a:cubicBezTo>
                <a:cubicBezTo>
                  <a:pt x="21109" y="0"/>
                  <a:pt x="21600" y="6214"/>
                  <a:pt x="21600" y="6214"/>
                </a:cubicBezTo>
                <a:cubicBezTo>
                  <a:pt x="19636" y="7397"/>
                  <a:pt x="17427" y="8729"/>
                  <a:pt x="15464" y="10652"/>
                </a:cubicBezTo>
                <a:cubicBezTo>
                  <a:pt x="13991" y="11836"/>
                  <a:pt x="15464" y="13611"/>
                  <a:pt x="14973" y="15682"/>
                </a:cubicBezTo>
                <a:cubicBezTo>
                  <a:pt x="14482" y="17605"/>
                  <a:pt x="14482" y="19677"/>
                  <a:pt x="12027" y="20860"/>
                </a:cubicBezTo>
                <a:cubicBezTo>
                  <a:pt x="10800" y="21600"/>
                  <a:pt x="8345" y="20564"/>
                  <a:pt x="7118" y="20268"/>
                </a:cubicBezTo>
                <a:cubicBezTo>
                  <a:pt x="7118" y="20268"/>
                  <a:pt x="5155" y="18789"/>
                  <a:pt x="5155" y="18789"/>
                </a:cubicBezTo>
                <a:cubicBezTo>
                  <a:pt x="4173" y="18345"/>
                  <a:pt x="3436" y="18049"/>
                  <a:pt x="2455" y="17605"/>
                </a:cubicBezTo>
              </a:path>
            </a:pathLst>
          </a:custGeom>
          <a:solidFill>
            <a:srgbClr val="ffe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33880" y="3774960"/>
            <a:ext cx="77760" cy="12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779" y="20668"/>
                  <a:pt x="1779" y="20668"/>
                </a:cubicBezTo>
                <a:cubicBezTo>
                  <a:pt x="1779" y="20668"/>
                  <a:pt x="0" y="11965"/>
                  <a:pt x="0" y="11965"/>
                </a:cubicBezTo>
                <a:cubicBezTo>
                  <a:pt x="1779" y="12742"/>
                  <a:pt x="2795" y="13830"/>
                  <a:pt x="4828" y="14763"/>
                </a:cubicBezTo>
                <a:cubicBezTo>
                  <a:pt x="6099" y="15073"/>
                  <a:pt x="8640" y="16161"/>
                  <a:pt x="9911" y="15384"/>
                </a:cubicBezTo>
                <a:cubicBezTo>
                  <a:pt x="12452" y="14141"/>
                  <a:pt x="12452" y="11965"/>
                  <a:pt x="12960" y="9945"/>
                </a:cubicBezTo>
                <a:cubicBezTo>
                  <a:pt x="13468" y="7770"/>
                  <a:pt x="11944" y="5905"/>
                  <a:pt x="13468" y="4662"/>
                </a:cubicBezTo>
                <a:cubicBezTo>
                  <a:pt x="15501" y="2642"/>
                  <a:pt x="17788" y="1243"/>
                  <a:pt x="20584" y="0"/>
                </a:cubicBezTo>
                <a:cubicBezTo>
                  <a:pt x="20584" y="0"/>
                  <a:pt x="216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25960" y="3736800"/>
            <a:ext cx="85680" cy="16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3865" y="20884"/>
                  <a:pt x="3865" y="20884"/>
                </a:cubicBezTo>
                <a:cubicBezTo>
                  <a:pt x="3865" y="20884"/>
                  <a:pt x="0" y="0"/>
                  <a:pt x="0" y="0"/>
                </a:cubicBezTo>
                <a:cubicBezTo>
                  <a:pt x="0" y="0"/>
                  <a:pt x="19554" y="0"/>
                  <a:pt x="19554" y="0"/>
                </a:cubicBezTo>
                <a:cubicBezTo>
                  <a:pt x="19554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41760" y="3262320"/>
            <a:ext cx="73080" cy="9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970" y="17476"/>
                </a:moveTo>
                <a:cubicBezTo>
                  <a:pt x="2970" y="17476"/>
                  <a:pt x="0" y="0"/>
                  <a:pt x="0" y="0"/>
                </a:cubicBez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6284"/>
                  <a:pt x="21600" y="6284"/>
                </a:cubicBezTo>
                <a:cubicBezTo>
                  <a:pt x="19440" y="7462"/>
                  <a:pt x="17820" y="8444"/>
                  <a:pt x="15390" y="10407"/>
                </a:cubicBezTo>
                <a:cubicBezTo>
                  <a:pt x="13770" y="11585"/>
                  <a:pt x="15390" y="13745"/>
                  <a:pt x="14850" y="15709"/>
                </a:cubicBezTo>
                <a:cubicBezTo>
                  <a:pt x="14310" y="17476"/>
                  <a:pt x="14310" y="19636"/>
                  <a:pt x="11880" y="20618"/>
                </a:cubicBezTo>
                <a:cubicBezTo>
                  <a:pt x="11070" y="21600"/>
                  <a:pt x="8640" y="20422"/>
                  <a:pt x="7290" y="20029"/>
                </a:cubicBezTo>
                <a:cubicBezTo>
                  <a:pt x="7290" y="20029"/>
                  <a:pt x="5130" y="18655"/>
                  <a:pt x="5130" y="18655"/>
                </a:cubicBezTo>
                <a:cubicBezTo>
                  <a:pt x="3780" y="18262"/>
                  <a:pt x="3780" y="18262"/>
                  <a:pt x="2970" y="17476"/>
                </a:cubicBezTo>
              </a:path>
            </a:pathLst>
          </a:custGeom>
          <a:solidFill>
            <a:srgbClr val="ffe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52920" y="3290760"/>
            <a:ext cx="6804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853" y="20342"/>
                  <a:pt x="853" y="20342"/>
                </a:cubicBezTo>
                <a:cubicBezTo>
                  <a:pt x="853" y="20342"/>
                  <a:pt x="0" y="11953"/>
                  <a:pt x="0" y="11953"/>
                </a:cubicBezTo>
                <a:cubicBezTo>
                  <a:pt x="853" y="12792"/>
                  <a:pt x="2274" y="14260"/>
                  <a:pt x="4547" y="14680"/>
                </a:cubicBezTo>
                <a:cubicBezTo>
                  <a:pt x="5968" y="15099"/>
                  <a:pt x="8526" y="16357"/>
                  <a:pt x="9379" y="15309"/>
                </a:cubicBezTo>
                <a:cubicBezTo>
                  <a:pt x="11937" y="14260"/>
                  <a:pt x="11937" y="11953"/>
                  <a:pt x="12505" y="10066"/>
                </a:cubicBezTo>
                <a:cubicBezTo>
                  <a:pt x="13074" y="7969"/>
                  <a:pt x="11368" y="5662"/>
                  <a:pt x="13074" y="4404"/>
                </a:cubicBezTo>
                <a:cubicBezTo>
                  <a:pt x="15632" y="2307"/>
                  <a:pt x="17337" y="1258"/>
                  <a:pt x="20463" y="0"/>
                </a:cubicBezTo>
                <a:cubicBezTo>
                  <a:pt x="20463" y="0"/>
                  <a:pt x="216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41760" y="3262320"/>
            <a:ext cx="79200" cy="12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3476" y="20640"/>
                  <a:pt x="3476" y="20640"/>
                </a:cubicBezTo>
                <a:cubicBezTo>
                  <a:pt x="3476" y="20640"/>
                  <a:pt x="0" y="0"/>
                  <a:pt x="0" y="0"/>
                </a:cubicBezTo>
                <a:cubicBezTo>
                  <a:pt x="0" y="0"/>
                  <a:pt x="19862" y="0"/>
                  <a:pt x="19862" y="0"/>
                </a:cubicBezTo>
                <a:cubicBezTo>
                  <a:pt x="19862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9720" y="3268800"/>
            <a:ext cx="75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12" y="16955"/>
                </a:moveTo>
                <a:cubicBezTo>
                  <a:pt x="2512" y="16955"/>
                  <a:pt x="0" y="0"/>
                  <a:pt x="0" y="0"/>
                </a:cubicBez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6271"/>
                  <a:pt x="21600" y="6271"/>
                </a:cubicBezTo>
                <a:cubicBezTo>
                  <a:pt x="20093" y="7200"/>
                  <a:pt x="17833" y="8361"/>
                  <a:pt x="15823" y="10219"/>
                </a:cubicBezTo>
                <a:cubicBezTo>
                  <a:pt x="13563" y="11845"/>
                  <a:pt x="15823" y="13703"/>
                  <a:pt x="15321" y="15561"/>
                </a:cubicBezTo>
                <a:cubicBezTo>
                  <a:pt x="14819" y="16955"/>
                  <a:pt x="14819" y="19510"/>
                  <a:pt x="12056" y="20439"/>
                </a:cubicBezTo>
                <a:cubicBezTo>
                  <a:pt x="11051" y="21600"/>
                  <a:pt x="8540" y="19974"/>
                  <a:pt x="7284" y="19974"/>
                </a:cubicBezTo>
                <a:cubicBezTo>
                  <a:pt x="7284" y="19974"/>
                  <a:pt x="5274" y="18581"/>
                  <a:pt x="5274" y="18581"/>
                </a:cubicBezTo>
                <a:cubicBezTo>
                  <a:pt x="4270" y="18116"/>
                  <a:pt x="4270" y="18116"/>
                  <a:pt x="2512" y="16955"/>
                </a:cubicBezTo>
              </a:path>
            </a:pathLst>
          </a:custGeom>
          <a:solidFill>
            <a:srgbClr val="ffe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57640" y="3292560"/>
            <a:ext cx="75960" cy="7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779" y="20093"/>
                  <a:pt x="1779" y="20093"/>
                </a:cubicBezTo>
                <a:cubicBezTo>
                  <a:pt x="1779" y="20093"/>
                  <a:pt x="0" y="11553"/>
                  <a:pt x="0" y="11553"/>
                </a:cubicBezTo>
                <a:cubicBezTo>
                  <a:pt x="1779" y="12809"/>
                  <a:pt x="2795" y="14316"/>
                  <a:pt x="4828" y="14819"/>
                </a:cubicBezTo>
                <a:cubicBezTo>
                  <a:pt x="6099" y="14819"/>
                  <a:pt x="8640" y="16577"/>
                  <a:pt x="9656" y="15321"/>
                </a:cubicBezTo>
                <a:cubicBezTo>
                  <a:pt x="12452" y="14316"/>
                  <a:pt x="12452" y="11553"/>
                  <a:pt x="12960" y="10047"/>
                </a:cubicBezTo>
                <a:cubicBezTo>
                  <a:pt x="13468" y="8037"/>
                  <a:pt x="11181" y="6028"/>
                  <a:pt x="13468" y="4270"/>
                </a:cubicBezTo>
                <a:cubicBezTo>
                  <a:pt x="15501" y="2260"/>
                  <a:pt x="17788" y="1005"/>
                  <a:pt x="20329" y="0"/>
                </a:cubicBezTo>
                <a:cubicBezTo>
                  <a:pt x="20329" y="0"/>
                  <a:pt x="216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9720" y="3268800"/>
            <a:ext cx="83880" cy="10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3865" y="20453"/>
                  <a:pt x="3865" y="20453"/>
                </a:cubicBezTo>
                <a:cubicBezTo>
                  <a:pt x="3865" y="20453"/>
                  <a:pt x="0" y="0"/>
                  <a:pt x="0" y="0"/>
                </a:cubicBezTo>
                <a:cubicBezTo>
                  <a:pt x="0" y="0"/>
                  <a:pt x="19554" y="0"/>
                  <a:pt x="19554" y="0"/>
                </a:cubicBezTo>
                <a:cubicBezTo>
                  <a:pt x="19554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3840" y="4130640"/>
            <a:ext cx="3333600" cy="23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884" y="15070"/>
                  <a:pt x="3768" y="8707"/>
                  <a:pt x="5664" y="5191"/>
                </a:cubicBezTo>
                <a:cubicBezTo>
                  <a:pt x="7601" y="1423"/>
                  <a:pt x="9560" y="0"/>
                  <a:pt x="11520" y="0"/>
                </a:cubicBezTo>
                <a:cubicBezTo>
                  <a:pt x="12792" y="0"/>
                  <a:pt x="14145" y="335"/>
                  <a:pt x="15487" y="1591"/>
                </a:cubicBezTo>
                <a:cubicBezTo>
                  <a:pt x="16659" y="2679"/>
                  <a:pt x="17843" y="4437"/>
                  <a:pt x="18818" y="6195"/>
                </a:cubicBezTo>
                <a:cubicBezTo>
                  <a:pt x="19751" y="7702"/>
                  <a:pt x="20678" y="11135"/>
                  <a:pt x="21600" y="14484"/>
                </a:cubicBezTo>
              </a:path>
            </a:pathLst>
          </a:custGeom>
          <a:solidFill>
            <a:srgbClr val="cc99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8680" y="4267080"/>
            <a:ext cx="2222640" cy="82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510" y="10565"/>
                  <a:pt x="4932" y="2583"/>
                  <a:pt x="7486" y="939"/>
                </a:cubicBezTo>
                <a:cubicBezTo>
                  <a:pt x="9593" y="0"/>
                  <a:pt x="11570" y="470"/>
                  <a:pt x="13677" y="3522"/>
                </a:cubicBezTo>
                <a:cubicBezTo>
                  <a:pt x="15374" y="5870"/>
                  <a:pt x="17201" y="8922"/>
                  <a:pt x="19038" y="13383"/>
                </a:cubicBezTo>
                <a:cubicBezTo>
                  <a:pt x="19877" y="15261"/>
                  <a:pt x="21600" y="21600"/>
                  <a:pt x="21600" y="21600"/>
                </a:cubicBezTo>
              </a:path>
            </a:pathLst>
          </a:custGeom>
          <a:solidFill>
            <a:srgbClr val="cc99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32080" y="4459320"/>
            <a:ext cx="1636560" cy="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" y="21600"/>
                </a:moveTo>
                <a:cubicBezTo>
                  <a:pt x="59" y="21600"/>
                  <a:pt x="0" y="21600"/>
                  <a:pt x="24" y="21600"/>
                </a:cubicBezTo>
                <a:cubicBezTo>
                  <a:pt x="3064" y="14400"/>
                  <a:pt x="6068" y="5929"/>
                  <a:pt x="9132" y="2753"/>
                </a:cubicBezTo>
                <a:cubicBezTo>
                  <a:pt x="11946" y="0"/>
                  <a:pt x="14748" y="2329"/>
                  <a:pt x="17539" y="7200"/>
                </a:cubicBezTo>
                <a:cubicBezTo>
                  <a:pt x="18893" y="9529"/>
                  <a:pt x="20246" y="13341"/>
                  <a:pt x="21600" y="17365"/>
                </a:cubicBezTo>
              </a:path>
            </a:pathLst>
          </a:custGeom>
          <a:solidFill>
            <a:srgbClr val="cc99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73200" y="4583160"/>
            <a:ext cx="1309680" cy="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3696" y="10800"/>
                  <a:pt x="7393" y="0"/>
                  <a:pt x="11104" y="0"/>
                </a:cubicBezTo>
                <a:cubicBezTo>
                  <a:pt x="14608" y="0"/>
                  <a:pt x="18111" y="10800"/>
                  <a:pt x="21600" y="21600"/>
                </a:cubicBezTo>
              </a:path>
            </a:pathLst>
          </a:custGeom>
          <a:solidFill>
            <a:srgbClr val="9966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9520" y="3868560"/>
            <a:ext cx="8100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56" y="17505"/>
                  <a:pt x="3155" y="13343"/>
                  <a:pt x="4611" y="9182"/>
                </a:cubicBezTo>
                <a:cubicBezTo>
                  <a:pt x="5582" y="6672"/>
                  <a:pt x="4611" y="4029"/>
                  <a:pt x="6553" y="1519"/>
                </a:cubicBezTo>
                <a:cubicBezTo>
                  <a:pt x="7281" y="793"/>
                  <a:pt x="10193" y="0"/>
                  <a:pt x="12135" y="264"/>
                </a:cubicBezTo>
                <a:cubicBezTo>
                  <a:pt x="16261" y="991"/>
                  <a:pt x="19173" y="2312"/>
                  <a:pt x="19416" y="3567"/>
                </a:cubicBezTo>
                <a:cubicBezTo>
                  <a:pt x="21600" y="8785"/>
                  <a:pt x="21115" y="14070"/>
                  <a:pt x="20387" y="19222"/>
                </a:cubicBezTo>
              </a:path>
            </a:pathLst>
          </a:custGeom>
          <a:solidFill>
            <a:srgbClr val="9966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97400" y="3138480"/>
            <a:ext cx="34776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47" y="300"/>
                </a:moveTo>
                <a:cubicBezTo>
                  <a:pt x="2567" y="367"/>
                  <a:pt x="2344" y="500"/>
                  <a:pt x="2233" y="700"/>
                </a:cubicBezTo>
                <a:cubicBezTo>
                  <a:pt x="1395" y="1767"/>
                  <a:pt x="1395" y="3100"/>
                  <a:pt x="1507" y="4300"/>
                </a:cubicBezTo>
                <a:cubicBezTo>
                  <a:pt x="1619" y="5367"/>
                  <a:pt x="3014" y="6400"/>
                  <a:pt x="2958" y="7467"/>
                </a:cubicBezTo>
                <a:cubicBezTo>
                  <a:pt x="2847" y="8033"/>
                  <a:pt x="2344" y="8533"/>
                  <a:pt x="1786" y="8933"/>
                </a:cubicBezTo>
                <a:cubicBezTo>
                  <a:pt x="1395" y="9200"/>
                  <a:pt x="447" y="9200"/>
                  <a:pt x="391" y="9567"/>
                </a:cubicBezTo>
                <a:cubicBezTo>
                  <a:pt x="0" y="10500"/>
                  <a:pt x="1284" y="11400"/>
                  <a:pt x="2121" y="12167"/>
                </a:cubicBezTo>
                <a:cubicBezTo>
                  <a:pt x="2567" y="12600"/>
                  <a:pt x="3963" y="13233"/>
                  <a:pt x="3963" y="13233"/>
                </a:cubicBezTo>
                <a:cubicBezTo>
                  <a:pt x="3963" y="13233"/>
                  <a:pt x="2233" y="13633"/>
                  <a:pt x="1786" y="14100"/>
                </a:cubicBezTo>
                <a:cubicBezTo>
                  <a:pt x="1507" y="14267"/>
                  <a:pt x="1172" y="14700"/>
                  <a:pt x="1284" y="15067"/>
                </a:cubicBezTo>
                <a:cubicBezTo>
                  <a:pt x="1619" y="16167"/>
                  <a:pt x="3181" y="17100"/>
                  <a:pt x="4242" y="18033"/>
                </a:cubicBezTo>
                <a:cubicBezTo>
                  <a:pt x="4688" y="18433"/>
                  <a:pt x="6251" y="19333"/>
                  <a:pt x="6251" y="19333"/>
                </a:cubicBezTo>
                <a:cubicBezTo>
                  <a:pt x="6251" y="19333"/>
                  <a:pt x="5526" y="19833"/>
                  <a:pt x="4800" y="20467"/>
                </a:cubicBezTo>
                <a:cubicBezTo>
                  <a:pt x="5637" y="20667"/>
                  <a:pt x="6586" y="20833"/>
                  <a:pt x="7423" y="21033"/>
                </a:cubicBezTo>
                <a:cubicBezTo>
                  <a:pt x="8372" y="21233"/>
                  <a:pt x="9321" y="21600"/>
                  <a:pt x="10270" y="21467"/>
                </a:cubicBezTo>
                <a:cubicBezTo>
                  <a:pt x="13172" y="20967"/>
                  <a:pt x="16967" y="20833"/>
                  <a:pt x="18642" y="19267"/>
                </a:cubicBezTo>
                <a:cubicBezTo>
                  <a:pt x="20763" y="17300"/>
                  <a:pt x="21600" y="14500"/>
                  <a:pt x="20037" y="12300"/>
                </a:cubicBezTo>
                <a:cubicBezTo>
                  <a:pt x="18642" y="10267"/>
                  <a:pt x="13116" y="10267"/>
                  <a:pt x="11051" y="8367"/>
                </a:cubicBezTo>
                <a:cubicBezTo>
                  <a:pt x="8930" y="6400"/>
                  <a:pt x="8930" y="3800"/>
                  <a:pt x="8093" y="1500"/>
                </a:cubicBezTo>
                <a:cubicBezTo>
                  <a:pt x="7423" y="1133"/>
                  <a:pt x="7088" y="867"/>
                  <a:pt x="6363" y="633"/>
                </a:cubicBezTo>
                <a:cubicBezTo>
                  <a:pt x="5302" y="367"/>
                  <a:pt x="3851" y="0"/>
                  <a:pt x="2847" y="300"/>
                </a:cubicBez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49600" y="3178080"/>
            <a:ext cx="341640" cy="70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600" y="19768"/>
                </a:moveTo>
                <a:cubicBezTo>
                  <a:pt x="3486" y="19684"/>
                  <a:pt x="3371" y="19546"/>
                  <a:pt x="3257" y="19434"/>
                </a:cubicBezTo>
                <a:cubicBezTo>
                  <a:pt x="2914" y="19268"/>
                  <a:pt x="2514" y="19074"/>
                  <a:pt x="2171" y="18907"/>
                </a:cubicBezTo>
                <a:cubicBezTo>
                  <a:pt x="1429" y="18379"/>
                  <a:pt x="686" y="17852"/>
                  <a:pt x="0" y="17324"/>
                </a:cubicBezTo>
                <a:cubicBezTo>
                  <a:pt x="229" y="16852"/>
                  <a:pt x="971" y="16269"/>
                  <a:pt x="1543" y="15797"/>
                </a:cubicBezTo>
                <a:cubicBezTo>
                  <a:pt x="2400" y="15964"/>
                  <a:pt x="3371" y="16103"/>
                  <a:pt x="4229" y="16269"/>
                </a:cubicBezTo>
                <a:cubicBezTo>
                  <a:pt x="5200" y="16436"/>
                  <a:pt x="6171" y="16741"/>
                  <a:pt x="7143" y="16630"/>
                </a:cubicBezTo>
                <a:cubicBezTo>
                  <a:pt x="10114" y="16214"/>
                  <a:pt x="14000" y="16103"/>
                  <a:pt x="15714" y="14798"/>
                </a:cubicBezTo>
                <a:cubicBezTo>
                  <a:pt x="17886" y="13160"/>
                  <a:pt x="18743" y="10828"/>
                  <a:pt x="17143" y="8995"/>
                </a:cubicBezTo>
                <a:cubicBezTo>
                  <a:pt x="15714" y="7302"/>
                  <a:pt x="10057" y="7302"/>
                  <a:pt x="7943" y="5719"/>
                </a:cubicBezTo>
                <a:cubicBezTo>
                  <a:pt x="5771" y="4081"/>
                  <a:pt x="5771" y="1916"/>
                  <a:pt x="4914" y="0"/>
                </a:cubicBezTo>
                <a:cubicBezTo>
                  <a:pt x="5200" y="83"/>
                  <a:pt x="5714" y="278"/>
                  <a:pt x="5886" y="333"/>
                </a:cubicBezTo>
                <a:cubicBezTo>
                  <a:pt x="7143" y="750"/>
                  <a:pt x="9086" y="805"/>
                  <a:pt x="10057" y="1333"/>
                </a:cubicBezTo>
                <a:cubicBezTo>
                  <a:pt x="10971" y="1916"/>
                  <a:pt x="10229" y="2804"/>
                  <a:pt x="10971" y="3443"/>
                </a:cubicBezTo>
                <a:cubicBezTo>
                  <a:pt x="11486" y="3915"/>
                  <a:pt x="12171" y="4303"/>
                  <a:pt x="13029" y="4498"/>
                </a:cubicBezTo>
                <a:cubicBezTo>
                  <a:pt x="13543" y="4609"/>
                  <a:pt x="14114" y="4553"/>
                  <a:pt x="14743" y="4498"/>
                </a:cubicBezTo>
                <a:cubicBezTo>
                  <a:pt x="16171" y="5442"/>
                  <a:pt x="17771" y="6302"/>
                  <a:pt x="18743" y="7441"/>
                </a:cubicBezTo>
                <a:cubicBezTo>
                  <a:pt x="19886" y="8884"/>
                  <a:pt x="20171" y="10495"/>
                  <a:pt x="20400" y="11994"/>
                </a:cubicBezTo>
                <a:cubicBezTo>
                  <a:pt x="20629" y="13438"/>
                  <a:pt x="21600" y="15048"/>
                  <a:pt x="20286" y="16380"/>
                </a:cubicBezTo>
                <a:cubicBezTo>
                  <a:pt x="19086" y="17574"/>
                  <a:pt x="15429" y="17741"/>
                  <a:pt x="13771" y="18796"/>
                </a:cubicBezTo>
                <a:cubicBezTo>
                  <a:pt x="13429" y="19018"/>
                  <a:pt x="15943" y="19018"/>
                  <a:pt x="15429" y="19268"/>
                </a:cubicBezTo>
                <a:cubicBezTo>
                  <a:pt x="13543" y="20267"/>
                  <a:pt x="11200" y="21211"/>
                  <a:pt x="8400" y="21489"/>
                </a:cubicBezTo>
                <a:cubicBezTo>
                  <a:pt x="6971" y="21600"/>
                  <a:pt x="5714" y="20850"/>
                  <a:pt x="4571" y="20323"/>
                </a:cubicBezTo>
                <a:cubicBezTo>
                  <a:pt x="4229" y="20156"/>
                  <a:pt x="4000" y="19962"/>
                  <a:pt x="3600" y="19768"/>
                </a:cubicBez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43480" y="3314880"/>
            <a:ext cx="457200" cy="67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9" y="13659"/>
                </a:moveTo>
                <a:cubicBezTo>
                  <a:pt x="85" y="14439"/>
                  <a:pt x="0" y="15363"/>
                  <a:pt x="339" y="16113"/>
                </a:cubicBezTo>
                <a:cubicBezTo>
                  <a:pt x="849" y="17268"/>
                  <a:pt x="1952" y="18424"/>
                  <a:pt x="3480" y="19174"/>
                </a:cubicBezTo>
                <a:cubicBezTo>
                  <a:pt x="4583" y="19665"/>
                  <a:pt x="6068" y="19810"/>
                  <a:pt x="7299" y="19954"/>
                </a:cubicBezTo>
                <a:cubicBezTo>
                  <a:pt x="8487" y="20070"/>
                  <a:pt x="9760" y="19694"/>
                  <a:pt x="10821" y="19954"/>
                </a:cubicBezTo>
                <a:cubicBezTo>
                  <a:pt x="11882" y="20185"/>
                  <a:pt x="12434" y="21022"/>
                  <a:pt x="13537" y="21282"/>
                </a:cubicBezTo>
                <a:cubicBezTo>
                  <a:pt x="14598" y="21513"/>
                  <a:pt x="16211" y="21600"/>
                  <a:pt x="17399" y="21513"/>
                </a:cubicBezTo>
                <a:cubicBezTo>
                  <a:pt x="18248" y="21456"/>
                  <a:pt x="19181" y="21282"/>
                  <a:pt x="19987" y="20878"/>
                </a:cubicBezTo>
                <a:cubicBezTo>
                  <a:pt x="20751" y="20445"/>
                  <a:pt x="21133" y="19694"/>
                  <a:pt x="21388" y="19030"/>
                </a:cubicBezTo>
                <a:cubicBezTo>
                  <a:pt x="21600" y="18539"/>
                  <a:pt x="21473" y="18048"/>
                  <a:pt x="21345" y="17557"/>
                </a:cubicBezTo>
                <a:cubicBezTo>
                  <a:pt x="21133" y="17037"/>
                  <a:pt x="20497" y="16547"/>
                  <a:pt x="20072" y="15969"/>
                </a:cubicBezTo>
                <a:cubicBezTo>
                  <a:pt x="19775" y="15680"/>
                  <a:pt x="19181" y="15074"/>
                  <a:pt x="19181" y="15074"/>
                </a:cubicBezTo>
                <a:cubicBezTo>
                  <a:pt x="19181" y="15074"/>
                  <a:pt x="19606" y="13052"/>
                  <a:pt x="19775" y="12013"/>
                </a:cubicBezTo>
                <a:cubicBezTo>
                  <a:pt x="19987" y="11031"/>
                  <a:pt x="20624" y="10020"/>
                  <a:pt x="20327" y="9039"/>
                </a:cubicBezTo>
                <a:cubicBezTo>
                  <a:pt x="20115" y="8345"/>
                  <a:pt x="19606" y="7508"/>
                  <a:pt x="18714" y="7075"/>
                </a:cubicBezTo>
                <a:cubicBezTo>
                  <a:pt x="18248" y="6844"/>
                  <a:pt x="16890" y="6786"/>
                  <a:pt x="16890" y="6786"/>
                </a:cubicBezTo>
                <a:cubicBezTo>
                  <a:pt x="16890" y="6786"/>
                  <a:pt x="17484" y="5862"/>
                  <a:pt x="17611" y="5429"/>
                </a:cubicBezTo>
                <a:cubicBezTo>
                  <a:pt x="17823" y="4996"/>
                  <a:pt x="18163" y="4505"/>
                  <a:pt x="17908" y="4158"/>
                </a:cubicBezTo>
                <a:cubicBezTo>
                  <a:pt x="17611" y="3870"/>
                  <a:pt x="16847" y="3870"/>
                  <a:pt x="16550" y="3494"/>
                </a:cubicBezTo>
                <a:cubicBezTo>
                  <a:pt x="16211" y="2945"/>
                  <a:pt x="16847" y="2195"/>
                  <a:pt x="16380" y="1675"/>
                </a:cubicBezTo>
                <a:cubicBezTo>
                  <a:pt x="15744" y="924"/>
                  <a:pt x="14301" y="375"/>
                  <a:pt x="13070" y="116"/>
                </a:cubicBezTo>
                <a:cubicBezTo>
                  <a:pt x="12519" y="0"/>
                  <a:pt x="11882" y="202"/>
                  <a:pt x="11288" y="318"/>
                </a:cubicBezTo>
                <a:cubicBezTo>
                  <a:pt x="12349" y="1299"/>
                  <a:pt x="13537" y="2195"/>
                  <a:pt x="14259" y="3379"/>
                </a:cubicBezTo>
                <a:cubicBezTo>
                  <a:pt x="15107" y="4880"/>
                  <a:pt x="15319" y="6555"/>
                  <a:pt x="15489" y="8114"/>
                </a:cubicBezTo>
                <a:cubicBezTo>
                  <a:pt x="15659" y="9616"/>
                  <a:pt x="16380" y="11291"/>
                  <a:pt x="15404" y="12677"/>
                </a:cubicBezTo>
                <a:cubicBezTo>
                  <a:pt x="14513" y="13919"/>
                  <a:pt x="11797" y="14092"/>
                  <a:pt x="10567" y="15189"/>
                </a:cubicBezTo>
                <a:cubicBezTo>
                  <a:pt x="10312" y="15420"/>
                  <a:pt x="12179" y="15420"/>
                  <a:pt x="11797" y="15680"/>
                </a:cubicBezTo>
                <a:cubicBezTo>
                  <a:pt x="10397" y="16720"/>
                  <a:pt x="8657" y="17702"/>
                  <a:pt x="6578" y="17990"/>
                </a:cubicBezTo>
                <a:cubicBezTo>
                  <a:pt x="5517" y="18106"/>
                  <a:pt x="4583" y="17326"/>
                  <a:pt x="3734" y="16778"/>
                </a:cubicBezTo>
                <a:cubicBezTo>
                  <a:pt x="2504" y="15853"/>
                  <a:pt x="1400" y="14698"/>
                  <a:pt x="339" y="13659"/>
                </a:cubicBezTo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63720" y="3000240"/>
            <a:ext cx="583920" cy="8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249"/>
                </a:moveTo>
                <a:cubicBezTo>
                  <a:pt x="0" y="15635"/>
                  <a:pt x="632" y="15087"/>
                  <a:pt x="1132" y="14583"/>
                </a:cubicBezTo>
                <a:cubicBezTo>
                  <a:pt x="1631" y="14056"/>
                  <a:pt x="2896" y="13749"/>
                  <a:pt x="3162" y="13092"/>
                </a:cubicBezTo>
                <a:cubicBezTo>
                  <a:pt x="3428" y="12390"/>
                  <a:pt x="2030" y="11666"/>
                  <a:pt x="2396" y="10921"/>
                </a:cubicBezTo>
                <a:cubicBezTo>
                  <a:pt x="2762" y="10241"/>
                  <a:pt x="4560" y="10175"/>
                  <a:pt x="5059" y="9429"/>
                </a:cubicBezTo>
                <a:cubicBezTo>
                  <a:pt x="5558" y="8662"/>
                  <a:pt x="4160" y="7653"/>
                  <a:pt x="4726" y="6842"/>
                </a:cubicBezTo>
                <a:cubicBezTo>
                  <a:pt x="5292" y="6052"/>
                  <a:pt x="7588" y="6162"/>
                  <a:pt x="7888" y="5329"/>
                </a:cubicBezTo>
                <a:cubicBezTo>
                  <a:pt x="8088" y="4715"/>
                  <a:pt x="6457" y="4320"/>
                  <a:pt x="6457" y="3662"/>
                </a:cubicBezTo>
                <a:cubicBezTo>
                  <a:pt x="6423" y="2917"/>
                  <a:pt x="7156" y="2127"/>
                  <a:pt x="7988" y="1667"/>
                </a:cubicBezTo>
                <a:cubicBezTo>
                  <a:pt x="8553" y="1360"/>
                  <a:pt x="9452" y="1206"/>
                  <a:pt x="10118" y="1250"/>
                </a:cubicBezTo>
                <a:cubicBezTo>
                  <a:pt x="10850" y="1294"/>
                  <a:pt x="11416" y="2039"/>
                  <a:pt x="12081" y="1908"/>
                </a:cubicBezTo>
                <a:cubicBezTo>
                  <a:pt x="13080" y="1710"/>
                  <a:pt x="12880" y="504"/>
                  <a:pt x="13712" y="0"/>
                </a:cubicBezTo>
                <a:cubicBezTo>
                  <a:pt x="16941" y="1579"/>
                  <a:pt x="19570" y="3377"/>
                  <a:pt x="20535" y="5789"/>
                </a:cubicBezTo>
                <a:cubicBezTo>
                  <a:pt x="21600" y="8421"/>
                  <a:pt x="19104" y="11162"/>
                  <a:pt x="17872" y="13749"/>
                </a:cubicBezTo>
                <a:cubicBezTo>
                  <a:pt x="17207" y="15043"/>
                  <a:pt x="16175" y="16249"/>
                  <a:pt x="14977" y="17302"/>
                </a:cubicBezTo>
                <a:cubicBezTo>
                  <a:pt x="14677" y="17543"/>
                  <a:pt x="14012" y="17280"/>
                  <a:pt x="13712" y="17455"/>
                </a:cubicBezTo>
                <a:cubicBezTo>
                  <a:pt x="12148" y="18464"/>
                  <a:pt x="11016" y="19714"/>
                  <a:pt x="9618" y="20832"/>
                </a:cubicBezTo>
                <a:cubicBezTo>
                  <a:pt x="9352" y="21118"/>
                  <a:pt x="9153" y="21600"/>
                  <a:pt x="8653" y="21578"/>
                </a:cubicBezTo>
                <a:cubicBezTo>
                  <a:pt x="7954" y="21534"/>
                  <a:pt x="7588" y="20876"/>
                  <a:pt x="6889" y="20679"/>
                </a:cubicBezTo>
                <a:cubicBezTo>
                  <a:pt x="6889" y="20679"/>
                  <a:pt x="5059" y="20175"/>
                  <a:pt x="5059" y="20175"/>
                </a:cubicBezTo>
                <a:cubicBezTo>
                  <a:pt x="4926" y="19604"/>
                  <a:pt x="4060" y="19210"/>
                  <a:pt x="3395" y="18881"/>
                </a:cubicBezTo>
                <a:cubicBezTo>
                  <a:pt x="2829" y="18640"/>
                  <a:pt x="2030" y="18574"/>
                  <a:pt x="1531" y="18245"/>
                </a:cubicBezTo>
                <a:cubicBezTo>
                  <a:pt x="799" y="17719"/>
                  <a:pt x="67" y="16973"/>
                  <a:pt x="0" y="16249"/>
                </a:cubicBezTo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63720" y="2971800"/>
            <a:ext cx="928440" cy="101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744"/>
                </a:moveTo>
                <a:cubicBezTo>
                  <a:pt x="0" y="14209"/>
                  <a:pt x="397" y="13732"/>
                  <a:pt x="711" y="13292"/>
                </a:cubicBezTo>
                <a:cubicBezTo>
                  <a:pt x="1025" y="12834"/>
                  <a:pt x="1819" y="12567"/>
                  <a:pt x="1986" y="11994"/>
                </a:cubicBezTo>
                <a:cubicBezTo>
                  <a:pt x="2154" y="11382"/>
                  <a:pt x="1276" y="10752"/>
                  <a:pt x="1506" y="10103"/>
                </a:cubicBezTo>
                <a:cubicBezTo>
                  <a:pt x="1736" y="9511"/>
                  <a:pt x="2865" y="9454"/>
                  <a:pt x="3178" y="8804"/>
                </a:cubicBezTo>
                <a:cubicBezTo>
                  <a:pt x="3492" y="8136"/>
                  <a:pt x="2614" y="7257"/>
                  <a:pt x="2969" y="6551"/>
                </a:cubicBezTo>
                <a:cubicBezTo>
                  <a:pt x="3325" y="5863"/>
                  <a:pt x="4767" y="5959"/>
                  <a:pt x="4956" y="5233"/>
                </a:cubicBezTo>
                <a:cubicBezTo>
                  <a:pt x="5081" y="4698"/>
                  <a:pt x="4057" y="4354"/>
                  <a:pt x="4057" y="3781"/>
                </a:cubicBezTo>
                <a:cubicBezTo>
                  <a:pt x="4036" y="3132"/>
                  <a:pt x="4496" y="2445"/>
                  <a:pt x="5018" y="2044"/>
                </a:cubicBezTo>
                <a:cubicBezTo>
                  <a:pt x="5374" y="1776"/>
                  <a:pt x="5938" y="1642"/>
                  <a:pt x="6357" y="1681"/>
                </a:cubicBezTo>
                <a:cubicBezTo>
                  <a:pt x="6817" y="1719"/>
                  <a:pt x="7172" y="2368"/>
                  <a:pt x="7590" y="2254"/>
                </a:cubicBezTo>
                <a:cubicBezTo>
                  <a:pt x="8218" y="2082"/>
                  <a:pt x="8092" y="1031"/>
                  <a:pt x="8615" y="592"/>
                </a:cubicBezTo>
                <a:cubicBezTo>
                  <a:pt x="8970" y="325"/>
                  <a:pt x="9451" y="0"/>
                  <a:pt x="9932" y="38"/>
                </a:cubicBezTo>
                <a:cubicBezTo>
                  <a:pt x="10706" y="57"/>
                  <a:pt x="11312" y="630"/>
                  <a:pt x="11898" y="1127"/>
                </a:cubicBezTo>
                <a:cubicBezTo>
                  <a:pt x="12295" y="1451"/>
                  <a:pt x="12358" y="2005"/>
                  <a:pt x="12818" y="2292"/>
                </a:cubicBezTo>
                <a:cubicBezTo>
                  <a:pt x="13382" y="2616"/>
                  <a:pt x="14135" y="2578"/>
                  <a:pt x="14804" y="2674"/>
                </a:cubicBezTo>
                <a:cubicBezTo>
                  <a:pt x="14972" y="2731"/>
                  <a:pt x="15285" y="2655"/>
                  <a:pt x="15432" y="2807"/>
                </a:cubicBezTo>
                <a:cubicBezTo>
                  <a:pt x="15682" y="3132"/>
                  <a:pt x="15473" y="3648"/>
                  <a:pt x="15494" y="4068"/>
                </a:cubicBezTo>
                <a:cubicBezTo>
                  <a:pt x="15599" y="4679"/>
                  <a:pt x="15369" y="5481"/>
                  <a:pt x="15892" y="5863"/>
                </a:cubicBezTo>
                <a:cubicBezTo>
                  <a:pt x="16435" y="6321"/>
                  <a:pt x="17585" y="6474"/>
                  <a:pt x="18296" y="6512"/>
                </a:cubicBezTo>
                <a:cubicBezTo>
                  <a:pt x="18735" y="6551"/>
                  <a:pt x="19028" y="5959"/>
                  <a:pt x="19572" y="5863"/>
                </a:cubicBezTo>
                <a:cubicBezTo>
                  <a:pt x="20094" y="5806"/>
                  <a:pt x="20617" y="6150"/>
                  <a:pt x="21035" y="6474"/>
                </a:cubicBezTo>
                <a:cubicBezTo>
                  <a:pt x="21475" y="6837"/>
                  <a:pt x="21600" y="7448"/>
                  <a:pt x="21600" y="7926"/>
                </a:cubicBezTo>
                <a:cubicBezTo>
                  <a:pt x="21600" y="8327"/>
                  <a:pt x="21516" y="8938"/>
                  <a:pt x="21328" y="9339"/>
                </a:cubicBezTo>
                <a:cubicBezTo>
                  <a:pt x="21119" y="9836"/>
                  <a:pt x="20366" y="10027"/>
                  <a:pt x="20366" y="10389"/>
                </a:cubicBezTo>
                <a:cubicBezTo>
                  <a:pt x="20366" y="10752"/>
                  <a:pt x="20805" y="10962"/>
                  <a:pt x="20931" y="11382"/>
                </a:cubicBezTo>
                <a:cubicBezTo>
                  <a:pt x="21119" y="12032"/>
                  <a:pt x="20722" y="12738"/>
                  <a:pt x="20157" y="13216"/>
                </a:cubicBezTo>
                <a:cubicBezTo>
                  <a:pt x="19655" y="13617"/>
                  <a:pt x="18735" y="13770"/>
                  <a:pt x="18505" y="14343"/>
                </a:cubicBezTo>
                <a:cubicBezTo>
                  <a:pt x="18254" y="15030"/>
                  <a:pt x="19028" y="15737"/>
                  <a:pt x="19133" y="16596"/>
                </a:cubicBezTo>
                <a:cubicBezTo>
                  <a:pt x="19216" y="17284"/>
                  <a:pt x="18777" y="17971"/>
                  <a:pt x="18422" y="18563"/>
                </a:cubicBezTo>
                <a:cubicBezTo>
                  <a:pt x="18213" y="18926"/>
                  <a:pt x="17857" y="19346"/>
                  <a:pt x="17439" y="19537"/>
                </a:cubicBezTo>
                <a:cubicBezTo>
                  <a:pt x="16770" y="19862"/>
                  <a:pt x="15954" y="19977"/>
                  <a:pt x="15181" y="19824"/>
                </a:cubicBezTo>
                <a:cubicBezTo>
                  <a:pt x="14658" y="19690"/>
                  <a:pt x="14365" y="18773"/>
                  <a:pt x="13842" y="18888"/>
                </a:cubicBezTo>
                <a:cubicBezTo>
                  <a:pt x="13299" y="19022"/>
                  <a:pt x="13424" y="19824"/>
                  <a:pt x="13131" y="20225"/>
                </a:cubicBezTo>
                <a:cubicBezTo>
                  <a:pt x="12860" y="20588"/>
                  <a:pt x="12609" y="21084"/>
                  <a:pt x="12149" y="21180"/>
                </a:cubicBezTo>
                <a:cubicBezTo>
                  <a:pt x="11480" y="21409"/>
                  <a:pt x="10810" y="20550"/>
                  <a:pt x="10100" y="20626"/>
                </a:cubicBezTo>
                <a:cubicBezTo>
                  <a:pt x="9535" y="20702"/>
                  <a:pt x="9179" y="21505"/>
                  <a:pt x="8573" y="21562"/>
                </a:cubicBezTo>
                <a:cubicBezTo>
                  <a:pt x="8218" y="21600"/>
                  <a:pt x="7862" y="21352"/>
                  <a:pt x="7548" y="21142"/>
                </a:cubicBezTo>
                <a:cubicBezTo>
                  <a:pt x="7235" y="20951"/>
                  <a:pt x="7172" y="20435"/>
                  <a:pt x="6754" y="20340"/>
                </a:cubicBezTo>
                <a:cubicBezTo>
                  <a:pt x="6315" y="20282"/>
                  <a:pt x="5959" y="20836"/>
                  <a:pt x="5520" y="20855"/>
                </a:cubicBezTo>
                <a:cubicBezTo>
                  <a:pt x="5081" y="20912"/>
                  <a:pt x="4558" y="20626"/>
                  <a:pt x="4140" y="20435"/>
                </a:cubicBezTo>
                <a:cubicBezTo>
                  <a:pt x="3617" y="20149"/>
                  <a:pt x="2865" y="19824"/>
                  <a:pt x="2697" y="19251"/>
                </a:cubicBezTo>
                <a:cubicBezTo>
                  <a:pt x="2614" y="18888"/>
                  <a:pt x="3262" y="18563"/>
                  <a:pt x="3178" y="18162"/>
                </a:cubicBezTo>
                <a:cubicBezTo>
                  <a:pt x="3095" y="17666"/>
                  <a:pt x="2551" y="17322"/>
                  <a:pt x="2133" y="17036"/>
                </a:cubicBezTo>
                <a:cubicBezTo>
                  <a:pt x="1777" y="16825"/>
                  <a:pt x="1276" y="16768"/>
                  <a:pt x="962" y="16482"/>
                </a:cubicBezTo>
                <a:cubicBezTo>
                  <a:pt x="502" y="16023"/>
                  <a:pt x="42" y="15374"/>
                  <a:pt x="0" y="14744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7400" y="3138480"/>
            <a:ext cx="503280" cy="84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67" y="206"/>
                </a:moveTo>
                <a:cubicBezTo>
                  <a:pt x="1774" y="252"/>
                  <a:pt x="1620" y="343"/>
                  <a:pt x="1543" y="481"/>
                </a:cubicBezTo>
                <a:cubicBezTo>
                  <a:pt x="964" y="1213"/>
                  <a:pt x="964" y="2128"/>
                  <a:pt x="1041" y="2952"/>
                </a:cubicBezTo>
                <a:cubicBezTo>
                  <a:pt x="1119" y="3684"/>
                  <a:pt x="2083" y="4393"/>
                  <a:pt x="2044" y="5125"/>
                </a:cubicBezTo>
                <a:cubicBezTo>
                  <a:pt x="1967" y="5514"/>
                  <a:pt x="1620" y="5858"/>
                  <a:pt x="1234" y="6132"/>
                </a:cubicBezTo>
                <a:cubicBezTo>
                  <a:pt x="964" y="6315"/>
                  <a:pt x="309" y="6315"/>
                  <a:pt x="270" y="6567"/>
                </a:cubicBezTo>
                <a:cubicBezTo>
                  <a:pt x="0" y="7208"/>
                  <a:pt x="887" y="7825"/>
                  <a:pt x="1466" y="8352"/>
                </a:cubicBezTo>
                <a:cubicBezTo>
                  <a:pt x="1774" y="8649"/>
                  <a:pt x="2739" y="9084"/>
                  <a:pt x="2739" y="9084"/>
                </a:cubicBezTo>
                <a:cubicBezTo>
                  <a:pt x="2739" y="9084"/>
                  <a:pt x="1543" y="9358"/>
                  <a:pt x="1234" y="9679"/>
                </a:cubicBezTo>
                <a:cubicBezTo>
                  <a:pt x="1041" y="9793"/>
                  <a:pt x="810" y="10091"/>
                  <a:pt x="887" y="10342"/>
                </a:cubicBezTo>
                <a:cubicBezTo>
                  <a:pt x="1119" y="11097"/>
                  <a:pt x="2199" y="11738"/>
                  <a:pt x="2931" y="12379"/>
                </a:cubicBezTo>
                <a:cubicBezTo>
                  <a:pt x="3240" y="12653"/>
                  <a:pt x="4320" y="13271"/>
                  <a:pt x="4320" y="13271"/>
                </a:cubicBezTo>
                <a:cubicBezTo>
                  <a:pt x="4320" y="13271"/>
                  <a:pt x="2623" y="14530"/>
                  <a:pt x="2276" y="15308"/>
                </a:cubicBezTo>
                <a:cubicBezTo>
                  <a:pt x="2044" y="15925"/>
                  <a:pt x="1967" y="16658"/>
                  <a:pt x="2276" y="17253"/>
                </a:cubicBezTo>
                <a:cubicBezTo>
                  <a:pt x="2739" y="18168"/>
                  <a:pt x="3741" y="19083"/>
                  <a:pt x="5130" y="19678"/>
                </a:cubicBezTo>
                <a:cubicBezTo>
                  <a:pt x="6133" y="20067"/>
                  <a:pt x="7483" y="20181"/>
                  <a:pt x="8601" y="20296"/>
                </a:cubicBezTo>
                <a:cubicBezTo>
                  <a:pt x="9681" y="20387"/>
                  <a:pt x="10839" y="20090"/>
                  <a:pt x="11803" y="20296"/>
                </a:cubicBezTo>
                <a:cubicBezTo>
                  <a:pt x="12767" y="20479"/>
                  <a:pt x="13269" y="21142"/>
                  <a:pt x="14271" y="21348"/>
                </a:cubicBezTo>
                <a:cubicBezTo>
                  <a:pt x="15236" y="21531"/>
                  <a:pt x="16701" y="21600"/>
                  <a:pt x="17781" y="21531"/>
                </a:cubicBezTo>
                <a:cubicBezTo>
                  <a:pt x="18553" y="21486"/>
                  <a:pt x="19401" y="21348"/>
                  <a:pt x="20134" y="21028"/>
                </a:cubicBezTo>
                <a:cubicBezTo>
                  <a:pt x="20829" y="20685"/>
                  <a:pt x="21176" y="20090"/>
                  <a:pt x="21407" y="19564"/>
                </a:cubicBezTo>
                <a:cubicBezTo>
                  <a:pt x="21600" y="19175"/>
                  <a:pt x="21484" y="18786"/>
                  <a:pt x="21369" y="18397"/>
                </a:cubicBezTo>
                <a:cubicBezTo>
                  <a:pt x="21176" y="17985"/>
                  <a:pt x="20597" y="17596"/>
                  <a:pt x="20211" y="17138"/>
                </a:cubicBezTo>
                <a:cubicBezTo>
                  <a:pt x="19941" y="16909"/>
                  <a:pt x="19401" y="16429"/>
                  <a:pt x="19401" y="16429"/>
                </a:cubicBezTo>
                <a:cubicBezTo>
                  <a:pt x="19401" y="16429"/>
                  <a:pt x="19787" y="14827"/>
                  <a:pt x="19941" y="14003"/>
                </a:cubicBezTo>
                <a:cubicBezTo>
                  <a:pt x="20134" y="13225"/>
                  <a:pt x="20713" y="12425"/>
                  <a:pt x="20443" y="11647"/>
                </a:cubicBezTo>
                <a:cubicBezTo>
                  <a:pt x="20250" y="11097"/>
                  <a:pt x="19787" y="10434"/>
                  <a:pt x="18977" y="10091"/>
                </a:cubicBezTo>
                <a:cubicBezTo>
                  <a:pt x="18553" y="9908"/>
                  <a:pt x="17319" y="9862"/>
                  <a:pt x="17319" y="9862"/>
                </a:cubicBezTo>
                <a:cubicBezTo>
                  <a:pt x="17319" y="9862"/>
                  <a:pt x="17859" y="9130"/>
                  <a:pt x="17974" y="8786"/>
                </a:cubicBezTo>
                <a:cubicBezTo>
                  <a:pt x="18167" y="8443"/>
                  <a:pt x="18476" y="8054"/>
                  <a:pt x="18244" y="7780"/>
                </a:cubicBezTo>
                <a:cubicBezTo>
                  <a:pt x="17974" y="7551"/>
                  <a:pt x="17280" y="7551"/>
                  <a:pt x="17010" y="7253"/>
                </a:cubicBezTo>
                <a:cubicBezTo>
                  <a:pt x="16701" y="6819"/>
                  <a:pt x="17280" y="6224"/>
                  <a:pt x="16856" y="5812"/>
                </a:cubicBezTo>
                <a:cubicBezTo>
                  <a:pt x="16277" y="5217"/>
                  <a:pt x="14966" y="4782"/>
                  <a:pt x="13847" y="4576"/>
                </a:cubicBezTo>
                <a:cubicBezTo>
                  <a:pt x="12960" y="4462"/>
                  <a:pt x="11919" y="4919"/>
                  <a:pt x="11070" y="4736"/>
                </a:cubicBezTo>
                <a:cubicBezTo>
                  <a:pt x="10491" y="4576"/>
                  <a:pt x="10029" y="4256"/>
                  <a:pt x="9681" y="3867"/>
                </a:cubicBezTo>
                <a:cubicBezTo>
                  <a:pt x="9180" y="3341"/>
                  <a:pt x="9681" y="2608"/>
                  <a:pt x="9064" y="2128"/>
                </a:cubicBezTo>
                <a:cubicBezTo>
                  <a:pt x="8409" y="1693"/>
                  <a:pt x="7097" y="1647"/>
                  <a:pt x="6249" y="1304"/>
                </a:cubicBezTo>
                <a:cubicBezTo>
                  <a:pt x="5593" y="1053"/>
                  <a:pt x="5130" y="641"/>
                  <a:pt x="4397" y="435"/>
                </a:cubicBezTo>
                <a:cubicBezTo>
                  <a:pt x="3664" y="252"/>
                  <a:pt x="2661" y="0"/>
                  <a:pt x="1967" y="206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29080" y="2957400"/>
            <a:ext cx="484200" cy="62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60" y="14650"/>
                </a:moveTo>
                <a:cubicBezTo>
                  <a:pt x="21480" y="13210"/>
                  <a:pt x="19753" y="11896"/>
                  <a:pt x="18228" y="10957"/>
                </a:cubicBezTo>
                <a:cubicBezTo>
                  <a:pt x="17545" y="10518"/>
                  <a:pt x="16180" y="10612"/>
                  <a:pt x="15698" y="10017"/>
                </a:cubicBezTo>
                <a:cubicBezTo>
                  <a:pt x="14935" y="9172"/>
                  <a:pt x="15377" y="7920"/>
                  <a:pt x="15457" y="6856"/>
                </a:cubicBezTo>
                <a:cubicBezTo>
                  <a:pt x="15497" y="6136"/>
                  <a:pt x="16662" y="5228"/>
                  <a:pt x="16059" y="4602"/>
                </a:cubicBezTo>
                <a:cubicBezTo>
                  <a:pt x="15497" y="4070"/>
                  <a:pt x="14092" y="4821"/>
                  <a:pt x="13329" y="4351"/>
                </a:cubicBezTo>
                <a:cubicBezTo>
                  <a:pt x="12406" y="3757"/>
                  <a:pt x="13008" y="2223"/>
                  <a:pt x="12125" y="1440"/>
                </a:cubicBezTo>
                <a:cubicBezTo>
                  <a:pt x="11362" y="720"/>
                  <a:pt x="10278" y="94"/>
                  <a:pt x="9074" y="63"/>
                </a:cubicBezTo>
                <a:cubicBezTo>
                  <a:pt x="7789" y="0"/>
                  <a:pt x="6544" y="470"/>
                  <a:pt x="5541" y="1033"/>
                </a:cubicBezTo>
                <a:cubicBezTo>
                  <a:pt x="4738" y="1503"/>
                  <a:pt x="4175" y="2223"/>
                  <a:pt x="3854" y="2943"/>
                </a:cubicBezTo>
                <a:cubicBezTo>
                  <a:pt x="3372" y="3882"/>
                  <a:pt x="4175" y="5134"/>
                  <a:pt x="3292" y="5917"/>
                </a:cubicBezTo>
                <a:cubicBezTo>
                  <a:pt x="2690" y="6449"/>
                  <a:pt x="1526" y="6386"/>
                  <a:pt x="602" y="6543"/>
                </a:cubicBezTo>
                <a:cubicBezTo>
                  <a:pt x="602" y="6543"/>
                  <a:pt x="0" y="11896"/>
                  <a:pt x="0" y="11896"/>
                </a:cubicBezTo>
                <a:cubicBezTo>
                  <a:pt x="0" y="11896"/>
                  <a:pt x="1084" y="15527"/>
                  <a:pt x="1084" y="15527"/>
                </a:cubicBezTo>
                <a:cubicBezTo>
                  <a:pt x="1686" y="17562"/>
                  <a:pt x="3654" y="19534"/>
                  <a:pt x="6022" y="20598"/>
                </a:cubicBezTo>
                <a:cubicBezTo>
                  <a:pt x="8230" y="21600"/>
                  <a:pt x="11121" y="21256"/>
                  <a:pt x="13651" y="21130"/>
                </a:cubicBezTo>
                <a:cubicBezTo>
                  <a:pt x="14614" y="21068"/>
                  <a:pt x="15457" y="20974"/>
                  <a:pt x="16300" y="20880"/>
                </a:cubicBezTo>
                <a:cubicBezTo>
                  <a:pt x="16300" y="20536"/>
                  <a:pt x="15457" y="20536"/>
                  <a:pt x="15457" y="20129"/>
                </a:cubicBezTo>
                <a:cubicBezTo>
                  <a:pt x="15377" y="19534"/>
                  <a:pt x="16300" y="19064"/>
                  <a:pt x="16862" y="18595"/>
                </a:cubicBezTo>
                <a:cubicBezTo>
                  <a:pt x="17665" y="18094"/>
                  <a:pt x="18830" y="18031"/>
                  <a:pt x="19593" y="17437"/>
                </a:cubicBezTo>
                <a:cubicBezTo>
                  <a:pt x="20516" y="16685"/>
                  <a:pt x="21600" y="15715"/>
                  <a:pt x="21560" y="14650"/>
                </a:cubicBezTo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68960" y="3146400"/>
            <a:ext cx="426960" cy="6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691" y="0"/>
                </a:moveTo>
                <a:cubicBezTo>
                  <a:pt x="2597" y="120"/>
                  <a:pt x="1549" y="120"/>
                  <a:pt x="501" y="240"/>
                </a:cubicBezTo>
                <a:cubicBezTo>
                  <a:pt x="137" y="1768"/>
                  <a:pt x="0" y="3206"/>
                  <a:pt x="228" y="4703"/>
                </a:cubicBezTo>
                <a:cubicBezTo>
                  <a:pt x="684" y="8149"/>
                  <a:pt x="2552" y="11384"/>
                  <a:pt x="3372" y="14710"/>
                </a:cubicBezTo>
                <a:cubicBezTo>
                  <a:pt x="3873" y="16687"/>
                  <a:pt x="2689" y="19024"/>
                  <a:pt x="4466" y="20641"/>
                </a:cubicBezTo>
                <a:cubicBezTo>
                  <a:pt x="5514" y="21600"/>
                  <a:pt x="8111" y="20641"/>
                  <a:pt x="9934" y="20641"/>
                </a:cubicBezTo>
                <a:cubicBezTo>
                  <a:pt x="10208" y="20641"/>
                  <a:pt x="10527" y="20641"/>
                  <a:pt x="10846" y="20581"/>
                </a:cubicBezTo>
                <a:cubicBezTo>
                  <a:pt x="11848" y="20492"/>
                  <a:pt x="12987" y="20551"/>
                  <a:pt x="13899" y="20132"/>
                </a:cubicBezTo>
                <a:cubicBezTo>
                  <a:pt x="15311" y="19593"/>
                  <a:pt x="16223" y="18574"/>
                  <a:pt x="17544" y="17945"/>
                </a:cubicBezTo>
                <a:cubicBezTo>
                  <a:pt x="18501" y="17496"/>
                  <a:pt x="19595" y="17046"/>
                  <a:pt x="20597" y="16687"/>
                </a:cubicBezTo>
                <a:cubicBezTo>
                  <a:pt x="20552" y="16028"/>
                  <a:pt x="20051" y="15279"/>
                  <a:pt x="20461" y="14680"/>
                </a:cubicBezTo>
                <a:cubicBezTo>
                  <a:pt x="20597" y="14320"/>
                  <a:pt x="21600" y="14200"/>
                  <a:pt x="21600" y="13811"/>
                </a:cubicBezTo>
                <a:cubicBezTo>
                  <a:pt x="21600" y="13811"/>
                  <a:pt x="18501" y="13961"/>
                  <a:pt x="18501" y="13961"/>
                </a:cubicBezTo>
                <a:cubicBezTo>
                  <a:pt x="15630" y="14080"/>
                  <a:pt x="12349" y="14410"/>
                  <a:pt x="9843" y="13451"/>
                </a:cubicBezTo>
                <a:cubicBezTo>
                  <a:pt x="7154" y="12433"/>
                  <a:pt x="4922" y="10545"/>
                  <a:pt x="4238" y="8598"/>
                </a:cubicBezTo>
                <a:cubicBezTo>
                  <a:pt x="3281" y="5812"/>
                  <a:pt x="3372" y="2876"/>
                  <a:pt x="3691" y="0"/>
                </a:cubicBezTo>
              </a:path>
            </a:pathLst>
          </a:custGeom>
          <a:solidFill>
            <a:srgbClr val="669900"/>
          </a:solidFill>
          <a:ln w="3600">
            <a:solidFill>
              <a:srgbClr val="669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78440" y="2957400"/>
            <a:ext cx="834840" cy="101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77" y="8938"/>
                </a:moveTo>
                <a:cubicBezTo>
                  <a:pt x="21530" y="8059"/>
                  <a:pt x="20529" y="7257"/>
                  <a:pt x="19645" y="6684"/>
                </a:cubicBezTo>
                <a:cubicBezTo>
                  <a:pt x="19249" y="6417"/>
                  <a:pt x="18458" y="6474"/>
                  <a:pt x="18178" y="6111"/>
                </a:cubicBezTo>
                <a:cubicBezTo>
                  <a:pt x="17736" y="5596"/>
                  <a:pt x="17992" y="4832"/>
                  <a:pt x="18039" y="4182"/>
                </a:cubicBezTo>
                <a:cubicBezTo>
                  <a:pt x="18062" y="3743"/>
                  <a:pt x="18737" y="3189"/>
                  <a:pt x="18388" y="2807"/>
                </a:cubicBezTo>
                <a:cubicBezTo>
                  <a:pt x="18062" y="2483"/>
                  <a:pt x="17247" y="2941"/>
                  <a:pt x="16805" y="2655"/>
                </a:cubicBezTo>
                <a:cubicBezTo>
                  <a:pt x="16270" y="2292"/>
                  <a:pt x="16619" y="1356"/>
                  <a:pt x="16107" y="879"/>
                </a:cubicBezTo>
                <a:cubicBezTo>
                  <a:pt x="15665" y="439"/>
                  <a:pt x="15036" y="57"/>
                  <a:pt x="14338" y="38"/>
                </a:cubicBezTo>
                <a:cubicBezTo>
                  <a:pt x="13593" y="0"/>
                  <a:pt x="12872" y="286"/>
                  <a:pt x="12290" y="630"/>
                </a:cubicBezTo>
                <a:cubicBezTo>
                  <a:pt x="11824" y="917"/>
                  <a:pt x="11498" y="1356"/>
                  <a:pt x="11312" y="1795"/>
                </a:cubicBezTo>
                <a:cubicBezTo>
                  <a:pt x="11033" y="2368"/>
                  <a:pt x="11498" y="3132"/>
                  <a:pt x="10986" y="3610"/>
                </a:cubicBezTo>
                <a:cubicBezTo>
                  <a:pt x="10637" y="3934"/>
                  <a:pt x="9962" y="3896"/>
                  <a:pt x="9427" y="3992"/>
                </a:cubicBezTo>
                <a:cubicBezTo>
                  <a:pt x="8868" y="4068"/>
                  <a:pt x="8333" y="4068"/>
                  <a:pt x="7797" y="4144"/>
                </a:cubicBezTo>
                <a:cubicBezTo>
                  <a:pt x="7355" y="4221"/>
                  <a:pt x="6727" y="4259"/>
                  <a:pt x="6378" y="4584"/>
                </a:cubicBezTo>
                <a:cubicBezTo>
                  <a:pt x="6028" y="4908"/>
                  <a:pt x="5935" y="5386"/>
                  <a:pt x="5889" y="5806"/>
                </a:cubicBezTo>
                <a:cubicBezTo>
                  <a:pt x="5842" y="6360"/>
                  <a:pt x="6634" y="7085"/>
                  <a:pt x="6168" y="7563"/>
                </a:cubicBezTo>
                <a:cubicBezTo>
                  <a:pt x="5772" y="8021"/>
                  <a:pt x="4911" y="7735"/>
                  <a:pt x="4259" y="7888"/>
                </a:cubicBezTo>
                <a:cubicBezTo>
                  <a:pt x="3375" y="8136"/>
                  <a:pt x="2234" y="8250"/>
                  <a:pt x="1490" y="8823"/>
                </a:cubicBezTo>
                <a:cubicBezTo>
                  <a:pt x="908" y="9263"/>
                  <a:pt x="466" y="9893"/>
                  <a:pt x="279" y="10542"/>
                </a:cubicBezTo>
                <a:cubicBezTo>
                  <a:pt x="23" y="11344"/>
                  <a:pt x="0" y="12280"/>
                  <a:pt x="233" y="13082"/>
                </a:cubicBezTo>
                <a:cubicBezTo>
                  <a:pt x="372" y="13579"/>
                  <a:pt x="768" y="13980"/>
                  <a:pt x="1094" y="14419"/>
                </a:cubicBezTo>
                <a:cubicBezTo>
                  <a:pt x="1373" y="14744"/>
                  <a:pt x="2095" y="15030"/>
                  <a:pt x="2048" y="15431"/>
                </a:cubicBezTo>
                <a:cubicBezTo>
                  <a:pt x="2002" y="15947"/>
                  <a:pt x="1164" y="16157"/>
                  <a:pt x="1094" y="16634"/>
                </a:cubicBezTo>
                <a:cubicBezTo>
                  <a:pt x="1071" y="16883"/>
                  <a:pt x="1257" y="17207"/>
                  <a:pt x="1443" y="17437"/>
                </a:cubicBezTo>
                <a:cubicBezTo>
                  <a:pt x="1699" y="17761"/>
                  <a:pt x="2141" y="18010"/>
                  <a:pt x="2537" y="18181"/>
                </a:cubicBezTo>
                <a:cubicBezTo>
                  <a:pt x="3026" y="18334"/>
                  <a:pt x="3771" y="18010"/>
                  <a:pt x="4259" y="18277"/>
                </a:cubicBezTo>
                <a:cubicBezTo>
                  <a:pt x="4748" y="18563"/>
                  <a:pt x="4748" y="19213"/>
                  <a:pt x="5051" y="19690"/>
                </a:cubicBezTo>
                <a:cubicBezTo>
                  <a:pt x="5377" y="20263"/>
                  <a:pt x="5842" y="20836"/>
                  <a:pt x="6471" y="21199"/>
                </a:cubicBezTo>
                <a:cubicBezTo>
                  <a:pt x="6913" y="21466"/>
                  <a:pt x="7541" y="21600"/>
                  <a:pt x="8147" y="21524"/>
                </a:cubicBezTo>
                <a:cubicBezTo>
                  <a:pt x="9031" y="21428"/>
                  <a:pt x="9706" y="20836"/>
                  <a:pt x="10614" y="20760"/>
                </a:cubicBezTo>
                <a:cubicBezTo>
                  <a:pt x="11149" y="20721"/>
                  <a:pt x="11731" y="21046"/>
                  <a:pt x="12336" y="21142"/>
                </a:cubicBezTo>
                <a:cubicBezTo>
                  <a:pt x="12965" y="21275"/>
                  <a:pt x="13593" y="21600"/>
                  <a:pt x="14175" y="21524"/>
                </a:cubicBezTo>
                <a:cubicBezTo>
                  <a:pt x="14641" y="21466"/>
                  <a:pt x="15176" y="21199"/>
                  <a:pt x="15432" y="20836"/>
                </a:cubicBezTo>
                <a:cubicBezTo>
                  <a:pt x="15711" y="20397"/>
                  <a:pt x="15711" y="19747"/>
                  <a:pt x="15665" y="19213"/>
                </a:cubicBezTo>
                <a:cubicBezTo>
                  <a:pt x="15618" y="18659"/>
                  <a:pt x="14966" y="17647"/>
                  <a:pt x="14966" y="17647"/>
                </a:cubicBezTo>
                <a:cubicBezTo>
                  <a:pt x="14966" y="17647"/>
                  <a:pt x="16153" y="17437"/>
                  <a:pt x="16619" y="17150"/>
                </a:cubicBezTo>
                <a:cubicBezTo>
                  <a:pt x="16968" y="16959"/>
                  <a:pt x="17201" y="16596"/>
                  <a:pt x="17434" y="16233"/>
                </a:cubicBezTo>
                <a:cubicBezTo>
                  <a:pt x="17736" y="15832"/>
                  <a:pt x="17946" y="15317"/>
                  <a:pt x="18039" y="14820"/>
                </a:cubicBezTo>
                <a:cubicBezTo>
                  <a:pt x="18062" y="14343"/>
                  <a:pt x="17736" y="13770"/>
                  <a:pt x="17992" y="13350"/>
                </a:cubicBezTo>
                <a:cubicBezTo>
                  <a:pt x="18062" y="13120"/>
                  <a:pt x="18574" y="13044"/>
                  <a:pt x="18574" y="12796"/>
                </a:cubicBezTo>
                <a:cubicBezTo>
                  <a:pt x="18574" y="12605"/>
                  <a:pt x="18039" y="12528"/>
                  <a:pt x="18039" y="12280"/>
                </a:cubicBezTo>
                <a:cubicBezTo>
                  <a:pt x="17992" y="11917"/>
                  <a:pt x="18528" y="11631"/>
                  <a:pt x="18853" y="11344"/>
                </a:cubicBezTo>
                <a:cubicBezTo>
                  <a:pt x="19319" y="11039"/>
                  <a:pt x="19994" y="11001"/>
                  <a:pt x="20436" y="10638"/>
                </a:cubicBezTo>
                <a:cubicBezTo>
                  <a:pt x="20972" y="10179"/>
                  <a:pt x="21600" y="9587"/>
                  <a:pt x="21577" y="8938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4280" y="1558800"/>
            <a:ext cx="303480" cy="3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45" y="3805"/>
                </a:moveTo>
                <a:cubicBezTo>
                  <a:pt x="2045" y="3805"/>
                  <a:pt x="8372" y="6439"/>
                  <a:pt x="8372" y="6439"/>
                </a:cubicBezTo>
                <a:cubicBezTo>
                  <a:pt x="8372" y="6439"/>
                  <a:pt x="14123" y="0"/>
                  <a:pt x="14123" y="0"/>
                </a:cubicBezTo>
                <a:cubicBezTo>
                  <a:pt x="14123" y="0"/>
                  <a:pt x="14698" y="9015"/>
                  <a:pt x="14698" y="9015"/>
                </a:cubicBezTo>
                <a:cubicBezTo>
                  <a:pt x="14698" y="9015"/>
                  <a:pt x="21600" y="10537"/>
                  <a:pt x="21600" y="10537"/>
                </a:cubicBezTo>
                <a:cubicBezTo>
                  <a:pt x="21600" y="10537"/>
                  <a:pt x="14570" y="14166"/>
                  <a:pt x="14570" y="14166"/>
                </a:cubicBezTo>
                <a:cubicBezTo>
                  <a:pt x="14570" y="14166"/>
                  <a:pt x="12270" y="21600"/>
                  <a:pt x="12270" y="21600"/>
                </a:cubicBezTo>
                <a:cubicBezTo>
                  <a:pt x="12270" y="21600"/>
                  <a:pt x="9586" y="15688"/>
                  <a:pt x="6774" y="14576"/>
                </a:cubicBezTo>
                <a:cubicBezTo>
                  <a:pt x="5176" y="13698"/>
                  <a:pt x="0" y="14693"/>
                  <a:pt x="0" y="14693"/>
                </a:cubicBezTo>
                <a:cubicBezTo>
                  <a:pt x="0" y="14693"/>
                  <a:pt x="4601" y="9132"/>
                  <a:pt x="4601" y="9132"/>
                </a:cubicBezTo>
                <a:cubicBezTo>
                  <a:pt x="4601" y="9132"/>
                  <a:pt x="2045" y="3805"/>
                  <a:pt x="2045" y="3805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4320" y="1273320"/>
            <a:ext cx="141480" cy="136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77" y="6866"/>
                </a:moveTo>
                <a:cubicBezTo>
                  <a:pt x="21600" y="12302"/>
                  <a:pt x="18415" y="17738"/>
                  <a:pt x="13431" y="19740"/>
                </a:cubicBezTo>
                <a:cubicBezTo>
                  <a:pt x="8446" y="21600"/>
                  <a:pt x="2908" y="19454"/>
                  <a:pt x="1108" y="14448"/>
                </a:cubicBezTo>
                <a:cubicBezTo>
                  <a:pt x="0" y="9584"/>
                  <a:pt x="2908" y="4148"/>
                  <a:pt x="8446" y="1717"/>
                </a:cubicBezTo>
                <a:cubicBezTo>
                  <a:pt x="13015" y="0"/>
                  <a:pt x="18415" y="2146"/>
                  <a:pt x="20077" y="6866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44840" y="1295280"/>
            <a:ext cx="314280" cy="35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81" y="5169"/>
                </a:moveTo>
                <a:cubicBezTo>
                  <a:pt x="681" y="5169"/>
                  <a:pt x="7674" y="6964"/>
                  <a:pt x="7674" y="6964"/>
                </a:cubicBezTo>
                <a:cubicBezTo>
                  <a:pt x="7674" y="6964"/>
                  <a:pt x="12564" y="0"/>
                  <a:pt x="12564" y="0"/>
                </a:cubicBezTo>
                <a:cubicBezTo>
                  <a:pt x="12564" y="0"/>
                  <a:pt x="14235" y="8923"/>
                  <a:pt x="14235" y="8923"/>
                </a:cubicBezTo>
                <a:cubicBezTo>
                  <a:pt x="14235" y="8923"/>
                  <a:pt x="21600" y="9521"/>
                  <a:pt x="21600" y="9521"/>
                </a:cubicBezTo>
                <a:cubicBezTo>
                  <a:pt x="21600" y="9521"/>
                  <a:pt x="14916" y="13765"/>
                  <a:pt x="14916" y="13765"/>
                </a:cubicBezTo>
                <a:cubicBezTo>
                  <a:pt x="14916" y="13765"/>
                  <a:pt x="13740" y="21600"/>
                  <a:pt x="13740" y="21600"/>
                </a:cubicBezTo>
                <a:cubicBezTo>
                  <a:pt x="13740" y="21600"/>
                  <a:pt x="10088" y="15942"/>
                  <a:pt x="7056" y="15125"/>
                </a:cubicBezTo>
                <a:cubicBezTo>
                  <a:pt x="5075" y="14418"/>
                  <a:pt x="0" y="16050"/>
                  <a:pt x="0" y="16050"/>
                </a:cubicBezTo>
                <a:cubicBezTo>
                  <a:pt x="0" y="16050"/>
                  <a:pt x="4147" y="10120"/>
                  <a:pt x="4147" y="10120"/>
                </a:cubicBezTo>
                <a:cubicBezTo>
                  <a:pt x="4147" y="10120"/>
                  <a:pt x="681" y="5169"/>
                  <a:pt x="681" y="5169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8600" y="1787400"/>
            <a:ext cx="32076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5651"/>
                </a:moveTo>
                <a:cubicBezTo>
                  <a:pt x="0" y="5651"/>
                  <a:pt x="7261" y="7130"/>
                  <a:pt x="7261" y="7130"/>
                </a:cubicBezTo>
                <a:cubicBezTo>
                  <a:pt x="7261" y="7130"/>
                  <a:pt x="11859" y="0"/>
                  <a:pt x="11859" y="0"/>
                </a:cubicBezTo>
                <a:cubicBezTo>
                  <a:pt x="11859" y="0"/>
                  <a:pt x="14037" y="8978"/>
                  <a:pt x="14037" y="8978"/>
                </a:cubicBezTo>
                <a:cubicBezTo>
                  <a:pt x="14037" y="8978"/>
                  <a:pt x="21600" y="9189"/>
                  <a:pt x="21600" y="9189"/>
                </a:cubicBezTo>
                <a:cubicBezTo>
                  <a:pt x="21600" y="9189"/>
                  <a:pt x="14945" y="13784"/>
                  <a:pt x="14945" y="13784"/>
                </a:cubicBezTo>
                <a:cubicBezTo>
                  <a:pt x="14945" y="13784"/>
                  <a:pt x="14339" y="21600"/>
                  <a:pt x="14339" y="21600"/>
                </a:cubicBezTo>
                <a:cubicBezTo>
                  <a:pt x="14339" y="21600"/>
                  <a:pt x="10104" y="16213"/>
                  <a:pt x="7079" y="15579"/>
                </a:cubicBezTo>
                <a:cubicBezTo>
                  <a:pt x="5143" y="14893"/>
                  <a:pt x="121" y="16689"/>
                  <a:pt x="121" y="16689"/>
                </a:cubicBezTo>
                <a:cubicBezTo>
                  <a:pt x="121" y="16689"/>
                  <a:pt x="3691" y="10457"/>
                  <a:pt x="3691" y="10457"/>
                </a:cubicBezTo>
                <a:cubicBezTo>
                  <a:pt x="3691" y="10457"/>
                  <a:pt x="0" y="5651"/>
                  <a:pt x="0" y="5651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41920" y="1469880"/>
            <a:ext cx="25236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6" y="5317"/>
                </a:moveTo>
                <a:cubicBezTo>
                  <a:pt x="306" y="5317"/>
                  <a:pt x="7430" y="6978"/>
                  <a:pt x="7430" y="6978"/>
                </a:cubicBezTo>
                <a:cubicBezTo>
                  <a:pt x="7430" y="6978"/>
                  <a:pt x="12255" y="0"/>
                  <a:pt x="12255" y="0"/>
                </a:cubicBezTo>
                <a:cubicBezTo>
                  <a:pt x="12255" y="0"/>
                  <a:pt x="14247" y="8972"/>
                  <a:pt x="14247" y="8972"/>
                </a:cubicBezTo>
                <a:cubicBezTo>
                  <a:pt x="14247" y="8972"/>
                  <a:pt x="21600" y="9438"/>
                  <a:pt x="21600" y="9438"/>
                </a:cubicBezTo>
                <a:cubicBezTo>
                  <a:pt x="21600" y="9438"/>
                  <a:pt x="14860" y="13691"/>
                  <a:pt x="14860" y="13691"/>
                </a:cubicBezTo>
                <a:cubicBezTo>
                  <a:pt x="14860" y="13691"/>
                  <a:pt x="14017" y="21600"/>
                  <a:pt x="14017" y="21600"/>
                </a:cubicBezTo>
                <a:cubicBezTo>
                  <a:pt x="14017" y="21600"/>
                  <a:pt x="10111" y="16150"/>
                  <a:pt x="6894" y="15286"/>
                </a:cubicBezTo>
                <a:cubicBezTo>
                  <a:pt x="4979" y="14555"/>
                  <a:pt x="0" y="16283"/>
                  <a:pt x="0" y="16283"/>
                </a:cubicBezTo>
                <a:cubicBezTo>
                  <a:pt x="0" y="16283"/>
                  <a:pt x="3906" y="10235"/>
                  <a:pt x="3906" y="10235"/>
                </a:cubicBezTo>
                <a:cubicBezTo>
                  <a:pt x="3906" y="10235"/>
                  <a:pt x="306" y="5317"/>
                  <a:pt x="306" y="5317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8160" y="2117880"/>
            <a:ext cx="115920" cy="11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05" y="7085"/>
                </a:moveTo>
                <a:cubicBezTo>
                  <a:pt x="21600" y="12614"/>
                  <a:pt x="18443" y="17626"/>
                  <a:pt x="13458" y="19872"/>
                </a:cubicBezTo>
                <a:cubicBezTo>
                  <a:pt x="8640" y="21600"/>
                  <a:pt x="2825" y="19354"/>
                  <a:pt x="1163" y="14342"/>
                </a:cubicBezTo>
                <a:cubicBezTo>
                  <a:pt x="0" y="9677"/>
                  <a:pt x="2825" y="4147"/>
                  <a:pt x="8640" y="1901"/>
                </a:cubicBezTo>
                <a:cubicBezTo>
                  <a:pt x="13126" y="0"/>
                  <a:pt x="18443" y="2419"/>
                  <a:pt x="20105" y="7085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19360" y="1967040"/>
            <a:ext cx="90360" cy="87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91" y="6750"/>
                </a:moveTo>
                <a:cubicBezTo>
                  <a:pt x="21600" y="12600"/>
                  <a:pt x="18327" y="17775"/>
                  <a:pt x="13309" y="19800"/>
                </a:cubicBezTo>
                <a:cubicBezTo>
                  <a:pt x="8727" y="21600"/>
                  <a:pt x="3273" y="19800"/>
                  <a:pt x="1309" y="14400"/>
                </a:cubicBezTo>
                <a:cubicBezTo>
                  <a:pt x="0" y="9675"/>
                  <a:pt x="3273" y="4500"/>
                  <a:pt x="8727" y="2025"/>
                </a:cubicBezTo>
                <a:cubicBezTo>
                  <a:pt x="13309" y="0"/>
                  <a:pt x="18327" y="2025"/>
                  <a:pt x="20291" y="6750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71800" y="1417680"/>
            <a:ext cx="119160" cy="114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00" y="6803"/>
                </a:moveTo>
                <a:cubicBezTo>
                  <a:pt x="21600" y="12076"/>
                  <a:pt x="18000" y="17518"/>
                  <a:pt x="13255" y="19729"/>
                </a:cubicBezTo>
                <a:cubicBezTo>
                  <a:pt x="8345" y="21600"/>
                  <a:pt x="2782" y="19219"/>
                  <a:pt x="1145" y="14287"/>
                </a:cubicBezTo>
                <a:cubicBezTo>
                  <a:pt x="0" y="9694"/>
                  <a:pt x="2782" y="4252"/>
                  <a:pt x="8345" y="1701"/>
                </a:cubicBezTo>
                <a:cubicBezTo>
                  <a:pt x="12927" y="0"/>
                  <a:pt x="18000" y="2041"/>
                  <a:pt x="19800" y="6803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22960" y="1284120"/>
            <a:ext cx="95040" cy="9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77" y="6854"/>
                </a:moveTo>
                <a:cubicBezTo>
                  <a:pt x="21600" y="12877"/>
                  <a:pt x="18136" y="18069"/>
                  <a:pt x="13449" y="19731"/>
                </a:cubicBezTo>
                <a:cubicBezTo>
                  <a:pt x="8762" y="21600"/>
                  <a:pt x="3057" y="19315"/>
                  <a:pt x="1426" y="14538"/>
                </a:cubicBezTo>
                <a:cubicBezTo>
                  <a:pt x="0" y="9762"/>
                  <a:pt x="3057" y="3946"/>
                  <a:pt x="8762" y="2285"/>
                </a:cubicBezTo>
                <a:cubicBezTo>
                  <a:pt x="13042" y="0"/>
                  <a:pt x="18136" y="2700"/>
                  <a:pt x="20377" y="6854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1120" y="2089080"/>
            <a:ext cx="91800" cy="8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18" y="6903"/>
                </a:moveTo>
                <a:cubicBezTo>
                  <a:pt x="21600" y="12247"/>
                  <a:pt x="18424" y="17814"/>
                  <a:pt x="13341" y="19819"/>
                </a:cubicBezTo>
                <a:cubicBezTo>
                  <a:pt x="8471" y="21600"/>
                  <a:pt x="3176" y="19819"/>
                  <a:pt x="1271" y="14474"/>
                </a:cubicBezTo>
                <a:cubicBezTo>
                  <a:pt x="0" y="9353"/>
                  <a:pt x="3176" y="4231"/>
                  <a:pt x="8471" y="1781"/>
                </a:cubicBezTo>
                <a:cubicBezTo>
                  <a:pt x="13341" y="0"/>
                  <a:pt x="18424" y="1781"/>
                  <a:pt x="20118" y="6903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90840" y="1378080"/>
            <a:ext cx="155880" cy="14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93" y="6766"/>
                </a:moveTo>
                <a:cubicBezTo>
                  <a:pt x="21600" y="12361"/>
                  <a:pt x="18460" y="17827"/>
                  <a:pt x="13186" y="19778"/>
                </a:cubicBezTo>
                <a:cubicBezTo>
                  <a:pt x="8163" y="21600"/>
                  <a:pt x="2763" y="19778"/>
                  <a:pt x="1005" y="14443"/>
                </a:cubicBezTo>
                <a:cubicBezTo>
                  <a:pt x="0" y="9499"/>
                  <a:pt x="2763" y="4034"/>
                  <a:pt x="8163" y="1561"/>
                </a:cubicBezTo>
                <a:cubicBezTo>
                  <a:pt x="12935" y="0"/>
                  <a:pt x="18460" y="2212"/>
                  <a:pt x="20093" y="6766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39800" y="1644480"/>
            <a:ext cx="3478320" cy="615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21600"/>
                </a:moveTo>
                <a:cubicBezTo>
                  <a:pt x="358" y="21600"/>
                  <a:pt x="319" y="18075"/>
                  <a:pt x="263" y="15365"/>
                </a:cubicBezTo>
                <a:cubicBezTo>
                  <a:pt x="212" y="13347"/>
                  <a:pt x="157" y="11332"/>
                  <a:pt x="95" y="9314"/>
                </a:cubicBezTo>
                <a:cubicBezTo>
                  <a:pt x="45" y="7849"/>
                  <a:pt x="0" y="6374"/>
                  <a:pt x="402" y="4949"/>
                </a:cubicBezTo>
                <a:cubicBezTo>
                  <a:pt x="570" y="4377"/>
                  <a:pt x="967" y="3841"/>
                  <a:pt x="1632" y="3402"/>
                </a:cubicBezTo>
                <a:cubicBezTo>
                  <a:pt x="2068" y="3108"/>
                  <a:pt x="2639" y="2858"/>
                  <a:pt x="3332" y="2672"/>
                </a:cubicBezTo>
                <a:cubicBezTo>
                  <a:pt x="3863" y="2527"/>
                  <a:pt x="4489" y="2407"/>
                  <a:pt x="5081" y="2400"/>
                </a:cubicBezTo>
                <a:cubicBezTo>
                  <a:pt x="5942" y="2394"/>
                  <a:pt x="6781" y="2565"/>
                  <a:pt x="7642" y="2640"/>
                </a:cubicBezTo>
                <a:cubicBezTo>
                  <a:pt x="8033" y="2672"/>
                  <a:pt x="8424" y="2672"/>
                  <a:pt x="8788" y="2587"/>
                </a:cubicBezTo>
                <a:cubicBezTo>
                  <a:pt x="9117" y="2508"/>
                  <a:pt x="9347" y="2372"/>
                  <a:pt x="9470" y="2220"/>
                </a:cubicBezTo>
                <a:cubicBezTo>
                  <a:pt x="9665" y="1987"/>
                  <a:pt x="9721" y="1747"/>
                  <a:pt x="9743" y="1513"/>
                </a:cubicBezTo>
                <a:cubicBezTo>
                  <a:pt x="9783" y="1200"/>
                  <a:pt x="9816" y="891"/>
                  <a:pt x="10040" y="625"/>
                </a:cubicBezTo>
                <a:cubicBezTo>
                  <a:pt x="10241" y="395"/>
                  <a:pt x="10593" y="215"/>
                  <a:pt x="11007" y="120"/>
                </a:cubicBezTo>
                <a:cubicBezTo>
                  <a:pt x="11543" y="0"/>
                  <a:pt x="12142" y="38"/>
                  <a:pt x="12617" y="215"/>
                </a:cubicBezTo>
                <a:cubicBezTo>
                  <a:pt x="13042" y="366"/>
                  <a:pt x="13288" y="641"/>
                  <a:pt x="13355" y="774"/>
                </a:cubicBezTo>
                <a:cubicBezTo>
                  <a:pt x="13573" y="1159"/>
                  <a:pt x="13712" y="1548"/>
                  <a:pt x="13947" y="1898"/>
                </a:cubicBezTo>
                <a:cubicBezTo>
                  <a:pt x="14065" y="2075"/>
                  <a:pt x="14199" y="2246"/>
                  <a:pt x="14411" y="2394"/>
                </a:cubicBezTo>
                <a:cubicBezTo>
                  <a:pt x="14601" y="2527"/>
                  <a:pt x="14875" y="2625"/>
                  <a:pt x="15155" y="2707"/>
                </a:cubicBezTo>
                <a:cubicBezTo>
                  <a:pt x="15714" y="2858"/>
                  <a:pt x="16373" y="2899"/>
                  <a:pt x="17016" y="2912"/>
                </a:cubicBezTo>
                <a:cubicBezTo>
                  <a:pt x="17681" y="2934"/>
                  <a:pt x="18358" y="2918"/>
                  <a:pt x="19006" y="2981"/>
                </a:cubicBezTo>
                <a:cubicBezTo>
                  <a:pt x="19453" y="3019"/>
                  <a:pt x="19878" y="3114"/>
                  <a:pt x="20214" y="3294"/>
                </a:cubicBezTo>
                <a:cubicBezTo>
                  <a:pt x="20812" y="3626"/>
                  <a:pt x="21203" y="4058"/>
                  <a:pt x="21270" y="4539"/>
                </a:cubicBezTo>
                <a:cubicBezTo>
                  <a:pt x="21393" y="5334"/>
                  <a:pt x="21393" y="6127"/>
                  <a:pt x="21438" y="6926"/>
                </a:cubicBezTo>
                <a:cubicBezTo>
                  <a:pt x="21516" y="8354"/>
                  <a:pt x="21555" y="9778"/>
                  <a:pt x="21566" y="11209"/>
                </a:cubicBezTo>
                <a:cubicBezTo>
                  <a:pt x="21600" y="14633"/>
                  <a:pt x="21566" y="18066"/>
                  <a:pt x="21488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03400" y="2805120"/>
            <a:ext cx="2292480" cy="170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77" y="21600"/>
                </a:moveTo>
                <a:cubicBezTo>
                  <a:pt x="577" y="21600"/>
                  <a:pt x="577" y="21600"/>
                  <a:pt x="577" y="21600"/>
                </a:cubicBezTo>
                <a:cubicBezTo>
                  <a:pt x="577" y="21600"/>
                  <a:pt x="305" y="17378"/>
                  <a:pt x="195" y="15267"/>
                </a:cubicBezTo>
                <a:cubicBezTo>
                  <a:pt x="119" y="13852"/>
                  <a:pt x="0" y="10886"/>
                  <a:pt x="0" y="10886"/>
                </a:cubicBezTo>
                <a:cubicBezTo>
                  <a:pt x="0" y="10886"/>
                  <a:pt x="3867" y="10612"/>
                  <a:pt x="3867" y="10612"/>
                </a:cubicBezTo>
                <a:cubicBezTo>
                  <a:pt x="3867" y="10612"/>
                  <a:pt x="7878" y="10406"/>
                  <a:pt x="7878" y="10406"/>
                </a:cubicBezTo>
                <a:cubicBezTo>
                  <a:pt x="7878" y="10406"/>
                  <a:pt x="7861" y="8524"/>
                  <a:pt x="7828" y="7611"/>
                </a:cubicBezTo>
                <a:cubicBezTo>
                  <a:pt x="7794" y="6493"/>
                  <a:pt x="7700" y="5431"/>
                  <a:pt x="7878" y="4427"/>
                </a:cubicBezTo>
                <a:cubicBezTo>
                  <a:pt x="8090" y="3241"/>
                  <a:pt x="8650" y="2214"/>
                  <a:pt x="9363" y="1415"/>
                </a:cubicBezTo>
                <a:cubicBezTo>
                  <a:pt x="9778" y="958"/>
                  <a:pt x="10261" y="673"/>
                  <a:pt x="10779" y="445"/>
                </a:cubicBezTo>
                <a:cubicBezTo>
                  <a:pt x="11423" y="194"/>
                  <a:pt x="12093" y="0"/>
                  <a:pt x="12755" y="0"/>
                </a:cubicBezTo>
                <a:cubicBezTo>
                  <a:pt x="13611" y="0"/>
                  <a:pt x="14400" y="160"/>
                  <a:pt x="15189" y="719"/>
                </a:cubicBezTo>
                <a:cubicBezTo>
                  <a:pt x="16037" y="1289"/>
                  <a:pt x="16766" y="2145"/>
                  <a:pt x="17148" y="3343"/>
                </a:cubicBezTo>
                <a:cubicBezTo>
                  <a:pt x="17478" y="4450"/>
                  <a:pt x="17436" y="5728"/>
                  <a:pt x="17436" y="6983"/>
                </a:cubicBezTo>
                <a:cubicBezTo>
                  <a:pt x="17436" y="7850"/>
                  <a:pt x="17394" y="9573"/>
                  <a:pt x="17394" y="9573"/>
                </a:cubicBezTo>
                <a:cubicBezTo>
                  <a:pt x="17394" y="9573"/>
                  <a:pt x="18725" y="9539"/>
                  <a:pt x="19387" y="9505"/>
                </a:cubicBezTo>
                <a:cubicBezTo>
                  <a:pt x="20082" y="9459"/>
                  <a:pt x="21481" y="9345"/>
                  <a:pt x="21481" y="9345"/>
                </a:cubicBezTo>
                <a:cubicBezTo>
                  <a:pt x="21481" y="9345"/>
                  <a:pt x="21481" y="11821"/>
                  <a:pt x="21498" y="13031"/>
                </a:cubicBezTo>
                <a:cubicBezTo>
                  <a:pt x="21532" y="14548"/>
                  <a:pt x="21600" y="17606"/>
                  <a:pt x="21600" y="17606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0720" y="1130400"/>
            <a:ext cx="5398920" cy="698976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95880" y="6594480"/>
            <a:ext cx="1247760" cy="70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" y="3039"/>
                </a:moveTo>
                <a:cubicBezTo>
                  <a:pt x="109" y="2710"/>
                  <a:pt x="78" y="2354"/>
                  <a:pt x="47" y="2026"/>
                </a:cubicBezTo>
                <a:cubicBezTo>
                  <a:pt x="0" y="1560"/>
                  <a:pt x="78" y="630"/>
                  <a:pt x="78" y="630"/>
                </a:cubicBezTo>
                <a:cubicBezTo>
                  <a:pt x="78" y="630"/>
                  <a:pt x="1760" y="356"/>
                  <a:pt x="2414" y="274"/>
                </a:cubicBezTo>
                <a:cubicBezTo>
                  <a:pt x="3302" y="164"/>
                  <a:pt x="4189" y="110"/>
                  <a:pt x="5077" y="27"/>
                </a:cubicBezTo>
                <a:cubicBezTo>
                  <a:pt x="5871" y="27"/>
                  <a:pt x="6696" y="0"/>
                  <a:pt x="7522" y="27"/>
                </a:cubicBezTo>
                <a:cubicBezTo>
                  <a:pt x="8503" y="110"/>
                  <a:pt x="9484" y="274"/>
                  <a:pt x="10481" y="438"/>
                </a:cubicBezTo>
                <a:cubicBezTo>
                  <a:pt x="11493" y="630"/>
                  <a:pt x="12536" y="849"/>
                  <a:pt x="13595" y="1259"/>
                </a:cubicBezTo>
                <a:cubicBezTo>
                  <a:pt x="14795" y="1725"/>
                  <a:pt x="15931" y="2437"/>
                  <a:pt x="17053" y="3230"/>
                </a:cubicBezTo>
                <a:cubicBezTo>
                  <a:pt x="17691" y="3696"/>
                  <a:pt x="18267" y="4271"/>
                  <a:pt x="18844" y="4983"/>
                </a:cubicBezTo>
                <a:cubicBezTo>
                  <a:pt x="19560" y="5886"/>
                  <a:pt x="20245" y="7063"/>
                  <a:pt x="20743" y="8432"/>
                </a:cubicBezTo>
                <a:cubicBezTo>
                  <a:pt x="21102" y="9417"/>
                  <a:pt x="21366" y="10567"/>
                  <a:pt x="21507" y="11772"/>
                </a:cubicBezTo>
                <a:cubicBezTo>
                  <a:pt x="21600" y="12757"/>
                  <a:pt x="21522" y="13743"/>
                  <a:pt x="21429" y="14729"/>
                </a:cubicBezTo>
                <a:cubicBezTo>
                  <a:pt x="21366" y="15413"/>
                  <a:pt x="21211" y="16207"/>
                  <a:pt x="20977" y="16919"/>
                </a:cubicBezTo>
                <a:cubicBezTo>
                  <a:pt x="20837" y="17384"/>
                  <a:pt x="20681" y="17822"/>
                  <a:pt x="20479" y="18233"/>
                </a:cubicBezTo>
                <a:cubicBezTo>
                  <a:pt x="20370" y="18479"/>
                  <a:pt x="20058" y="18890"/>
                  <a:pt x="20058" y="18890"/>
                </a:cubicBezTo>
                <a:cubicBezTo>
                  <a:pt x="20058" y="18890"/>
                  <a:pt x="20603" y="20368"/>
                  <a:pt x="20370" y="20970"/>
                </a:cubicBezTo>
                <a:cubicBezTo>
                  <a:pt x="20152" y="21600"/>
                  <a:pt x="19529" y="21545"/>
                  <a:pt x="19108" y="21381"/>
                </a:cubicBezTo>
                <a:cubicBezTo>
                  <a:pt x="18672" y="21189"/>
                  <a:pt x="18236" y="20697"/>
                  <a:pt x="17971" y="20040"/>
                </a:cubicBezTo>
                <a:cubicBezTo>
                  <a:pt x="17738" y="19465"/>
                  <a:pt x="17426" y="18479"/>
                  <a:pt x="17691" y="17822"/>
                </a:cubicBezTo>
                <a:cubicBezTo>
                  <a:pt x="17878" y="17384"/>
                  <a:pt x="18376" y="17685"/>
                  <a:pt x="18688" y="17603"/>
                </a:cubicBezTo>
                <a:cubicBezTo>
                  <a:pt x="18875" y="17603"/>
                  <a:pt x="19264" y="17548"/>
                  <a:pt x="19264" y="17548"/>
                </a:cubicBezTo>
                <a:cubicBezTo>
                  <a:pt x="19264" y="17548"/>
                  <a:pt x="19622" y="16398"/>
                  <a:pt x="19684" y="16070"/>
                </a:cubicBezTo>
                <a:cubicBezTo>
                  <a:pt x="19825" y="15468"/>
                  <a:pt x="19949" y="14920"/>
                  <a:pt x="20027" y="14318"/>
                </a:cubicBezTo>
                <a:cubicBezTo>
                  <a:pt x="20089" y="13579"/>
                  <a:pt x="20105" y="12757"/>
                  <a:pt x="20027" y="11963"/>
                </a:cubicBezTo>
                <a:cubicBezTo>
                  <a:pt x="19918" y="11142"/>
                  <a:pt x="19716" y="10348"/>
                  <a:pt x="19498" y="9582"/>
                </a:cubicBezTo>
                <a:cubicBezTo>
                  <a:pt x="19155" y="8596"/>
                  <a:pt x="18672" y="7665"/>
                  <a:pt x="18143" y="6871"/>
                </a:cubicBezTo>
                <a:cubicBezTo>
                  <a:pt x="17816" y="6351"/>
                  <a:pt x="17426" y="5804"/>
                  <a:pt x="17021" y="5475"/>
                </a:cubicBezTo>
                <a:cubicBezTo>
                  <a:pt x="16367" y="4846"/>
                  <a:pt x="15635" y="4380"/>
                  <a:pt x="14919" y="3970"/>
                </a:cubicBezTo>
                <a:cubicBezTo>
                  <a:pt x="14187" y="3586"/>
                  <a:pt x="13377" y="3340"/>
                  <a:pt x="12614" y="3121"/>
                </a:cubicBezTo>
                <a:cubicBezTo>
                  <a:pt x="11929" y="2902"/>
                  <a:pt x="11197" y="2765"/>
                  <a:pt x="10481" y="2573"/>
                </a:cubicBezTo>
                <a:cubicBezTo>
                  <a:pt x="9858" y="2491"/>
                  <a:pt x="9219" y="2300"/>
                  <a:pt x="8596" y="2245"/>
                </a:cubicBezTo>
                <a:cubicBezTo>
                  <a:pt x="7787" y="2108"/>
                  <a:pt x="6914" y="2026"/>
                  <a:pt x="6074" y="1971"/>
                </a:cubicBezTo>
                <a:cubicBezTo>
                  <a:pt x="5544" y="1889"/>
                  <a:pt x="4968" y="1834"/>
                  <a:pt x="4423" y="1889"/>
                </a:cubicBezTo>
                <a:cubicBezTo>
                  <a:pt x="3706" y="1971"/>
                  <a:pt x="2943" y="2081"/>
                  <a:pt x="2211" y="2245"/>
                </a:cubicBezTo>
                <a:cubicBezTo>
                  <a:pt x="1760" y="2354"/>
                  <a:pt x="1293" y="2437"/>
                  <a:pt x="841" y="2573"/>
                </a:cubicBezTo>
                <a:cubicBezTo>
                  <a:pt x="576" y="2710"/>
                  <a:pt x="405" y="2929"/>
                  <a:pt x="140" y="3039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76880" y="7116840"/>
            <a:ext cx="136512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1" y="13433"/>
                </a:moveTo>
                <a:cubicBezTo>
                  <a:pt x="228" y="13433"/>
                  <a:pt x="285" y="13433"/>
                  <a:pt x="356" y="13433"/>
                </a:cubicBezTo>
                <a:cubicBezTo>
                  <a:pt x="869" y="13633"/>
                  <a:pt x="1338" y="14133"/>
                  <a:pt x="1865" y="14467"/>
                </a:cubicBezTo>
                <a:cubicBezTo>
                  <a:pt x="2463" y="14867"/>
                  <a:pt x="3090" y="15333"/>
                  <a:pt x="3688" y="15700"/>
                </a:cubicBezTo>
                <a:cubicBezTo>
                  <a:pt x="4514" y="16167"/>
                  <a:pt x="5354" y="16600"/>
                  <a:pt x="6194" y="17000"/>
                </a:cubicBezTo>
                <a:cubicBezTo>
                  <a:pt x="6963" y="17400"/>
                  <a:pt x="7789" y="17867"/>
                  <a:pt x="8600" y="18133"/>
                </a:cubicBezTo>
                <a:cubicBezTo>
                  <a:pt x="9298" y="18367"/>
                  <a:pt x="10010" y="18500"/>
                  <a:pt x="10736" y="18567"/>
                </a:cubicBezTo>
                <a:cubicBezTo>
                  <a:pt x="11818" y="18633"/>
                  <a:pt x="12929" y="18700"/>
                  <a:pt x="14011" y="18367"/>
                </a:cubicBezTo>
                <a:cubicBezTo>
                  <a:pt x="14765" y="18133"/>
                  <a:pt x="15492" y="17667"/>
                  <a:pt x="16189" y="16967"/>
                </a:cubicBezTo>
                <a:cubicBezTo>
                  <a:pt x="16631" y="16467"/>
                  <a:pt x="17086" y="15700"/>
                  <a:pt x="17471" y="14967"/>
                </a:cubicBezTo>
                <a:cubicBezTo>
                  <a:pt x="18012" y="14000"/>
                  <a:pt x="18596" y="12900"/>
                  <a:pt x="18952" y="11533"/>
                </a:cubicBezTo>
                <a:cubicBezTo>
                  <a:pt x="19151" y="10700"/>
                  <a:pt x="19308" y="9867"/>
                  <a:pt x="19393" y="8933"/>
                </a:cubicBezTo>
                <a:cubicBezTo>
                  <a:pt x="19507" y="7900"/>
                  <a:pt x="19550" y="6600"/>
                  <a:pt x="19578" y="5567"/>
                </a:cubicBezTo>
                <a:cubicBezTo>
                  <a:pt x="19578" y="4900"/>
                  <a:pt x="19635" y="3667"/>
                  <a:pt x="19635" y="3667"/>
                </a:cubicBezTo>
                <a:cubicBezTo>
                  <a:pt x="19635" y="3667"/>
                  <a:pt x="19336" y="2833"/>
                  <a:pt x="19222" y="2367"/>
                </a:cubicBezTo>
                <a:cubicBezTo>
                  <a:pt x="19122" y="1967"/>
                  <a:pt x="19009" y="1467"/>
                  <a:pt x="19066" y="1067"/>
                </a:cubicBezTo>
                <a:cubicBezTo>
                  <a:pt x="19151" y="500"/>
                  <a:pt x="19464" y="133"/>
                  <a:pt x="19721" y="67"/>
                </a:cubicBezTo>
                <a:cubicBezTo>
                  <a:pt x="19934" y="0"/>
                  <a:pt x="20176" y="67"/>
                  <a:pt x="20390" y="133"/>
                </a:cubicBezTo>
                <a:cubicBezTo>
                  <a:pt x="20603" y="300"/>
                  <a:pt x="20689" y="333"/>
                  <a:pt x="20931" y="567"/>
                </a:cubicBezTo>
                <a:cubicBezTo>
                  <a:pt x="21016" y="633"/>
                  <a:pt x="21258" y="967"/>
                  <a:pt x="21329" y="1200"/>
                </a:cubicBezTo>
                <a:cubicBezTo>
                  <a:pt x="21443" y="1467"/>
                  <a:pt x="21600" y="1900"/>
                  <a:pt x="21600" y="2367"/>
                </a:cubicBezTo>
                <a:cubicBezTo>
                  <a:pt x="21572" y="3233"/>
                  <a:pt x="20931" y="4500"/>
                  <a:pt x="20931" y="4500"/>
                </a:cubicBezTo>
                <a:cubicBezTo>
                  <a:pt x="20931" y="4500"/>
                  <a:pt x="20931" y="5633"/>
                  <a:pt x="20874" y="6133"/>
                </a:cubicBezTo>
                <a:cubicBezTo>
                  <a:pt x="20774" y="6967"/>
                  <a:pt x="20760" y="7900"/>
                  <a:pt x="20660" y="8733"/>
                </a:cubicBezTo>
                <a:cubicBezTo>
                  <a:pt x="20518" y="9967"/>
                  <a:pt x="20361" y="11400"/>
                  <a:pt x="20062" y="12667"/>
                </a:cubicBezTo>
                <a:cubicBezTo>
                  <a:pt x="19749" y="13933"/>
                  <a:pt x="19336" y="15200"/>
                  <a:pt x="18823" y="16167"/>
                </a:cubicBezTo>
                <a:cubicBezTo>
                  <a:pt x="18254" y="17300"/>
                  <a:pt x="17556" y="18233"/>
                  <a:pt x="16901" y="19000"/>
                </a:cubicBezTo>
                <a:cubicBezTo>
                  <a:pt x="16218" y="19767"/>
                  <a:pt x="15492" y="20533"/>
                  <a:pt x="14723" y="20967"/>
                </a:cubicBezTo>
                <a:cubicBezTo>
                  <a:pt x="14125" y="21333"/>
                  <a:pt x="13498" y="21400"/>
                  <a:pt x="12872" y="21467"/>
                </a:cubicBezTo>
                <a:cubicBezTo>
                  <a:pt x="11875" y="21600"/>
                  <a:pt x="10878" y="21600"/>
                  <a:pt x="9896" y="21467"/>
                </a:cubicBezTo>
                <a:cubicBezTo>
                  <a:pt x="9269" y="21400"/>
                  <a:pt x="8600" y="21100"/>
                  <a:pt x="7974" y="20967"/>
                </a:cubicBezTo>
                <a:cubicBezTo>
                  <a:pt x="7247" y="20767"/>
                  <a:pt x="6521" y="20533"/>
                  <a:pt x="5809" y="20267"/>
                </a:cubicBezTo>
                <a:cubicBezTo>
                  <a:pt x="5112" y="20000"/>
                  <a:pt x="4385" y="19500"/>
                  <a:pt x="3674" y="19133"/>
                </a:cubicBezTo>
                <a:cubicBezTo>
                  <a:pt x="3033" y="18800"/>
                  <a:pt x="2378" y="18433"/>
                  <a:pt x="1737" y="18000"/>
                </a:cubicBezTo>
                <a:cubicBezTo>
                  <a:pt x="1338" y="17733"/>
                  <a:pt x="954" y="17467"/>
                  <a:pt x="570" y="17000"/>
                </a:cubicBezTo>
                <a:cubicBezTo>
                  <a:pt x="427" y="16833"/>
                  <a:pt x="43" y="16267"/>
                  <a:pt x="43" y="16267"/>
                </a:cubicBezTo>
                <a:cubicBezTo>
                  <a:pt x="43" y="16267"/>
                  <a:pt x="0" y="15200"/>
                  <a:pt x="14" y="14700"/>
                </a:cubicBezTo>
                <a:cubicBezTo>
                  <a:pt x="43" y="14300"/>
                  <a:pt x="114" y="13867"/>
                  <a:pt x="171" y="13433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09960" y="6594480"/>
            <a:ext cx="1832040" cy="110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638" y="1952"/>
                </a:moveTo>
                <a:cubicBezTo>
                  <a:pt x="4617" y="1741"/>
                  <a:pt x="4596" y="1513"/>
                  <a:pt x="4575" y="1302"/>
                </a:cubicBezTo>
                <a:cubicBezTo>
                  <a:pt x="4543" y="1003"/>
                  <a:pt x="4596" y="405"/>
                  <a:pt x="4596" y="405"/>
                </a:cubicBezTo>
                <a:cubicBezTo>
                  <a:pt x="4596" y="405"/>
                  <a:pt x="5742" y="229"/>
                  <a:pt x="6188" y="176"/>
                </a:cubicBezTo>
                <a:cubicBezTo>
                  <a:pt x="6793" y="106"/>
                  <a:pt x="7398" y="70"/>
                  <a:pt x="8003" y="18"/>
                </a:cubicBezTo>
                <a:cubicBezTo>
                  <a:pt x="8544" y="18"/>
                  <a:pt x="9107" y="0"/>
                  <a:pt x="9670" y="18"/>
                </a:cubicBezTo>
                <a:cubicBezTo>
                  <a:pt x="10338" y="70"/>
                  <a:pt x="11007" y="176"/>
                  <a:pt x="11686" y="281"/>
                </a:cubicBezTo>
                <a:cubicBezTo>
                  <a:pt x="12376" y="405"/>
                  <a:pt x="13087" y="545"/>
                  <a:pt x="13809" y="809"/>
                </a:cubicBezTo>
                <a:cubicBezTo>
                  <a:pt x="14626" y="1108"/>
                  <a:pt x="15401" y="1565"/>
                  <a:pt x="16166" y="2076"/>
                </a:cubicBezTo>
                <a:cubicBezTo>
                  <a:pt x="16601" y="2375"/>
                  <a:pt x="16993" y="2744"/>
                  <a:pt x="17386" y="3201"/>
                </a:cubicBezTo>
                <a:cubicBezTo>
                  <a:pt x="17874" y="3782"/>
                  <a:pt x="18341" y="4538"/>
                  <a:pt x="18681" y="5418"/>
                </a:cubicBezTo>
                <a:cubicBezTo>
                  <a:pt x="18925" y="6051"/>
                  <a:pt x="19106" y="6790"/>
                  <a:pt x="19201" y="7564"/>
                </a:cubicBezTo>
                <a:cubicBezTo>
                  <a:pt x="19265" y="8197"/>
                  <a:pt x="19212" y="8830"/>
                  <a:pt x="19148" y="9463"/>
                </a:cubicBezTo>
                <a:cubicBezTo>
                  <a:pt x="19106" y="9903"/>
                  <a:pt x="19000" y="10413"/>
                  <a:pt x="18840" y="10870"/>
                </a:cubicBezTo>
                <a:cubicBezTo>
                  <a:pt x="18745" y="11169"/>
                  <a:pt x="18639" y="11451"/>
                  <a:pt x="18501" y="11715"/>
                </a:cubicBezTo>
                <a:cubicBezTo>
                  <a:pt x="18426" y="11873"/>
                  <a:pt x="18214" y="12137"/>
                  <a:pt x="18214" y="12137"/>
                </a:cubicBezTo>
                <a:cubicBezTo>
                  <a:pt x="18214" y="12137"/>
                  <a:pt x="18586" y="13087"/>
                  <a:pt x="18426" y="13474"/>
                </a:cubicBezTo>
                <a:cubicBezTo>
                  <a:pt x="18278" y="13878"/>
                  <a:pt x="17853" y="13843"/>
                  <a:pt x="17567" y="13737"/>
                </a:cubicBezTo>
                <a:cubicBezTo>
                  <a:pt x="17269" y="13614"/>
                  <a:pt x="16972" y="13298"/>
                  <a:pt x="16792" y="12876"/>
                </a:cubicBezTo>
                <a:cubicBezTo>
                  <a:pt x="16633" y="12506"/>
                  <a:pt x="16420" y="11873"/>
                  <a:pt x="16601" y="11451"/>
                </a:cubicBezTo>
                <a:cubicBezTo>
                  <a:pt x="16728" y="11169"/>
                  <a:pt x="17068" y="11363"/>
                  <a:pt x="17280" y="11310"/>
                </a:cubicBezTo>
                <a:cubicBezTo>
                  <a:pt x="17407" y="11310"/>
                  <a:pt x="17673" y="11275"/>
                  <a:pt x="17673" y="11275"/>
                </a:cubicBezTo>
                <a:cubicBezTo>
                  <a:pt x="17673" y="11275"/>
                  <a:pt x="17917" y="10536"/>
                  <a:pt x="17959" y="10325"/>
                </a:cubicBezTo>
                <a:cubicBezTo>
                  <a:pt x="18055" y="9938"/>
                  <a:pt x="18140" y="9586"/>
                  <a:pt x="18193" y="9199"/>
                </a:cubicBezTo>
                <a:cubicBezTo>
                  <a:pt x="18235" y="8724"/>
                  <a:pt x="18246" y="8197"/>
                  <a:pt x="18193" y="7687"/>
                </a:cubicBezTo>
                <a:cubicBezTo>
                  <a:pt x="18119" y="7159"/>
                  <a:pt x="17981" y="6649"/>
                  <a:pt x="17832" y="6156"/>
                </a:cubicBezTo>
                <a:cubicBezTo>
                  <a:pt x="17598" y="5523"/>
                  <a:pt x="17269" y="4925"/>
                  <a:pt x="16909" y="4415"/>
                </a:cubicBezTo>
                <a:cubicBezTo>
                  <a:pt x="16686" y="4081"/>
                  <a:pt x="16420" y="3729"/>
                  <a:pt x="16144" y="3518"/>
                </a:cubicBezTo>
                <a:cubicBezTo>
                  <a:pt x="15698" y="3113"/>
                  <a:pt x="15200" y="2814"/>
                  <a:pt x="14711" y="2550"/>
                </a:cubicBezTo>
                <a:cubicBezTo>
                  <a:pt x="14212" y="2304"/>
                  <a:pt x="13661" y="2146"/>
                  <a:pt x="13140" y="2005"/>
                </a:cubicBezTo>
                <a:cubicBezTo>
                  <a:pt x="12673" y="1864"/>
                  <a:pt x="12175" y="1777"/>
                  <a:pt x="11686" y="1653"/>
                </a:cubicBezTo>
                <a:cubicBezTo>
                  <a:pt x="11262" y="1601"/>
                  <a:pt x="10827" y="1478"/>
                  <a:pt x="10402" y="1442"/>
                </a:cubicBezTo>
                <a:cubicBezTo>
                  <a:pt x="9850" y="1354"/>
                  <a:pt x="9256" y="1302"/>
                  <a:pt x="8682" y="1266"/>
                </a:cubicBezTo>
                <a:cubicBezTo>
                  <a:pt x="8322" y="1214"/>
                  <a:pt x="7929" y="1179"/>
                  <a:pt x="7557" y="1214"/>
                </a:cubicBezTo>
                <a:cubicBezTo>
                  <a:pt x="7069" y="1266"/>
                  <a:pt x="6549" y="1337"/>
                  <a:pt x="6050" y="1442"/>
                </a:cubicBezTo>
                <a:cubicBezTo>
                  <a:pt x="5742" y="1513"/>
                  <a:pt x="5424" y="1565"/>
                  <a:pt x="5116" y="1653"/>
                </a:cubicBezTo>
                <a:cubicBezTo>
                  <a:pt x="4670" y="1812"/>
                  <a:pt x="4193" y="2040"/>
                  <a:pt x="3726" y="2304"/>
                </a:cubicBezTo>
                <a:cubicBezTo>
                  <a:pt x="3407" y="2480"/>
                  <a:pt x="3057" y="2744"/>
                  <a:pt x="2760" y="2990"/>
                </a:cubicBezTo>
                <a:cubicBezTo>
                  <a:pt x="2303" y="3377"/>
                  <a:pt x="1836" y="3817"/>
                  <a:pt x="1433" y="4380"/>
                </a:cubicBezTo>
                <a:cubicBezTo>
                  <a:pt x="987" y="5048"/>
                  <a:pt x="563" y="5857"/>
                  <a:pt x="297" y="6754"/>
                </a:cubicBezTo>
                <a:cubicBezTo>
                  <a:pt x="117" y="7388"/>
                  <a:pt x="0" y="8126"/>
                  <a:pt x="0" y="8830"/>
                </a:cubicBezTo>
                <a:cubicBezTo>
                  <a:pt x="0" y="9868"/>
                  <a:pt x="85" y="11011"/>
                  <a:pt x="340" y="11979"/>
                </a:cubicBezTo>
                <a:cubicBezTo>
                  <a:pt x="563" y="12876"/>
                  <a:pt x="966" y="13685"/>
                  <a:pt x="1390" y="14371"/>
                </a:cubicBezTo>
                <a:cubicBezTo>
                  <a:pt x="1953" y="15215"/>
                  <a:pt x="2600" y="15989"/>
                  <a:pt x="3290" y="16552"/>
                </a:cubicBezTo>
                <a:cubicBezTo>
                  <a:pt x="3768" y="16921"/>
                  <a:pt x="4256" y="17185"/>
                  <a:pt x="4776" y="17326"/>
                </a:cubicBezTo>
                <a:cubicBezTo>
                  <a:pt x="5084" y="17396"/>
                  <a:pt x="5424" y="17220"/>
                  <a:pt x="5764" y="17291"/>
                </a:cubicBezTo>
                <a:cubicBezTo>
                  <a:pt x="6146" y="17396"/>
                  <a:pt x="6496" y="17660"/>
                  <a:pt x="6889" y="17836"/>
                </a:cubicBezTo>
                <a:cubicBezTo>
                  <a:pt x="7334" y="18047"/>
                  <a:pt x="7801" y="18293"/>
                  <a:pt x="8247" y="18487"/>
                </a:cubicBezTo>
                <a:cubicBezTo>
                  <a:pt x="8863" y="18733"/>
                  <a:pt x="9489" y="18962"/>
                  <a:pt x="10115" y="19173"/>
                </a:cubicBezTo>
                <a:cubicBezTo>
                  <a:pt x="10689" y="19384"/>
                  <a:pt x="11304" y="19630"/>
                  <a:pt x="11909" y="19771"/>
                </a:cubicBezTo>
                <a:cubicBezTo>
                  <a:pt x="12429" y="19894"/>
                  <a:pt x="12960" y="19964"/>
                  <a:pt x="13501" y="19999"/>
                </a:cubicBezTo>
                <a:cubicBezTo>
                  <a:pt x="14308" y="20035"/>
                  <a:pt x="15136" y="20070"/>
                  <a:pt x="15943" y="19894"/>
                </a:cubicBezTo>
                <a:cubicBezTo>
                  <a:pt x="16505" y="19771"/>
                  <a:pt x="17046" y="19524"/>
                  <a:pt x="17567" y="19155"/>
                </a:cubicBezTo>
                <a:cubicBezTo>
                  <a:pt x="17896" y="18891"/>
                  <a:pt x="18235" y="18487"/>
                  <a:pt x="18522" y="18100"/>
                </a:cubicBezTo>
                <a:cubicBezTo>
                  <a:pt x="18925" y="17590"/>
                  <a:pt x="19360" y="17009"/>
                  <a:pt x="19626" y="16288"/>
                </a:cubicBezTo>
                <a:cubicBezTo>
                  <a:pt x="19774" y="15848"/>
                  <a:pt x="19891" y="15408"/>
                  <a:pt x="19955" y="14916"/>
                </a:cubicBezTo>
                <a:cubicBezTo>
                  <a:pt x="20040" y="14371"/>
                  <a:pt x="20072" y="13685"/>
                  <a:pt x="20093" y="13139"/>
                </a:cubicBezTo>
                <a:cubicBezTo>
                  <a:pt x="20093" y="12788"/>
                  <a:pt x="20135" y="12137"/>
                  <a:pt x="20135" y="12137"/>
                </a:cubicBezTo>
                <a:cubicBezTo>
                  <a:pt x="20135" y="12137"/>
                  <a:pt x="19912" y="11697"/>
                  <a:pt x="19827" y="11451"/>
                </a:cubicBezTo>
                <a:cubicBezTo>
                  <a:pt x="19753" y="11240"/>
                  <a:pt x="19668" y="10976"/>
                  <a:pt x="19711" y="10765"/>
                </a:cubicBezTo>
                <a:cubicBezTo>
                  <a:pt x="19774" y="10466"/>
                  <a:pt x="20008" y="10272"/>
                  <a:pt x="20199" y="10237"/>
                </a:cubicBezTo>
                <a:cubicBezTo>
                  <a:pt x="20358" y="10202"/>
                  <a:pt x="20539" y="10237"/>
                  <a:pt x="20698" y="10272"/>
                </a:cubicBezTo>
                <a:cubicBezTo>
                  <a:pt x="20857" y="10360"/>
                  <a:pt x="20921" y="10378"/>
                  <a:pt x="21101" y="10501"/>
                </a:cubicBezTo>
                <a:cubicBezTo>
                  <a:pt x="21165" y="10536"/>
                  <a:pt x="21345" y="10712"/>
                  <a:pt x="21398" y="10835"/>
                </a:cubicBezTo>
                <a:cubicBezTo>
                  <a:pt x="21483" y="10976"/>
                  <a:pt x="21600" y="11205"/>
                  <a:pt x="21600" y="11451"/>
                </a:cubicBezTo>
                <a:cubicBezTo>
                  <a:pt x="21579" y="11908"/>
                  <a:pt x="21101" y="12577"/>
                  <a:pt x="21101" y="12577"/>
                </a:cubicBezTo>
                <a:cubicBezTo>
                  <a:pt x="21101" y="12577"/>
                  <a:pt x="21101" y="13175"/>
                  <a:pt x="21059" y="13438"/>
                </a:cubicBezTo>
                <a:cubicBezTo>
                  <a:pt x="20984" y="13878"/>
                  <a:pt x="20974" y="14371"/>
                  <a:pt x="20899" y="14810"/>
                </a:cubicBezTo>
                <a:cubicBezTo>
                  <a:pt x="20793" y="15461"/>
                  <a:pt x="20677" y="16218"/>
                  <a:pt x="20454" y="16886"/>
                </a:cubicBezTo>
                <a:cubicBezTo>
                  <a:pt x="20220" y="17554"/>
                  <a:pt x="19912" y="18223"/>
                  <a:pt x="19530" y="18733"/>
                </a:cubicBezTo>
                <a:cubicBezTo>
                  <a:pt x="19106" y="19331"/>
                  <a:pt x="18586" y="19823"/>
                  <a:pt x="18097" y="20228"/>
                </a:cubicBezTo>
                <a:cubicBezTo>
                  <a:pt x="17588" y="20633"/>
                  <a:pt x="17046" y="21037"/>
                  <a:pt x="16473" y="21266"/>
                </a:cubicBezTo>
                <a:cubicBezTo>
                  <a:pt x="16028" y="21459"/>
                  <a:pt x="15560" y="21494"/>
                  <a:pt x="15093" y="21530"/>
                </a:cubicBezTo>
                <a:cubicBezTo>
                  <a:pt x="14350" y="21600"/>
                  <a:pt x="13607" y="21600"/>
                  <a:pt x="12875" y="21530"/>
                </a:cubicBezTo>
                <a:cubicBezTo>
                  <a:pt x="12408" y="21494"/>
                  <a:pt x="11909" y="21336"/>
                  <a:pt x="11442" y="21266"/>
                </a:cubicBezTo>
                <a:cubicBezTo>
                  <a:pt x="10901" y="21160"/>
                  <a:pt x="10360" y="21037"/>
                  <a:pt x="9829" y="20896"/>
                </a:cubicBezTo>
                <a:cubicBezTo>
                  <a:pt x="9309" y="20756"/>
                  <a:pt x="8767" y="20492"/>
                  <a:pt x="8237" y="20298"/>
                </a:cubicBezTo>
                <a:cubicBezTo>
                  <a:pt x="7759" y="20122"/>
                  <a:pt x="7271" y="19929"/>
                  <a:pt x="6793" y="19700"/>
                </a:cubicBezTo>
                <a:cubicBezTo>
                  <a:pt x="6496" y="19560"/>
                  <a:pt x="6209" y="19419"/>
                  <a:pt x="5923" y="19173"/>
                </a:cubicBezTo>
                <a:cubicBezTo>
                  <a:pt x="5817" y="19085"/>
                  <a:pt x="5530" y="18786"/>
                  <a:pt x="5530" y="18786"/>
                </a:cubicBezTo>
                <a:cubicBezTo>
                  <a:pt x="5530" y="18786"/>
                  <a:pt x="5498" y="18223"/>
                  <a:pt x="5509" y="17959"/>
                </a:cubicBezTo>
                <a:cubicBezTo>
                  <a:pt x="5530" y="17748"/>
                  <a:pt x="5583" y="17484"/>
                  <a:pt x="5626" y="17255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446720" y="7494120"/>
            <a:ext cx="7920" cy="478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502160" y="7515000"/>
            <a:ext cx="4680" cy="522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568760" y="7537320"/>
            <a:ext cx="4680" cy="381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646520" y="7548480"/>
            <a:ext cx="3240" cy="604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22840" y="7567560"/>
            <a:ext cx="9360" cy="540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799160" y="7586640"/>
            <a:ext cx="12600" cy="540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38840" y="7620120"/>
            <a:ext cx="4680" cy="316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54760" y="7626240"/>
            <a:ext cx="4680" cy="3672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14880" y="7621560"/>
            <a:ext cx="9720" cy="396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70320" y="7632720"/>
            <a:ext cx="5040" cy="302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26120" y="7613640"/>
            <a:ext cx="15840" cy="540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84800" y="7613640"/>
            <a:ext cx="14400" cy="284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27640" y="7608960"/>
            <a:ext cx="14400" cy="252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75160" y="7593120"/>
            <a:ext cx="22320" cy="237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7566120"/>
            <a:ext cx="20880" cy="270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46800" y="7545240"/>
            <a:ext cx="23760" cy="334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81720" y="7520040"/>
            <a:ext cx="20520" cy="316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13400" y="7494480"/>
            <a:ext cx="28440" cy="302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41840" y="7467480"/>
            <a:ext cx="30240" cy="288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7448400"/>
            <a:ext cx="29880" cy="208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83240" y="7419960"/>
            <a:ext cx="22320" cy="158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97640" y="7380360"/>
            <a:ext cx="25200" cy="172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02320" y="7343640"/>
            <a:ext cx="41400" cy="144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11680" y="7294680"/>
            <a:ext cx="36720" cy="126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14920" y="7265880"/>
            <a:ext cx="36720" cy="111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14920" y="7243920"/>
            <a:ext cx="50760" cy="93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987800" y="7612200"/>
            <a:ext cx="6480" cy="540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83040" y="7604280"/>
            <a:ext cx="1800" cy="4752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348080" y="6644880"/>
            <a:ext cx="1800" cy="334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00640" y="6636960"/>
            <a:ext cx="3240" cy="3492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465800" y="6624720"/>
            <a:ext cx="7920" cy="316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522680" y="6617880"/>
            <a:ext cx="6480" cy="414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9920" y="6618240"/>
            <a:ext cx="9720" cy="381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640400" y="6621480"/>
            <a:ext cx="9360" cy="396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721400" y="6624720"/>
            <a:ext cx="2880" cy="381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776840" y="6637320"/>
            <a:ext cx="4680" cy="302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835520" y="6632640"/>
            <a:ext cx="11160" cy="381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883040" y="6638760"/>
            <a:ext cx="5040" cy="460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937040" y="6654600"/>
            <a:ext cx="6480" cy="284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986360" y="6646680"/>
            <a:ext cx="9360" cy="428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035680" y="6659640"/>
            <a:ext cx="17280" cy="396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092560" y="6675480"/>
            <a:ext cx="6480" cy="396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154480" y="6689520"/>
            <a:ext cx="14400" cy="428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200560" y="6708240"/>
            <a:ext cx="14400" cy="320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241960" y="6730920"/>
            <a:ext cx="19080" cy="288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289480" y="6757920"/>
            <a:ext cx="22320" cy="2232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329080" y="6784920"/>
            <a:ext cx="20880" cy="237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373720" y="6838920"/>
            <a:ext cx="28440" cy="792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357880" y="6819840"/>
            <a:ext cx="28440" cy="144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408640" y="6868800"/>
            <a:ext cx="33480" cy="2052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435640" y="6916320"/>
            <a:ext cx="34920" cy="2052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52920" y="6981840"/>
            <a:ext cx="41400" cy="144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52920" y="7062840"/>
            <a:ext cx="25560" cy="14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454720" y="7027920"/>
            <a:ext cx="33120" cy="792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445000" y="7094160"/>
            <a:ext cx="25560" cy="46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25920" y="7128000"/>
            <a:ext cx="44640" cy="14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23040" y="7145280"/>
            <a:ext cx="39600" cy="32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09840" y="6616800"/>
            <a:ext cx="2917800" cy="95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54" y="2353"/>
                </a:moveTo>
                <a:cubicBezTo>
                  <a:pt x="20754" y="2353"/>
                  <a:pt x="20721" y="1399"/>
                  <a:pt x="20714" y="994"/>
                </a:cubicBezTo>
                <a:cubicBezTo>
                  <a:pt x="20701" y="690"/>
                  <a:pt x="20654" y="0"/>
                  <a:pt x="20654" y="0"/>
                </a:cubicBezTo>
                <a:cubicBezTo>
                  <a:pt x="20654" y="0"/>
                  <a:pt x="20034" y="385"/>
                  <a:pt x="19721" y="608"/>
                </a:cubicBezTo>
                <a:cubicBezTo>
                  <a:pt x="19388" y="811"/>
                  <a:pt x="19048" y="1156"/>
                  <a:pt x="18768" y="1501"/>
                </a:cubicBezTo>
                <a:cubicBezTo>
                  <a:pt x="18315" y="2048"/>
                  <a:pt x="17922" y="2657"/>
                  <a:pt x="17483" y="3387"/>
                </a:cubicBezTo>
                <a:cubicBezTo>
                  <a:pt x="17010" y="4137"/>
                  <a:pt x="16503" y="4969"/>
                  <a:pt x="16037" y="5780"/>
                </a:cubicBezTo>
                <a:cubicBezTo>
                  <a:pt x="15597" y="6510"/>
                  <a:pt x="15177" y="7362"/>
                  <a:pt x="14751" y="8133"/>
                </a:cubicBezTo>
                <a:cubicBezTo>
                  <a:pt x="14378" y="8863"/>
                  <a:pt x="13978" y="9553"/>
                  <a:pt x="13605" y="10263"/>
                </a:cubicBezTo>
                <a:cubicBezTo>
                  <a:pt x="13132" y="11135"/>
                  <a:pt x="12686" y="12027"/>
                  <a:pt x="12212" y="12798"/>
                </a:cubicBezTo>
                <a:cubicBezTo>
                  <a:pt x="11773" y="13487"/>
                  <a:pt x="11306" y="14339"/>
                  <a:pt x="10840" y="14927"/>
                </a:cubicBezTo>
                <a:cubicBezTo>
                  <a:pt x="10380" y="15576"/>
                  <a:pt x="9914" y="16185"/>
                  <a:pt x="9421" y="16692"/>
                </a:cubicBezTo>
                <a:cubicBezTo>
                  <a:pt x="8901" y="17219"/>
                  <a:pt x="8355" y="17564"/>
                  <a:pt x="7815" y="17848"/>
                </a:cubicBezTo>
                <a:cubicBezTo>
                  <a:pt x="7355" y="18112"/>
                  <a:pt x="6869" y="18355"/>
                  <a:pt x="6396" y="18497"/>
                </a:cubicBezTo>
                <a:cubicBezTo>
                  <a:pt x="5836" y="18619"/>
                  <a:pt x="5250" y="18862"/>
                  <a:pt x="4677" y="18801"/>
                </a:cubicBezTo>
                <a:cubicBezTo>
                  <a:pt x="4251" y="18761"/>
                  <a:pt x="3804" y="18517"/>
                  <a:pt x="3385" y="18233"/>
                </a:cubicBezTo>
                <a:cubicBezTo>
                  <a:pt x="2991" y="17970"/>
                  <a:pt x="2605" y="17463"/>
                  <a:pt x="2212" y="17037"/>
                </a:cubicBezTo>
                <a:cubicBezTo>
                  <a:pt x="1832" y="16611"/>
                  <a:pt x="1426" y="16083"/>
                  <a:pt x="1059" y="15576"/>
                </a:cubicBezTo>
                <a:cubicBezTo>
                  <a:pt x="786" y="15191"/>
                  <a:pt x="260" y="14238"/>
                  <a:pt x="260" y="14238"/>
                </a:cubicBezTo>
                <a:cubicBezTo>
                  <a:pt x="260" y="14238"/>
                  <a:pt x="227" y="14643"/>
                  <a:pt x="187" y="14988"/>
                </a:cubicBezTo>
                <a:cubicBezTo>
                  <a:pt x="147" y="15414"/>
                  <a:pt x="0" y="15962"/>
                  <a:pt x="0" y="15962"/>
                </a:cubicBezTo>
                <a:cubicBezTo>
                  <a:pt x="0" y="15962"/>
                  <a:pt x="526" y="16814"/>
                  <a:pt x="780" y="17158"/>
                </a:cubicBezTo>
                <a:cubicBezTo>
                  <a:pt x="1239" y="17807"/>
                  <a:pt x="1692" y="18497"/>
                  <a:pt x="2172" y="18963"/>
                </a:cubicBezTo>
                <a:cubicBezTo>
                  <a:pt x="2665" y="19470"/>
                  <a:pt x="3185" y="19896"/>
                  <a:pt x="3711" y="20201"/>
                </a:cubicBezTo>
                <a:cubicBezTo>
                  <a:pt x="4311" y="20545"/>
                  <a:pt x="4957" y="20586"/>
                  <a:pt x="5610" y="20586"/>
                </a:cubicBezTo>
                <a:cubicBezTo>
                  <a:pt x="6116" y="20586"/>
                  <a:pt x="6636" y="20363"/>
                  <a:pt x="7142" y="20201"/>
                </a:cubicBezTo>
                <a:cubicBezTo>
                  <a:pt x="7635" y="20038"/>
                  <a:pt x="8142" y="19815"/>
                  <a:pt x="8648" y="19470"/>
                </a:cubicBezTo>
                <a:cubicBezTo>
                  <a:pt x="9194" y="19105"/>
                  <a:pt x="9714" y="18517"/>
                  <a:pt x="10254" y="17970"/>
                </a:cubicBezTo>
                <a:cubicBezTo>
                  <a:pt x="10673" y="17564"/>
                  <a:pt x="11100" y="16976"/>
                  <a:pt x="11513" y="16469"/>
                </a:cubicBezTo>
                <a:cubicBezTo>
                  <a:pt x="11759" y="16185"/>
                  <a:pt x="12013" y="15840"/>
                  <a:pt x="12212" y="15840"/>
                </a:cubicBezTo>
                <a:cubicBezTo>
                  <a:pt x="12646" y="15779"/>
                  <a:pt x="13039" y="15840"/>
                  <a:pt x="13418" y="15921"/>
                </a:cubicBezTo>
                <a:cubicBezTo>
                  <a:pt x="13965" y="16063"/>
                  <a:pt x="14518" y="16225"/>
                  <a:pt x="15051" y="16469"/>
                </a:cubicBezTo>
                <a:cubicBezTo>
                  <a:pt x="15544" y="16692"/>
                  <a:pt x="16057" y="16976"/>
                  <a:pt x="16543" y="17321"/>
                </a:cubicBezTo>
                <a:cubicBezTo>
                  <a:pt x="17136" y="17726"/>
                  <a:pt x="17769" y="18274"/>
                  <a:pt x="18402" y="18801"/>
                </a:cubicBezTo>
                <a:cubicBezTo>
                  <a:pt x="18922" y="19207"/>
                  <a:pt x="19441" y="19653"/>
                  <a:pt x="20008" y="20201"/>
                </a:cubicBezTo>
                <a:cubicBezTo>
                  <a:pt x="20314" y="20505"/>
                  <a:pt x="21287" y="21600"/>
                  <a:pt x="21287" y="21600"/>
                </a:cubicBezTo>
                <a:cubicBezTo>
                  <a:pt x="21287" y="21600"/>
                  <a:pt x="21400" y="20748"/>
                  <a:pt x="21440" y="20363"/>
                </a:cubicBezTo>
                <a:cubicBezTo>
                  <a:pt x="21487" y="19998"/>
                  <a:pt x="21600" y="19207"/>
                  <a:pt x="21600" y="19207"/>
                </a:cubicBezTo>
                <a:cubicBezTo>
                  <a:pt x="21600" y="19207"/>
                  <a:pt x="20767" y="18578"/>
                  <a:pt x="20427" y="18314"/>
                </a:cubicBezTo>
                <a:cubicBezTo>
                  <a:pt x="20161" y="18112"/>
                  <a:pt x="19921" y="17807"/>
                  <a:pt x="19655" y="17625"/>
                </a:cubicBezTo>
                <a:cubicBezTo>
                  <a:pt x="19162" y="17219"/>
                  <a:pt x="18655" y="16814"/>
                  <a:pt x="18182" y="16388"/>
                </a:cubicBezTo>
                <a:cubicBezTo>
                  <a:pt x="17822" y="16083"/>
                  <a:pt x="17289" y="15678"/>
                  <a:pt x="16756" y="15232"/>
                </a:cubicBezTo>
                <a:cubicBezTo>
                  <a:pt x="16403" y="15029"/>
                  <a:pt x="16057" y="14826"/>
                  <a:pt x="15504" y="14481"/>
                </a:cubicBezTo>
                <a:cubicBezTo>
                  <a:pt x="15277" y="14339"/>
                  <a:pt x="15011" y="14136"/>
                  <a:pt x="14771" y="14035"/>
                </a:cubicBezTo>
                <a:cubicBezTo>
                  <a:pt x="14438" y="13913"/>
                  <a:pt x="14111" y="13792"/>
                  <a:pt x="13785" y="13792"/>
                </a:cubicBezTo>
                <a:cubicBezTo>
                  <a:pt x="13618" y="13792"/>
                  <a:pt x="13278" y="13873"/>
                  <a:pt x="13278" y="13873"/>
                </a:cubicBezTo>
                <a:cubicBezTo>
                  <a:pt x="13278" y="13873"/>
                  <a:pt x="13738" y="12838"/>
                  <a:pt x="13965" y="12372"/>
                </a:cubicBezTo>
                <a:cubicBezTo>
                  <a:pt x="14245" y="11763"/>
                  <a:pt x="14531" y="11256"/>
                  <a:pt x="14811" y="10749"/>
                </a:cubicBezTo>
                <a:cubicBezTo>
                  <a:pt x="15037" y="10303"/>
                  <a:pt x="15277" y="9857"/>
                  <a:pt x="15504" y="9411"/>
                </a:cubicBezTo>
                <a:cubicBezTo>
                  <a:pt x="15764" y="8904"/>
                  <a:pt x="16057" y="8397"/>
                  <a:pt x="16317" y="7869"/>
                </a:cubicBezTo>
                <a:cubicBezTo>
                  <a:pt x="16696" y="7159"/>
                  <a:pt x="17089" y="6470"/>
                  <a:pt x="17476" y="5821"/>
                </a:cubicBezTo>
                <a:cubicBezTo>
                  <a:pt x="17709" y="5395"/>
                  <a:pt x="17956" y="4969"/>
                  <a:pt x="18189" y="4624"/>
                </a:cubicBezTo>
                <a:cubicBezTo>
                  <a:pt x="18495" y="4137"/>
                  <a:pt x="18822" y="3732"/>
                  <a:pt x="19148" y="3428"/>
                </a:cubicBezTo>
                <a:cubicBezTo>
                  <a:pt x="19501" y="3083"/>
                  <a:pt x="19854" y="2738"/>
                  <a:pt x="20208" y="2657"/>
                </a:cubicBezTo>
                <a:cubicBezTo>
                  <a:pt x="20414" y="2596"/>
                  <a:pt x="20754" y="2353"/>
                  <a:pt x="20754" y="2353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006560" y="6921360"/>
            <a:ext cx="555480" cy="400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004760" y="6915240"/>
            <a:ext cx="557280" cy="406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28" y="21600"/>
                </a:moveTo>
                <a:cubicBezTo>
                  <a:pt x="20728" y="21600"/>
                  <a:pt x="21600" y="18398"/>
                  <a:pt x="21600" y="18398"/>
                </a:cubicBezTo>
                <a:cubicBezTo>
                  <a:pt x="21600" y="18398"/>
                  <a:pt x="19541" y="17251"/>
                  <a:pt x="18599" y="16535"/>
                </a:cubicBezTo>
                <a:cubicBezTo>
                  <a:pt x="17413" y="15722"/>
                  <a:pt x="14900" y="13858"/>
                  <a:pt x="14900" y="13858"/>
                </a:cubicBezTo>
                <a:cubicBezTo>
                  <a:pt x="14900" y="13858"/>
                  <a:pt x="15214" y="9032"/>
                  <a:pt x="14830" y="6786"/>
                </a:cubicBezTo>
                <a:cubicBezTo>
                  <a:pt x="14691" y="5878"/>
                  <a:pt x="14307" y="4827"/>
                  <a:pt x="13784" y="4014"/>
                </a:cubicBezTo>
                <a:cubicBezTo>
                  <a:pt x="13016" y="2724"/>
                  <a:pt x="11829" y="1625"/>
                  <a:pt x="10538" y="1099"/>
                </a:cubicBezTo>
                <a:cubicBezTo>
                  <a:pt x="9177" y="526"/>
                  <a:pt x="7468" y="0"/>
                  <a:pt x="6002" y="526"/>
                </a:cubicBezTo>
                <a:cubicBezTo>
                  <a:pt x="4885" y="956"/>
                  <a:pt x="3699" y="1625"/>
                  <a:pt x="2826" y="2628"/>
                </a:cubicBezTo>
                <a:cubicBezTo>
                  <a:pt x="1989" y="3536"/>
                  <a:pt x="1361" y="4827"/>
                  <a:pt x="837" y="6165"/>
                </a:cubicBezTo>
                <a:cubicBezTo>
                  <a:pt x="454" y="7168"/>
                  <a:pt x="105" y="8458"/>
                  <a:pt x="105" y="9701"/>
                </a:cubicBezTo>
                <a:cubicBezTo>
                  <a:pt x="0" y="11517"/>
                  <a:pt x="244" y="13619"/>
                  <a:pt x="907" y="15340"/>
                </a:cubicBezTo>
                <a:cubicBezTo>
                  <a:pt x="1186" y="16152"/>
                  <a:pt x="1710" y="16869"/>
                  <a:pt x="2233" y="17490"/>
                </a:cubicBezTo>
                <a:cubicBezTo>
                  <a:pt x="2966" y="18159"/>
                  <a:pt x="3769" y="18781"/>
                  <a:pt x="4641" y="19115"/>
                </a:cubicBezTo>
                <a:cubicBezTo>
                  <a:pt x="5758" y="19354"/>
                  <a:pt x="6944" y="19163"/>
                  <a:pt x="8131" y="18972"/>
                </a:cubicBezTo>
                <a:cubicBezTo>
                  <a:pt x="9177" y="18781"/>
                  <a:pt x="10189" y="18303"/>
                  <a:pt x="11062" y="17681"/>
                </a:cubicBezTo>
                <a:cubicBezTo>
                  <a:pt x="11655" y="17251"/>
                  <a:pt x="12597" y="16057"/>
                  <a:pt x="12597" y="16057"/>
                </a:cubicBezTo>
                <a:cubicBezTo>
                  <a:pt x="12597" y="16057"/>
                  <a:pt x="13504" y="16773"/>
                  <a:pt x="13958" y="17060"/>
                </a:cubicBezTo>
                <a:cubicBezTo>
                  <a:pt x="15075" y="17873"/>
                  <a:pt x="16087" y="18876"/>
                  <a:pt x="17203" y="19593"/>
                </a:cubicBezTo>
                <a:cubicBezTo>
                  <a:pt x="18320" y="20310"/>
                  <a:pt x="20728" y="21600"/>
                  <a:pt x="20728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71720" y="6980400"/>
            <a:ext cx="271440" cy="25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04" y="687"/>
                </a:moveTo>
                <a:cubicBezTo>
                  <a:pt x="11944" y="153"/>
                  <a:pt x="10156" y="0"/>
                  <a:pt x="8583" y="534"/>
                </a:cubicBezTo>
                <a:cubicBezTo>
                  <a:pt x="5936" y="1450"/>
                  <a:pt x="2932" y="3129"/>
                  <a:pt x="1574" y="5801"/>
                </a:cubicBezTo>
                <a:cubicBezTo>
                  <a:pt x="143" y="8548"/>
                  <a:pt x="0" y="12136"/>
                  <a:pt x="1073" y="14960"/>
                </a:cubicBezTo>
                <a:cubicBezTo>
                  <a:pt x="2003" y="17555"/>
                  <a:pt x="4220" y="20150"/>
                  <a:pt x="6795" y="20913"/>
                </a:cubicBezTo>
                <a:cubicBezTo>
                  <a:pt x="8797" y="21600"/>
                  <a:pt x="11372" y="21447"/>
                  <a:pt x="13303" y="21142"/>
                </a:cubicBezTo>
                <a:cubicBezTo>
                  <a:pt x="15306" y="20760"/>
                  <a:pt x="16808" y="19310"/>
                  <a:pt x="18310" y="18165"/>
                </a:cubicBezTo>
                <a:cubicBezTo>
                  <a:pt x="19669" y="17020"/>
                  <a:pt x="20742" y="15494"/>
                  <a:pt x="21171" y="13662"/>
                </a:cubicBezTo>
                <a:cubicBezTo>
                  <a:pt x="21600" y="11601"/>
                  <a:pt x="21171" y="9312"/>
                  <a:pt x="20742" y="7251"/>
                </a:cubicBezTo>
                <a:cubicBezTo>
                  <a:pt x="20313" y="5495"/>
                  <a:pt x="19240" y="4351"/>
                  <a:pt x="18167" y="3206"/>
                </a:cubicBezTo>
                <a:cubicBezTo>
                  <a:pt x="16808" y="1984"/>
                  <a:pt x="15306" y="1145"/>
                  <a:pt x="13804" y="68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71720" y="6980400"/>
            <a:ext cx="271440" cy="25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04" y="687"/>
                </a:moveTo>
                <a:cubicBezTo>
                  <a:pt x="11944" y="153"/>
                  <a:pt x="10156" y="0"/>
                  <a:pt x="8583" y="534"/>
                </a:cubicBezTo>
                <a:cubicBezTo>
                  <a:pt x="5936" y="1450"/>
                  <a:pt x="2932" y="3129"/>
                  <a:pt x="1574" y="5801"/>
                </a:cubicBezTo>
                <a:cubicBezTo>
                  <a:pt x="143" y="8548"/>
                  <a:pt x="0" y="12136"/>
                  <a:pt x="1073" y="14960"/>
                </a:cubicBezTo>
                <a:cubicBezTo>
                  <a:pt x="2003" y="17555"/>
                  <a:pt x="4220" y="20150"/>
                  <a:pt x="6795" y="20913"/>
                </a:cubicBezTo>
                <a:cubicBezTo>
                  <a:pt x="8797" y="21600"/>
                  <a:pt x="11372" y="21447"/>
                  <a:pt x="13303" y="21142"/>
                </a:cubicBezTo>
                <a:cubicBezTo>
                  <a:pt x="15306" y="20760"/>
                  <a:pt x="16808" y="19310"/>
                  <a:pt x="18310" y="18165"/>
                </a:cubicBezTo>
                <a:cubicBezTo>
                  <a:pt x="19669" y="17020"/>
                  <a:pt x="20742" y="15494"/>
                  <a:pt x="21171" y="13662"/>
                </a:cubicBezTo>
                <a:cubicBezTo>
                  <a:pt x="21600" y="11601"/>
                  <a:pt x="21171" y="9312"/>
                  <a:pt x="20742" y="7251"/>
                </a:cubicBezTo>
                <a:cubicBezTo>
                  <a:pt x="20313" y="5495"/>
                  <a:pt x="19240" y="4351"/>
                  <a:pt x="18167" y="3206"/>
                </a:cubicBezTo>
                <a:cubicBezTo>
                  <a:pt x="16808" y="1984"/>
                  <a:pt x="15306" y="1145"/>
                  <a:pt x="13804" y="687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154160" y="7023240"/>
            <a:ext cx="280800" cy="266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150920" y="7021440"/>
            <a:ext cx="284040" cy="26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31" y="4784"/>
                </a:moveTo>
                <a:cubicBezTo>
                  <a:pt x="1303" y="6306"/>
                  <a:pt x="617" y="7973"/>
                  <a:pt x="274" y="9785"/>
                </a:cubicBezTo>
                <a:cubicBezTo>
                  <a:pt x="0" y="12467"/>
                  <a:pt x="411" y="15656"/>
                  <a:pt x="1920" y="17758"/>
                </a:cubicBezTo>
                <a:cubicBezTo>
                  <a:pt x="2606" y="18991"/>
                  <a:pt x="4183" y="19788"/>
                  <a:pt x="5691" y="20440"/>
                </a:cubicBezTo>
                <a:cubicBezTo>
                  <a:pt x="7406" y="21165"/>
                  <a:pt x="9531" y="21600"/>
                  <a:pt x="11451" y="21600"/>
                </a:cubicBezTo>
                <a:cubicBezTo>
                  <a:pt x="13234" y="21600"/>
                  <a:pt x="15223" y="21020"/>
                  <a:pt x="16800" y="19933"/>
                </a:cubicBezTo>
                <a:cubicBezTo>
                  <a:pt x="18240" y="18991"/>
                  <a:pt x="19406" y="17613"/>
                  <a:pt x="20297" y="15946"/>
                </a:cubicBezTo>
                <a:cubicBezTo>
                  <a:pt x="20983" y="14424"/>
                  <a:pt x="21600" y="12467"/>
                  <a:pt x="21600" y="10583"/>
                </a:cubicBezTo>
                <a:cubicBezTo>
                  <a:pt x="21600" y="8191"/>
                  <a:pt x="21120" y="5509"/>
                  <a:pt x="19817" y="3552"/>
                </a:cubicBezTo>
                <a:cubicBezTo>
                  <a:pt x="19269" y="2682"/>
                  <a:pt x="18103" y="1885"/>
                  <a:pt x="17074" y="1450"/>
                </a:cubicBezTo>
                <a:cubicBezTo>
                  <a:pt x="15634" y="652"/>
                  <a:pt x="13783" y="362"/>
                  <a:pt x="12069" y="217"/>
                </a:cubicBezTo>
                <a:cubicBezTo>
                  <a:pt x="10149" y="0"/>
                  <a:pt x="8023" y="507"/>
                  <a:pt x="6240" y="1232"/>
                </a:cubicBezTo>
                <a:cubicBezTo>
                  <a:pt x="4800" y="2030"/>
                  <a:pt x="3291" y="3262"/>
                  <a:pt x="2331" y="4784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1400" y="7078680"/>
            <a:ext cx="183960" cy="16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2" y="4800"/>
                </a:moveTo>
                <a:cubicBezTo>
                  <a:pt x="1054" y="5943"/>
                  <a:pt x="421" y="7657"/>
                  <a:pt x="211" y="9600"/>
                </a:cubicBezTo>
                <a:cubicBezTo>
                  <a:pt x="0" y="12343"/>
                  <a:pt x="421" y="15657"/>
                  <a:pt x="2002" y="17829"/>
                </a:cubicBezTo>
                <a:cubicBezTo>
                  <a:pt x="2845" y="19314"/>
                  <a:pt x="4425" y="20000"/>
                  <a:pt x="5900" y="20686"/>
                </a:cubicBezTo>
                <a:cubicBezTo>
                  <a:pt x="7692" y="21486"/>
                  <a:pt x="9483" y="21600"/>
                  <a:pt x="11274" y="21600"/>
                </a:cubicBezTo>
                <a:cubicBezTo>
                  <a:pt x="13065" y="21600"/>
                  <a:pt x="15173" y="21029"/>
                  <a:pt x="16648" y="20000"/>
                </a:cubicBezTo>
                <a:cubicBezTo>
                  <a:pt x="17807" y="19314"/>
                  <a:pt x="18860" y="17600"/>
                  <a:pt x="19809" y="16229"/>
                </a:cubicBezTo>
                <a:cubicBezTo>
                  <a:pt x="20652" y="14629"/>
                  <a:pt x="21073" y="12571"/>
                  <a:pt x="21389" y="10629"/>
                </a:cubicBezTo>
                <a:cubicBezTo>
                  <a:pt x="21600" y="9143"/>
                  <a:pt x="21600" y="7200"/>
                  <a:pt x="20862" y="5829"/>
                </a:cubicBezTo>
                <a:cubicBezTo>
                  <a:pt x="20020" y="3886"/>
                  <a:pt x="18439" y="2400"/>
                  <a:pt x="16964" y="1371"/>
                </a:cubicBezTo>
                <a:cubicBezTo>
                  <a:pt x="15489" y="457"/>
                  <a:pt x="13592" y="0"/>
                  <a:pt x="11801" y="0"/>
                </a:cubicBezTo>
                <a:cubicBezTo>
                  <a:pt x="10010" y="0"/>
                  <a:pt x="7692" y="229"/>
                  <a:pt x="5900" y="1143"/>
                </a:cubicBezTo>
                <a:cubicBezTo>
                  <a:pt x="4425" y="1943"/>
                  <a:pt x="3056" y="3314"/>
                  <a:pt x="2002" y="48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11400" y="7078680"/>
            <a:ext cx="183960" cy="16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2" y="4800"/>
                </a:moveTo>
                <a:cubicBezTo>
                  <a:pt x="1054" y="5943"/>
                  <a:pt x="421" y="7657"/>
                  <a:pt x="211" y="9600"/>
                </a:cubicBezTo>
                <a:cubicBezTo>
                  <a:pt x="0" y="12343"/>
                  <a:pt x="421" y="15657"/>
                  <a:pt x="2002" y="17829"/>
                </a:cubicBezTo>
                <a:cubicBezTo>
                  <a:pt x="2845" y="19314"/>
                  <a:pt x="4425" y="20000"/>
                  <a:pt x="5900" y="20686"/>
                </a:cubicBezTo>
                <a:cubicBezTo>
                  <a:pt x="7692" y="21486"/>
                  <a:pt x="9483" y="21600"/>
                  <a:pt x="11274" y="21600"/>
                </a:cubicBezTo>
                <a:cubicBezTo>
                  <a:pt x="13065" y="21600"/>
                  <a:pt x="15173" y="21029"/>
                  <a:pt x="16648" y="20000"/>
                </a:cubicBezTo>
                <a:cubicBezTo>
                  <a:pt x="17807" y="19314"/>
                  <a:pt x="18860" y="17600"/>
                  <a:pt x="19809" y="16229"/>
                </a:cubicBezTo>
                <a:cubicBezTo>
                  <a:pt x="20652" y="14629"/>
                  <a:pt x="21073" y="12571"/>
                  <a:pt x="21389" y="10629"/>
                </a:cubicBezTo>
                <a:cubicBezTo>
                  <a:pt x="21600" y="9143"/>
                  <a:pt x="21600" y="7200"/>
                  <a:pt x="20862" y="5829"/>
                </a:cubicBezTo>
                <a:cubicBezTo>
                  <a:pt x="20020" y="3886"/>
                  <a:pt x="18439" y="2400"/>
                  <a:pt x="16964" y="1371"/>
                </a:cubicBezTo>
                <a:cubicBezTo>
                  <a:pt x="15489" y="457"/>
                  <a:pt x="13592" y="0"/>
                  <a:pt x="11801" y="0"/>
                </a:cubicBezTo>
                <a:cubicBezTo>
                  <a:pt x="10010" y="0"/>
                  <a:pt x="7692" y="229"/>
                  <a:pt x="5900" y="1143"/>
                </a:cubicBezTo>
                <a:cubicBezTo>
                  <a:pt x="4425" y="1943"/>
                  <a:pt x="3056" y="3314"/>
                  <a:pt x="2002" y="48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23920" y="7067520"/>
            <a:ext cx="44640" cy="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4988" y="15120"/>
                  <a:pt x="6612" y="7020"/>
                  <a:pt x="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23920" y="7120080"/>
            <a:ext cx="28440" cy="1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4850" y="15429"/>
                  <a:pt x="7425" y="6171"/>
                  <a:pt x="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23920" y="7172280"/>
            <a:ext cx="25560" cy="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4897" y="15429"/>
                  <a:pt x="5959" y="9257"/>
                  <a:pt x="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52360" y="7027920"/>
            <a:ext cx="39960" cy="3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5709" y="15429"/>
                  <a:pt x="8345" y="8023"/>
                  <a:pt x="982" y="0"/>
                </a:cubicBezTo>
                <a:cubicBezTo>
                  <a:pt x="982" y="0"/>
                  <a:pt x="982" y="0"/>
                  <a:pt x="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01680" y="7008840"/>
            <a:ext cx="17640" cy="3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4779" y="14612"/>
                  <a:pt x="6821" y="6353"/>
                  <a:pt x="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9840" y="6616800"/>
            <a:ext cx="2917800" cy="95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54" y="2353"/>
                </a:moveTo>
                <a:cubicBezTo>
                  <a:pt x="20754" y="2353"/>
                  <a:pt x="20721" y="1399"/>
                  <a:pt x="20714" y="994"/>
                </a:cubicBezTo>
                <a:cubicBezTo>
                  <a:pt x="20701" y="690"/>
                  <a:pt x="20654" y="0"/>
                  <a:pt x="20654" y="0"/>
                </a:cubicBezTo>
                <a:cubicBezTo>
                  <a:pt x="20654" y="0"/>
                  <a:pt x="20034" y="385"/>
                  <a:pt x="19721" y="608"/>
                </a:cubicBezTo>
                <a:cubicBezTo>
                  <a:pt x="19388" y="811"/>
                  <a:pt x="19048" y="1156"/>
                  <a:pt x="18768" y="1501"/>
                </a:cubicBezTo>
                <a:cubicBezTo>
                  <a:pt x="18315" y="2048"/>
                  <a:pt x="17922" y="2657"/>
                  <a:pt x="17483" y="3387"/>
                </a:cubicBezTo>
                <a:cubicBezTo>
                  <a:pt x="17010" y="4137"/>
                  <a:pt x="16503" y="4969"/>
                  <a:pt x="16037" y="5780"/>
                </a:cubicBezTo>
                <a:cubicBezTo>
                  <a:pt x="15597" y="6510"/>
                  <a:pt x="15177" y="7362"/>
                  <a:pt x="14751" y="8133"/>
                </a:cubicBezTo>
                <a:cubicBezTo>
                  <a:pt x="14378" y="8863"/>
                  <a:pt x="13978" y="9553"/>
                  <a:pt x="13605" y="10263"/>
                </a:cubicBezTo>
                <a:cubicBezTo>
                  <a:pt x="13132" y="11135"/>
                  <a:pt x="12686" y="12027"/>
                  <a:pt x="12212" y="12798"/>
                </a:cubicBezTo>
                <a:cubicBezTo>
                  <a:pt x="11773" y="13487"/>
                  <a:pt x="11306" y="14339"/>
                  <a:pt x="10840" y="14927"/>
                </a:cubicBezTo>
                <a:cubicBezTo>
                  <a:pt x="10380" y="15576"/>
                  <a:pt x="9914" y="16185"/>
                  <a:pt x="9421" y="16692"/>
                </a:cubicBezTo>
                <a:cubicBezTo>
                  <a:pt x="8901" y="17219"/>
                  <a:pt x="8355" y="17564"/>
                  <a:pt x="7815" y="17848"/>
                </a:cubicBezTo>
                <a:cubicBezTo>
                  <a:pt x="7355" y="18112"/>
                  <a:pt x="6869" y="18355"/>
                  <a:pt x="6396" y="18497"/>
                </a:cubicBezTo>
                <a:cubicBezTo>
                  <a:pt x="5836" y="18619"/>
                  <a:pt x="5250" y="18862"/>
                  <a:pt x="4677" y="18801"/>
                </a:cubicBezTo>
                <a:cubicBezTo>
                  <a:pt x="4251" y="18761"/>
                  <a:pt x="3804" y="18517"/>
                  <a:pt x="3385" y="18233"/>
                </a:cubicBezTo>
                <a:cubicBezTo>
                  <a:pt x="2991" y="17970"/>
                  <a:pt x="2605" y="17463"/>
                  <a:pt x="2212" y="17037"/>
                </a:cubicBezTo>
                <a:cubicBezTo>
                  <a:pt x="1832" y="16611"/>
                  <a:pt x="1426" y="16083"/>
                  <a:pt x="1059" y="15576"/>
                </a:cubicBezTo>
                <a:cubicBezTo>
                  <a:pt x="786" y="15191"/>
                  <a:pt x="260" y="14238"/>
                  <a:pt x="260" y="14238"/>
                </a:cubicBezTo>
                <a:cubicBezTo>
                  <a:pt x="260" y="14238"/>
                  <a:pt x="227" y="14643"/>
                  <a:pt x="187" y="14988"/>
                </a:cubicBezTo>
                <a:cubicBezTo>
                  <a:pt x="147" y="15414"/>
                  <a:pt x="0" y="15962"/>
                  <a:pt x="0" y="15962"/>
                </a:cubicBezTo>
                <a:cubicBezTo>
                  <a:pt x="0" y="15962"/>
                  <a:pt x="526" y="16814"/>
                  <a:pt x="780" y="17158"/>
                </a:cubicBezTo>
                <a:cubicBezTo>
                  <a:pt x="1239" y="17807"/>
                  <a:pt x="1692" y="18497"/>
                  <a:pt x="2172" y="18963"/>
                </a:cubicBezTo>
                <a:cubicBezTo>
                  <a:pt x="2665" y="19470"/>
                  <a:pt x="3185" y="19896"/>
                  <a:pt x="3711" y="20201"/>
                </a:cubicBezTo>
                <a:cubicBezTo>
                  <a:pt x="4311" y="20545"/>
                  <a:pt x="4957" y="20586"/>
                  <a:pt x="5610" y="20586"/>
                </a:cubicBezTo>
                <a:cubicBezTo>
                  <a:pt x="6116" y="20586"/>
                  <a:pt x="6636" y="20363"/>
                  <a:pt x="7142" y="20201"/>
                </a:cubicBezTo>
                <a:cubicBezTo>
                  <a:pt x="7635" y="20038"/>
                  <a:pt x="8142" y="19815"/>
                  <a:pt x="8648" y="19470"/>
                </a:cubicBezTo>
                <a:cubicBezTo>
                  <a:pt x="9194" y="19105"/>
                  <a:pt x="9714" y="18517"/>
                  <a:pt x="10254" y="17970"/>
                </a:cubicBezTo>
                <a:cubicBezTo>
                  <a:pt x="10673" y="17564"/>
                  <a:pt x="11100" y="16976"/>
                  <a:pt x="11513" y="16469"/>
                </a:cubicBezTo>
                <a:cubicBezTo>
                  <a:pt x="11759" y="16185"/>
                  <a:pt x="12013" y="15840"/>
                  <a:pt x="12212" y="15840"/>
                </a:cubicBezTo>
                <a:cubicBezTo>
                  <a:pt x="12646" y="15779"/>
                  <a:pt x="13039" y="15840"/>
                  <a:pt x="13418" y="15921"/>
                </a:cubicBezTo>
                <a:cubicBezTo>
                  <a:pt x="13965" y="16063"/>
                  <a:pt x="14518" y="16225"/>
                  <a:pt x="15051" y="16469"/>
                </a:cubicBezTo>
                <a:cubicBezTo>
                  <a:pt x="15544" y="16692"/>
                  <a:pt x="16057" y="16976"/>
                  <a:pt x="16543" y="17321"/>
                </a:cubicBezTo>
                <a:cubicBezTo>
                  <a:pt x="17136" y="17726"/>
                  <a:pt x="17769" y="18274"/>
                  <a:pt x="18402" y="18801"/>
                </a:cubicBezTo>
                <a:cubicBezTo>
                  <a:pt x="18922" y="19207"/>
                  <a:pt x="19441" y="19653"/>
                  <a:pt x="20008" y="20201"/>
                </a:cubicBezTo>
                <a:cubicBezTo>
                  <a:pt x="20314" y="20505"/>
                  <a:pt x="21287" y="21600"/>
                  <a:pt x="21287" y="21600"/>
                </a:cubicBezTo>
                <a:cubicBezTo>
                  <a:pt x="21287" y="21600"/>
                  <a:pt x="21400" y="20748"/>
                  <a:pt x="21440" y="20363"/>
                </a:cubicBezTo>
                <a:cubicBezTo>
                  <a:pt x="21487" y="19998"/>
                  <a:pt x="21600" y="19207"/>
                  <a:pt x="21600" y="19207"/>
                </a:cubicBezTo>
                <a:cubicBezTo>
                  <a:pt x="21600" y="19207"/>
                  <a:pt x="20767" y="18578"/>
                  <a:pt x="20427" y="18314"/>
                </a:cubicBezTo>
                <a:cubicBezTo>
                  <a:pt x="20161" y="18112"/>
                  <a:pt x="19921" y="17807"/>
                  <a:pt x="19655" y="17625"/>
                </a:cubicBezTo>
                <a:cubicBezTo>
                  <a:pt x="19162" y="17219"/>
                  <a:pt x="18655" y="16814"/>
                  <a:pt x="18182" y="16388"/>
                </a:cubicBezTo>
                <a:cubicBezTo>
                  <a:pt x="17822" y="16083"/>
                  <a:pt x="17289" y="15678"/>
                  <a:pt x="16756" y="15232"/>
                </a:cubicBezTo>
                <a:cubicBezTo>
                  <a:pt x="16403" y="15029"/>
                  <a:pt x="16057" y="14826"/>
                  <a:pt x="15504" y="14481"/>
                </a:cubicBezTo>
                <a:cubicBezTo>
                  <a:pt x="15277" y="14339"/>
                  <a:pt x="15011" y="14136"/>
                  <a:pt x="14771" y="14035"/>
                </a:cubicBezTo>
                <a:cubicBezTo>
                  <a:pt x="14438" y="13913"/>
                  <a:pt x="14111" y="13792"/>
                  <a:pt x="13785" y="13792"/>
                </a:cubicBezTo>
                <a:cubicBezTo>
                  <a:pt x="13618" y="13792"/>
                  <a:pt x="13278" y="13873"/>
                  <a:pt x="13278" y="13873"/>
                </a:cubicBezTo>
                <a:cubicBezTo>
                  <a:pt x="13278" y="13873"/>
                  <a:pt x="13738" y="12838"/>
                  <a:pt x="13965" y="12372"/>
                </a:cubicBezTo>
                <a:cubicBezTo>
                  <a:pt x="14245" y="11763"/>
                  <a:pt x="14531" y="11256"/>
                  <a:pt x="14811" y="10749"/>
                </a:cubicBezTo>
                <a:cubicBezTo>
                  <a:pt x="15037" y="10303"/>
                  <a:pt x="15277" y="9857"/>
                  <a:pt x="15504" y="9411"/>
                </a:cubicBezTo>
                <a:cubicBezTo>
                  <a:pt x="15764" y="8904"/>
                  <a:pt x="16057" y="8397"/>
                  <a:pt x="16317" y="7869"/>
                </a:cubicBezTo>
                <a:cubicBezTo>
                  <a:pt x="16696" y="7159"/>
                  <a:pt x="17089" y="6470"/>
                  <a:pt x="17476" y="5821"/>
                </a:cubicBezTo>
                <a:cubicBezTo>
                  <a:pt x="17709" y="5395"/>
                  <a:pt x="17956" y="4969"/>
                  <a:pt x="18189" y="4624"/>
                </a:cubicBezTo>
                <a:cubicBezTo>
                  <a:pt x="18495" y="4137"/>
                  <a:pt x="18822" y="3732"/>
                  <a:pt x="19148" y="3428"/>
                </a:cubicBezTo>
                <a:cubicBezTo>
                  <a:pt x="19501" y="3083"/>
                  <a:pt x="19854" y="2738"/>
                  <a:pt x="20208" y="2657"/>
                </a:cubicBezTo>
                <a:cubicBezTo>
                  <a:pt x="20414" y="2596"/>
                  <a:pt x="20754" y="2353"/>
                  <a:pt x="20754" y="2353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4T12:56:27Z</dcterms:created>
  <dc:creator>OfficeHamada</dc:creator>
  <dc:description/>
  <dc:language>en-US</dc:language>
  <cp:lastModifiedBy>OfficeHamada</cp:lastModifiedBy>
  <cp:lastPrinted>2016-03-04T17:19:08Z</cp:lastPrinted>
  <dcterms:modified xsi:type="dcterms:W3CDTF">2016-03-16T09:07:16Z</dcterms:modified>
  <cp:revision>25</cp:revision>
  <dc:subject/>
  <dc:title/>
</cp:coreProperties>
</file>