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9251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316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468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00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316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0468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000" y="369000"/>
            <a:ext cx="61556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720720" y="4098960"/>
            <a:ext cx="5398920" cy="402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841" y="9899"/>
                </a:moveTo>
                <a:cubicBezTo>
                  <a:pt x="4223" y="8847"/>
                  <a:pt x="4630" y="7847"/>
                  <a:pt x="5278" y="7103"/>
                </a:cubicBezTo>
                <a:cubicBezTo>
                  <a:pt x="5753" y="6563"/>
                  <a:pt x="6516" y="6838"/>
                  <a:pt x="7103" y="6553"/>
                </a:cubicBezTo>
                <a:cubicBezTo>
                  <a:pt x="7643" y="6287"/>
                  <a:pt x="8075" y="5713"/>
                  <a:pt x="8615" y="5481"/>
                </a:cubicBezTo>
                <a:cubicBezTo>
                  <a:pt x="9241" y="5215"/>
                  <a:pt x="9925" y="5307"/>
                  <a:pt x="10559" y="5085"/>
                </a:cubicBezTo>
                <a:cubicBezTo>
                  <a:pt x="11196" y="4858"/>
                  <a:pt x="11826" y="4554"/>
                  <a:pt x="12413" y="4134"/>
                </a:cubicBezTo>
                <a:cubicBezTo>
                  <a:pt x="12535" y="4052"/>
                  <a:pt x="12650" y="3965"/>
                  <a:pt x="12755" y="3858"/>
                </a:cubicBezTo>
                <a:cubicBezTo>
                  <a:pt x="13536" y="3931"/>
                  <a:pt x="14342" y="4105"/>
                  <a:pt x="15113" y="3858"/>
                </a:cubicBezTo>
                <a:cubicBezTo>
                  <a:pt x="15340" y="3786"/>
                  <a:pt x="14695" y="3250"/>
                  <a:pt x="14828" y="2994"/>
                </a:cubicBezTo>
                <a:cubicBezTo>
                  <a:pt x="14962" y="2748"/>
                  <a:pt x="15289" y="3197"/>
                  <a:pt x="15502" y="3115"/>
                </a:cubicBezTo>
                <a:cubicBezTo>
                  <a:pt x="15689" y="3042"/>
                  <a:pt x="15743" y="2646"/>
                  <a:pt x="15934" y="2564"/>
                </a:cubicBezTo>
                <a:cubicBezTo>
                  <a:pt x="16103" y="2492"/>
                  <a:pt x="16268" y="2675"/>
                  <a:pt x="16438" y="2719"/>
                </a:cubicBezTo>
                <a:cubicBezTo>
                  <a:pt x="16650" y="2757"/>
                  <a:pt x="16891" y="2965"/>
                  <a:pt x="17075" y="2810"/>
                </a:cubicBezTo>
                <a:cubicBezTo>
                  <a:pt x="17273" y="2637"/>
                  <a:pt x="17424" y="2400"/>
                  <a:pt x="17561" y="2134"/>
                </a:cubicBezTo>
                <a:cubicBezTo>
                  <a:pt x="17561" y="1434"/>
                  <a:pt x="17546" y="724"/>
                  <a:pt x="17539" y="24"/>
                </a:cubicBezTo>
                <a:cubicBezTo>
                  <a:pt x="17928" y="72"/>
                  <a:pt x="18306" y="126"/>
                  <a:pt x="18695" y="188"/>
                </a:cubicBezTo>
                <a:cubicBezTo>
                  <a:pt x="19577" y="328"/>
                  <a:pt x="20786" y="575"/>
                  <a:pt x="21600" y="748"/>
                </a:cubicBezTo>
                <a:cubicBezTo>
                  <a:pt x="21600" y="748"/>
                  <a:pt x="21600" y="21600"/>
                  <a:pt x="21600" y="21600"/>
                </a:cubicBezTo>
                <a:cubicBezTo>
                  <a:pt x="21600" y="21600"/>
                  <a:pt x="0" y="21600"/>
                  <a:pt x="0" y="21600"/>
                </a:cubicBezTo>
                <a:cubicBezTo>
                  <a:pt x="0" y="21600"/>
                  <a:pt x="0" y="1217"/>
                  <a:pt x="0" y="1217"/>
                </a:cubicBezTo>
                <a:cubicBezTo>
                  <a:pt x="738" y="922"/>
                  <a:pt x="1523" y="647"/>
                  <a:pt x="2239" y="425"/>
                </a:cubicBezTo>
                <a:cubicBezTo>
                  <a:pt x="2729" y="270"/>
                  <a:pt x="3222" y="126"/>
                  <a:pt x="3719" y="0"/>
                </a:cubicBezTo>
                <a:cubicBezTo>
                  <a:pt x="3719" y="362"/>
                  <a:pt x="3733" y="720"/>
                  <a:pt x="3744" y="1077"/>
                </a:cubicBezTo>
                <a:cubicBezTo>
                  <a:pt x="3780" y="4013"/>
                  <a:pt x="3809" y="6959"/>
                  <a:pt x="3841" y="989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720720" y="1127160"/>
            <a:ext cx="5398920" cy="1633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0"/>
                  <a:pt x="21600" y="0"/>
                </a:cubicBezTo>
                <a:cubicBezTo>
                  <a:pt x="21600" y="0"/>
                  <a:pt x="21600" y="21600"/>
                  <a:pt x="21600" y="21600"/>
                </a:cubicBezTo>
                <a:cubicBezTo>
                  <a:pt x="21503" y="21267"/>
                  <a:pt x="21395" y="20957"/>
                  <a:pt x="21272" y="20719"/>
                </a:cubicBezTo>
                <a:cubicBezTo>
                  <a:pt x="21096" y="20362"/>
                  <a:pt x="20891" y="20053"/>
                  <a:pt x="20689" y="20136"/>
                </a:cubicBezTo>
                <a:cubicBezTo>
                  <a:pt x="20412" y="20220"/>
                  <a:pt x="20171" y="20743"/>
                  <a:pt x="19897" y="20791"/>
                </a:cubicBezTo>
                <a:cubicBezTo>
                  <a:pt x="19638" y="20838"/>
                  <a:pt x="19386" y="20517"/>
                  <a:pt x="19130" y="20339"/>
                </a:cubicBezTo>
                <a:cubicBezTo>
                  <a:pt x="18785" y="20089"/>
                  <a:pt x="18421" y="19958"/>
                  <a:pt x="18079" y="20196"/>
                </a:cubicBezTo>
                <a:cubicBezTo>
                  <a:pt x="17910" y="20315"/>
                  <a:pt x="17752" y="20541"/>
                  <a:pt x="17590" y="20815"/>
                </a:cubicBezTo>
                <a:cubicBezTo>
                  <a:pt x="17579" y="20696"/>
                  <a:pt x="17572" y="20588"/>
                  <a:pt x="17554" y="20458"/>
                </a:cubicBezTo>
                <a:cubicBezTo>
                  <a:pt x="17417" y="19327"/>
                  <a:pt x="17172" y="18303"/>
                  <a:pt x="16862" y="17530"/>
                </a:cubicBezTo>
                <a:cubicBezTo>
                  <a:pt x="16603" y="16863"/>
                  <a:pt x="16290" y="16447"/>
                  <a:pt x="15970" y="16292"/>
                </a:cubicBezTo>
                <a:cubicBezTo>
                  <a:pt x="15577" y="16090"/>
                  <a:pt x="15167" y="16090"/>
                  <a:pt x="14764" y="16090"/>
                </a:cubicBezTo>
                <a:cubicBezTo>
                  <a:pt x="14321" y="16090"/>
                  <a:pt x="13853" y="16185"/>
                  <a:pt x="13471" y="15507"/>
                </a:cubicBezTo>
                <a:cubicBezTo>
                  <a:pt x="13252" y="15138"/>
                  <a:pt x="13129" y="14352"/>
                  <a:pt x="13039" y="13555"/>
                </a:cubicBezTo>
                <a:cubicBezTo>
                  <a:pt x="12913" y="12436"/>
                  <a:pt x="12816" y="11294"/>
                  <a:pt x="12701" y="10151"/>
                </a:cubicBezTo>
                <a:cubicBezTo>
                  <a:pt x="12571" y="8842"/>
                  <a:pt x="12449" y="7521"/>
                  <a:pt x="12161" y="6641"/>
                </a:cubicBezTo>
                <a:cubicBezTo>
                  <a:pt x="11905" y="5855"/>
                  <a:pt x="11545" y="5558"/>
                  <a:pt x="11189" y="5558"/>
                </a:cubicBezTo>
                <a:cubicBezTo>
                  <a:pt x="10915" y="5558"/>
                  <a:pt x="10642" y="5808"/>
                  <a:pt x="10397" y="6284"/>
                </a:cubicBezTo>
                <a:cubicBezTo>
                  <a:pt x="10206" y="6664"/>
                  <a:pt x="10048" y="7200"/>
                  <a:pt x="9932" y="7819"/>
                </a:cubicBezTo>
                <a:cubicBezTo>
                  <a:pt x="9749" y="8807"/>
                  <a:pt x="9637" y="9890"/>
                  <a:pt x="9598" y="11008"/>
                </a:cubicBezTo>
                <a:cubicBezTo>
                  <a:pt x="9562" y="12139"/>
                  <a:pt x="9623" y="13269"/>
                  <a:pt x="9479" y="14162"/>
                </a:cubicBezTo>
                <a:cubicBezTo>
                  <a:pt x="9364" y="14840"/>
                  <a:pt x="9133" y="15435"/>
                  <a:pt x="8878" y="15483"/>
                </a:cubicBezTo>
                <a:cubicBezTo>
                  <a:pt x="8561" y="15542"/>
                  <a:pt x="8320" y="15007"/>
                  <a:pt x="8053" y="14733"/>
                </a:cubicBezTo>
                <a:cubicBezTo>
                  <a:pt x="7628" y="14305"/>
                  <a:pt x="7164" y="14281"/>
                  <a:pt x="6700" y="14400"/>
                </a:cubicBezTo>
                <a:cubicBezTo>
                  <a:pt x="6199" y="14555"/>
                  <a:pt x="5702" y="15055"/>
                  <a:pt x="5270" y="15888"/>
                </a:cubicBezTo>
                <a:cubicBezTo>
                  <a:pt x="4860" y="16661"/>
                  <a:pt x="4511" y="17732"/>
                  <a:pt x="4252" y="19029"/>
                </a:cubicBezTo>
                <a:cubicBezTo>
                  <a:pt x="4100" y="19148"/>
                  <a:pt x="3938" y="19279"/>
                  <a:pt x="3780" y="19351"/>
                </a:cubicBezTo>
                <a:cubicBezTo>
                  <a:pt x="3416" y="19529"/>
                  <a:pt x="3053" y="19839"/>
                  <a:pt x="2682" y="19684"/>
                </a:cubicBezTo>
                <a:cubicBezTo>
                  <a:pt x="2441" y="19577"/>
                  <a:pt x="2207" y="19137"/>
                  <a:pt x="1962" y="19232"/>
                </a:cubicBezTo>
                <a:cubicBezTo>
                  <a:pt x="1728" y="19327"/>
                  <a:pt x="1537" y="19993"/>
                  <a:pt x="1300" y="19993"/>
                </a:cubicBezTo>
                <a:cubicBezTo>
                  <a:pt x="1033" y="19993"/>
                  <a:pt x="814" y="19410"/>
                  <a:pt x="565" y="19375"/>
                </a:cubicBezTo>
                <a:cubicBezTo>
                  <a:pt x="364" y="19351"/>
                  <a:pt x="184" y="19636"/>
                  <a:pt x="0" y="19958"/>
                </a:cubicBezTo>
                <a:cubicBezTo>
                  <a:pt x="0" y="19958"/>
                  <a:pt x="0" y="0"/>
                  <a:pt x="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5146560" y="2709720"/>
            <a:ext cx="973080" cy="47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1503"/>
                </a:moveTo>
                <a:cubicBezTo>
                  <a:pt x="21600" y="11503"/>
                  <a:pt x="21600" y="20772"/>
                  <a:pt x="21600" y="20772"/>
                </a:cubicBezTo>
                <a:cubicBezTo>
                  <a:pt x="20223" y="21393"/>
                  <a:pt x="18805" y="21600"/>
                  <a:pt x="17567" y="20690"/>
                </a:cubicBezTo>
                <a:cubicBezTo>
                  <a:pt x="15012" y="19034"/>
                  <a:pt x="13894" y="15972"/>
                  <a:pt x="12716" y="13034"/>
                </a:cubicBezTo>
                <a:cubicBezTo>
                  <a:pt x="11000" y="8731"/>
                  <a:pt x="9123" y="4428"/>
                  <a:pt x="6628" y="3807"/>
                </a:cubicBezTo>
                <a:cubicBezTo>
                  <a:pt x="5290" y="3476"/>
                  <a:pt x="4092" y="5214"/>
                  <a:pt x="3094" y="7324"/>
                </a:cubicBezTo>
                <a:cubicBezTo>
                  <a:pt x="2116" y="9393"/>
                  <a:pt x="1238" y="11793"/>
                  <a:pt x="379" y="14152"/>
                </a:cubicBezTo>
                <a:cubicBezTo>
                  <a:pt x="260" y="11172"/>
                  <a:pt x="180" y="8276"/>
                  <a:pt x="0" y="5586"/>
                </a:cubicBezTo>
                <a:cubicBezTo>
                  <a:pt x="978" y="4386"/>
                  <a:pt x="1996" y="3186"/>
                  <a:pt x="2955" y="2152"/>
                </a:cubicBezTo>
                <a:cubicBezTo>
                  <a:pt x="4132" y="952"/>
                  <a:pt x="5410" y="0"/>
                  <a:pt x="6528" y="331"/>
                </a:cubicBezTo>
                <a:cubicBezTo>
                  <a:pt x="10640" y="1531"/>
                  <a:pt x="13715" y="8483"/>
                  <a:pt x="17727" y="11255"/>
                </a:cubicBezTo>
                <a:cubicBezTo>
                  <a:pt x="18705" y="11959"/>
                  <a:pt x="20462" y="11793"/>
                  <a:pt x="21600" y="11503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5119560" y="2637000"/>
            <a:ext cx="1000080" cy="33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056"/>
                </a:moveTo>
                <a:cubicBezTo>
                  <a:pt x="21600" y="8056"/>
                  <a:pt x="21600" y="20958"/>
                  <a:pt x="21600" y="20958"/>
                </a:cubicBezTo>
                <a:cubicBezTo>
                  <a:pt x="20492" y="21366"/>
                  <a:pt x="18781" y="21600"/>
                  <a:pt x="17828" y="20608"/>
                </a:cubicBezTo>
                <a:cubicBezTo>
                  <a:pt x="13920" y="16696"/>
                  <a:pt x="10926" y="6889"/>
                  <a:pt x="6921" y="5196"/>
                </a:cubicBezTo>
                <a:cubicBezTo>
                  <a:pt x="5833" y="4729"/>
                  <a:pt x="4588" y="6071"/>
                  <a:pt x="3441" y="7764"/>
                </a:cubicBezTo>
                <a:cubicBezTo>
                  <a:pt x="2508" y="9224"/>
                  <a:pt x="1555" y="10975"/>
                  <a:pt x="603" y="12668"/>
                </a:cubicBezTo>
                <a:cubicBezTo>
                  <a:pt x="525" y="9749"/>
                  <a:pt x="272" y="6889"/>
                  <a:pt x="0" y="4320"/>
                </a:cubicBezTo>
                <a:cubicBezTo>
                  <a:pt x="855" y="2977"/>
                  <a:pt x="1672" y="1751"/>
                  <a:pt x="2586" y="1168"/>
                </a:cubicBezTo>
                <a:cubicBezTo>
                  <a:pt x="4433" y="0"/>
                  <a:pt x="6396" y="642"/>
                  <a:pt x="8263" y="1868"/>
                </a:cubicBezTo>
                <a:cubicBezTo>
                  <a:pt x="9643" y="2744"/>
                  <a:pt x="11004" y="4320"/>
                  <a:pt x="12404" y="4086"/>
                </a:cubicBezTo>
                <a:cubicBezTo>
                  <a:pt x="13882" y="3853"/>
                  <a:pt x="15184" y="1284"/>
                  <a:pt x="16681" y="876"/>
                </a:cubicBezTo>
                <a:cubicBezTo>
                  <a:pt x="17770" y="467"/>
                  <a:pt x="18878" y="1985"/>
                  <a:pt x="19831" y="3736"/>
                </a:cubicBezTo>
                <a:cubicBezTo>
                  <a:pt x="20492" y="4904"/>
                  <a:pt x="21075" y="6422"/>
                  <a:pt x="21600" y="805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720720" y="2697120"/>
            <a:ext cx="955800" cy="55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799"/>
                </a:moveTo>
                <a:cubicBezTo>
                  <a:pt x="0" y="20799"/>
                  <a:pt x="0" y="4459"/>
                  <a:pt x="0" y="4459"/>
                </a:cubicBezTo>
                <a:cubicBezTo>
                  <a:pt x="2316" y="2752"/>
                  <a:pt x="4633" y="1428"/>
                  <a:pt x="7051" y="906"/>
                </a:cubicBezTo>
                <a:cubicBezTo>
                  <a:pt x="11034" y="0"/>
                  <a:pt x="15199" y="174"/>
                  <a:pt x="19141" y="1707"/>
                </a:cubicBezTo>
                <a:cubicBezTo>
                  <a:pt x="19974" y="2090"/>
                  <a:pt x="20787" y="2543"/>
                  <a:pt x="21600" y="3170"/>
                </a:cubicBezTo>
                <a:cubicBezTo>
                  <a:pt x="20726" y="6794"/>
                  <a:pt x="20035" y="10277"/>
                  <a:pt x="20035" y="10277"/>
                </a:cubicBezTo>
                <a:cubicBezTo>
                  <a:pt x="20035" y="10277"/>
                  <a:pt x="18329" y="9302"/>
                  <a:pt x="17475" y="8884"/>
                </a:cubicBezTo>
                <a:cubicBezTo>
                  <a:pt x="15707" y="7908"/>
                  <a:pt x="13939" y="7107"/>
                  <a:pt x="12334" y="7699"/>
                </a:cubicBezTo>
                <a:cubicBezTo>
                  <a:pt x="10383" y="8396"/>
                  <a:pt x="8798" y="10626"/>
                  <a:pt x="7945" y="13517"/>
                </a:cubicBezTo>
                <a:cubicBezTo>
                  <a:pt x="7132" y="16200"/>
                  <a:pt x="6827" y="19092"/>
                  <a:pt x="5629" y="20276"/>
                </a:cubicBezTo>
                <a:cubicBezTo>
                  <a:pt x="4287" y="21600"/>
                  <a:pt x="1991" y="21391"/>
                  <a:pt x="0" y="20799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20720" y="2697120"/>
            <a:ext cx="955800" cy="55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4529"/>
                </a:moveTo>
                <a:cubicBezTo>
                  <a:pt x="2316" y="2822"/>
                  <a:pt x="4633" y="1428"/>
                  <a:pt x="7051" y="906"/>
                </a:cubicBezTo>
                <a:cubicBezTo>
                  <a:pt x="11034" y="0"/>
                  <a:pt x="15199" y="174"/>
                  <a:pt x="19141" y="1707"/>
                </a:cubicBezTo>
                <a:cubicBezTo>
                  <a:pt x="19974" y="2090"/>
                  <a:pt x="20787" y="2543"/>
                  <a:pt x="21600" y="3170"/>
                </a:cubicBezTo>
                <a:cubicBezTo>
                  <a:pt x="20726" y="6794"/>
                  <a:pt x="20035" y="10277"/>
                  <a:pt x="20035" y="10277"/>
                </a:cubicBezTo>
                <a:cubicBezTo>
                  <a:pt x="20035" y="10277"/>
                  <a:pt x="18329" y="9302"/>
                  <a:pt x="17475" y="8884"/>
                </a:cubicBezTo>
                <a:cubicBezTo>
                  <a:pt x="15707" y="7908"/>
                  <a:pt x="13939" y="7107"/>
                  <a:pt x="12334" y="7699"/>
                </a:cubicBezTo>
                <a:cubicBezTo>
                  <a:pt x="10383" y="8396"/>
                  <a:pt x="8798" y="10626"/>
                  <a:pt x="7945" y="13517"/>
                </a:cubicBezTo>
                <a:cubicBezTo>
                  <a:pt x="7132" y="16200"/>
                  <a:pt x="6827" y="19092"/>
                  <a:pt x="5629" y="20276"/>
                </a:cubicBezTo>
                <a:cubicBezTo>
                  <a:pt x="4287" y="21600"/>
                  <a:pt x="1991" y="21391"/>
                  <a:pt x="0" y="20799"/>
                </a:cubicBezTo>
                <a:cubicBezTo>
                  <a:pt x="0" y="20799"/>
                  <a:pt x="0" y="4529"/>
                  <a:pt x="0" y="4529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2567160"/>
            <a:ext cx="1062000" cy="24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0" y="6409"/>
                  <a:pt x="0" y="6409"/>
                </a:cubicBezTo>
                <a:cubicBezTo>
                  <a:pt x="933" y="4193"/>
                  <a:pt x="1847" y="2136"/>
                  <a:pt x="2871" y="2295"/>
                </a:cubicBezTo>
                <a:cubicBezTo>
                  <a:pt x="4133" y="2532"/>
                  <a:pt x="5249" y="6409"/>
                  <a:pt x="6603" y="6409"/>
                </a:cubicBezTo>
                <a:cubicBezTo>
                  <a:pt x="7810" y="6409"/>
                  <a:pt x="8779" y="1978"/>
                  <a:pt x="9968" y="1345"/>
                </a:cubicBezTo>
                <a:cubicBezTo>
                  <a:pt x="11212" y="712"/>
                  <a:pt x="12400" y="3640"/>
                  <a:pt x="13626" y="4352"/>
                </a:cubicBezTo>
                <a:cubicBezTo>
                  <a:pt x="15510" y="5380"/>
                  <a:pt x="17357" y="3323"/>
                  <a:pt x="19204" y="2136"/>
                </a:cubicBezTo>
                <a:cubicBezTo>
                  <a:pt x="20009" y="1662"/>
                  <a:pt x="20832" y="791"/>
                  <a:pt x="21600" y="0"/>
                </a:cubicBezTo>
                <a:cubicBezTo>
                  <a:pt x="21399" y="1345"/>
                  <a:pt x="21216" y="2690"/>
                  <a:pt x="21015" y="4035"/>
                </a:cubicBezTo>
                <a:cubicBezTo>
                  <a:pt x="20521" y="7754"/>
                  <a:pt x="19936" y="13371"/>
                  <a:pt x="19442" y="18673"/>
                </a:cubicBezTo>
                <a:cubicBezTo>
                  <a:pt x="18710" y="17248"/>
                  <a:pt x="17979" y="16220"/>
                  <a:pt x="17229" y="15349"/>
                </a:cubicBezTo>
                <a:cubicBezTo>
                  <a:pt x="13681" y="11868"/>
                  <a:pt x="9931" y="11473"/>
                  <a:pt x="6346" y="13530"/>
                </a:cubicBezTo>
                <a:cubicBezTo>
                  <a:pt x="4170" y="14716"/>
                  <a:pt x="2085" y="17723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49520" y="3983040"/>
            <a:ext cx="3370320" cy="72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3447"/>
                </a:moveTo>
                <a:cubicBezTo>
                  <a:pt x="1148" y="2505"/>
                  <a:pt x="2296" y="1697"/>
                  <a:pt x="3433" y="1239"/>
                </a:cubicBezTo>
                <a:cubicBezTo>
                  <a:pt x="5729" y="404"/>
                  <a:pt x="8094" y="0"/>
                  <a:pt x="10454" y="269"/>
                </a:cubicBezTo>
                <a:cubicBezTo>
                  <a:pt x="12808" y="566"/>
                  <a:pt x="15092" y="970"/>
                  <a:pt x="17365" y="1697"/>
                </a:cubicBezTo>
                <a:cubicBezTo>
                  <a:pt x="18796" y="2155"/>
                  <a:pt x="20198" y="2666"/>
                  <a:pt x="21600" y="3286"/>
                </a:cubicBezTo>
                <a:cubicBezTo>
                  <a:pt x="21415" y="4498"/>
                  <a:pt x="21237" y="5494"/>
                  <a:pt x="21000" y="6491"/>
                </a:cubicBezTo>
                <a:cubicBezTo>
                  <a:pt x="20383" y="9049"/>
                  <a:pt x="19748" y="11716"/>
                  <a:pt x="18992" y="13305"/>
                </a:cubicBezTo>
                <a:cubicBezTo>
                  <a:pt x="17844" y="15756"/>
                  <a:pt x="16627" y="17237"/>
                  <a:pt x="15392" y="18422"/>
                </a:cubicBezTo>
                <a:cubicBezTo>
                  <a:pt x="13771" y="19984"/>
                  <a:pt x="12138" y="21385"/>
                  <a:pt x="10483" y="21519"/>
                </a:cubicBezTo>
                <a:cubicBezTo>
                  <a:pt x="8042" y="21600"/>
                  <a:pt x="5585" y="21196"/>
                  <a:pt x="3190" y="19122"/>
                </a:cubicBezTo>
                <a:cubicBezTo>
                  <a:pt x="2071" y="18072"/>
                  <a:pt x="1050" y="15405"/>
                  <a:pt x="40" y="12631"/>
                </a:cubicBezTo>
                <a:cubicBezTo>
                  <a:pt x="40" y="11527"/>
                  <a:pt x="40" y="10531"/>
                  <a:pt x="40" y="9453"/>
                </a:cubicBezTo>
                <a:cubicBezTo>
                  <a:pt x="23" y="7460"/>
                  <a:pt x="0" y="5467"/>
                  <a:pt x="0" y="3447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60680" y="4722840"/>
            <a:ext cx="2249280" cy="1222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" y="21600"/>
                </a:moveTo>
                <a:cubicBezTo>
                  <a:pt x="156" y="14904"/>
                  <a:pt x="86" y="8207"/>
                  <a:pt x="0" y="1495"/>
                </a:cubicBezTo>
                <a:cubicBezTo>
                  <a:pt x="354" y="1797"/>
                  <a:pt x="760" y="2036"/>
                  <a:pt x="1149" y="2084"/>
                </a:cubicBezTo>
                <a:cubicBezTo>
                  <a:pt x="1745" y="2163"/>
                  <a:pt x="1961" y="0"/>
                  <a:pt x="2549" y="48"/>
                </a:cubicBezTo>
                <a:cubicBezTo>
                  <a:pt x="3845" y="111"/>
                  <a:pt x="4933" y="1988"/>
                  <a:pt x="6212" y="2386"/>
                </a:cubicBezTo>
                <a:cubicBezTo>
                  <a:pt x="7379" y="2768"/>
                  <a:pt x="8588" y="2465"/>
                  <a:pt x="9772" y="2386"/>
                </a:cubicBezTo>
                <a:cubicBezTo>
                  <a:pt x="10921" y="2322"/>
                  <a:pt x="12087" y="2115"/>
                  <a:pt x="13236" y="1988"/>
                </a:cubicBezTo>
                <a:cubicBezTo>
                  <a:pt x="14610" y="1829"/>
                  <a:pt x="15975" y="1559"/>
                  <a:pt x="17349" y="1495"/>
                </a:cubicBezTo>
                <a:cubicBezTo>
                  <a:pt x="18386" y="1416"/>
                  <a:pt x="19440" y="1559"/>
                  <a:pt x="20485" y="1591"/>
                </a:cubicBezTo>
                <a:cubicBezTo>
                  <a:pt x="20848" y="1591"/>
                  <a:pt x="21220" y="1622"/>
                  <a:pt x="21600" y="1654"/>
                </a:cubicBezTo>
                <a:cubicBezTo>
                  <a:pt x="21349" y="1988"/>
                  <a:pt x="21056" y="2322"/>
                  <a:pt x="20762" y="2593"/>
                </a:cubicBezTo>
                <a:cubicBezTo>
                  <a:pt x="19354" y="3976"/>
                  <a:pt x="17842" y="4978"/>
                  <a:pt x="16312" y="5726"/>
                </a:cubicBezTo>
                <a:cubicBezTo>
                  <a:pt x="14792" y="6458"/>
                  <a:pt x="13150" y="6156"/>
                  <a:pt x="11647" y="7030"/>
                </a:cubicBezTo>
                <a:cubicBezTo>
                  <a:pt x="10351" y="7794"/>
                  <a:pt x="9314" y="9687"/>
                  <a:pt x="8018" y="10561"/>
                </a:cubicBezTo>
                <a:cubicBezTo>
                  <a:pt x="6610" y="11500"/>
                  <a:pt x="4778" y="10593"/>
                  <a:pt x="3637" y="12375"/>
                </a:cubicBezTo>
                <a:cubicBezTo>
                  <a:pt x="2082" y="14824"/>
                  <a:pt x="1123" y="18148"/>
                  <a:pt x="207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55640" y="4095720"/>
            <a:ext cx="345456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37" y="0"/>
                </a:moveTo>
                <a:cubicBezTo>
                  <a:pt x="21217" y="50"/>
                  <a:pt x="21386" y="74"/>
                  <a:pt x="21549" y="149"/>
                </a:cubicBezTo>
                <a:cubicBezTo>
                  <a:pt x="21566" y="3774"/>
                  <a:pt x="21589" y="7448"/>
                  <a:pt x="21600" y="11048"/>
                </a:cubicBezTo>
                <a:cubicBezTo>
                  <a:pt x="21386" y="12414"/>
                  <a:pt x="21150" y="13630"/>
                  <a:pt x="20840" y="14524"/>
                </a:cubicBezTo>
                <a:cubicBezTo>
                  <a:pt x="20553" y="15319"/>
                  <a:pt x="20176" y="14251"/>
                  <a:pt x="19844" y="14052"/>
                </a:cubicBezTo>
                <a:cubicBezTo>
                  <a:pt x="19580" y="13829"/>
                  <a:pt x="19321" y="12886"/>
                  <a:pt x="19056" y="13258"/>
                </a:cubicBezTo>
                <a:cubicBezTo>
                  <a:pt x="18758" y="13680"/>
                  <a:pt x="18673" y="15716"/>
                  <a:pt x="18381" y="16088"/>
                </a:cubicBezTo>
                <a:cubicBezTo>
                  <a:pt x="18049" y="16510"/>
                  <a:pt x="17537" y="14201"/>
                  <a:pt x="17328" y="15468"/>
                </a:cubicBezTo>
                <a:cubicBezTo>
                  <a:pt x="17120" y="16783"/>
                  <a:pt x="18128" y="19539"/>
                  <a:pt x="17773" y="19912"/>
                </a:cubicBezTo>
                <a:cubicBezTo>
                  <a:pt x="16344" y="21426"/>
                  <a:pt x="14835" y="19812"/>
                  <a:pt x="13372" y="19763"/>
                </a:cubicBezTo>
                <a:cubicBezTo>
                  <a:pt x="12691" y="19713"/>
                  <a:pt x="12004" y="19490"/>
                  <a:pt x="11329" y="19614"/>
                </a:cubicBezTo>
                <a:cubicBezTo>
                  <a:pt x="10434" y="19713"/>
                  <a:pt x="9545" y="20135"/>
                  <a:pt x="8650" y="20383"/>
                </a:cubicBezTo>
                <a:cubicBezTo>
                  <a:pt x="7902" y="20582"/>
                  <a:pt x="7142" y="20905"/>
                  <a:pt x="6393" y="21004"/>
                </a:cubicBezTo>
                <a:cubicBezTo>
                  <a:pt x="5622" y="21128"/>
                  <a:pt x="4834" y="21600"/>
                  <a:pt x="4075" y="21004"/>
                </a:cubicBezTo>
                <a:cubicBezTo>
                  <a:pt x="3242" y="20383"/>
                  <a:pt x="2533" y="17454"/>
                  <a:pt x="1688" y="17354"/>
                </a:cubicBezTo>
                <a:cubicBezTo>
                  <a:pt x="1306" y="17280"/>
                  <a:pt x="1165" y="20657"/>
                  <a:pt x="777" y="20532"/>
                </a:cubicBezTo>
                <a:cubicBezTo>
                  <a:pt x="523" y="20458"/>
                  <a:pt x="281" y="20135"/>
                  <a:pt x="56" y="19663"/>
                </a:cubicBezTo>
                <a:cubicBezTo>
                  <a:pt x="45" y="15989"/>
                  <a:pt x="11" y="12265"/>
                  <a:pt x="0" y="8590"/>
                </a:cubicBezTo>
                <a:cubicBezTo>
                  <a:pt x="985" y="11172"/>
                  <a:pt x="1981" y="13556"/>
                  <a:pt x="3073" y="14524"/>
                </a:cubicBezTo>
                <a:cubicBezTo>
                  <a:pt x="5408" y="16436"/>
                  <a:pt x="7806" y="16808"/>
                  <a:pt x="10187" y="16734"/>
                </a:cubicBezTo>
                <a:cubicBezTo>
                  <a:pt x="11802" y="16610"/>
                  <a:pt x="13394" y="15319"/>
                  <a:pt x="14976" y="13879"/>
                </a:cubicBezTo>
                <a:cubicBezTo>
                  <a:pt x="16180" y="12786"/>
                  <a:pt x="17368" y="11421"/>
                  <a:pt x="18488" y="9161"/>
                </a:cubicBezTo>
                <a:cubicBezTo>
                  <a:pt x="19225" y="7697"/>
                  <a:pt x="19844" y="5239"/>
                  <a:pt x="20446" y="2880"/>
                </a:cubicBezTo>
                <a:cubicBezTo>
                  <a:pt x="20677" y="1961"/>
                  <a:pt x="20868" y="1092"/>
                  <a:pt x="21037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0720" y="2567160"/>
            <a:ext cx="1062000" cy="24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85" y="17751"/>
                  <a:pt x="4170" y="14609"/>
                  <a:pt x="6346" y="13431"/>
                </a:cubicBezTo>
                <a:cubicBezTo>
                  <a:pt x="9931" y="11389"/>
                  <a:pt x="13681" y="11782"/>
                  <a:pt x="17229" y="15238"/>
                </a:cubicBezTo>
                <a:cubicBezTo>
                  <a:pt x="17979" y="16102"/>
                  <a:pt x="18710" y="17123"/>
                  <a:pt x="19442" y="18537"/>
                </a:cubicBezTo>
                <a:cubicBezTo>
                  <a:pt x="19936" y="13274"/>
                  <a:pt x="20521" y="7697"/>
                  <a:pt x="21015" y="4006"/>
                </a:cubicBezTo>
                <a:cubicBezTo>
                  <a:pt x="21216" y="2671"/>
                  <a:pt x="21399" y="1335"/>
                  <a:pt x="21600" y="0"/>
                </a:cubicBezTo>
                <a:cubicBezTo>
                  <a:pt x="20832" y="785"/>
                  <a:pt x="20009" y="1649"/>
                  <a:pt x="19204" y="2121"/>
                </a:cubicBezTo>
                <a:cubicBezTo>
                  <a:pt x="17357" y="3299"/>
                  <a:pt x="15510" y="5341"/>
                  <a:pt x="13626" y="4320"/>
                </a:cubicBezTo>
                <a:cubicBezTo>
                  <a:pt x="12400" y="3613"/>
                  <a:pt x="11212" y="707"/>
                  <a:pt x="9968" y="1335"/>
                </a:cubicBezTo>
                <a:cubicBezTo>
                  <a:pt x="8779" y="1964"/>
                  <a:pt x="7810" y="6362"/>
                  <a:pt x="6603" y="6362"/>
                </a:cubicBezTo>
                <a:cubicBezTo>
                  <a:pt x="5249" y="6362"/>
                  <a:pt x="4133" y="2513"/>
                  <a:pt x="2871" y="2278"/>
                </a:cubicBezTo>
                <a:cubicBezTo>
                  <a:pt x="1847" y="2121"/>
                  <a:pt x="933" y="4006"/>
                  <a:pt x="0" y="6127"/>
                </a:cubicBezTo>
                <a:cubicBezTo>
                  <a:pt x="0" y="6127"/>
                  <a:pt x="0" y="21600"/>
                  <a:pt x="0" y="21600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1127160"/>
            <a:ext cx="5398920" cy="1633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958"/>
                </a:moveTo>
                <a:cubicBezTo>
                  <a:pt x="184" y="19636"/>
                  <a:pt x="364" y="19351"/>
                  <a:pt x="565" y="19375"/>
                </a:cubicBezTo>
                <a:cubicBezTo>
                  <a:pt x="814" y="19410"/>
                  <a:pt x="1033" y="19993"/>
                  <a:pt x="1300" y="19993"/>
                </a:cubicBezTo>
                <a:cubicBezTo>
                  <a:pt x="1537" y="19993"/>
                  <a:pt x="1728" y="19327"/>
                  <a:pt x="1962" y="19232"/>
                </a:cubicBezTo>
                <a:cubicBezTo>
                  <a:pt x="2207" y="19137"/>
                  <a:pt x="2441" y="19577"/>
                  <a:pt x="2682" y="19684"/>
                </a:cubicBezTo>
                <a:cubicBezTo>
                  <a:pt x="3053" y="19839"/>
                  <a:pt x="3416" y="19529"/>
                  <a:pt x="3780" y="19351"/>
                </a:cubicBezTo>
                <a:cubicBezTo>
                  <a:pt x="3938" y="19279"/>
                  <a:pt x="4100" y="19148"/>
                  <a:pt x="4252" y="19029"/>
                </a:cubicBezTo>
                <a:cubicBezTo>
                  <a:pt x="4511" y="17732"/>
                  <a:pt x="4860" y="16661"/>
                  <a:pt x="5270" y="15888"/>
                </a:cubicBezTo>
                <a:cubicBezTo>
                  <a:pt x="5702" y="15055"/>
                  <a:pt x="6199" y="14555"/>
                  <a:pt x="6700" y="14400"/>
                </a:cubicBezTo>
                <a:cubicBezTo>
                  <a:pt x="7164" y="14281"/>
                  <a:pt x="7628" y="14305"/>
                  <a:pt x="8053" y="14733"/>
                </a:cubicBezTo>
                <a:cubicBezTo>
                  <a:pt x="8320" y="15007"/>
                  <a:pt x="8561" y="15542"/>
                  <a:pt x="8878" y="15483"/>
                </a:cubicBezTo>
                <a:cubicBezTo>
                  <a:pt x="9133" y="15435"/>
                  <a:pt x="9364" y="14840"/>
                  <a:pt x="9479" y="14162"/>
                </a:cubicBezTo>
                <a:cubicBezTo>
                  <a:pt x="9623" y="13269"/>
                  <a:pt x="9562" y="12139"/>
                  <a:pt x="9598" y="11008"/>
                </a:cubicBezTo>
                <a:cubicBezTo>
                  <a:pt x="9637" y="9890"/>
                  <a:pt x="9749" y="8807"/>
                  <a:pt x="9932" y="7819"/>
                </a:cubicBezTo>
                <a:cubicBezTo>
                  <a:pt x="10048" y="7200"/>
                  <a:pt x="10206" y="6664"/>
                  <a:pt x="10397" y="6284"/>
                </a:cubicBezTo>
                <a:cubicBezTo>
                  <a:pt x="10642" y="5808"/>
                  <a:pt x="10915" y="5558"/>
                  <a:pt x="11189" y="5558"/>
                </a:cubicBezTo>
                <a:cubicBezTo>
                  <a:pt x="11545" y="5558"/>
                  <a:pt x="11905" y="5855"/>
                  <a:pt x="12161" y="6641"/>
                </a:cubicBezTo>
                <a:cubicBezTo>
                  <a:pt x="12449" y="7521"/>
                  <a:pt x="12571" y="8842"/>
                  <a:pt x="12701" y="10151"/>
                </a:cubicBezTo>
                <a:cubicBezTo>
                  <a:pt x="12816" y="11294"/>
                  <a:pt x="12913" y="12436"/>
                  <a:pt x="13039" y="13555"/>
                </a:cubicBezTo>
                <a:cubicBezTo>
                  <a:pt x="13129" y="14352"/>
                  <a:pt x="13252" y="15138"/>
                  <a:pt x="13471" y="15507"/>
                </a:cubicBezTo>
                <a:cubicBezTo>
                  <a:pt x="13853" y="16185"/>
                  <a:pt x="14321" y="16090"/>
                  <a:pt x="14764" y="16090"/>
                </a:cubicBezTo>
                <a:cubicBezTo>
                  <a:pt x="15167" y="16090"/>
                  <a:pt x="15577" y="16090"/>
                  <a:pt x="15970" y="16292"/>
                </a:cubicBezTo>
                <a:cubicBezTo>
                  <a:pt x="16290" y="16447"/>
                  <a:pt x="16603" y="16863"/>
                  <a:pt x="16862" y="17530"/>
                </a:cubicBezTo>
                <a:cubicBezTo>
                  <a:pt x="17172" y="18303"/>
                  <a:pt x="17417" y="19327"/>
                  <a:pt x="17554" y="20458"/>
                </a:cubicBezTo>
                <a:cubicBezTo>
                  <a:pt x="17572" y="20588"/>
                  <a:pt x="17582" y="20719"/>
                  <a:pt x="17600" y="20838"/>
                </a:cubicBezTo>
                <a:cubicBezTo>
                  <a:pt x="17759" y="20565"/>
                  <a:pt x="17910" y="20315"/>
                  <a:pt x="18079" y="20196"/>
                </a:cubicBezTo>
                <a:cubicBezTo>
                  <a:pt x="18421" y="19958"/>
                  <a:pt x="18785" y="20089"/>
                  <a:pt x="19130" y="20339"/>
                </a:cubicBezTo>
                <a:cubicBezTo>
                  <a:pt x="19386" y="20517"/>
                  <a:pt x="19638" y="20838"/>
                  <a:pt x="19897" y="20791"/>
                </a:cubicBezTo>
                <a:cubicBezTo>
                  <a:pt x="20171" y="20743"/>
                  <a:pt x="20412" y="20220"/>
                  <a:pt x="20689" y="20136"/>
                </a:cubicBezTo>
                <a:cubicBezTo>
                  <a:pt x="20891" y="20053"/>
                  <a:pt x="21096" y="20362"/>
                  <a:pt x="21272" y="20719"/>
                </a:cubicBezTo>
                <a:cubicBezTo>
                  <a:pt x="21395" y="20957"/>
                  <a:pt x="21503" y="21267"/>
                  <a:pt x="21600" y="21600"/>
                </a:cubicBezTo>
                <a:cubicBezTo>
                  <a:pt x="21600" y="21600"/>
                  <a:pt x="21600" y="0"/>
                  <a:pt x="21600" y="0"/>
                </a:cubicBezTo>
                <a:cubicBezTo>
                  <a:pt x="21600" y="0"/>
                  <a:pt x="0" y="0"/>
                  <a:pt x="0" y="0"/>
                </a:cubicBezTo>
                <a:cubicBezTo>
                  <a:pt x="0" y="0"/>
                  <a:pt x="0" y="19958"/>
                  <a:pt x="0" y="1995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0720" y="2544840"/>
            <a:ext cx="114156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868" y="15894"/>
                  <a:pt x="1719" y="10596"/>
                  <a:pt x="2672" y="11004"/>
                </a:cubicBezTo>
                <a:cubicBezTo>
                  <a:pt x="3847" y="11615"/>
                  <a:pt x="4885" y="21600"/>
                  <a:pt x="6145" y="21600"/>
                </a:cubicBezTo>
                <a:cubicBezTo>
                  <a:pt x="7268" y="21600"/>
                  <a:pt x="8170" y="10189"/>
                  <a:pt x="9277" y="8558"/>
                </a:cubicBezTo>
                <a:cubicBezTo>
                  <a:pt x="10434" y="6928"/>
                  <a:pt x="11540" y="14468"/>
                  <a:pt x="12681" y="16302"/>
                </a:cubicBezTo>
                <a:cubicBezTo>
                  <a:pt x="14434" y="18951"/>
                  <a:pt x="16153" y="13653"/>
                  <a:pt x="17872" y="10596"/>
                </a:cubicBezTo>
                <a:cubicBezTo>
                  <a:pt x="19132" y="8558"/>
                  <a:pt x="20391" y="407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18120" y="2637000"/>
            <a:ext cx="1001520" cy="33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59" y="12668"/>
                </a:moveTo>
                <a:cubicBezTo>
                  <a:pt x="1609" y="10975"/>
                  <a:pt x="2559" y="9224"/>
                  <a:pt x="3490" y="7764"/>
                </a:cubicBezTo>
                <a:cubicBezTo>
                  <a:pt x="4634" y="6071"/>
                  <a:pt x="5875" y="4729"/>
                  <a:pt x="6961" y="5196"/>
                </a:cubicBezTo>
                <a:cubicBezTo>
                  <a:pt x="10955" y="6889"/>
                  <a:pt x="13941" y="16696"/>
                  <a:pt x="17838" y="20608"/>
                </a:cubicBezTo>
                <a:cubicBezTo>
                  <a:pt x="18789" y="21600"/>
                  <a:pt x="20495" y="21366"/>
                  <a:pt x="21600" y="20958"/>
                </a:cubicBezTo>
                <a:cubicBezTo>
                  <a:pt x="21600" y="20958"/>
                  <a:pt x="21600" y="8056"/>
                  <a:pt x="21600" y="8056"/>
                </a:cubicBezTo>
                <a:cubicBezTo>
                  <a:pt x="21076" y="6422"/>
                  <a:pt x="20495" y="4904"/>
                  <a:pt x="19836" y="3736"/>
                </a:cubicBezTo>
                <a:cubicBezTo>
                  <a:pt x="18885" y="1985"/>
                  <a:pt x="17780" y="467"/>
                  <a:pt x="16694" y="876"/>
                </a:cubicBezTo>
                <a:cubicBezTo>
                  <a:pt x="15201" y="1284"/>
                  <a:pt x="13902" y="3853"/>
                  <a:pt x="12429" y="4086"/>
                </a:cubicBezTo>
                <a:cubicBezTo>
                  <a:pt x="11033" y="4320"/>
                  <a:pt x="9675" y="2744"/>
                  <a:pt x="8299" y="1868"/>
                </a:cubicBezTo>
                <a:cubicBezTo>
                  <a:pt x="6437" y="642"/>
                  <a:pt x="4479" y="0"/>
                  <a:pt x="2637" y="1168"/>
                </a:cubicBezTo>
                <a:cubicBezTo>
                  <a:pt x="1726" y="1751"/>
                  <a:pt x="873" y="2861"/>
                  <a:pt x="0" y="4203"/>
                </a:cubicBezTo>
                <a:cubicBezTo>
                  <a:pt x="291" y="6772"/>
                  <a:pt x="582" y="9749"/>
                  <a:pt x="659" y="12668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48360" y="2709720"/>
            <a:ext cx="971280" cy="47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5628"/>
                </a:moveTo>
                <a:cubicBezTo>
                  <a:pt x="980" y="4428"/>
                  <a:pt x="1960" y="3186"/>
                  <a:pt x="2920" y="2152"/>
                </a:cubicBezTo>
                <a:cubicBezTo>
                  <a:pt x="4100" y="952"/>
                  <a:pt x="5380" y="0"/>
                  <a:pt x="6500" y="331"/>
                </a:cubicBezTo>
                <a:cubicBezTo>
                  <a:pt x="10620" y="1531"/>
                  <a:pt x="13700" y="8483"/>
                  <a:pt x="17720" y="11255"/>
                </a:cubicBezTo>
                <a:cubicBezTo>
                  <a:pt x="18700" y="11959"/>
                  <a:pt x="20460" y="11793"/>
                  <a:pt x="21600" y="11503"/>
                </a:cubicBezTo>
                <a:cubicBezTo>
                  <a:pt x="21600" y="11503"/>
                  <a:pt x="21600" y="20772"/>
                  <a:pt x="21600" y="20772"/>
                </a:cubicBezTo>
                <a:cubicBezTo>
                  <a:pt x="20220" y="21393"/>
                  <a:pt x="18800" y="21600"/>
                  <a:pt x="17560" y="20690"/>
                </a:cubicBezTo>
                <a:cubicBezTo>
                  <a:pt x="15000" y="19034"/>
                  <a:pt x="13880" y="15972"/>
                  <a:pt x="12700" y="13034"/>
                </a:cubicBezTo>
                <a:cubicBezTo>
                  <a:pt x="10980" y="8731"/>
                  <a:pt x="9100" y="4428"/>
                  <a:pt x="6600" y="3807"/>
                </a:cubicBezTo>
                <a:cubicBezTo>
                  <a:pt x="5260" y="3476"/>
                  <a:pt x="4060" y="5214"/>
                  <a:pt x="3060" y="7324"/>
                </a:cubicBezTo>
                <a:cubicBezTo>
                  <a:pt x="2080" y="9393"/>
                  <a:pt x="1200" y="11793"/>
                  <a:pt x="340" y="14152"/>
                </a:cubicBezTo>
                <a:cubicBezTo>
                  <a:pt x="220" y="11172"/>
                  <a:pt x="160" y="8359"/>
                  <a:pt x="0" y="5628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57640" y="2637000"/>
            <a:ext cx="106200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5" y="17843"/>
                </a:moveTo>
                <a:cubicBezTo>
                  <a:pt x="55" y="17217"/>
                  <a:pt x="0" y="16591"/>
                  <a:pt x="73" y="16278"/>
                </a:cubicBezTo>
                <a:cubicBezTo>
                  <a:pt x="1280" y="11270"/>
                  <a:pt x="2433" y="5322"/>
                  <a:pt x="3713" y="3130"/>
                </a:cubicBezTo>
                <a:cubicBezTo>
                  <a:pt x="5450" y="0"/>
                  <a:pt x="7298" y="1722"/>
                  <a:pt x="9053" y="5009"/>
                </a:cubicBezTo>
                <a:cubicBezTo>
                  <a:pt x="10352" y="7357"/>
                  <a:pt x="11632" y="11583"/>
                  <a:pt x="12949" y="10957"/>
                </a:cubicBezTo>
                <a:cubicBezTo>
                  <a:pt x="14339" y="10330"/>
                  <a:pt x="15564" y="3443"/>
                  <a:pt x="16973" y="2348"/>
                </a:cubicBezTo>
                <a:cubicBezTo>
                  <a:pt x="17997" y="1252"/>
                  <a:pt x="19039" y="5322"/>
                  <a:pt x="19936" y="10017"/>
                </a:cubicBezTo>
                <a:cubicBezTo>
                  <a:pt x="20557" y="13148"/>
                  <a:pt x="21106" y="17217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65360" y="4722840"/>
            <a:ext cx="2243160" cy="122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7" y="21600"/>
                </a:moveTo>
                <a:cubicBezTo>
                  <a:pt x="1066" y="18130"/>
                  <a:pt x="2045" y="14835"/>
                  <a:pt x="3604" y="12384"/>
                </a:cubicBezTo>
                <a:cubicBezTo>
                  <a:pt x="4748" y="10601"/>
                  <a:pt x="6585" y="11508"/>
                  <a:pt x="7997" y="10569"/>
                </a:cubicBezTo>
                <a:cubicBezTo>
                  <a:pt x="9297" y="9694"/>
                  <a:pt x="10336" y="7800"/>
                  <a:pt x="11636" y="7036"/>
                </a:cubicBezTo>
                <a:cubicBezTo>
                  <a:pt x="13144" y="6160"/>
                  <a:pt x="14790" y="6462"/>
                  <a:pt x="16315" y="5730"/>
                </a:cubicBezTo>
                <a:cubicBezTo>
                  <a:pt x="17848" y="4982"/>
                  <a:pt x="19365" y="3979"/>
                  <a:pt x="20777" y="2595"/>
                </a:cubicBezTo>
                <a:cubicBezTo>
                  <a:pt x="21071" y="2324"/>
                  <a:pt x="21349" y="2037"/>
                  <a:pt x="21600" y="1687"/>
                </a:cubicBezTo>
                <a:cubicBezTo>
                  <a:pt x="21219" y="1655"/>
                  <a:pt x="20864" y="1592"/>
                  <a:pt x="20500" y="1592"/>
                </a:cubicBezTo>
                <a:cubicBezTo>
                  <a:pt x="19451" y="1560"/>
                  <a:pt x="18394" y="1417"/>
                  <a:pt x="17355" y="1496"/>
                </a:cubicBezTo>
                <a:cubicBezTo>
                  <a:pt x="15977" y="1560"/>
                  <a:pt x="14608" y="1831"/>
                  <a:pt x="13230" y="1990"/>
                </a:cubicBezTo>
                <a:cubicBezTo>
                  <a:pt x="12078" y="2117"/>
                  <a:pt x="10908" y="2324"/>
                  <a:pt x="9756" y="2388"/>
                </a:cubicBezTo>
                <a:cubicBezTo>
                  <a:pt x="8569" y="2467"/>
                  <a:pt x="7356" y="2770"/>
                  <a:pt x="6186" y="2388"/>
                </a:cubicBezTo>
                <a:cubicBezTo>
                  <a:pt x="4904" y="1990"/>
                  <a:pt x="3812" y="111"/>
                  <a:pt x="2513" y="48"/>
                </a:cubicBezTo>
                <a:cubicBezTo>
                  <a:pt x="1923" y="0"/>
                  <a:pt x="1707" y="2165"/>
                  <a:pt x="1109" y="2085"/>
                </a:cubicBezTo>
                <a:cubicBezTo>
                  <a:pt x="719" y="2037"/>
                  <a:pt x="347" y="1831"/>
                  <a:pt x="0" y="1528"/>
                </a:cubicBezTo>
                <a:cubicBezTo>
                  <a:pt x="61" y="8261"/>
                  <a:pt x="87" y="14867"/>
                  <a:pt x="147" y="21600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55640" y="4092480"/>
            <a:ext cx="3454560" cy="78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6" y="19670"/>
                </a:moveTo>
                <a:cubicBezTo>
                  <a:pt x="281" y="20140"/>
                  <a:pt x="523" y="20462"/>
                  <a:pt x="777" y="20536"/>
                </a:cubicBezTo>
                <a:cubicBezTo>
                  <a:pt x="1165" y="20660"/>
                  <a:pt x="1306" y="17295"/>
                  <a:pt x="1688" y="17369"/>
                </a:cubicBezTo>
                <a:cubicBezTo>
                  <a:pt x="2533" y="17468"/>
                  <a:pt x="3242" y="20388"/>
                  <a:pt x="4075" y="21006"/>
                </a:cubicBezTo>
                <a:cubicBezTo>
                  <a:pt x="4834" y="21600"/>
                  <a:pt x="5622" y="21130"/>
                  <a:pt x="6393" y="21006"/>
                </a:cubicBezTo>
                <a:cubicBezTo>
                  <a:pt x="7142" y="20907"/>
                  <a:pt x="7902" y="20586"/>
                  <a:pt x="8650" y="20388"/>
                </a:cubicBezTo>
                <a:cubicBezTo>
                  <a:pt x="9545" y="20140"/>
                  <a:pt x="10434" y="19720"/>
                  <a:pt x="11329" y="19621"/>
                </a:cubicBezTo>
                <a:cubicBezTo>
                  <a:pt x="12004" y="19497"/>
                  <a:pt x="12691" y="19720"/>
                  <a:pt x="13372" y="19769"/>
                </a:cubicBezTo>
                <a:cubicBezTo>
                  <a:pt x="14835" y="19819"/>
                  <a:pt x="16344" y="21427"/>
                  <a:pt x="17773" y="19918"/>
                </a:cubicBezTo>
                <a:cubicBezTo>
                  <a:pt x="18128" y="19546"/>
                  <a:pt x="17120" y="16800"/>
                  <a:pt x="17328" y="15489"/>
                </a:cubicBezTo>
                <a:cubicBezTo>
                  <a:pt x="17537" y="14227"/>
                  <a:pt x="18049" y="16528"/>
                  <a:pt x="18381" y="16107"/>
                </a:cubicBezTo>
                <a:cubicBezTo>
                  <a:pt x="18673" y="15736"/>
                  <a:pt x="18758" y="13707"/>
                  <a:pt x="19056" y="13287"/>
                </a:cubicBezTo>
                <a:cubicBezTo>
                  <a:pt x="19321" y="12915"/>
                  <a:pt x="19580" y="13856"/>
                  <a:pt x="19844" y="14078"/>
                </a:cubicBezTo>
                <a:cubicBezTo>
                  <a:pt x="20176" y="14276"/>
                  <a:pt x="20553" y="15340"/>
                  <a:pt x="20840" y="14548"/>
                </a:cubicBezTo>
                <a:cubicBezTo>
                  <a:pt x="21150" y="13658"/>
                  <a:pt x="21386" y="12495"/>
                  <a:pt x="21600" y="11134"/>
                </a:cubicBezTo>
                <a:cubicBezTo>
                  <a:pt x="21600" y="7546"/>
                  <a:pt x="21577" y="3860"/>
                  <a:pt x="21566" y="272"/>
                </a:cubicBezTo>
                <a:cubicBezTo>
                  <a:pt x="21397" y="148"/>
                  <a:pt x="21206" y="74"/>
                  <a:pt x="21032" y="0"/>
                </a:cubicBezTo>
                <a:cubicBezTo>
                  <a:pt x="20851" y="1113"/>
                  <a:pt x="20677" y="2029"/>
                  <a:pt x="20446" y="2944"/>
                </a:cubicBezTo>
                <a:cubicBezTo>
                  <a:pt x="19844" y="5295"/>
                  <a:pt x="19225" y="7744"/>
                  <a:pt x="18488" y="9204"/>
                </a:cubicBezTo>
                <a:cubicBezTo>
                  <a:pt x="17368" y="11456"/>
                  <a:pt x="16180" y="12816"/>
                  <a:pt x="14976" y="13905"/>
                </a:cubicBezTo>
                <a:cubicBezTo>
                  <a:pt x="13394" y="15340"/>
                  <a:pt x="11802" y="16627"/>
                  <a:pt x="10187" y="16751"/>
                </a:cubicBezTo>
                <a:cubicBezTo>
                  <a:pt x="7806" y="16825"/>
                  <a:pt x="5408" y="16454"/>
                  <a:pt x="3073" y="14548"/>
                </a:cubicBezTo>
                <a:cubicBezTo>
                  <a:pt x="1981" y="13584"/>
                  <a:pt x="985" y="11134"/>
                  <a:pt x="0" y="8586"/>
                </a:cubicBezTo>
                <a:cubicBezTo>
                  <a:pt x="11" y="12247"/>
                  <a:pt x="45" y="16008"/>
                  <a:pt x="56" y="1967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49520" y="3983040"/>
            <a:ext cx="3370320" cy="72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0" y="12631"/>
                </a:moveTo>
                <a:cubicBezTo>
                  <a:pt x="1050" y="15405"/>
                  <a:pt x="2071" y="18072"/>
                  <a:pt x="3190" y="19122"/>
                </a:cubicBezTo>
                <a:cubicBezTo>
                  <a:pt x="5583" y="21196"/>
                  <a:pt x="8040" y="21600"/>
                  <a:pt x="10480" y="21519"/>
                </a:cubicBezTo>
                <a:cubicBezTo>
                  <a:pt x="12135" y="21385"/>
                  <a:pt x="13767" y="19984"/>
                  <a:pt x="15388" y="18422"/>
                </a:cubicBezTo>
                <a:cubicBezTo>
                  <a:pt x="16622" y="17237"/>
                  <a:pt x="17839" y="15756"/>
                  <a:pt x="18987" y="13305"/>
                </a:cubicBezTo>
                <a:cubicBezTo>
                  <a:pt x="19743" y="11716"/>
                  <a:pt x="20377" y="9049"/>
                  <a:pt x="20994" y="6491"/>
                </a:cubicBezTo>
                <a:cubicBezTo>
                  <a:pt x="21231" y="5494"/>
                  <a:pt x="21427" y="4444"/>
                  <a:pt x="21600" y="3232"/>
                </a:cubicBezTo>
                <a:cubicBezTo>
                  <a:pt x="20204" y="2612"/>
                  <a:pt x="18791" y="2155"/>
                  <a:pt x="17361" y="1697"/>
                </a:cubicBezTo>
                <a:cubicBezTo>
                  <a:pt x="15088" y="970"/>
                  <a:pt x="12804" y="566"/>
                  <a:pt x="10451" y="269"/>
                </a:cubicBezTo>
                <a:cubicBezTo>
                  <a:pt x="8092" y="0"/>
                  <a:pt x="5727" y="404"/>
                  <a:pt x="3432" y="1239"/>
                </a:cubicBezTo>
                <a:cubicBezTo>
                  <a:pt x="2296" y="1697"/>
                  <a:pt x="1148" y="2505"/>
                  <a:pt x="0" y="3447"/>
                </a:cubicBezTo>
                <a:cubicBezTo>
                  <a:pt x="0" y="5467"/>
                  <a:pt x="23" y="7460"/>
                  <a:pt x="40" y="9453"/>
                </a:cubicBezTo>
                <a:cubicBezTo>
                  <a:pt x="40" y="10531"/>
                  <a:pt x="40" y="11527"/>
                  <a:pt x="40" y="12631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0720" y="1547640"/>
            <a:ext cx="5398920" cy="277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2558"/>
                </a:moveTo>
                <a:cubicBezTo>
                  <a:pt x="21600" y="12558"/>
                  <a:pt x="21600" y="20935"/>
                  <a:pt x="21600" y="20935"/>
                </a:cubicBezTo>
                <a:cubicBezTo>
                  <a:pt x="20801" y="20682"/>
                  <a:pt x="19577" y="20325"/>
                  <a:pt x="18695" y="20122"/>
                </a:cubicBezTo>
                <a:cubicBezTo>
                  <a:pt x="18306" y="20031"/>
                  <a:pt x="17917" y="19947"/>
                  <a:pt x="17528" y="19870"/>
                </a:cubicBezTo>
                <a:cubicBezTo>
                  <a:pt x="17518" y="18609"/>
                  <a:pt x="17510" y="17370"/>
                  <a:pt x="17485" y="16109"/>
                </a:cubicBezTo>
                <a:cubicBezTo>
                  <a:pt x="17456" y="14337"/>
                  <a:pt x="17456" y="12579"/>
                  <a:pt x="17377" y="10814"/>
                </a:cubicBezTo>
                <a:cubicBezTo>
                  <a:pt x="17334" y="9749"/>
                  <a:pt x="17082" y="8790"/>
                  <a:pt x="16693" y="8047"/>
                </a:cubicBezTo>
                <a:cubicBezTo>
                  <a:pt x="16481" y="7648"/>
                  <a:pt x="16207" y="7445"/>
                  <a:pt x="15919" y="7354"/>
                </a:cubicBezTo>
                <a:cubicBezTo>
                  <a:pt x="15502" y="7221"/>
                  <a:pt x="15066" y="7249"/>
                  <a:pt x="14641" y="7200"/>
                </a:cubicBezTo>
                <a:cubicBezTo>
                  <a:pt x="14224" y="7172"/>
                  <a:pt x="13799" y="7081"/>
                  <a:pt x="13439" y="6745"/>
                </a:cubicBezTo>
                <a:cubicBezTo>
                  <a:pt x="13259" y="6570"/>
                  <a:pt x="13082" y="6346"/>
                  <a:pt x="12960" y="6051"/>
                </a:cubicBezTo>
                <a:cubicBezTo>
                  <a:pt x="12823" y="5722"/>
                  <a:pt x="12740" y="5344"/>
                  <a:pt x="12665" y="4959"/>
                </a:cubicBezTo>
                <a:cubicBezTo>
                  <a:pt x="12510" y="4174"/>
                  <a:pt x="12420" y="3313"/>
                  <a:pt x="12283" y="2451"/>
                </a:cubicBezTo>
                <a:cubicBezTo>
                  <a:pt x="12236" y="2157"/>
                  <a:pt x="12078" y="1555"/>
                  <a:pt x="11801" y="1212"/>
                </a:cubicBezTo>
                <a:cubicBezTo>
                  <a:pt x="11498" y="826"/>
                  <a:pt x="11110" y="742"/>
                  <a:pt x="10771" y="1002"/>
                </a:cubicBezTo>
                <a:cubicBezTo>
                  <a:pt x="10505" y="1212"/>
                  <a:pt x="10278" y="1611"/>
                  <a:pt x="10145" y="2129"/>
                </a:cubicBezTo>
                <a:cubicBezTo>
                  <a:pt x="10001" y="2725"/>
                  <a:pt x="9979" y="3397"/>
                  <a:pt x="9958" y="4097"/>
                </a:cubicBezTo>
                <a:cubicBezTo>
                  <a:pt x="9940" y="4616"/>
                  <a:pt x="9904" y="5148"/>
                  <a:pt x="9781" y="5666"/>
                </a:cubicBezTo>
                <a:cubicBezTo>
                  <a:pt x="9695" y="6009"/>
                  <a:pt x="9551" y="6304"/>
                  <a:pt x="9338" y="6479"/>
                </a:cubicBezTo>
                <a:cubicBezTo>
                  <a:pt x="9101" y="6668"/>
                  <a:pt x="8852" y="6668"/>
                  <a:pt x="8604" y="6598"/>
                </a:cubicBezTo>
                <a:cubicBezTo>
                  <a:pt x="8046" y="6430"/>
                  <a:pt x="7506" y="6051"/>
                  <a:pt x="6952" y="6065"/>
                </a:cubicBezTo>
                <a:cubicBezTo>
                  <a:pt x="6570" y="6079"/>
                  <a:pt x="6170" y="6346"/>
                  <a:pt x="5825" y="6668"/>
                </a:cubicBezTo>
                <a:cubicBezTo>
                  <a:pt x="5375" y="7081"/>
                  <a:pt x="5011" y="7634"/>
                  <a:pt x="4730" y="8286"/>
                </a:cubicBezTo>
                <a:cubicBezTo>
                  <a:pt x="4302" y="9259"/>
                  <a:pt x="4046" y="10457"/>
                  <a:pt x="3938" y="11718"/>
                </a:cubicBezTo>
                <a:cubicBezTo>
                  <a:pt x="3719" y="14379"/>
                  <a:pt x="3701" y="17118"/>
                  <a:pt x="3726" y="19849"/>
                </a:cubicBezTo>
                <a:cubicBezTo>
                  <a:pt x="3233" y="20031"/>
                  <a:pt x="2729" y="20241"/>
                  <a:pt x="2239" y="20465"/>
                </a:cubicBezTo>
                <a:cubicBezTo>
                  <a:pt x="1523" y="20788"/>
                  <a:pt x="770" y="21173"/>
                  <a:pt x="29" y="21600"/>
                </a:cubicBezTo>
                <a:cubicBezTo>
                  <a:pt x="29" y="21600"/>
                  <a:pt x="0" y="13125"/>
                  <a:pt x="0" y="13125"/>
                </a:cubicBezTo>
                <a:cubicBezTo>
                  <a:pt x="353" y="13244"/>
                  <a:pt x="760" y="13286"/>
                  <a:pt x="997" y="13020"/>
                </a:cubicBezTo>
                <a:cubicBezTo>
                  <a:pt x="1210" y="12782"/>
                  <a:pt x="1264" y="12201"/>
                  <a:pt x="1408" y="11661"/>
                </a:cubicBezTo>
                <a:cubicBezTo>
                  <a:pt x="1559" y="11080"/>
                  <a:pt x="1840" y="10632"/>
                  <a:pt x="2185" y="10492"/>
                </a:cubicBezTo>
                <a:cubicBezTo>
                  <a:pt x="2470" y="10373"/>
                  <a:pt x="2783" y="10534"/>
                  <a:pt x="3096" y="10730"/>
                </a:cubicBezTo>
                <a:cubicBezTo>
                  <a:pt x="3247" y="10814"/>
                  <a:pt x="3550" y="11010"/>
                  <a:pt x="3550" y="11010"/>
                </a:cubicBezTo>
                <a:cubicBezTo>
                  <a:pt x="3550" y="11010"/>
                  <a:pt x="3888" y="9126"/>
                  <a:pt x="4136" y="8286"/>
                </a:cubicBezTo>
                <a:cubicBezTo>
                  <a:pt x="4403" y="7368"/>
                  <a:pt x="4799" y="6612"/>
                  <a:pt x="5270" y="6079"/>
                </a:cubicBezTo>
                <a:cubicBezTo>
                  <a:pt x="5702" y="5589"/>
                  <a:pt x="6199" y="5295"/>
                  <a:pt x="6700" y="5204"/>
                </a:cubicBezTo>
                <a:cubicBezTo>
                  <a:pt x="7164" y="5134"/>
                  <a:pt x="7628" y="5148"/>
                  <a:pt x="8053" y="5400"/>
                </a:cubicBezTo>
                <a:cubicBezTo>
                  <a:pt x="8320" y="5561"/>
                  <a:pt x="8561" y="5876"/>
                  <a:pt x="8878" y="5841"/>
                </a:cubicBezTo>
                <a:cubicBezTo>
                  <a:pt x="9133" y="5813"/>
                  <a:pt x="9364" y="5463"/>
                  <a:pt x="9479" y="5064"/>
                </a:cubicBezTo>
                <a:cubicBezTo>
                  <a:pt x="9623" y="4539"/>
                  <a:pt x="9562" y="3873"/>
                  <a:pt x="9598" y="3208"/>
                </a:cubicBezTo>
                <a:cubicBezTo>
                  <a:pt x="9637" y="2549"/>
                  <a:pt x="9749" y="1912"/>
                  <a:pt x="9932" y="1331"/>
                </a:cubicBezTo>
                <a:cubicBezTo>
                  <a:pt x="10048" y="967"/>
                  <a:pt x="10206" y="651"/>
                  <a:pt x="10397" y="427"/>
                </a:cubicBezTo>
                <a:cubicBezTo>
                  <a:pt x="10642" y="147"/>
                  <a:pt x="10915" y="0"/>
                  <a:pt x="11189" y="0"/>
                </a:cubicBezTo>
                <a:cubicBezTo>
                  <a:pt x="11545" y="0"/>
                  <a:pt x="11905" y="175"/>
                  <a:pt x="12161" y="637"/>
                </a:cubicBezTo>
                <a:cubicBezTo>
                  <a:pt x="12449" y="1156"/>
                  <a:pt x="12571" y="1933"/>
                  <a:pt x="12701" y="2704"/>
                </a:cubicBezTo>
                <a:cubicBezTo>
                  <a:pt x="12816" y="3376"/>
                  <a:pt x="12913" y="4048"/>
                  <a:pt x="13039" y="4707"/>
                </a:cubicBezTo>
                <a:cubicBezTo>
                  <a:pt x="13129" y="5176"/>
                  <a:pt x="13252" y="5638"/>
                  <a:pt x="13471" y="5855"/>
                </a:cubicBezTo>
                <a:cubicBezTo>
                  <a:pt x="13853" y="6254"/>
                  <a:pt x="14321" y="6198"/>
                  <a:pt x="14764" y="6198"/>
                </a:cubicBezTo>
                <a:cubicBezTo>
                  <a:pt x="15167" y="6198"/>
                  <a:pt x="15577" y="6198"/>
                  <a:pt x="15970" y="6318"/>
                </a:cubicBezTo>
                <a:cubicBezTo>
                  <a:pt x="16290" y="6409"/>
                  <a:pt x="16603" y="6654"/>
                  <a:pt x="16862" y="7046"/>
                </a:cubicBezTo>
                <a:cubicBezTo>
                  <a:pt x="17172" y="7501"/>
                  <a:pt x="17417" y="8104"/>
                  <a:pt x="17554" y="8769"/>
                </a:cubicBezTo>
                <a:cubicBezTo>
                  <a:pt x="17723" y="9574"/>
                  <a:pt x="17737" y="10478"/>
                  <a:pt x="17773" y="11437"/>
                </a:cubicBezTo>
                <a:cubicBezTo>
                  <a:pt x="17928" y="11038"/>
                  <a:pt x="18086" y="10632"/>
                  <a:pt x="18263" y="10282"/>
                </a:cubicBezTo>
                <a:cubicBezTo>
                  <a:pt x="18443" y="9925"/>
                  <a:pt x="18659" y="9630"/>
                  <a:pt x="18900" y="9686"/>
                </a:cubicBezTo>
                <a:cubicBezTo>
                  <a:pt x="19350" y="9791"/>
                  <a:pt x="19688" y="10520"/>
                  <a:pt x="19998" y="11248"/>
                </a:cubicBezTo>
                <a:cubicBezTo>
                  <a:pt x="20210" y="11746"/>
                  <a:pt x="20412" y="12264"/>
                  <a:pt x="20873" y="12544"/>
                </a:cubicBezTo>
                <a:cubicBezTo>
                  <a:pt x="21096" y="12698"/>
                  <a:pt x="21352" y="12663"/>
                  <a:pt x="21600" y="12558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44480" y="1643040"/>
            <a:ext cx="3457800" cy="245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" y="21576"/>
                </a:moveTo>
                <a:cubicBezTo>
                  <a:pt x="1153" y="21299"/>
                  <a:pt x="2271" y="21062"/>
                  <a:pt x="3379" y="20928"/>
                </a:cubicBezTo>
                <a:cubicBezTo>
                  <a:pt x="5616" y="20683"/>
                  <a:pt x="7921" y="20564"/>
                  <a:pt x="10221" y="20643"/>
                </a:cubicBezTo>
                <a:cubicBezTo>
                  <a:pt x="12515" y="20730"/>
                  <a:pt x="14741" y="20849"/>
                  <a:pt x="16956" y="21062"/>
                </a:cubicBezTo>
                <a:cubicBezTo>
                  <a:pt x="18513" y="21220"/>
                  <a:pt x="20076" y="21379"/>
                  <a:pt x="21600" y="21600"/>
                </a:cubicBezTo>
                <a:cubicBezTo>
                  <a:pt x="21583" y="20176"/>
                  <a:pt x="21572" y="18776"/>
                  <a:pt x="21533" y="17353"/>
                </a:cubicBezTo>
                <a:cubicBezTo>
                  <a:pt x="21488" y="15352"/>
                  <a:pt x="21488" y="13367"/>
                  <a:pt x="21364" y="11373"/>
                </a:cubicBezTo>
                <a:cubicBezTo>
                  <a:pt x="21296" y="10171"/>
                  <a:pt x="20903" y="9088"/>
                  <a:pt x="20296" y="8249"/>
                </a:cubicBezTo>
                <a:cubicBezTo>
                  <a:pt x="19964" y="7798"/>
                  <a:pt x="19537" y="7569"/>
                  <a:pt x="19087" y="7466"/>
                </a:cubicBezTo>
                <a:cubicBezTo>
                  <a:pt x="18435" y="7316"/>
                  <a:pt x="17755" y="7348"/>
                  <a:pt x="17091" y="7292"/>
                </a:cubicBezTo>
                <a:cubicBezTo>
                  <a:pt x="16439" y="7261"/>
                  <a:pt x="15776" y="7158"/>
                  <a:pt x="15213" y="6778"/>
                </a:cubicBezTo>
                <a:cubicBezTo>
                  <a:pt x="14932" y="6580"/>
                  <a:pt x="14657" y="6327"/>
                  <a:pt x="14466" y="5995"/>
                </a:cubicBezTo>
                <a:cubicBezTo>
                  <a:pt x="14252" y="5623"/>
                  <a:pt x="14123" y="5196"/>
                  <a:pt x="14005" y="4761"/>
                </a:cubicBezTo>
                <a:cubicBezTo>
                  <a:pt x="13763" y="3876"/>
                  <a:pt x="13622" y="2903"/>
                  <a:pt x="13409" y="1930"/>
                </a:cubicBezTo>
                <a:cubicBezTo>
                  <a:pt x="13336" y="1598"/>
                  <a:pt x="13088" y="917"/>
                  <a:pt x="12655" y="530"/>
                </a:cubicBezTo>
                <a:cubicBezTo>
                  <a:pt x="12183" y="95"/>
                  <a:pt x="11576" y="0"/>
                  <a:pt x="11047" y="293"/>
                </a:cubicBezTo>
                <a:cubicBezTo>
                  <a:pt x="10631" y="530"/>
                  <a:pt x="10277" y="981"/>
                  <a:pt x="10069" y="1566"/>
                </a:cubicBezTo>
                <a:cubicBezTo>
                  <a:pt x="9844" y="2238"/>
                  <a:pt x="9811" y="2998"/>
                  <a:pt x="9777" y="3789"/>
                </a:cubicBezTo>
                <a:cubicBezTo>
                  <a:pt x="9749" y="4374"/>
                  <a:pt x="9692" y="4975"/>
                  <a:pt x="9501" y="5560"/>
                </a:cubicBezTo>
                <a:cubicBezTo>
                  <a:pt x="9366" y="5948"/>
                  <a:pt x="9141" y="6280"/>
                  <a:pt x="8810" y="6478"/>
                </a:cubicBezTo>
                <a:cubicBezTo>
                  <a:pt x="8439" y="6691"/>
                  <a:pt x="8051" y="6691"/>
                  <a:pt x="7663" y="6612"/>
                </a:cubicBezTo>
                <a:cubicBezTo>
                  <a:pt x="6791" y="6422"/>
                  <a:pt x="5948" y="5995"/>
                  <a:pt x="5082" y="6011"/>
                </a:cubicBezTo>
                <a:cubicBezTo>
                  <a:pt x="4486" y="6027"/>
                  <a:pt x="3862" y="6327"/>
                  <a:pt x="3323" y="6691"/>
                </a:cubicBezTo>
                <a:cubicBezTo>
                  <a:pt x="2620" y="7158"/>
                  <a:pt x="2052" y="7783"/>
                  <a:pt x="1614" y="8518"/>
                </a:cubicBezTo>
                <a:cubicBezTo>
                  <a:pt x="945" y="9618"/>
                  <a:pt x="545" y="10970"/>
                  <a:pt x="377" y="12394"/>
                </a:cubicBezTo>
                <a:cubicBezTo>
                  <a:pt x="34" y="15399"/>
                  <a:pt x="0" y="18492"/>
                  <a:pt x="34" y="2157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3983040"/>
            <a:ext cx="5398920" cy="34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7" y="21600"/>
                  <a:pt x="25" y="21486"/>
                  <a:pt x="29" y="21486"/>
                </a:cubicBezTo>
                <a:cubicBezTo>
                  <a:pt x="770" y="18019"/>
                  <a:pt x="1523" y="14893"/>
                  <a:pt x="2239" y="12278"/>
                </a:cubicBezTo>
                <a:cubicBezTo>
                  <a:pt x="3445" y="7787"/>
                  <a:pt x="4648" y="4206"/>
                  <a:pt x="5861" y="2615"/>
                </a:cubicBezTo>
                <a:cubicBezTo>
                  <a:pt x="7294" y="853"/>
                  <a:pt x="8770" y="0"/>
                  <a:pt x="10242" y="568"/>
                </a:cubicBezTo>
                <a:cubicBezTo>
                  <a:pt x="11711" y="1194"/>
                  <a:pt x="13136" y="2046"/>
                  <a:pt x="14555" y="3581"/>
                </a:cubicBezTo>
                <a:cubicBezTo>
                  <a:pt x="15952" y="5173"/>
                  <a:pt x="17327" y="6821"/>
                  <a:pt x="18695" y="9493"/>
                </a:cubicBezTo>
                <a:cubicBezTo>
                  <a:pt x="19577" y="11141"/>
                  <a:pt x="20801" y="14040"/>
                  <a:pt x="21600" y="16086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41600" y="1643040"/>
            <a:ext cx="3476520" cy="615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2" y="21600"/>
                </a:moveTo>
                <a:cubicBezTo>
                  <a:pt x="352" y="21600"/>
                  <a:pt x="319" y="18072"/>
                  <a:pt x="257" y="15367"/>
                </a:cubicBezTo>
                <a:cubicBezTo>
                  <a:pt x="207" y="13344"/>
                  <a:pt x="151" y="11333"/>
                  <a:pt x="95" y="9314"/>
                </a:cubicBezTo>
                <a:cubicBezTo>
                  <a:pt x="45" y="7846"/>
                  <a:pt x="0" y="6372"/>
                  <a:pt x="397" y="4946"/>
                </a:cubicBezTo>
                <a:cubicBezTo>
                  <a:pt x="565" y="4377"/>
                  <a:pt x="962" y="3838"/>
                  <a:pt x="1627" y="3399"/>
                </a:cubicBezTo>
                <a:cubicBezTo>
                  <a:pt x="2063" y="3106"/>
                  <a:pt x="2628" y="2856"/>
                  <a:pt x="3327" y="2670"/>
                </a:cubicBezTo>
                <a:cubicBezTo>
                  <a:pt x="3864" y="2525"/>
                  <a:pt x="4484" y="2405"/>
                  <a:pt x="5077" y="2399"/>
                </a:cubicBezTo>
                <a:cubicBezTo>
                  <a:pt x="5938" y="2392"/>
                  <a:pt x="6777" y="2563"/>
                  <a:pt x="7644" y="2638"/>
                </a:cubicBezTo>
                <a:cubicBezTo>
                  <a:pt x="8029" y="2670"/>
                  <a:pt x="8415" y="2670"/>
                  <a:pt x="8784" y="2585"/>
                </a:cubicBezTo>
                <a:cubicBezTo>
                  <a:pt x="9114" y="2506"/>
                  <a:pt x="9338" y="2373"/>
                  <a:pt x="9472" y="2219"/>
                </a:cubicBezTo>
                <a:cubicBezTo>
                  <a:pt x="9662" y="1985"/>
                  <a:pt x="9718" y="1745"/>
                  <a:pt x="9746" y="1512"/>
                </a:cubicBezTo>
                <a:cubicBezTo>
                  <a:pt x="9780" y="1196"/>
                  <a:pt x="9813" y="893"/>
                  <a:pt x="10037" y="625"/>
                </a:cubicBezTo>
                <a:cubicBezTo>
                  <a:pt x="10244" y="391"/>
                  <a:pt x="10596" y="211"/>
                  <a:pt x="11010" y="117"/>
                </a:cubicBezTo>
                <a:cubicBezTo>
                  <a:pt x="11535" y="0"/>
                  <a:pt x="12139" y="38"/>
                  <a:pt x="12609" y="211"/>
                </a:cubicBezTo>
                <a:cubicBezTo>
                  <a:pt x="13039" y="366"/>
                  <a:pt x="13285" y="638"/>
                  <a:pt x="13358" y="770"/>
                </a:cubicBezTo>
                <a:cubicBezTo>
                  <a:pt x="13571" y="1158"/>
                  <a:pt x="13710" y="1546"/>
                  <a:pt x="13951" y="1900"/>
                </a:cubicBezTo>
                <a:cubicBezTo>
                  <a:pt x="14068" y="2074"/>
                  <a:pt x="14197" y="2244"/>
                  <a:pt x="14409" y="2392"/>
                </a:cubicBezTo>
                <a:cubicBezTo>
                  <a:pt x="14599" y="2525"/>
                  <a:pt x="14873" y="2626"/>
                  <a:pt x="15153" y="2705"/>
                </a:cubicBezTo>
                <a:cubicBezTo>
                  <a:pt x="15712" y="2856"/>
                  <a:pt x="16372" y="2897"/>
                  <a:pt x="17021" y="2910"/>
                </a:cubicBezTo>
                <a:cubicBezTo>
                  <a:pt x="17680" y="2932"/>
                  <a:pt x="18357" y="2919"/>
                  <a:pt x="19006" y="2979"/>
                </a:cubicBezTo>
                <a:cubicBezTo>
                  <a:pt x="19453" y="3020"/>
                  <a:pt x="19878" y="3112"/>
                  <a:pt x="20208" y="3292"/>
                </a:cubicBezTo>
                <a:cubicBezTo>
                  <a:pt x="20812" y="3626"/>
                  <a:pt x="21203" y="4059"/>
                  <a:pt x="21270" y="4538"/>
                </a:cubicBezTo>
                <a:cubicBezTo>
                  <a:pt x="21393" y="5334"/>
                  <a:pt x="21393" y="6126"/>
                  <a:pt x="21438" y="6924"/>
                </a:cubicBezTo>
                <a:cubicBezTo>
                  <a:pt x="21522" y="8351"/>
                  <a:pt x="21555" y="9781"/>
                  <a:pt x="21572" y="11207"/>
                </a:cubicBezTo>
                <a:cubicBezTo>
                  <a:pt x="21600" y="14631"/>
                  <a:pt x="21572" y="18065"/>
                  <a:pt x="21488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38560" y="3657600"/>
            <a:ext cx="295200" cy="34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087"/>
                </a:moveTo>
                <a:cubicBezTo>
                  <a:pt x="919" y="21087"/>
                  <a:pt x="1904" y="21087"/>
                  <a:pt x="2889" y="21087"/>
                </a:cubicBezTo>
                <a:cubicBezTo>
                  <a:pt x="9060" y="21201"/>
                  <a:pt x="15363" y="21315"/>
                  <a:pt x="21600" y="21600"/>
                </a:cubicBezTo>
                <a:cubicBezTo>
                  <a:pt x="21140" y="18693"/>
                  <a:pt x="20615" y="14362"/>
                  <a:pt x="20353" y="11740"/>
                </a:cubicBezTo>
                <a:cubicBezTo>
                  <a:pt x="20221" y="10487"/>
                  <a:pt x="19893" y="8834"/>
                  <a:pt x="19696" y="7751"/>
                </a:cubicBezTo>
                <a:cubicBezTo>
                  <a:pt x="18777" y="4901"/>
                  <a:pt x="18252" y="2109"/>
                  <a:pt x="16348" y="0"/>
                </a:cubicBezTo>
                <a:cubicBezTo>
                  <a:pt x="14247" y="513"/>
                  <a:pt x="12015" y="969"/>
                  <a:pt x="9914" y="1824"/>
                </a:cubicBezTo>
                <a:cubicBezTo>
                  <a:pt x="8272" y="2565"/>
                  <a:pt x="6762" y="3761"/>
                  <a:pt x="5646" y="5072"/>
                </a:cubicBezTo>
                <a:cubicBezTo>
                  <a:pt x="3939" y="6896"/>
                  <a:pt x="2429" y="8948"/>
                  <a:pt x="1773" y="11227"/>
                </a:cubicBezTo>
                <a:cubicBezTo>
                  <a:pt x="788" y="14476"/>
                  <a:pt x="328" y="17839"/>
                  <a:pt x="0" y="21087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9160" y="2529000"/>
            <a:ext cx="120600" cy="21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162" y="20862"/>
                  <a:pt x="162" y="20862"/>
                </a:cubicBezTo>
                <a:cubicBezTo>
                  <a:pt x="3735" y="20862"/>
                  <a:pt x="6821" y="21046"/>
                  <a:pt x="9257" y="21046"/>
                </a:cubicBezTo>
                <a:cubicBezTo>
                  <a:pt x="12018" y="21231"/>
                  <a:pt x="15266" y="21415"/>
                  <a:pt x="18839" y="21600"/>
                </a:cubicBezTo>
                <a:cubicBezTo>
                  <a:pt x="18839" y="19662"/>
                  <a:pt x="18839" y="17169"/>
                  <a:pt x="18839" y="14769"/>
                </a:cubicBezTo>
                <a:cubicBezTo>
                  <a:pt x="18839" y="10892"/>
                  <a:pt x="21600" y="2492"/>
                  <a:pt x="21600" y="2492"/>
                </a:cubicBezTo>
                <a:cubicBezTo>
                  <a:pt x="21600" y="2492"/>
                  <a:pt x="0" y="0"/>
                  <a:pt x="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03400" y="3151080"/>
            <a:ext cx="2287440" cy="88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2" y="21600"/>
                </a:moveTo>
                <a:cubicBezTo>
                  <a:pt x="714" y="21469"/>
                  <a:pt x="1215" y="21338"/>
                  <a:pt x="1716" y="21228"/>
                </a:cubicBezTo>
                <a:cubicBezTo>
                  <a:pt x="5098" y="20551"/>
                  <a:pt x="8582" y="20223"/>
                  <a:pt x="12058" y="20441"/>
                </a:cubicBezTo>
                <a:cubicBezTo>
                  <a:pt x="15312" y="20682"/>
                  <a:pt x="18456" y="21010"/>
                  <a:pt x="21600" y="21469"/>
                </a:cubicBezTo>
                <a:cubicBezTo>
                  <a:pt x="21583" y="19742"/>
                  <a:pt x="21566" y="17862"/>
                  <a:pt x="21541" y="16528"/>
                </a:cubicBezTo>
                <a:cubicBezTo>
                  <a:pt x="21524" y="14211"/>
                  <a:pt x="21524" y="9466"/>
                  <a:pt x="21524" y="9466"/>
                </a:cubicBezTo>
                <a:cubicBezTo>
                  <a:pt x="21524" y="9466"/>
                  <a:pt x="20121" y="9685"/>
                  <a:pt x="19425" y="9772"/>
                </a:cubicBezTo>
                <a:cubicBezTo>
                  <a:pt x="18762" y="9838"/>
                  <a:pt x="17428" y="9926"/>
                  <a:pt x="17428" y="9926"/>
                </a:cubicBezTo>
                <a:cubicBezTo>
                  <a:pt x="17428" y="9926"/>
                  <a:pt x="17470" y="6602"/>
                  <a:pt x="17470" y="4941"/>
                </a:cubicBezTo>
                <a:cubicBezTo>
                  <a:pt x="17470" y="3323"/>
                  <a:pt x="17487" y="1662"/>
                  <a:pt x="17394" y="87"/>
                </a:cubicBezTo>
                <a:cubicBezTo>
                  <a:pt x="16910" y="44"/>
                  <a:pt x="16136" y="0"/>
                  <a:pt x="15669" y="0"/>
                </a:cubicBezTo>
                <a:cubicBezTo>
                  <a:pt x="14666" y="44"/>
                  <a:pt x="13647" y="44"/>
                  <a:pt x="12644" y="87"/>
                </a:cubicBezTo>
                <a:cubicBezTo>
                  <a:pt x="11845" y="131"/>
                  <a:pt x="11038" y="175"/>
                  <a:pt x="10256" y="219"/>
                </a:cubicBezTo>
                <a:cubicBezTo>
                  <a:pt x="9610" y="262"/>
                  <a:pt x="8548" y="328"/>
                  <a:pt x="7843" y="415"/>
                </a:cubicBezTo>
                <a:cubicBezTo>
                  <a:pt x="7715" y="2208"/>
                  <a:pt x="7809" y="4154"/>
                  <a:pt x="7843" y="6121"/>
                </a:cubicBezTo>
                <a:cubicBezTo>
                  <a:pt x="7877" y="7892"/>
                  <a:pt x="7902" y="11500"/>
                  <a:pt x="7902" y="11500"/>
                </a:cubicBezTo>
                <a:cubicBezTo>
                  <a:pt x="7902" y="11500"/>
                  <a:pt x="3883" y="11893"/>
                  <a:pt x="3883" y="11893"/>
                </a:cubicBezTo>
                <a:cubicBezTo>
                  <a:pt x="3883" y="11893"/>
                  <a:pt x="0" y="12418"/>
                  <a:pt x="0" y="12418"/>
                </a:cubicBezTo>
                <a:cubicBezTo>
                  <a:pt x="0" y="12418"/>
                  <a:pt x="127" y="18102"/>
                  <a:pt x="195" y="20813"/>
                </a:cubicBezTo>
                <a:cubicBezTo>
                  <a:pt x="195" y="21097"/>
                  <a:pt x="195" y="21338"/>
                  <a:pt x="212" y="216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0720" y="3983040"/>
            <a:ext cx="5398920" cy="34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7" y="21600"/>
                  <a:pt x="25" y="21486"/>
                  <a:pt x="29" y="21486"/>
                </a:cubicBezTo>
                <a:cubicBezTo>
                  <a:pt x="770" y="18019"/>
                  <a:pt x="1523" y="14893"/>
                  <a:pt x="2239" y="12278"/>
                </a:cubicBezTo>
                <a:cubicBezTo>
                  <a:pt x="3445" y="7787"/>
                  <a:pt x="4648" y="4206"/>
                  <a:pt x="5861" y="2615"/>
                </a:cubicBezTo>
                <a:cubicBezTo>
                  <a:pt x="7294" y="853"/>
                  <a:pt x="8770" y="0"/>
                  <a:pt x="10242" y="568"/>
                </a:cubicBezTo>
                <a:cubicBezTo>
                  <a:pt x="11711" y="1194"/>
                  <a:pt x="13136" y="2046"/>
                  <a:pt x="14555" y="3581"/>
                </a:cubicBezTo>
                <a:cubicBezTo>
                  <a:pt x="15952" y="5173"/>
                  <a:pt x="17327" y="6821"/>
                  <a:pt x="18695" y="9493"/>
                </a:cubicBezTo>
                <a:cubicBezTo>
                  <a:pt x="19577" y="11141"/>
                  <a:pt x="20801" y="14040"/>
                  <a:pt x="21600" y="16086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49520" y="3243240"/>
            <a:ext cx="242640" cy="66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0" y="21600"/>
                </a:moveTo>
                <a:cubicBezTo>
                  <a:pt x="0" y="14546"/>
                  <a:pt x="560" y="7521"/>
                  <a:pt x="2400" y="641"/>
                </a:cubicBezTo>
                <a:cubicBezTo>
                  <a:pt x="4400" y="874"/>
                  <a:pt x="7120" y="1049"/>
                  <a:pt x="8960" y="1108"/>
                </a:cubicBezTo>
                <a:cubicBezTo>
                  <a:pt x="10640" y="1166"/>
                  <a:pt x="11840" y="233"/>
                  <a:pt x="13920" y="146"/>
                </a:cubicBezTo>
                <a:cubicBezTo>
                  <a:pt x="15920" y="0"/>
                  <a:pt x="17920" y="554"/>
                  <a:pt x="19440" y="1049"/>
                </a:cubicBezTo>
                <a:cubicBezTo>
                  <a:pt x="21200" y="1603"/>
                  <a:pt x="21600" y="2536"/>
                  <a:pt x="21600" y="3265"/>
                </a:cubicBezTo>
                <a:cubicBezTo>
                  <a:pt x="21600" y="3877"/>
                  <a:pt x="21280" y="4810"/>
                  <a:pt x="20640" y="5422"/>
                </a:cubicBezTo>
                <a:cubicBezTo>
                  <a:pt x="19840" y="6180"/>
                  <a:pt x="16880" y="6471"/>
                  <a:pt x="16880" y="7025"/>
                </a:cubicBezTo>
                <a:cubicBezTo>
                  <a:pt x="16880" y="7579"/>
                  <a:pt x="18640" y="7900"/>
                  <a:pt x="19120" y="8541"/>
                </a:cubicBezTo>
                <a:cubicBezTo>
                  <a:pt x="19840" y="9532"/>
                  <a:pt x="18240" y="10611"/>
                  <a:pt x="16080" y="11339"/>
                </a:cubicBezTo>
                <a:cubicBezTo>
                  <a:pt x="14160" y="11951"/>
                  <a:pt x="10640" y="12185"/>
                  <a:pt x="9840" y="13059"/>
                </a:cubicBezTo>
                <a:cubicBezTo>
                  <a:pt x="8800" y="14109"/>
                  <a:pt x="11840" y="15216"/>
                  <a:pt x="12160" y="16499"/>
                </a:cubicBezTo>
                <a:cubicBezTo>
                  <a:pt x="12560" y="17548"/>
                  <a:pt x="10800" y="18598"/>
                  <a:pt x="9440" y="19530"/>
                </a:cubicBezTo>
                <a:cubicBezTo>
                  <a:pt x="8640" y="20084"/>
                  <a:pt x="7280" y="20696"/>
                  <a:pt x="5760" y="21017"/>
                </a:cubicBezTo>
                <a:cubicBezTo>
                  <a:pt x="4080" y="21309"/>
                  <a:pt x="2000" y="21571"/>
                  <a:pt x="160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4840" y="3807000"/>
            <a:ext cx="88920" cy="43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873" y="19235"/>
                  <a:pt x="1309" y="16780"/>
                  <a:pt x="1745" y="14460"/>
                </a:cubicBezTo>
                <a:cubicBezTo>
                  <a:pt x="2182" y="12942"/>
                  <a:pt x="2182" y="11514"/>
                  <a:pt x="2836" y="9997"/>
                </a:cubicBezTo>
                <a:cubicBezTo>
                  <a:pt x="3273" y="8435"/>
                  <a:pt x="3491" y="6917"/>
                  <a:pt x="3491" y="5266"/>
                </a:cubicBezTo>
                <a:cubicBezTo>
                  <a:pt x="3491" y="3793"/>
                  <a:pt x="218" y="2098"/>
                  <a:pt x="3491" y="669"/>
                </a:cubicBezTo>
                <a:cubicBezTo>
                  <a:pt x="5018" y="0"/>
                  <a:pt x="12000" y="669"/>
                  <a:pt x="13309" y="1339"/>
                </a:cubicBezTo>
                <a:cubicBezTo>
                  <a:pt x="15709" y="2410"/>
                  <a:pt x="12873" y="3704"/>
                  <a:pt x="13309" y="4909"/>
                </a:cubicBezTo>
                <a:cubicBezTo>
                  <a:pt x="14182" y="7096"/>
                  <a:pt x="17018" y="9238"/>
                  <a:pt x="17455" y="11425"/>
                </a:cubicBezTo>
                <a:cubicBezTo>
                  <a:pt x="17891" y="12630"/>
                  <a:pt x="15709" y="13835"/>
                  <a:pt x="16145" y="15129"/>
                </a:cubicBezTo>
                <a:cubicBezTo>
                  <a:pt x="17018" y="16691"/>
                  <a:pt x="19418" y="18298"/>
                  <a:pt x="21600" y="19904"/>
                </a:cubicBezTo>
              </a:path>
            </a:pathLst>
          </a:custGeom>
          <a:solidFill>
            <a:srgbClr val="999999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74600" y="2970360"/>
            <a:ext cx="601920" cy="101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95" y="19922"/>
                </a:moveTo>
                <a:cubicBezTo>
                  <a:pt x="20630" y="15309"/>
                  <a:pt x="20856" y="10714"/>
                  <a:pt x="21600" y="6215"/>
                </a:cubicBezTo>
                <a:cubicBezTo>
                  <a:pt x="21180" y="6120"/>
                  <a:pt x="20856" y="6043"/>
                  <a:pt x="20565" y="5891"/>
                </a:cubicBezTo>
                <a:cubicBezTo>
                  <a:pt x="19757" y="5471"/>
                  <a:pt x="20080" y="4671"/>
                  <a:pt x="19951" y="4061"/>
                </a:cubicBezTo>
                <a:cubicBezTo>
                  <a:pt x="19886" y="3660"/>
                  <a:pt x="20210" y="3127"/>
                  <a:pt x="19822" y="2802"/>
                </a:cubicBezTo>
                <a:cubicBezTo>
                  <a:pt x="19595" y="2650"/>
                  <a:pt x="19110" y="2745"/>
                  <a:pt x="18851" y="2707"/>
                </a:cubicBezTo>
                <a:cubicBezTo>
                  <a:pt x="17849" y="2574"/>
                  <a:pt x="16653" y="2612"/>
                  <a:pt x="15780" y="2288"/>
                </a:cubicBezTo>
                <a:cubicBezTo>
                  <a:pt x="15101" y="2002"/>
                  <a:pt x="14971" y="1449"/>
                  <a:pt x="14357" y="1125"/>
                </a:cubicBezTo>
                <a:cubicBezTo>
                  <a:pt x="13451" y="648"/>
                  <a:pt x="12514" y="76"/>
                  <a:pt x="11317" y="38"/>
                </a:cubicBezTo>
                <a:cubicBezTo>
                  <a:pt x="10606" y="0"/>
                  <a:pt x="9830" y="324"/>
                  <a:pt x="9313" y="591"/>
                </a:cubicBezTo>
                <a:cubicBezTo>
                  <a:pt x="9313" y="591"/>
                  <a:pt x="14810" y="3222"/>
                  <a:pt x="15909" y="5643"/>
                </a:cubicBezTo>
                <a:cubicBezTo>
                  <a:pt x="16944" y="7931"/>
                  <a:pt x="14551" y="10314"/>
                  <a:pt x="13322" y="12563"/>
                </a:cubicBezTo>
                <a:cubicBezTo>
                  <a:pt x="12708" y="13688"/>
                  <a:pt x="11705" y="14737"/>
                  <a:pt x="10509" y="15652"/>
                </a:cubicBezTo>
                <a:cubicBezTo>
                  <a:pt x="10250" y="15881"/>
                  <a:pt x="9571" y="15633"/>
                  <a:pt x="9313" y="15785"/>
                </a:cubicBezTo>
                <a:cubicBezTo>
                  <a:pt x="7793" y="16681"/>
                  <a:pt x="6693" y="17749"/>
                  <a:pt x="5335" y="18740"/>
                </a:cubicBezTo>
                <a:cubicBezTo>
                  <a:pt x="5044" y="18969"/>
                  <a:pt x="4850" y="19408"/>
                  <a:pt x="4398" y="19369"/>
                </a:cubicBezTo>
                <a:cubicBezTo>
                  <a:pt x="3686" y="19331"/>
                  <a:pt x="3363" y="18778"/>
                  <a:pt x="2651" y="18607"/>
                </a:cubicBezTo>
                <a:cubicBezTo>
                  <a:pt x="2037" y="18492"/>
                  <a:pt x="1455" y="18359"/>
                  <a:pt x="808" y="18245"/>
                </a:cubicBezTo>
                <a:cubicBezTo>
                  <a:pt x="970" y="18645"/>
                  <a:pt x="0" y="18893"/>
                  <a:pt x="129" y="19255"/>
                </a:cubicBezTo>
                <a:cubicBezTo>
                  <a:pt x="420" y="19808"/>
                  <a:pt x="1552" y="20132"/>
                  <a:pt x="2393" y="20418"/>
                </a:cubicBezTo>
                <a:cubicBezTo>
                  <a:pt x="3007" y="20609"/>
                  <a:pt x="3848" y="20895"/>
                  <a:pt x="4495" y="20856"/>
                </a:cubicBezTo>
                <a:cubicBezTo>
                  <a:pt x="5206" y="20818"/>
                  <a:pt x="5756" y="20246"/>
                  <a:pt x="6402" y="20342"/>
                </a:cubicBezTo>
                <a:cubicBezTo>
                  <a:pt x="7049" y="20418"/>
                  <a:pt x="7178" y="20933"/>
                  <a:pt x="7663" y="21142"/>
                </a:cubicBezTo>
                <a:cubicBezTo>
                  <a:pt x="8149" y="21333"/>
                  <a:pt x="8698" y="21600"/>
                  <a:pt x="9248" y="21543"/>
                </a:cubicBezTo>
                <a:cubicBezTo>
                  <a:pt x="10186" y="21505"/>
                  <a:pt x="10735" y="20704"/>
                  <a:pt x="11641" y="20609"/>
                </a:cubicBezTo>
                <a:cubicBezTo>
                  <a:pt x="12708" y="20532"/>
                  <a:pt x="13710" y="21371"/>
                  <a:pt x="14745" y="21181"/>
                </a:cubicBezTo>
                <a:cubicBezTo>
                  <a:pt x="15456" y="21047"/>
                  <a:pt x="15844" y="20571"/>
                  <a:pt x="16265" y="20208"/>
                </a:cubicBezTo>
                <a:cubicBezTo>
                  <a:pt x="16750" y="19808"/>
                  <a:pt x="16556" y="19007"/>
                  <a:pt x="17364" y="18893"/>
                </a:cubicBezTo>
                <a:cubicBezTo>
                  <a:pt x="18172" y="18778"/>
                  <a:pt x="18657" y="19694"/>
                  <a:pt x="19498" y="19808"/>
                </a:cubicBezTo>
                <a:cubicBezTo>
                  <a:pt x="19886" y="19865"/>
                  <a:pt x="20307" y="19922"/>
                  <a:pt x="20695" y="19922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19720" y="3807000"/>
            <a:ext cx="130320" cy="37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477"/>
                </a:moveTo>
                <a:cubicBezTo>
                  <a:pt x="2234" y="18332"/>
                  <a:pt x="1341" y="16289"/>
                  <a:pt x="1937" y="14043"/>
                </a:cubicBezTo>
                <a:cubicBezTo>
                  <a:pt x="2532" y="11132"/>
                  <a:pt x="4171" y="8119"/>
                  <a:pt x="4171" y="5157"/>
                </a:cubicBezTo>
                <a:cubicBezTo>
                  <a:pt x="4171" y="3779"/>
                  <a:pt x="1341" y="1736"/>
                  <a:pt x="4767" y="970"/>
                </a:cubicBezTo>
                <a:cubicBezTo>
                  <a:pt x="7001" y="562"/>
                  <a:pt x="8789" y="2298"/>
                  <a:pt x="11321" y="2145"/>
                </a:cubicBezTo>
                <a:cubicBezTo>
                  <a:pt x="13556" y="2094"/>
                  <a:pt x="14301" y="0"/>
                  <a:pt x="16833" y="357"/>
                </a:cubicBezTo>
                <a:cubicBezTo>
                  <a:pt x="21600" y="970"/>
                  <a:pt x="17131" y="3881"/>
                  <a:pt x="17131" y="5617"/>
                </a:cubicBezTo>
                <a:cubicBezTo>
                  <a:pt x="17131" y="8017"/>
                  <a:pt x="16386" y="10264"/>
                  <a:pt x="16088" y="12664"/>
                </a:cubicBezTo>
                <a:cubicBezTo>
                  <a:pt x="16088" y="12970"/>
                  <a:pt x="16386" y="13277"/>
                  <a:pt x="16386" y="13583"/>
                </a:cubicBezTo>
                <a:cubicBezTo>
                  <a:pt x="15790" y="16289"/>
                  <a:pt x="14897" y="18996"/>
                  <a:pt x="13854" y="21600"/>
                </a:cubicBezTo>
              </a:path>
            </a:pathLst>
          </a:custGeom>
          <a:solidFill>
            <a:srgbClr val="7f7f7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84640" y="3152880"/>
            <a:ext cx="590760" cy="823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5123"/>
                </a:moveTo>
                <a:cubicBezTo>
                  <a:pt x="66" y="7483"/>
                  <a:pt x="132" y="9820"/>
                  <a:pt x="263" y="12205"/>
                </a:cubicBezTo>
                <a:cubicBezTo>
                  <a:pt x="329" y="13951"/>
                  <a:pt x="395" y="15698"/>
                  <a:pt x="493" y="17445"/>
                </a:cubicBezTo>
                <a:cubicBezTo>
                  <a:pt x="1052" y="17398"/>
                  <a:pt x="1644" y="17256"/>
                  <a:pt x="2137" y="17492"/>
                </a:cubicBezTo>
                <a:cubicBezTo>
                  <a:pt x="2827" y="17847"/>
                  <a:pt x="2827" y="18649"/>
                  <a:pt x="3255" y="19239"/>
                </a:cubicBezTo>
                <a:cubicBezTo>
                  <a:pt x="3748" y="19924"/>
                  <a:pt x="4373" y="20632"/>
                  <a:pt x="5260" y="21081"/>
                </a:cubicBezTo>
                <a:cubicBezTo>
                  <a:pt x="5885" y="21435"/>
                  <a:pt x="6805" y="21600"/>
                  <a:pt x="7627" y="21482"/>
                </a:cubicBezTo>
                <a:cubicBezTo>
                  <a:pt x="8877" y="21388"/>
                  <a:pt x="9863" y="20632"/>
                  <a:pt x="11079" y="20538"/>
                </a:cubicBezTo>
                <a:cubicBezTo>
                  <a:pt x="11868" y="20490"/>
                  <a:pt x="12690" y="20892"/>
                  <a:pt x="13512" y="21033"/>
                </a:cubicBezTo>
                <a:cubicBezTo>
                  <a:pt x="14433" y="21199"/>
                  <a:pt x="15353" y="21600"/>
                  <a:pt x="16175" y="21482"/>
                </a:cubicBezTo>
                <a:cubicBezTo>
                  <a:pt x="16800" y="21435"/>
                  <a:pt x="17556" y="21081"/>
                  <a:pt x="17885" y="20632"/>
                </a:cubicBezTo>
                <a:cubicBezTo>
                  <a:pt x="18345" y="20089"/>
                  <a:pt x="18345" y="19287"/>
                  <a:pt x="18279" y="18649"/>
                </a:cubicBezTo>
                <a:cubicBezTo>
                  <a:pt x="18181" y="17941"/>
                  <a:pt x="17293" y="16690"/>
                  <a:pt x="17293" y="16690"/>
                </a:cubicBezTo>
                <a:cubicBezTo>
                  <a:pt x="17293" y="16690"/>
                  <a:pt x="18937" y="16454"/>
                  <a:pt x="19562" y="16100"/>
                </a:cubicBezTo>
                <a:cubicBezTo>
                  <a:pt x="20055" y="15864"/>
                  <a:pt x="20384" y="15391"/>
                  <a:pt x="20778" y="14943"/>
                </a:cubicBezTo>
                <a:cubicBezTo>
                  <a:pt x="21173" y="14471"/>
                  <a:pt x="21436" y="13810"/>
                  <a:pt x="21600" y="13196"/>
                </a:cubicBezTo>
                <a:cubicBezTo>
                  <a:pt x="21600" y="13125"/>
                  <a:pt x="21600" y="13007"/>
                  <a:pt x="21600" y="12913"/>
                </a:cubicBezTo>
                <a:cubicBezTo>
                  <a:pt x="20844" y="13196"/>
                  <a:pt x="20121" y="13597"/>
                  <a:pt x="19430" y="13951"/>
                </a:cubicBezTo>
                <a:cubicBezTo>
                  <a:pt x="18444" y="14471"/>
                  <a:pt x="17852" y="15273"/>
                  <a:pt x="16800" y="15698"/>
                </a:cubicBezTo>
                <a:cubicBezTo>
                  <a:pt x="16175" y="15982"/>
                  <a:pt x="15353" y="15958"/>
                  <a:pt x="14564" y="16052"/>
                </a:cubicBezTo>
                <a:cubicBezTo>
                  <a:pt x="14367" y="16100"/>
                  <a:pt x="14170" y="16100"/>
                  <a:pt x="13940" y="16100"/>
                </a:cubicBezTo>
                <a:cubicBezTo>
                  <a:pt x="12625" y="16100"/>
                  <a:pt x="10751" y="16855"/>
                  <a:pt x="9995" y="16100"/>
                </a:cubicBezTo>
                <a:cubicBezTo>
                  <a:pt x="8745" y="14801"/>
                  <a:pt x="9567" y="12960"/>
                  <a:pt x="9238" y="11402"/>
                </a:cubicBezTo>
                <a:cubicBezTo>
                  <a:pt x="8581" y="8782"/>
                  <a:pt x="7266" y="6232"/>
                  <a:pt x="6937" y="3541"/>
                </a:cubicBezTo>
                <a:cubicBezTo>
                  <a:pt x="6937" y="3541"/>
                  <a:pt x="7134" y="0"/>
                  <a:pt x="7134" y="0"/>
                </a:cubicBezTo>
                <a:cubicBezTo>
                  <a:pt x="6542" y="94"/>
                  <a:pt x="5589" y="142"/>
                  <a:pt x="5129" y="543"/>
                </a:cubicBezTo>
                <a:cubicBezTo>
                  <a:pt x="4636" y="944"/>
                  <a:pt x="4504" y="1534"/>
                  <a:pt x="4438" y="2030"/>
                </a:cubicBezTo>
                <a:cubicBezTo>
                  <a:pt x="4373" y="2738"/>
                  <a:pt x="5490" y="3635"/>
                  <a:pt x="4866" y="4249"/>
                </a:cubicBezTo>
                <a:cubicBezTo>
                  <a:pt x="4307" y="4769"/>
                  <a:pt x="3058" y="4438"/>
                  <a:pt x="2137" y="4650"/>
                </a:cubicBezTo>
                <a:cubicBezTo>
                  <a:pt x="1447" y="4769"/>
                  <a:pt x="658" y="4981"/>
                  <a:pt x="0" y="5123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78440" y="3348000"/>
            <a:ext cx="119160" cy="46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164" y="0"/>
                </a:moveTo>
                <a:cubicBezTo>
                  <a:pt x="19489" y="4138"/>
                  <a:pt x="19814" y="8234"/>
                  <a:pt x="20463" y="12414"/>
                </a:cubicBezTo>
                <a:cubicBezTo>
                  <a:pt x="20788" y="15476"/>
                  <a:pt x="21113" y="18538"/>
                  <a:pt x="21600" y="21600"/>
                </a:cubicBezTo>
                <a:cubicBezTo>
                  <a:pt x="20138" y="21600"/>
                  <a:pt x="18839" y="21517"/>
                  <a:pt x="17702" y="21434"/>
                </a:cubicBezTo>
                <a:cubicBezTo>
                  <a:pt x="14941" y="21062"/>
                  <a:pt x="12018" y="20566"/>
                  <a:pt x="10069" y="19862"/>
                </a:cubicBezTo>
                <a:cubicBezTo>
                  <a:pt x="8770" y="19324"/>
                  <a:pt x="7471" y="18621"/>
                  <a:pt x="7633" y="18124"/>
                </a:cubicBezTo>
                <a:cubicBezTo>
                  <a:pt x="8120" y="17090"/>
                  <a:pt x="13967" y="16593"/>
                  <a:pt x="14292" y="15476"/>
                </a:cubicBezTo>
                <a:cubicBezTo>
                  <a:pt x="14779" y="14607"/>
                  <a:pt x="9582" y="14028"/>
                  <a:pt x="7633" y="13324"/>
                </a:cubicBezTo>
                <a:cubicBezTo>
                  <a:pt x="5359" y="12331"/>
                  <a:pt x="2761" y="11462"/>
                  <a:pt x="1624" y="10386"/>
                </a:cubicBezTo>
                <a:cubicBezTo>
                  <a:pt x="0" y="8648"/>
                  <a:pt x="325" y="6621"/>
                  <a:pt x="1949" y="4883"/>
                </a:cubicBezTo>
                <a:cubicBezTo>
                  <a:pt x="3248" y="3517"/>
                  <a:pt x="6334" y="2110"/>
                  <a:pt x="10394" y="1117"/>
                </a:cubicBezTo>
                <a:cubicBezTo>
                  <a:pt x="12830" y="538"/>
                  <a:pt x="16078" y="290"/>
                  <a:pt x="19164" y="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59160" y="2529000"/>
            <a:ext cx="120600" cy="24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162" y="20960"/>
                  <a:pt x="162" y="20960"/>
                </a:cubicBezTo>
                <a:cubicBezTo>
                  <a:pt x="162" y="20960"/>
                  <a:pt x="12505" y="21440"/>
                  <a:pt x="18839" y="21600"/>
                </a:cubicBezTo>
                <a:cubicBezTo>
                  <a:pt x="18839" y="18880"/>
                  <a:pt x="18839" y="16080"/>
                  <a:pt x="18839" y="12800"/>
                </a:cubicBezTo>
                <a:cubicBezTo>
                  <a:pt x="18839" y="9440"/>
                  <a:pt x="21600" y="2160"/>
                  <a:pt x="21600" y="2160"/>
                </a:cubicBezTo>
                <a:cubicBezTo>
                  <a:pt x="21600" y="216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2724120"/>
            <a:ext cx="36648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966"/>
                </a:moveTo>
                <a:cubicBezTo>
                  <a:pt x="0" y="19966"/>
                  <a:pt x="900" y="0"/>
                  <a:pt x="900" y="0"/>
                </a:cubicBezTo>
                <a:cubicBezTo>
                  <a:pt x="900" y="0"/>
                  <a:pt x="8471" y="1271"/>
                  <a:pt x="12229" y="1997"/>
                </a:cubicBezTo>
                <a:cubicBezTo>
                  <a:pt x="15353" y="2723"/>
                  <a:pt x="21600" y="5445"/>
                  <a:pt x="21600" y="5445"/>
                </a:cubicBezTo>
                <a:cubicBezTo>
                  <a:pt x="21600" y="5445"/>
                  <a:pt x="20965" y="11980"/>
                  <a:pt x="20594" y="15066"/>
                </a:cubicBezTo>
                <a:cubicBezTo>
                  <a:pt x="20329" y="16881"/>
                  <a:pt x="20171" y="19240"/>
                  <a:pt x="19906" y="21600"/>
                </a:cubicBezTo>
                <a:cubicBezTo>
                  <a:pt x="16412" y="17788"/>
                  <a:pt x="12865" y="15792"/>
                  <a:pt x="9106" y="15792"/>
                </a:cubicBezTo>
                <a:cubicBezTo>
                  <a:pt x="6035" y="15792"/>
                  <a:pt x="2912" y="17244"/>
                  <a:pt x="0" y="1996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98960" y="2724120"/>
            <a:ext cx="37116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019"/>
                </a:moveTo>
                <a:cubicBezTo>
                  <a:pt x="0" y="19019"/>
                  <a:pt x="1101" y="0"/>
                  <a:pt x="1101" y="0"/>
                </a:cubicBezTo>
                <a:cubicBezTo>
                  <a:pt x="1101" y="0"/>
                  <a:pt x="8598" y="951"/>
                  <a:pt x="12320" y="1494"/>
                </a:cubicBezTo>
                <a:cubicBezTo>
                  <a:pt x="15414" y="2038"/>
                  <a:pt x="21600" y="4075"/>
                  <a:pt x="21600" y="4075"/>
                </a:cubicBezTo>
                <a:cubicBezTo>
                  <a:pt x="21600" y="4075"/>
                  <a:pt x="20971" y="8966"/>
                  <a:pt x="20604" y="11275"/>
                </a:cubicBezTo>
                <a:cubicBezTo>
                  <a:pt x="20184" y="14672"/>
                  <a:pt x="19503" y="21600"/>
                  <a:pt x="19503" y="21600"/>
                </a:cubicBezTo>
                <a:cubicBezTo>
                  <a:pt x="19503" y="21600"/>
                  <a:pt x="0" y="19019"/>
                  <a:pt x="0" y="19019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33560" y="2801880"/>
            <a:ext cx="1011240" cy="36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38" y="21335"/>
                  <a:pt x="77" y="20963"/>
                  <a:pt x="135" y="20645"/>
                </a:cubicBezTo>
                <a:cubicBezTo>
                  <a:pt x="615" y="15178"/>
                  <a:pt x="1883" y="10349"/>
                  <a:pt x="3498" y="6581"/>
                </a:cubicBezTo>
                <a:cubicBezTo>
                  <a:pt x="4439" y="4458"/>
                  <a:pt x="5515" y="3131"/>
                  <a:pt x="6707" y="2123"/>
                </a:cubicBezTo>
                <a:cubicBezTo>
                  <a:pt x="8167" y="902"/>
                  <a:pt x="9666" y="0"/>
                  <a:pt x="11184" y="0"/>
                </a:cubicBezTo>
                <a:cubicBezTo>
                  <a:pt x="13125" y="0"/>
                  <a:pt x="14912" y="796"/>
                  <a:pt x="16700" y="3343"/>
                </a:cubicBezTo>
                <a:cubicBezTo>
                  <a:pt x="18602" y="6050"/>
                  <a:pt x="20255" y="9977"/>
                  <a:pt x="21120" y="15603"/>
                </a:cubicBezTo>
                <a:cubicBezTo>
                  <a:pt x="21350" y="17248"/>
                  <a:pt x="21523" y="18946"/>
                  <a:pt x="21600" y="20751"/>
                </a:cubicBezTo>
                <a:cubicBezTo>
                  <a:pt x="20505" y="20645"/>
                  <a:pt x="18756" y="20539"/>
                  <a:pt x="17699" y="20539"/>
                </a:cubicBezTo>
                <a:cubicBezTo>
                  <a:pt x="15431" y="20645"/>
                  <a:pt x="13125" y="20645"/>
                  <a:pt x="10858" y="20751"/>
                </a:cubicBezTo>
                <a:cubicBezTo>
                  <a:pt x="9051" y="20857"/>
                  <a:pt x="7226" y="20963"/>
                  <a:pt x="5458" y="21069"/>
                </a:cubicBezTo>
                <a:cubicBezTo>
                  <a:pt x="3997" y="21175"/>
                  <a:pt x="1595" y="21441"/>
                  <a:pt x="0" y="216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03400" y="2801880"/>
            <a:ext cx="2293920" cy="170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68" y="21600"/>
                </a:moveTo>
                <a:cubicBezTo>
                  <a:pt x="568" y="21600"/>
                  <a:pt x="568" y="21600"/>
                  <a:pt x="568" y="21600"/>
                </a:cubicBezTo>
                <a:cubicBezTo>
                  <a:pt x="568" y="21600"/>
                  <a:pt x="305" y="17383"/>
                  <a:pt x="195" y="15262"/>
                </a:cubicBezTo>
                <a:cubicBezTo>
                  <a:pt x="127" y="13849"/>
                  <a:pt x="0" y="10885"/>
                  <a:pt x="0" y="10885"/>
                </a:cubicBezTo>
                <a:cubicBezTo>
                  <a:pt x="0" y="10885"/>
                  <a:pt x="3874" y="10612"/>
                  <a:pt x="3874" y="10612"/>
                </a:cubicBezTo>
                <a:cubicBezTo>
                  <a:pt x="3874" y="10612"/>
                  <a:pt x="7884" y="10407"/>
                  <a:pt x="7884" y="10407"/>
                </a:cubicBezTo>
                <a:cubicBezTo>
                  <a:pt x="7884" y="10407"/>
                  <a:pt x="7858" y="8526"/>
                  <a:pt x="7824" y="7603"/>
                </a:cubicBezTo>
                <a:cubicBezTo>
                  <a:pt x="7791" y="6508"/>
                  <a:pt x="7697" y="5448"/>
                  <a:pt x="7884" y="4434"/>
                </a:cubicBezTo>
                <a:cubicBezTo>
                  <a:pt x="8096" y="3260"/>
                  <a:pt x="8655" y="2223"/>
                  <a:pt x="9367" y="1413"/>
                </a:cubicBezTo>
                <a:cubicBezTo>
                  <a:pt x="9783" y="957"/>
                  <a:pt x="10257" y="673"/>
                  <a:pt x="10783" y="456"/>
                </a:cubicBezTo>
                <a:cubicBezTo>
                  <a:pt x="11427" y="194"/>
                  <a:pt x="12089" y="0"/>
                  <a:pt x="12758" y="0"/>
                </a:cubicBezTo>
                <a:cubicBezTo>
                  <a:pt x="13614" y="0"/>
                  <a:pt x="14403" y="171"/>
                  <a:pt x="15191" y="718"/>
                </a:cubicBezTo>
                <a:cubicBezTo>
                  <a:pt x="16030" y="1299"/>
                  <a:pt x="16759" y="2143"/>
                  <a:pt x="17141" y="3351"/>
                </a:cubicBezTo>
                <a:cubicBezTo>
                  <a:pt x="17480" y="4457"/>
                  <a:pt x="17429" y="5733"/>
                  <a:pt x="17429" y="6987"/>
                </a:cubicBezTo>
                <a:cubicBezTo>
                  <a:pt x="17429" y="7854"/>
                  <a:pt x="17387" y="9586"/>
                  <a:pt x="17387" y="9586"/>
                </a:cubicBezTo>
                <a:cubicBezTo>
                  <a:pt x="17387" y="9586"/>
                  <a:pt x="18718" y="9540"/>
                  <a:pt x="19379" y="9506"/>
                </a:cubicBezTo>
                <a:cubicBezTo>
                  <a:pt x="20074" y="9461"/>
                  <a:pt x="21473" y="9347"/>
                  <a:pt x="21473" y="9347"/>
                </a:cubicBezTo>
                <a:cubicBezTo>
                  <a:pt x="21473" y="9347"/>
                  <a:pt x="21473" y="11820"/>
                  <a:pt x="21490" y="13028"/>
                </a:cubicBezTo>
                <a:cubicBezTo>
                  <a:pt x="21532" y="14533"/>
                  <a:pt x="21600" y="17611"/>
                  <a:pt x="21600" y="17611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33560" y="3151080"/>
            <a:ext cx="1011240" cy="1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595" y="17053"/>
                  <a:pt x="3997" y="13642"/>
                  <a:pt x="5458" y="11368"/>
                </a:cubicBezTo>
                <a:cubicBezTo>
                  <a:pt x="7226" y="9095"/>
                  <a:pt x="9051" y="6821"/>
                  <a:pt x="10858" y="4547"/>
                </a:cubicBezTo>
                <a:cubicBezTo>
                  <a:pt x="13125" y="2274"/>
                  <a:pt x="15431" y="2274"/>
                  <a:pt x="17699" y="0"/>
                </a:cubicBezTo>
                <a:cubicBezTo>
                  <a:pt x="18756" y="0"/>
                  <a:pt x="20505" y="2274"/>
                  <a:pt x="21600" y="4547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05160" y="3735360"/>
            <a:ext cx="6480" cy="23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6171" y="14510"/>
                  <a:pt x="12343" y="7173"/>
                  <a:pt x="21600" y="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44760" y="3701880"/>
            <a:ext cx="12960" cy="27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4400" y="15106"/>
                  <a:pt x="4320" y="8541"/>
                  <a:pt x="0" y="1976"/>
                </a:cubicBezTo>
                <a:cubicBezTo>
                  <a:pt x="0" y="1412"/>
                  <a:pt x="0" y="776"/>
                  <a:pt x="0" y="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78240" y="3666960"/>
            <a:ext cx="111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4954" y="14522"/>
                  <a:pt x="8308" y="7078"/>
                  <a:pt x="0" y="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19640" y="3657600"/>
            <a:ext cx="1584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6518" y="14522"/>
                  <a:pt x="6353" y="7151"/>
                  <a:pt x="0" y="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65360" y="3695760"/>
            <a:ext cx="972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280" y="14586"/>
                  <a:pt x="4320" y="7014"/>
                  <a:pt x="0" y="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82760" y="3613320"/>
            <a:ext cx="281160" cy="37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52" y="21600"/>
                </a:moveTo>
                <a:cubicBezTo>
                  <a:pt x="1932" y="21600"/>
                  <a:pt x="3243" y="21600"/>
                  <a:pt x="4486" y="21600"/>
                </a:cubicBezTo>
                <a:cubicBezTo>
                  <a:pt x="4969" y="18682"/>
                  <a:pt x="5383" y="15663"/>
                  <a:pt x="6349" y="12745"/>
                </a:cubicBezTo>
                <a:cubicBezTo>
                  <a:pt x="7177" y="10698"/>
                  <a:pt x="8764" y="8855"/>
                  <a:pt x="10489" y="7217"/>
                </a:cubicBezTo>
                <a:cubicBezTo>
                  <a:pt x="11663" y="6091"/>
                  <a:pt x="13250" y="4965"/>
                  <a:pt x="14975" y="4300"/>
                </a:cubicBezTo>
                <a:cubicBezTo>
                  <a:pt x="17183" y="3583"/>
                  <a:pt x="19392" y="3122"/>
                  <a:pt x="21600" y="2713"/>
                </a:cubicBezTo>
                <a:cubicBezTo>
                  <a:pt x="21462" y="2457"/>
                  <a:pt x="21255" y="2303"/>
                  <a:pt x="20979" y="2047"/>
                </a:cubicBezTo>
                <a:cubicBezTo>
                  <a:pt x="18771" y="409"/>
                  <a:pt x="15320" y="0"/>
                  <a:pt x="12422" y="205"/>
                </a:cubicBezTo>
                <a:cubicBezTo>
                  <a:pt x="9385" y="409"/>
                  <a:pt x="6280" y="1587"/>
                  <a:pt x="4072" y="3429"/>
                </a:cubicBezTo>
                <a:cubicBezTo>
                  <a:pt x="2277" y="4965"/>
                  <a:pt x="1311" y="7012"/>
                  <a:pt x="759" y="8855"/>
                </a:cubicBezTo>
                <a:cubicBezTo>
                  <a:pt x="0" y="11005"/>
                  <a:pt x="138" y="13410"/>
                  <a:pt x="138" y="15560"/>
                </a:cubicBezTo>
                <a:cubicBezTo>
                  <a:pt x="138" y="17198"/>
                  <a:pt x="414" y="19553"/>
                  <a:pt x="552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82760" y="3613320"/>
            <a:ext cx="360720" cy="44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8" y="21600"/>
                </a:moveTo>
                <a:cubicBezTo>
                  <a:pt x="808" y="21600"/>
                  <a:pt x="108" y="15984"/>
                  <a:pt x="108" y="13133"/>
                </a:cubicBezTo>
                <a:cubicBezTo>
                  <a:pt x="108" y="11318"/>
                  <a:pt x="0" y="9288"/>
                  <a:pt x="593" y="7474"/>
                </a:cubicBezTo>
                <a:cubicBezTo>
                  <a:pt x="1023" y="5918"/>
                  <a:pt x="1778" y="4190"/>
                  <a:pt x="3178" y="2894"/>
                </a:cubicBezTo>
                <a:cubicBezTo>
                  <a:pt x="4902" y="1339"/>
                  <a:pt x="7326" y="346"/>
                  <a:pt x="9696" y="173"/>
                </a:cubicBezTo>
                <a:cubicBezTo>
                  <a:pt x="11958" y="0"/>
                  <a:pt x="14651" y="346"/>
                  <a:pt x="16375" y="1728"/>
                </a:cubicBezTo>
                <a:cubicBezTo>
                  <a:pt x="18584" y="3456"/>
                  <a:pt x="18853" y="5746"/>
                  <a:pt x="19661" y="8122"/>
                </a:cubicBezTo>
                <a:cubicBezTo>
                  <a:pt x="19930" y="8942"/>
                  <a:pt x="20146" y="10238"/>
                  <a:pt x="20253" y="11102"/>
                </a:cubicBezTo>
                <a:cubicBezTo>
                  <a:pt x="20684" y="14386"/>
                  <a:pt x="21600" y="20995"/>
                  <a:pt x="21600" y="20995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57680" y="3754440"/>
            <a:ext cx="83880" cy="14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23" y="17411"/>
                </a:moveTo>
                <a:cubicBezTo>
                  <a:pt x="2323" y="17411"/>
                  <a:pt x="0" y="0"/>
                  <a:pt x="0" y="0"/>
                </a:cubicBezTo>
                <a:cubicBezTo>
                  <a:pt x="0" y="0"/>
                  <a:pt x="21135" y="0"/>
                  <a:pt x="21135" y="0"/>
                </a:cubicBezTo>
                <a:cubicBezTo>
                  <a:pt x="21135" y="0"/>
                  <a:pt x="21600" y="6153"/>
                  <a:pt x="21600" y="6153"/>
                </a:cubicBezTo>
                <a:cubicBezTo>
                  <a:pt x="19045" y="7462"/>
                  <a:pt x="17187" y="8902"/>
                  <a:pt x="15097" y="10604"/>
                </a:cubicBezTo>
                <a:cubicBezTo>
                  <a:pt x="13703" y="11913"/>
                  <a:pt x="15097" y="13876"/>
                  <a:pt x="14632" y="15578"/>
                </a:cubicBezTo>
                <a:cubicBezTo>
                  <a:pt x="14168" y="17411"/>
                  <a:pt x="14168" y="19636"/>
                  <a:pt x="11613" y="21076"/>
                </a:cubicBezTo>
                <a:cubicBezTo>
                  <a:pt x="10916" y="21600"/>
                  <a:pt x="8129" y="20684"/>
                  <a:pt x="7432" y="20291"/>
                </a:cubicBezTo>
                <a:cubicBezTo>
                  <a:pt x="7432" y="20291"/>
                  <a:pt x="5342" y="18851"/>
                  <a:pt x="5342" y="18851"/>
                </a:cubicBezTo>
                <a:cubicBezTo>
                  <a:pt x="4181" y="18327"/>
                  <a:pt x="3484" y="18065"/>
                  <a:pt x="2323" y="17411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67040" y="3797280"/>
            <a:ext cx="7920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1699" y="20780"/>
                  <a:pt x="1699" y="20780"/>
                </a:cubicBezTo>
                <a:cubicBezTo>
                  <a:pt x="1699" y="20780"/>
                  <a:pt x="0" y="11757"/>
                  <a:pt x="0" y="11757"/>
                </a:cubicBezTo>
                <a:cubicBezTo>
                  <a:pt x="1699" y="12987"/>
                  <a:pt x="3155" y="13808"/>
                  <a:pt x="5339" y="14765"/>
                </a:cubicBezTo>
                <a:cubicBezTo>
                  <a:pt x="6067" y="15175"/>
                  <a:pt x="8980" y="16132"/>
                  <a:pt x="9708" y="15585"/>
                </a:cubicBezTo>
                <a:cubicBezTo>
                  <a:pt x="12378" y="14081"/>
                  <a:pt x="12378" y="11757"/>
                  <a:pt x="12863" y="9843"/>
                </a:cubicBezTo>
                <a:cubicBezTo>
                  <a:pt x="13348" y="8066"/>
                  <a:pt x="11892" y="6015"/>
                  <a:pt x="13348" y="4648"/>
                </a:cubicBezTo>
                <a:cubicBezTo>
                  <a:pt x="15533" y="2871"/>
                  <a:pt x="17960" y="1367"/>
                  <a:pt x="20387" y="0"/>
                </a:cubicBezTo>
                <a:cubicBezTo>
                  <a:pt x="20387" y="0"/>
                  <a:pt x="21600" y="21600"/>
                  <a:pt x="21600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57680" y="3754440"/>
            <a:ext cx="88560" cy="1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3709" y="20968"/>
                  <a:pt x="3709" y="20968"/>
                </a:cubicBezTo>
                <a:cubicBezTo>
                  <a:pt x="3709" y="20968"/>
                  <a:pt x="0" y="0"/>
                  <a:pt x="0" y="0"/>
                </a:cubicBezTo>
                <a:cubicBezTo>
                  <a:pt x="0" y="0"/>
                  <a:pt x="19855" y="0"/>
                  <a:pt x="19855" y="0"/>
                </a:cubicBezTo>
                <a:cubicBezTo>
                  <a:pt x="19855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79680" y="3780000"/>
            <a:ext cx="84240" cy="14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23" y="17517"/>
                </a:moveTo>
                <a:cubicBezTo>
                  <a:pt x="2323" y="17517"/>
                  <a:pt x="0" y="0"/>
                  <a:pt x="0" y="0"/>
                </a:cubicBezTo>
                <a:cubicBezTo>
                  <a:pt x="0" y="0"/>
                  <a:pt x="20903" y="0"/>
                  <a:pt x="20903" y="0"/>
                </a:cubicBezTo>
                <a:cubicBezTo>
                  <a:pt x="20903" y="0"/>
                  <a:pt x="21600" y="6059"/>
                  <a:pt x="21600" y="6059"/>
                </a:cubicBezTo>
                <a:cubicBezTo>
                  <a:pt x="18813" y="7507"/>
                  <a:pt x="16955" y="8956"/>
                  <a:pt x="14865" y="10537"/>
                </a:cubicBezTo>
                <a:cubicBezTo>
                  <a:pt x="13703" y="11985"/>
                  <a:pt x="14865" y="13829"/>
                  <a:pt x="14632" y="15541"/>
                </a:cubicBezTo>
                <a:cubicBezTo>
                  <a:pt x="14168" y="17517"/>
                  <a:pt x="14168" y="19756"/>
                  <a:pt x="11613" y="21073"/>
                </a:cubicBezTo>
                <a:cubicBezTo>
                  <a:pt x="10684" y="21600"/>
                  <a:pt x="8129" y="20941"/>
                  <a:pt x="7200" y="20283"/>
                </a:cubicBezTo>
                <a:cubicBezTo>
                  <a:pt x="7200" y="20283"/>
                  <a:pt x="5110" y="18966"/>
                  <a:pt x="5110" y="18966"/>
                </a:cubicBezTo>
                <a:cubicBezTo>
                  <a:pt x="4181" y="18307"/>
                  <a:pt x="3252" y="18044"/>
                  <a:pt x="2323" y="17517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89040" y="3821040"/>
            <a:ext cx="7812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1718" y="20780"/>
                  <a:pt x="1718" y="20780"/>
                </a:cubicBezTo>
                <a:cubicBezTo>
                  <a:pt x="1718" y="20780"/>
                  <a:pt x="0" y="11894"/>
                  <a:pt x="0" y="11894"/>
                </a:cubicBezTo>
                <a:cubicBezTo>
                  <a:pt x="1718" y="13124"/>
                  <a:pt x="2945" y="13808"/>
                  <a:pt x="5155" y="14765"/>
                </a:cubicBezTo>
                <a:cubicBezTo>
                  <a:pt x="6136" y="15448"/>
                  <a:pt x="8836" y="16132"/>
                  <a:pt x="9818" y="15585"/>
                </a:cubicBezTo>
                <a:cubicBezTo>
                  <a:pt x="12518" y="14218"/>
                  <a:pt x="12518" y="11894"/>
                  <a:pt x="13009" y="9843"/>
                </a:cubicBezTo>
                <a:cubicBezTo>
                  <a:pt x="13255" y="8066"/>
                  <a:pt x="12027" y="6152"/>
                  <a:pt x="13255" y="4648"/>
                </a:cubicBezTo>
                <a:cubicBezTo>
                  <a:pt x="15464" y="3008"/>
                  <a:pt x="18164" y="1504"/>
                  <a:pt x="20618" y="0"/>
                </a:cubicBezTo>
                <a:cubicBezTo>
                  <a:pt x="20618" y="0"/>
                  <a:pt x="21600" y="21600"/>
                  <a:pt x="21600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79680" y="3780000"/>
            <a:ext cx="87480" cy="18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3747" y="20965"/>
                  <a:pt x="3747" y="20965"/>
                </a:cubicBezTo>
                <a:cubicBezTo>
                  <a:pt x="3747" y="20965"/>
                  <a:pt x="0" y="0"/>
                  <a:pt x="0" y="0"/>
                </a:cubicBezTo>
                <a:cubicBezTo>
                  <a:pt x="0" y="0"/>
                  <a:pt x="19837" y="0"/>
                  <a:pt x="19837" y="0"/>
                </a:cubicBezTo>
                <a:cubicBezTo>
                  <a:pt x="19837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73320" y="3800520"/>
            <a:ext cx="82440" cy="14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55" y="17411"/>
                </a:moveTo>
                <a:cubicBezTo>
                  <a:pt x="2555" y="17411"/>
                  <a:pt x="0" y="0"/>
                  <a:pt x="0" y="0"/>
                </a:cubicBezTo>
                <a:cubicBezTo>
                  <a:pt x="0" y="0"/>
                  <a:pt x="21135" y="0"/>
                  <a:pt x="21135" y="0"/>
                </a:cubicBezTo>
                <a:cubicBezTo>
                  <a:pt x="21135" y="0"/>
                  <a:pt x="21600" y="6153"/>
                  <a:pt x="21600" y="6153"/>
                </a:cubicBezTo>
                <a:cubicBezTo>
                  <a:pt x="19277" y="7462"/>
                  <a:pt x="17187" y="8902"/>
                  <a:pt x="15329" y="10473"/>
                </a:cubicBezTo>
                <a:cubicBezTo>
                  <a:pt x="13703" y="11913"/>
                  <a:pt x="15329" y="13876"/>
                  <a:pt x="14632" y="15578"/>
                </a:cubicBezTo>
                <a:cubicBezTo>
                  <a:pt x="14168" y="17411"/>
                  <a:pt x="14168" y="19636"/>
                  <a:pt x="11845" y="21076"/>
                </a:cubicBezTo>
                <a:cubicBezTo>
                  <a:pt x="10684" y="21600"/>
                  <a:pt x="8361" y="20684"/>
                  <a:pt x="7200" y="20160"/>
                </a:cubicBezTo>
                <a:cubicBezTo>
                  <a:pt x="7200" y="20160"/>
                  <a:pt x="5342" y="18851"/>
                  <a:pt x="5342" y="18851"/>
                </a:cubicBezTo>
                <a:cubicBezTo>
                  <a:pt x="4413" y="18196"/>
                  <a:pt x="3252" y="17935"/>
                  <a:pt x="2555" y="17411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82680" y="3843360"/>
            <a:ext cx="79560" cy="14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1456" y="20643"/>
                  <a:pt x="1456" y="20643"/>
                </a:cubicBezTo>
                <a:cubicBezTo>
                  <a:pt x="1456" y="20643"/>
                  <a:pt x="0" y="11757"/>
                  <a:pt x="0" y="11757"/>
                </a:cubicBezTo>
                <a:cubicBezTo>
                  <a:pt x="1456" y="12851"/>
                  <a:pt x="2912" y="13808"/>
                  <a:pt x="4854" y="14628"/>
                </a:cubicBezTo>
                <a:cubicBezTo>
                  <a:pt x="6067" y="15175"/>
                  <a:pt x="8494" y="16132"/>
                  <a:pt x="9708" y="15585"/>
                </a:cubicBezTo>
                <a:cubicBezTo>
                  <a:pt x="12135" y="14081"/>
                  <a:pt x="12135" y="11757"/>
                  <a:pt x="12620" y="9843"/>
                </a:cubicBezTo>
                <a:cubicBezTo>
                  <a:pt x="13348" y="8066"/>
                  <a:pt x="11649" y="6015"/>
                  <a:pt x="13348" y="4511"/>
                </a:cubicBezTo>
                <a:cubicBezTo>
                  <a:pt x="15290" y="2871"/>
                  <a:pt x="17960" y="1367"/>
                  <a:pt x="20387" y="0"/>
                </a:cubicBezTo>
                <a:cubicBezTo>
                  <a:pt x="20387" y="0"/>
                  <a:pt x="21600" y="21600"/>
                  <a:pt x="21600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73320" y="3800520"/>
            <a:ext cx="88920" cy="18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3672" y="20862"/>
                  <a:pt x="3672" y="20862"/>
                </a:cubicBezTo>
                <a:cubicBezTo>
                  <a:pt x="3672" y="20862"/>
                  <a:pt x="0" y="0"/>
                  <a:pt x="0" y="0"/>
                </a:cubicBezTo>
                <a:cubicBezTo>
                  <a:pt x="0" y="0"/>
                  <a:pt x="19656" y="0"/>
                  <a:pt x="19656" y="0"/>
                </a:cubicBezTo>
                <a:cubicBezTo>
                  <a:pt x="19656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48040" y="3290760"/>
            <a:ext cx="7920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483" y="17187"/>
                </a:moveTo>
                <a:cubicBezTo>
                  <a:pt x="2483" y="17187"/>
                  <a:pt x="0" y="0"/>
                  <a:pt x="0" y="0"/>
                </a:cubicBezTo>
                <a:cubicBezTo>
                  <a:pt x="0" y="0"/>
                  <a:pt x="21600" y="0"/>
                  <a:pt x="21600" y="0"/>
                </a:cubicBezTo>
                <a:cubicBezTo>
                  <a:pt x="21600" y="0"/>
                  <a:pt x="21600" y="6503"/>
                  <a:pt x="21600" y="6503"/>
                </a:cubicBezTo>
                <a:cubicBezTo>
                  <a:pt x="20110" y="7200"/>
                  <a:pt x="17876" y="8361"/>
                  <a:pt x="15890" y="10219"/>
                </a:cubicBezTo>
                <a:cubicBezTo>
                  <a:pt x="13655" y="11845"/>
                  <a:pt x="15890" y="13703"/>
                  <a:pt x="15145" y="15794"/>
                </a:cubicBezTo>
                <a:cubicBezTo>
                  <a:pt x="14648" y="17187"/>
                  <a:pt x="14648" y="19742"/>
                  <a:pt x="12166" y="20671"/>
                </a:cubicBezTo>
                <a:cubicBezTo>
                  <a:pt x="10924" y="21600"/>
                  <a:pt x="8441" y="20206"/>
                  <a:pt x="7448" y="20206"/>
                </a:cubicBezTo>
                <a:cubicBezTo>
                  <a:pt x="7448" y="20206"/>
                  <a:pt x="5462" y="18581"/>
                  <a:pt x="5462" y="18581"/>
                </a:cubicBezTo>
                <a:cubicBezTo>
                  <a:pt x="4221" y="18116"/>
                  <a:pt x="4221" y="18116"/>
                  <a:pt x="2483" y="17187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7400" y="3316320"/>
            <a:ext cx="77760" cy="7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1758" y="19842"/>
                  <a:pt x="1758" y="19842"/>
                </a:cubicBezTo>
                <a:cubicBezTo>
                  <a:pt x="1758" y="19842"/>
                  <a:pt x="0" y="11553"/>
                  <a:pt x="0" y="11553"/>
                </a:cubicBezTo>
                <a:cubicBezTo>
                  <a:pt x="1758" y="12558"/>
                  <a:pt x="3014" y="14316"/>
                  <a:pt x="5023" y="14819"/>
                </a:cubicBezTo>
                <a:cubicBezTo>
                  <a:pt x="6028" y="14819"/>
                  <a:pt x="8540" y="16326"/>
                  <a:pt x="9795" y="15321"/>
                </a:cubicBezTo>
                <a:cubicBezTo>
                  <a:pt x="12307" y="14316"/>
                  <a:pt x="12307" y="11553"/>
                  <a:pt x="12809" y="10047"/>
                </a:cubicBezTo>
                <a:cubicBezTo>
                  <a:pt x="13563" y="7786"/>
                  <a:pt x="11302" y="5777"/>
                  <a:pt x="13563" y="4019"/>
                </a:cubicBezTo>
                <a:cubicBezTo>
                  <a:pt x="15572" y="2009"/>
                  <a:pt x="17833" y="753"/>
                  <a:pt x="20344" y="0"/>
                </a:cubicBezTo>
                <a:cubicBezTo>
                  <a:pt x="20344" y="0"/>
                  <a:pt x="21600" y="21600"/>
                  <a:pt x="21600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48040" y="3290760"/>
            <a:ext cx="87120" cy="103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3825" y="20274"/>
                  <a:pt x="3825" y="20274"/>
                </a:cubicBezTo>
                <a:cubicBezTo>
                  <a:pt x="3825" y="20274"/>
                  <a:pt x="0" y="0"/>
                  <a:pt x="0" y="0"/>
                </a:cubicBezTo>
                <a:cubicBezTo>
                  <a:pt x="0" y="0"/>
                  <a:pt x="19575" y="0"/>
                  <a:pt x="19575" y="0"/>
                </a:cubicBezTo>
                <a:cubicBezTo>
                  <a:pt x="19575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16440" y="3736800"/>
            <a:ext cx="79200" cy="133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670" y="17339"/>
                </a:moveTo>
                <a:cubicBezTo>
                  <a:pt x="2670" y="17339"/>
                  <a:pt x="0" y="0"/>
                  <a:pt x="0" y="0"/>
                </a:cubicBezTo>
                <a:cubicBezTo>
                  <a:pt x="0" y="0"/>
                  <a:pt x="21115" y="0"/>
                  <a:pt x="21115" y="0"/>
                </a:cubicBezTo>
                <a:cubicBezTo>
                  <a:pt x="21115" y="0"/>
                  <a:pt x="21600" y="6171"/>
                  <a:pt x="21600" y="6171"/>
                </a:cubicBezTo>
                <a:cubicBezTo>
                  <a:pt x="19658" y="7494"/>
                  <a:pt x="17474" y="8669"/>
                  <a:pt x="15533" y="10580"/>
                </a:cubicBezTo>
                <a:cubicBezTo>
                  <a:pt x="13834" y="11902"/>
                  <a:pt x="15533" y="13665"/>
                  <a:pt x="15047" y="15576"/>
                </a:cubicBezTo>
                <a:cubicBezTo>
                  <a:pt x="14319" y="17339"/>
                  <a:pt x="14319" y="19543"/>
                  <a:pt x="11892" y="20865"/>
                </a:cubicBezTo>
                <a:cubicBezTo>
                  <a:pt x="10679" y="21600"/>
                  <a:pt x="8252" y="20571"/>
                  <a:pt x="7281" y="20278"/>
                </a:cubicBezTo>
                <a:cubicBezTo>
                  <a:pt x="7281" y="20278"/>
                  <a:pt x="5339" y="18661"/>
                  <a:pt x="5339" y="18661"/>
                </a:cubicBezTo>
                <a:cubicBezTo>
                  <a:pt x="4126" y="18367"/>
                  <a:pt x="3640" y="18073"/>
                  <a:pt x="2670" y="17339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5800" y="3774960"/>
            <a:ext cx="7632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1525" y="20674"/>
                  <a:pt x="1525" y="20674"/>
                </a:cubicBezTo>
                <a:cubicBezTo>
                  <a:pt x="1525" y="20674"/>
                  <a:pt x="0" y="11726"/>
                  <a:pt x="0" y="11726"/>
                </a:cubicBezTo>
                <a:cubicBezTo>
                  <a:pt x="1525" y="12806"/>
                  <a:pt x="2795" y="13886"/>
                  <a:pt x="4828" y="14811"/>
                </a:cubicBezTo>
                <a:cubicBezTo>
                  <a:pt x="5845" y="15120"/>
                  <a:pt x="8386" y="16200"/>
                  <a:pt x="9656" y="15429"/>
                </a:cubicBezTo>
                <a:cubicBezTo>
                  <a:pt x="12198" y="14040"/>
                  <a:pt x="12198" y="11726"/>
                  <a:pt x="12960" y="9874"/>
                </a:cubicBezTo>
                <a:cubicBezTo>
                  <a:pt x="13468" y="7869"/>
                  <a:pt x="11689" y="6017"/>
                  <a:pt x="13468" y="4629"/>
                </a:cubicBezTo>
                <a:cubicBezTo>
                  <a:pt x="15501" y="2623"/>
                  <a:pt x="17788" y="1389"/>
                  <a:pt x="20329" y="0"/>
                </a:cubicBezTo>
                <a:cubicBezTo>
                  <a:pt x="20329" y="0"/>
                  <a:pt x="21600" y="21600"/>
                  <a:pt x="21600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16440" y="3736800"/>
            <a:ext cx="8568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3825" y="20888"/>
                  <a:pt x="3825" y="20888"/>
                </a:cubicBezTo>
                <a:cubicBezTo>
                  <a:pt x="3825" y="20888"/>
                  <a:pt x="0" y="0"/>
                  <a:pt x="0" y="0"/>
                </a:cubicBezTo>
                <a:cubicBezTo>
                  <a:pt x="0" y="0"/>
                  <a:pt x="19575" y="0"/>
                  <a:pt x="19575" y="0"/>
                </a:cubicBezTo>
                <a:cubicBezTo>
                  <a:pt x="19575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25960" y="3735360"/>
            <a:ext cx="79200" cy="13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427" y="17605"/>
                </a:moveTo>
                <a:cubicBezTo>
                  <a:pt x="2427" y="17605"/>
                  <a:pt x="0" y="0"/>
                  <a:pt x="0" y="0"/>
                </a:cubicBezTo>
                <a:cubicBezTo>
                  <a:pt x="0" y="0"/>
                  <a:pt x="20872" y="0"/>
                  <a:pt x="20872" y="0"/>
                </a:cubicBezTo>
                <a:cubicBezTo>
                  <a:pt x="20872" y="0"/>
                  <a:pt x="21600" y="6362"/>
                  <a:pt x="21600" y="6362"/>
                </a:cubicBezTo>
                <a:cubicBezTo>
                  <a:pt x="19416" y="7545"/>
                  <a:pt x="17474" y="8729"/>
                  <a:pt x="15533" y="10652"/>
                </a:cubicBezTo>
                <a:cubicBezTo>
                  <a:pt x="13834" y="11836"/>
                  <a:pt x="15533" y="13759"/>
                  <a:pt x="14804" y="15682"/>
                </a:cubicBezTo>
                <a:cubicBezTo>
                  <a:pt x="14319" y="17605"/>
                  <a:pt x="14319" y="19825"/>
                  <a:pt x="11892" y="21008"/>
                </a:cubicBezTo>
                <a:cubicBezTo>
                  <a:pt x="10679" y="21600"/>
                  <a:pt x="8252" y="20712"/>
                  <a:pt x="7281" y="20268"/>
                </a:cubicBezTo>
                <a:cubicBezTo>
                  <a:pt x="7281" y="20268"/>
                  <a:pt x="5097" y="18789"/>
                  <a:pt x="5097" y="18789"/>
                </a:cubicBezTo>
                <a:cubicBezTo>
                  <a:pt x="4126" y="18493"/>
                  <a:pt x="3640" y="18197"/>
                  <a:pt x="2427" y="17605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33880" y="3774960"/>
            <a:ext cx="76320" cy="12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1800" y="20668"/>
                  <a:pt x="1800" y="20668"/>
                </a:cubicBezTo>
                <a:cubicBezTo>
                  <a:pt x="1800" y="20668"/>
                  <a:pt x="0" y="11810"/>
                  <a:pt x="0" y="11810"/>
                </a:cubicBezTo>
                <a:cubicBezTo>
                  <a:pt x="1800" y="12742"/>
                  <a:pt x="2829" y="13830"/>
                  <a:pt x="5143" y="14607"/>
                </a:cubicBezTo>
                <a:cubicBezTo>
                  <a:pt x="6171" y="15073"/>
                  <a:pt x="8743" y="16006"/>
                  <a:pt x="10029" y="15384"/>
                </a:cubicBezTo>
                <a:cubicBezTo>
                  <a:pt x="12600" y="14141"/>
                  <a:pt x="12600" y="11810"/>
                  <a:pt x="13114" y="9790"/>
                </a:cubicBezTo>
                <a:cubicBezTo>
                  <a:pt x="13886" y="7770"/>
                  <a:pt x="12086" y="5750"/>
                  <a:pt x="13886" y="4506"/>
                </a:cubicBezTo>
                <a:cubicBezTo>
                  <a:pt x="15943" y="2486"/>
                  <a:pt x="18000" y="1243"/>
                  <a:pt x="20829" y="0"/>
                </a:cubicBezTo>
                <a:cubicBezTo>
                  <a:pt x="20829" y="0"/>
                  <a:pt x="21600" y="21600"/>
                  <a:pt x="21600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25960" y="3735360"/>
            <a:ext cx="8424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3906" y="20888"/>
                  <a:pt x="3906" y="20888"/>
                </a:cubicBezTo>
                <a:cubicBezTo>
                  <a:pt x="3906" y="20888"/>
                  <a:pt x="0" y="0"/>
                  <a:pt x="0" y="0"/>
                </a:cubicBezTo>
                <a:cubicBezTo>
                  <a:pt x="0" y="0"/>
                  <a:pt x="19762" y="0"/>
                  <a:pt x="19762" y="0"/>
                </a:cubicBezTo>
                <a:cubicBezTo>
                  <a:pt x="19762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43200" y="3260880"/>
            <a:ext cx="71640" cy="9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734" y="17476"/>
                </a:moveTo>
                <a:cubicBezTo>
                  <a:pt x="2734" y="17476"/>
                  <a:pt x="0" y="0"/>
                  <a:pt x="0" y="0"/>
                </a:cubicBezTo>
                <a:cubicBezTo>
                  <a:pt x="0" y="0"/>
                  <a:pt x="21600" y="0"/>
                  <a:pt x="21600" y="0"/>
                </a:cubicBezTo>
                <a:cubicBezTo>
                  <a:pt x="21600" y="0"/>
                  <a:pt x="21600" y="6284"/>
                  <a:pt x="21600" y="6284"/>
                </a:cubicBezTo>
                <a:cubicBezTo>
                  <a:pt x="19413" y="7462"/>
                  <a:pt x="17772" y="8444"/>
                  <a:pt x="15585" y="10407"/>
                </a:cubicBezTo>
                <a:cubicBezTo>
                  <a:pt x="13671" y="11782"/>
                  <a:pt x="15585" y="13745"/>
                  <a:pt x="14765" y="15709"/>
                </a:cubicBezTo>
                <a:cubicBezTo>
                  <a:pt x="14218" y="17476"/>
                  <a:pt x="14218" y="19440"/>
                  <a:pt x="12030" y="20815"/>
                </a:cubicBezTo>
                <a:cubicBezTo>
                  <a:pt x="10663" y="21600"/>
                  <a:pt x="8203" y="20422"/>
                  <a:pt x="7382" y="20029"/>
                </a:cubicBezTo>
                <a:cubicBezTo>
                  <a:pt x="7382" y="20029"/>
                  <a:pt x="4922" y="18655"/>
                  <a:pt x="4922" y="18655"/>
                </a:cubicBezTo>
                <a:cubicBezTo>
                  <a:pt x="3828" y="18262"/>
                  <a:pt x="3828" y="18262"/>
                  <a:pt x="2734" y="17476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2920" y="3289320"/>
            <a:ext cx="6804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1137" y="20146"/>
                  <a:pt x="1137" y="20146"/>
                </a:cubicBezTo>
                <a:cubicBezTo>
                  <a:pt x="1137" y="20146"/>
                  <a:pt x="0" y="11838"/>
                  <a:pt x="0" y="11838"/>
                </a:cubicBezTo>
                <a:cubicBezTo>
                  <a:pt x="1137" y="12669"/>
                  <a:pt x="2274" y="13915"/>
                  <a:pt x="4832" y="14538"/>
                </a:cubicBezTo>
                <a:cubicBezTo>
                  <a:pt x="5684" y="14954"/>
                  <a:pt x="8242" y="16200"/>
                  <a:pt x="9663" y="15369"/>
                </a:cubicBezTo>
                <a:cubicBezTo>
                  <a:pt x="11937" y="13915"/>
                  <a:pt x="11937" y="11838"/>
                  <a:pt x="12505" y="9969"/>
                </a:cubicBezTo>
                <a:cubicBezTo>
                  <a:pt x="13358" y="7892"/>
                  <a:pt x="11368" y="5815"/>
                  <a:pt x="13358" y="4362"/>
                </a:cubicBezTo>
                <a:cubicBezTo>
                  <a:pt x="15632" y="2285"/>
                  <a:pt x="17337" y="1246"/>
                  <a:pt x="20463" y="0"/>
                </a:cubicBezTo>
                <a:cubicBezTo>
                  <a:pt x="20463" y="0"/>
                  <a:pt x="21600" y="21600"/>
                  <a:pt x="21600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43200" y="3260880"/>
            <a:ext cx="77760" cy="12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3516" y="20488"/>
                  <a:pt x="3516" y="20488"/>
                </a:cubicBezTo>
                <a:cubicBezTo>
                  <a:pt x="3516" y="20488"/>
                  <a:pt x="0" y="0"/>
                  <a:pt x="0" y="0"/>
                </a:cubicBezTo>
                <a:cubicBezTo>
                  <a:pt x="0" y="0"/>
                  <a:pt x="19842" y="0"/>
                  <a:pt x="19842" y="0"/>
                </a:cubicBezTo>
                <a:cubicBezTo>
                  <a:pt x="19842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9720" y="3265560"/>
            <a:ext cx="7776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483" y="17187"/>
                </a:moveTo>
                <a:cubicBezTo>
                  <a:pt x="2483" y="17187"/>
                  <a:pt x="0" y="0"/>
                  <a:pt x="0" y="0"/>
                </a:cubicBezTo>
                <a:cubicBezTo>
                  <a:pt x="0" y="0"/>
                  <a:pt x="21600" y="0"/>
                  <a:pt x="21600" y="0"/>
                </a:cubicBezTo>
                <a:cubicBezTo>
                  <a:pt x="21600" y="0"/>
                  <a:pt x="21600" y="6503"/>
                  <a:pt x="21600" y="6503"/>
                </a:cubicBezTo>
                <a:cubicBezTo>
                  <a:pt x="19862" y="7432"/>
                  <a:pt x="17876" y="8594"/>
                  <a:pt x="15641" y="10452"/>
                </a:cubicBezTo>
                <a:cubicBezTo>
                  <a:pt x="13655" y="11845"/>
                  <a:pt x="15641" y="13703"/>
                  <a:pt x="15393" y="15794"/>
                </a:cubicBezTo>
                <a:cubicBezTo>
                  <a:pt x="14648" y="17187"/>
                  <a:pt x="14648" y="19742"/>
                  <a:pt x="11917" y="20671"/>
                </a:cubicBezTo>
                <a:cubicBezTo>
                  <a:pt x="11172" y="21600"/>
                  <a:pt x="8193" y="20206"/>
                  <a:pt x="7448" y="20206"/>
                </a:cubicBezTo>
                <a:cubicBezTo>
                  <a:pt x="7448" y="20206"/>
                  <a:pt x="5214" y="18813"/>
                  <a:pt x="5214" y="18813"/>
                </a:cubicBezTo>
                <a:cubicBezTo>
                  <a:pt x="4221" y="18348"/>
                  <a:pt x="4221" y="18348"/>
                  <a:pt x="2483" y="17187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57640" y="3290760"/>
            <a:ext cx="75960" cy="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1779" y="19862"/>
                  <a:pt x="1779" y="19862"/>
                </a:cubicBezTo>
                <a:cubicBezTo>
                  <a:pt x="1779" y="19862"/>
                  <a:pt x="0" y="11421"/>
                  <a:pt x="0" y="11421"/>
                </a:cubicBezTo>
                <a:cubicBezTo>
                  <a:pt x="1779" y="12662"/>
                  <a:pt x="2795" y="14152"/>
                  <a:pt x="5082" y="14648"/>
                </a:cubicBezTo>
                <a:cubicBezTo>
                  <a:pt x="5845" y="14648"/>
                  <a:pt x="8894" y="16138"/>
                  <a:pt x="9656" y="15145"/>
                </a:cubicBezTo>
                <a:cubicBezTo>
                  <a:pt x="12452" y="14152"/>
                  <a:pt x="12452" y="11421"/>
                  <a:pt x="13214" y="9931"/>
                </a:cubicBezTo>
                <a:cubicBezTo>
                  <a:pt x="13468" y="7697"/>
                  <a:pt x="11435" y="5710"/>
                  <a:pt x="13468" y="4221"/>
                </a:cubicBezTo>
                <a:cubicBezTo>
                  <a:pt x="15755" y="2234"/>
                  <a:pt x="17788" y="993"/>
                  <a:pt x="20584" y="0"/>
                </a:cubicBezTo>
                <a:cubicBezTo>
                  <a:pt x="20584" y="0"/>
                  <a:pt x="21600" y="21600"/>
                  <a:pt x="21600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9720" y="3265560"/>
            <a:ext cx="8388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3865" y="20285"/>
                  <a:pt x="3865" y="20285"/>
                </a:cubicBezTo>
                <a:cubicBezTo>
                  <a:pt x="3865" y="20285"/>
                  <a:pt x="0" y="0"/>
                  <a:pt x="0" y="0"/>
                </a:cubicBezTo>
                <a:cubicBezTo>
                  <a:pt x="0" y="0"/>
                  <a:pt x="19781" y="0"/>
                  <a:pt x="19781" y="0"/>
                </a:cubicBezTo>
                <a:cubicBezTo>
                  <a:pt x="19781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3840" y="4129200"/>
            <a:ext cx="3333600" cy="23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884" y="15070"/>
                  <a:pt x="3767" y="8707"/>
                  <a:pt x="5668" y="5191"/>
                </a:cubicBezTo>
                <a:cubicBezTo>
                  <a:pt x="7604" y="1423"/>
                  <a:pt x="9558" y="0"/>
                  <a:pt x="11523" y="0"/>
                </a:cubicBezTo>
                <a:cubicBezTo>
                  <a:pt x="12789" y="0"/>
                  <a:pt x="14147" y="419"/>
                  <a:pt x="15483" y="1674"/>
                </a:cubicBezTo>
                <a:cubicBezTo>
                  <a:pt x="16655" y="2679"/>
                  <a:pt x="17844" y="4521"/>
                  <a:pt x="18813" y="6195"/>
                </a:cubicBezTo>
                <a:cubicBezTo>
                  <a:pt x="19751" y="7786"/>
                  <a:pt x="20673" y="11135"/>
                  <a:pt x="21600" y="14567"/>
                </a:cubicBezTo>
              </a:path>
            </a:pathLst>
          </a:custGeom>
          <a:solidFill>
            <a:srgbClr val="7f7f7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8680" y="4267080"/>
            <a:ext cx="222264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511" y="10219"/>
                  <a:pt x="4934" y="2323"/>
                  <a:pt x="7489" y="929"/>
                </a:cubicBezTo>
                <a:cubicBezTo>
                  <a:pt x="9588" y="0"/>
                  <a:pt x="11565" y="465"/>
                  <a:pt x="13665" y="3252"/>
                </a:cubicBezTo>
                <a:cubicBezTo>
                  <a:pt x="15371" y="5806"/>
                  <a:pt x="17208" y="8826"/>
                  <a:pt x="19037" y="13006"/>
                </a:cubicBezTo>
                <a:cubicBezTo>
                  <a:pt x="19885" y="15097"/>
                  <a:pt x="21600" y="21600"/>
                  <a:pt x="21600" y="21600"/>
                </a:cubicBezTo>
              </a:path>
            </a:pathLst>
          </a:custGeom>
          <a:solidFill>
            <a:srgbClr val="7f7f7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32080" y="4459320"/>
            <a:ext cx="1636560" cy="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" y="21600"/>
                </a:moveTo>
                <a:cubicBezTo>
                  <a:pt x="36" y="21600"/>
                  <a:pt x="0" y="21600"/>
                  <a:pt x="12" y="21600"/>
                </a:cubicBezTo>
                <a:cubicBezTo>
                  <a:pt x="3053" y="14329"/>
                  <a:pt x="6071" y="5774"/>
                  <a:pt x="9125" y="2780"/>
                </a:cubicBezTo>
                <a:cubicBezTo>
                  <a:pt x="11952" y="0"/>
                  <a:pt x="14756" y="2139"/>
                  <a:pt x="17537" y="7271"/>
                </a:cubicBezTo>
                <a:cubicBezTo>
                  <a:pt x="18903" y="9410"/>
                  <a:pt x="20257" y="13687"/>
                  <a:pt x="21600" y="17537"/>
                </a:cubicBezTo>
              </a:path>
            </a:pathLst>
          </a:custGeom>
          <a:solidFill>
            <a:srgbClr val="7f7f7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73200" y="4583160"/>
            <a:ext cx="130968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3711" y="10652"/>
                  <a:pt x="7408" y="0"/>
                  <a:pt x="11089" y="0"/>
                </a:cubicBezTo>
                <a:cubicBezTo>
                  <a:pt x="14623" y="0"/>
                  <a:pt x="18126" y="10652"/>
                  <a:pt x="21600" y="21600"/>
                </a:cubicBezTo>
              </a:path>
            </a:pathLst>
          </a:custGeom>
          <a:solidFill>
            <a:srgbClr val="7f7f7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9520" y="3867120"/>
            <a:ext cx="81000" cy="29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699" y="17517"/>
                  <a:pt x="2912" y="13368"/>
                  <a:pt x="4611" y="9154"/>
                </a:cubicBezTo>
                <a:cubicBezTo>
                  <a:pt x="5825" y="6651"/>
                  <a:pt x="4611" y="4083"/>
                  <a:pt x="6553" y="1515"/>
                </a:cubicBezTo>
                <a:cubicBezTo>
                  <a:pt x="7281" y="856"/>
                  <a:pt x="10193" y="0"/>
                  <a:pt x="12378" y="263"/>
                </a:cubicBezTo>
                <a:cubicBezTo>
                  <a:pt x="16503" y="988"/>
                  <a:pt x="18930" y="2371"/>
                  <a:pt x="19658" y="3622"/>
                </a:cubicBezTo>
                <a:cubicBezTo>
                  <a:pt x="21600" y="8759"/>
                  <a:pt x="20872" y="14027"/>
                  <a:pt x="20629" y="19163"/>
                </a:cubicBezTo>
              </a:path>
            </a:pathLst>
          </a:custGeom>
          <a:solidFill>
            <a:srgbClr val="7f7f7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97400" y="3137040"/>
            <a:ext cx="347760" cy="58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791" y="266"/>
                </a:moveTo>
                <a:cubicBezTo>
                  <a:pt x="2623" y="333"/>
                  <a:pt x="2344" y="499"/>
                  <a:pt x="2233" y="699"/>
                </a:cubicBezTo>
                <a:cubicBezTo>
                  <a:pt x="1395" y="1731"/>
                  <a:pt x="1395" y="3095"/>
                  <a:pt x="1563" y="4260"/>
                </a:cubicBezTo>
                <a:cubicBezTo>
                  <a:pt x="1674" y="5325"/>
                  <a:pt x="3070" y="6390"/>
                  <a:pt x="2958" y="7455"/>
                </a:cubicBezTo>
                <a:cubicBezTo>
                  <a:pt x="2791" y="8021"/>
                  <a:pt x="2344" y="8520"/>
                  <a:pt x="1786" y="8920"/>
                </a:cubicBezTo>
                <a:cubicBezTo>
                  <a:pt x="1395" y="9186"/>
                  <a:pt x="447" y="9186"/>
                  <a:pt x="335" y="9552"/>
                </a:cubicBezTo>
                <a:cubicBezTo>
                  <a:pt x="0" y="10484"/>
                  <a:pt x="1284" y="11382"/>
                  <a:pt x="2121" y="12148"/>
                </a:cubicBezTo>
                <a:cubicBezTo>
                  <a:pt x="2623" y="12581"/>
                  <a:pt x="4019" y="13213"/>
                  <a:pt x="4019" y="13213"/>
                </a:cubicBezTo>
                <a:cubicBezTo>
                  <a:pt x="4019" y="13213"/>
                  <a:pt x="2233" y="13612"/>
                  <a:pt x="1786" y="14078"/>
                </a:cubicBezTo>
                <a:cubicBezTo>
                  <a:pt x="1563" y="14245"/>
                  <a:pt x="1172" y="14677"/>
                  <a:pt x="1284" y="15043"/>
                </a:cubicBezTo>
                <a:cubicBezTo>
                  <a:pt x="1674" y="16142"/>
                  <a:pt x="3181" y="17107"/>
                  <a:pt x="4242" y="18006"/>
                </a:cubicBezTo>
                <a:cubicBezTo>
                  <a:pt x="4688" y="18405"/>
                  <a:pt x="6251" y="19337"/>
                  <a:pt x="6251" y="19337"/>
                </a:cubicBezTo>
                <a:cubicBezTo>
                  <a:pt x="6251" y="19337"/>
                  <a:pt x="5526" y="19803"/>
                  <a:pt x="4856" y="20468"/>
                </a:cubicBezTo>
                <a:cubicBezTo>
                  <a:pt x="5637" y="20668"/>
                  <a:pt x="6642" y="20801"/>
                  <a:pt x="7423" y="21034"/>
                </a:cubicBezTo>
                <a:cubicBezTo>
                  <a:pt x="8372" y="21234"/>
                  <a:pt x="9321" y="21600"/>
                  <a:pt x="10214" y="21434"/>
                </a:cubicBezTo>
                <a:cubicBezTo>
                  <a:pt x="13228" y="20968"/>
                  <a:pt x="16967" y="20801"/>
                  <a:pt x="18586" y="19237"/>
                </a:cubicBezTo>
                <a:cubicBezTo>
                  <a:pt x="20763" y="17273"/>
                  <a:pt x="21600" y="14478"/>
                  <a:pt x="20037" y="12281"/>
                </a:cubicBezTo>
                <a:cubicBezTo>
                  <a:pt x="18586" y="10251"/>
                  <a:pt x="13060" y="10251"/>
                  <a:pt x="11051" y="8354"/>
                </a:cubicBezTo>
                <a:cubicBezTo>
                  <a:pt x="8986" y="6390"/>
                  <a:pt x="8986" y="3794"/>
                  <a:pt x="8149" y="1464"/>
                </a:cubicBezTo>
                <a:cubicBezTo>
                  <a:pt x="7423" y="1132"/>
                  <a:pt x="7088" y="832"/>
                  <a:pt x="6363" y="632"/>
                </a:cubicBezTo>
                <a:cubicBezTo>
                  <a:pt x="5302" y="333"/>
                  <a:pt x="3907" y="0"/>
                  <a:pt x="2791" y="266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49600" y="3176640"/>
            <a:ext cx="34164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600" y="19772"/>
                </a:moveTo>
                <a:cubicBezTo>
                  <a:pt x="3543" y="19662"/>
                  <a:pt x="3429" y="19551"/>
                  <a:pt x="3257" y="19412"/>
                </a:cubicBezTo>
                <a:cubicBezTo>
                  <a:pt x="2857" y="19246"/>
                  <a:pt x="2571" y="19080"/>
                  <a:pt x="2171" y="18886"/>
                </a:cubicBezTo>
                <a:cubicBezTo>
                  <a:pt x="1429" y="18388"/>
                  <a:pt x="743" y="17862"/>
                  <a:pt x="0" y="17308"/>
                </a:cubicBezTo>
                <a:cubicBezTo>
                  <a:pt x="229" y="16837"/>
                  <a:pt x="971" y="16283"/>
                  <a:pt x="1600" y="15812"/>
                </a:cubicBezTo>
                <a:cubicBezTo>
                  <a:pt x="2400" y="15978"/>
                  <a:pt x="3429" y="16089"/>
                  <a:pt x="4229" y="16283"/>
                </a:cubicBezTo>
                <a:cubicBezTo>
                  <a:pt x="5200" y="16449"/>
                  <a:pt x="6171" y="16754"/>
                  <a:pt x="7086" y="16615"/>
                </a:cubicBezTo>
                <a:cubicBezTo>
                  <a:pt x="10171" y="16228"/>
                  <a:pt x="14000" y="16089"/>
                  <a:pt x="15657" y="14788"/>
                </a:cubicBezTo>
                <a:cubicBezTo>
                  <a:pt x="17886" y="13154"/>
                  <a:pt x="18743" y="10828"/>
                  <a:pt x="17143" y="9000"/>
                </a:cubicBezTo>
                <a:cubicBezTo>
                  <a:pt x="15657" y="7311"/>
                  <a:pt x="10000" y="7311"/>
                  <a:pt x="7943" y="5732"/>
                </a:cubicBezTo>
                <a:cubicBezTo>
                  <a:pt x="5829" y="4098"/>
                  <a:pt x="5829" y="1938"/>
                  <a:pt x="4971" y="0"/>
                </a:cubicBezTo>
                <a:cubicBezTo>
                  <a:pt x="5200" y="138"/>
                  <a:pt x="5657" y="305"/>
                  <a:pt x="5943" y="360"/>
                </a:cubicBezTo>
                <a:cubicBezTo>
                  <a:pt x="7086" y="775"/>
                  <a:pt x="9029" y="831"/>
                  <a:pt x="10000" y="1357"/>
                </a:cubicBezTo>
                <a:cubicBezTo>
                  <a:pt x="10971" y="1938"/>
                  <a:pt x="10286" y="2797"/>
                  <a:pt x="10971" y="3462"/>
                </a:cubicBezTo>
                <a:cubicBezTo>
                  <a:pt x="11429" y="3905"/>
                  <a:pt x="12171" y="4320"/>
                  <a:pt x="13029" y="4514"/>
                </a:cubicBezTo>
                <a:cubicBezTo>
                  <a:pt x="13543" y="4625"/>
                  <a:pt x="14114" y="4569"/>
                  <a:pt x="14743" y="4514"/>
                </a:cubicBezTo>
                <a:cubicBezTo>
                  <a:pt x="16171" y="5455"/>
                  <a:pt x="17771" y="6342"/>
                  <a:pt x="18743" y="7422"/>
                </a:cubicBezTo>
                <a:cubicBezTo>
                  <a:pt x="19886" y="8889"/>
                  <a:pt x="20171" y="10495"/>
                  <a:pt x="20400" y="11991"/>
                </a:cubicBezTo>
                <a:cubicBezTo>
                  <a:pt x="20686" y="13458"/>
                  <a:pt x="21600" y="15037"/>
                  <a:pt x="20286" y="16366"/>
                </a:cubicBezTo>
                <a:cubicBezTo>
                  <a:pt x="19029" y="17557"/>
                  <a:pt x="15486" y="17723"/>
                  <a:pt x="13771" y="18803"/>
                </a:cubicBezTo>
                <a:cubicBezTo>
                  <a:pt x="13429" y="19025"/>
                  <a:pt x="15943" y="19025"/>
                  <a:pt x="15486" y="19246"/>
                </a:cubicBezTo>
                <a:cubicBezTo>
                  <a:pt x="13543" y="20243"/>
                  <a:pt x="11257" y="21185"/>
                  <a:pt x="8457" y="21462"/>
                </a:cubicBezTo>
                <a:cubicBezTo>
                  <a:pt x="7029" y="21600"/>
                  <a:pt x="5657" y="20852"/>
                  <a:pt x="4571" y="20298"/>
                </a:cubicBezTo>
                <a:cubicBezTo>
                  <a:pt x="4229" y="20132"/>
                  <a:pt x="4000" y="19966"/>
                  <a:pt x="3600" y="19772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41680" y="3314880"/>
            <a:ext cx="459000" cy="671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82" y="13648"/>
                </a:moveTo>
                <a:cubicBezTo>
                  <a:pt x="127" y="14458"/>
                  <a:pt x="0" y="15354"/>
                  <a:pt x="382" y="16106"/>
                </a:cubicBezTo>
                <a:cubicBezTo>
                  <a:pt x="934" y="17263"/>
                  <a:pt x="1994" y="18419"/>
                  <a:pt x="3522" y="19142"/>
                </a:cubicBezTo>
                <a:cubicBezTo>
                  <a:pt x="4583" y="19634"/>
                  <a:pt x="6153" y="19836"/>
                  <a:pt x="7384" y="19952"/>
                </a:cubicBezTo>
                <a:cubicBezTo>
                  <a:pt x="8530" y="20067"/>
                  <a:pt x="9803" y="19692"/>
                  <a:pt x="10864" y="19952"/>
                </a:cubicBezTo>
                <a:cubicBezTo>
                  <a:pt x="11967" y="20183"/>
                  <a:pt x="12519" y="21051"/>
                  <a:pt x="13580" y="21282"/>
                </a:cubicBezTo>
                <a:cubicBezTo>
                  <a:pt x="14640" y="21542"/>
                  <a:pt x="16253" y="21600"/>
                  <a:pt x="17441" y="21542"/>
                </a:cubicBezTo>
                <a:cubicBezTo>
                  <a:pt x="18332" y="21484"/>
                  <a:pt x="19224" y="21282"/>
                  <a:pt x="20030" y="20848"/>
                </a:cubicBezTo>
                <a:cubicBezTo>
                  <a:pt x="20836" y="20414"/>
                  <a:pt x="21176" y="19692"/>
                  <a:pt x="21473" y="19055"/>
                </a:cubicBezTo>
                <a:cubicBezTo>
                  <a:pt x="21600" y="18564"/>
                  <a:pt x="21515" y="18072"/>
                  <a:pt x="21388" y="17581"/>
                </a:cubicBezTo>
                <a:cubicBezTo>
                  <a:pt x="21176" y="17002"/>
                  <a:pt x="20539" y="16540"/>
                  <a:pt x="20115" y="15990"/>
                </a:cubicBezTo>
                <a:cubicBezTo>
                  <a:pt x="19818" y="15672"/>
                  <a:pt x="19224" y="15065"/>
                  <a:pt x="19224" y="15065"/>
                </a:cubicBezTo>
                <a:cubicBezTo>
                  <a:pt x="19224" y="15065"/>
                  <a:pt x="19648" y="13070"/>
                  <a:pt x="19818" y="12000"/>
                </a:cubicBezTo>
                <a:cubicBezTo>
                  <a:pt x="20030" y="11017"/>
                  <a:pt x="20666" y="10005"/>
                  <a:pt x="20369" y="9022"/>
                </a:cubicBezTo>
                <a:cubicBezTo>
                  <a:pt x="20200" y="8328"/>
                  <a:pt x="19648" y="7489"/>
                  <a:pt x="18757" y="7055"/>
                </a:cubicBezTo>
                <a:cubicBezTo>
                  <a:pt x="18332" y="6824"/>
                  <a:pt x="16974" y="6766"/>
                  <a:pt x="16974" y="6766"/>
                </a:cubicBezTo>
                <a:cubicBezTo>
                  <a:pt x="16974" y="6766"/>
                  <a:pt x="17526" y="5841"/>
                  <a:pt x="17696" y="5407"/>
                </a:cubicBezTo>
                <a:cubicBezTo>
                  <a:pt x="17866" y="4973"/>
                  <a:pt x="18248" y="4482"/>
                  <a:pt x="17950" y="4135"/>
                </a:cubicBezTo>
                <a:cubicBezTo>
                  <a:pt x="17696" y="3846"/>
                  <a:pt x="16890" y="3846"/>
                  <a:pt x="16593" y="3470"/>
                </a:cubicBezTo>
                <a:cubicBezTo>
                  <a:pt x="16253" y="2920"/>
                  <a:pt x="16890" y="2198"/>
                  <a:pt x="16423" y="1619"/>
                </a:cubicBezTo>
                <a:cubicBezTo>
                  <a:pt x="15786" y="896"/>
                  <a:pt x="14386" y="347"/>
                  <a:pt x="13113" y="87"/>
                </a:cubicBezTo>
                <a:cubicBezTo>
                  <a:pt x="12604" y="0"/>
                  <a:pt x="11967" y="145"/>
                  <a:pt x="11330" y="289"/>
                </a:cubicBezTo>
                <a:cubicBezTo>
                  <a:pt x="12391" y="1272"/>
                  <a:pt x="13580" y="2198"/>
                  <a:pt x="14301" y="3325"/>
                </a:cubicBezTo>
                <a:cubicBezTo>
                  <a:pt x="15150" y="4858"/>
                  <a:pt x="15362" y="6535"/>
                  <a:pt x="15532" y="8096"/>
                </a:cubicBezTo>
                <a:cubicBezTo>
                  <a:pt x="15744" y="9629"/>
                  <a:pt x="16423" y="11277"/>
                  <a:pt x="15447" y="12665"/>
                </a:cubicBezTo>
                <a:cubicBezTo>
                  <a:pt x="14513" y="13908"/>
                  <a:pt x="11882" y="14082"/>
                  <a:pt x="10609" y="15210"/>
                </a:cubicBezTo>
                <a:cubicBezTo>
                  <a:pt x="10354" y="15441"/>
                  <a:pt x="12222" y="15441"/>
                  <a:pt x="11882" y="15672"/>
                </a:cubicBezTo>
                <a:cubicBezTo>
                  <a:pt x="10439" y="16713"/>
                  <a:pt x="8742" y="17696"/>
                  <a:pt x="6662" y="17986"/>
                </a:cubicBezTo>
                <a:cubicBezTo>
                  <a:pt x="5602" y="18130"/>
                  <a:pt x="4583" y="17349"/>
                  <a:pt x="3777" y="16771"/>
                </a:cubicBezTo>
                <a:cubicBezTo>
                  <a:pt x="2504" y="15846"/>
                  <a:pt x="1443" y="14718"/>
                  <a:pt x="382" y="13648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63720" y="2997360"/>
            <a:ext cx="583920" cy="88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238"/>
                </a:moveTo>
                <a:cubicBezTo>
                  <a:pt x="0" y="15626"/>
                  <a:pt x="666" y="15078"/>
                  <a:pt x="1165" y="14575"/>
                </a:cubicBezTo>
                <a:cubicBezTo>
                  <a:pt x="1631" y="14072"/>
                  <a:pt x="2896" y="13743"/>
                  <a:pt x="3195" y="13087"/>
                </a:cubicBezTo>
                <a:cubicBezTo>
                  <a:pt x="3461" y="12387"/>
                  <a:pt x="2063" y="11664"/>
                  <a:pt x="2396" y="10920"/>
                </a:cubicBezTo>
                <a:cubicBezTo>
                  <a:pt x="2762" y="10220"/>
                  <a:pt x="4593" y="10176"/>
                  <a:pt x="5092" y="9432"/>
                </a:cubicBezTo>
                <a:cubicBezTo>
                  <a:pt x="5558" y="8666"/>
                  <a:pt x="4160" y="7638"/>
                  <a:pt x="4726" y="6850"/>
                </a:cubicBezTo>
                <a:cubicBezTo>
                  <a:pt x="5259" y="6084"/>
                  <a:pt x="7622" y="6150"/>
                  <a:pt x="7888" y="5340"/>
                </a:cubicBezTo>
                <a:cubicBezTo>
                  <a:pt x="8121" y="4727"/>
                  <a:pt x="6490" y="4311"/>
                  <a:pt x="6490" y="3655"/>
                </a:cubicBezTo>
                <a:cubicBezTo>
                  <a:pt x="6423" y="2911"/>
                  <a:pt x="7189" y="2145"/>
                  <a:pt x="8021" y="1685"/>
                </a:cubicBezTo>
                <a:cubicBezTo>
                  <a:pt x="8587" y="1357"/>
                  <a:pt x="9419" y="1204"/>
                  <a:pt x="10151" y="1247"/>
                </a:cubicBezTo>
                <a:cubicBezTo>
                  <a:pt x="10817" y="1313"/>
                  <a:pt x="11416" y="2057"/>
                  <a:pt x="12115" y="1904"/>
                </a:cubicBezTo>
                <a:cubicBezTo>
                  <a:pt x="13113" y="1729"/>
                  <a:pt x="12880" y="525"/>
                  <a:pt x="13745" y="0"/>
                </a:cubicBezTo>
                <a:cubicBezTo>
                  <a:pt x="16974" y="1576"/>
                  <a:pt x="19570" y="3392"/>
                  <a:pt x="20535" y="5799"/>
                </a:cubicBezTo>
                <a:cubicBezTo>
                  <a:pt x="21600" y="8426"/>
                  <a:pt x="19137" y="11161"/>
                  <a:pt x="17872" y="13743"/>
                </a:cubicBezTo>
                <a:cubicBezTo>
                  <a:pt x="17240" y="15035"/>
                  <a:pt x="16208" y="16238"/>
                  <a:pt x="14977" y="17289"/>
                </a:cubicBezTo>
                <a:cubicBezTo>
                  <a:pt x="14711" y="17551"/>
                  <a:pt x="14012" y="17267"/>
                  <a:pt x="13745" y="17442"/>
                </a:cubicBezTo>
                <a:cubicBezTo>
                  <a:pt x="12181" y="18471"/>
                  <a:pt x="11050" y="19696"/>
                  <a:pt x="9652" y="20834"/>
                </a:cubicBezTo>
                <a:cubicBezTo>
                  <a:pt x="9352" y="21097"/>
                  <a:pt x="9153" y="21600"/>
                  <a:pt x="8687" y="21556"/>
                </a:cubicBezTo>
                <a:cubicBezTo>
                  <a:pt x="7954" y="21512"/>
                  <a:pt x="7622" y="20878"/>
                  <a:pt x="6889" y="20681"/>
                </a:cubicBezTo>
                <a:cubicBezTo>
                  <a:pt x="6889" y="20681"/>
                  <a:pt x="5092" y="20178"/>
                  <a:pt x="5092" y="20178"/>
                </a:cubicBezTo>
                <a:cubicBezTo>
                  <a:pt x="4926" y="19609"/>
                  <a:pt x="4094" y="19215"/>
                  <a:pt x="3395" y="18886"/>
                </a:cubicBezTo>
                <a:cubicBezTo>
                  <a:pt x="2829" y="18646"/>
                  <a:pt x="2063" y="18558"/>
                  <a:pt x="1564" y="18230"/>
                </a:cubicBezTo>
                <a:cubicBezTo>
                  <a:pt x="765" y="17726"/>
                  <a:pt x="100" y="16982"/>
                  <a:pt x="0" y="16238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63720" y="2970360"/>
            <a:ext cx="928440" cy="101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4737"/>
                </a:moveTo>
                <a:cubicBezTo>
                  <a:pt x="0" y="14203"/>
                  <a:pt x="418" y="13726"/>
                  <a:pt x="732" y="13288"/>
                </a:cubicBezTo>
                <a:cubicBezTo>
                  <a:pt x="1025" y="12849"/>
                  <a:pt x="1819" y="12563"/>
                  <a:pt x="2007" y="11992"/>
                </a:cubicBezTo>
                <a:cubicBezTo>
                  <a:pt x="2175" y="11381"/>
                  <a:pt x="1296" y="10752"/>
                  <a:pt x="1506" y="10104"/>
                </a:cubicBezTo>
                <a:cubicBezTo>
                  <a:pt x="1736" y="9494"/>
                  <a:pt x="2886" y="9456"/>
                  <a:pt x="3199" y="8808"/>
                </a:cubicBezTo>
                <a:cubicBezTo>
                  <a:pt x="3492" y="8141"/>
                  <a:pt x="2614" y="7244"/>
                  <a:pt x="2969" y="6558"/>
                </a:cubicBezTo>
                <a:cubicBezTo>
                  <a:pt x="3304" y="5891"/>
                  <a:pt x="4788" y="5948"/>
                  <a:pt x="4956" y="5243"/>
                </a:cubicBezTo>
                <a:cubicBezTo>
                  <a:pt x="5102" y="4709"/>
                  <a:pt x="4077" y="4347"/>
                  <a:pt x="4077" y="3775"/>
                </a:cubicBezTo>
                <a:cubicBezTo>
                  <a:pt x="4036" y="3127"/>
                  <a:pt x="4517" y="2459"/>
                  <a:pt x="5039" y="2059"/>
                </a:cubicBezTo>
                <a:cubicBezTo>
                  <a:pt x="5395" y="1773"/>
                  <a:pt x="5918" y="1640"/>
                  <a:pt x="6378" y="1678"/>
                </a:cubicBezTo>
                <a:cubicBezTo>
                  <a:pt x="6796" y="1735"/>
                  <a:pt x="7172" y="2383"/>
                  <a:pt x="7611" y="2250"/>
                </a:cubicBezTo>
                <a:cubicBezTo>
                  <a:pt x="8239" y="2097"/>
                  <a:pt x="8092" y="1049"/>
                  <a:pt x="8636" y="591"/>
                </a:cubicBezTo>
                <a:cubicBezTo>
                  <a:pt x="8970" y="324"/>
                  <a:pt x="9472" y="0"/>
                  <a:pt x="9932" y="38"/>
                </a:cubicBezTo>
                <a:cubicBezTo>
                  <a:pt x="10706" y="76"/>
                  <a:pt x="11312" y="648"/>
                  <a:pt x="11898" y="1125"/>
                </a:cubicBezTo>
                <a:cubicBezTo>
                  <a:pt x="12295" y="1449"/>
                  <a:pt x="12379" y="2002"/>
                  <a:pt x="12818" y="2288"/>
                </a:cubicBezTo>
                <a:cubicBezTo>
                  <a:pt x="13382" y="2612"/>
                  <a:pt x="14156" y="2574"/>
                  <a:pt x="14804" y="2707"/>
                </a:cubicBezTo>
                <a:cubicBezTo>
                  <a:pt x="14972" y="2745"/>
                  <a:pt x="15285" y="2650"/>
                  <a:pt x="15432" y="2802"/>
                </a:cubicBezTo>
                <a:cubicBezTo>
                  <a:pt x="15682" y="3127"/>
                  <a:pt x="15473" y="3660"/>
                  <a:pt x="15515" y="4061"/>
                </a:cubicBezTo>
                <a:cubicBezTo>
                  <a:pt x="15599" y="4671"/>
                  <a:pt x="15390" y="5471"/>
                  <a:pt x="15912" y="5891"/>
                </a:cubicBezTo>
                <a:cubicBezTo>
                  <a:pt x="16456" y="6310"/>
                  <a:pt x="17585" y="6482"/>
                  <a:pt x="18296" y="6520"/>
                </a:cubicBezTo>
                <a:cubicBezTo>
                  <a:pt x="18735" y="6558"/>
                  <a:pt x="19049" y="5948"/>
                  <a:pt x="19593" y="5891"/>
                </a:cubicBezTo>
                <a:cubicBezTo>
                  <a:pt x="20115" y="5796"/>
                  <a:pt x="20638" y="6158"/>
                  <a:pt x="21035" y="6482"/>
                </a:cubicBezTo>
                <a:cubicBezTo>
                  <a:pt x="21495" y="6844"/>
                  <a:pt x="21600" y="7454"/>
                  <a:pt x="21600" y="7931"/>
                </a:cubicBezTo>
                <a:cubicBezTo>
                  <a:pt x="21600" y="8331"/>
                  <a:pt x="21516" y="8941"/>
                  <a:pt x="21349" y="9342"/>
                </a:cubicBezTo>
                <a:cubicBezTo>
                  <a:pt x="21140" y="9837"/>
                  <a:pt x="20366" y="10028"/>
                  <a:pt x="20366" y="10390"/>
                </a:cubicBezTo>
                <a:cubicBezTo>
                  <a:pt x="20366" y="10752"/>
                  <a:pt x="20826" y="10962"/>
                  <a:pt x="20952" y="11381"/>
                </a:cubicBezTo>
                <a:cubicBezTo>
                  <a:pt x="21140" y="12030"/>
                  <a:pt x="20722" y="12735"/>
                  <a:pt x="20157" y="13212"/>
                </a:cubicBezTo>
                <a:cubicBezTo>
                  <a:pt x="19655" y="13612"/>
                  <a:pt x="18735" y="13765"/>
                  <a:pt x="18526" y="14336"/>
                </a:cubicBezTo>
                <a:cubicBezTo>
                  <a:pt x="18254" y="15023"/>
                  <a:pt x="19049" y="15747"/>
                  <a:pt x="19133" y="16586"/>
                </a:cubicBezTo>
                <a:cubicBezTo>
                  <a:pt x="19237" y="17272"/>
                  <a:pt x="18777" y="17959"/>
                  <a:pt x="18422" y="18569"/>
                </a:cubicBezTo>
                <a:cubicBezTo>
                  <a:pt x="18213" y="18931"/>
                  <a:pt x="17857" y="19331"/>
                  <a:pt x="17460" y="19541"/>
                </a:cubicBezTo>
                <a:cubicBezTo>
                  <a:pt x="16791" y="19865"/>
                  <a:pt x="15954" y="19960"/>
                  <a:pt x="15222" y="19808"/>
                </a:cubicBezTo>
                <a:cubicBezTo>
                  <a:pt x="14679" y="19694"/>
                  <a:pt x="14365" y="18778"/>
                  <a:pt x="13842" y="18893"/>
                </a:cubicBezTo>
                <a:cubicBezTo>
                  <a:pt x="13320" y="19007"/>
                  <a:pt x="13445" y="19808"/>
                  <a:pt x="13131" y="20208"/>
                </a:cubicBezTo>
                <a:cubicBezTo>
                  <a:pt x="12860" y="20571"/>
                  <a:pt x="12609" y="21047"/>
                  <a:pt x="12149" y="21181"/>
                </a:cubicBezTo>
                <a:cubicBezTo>
                  <a:pt x="11480" y="21371"/>
                  <a:pt x="10831" y="20532"/>
                  <a:pt x="10141" y="20609"/>
                </a:cubicBezTo>
                <a:cubicBezTo>
                  <a:pt x="9556" y="20704"/>
                  <a:pt x="9200" y="21505"/>
                  <a:pt x="8594" y="21543"/>
                </a:cubicBezTo>
                <a:cubicBezTo>
                  <a:pt x="8239" y="21600"/>
                  <a:pt x="7883" y="21333"/>
                  <a:pt x="7569" y="21142"/>
                </a:cubicBezTo>
                <a:cubicBezTo>
                  <a:pt x="7256" y="20933"/>
                  <a:pt x="7172" y="20418"/>
                  <a:pt x="6754" y="20342"/>
                </a:cubicBezTo>
                <a:cubicBezTo>
                  <a:pt x="6336" y="20246"/>
                  <a:pt x="5980" y="20818"/>
                  <a:pt x="5520" y="20856"/>
                </a:cubicBezTo>
                <a:cubicBezTo>
                  <a:pt x="5102" y="20895"/>
                  <a:pt x="4558" y="20609"/>
                  <a:pt x="4161" y="20418"/>
                </a:cubicBezTo>
                <a:cubicBezTo>
                  <a:pt x="3617" y="20132"/>
                  <a:pt x="2886" y="19808"/>
                  <a:pt x="2697" y="19255"/>
                </a:cubicBezTo>
                <a:cubicBezTo>
                  <a:pt x="2614" y="18893"/>
                  <a:pt x="3283" y="18569"/>
                  <a:pt x="3199" y="18168"/>
                </a:cubicBezTo>
                <a:cubicBezTo>
                  <a:pt x="3095" y="17673"/>
                  <a:pt x="2572" y="17330"/>
                  <a:pt x="2133" y="17044"/>
                </a:cubicBezTo>
                <a:cubicBezTo>
                  <a:pt x="1777" y="16834"/>
                  <a:pt x="1296" y="16758"/>
                  <a:pt x="983" y="16472"/>
                </a:cubicBezTo>
                <a:cubicBezTo>
                  <a:pt x="481" y="16033"/>
                  <a:pt x="63" y="15385"/>
                  <a:pt x="0" y="14737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97400" y="3137040"/>
            <a:ext cx="503280" cy="849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32" y="183"/>
                </a:moveTo>
                <a:cubicBezTo>
                  <a:pt x="1816" y="229"/>
                  <a:pt x="1623" y="343"/>
                  <a:pt x="1546" y="481"/>
                </a:cubicBezTo>
                <a:cubicBezTo>
                  <a:pt x="966" y="1190"/>
                  <a:pt x="966" y="2128"/>
                  <a:pt x="1082" y="2929"/>
                </a:cubicBezTo>
                <a:cubicBezTo>
                  <a:pt x="1159" y="3661"/>
                  <a:pt x="2125" y="4393"/>
                  <a:pt x="2048" y="5125"/>
                </a:cubicBezTo>
                <a:cubicBezTo>
                  <a:pt x="1932" y="5514"/>
                  <a:pt x="1623" y="5858"/>
                  <a:pt x="1236" y="6132"/>
                </a:cubicBezTo>
                <a:cubicBezTo>
                  <a:pt x="966" y="6315"/>
                  <a:pt x="309" y="6315"/>
                  <a:pt x="232" y="6567"/>
                </a:cubicBezTo>
                <a:cubicBezTo>
                  <a:pt x="0" y="7208"/>
                  <a:pt x="889" y="7825"/>
                  <a:pt x="1468" y="8352"/>
                </a:cubicBezTo>
                <a:cubicBezTo>
                  <a:pt x="1816" y="8649"/>
                  <a:pt x="2782" y="9084"/>
                  <a:pt x="2782" y="9084"/>
                </a:cubicBezTo>
                <a:cubicBezTo>
                  <a:pt x="2782" y="9084"/>
                  <a:pt x="1546" y="9358"/>
                  <a:pt x="1236" y="9679"/>
                </a:cubicBezTo>
                <a:cubicBezTo>
                  <a:pt x="1082" y="9793"/>
                  <a:pt x="811" y="10091"/>
                  <a:pt x="889" y="10342"/>
                </a:cubicBezTo>
                <a:cubicBezTo>
                  <a:pt x="1159" y="11097"/>
                  <a:pt x="2203" y="11761"/>
                  <a:pt x="2937" y="12379"/>
                </a:cubicBezTo>
                <a:cubicBezTo>
                  <a:pt x="3246" y="12653"/>
                  <a:pt x="4328" y="13294"/>
                  <a:pt x="4328" y="13294"/>
                </a:cubicBezTo>
                <a:cubicBezTo>
                  <a:pt x="4328" y="13294"/>
                  <a:pt x="2589" y="14530"/>
                  <a:pt x="2280" y="15308"/>
                </a:cubicBezTo>
                <a:cubicBezTo>
                  <a:pt x="2048" y="15948"/>
                  <a:pt x="1932" y="16658"/>
                  <a:pt x="2280" y="17253"/>
                </a:cubicBezTo>
                <a:cubicBezTo>
                  <a:pt x="2782" y="18168"/>
                  <a:pt x="3748" y="19083"/>
                  <a:pt x="5139" y="19655"/>
                </a:cubicBezTo>
                <a:cubicBezTo>
                  <a:pt x="6105" y="20044"/>
                  <a:pt x="7535" y="20204"/>
                  <a:pt x="8655" y="20296"/>
                </a:cubicBezTo>
                <a:cubicBezTo>
                  <a:pt x="9699" y="20387"/>
                  <a:pt x="10858" y="20090"/>
                  <a:pt x="11824" y="20296"/>
                </a:cubicBezTo>
                <a:cubicBezTo>
                  <a:pt x="12829" y="20479"/>
                  <a:pt x="13331" y="21165"/>
                  <a:pt x="14297" y="21348"/>
                </a:cubicBezTo>
                <a:cubicBezTo>
                  <a:pt x="15263" y="21554"/>
                  <a:pt x="16731" y="21600"/>
                  <a:pt x="17813" y="21554"/>
                </a:cubicBezTo>
                <a:cubicBezTo>
                  <a:pt x="18625" y="21508"/>
                  <a:pt x="19436" y="21348"/>
                  <a:pt x="20170" y="21005"/>
                </a:cubicBezTo>
                <a:cubicBezTo>
                  <a:pt x="20904" y="20662"/>
                  <a:pt x="21214" y="20090"/>
                  <a:pt x="21484" y="19586"/>
                </a:cubicBezTo>
                <a:cubicBezTo>
                  <a:pt x="21600" y="19197"/>
                  <a:pt x="21523" y="18808"/>
                  <a:pt x="21407" y="18419"/>
                </a:cubicBezTo>
                <a:cubicBezTo>
                  <a:pt x="21214" y="17962"/>
                  <a:pt x="20634" y="17596"/>
                  <a:pt x="20248" y="17161"/>
                </a:cubicBezTo>
                <a:cubicBezTo>
                  <a:pt x="19977" y="16909"/>
                  <a:pt x="19436" y="16429"/>
                  <a:pt x="19436" y="16429"/>
                </a:cubicBezTo>
                <a:cubicBezTo>
                  <a:pt x="19436" y="16429"/>
                  <a:pt x="19823" y="14850"/>
                  <a:pt x="19977" y="14003"/>
                </a:cubicBezTo>
                <a:cubicBezTo>
                  <a:pt x="20170" y="13225"/>
                  <a:pt x="20750" y="12425"/>
                  <a:pt x="20479" y="11647"/>
                </a:cubicBezTo>
                <a:cubicBezTo>
                  <a:pt x="20325" y="11097"/>
                  <a:pt x="19823" y="10434"/>
                  <a:pt x="19011" y="10091"/>
                </a:cubicBezTo>
                <a:cubicBezTo>
                  <a:pt x="18625" y="9908"/>
                  <a:pt x="17388" y="9862"/>
                  <a:pt x="17388" y="9862"/>
                </a:cubicBezTo>
                <a:cubicBezTo>
                  <a:pt x="17388" y="9862"/>
                  <a:pt x="17891" y="9130"/>
                  <a:pt x="18045" y="8786"/>
                </a:cubicBezTo>
                <a:cubicBezTo>
                  <a:pt x="18200" y="8443"/>
                  <a:pt x="18547" y="8054"/>
                  <a:pt x="18277" y="7780"/>
                </a:cubicBezTo>
                <a:cubicBezTo>
                  <a:pt x="18045" y="7551"/>
                  <a:pt x="17311" y="7551"/>
                  <a:pt x="17040" y="7253"/>
                </a:cubicBezTo>
                <a:cubicBezTo>
                  <a:pt x="16731" y="6819"/>
                  <a:pt x="17311" y="6247"/>
                  <a:pt x="16886" y="5789"/>
                </a:cubicBezTo>
                <a:cubicBezTo>
                  <a:pt x="16306" y="5217"/>
                  <a:pt x="15031" y="4782"/>
                  <a:pt x="13872" y="4576"/>
                </a:cubicBezTo>
                <a:cubicBezTo>
                  <a:pt x="12983" y="4439"/>
                  <a:pt x="11901" y="4919"/>
                  <a:pt x="11090" y="4736"/>
                </a:cubicBezTo>
                <a:cubicBezTo>
                  <a:pt x="10510" y="4576"/>
                  <a:pt x="10008" y="4233"/>
                  <a:pt x="9699" y="3867"/>
                </a:cubicBezTo>
                <a:cubicBezTo>
                  <a:pt x="9235" y="3318"/>
                  <a:pt x="9699" y="2608"/>
                  <a:pt x="9042" y="2128"/>
                </a:cubicBezTo>
                <a:cubicBezTo>
                  <a:pt x="8385" y="1693"/>
                  <a:pt x="7071" y="1647"/>
                  <a:pt x="6298" y="1304"/>
                </a:cubicBezTo>
                <a:cubicBezTo>
                  <a:pt x="5642" y="1075"/>
                  <a:pt x="5139" y="618"/>
                  <a:pt x="4405" y="435"/>
                </a:cubicBezTo>
                <a:cubicBezTo>
                  <a:pt x="3671" y="229"/>
                  <a:pt x="2705" y="0"/>
                  <a:pt x="1932" y="183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97320" y="6594480"/>
            <a:ext cx="1246320" cy="71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0" y="3090"/>
                </a:moveTo>
                <a:cubicBezTo>
                  <a:pt x="109" y="2734"/>
                  <a:pt x="62" y="2379"/>
                  <a:pt x="31" y="2023"/>
                </a:cubicBezTo>
                <a:cubicBezTo>
                  <a:pt x="0" y="1558"/>
                  <a:pt x="62" y="656"/>
                  <a:pt x="62" y="656"/>
                </a:cubicBezTo>
                <a:cubicBezTo>
                  <a:pt x="62" y="656"/>
                  <a:pt x="1745" y="355"/>
                  <a:pt x="2400" y="301"/>
                </a:cubicBezTo>
                <a:cubicBezTo>
                  <a:pt x="3288" y="191"/>
                  <a:pt x="4177" y="137"/>
                  <a:pt x="5065" y="55"/>
                </a:cubicBezTo>
                <a:cubicBezTo>
                  <a:pt x="5860" y="55"/>
                  <a:pt x="6686" y="0"/>
                  <a:pt x="7512" y="55"/>
                </a:cubicBezTo>
                <a:cubicBezTo>
                  <a:pt x="8494" y="137"/>
                  <a:pt x="9491" y="301"/>
                  <a:pt x="10457" y="465"/>
                </a:cubicBezTo>
                <a:cubicBezTo>
                  <a:pt x="11486" y="656"/>
                  <a:pt x="12530" y="875"/>
                  <a:pt x="13605" y="1285"/>
                </a:cubicBezTo>
                <a:cubicBezTo>
                  <a:pt x="14790" y="1750"/>
                  <a:pt x="15943" y="2433"/>
                  <a:pt x="17049" y="3226"/>
                </a:cubicBezTo>
                <a:cubicBezTo>
                  <a:pt x="17673" y="3691"/>
                  <a:pt x="18281" y="4293"/>
                  <a:pt x="18842" y="4976"/>
                </a:cubicBezTo>
                <a:cubicBezTo>
                  <a:pt x="19543" y="5906"/>
                  <a:pt x="20244" y="7054"/>
                  <a:pt x="20743" y="8449"/>
                </a:cubicBezTo>
                <a:cubicBezTo>
                  <a:pt x="21101" y="9406"/>
                  <a:pt x="21366" y="10581"/>
                  <a:pt x="21491" y="11784"/>
                </a:cubicBezTo>
                <a:cubicBezTo>
                  <a:pt x="21600" y="12769"/>
                  <a:pt x="21538" y="13753"/>
                  <a:pt x="21429" y="14737"/>
                </a:cubicBezTo>
                <a:cubicBezTo>
                  <a:pt x="21366" y="15448"/>
                  <a:pt x="21195" y="16241"/>
                  <a:pt x="20961" y="16925"/>
                </a:cubicBezTo>
                <a:cubicBezTo>
                  <a:pt x="20836" y="17389"/>
                  <a:pt x="20681" y="17854"/>
                  <a:pt x="20478" y="18264"/>
                </a:cubicBezTo>
                <a:cubicBezTo>
                  <a:pt x="20384" y="18483"/>
                  <a:pt x="20042" y="18893"/>
                  <a:pt x="20042" y="18893"/>
                </a:cubicBezTo>
                <a:cubicBezTo>
                  <a:pt x="20042" y="18893"/>
                  <a:pt x="20618" y="20397"/>
                  <a:pt x="20384" y="20971"/>
                </a:cubicBezTo>
                <a:cubicBezTo>
                  <a:pt x="20151" y="21600"/>
                  <a:pt x="19527" y="21573"/>
                  <a:pt x="19091" y="21381"/>
                </a:cubicBezTo>
                <a:cubicBezTo>
                  <a:pt x="18670" y="21190"/>
                  <a:pt x="18234" y="20698"/>
                  <a:pt x="17969" y="20042"/>
                </a:cubicBezTo>
                <a:cubicBezTo>
                  <a:pt x="17751" y="19495"/>
                  <a:pt x="17423" y="18483"/>
                  <a:pt x="17673" y="17854"/>
                </a:cubicBezTo>
                <a:cubicBezTo>
                  <a:pt x="17891" y="17389"/>
                  <a:pt x="18374" y="17690"/>
                  <a:pt x="18701" y="17608"/>
                </a:cubicBezTo>
                <a:cubicBezTo>
                  <a:pt x="18857" y="17608"/>
                  <a:pt x="19262" y="17553"/>
                  <a:pt x="19262" y="17553"/>
                </a:cubicBezTo>
                <a:cubicBezTo>
                  <a:pt x="19262" y="17553"/>
                  <a:pt x="19621" y="16405"/>
                  <a:pt x="19683" y="16077"/>
                </a:cubicBezTo>
                <a:cubicBezTo>
                  <a:pt x="19808" y="15475"/>
                  <a:pt x="19964" y="14929"/>
                  <a:pt x="20010" y="14327"/>
                </a:cubicBezTo>
                <a:cubicBezTo>
                  <a:pt x="20088" y="13589"/>
                  <a:pt x="20119" y="12769"/>
                  <a:pt x="20010" y="11976"/>
                </a:cubicBezTo>
                <a:cubicBezTo>
                  <a:pt x="19917" y="11155"/>
                  <a:pt x="19730" y="10363"/>
                  <a:pt x="19496" y="9597"/>
                </a:cubicBezTo>
                <a:cubicBezTo>
                  <a:pt x="19153" y="8613"/>
                  <a:pt x="18670" y="7683"/>
                  <a:pt x="18140" y="6863"/>
                </a:cubicBezTo>
                <a:cubicBezTo>
                  <a:pt x="17813" y="6371"/>
                  <a:pt x="17423" y="5851"/>
                  <a:pt x="17018" y="5496"/>
                </a:cubicBezTo>
                <a:cubicBezTo>
                  <a:pt x="16364" y="4839"/>
                  <a:pt x="15631" y="4375"/>
                  <a:pt x="14914" y="3992"/>
                </a:cubicBezTo>
                <a:cubicBezTo>
                  <a:pt x="14182" y="3582"/>
                  <a:pt x="13371" y="3363"/>
                  <a:pt x="12608" y="3144"/>
                </a:cubicBezTo>
                <a:cubicBezTo>
                  <a:pt x="11922" y="2898"/>
                  <a:pt x="11190" y="2762"/>
                  <a:pt x="10457" y="2625"/>
                </a:cubicBezTo>
                <a:cubicBezTo>
                  <a:pt x="9849" y="2488"/>
                  <a:pt x="9226" y="2324"/>
                  <a:pt x="8587" y="2269"/>
                </a:cubicBezTo>
                <a:cubicBezTo>
                  <a:pt x="7777" y="2160"/>
                  <a:pt x="6919" y="2023"/>
                  <a:pt x="6062" y="1969"/>
                </a:cubicBezTo>
                <a:cubicBezTo>
                  <a:pt x="5517" y="1914"/>
                  <a:pt x="4971" y="1859"/>
                  <a:pt x="4410" y="1914"/>
                </a:cubicBezTo>
                <a:cubicBezTo>
                  <a:pt x="3678" y="1969"/>
                  <a:pt x="2930" y="2078"/>
                  <a:pt x="2213" y="2269"/>
                </a:cubicBezTo>
                <a:cubicBezTo>
                  <a:pt x="1745" y="2379"/>
                  <a:pt x="1294" y="2433"/>
                  <a:pt x="826" y="2625"/>
                </a:cubicBezTo>
                <a:cubicBezTo>
                  <a:pt x="561" y="2734"/>
                  <a:pt x="390" y="2953"/>
                  <a:pt x="140" y="309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76880" y="7118280"/>
            <a:ext cx="1365120" cy="58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1" y="13413"/>
                </a:moveTo>
                <a:cubicBezTo>
                  <a:pt x="242" y="13413"/>
                  <a:pt x="299" y="13413"/>
                  <a:pt x="356" y="13413"/>
                </a:cubicBezTo>
                <a:cubicBezTo>
                  <a:pt x="869" y="13646"/>
                  <a:pt x="1353" y="14145"/>
                  <a:pt x="1851" y="14478"/>
                </a:cubicBezTo>
                <a:cubicBezTo>
                  <a:pt x="2463" y="14844"/>
                  <a:pt x="3104" y="15343"/>
                  <a:pt x="3702" y="15676"/>
                </a:cubicBezTo>
                <a:cubicBezTo>
                  <a:pt x="4514" y="16175"/>
                  <a:pt x="5354" y="16608"/>
                  <a:pt x="6194" y="17007"/>
                </a:cubicBezTo>
                <a:cubicBezTo>
                  <a:pt x="6977" y="17373"/>
                  <a:pt x="7789" y="17872"/>
                  <a:pt x="8600" y="18139"/>
                </a:cubicBezTo>
                <a:cubicBezTo>
                  <a:pt x="9298" y="18372"/>
                  <a:pt x="10010" y="18505"/>
                  <a:pt x="10736" y="18571"/>
                </a:cubicBezTo>
                <a:cubicBezTo>
                  <a:pt x="11818" y="18638"/>
                  <a:pt x="12943" y="18704"/>
                  <a:pt x="14025" y="18372"/>
                </a:cubicBezTo>
                <a:cubicBezTo>
                  <a:pt x="14765" y="18139"/>
                  <a:pt x="15492" y="17639"/>
                  <a:pt x="16175" y="16941"/>
                </a:cubicBezTo>
                <a:cubicBezTo>
                  <a:pt x="16631" y="16441"/>
                  <a:pt x="17086" y="15676"/>
                  <a:pt x="17471" y="14977"/>
                </a:cubicBezTo>
                <a:cubicBezTo>
                  <a:pt x="18012" y="13978"/>
                  <a:pt x="18581" y="12880"/>
                  <a:pt x="18937" y="11516"/>
                </a:cubicBezTo>
                <a:cubicBezTo>
                  <a:pt x="19151" y="10684"/>
                  <a:pt x="19308" y="9851"/>
                  <a:pt x="19393" y="8920"/>
                </a:cubicBezTo>
                <a:cubicBezTo>
                  <a:pt x="19521" y="7888"/>
                  <a:pt x="19550" y="6623"/>
                  <a:pt x="19578" y="5558"/>
                </a:cubicBezTo>
                <a:cubicBezTo>
                  <a:pt x="19578" y="4926"/>
                  <a:pt x="19635" y="3661"/>
                  <a:pt x="19635" y="3661"/>
                </a:cubicBezTo>
                <a:cubicBezTo>
                  <a:pt x="19635" y="3661"/>
                  <a:pt x="19350" y="2829"/>
                  <a:pt x="19222" y="2396"/>
                </a:cubicBezTo>
                <a:cubicBezTo>
                  <a:pt x="19137" y="1964"/>
                  <a:pt x="19009" y="1464"/>
                  <a:pt x="19066" y="1065"/>
                </a:cubicBezTo>
                <a:cubicBezTo>
                  <a:pt x="19151" y="499"/>
                  <a:pt x="19464" y="133"/>
                  <a:pt x="19735" y="67"/>
                </a:cubicBezTo>
                <a:cubicBezTo>
                  <a:pt x="19948" y="0"/>
                  <a:pt x="20190" y="67"/>
                  <a:pt x="20390" y="133"/>
                </a:cubicBezTo>
                <a:cubicBezTo>
                  <a:pt x="20603" y="300"/>
                  <a:pt x="20689" y="366"/>
                  <a:pt x="20931" y="566"/>
                </a:cubicBezTo>
                <a:cubicBezTo>
                  <a:pt x="21030" y="632"/>
                  <a:pt x="21273" y="965"/>
                  <a:pt x="21315" y="1198"/>
                </a:cubicBezTo>
                <a:cubicBezTo>
                  <a:pt x="21443" y="1464"/>
                  <a:pt x="21600" y="1930"/>
                  <a:pt x="21600" y="2396"/>
                </a:cubicBezTo>
                <a:cubicBezTo>
                  <a:pt x="21557" y="3262"/>
                  <a:pt x="20931" y="4493"/>
                  <a:pt x="20931" y="4493"/>
                </a:cubicBezTo>
                <a:cubicBezTo>
                  <a:pt x="20931" y="4493"/>
                  <a:pt x="20931" y="5625"/>
                  <a:pt x="20860" y="6124"/>
                </a:cubicBezTo>
                <a:cubicBezTo>
                  <a:pt x="20788" y="6956"/>
                  <a:pt x="20746" y="7888"/>
                  <a:pt x="20660" y="8720"/>
                </a:cubicBezTo>
                <a:cubicBezTo>
                  <a:pt x="20504" y="9985"/>
                  <a:pt x="20361" y="11416"/>
                  <a:pt x="20062" y="12647"/>
                </a:cubicBezTo>
                <a:cubicBezTo>
                  <a:pt x="19763" y="13912"/>
                  <a:pt x="19350" y="15210"/>
                  <a:pt x="18823" y="16175"/>
                </a:cubicBezTo>
                <a:cubicBezTo>
                  <a:pt x="18254" y="17307"/>
                  <a:pt x="17570" y="18239"/>
                  <a:pt x="16901" y="18971"/>
                </a:cubicBezTo>
                <a:cubicBezTo>
                  <a:pt x="16204" y="19769"/>
                  <a:pt x="15492" y="20535"/>
                  <a:pt x="14737" y="20934"/>
                </a:cubicBezTo>
                <a:cubicBezTo>
                  <a:pt x="14139" y="21334"/>
                  <a:pt x="13498" y="21367"/>
                  <a:pt x="12872" y="21434"/>
                </a:cubicBezTo>
                <a:cubicBezTo>
                  <a:pt x="11889" y="21600"/>
                  <a:pt x="10878" y="21600"/>
                  <a:pt x="9896" y="21434"/>
                </a:cubicBezTo>
                <a:cubicBezTo>
                  <a:pt x="9269" y="21367"/>
                  <a:pt x="8600" y="21101"/>
                  <a:pt x="7974" y="20934"/>
                </a:cubicBezTo>
                <a:cubicBezTo>
                  <a:pt x="7247" y="20768"/>
                  <a:pt x="6536" y="20535"/>
                  <a:pt x="5795" y="20269"/>
                </a:cubicBezTo>
                <a:cubicBezTo>
                  <a:pt x="5112" y="19969"/>
                  <a:pt x="4400" y="19470"/>
                  <a:pt x="3659" y="19137"/>
                </a:cubicBezTo>
                <a:cubicBezTo>
                  <a:pt x="3033" y="18804"/>
                  <a:pt x="2378" y="18405"/>
                  <a:pt x="1737" y="18006"/>
                </a:cubicBezTo>
                <a:cubicBezTo>
                  <a:pt x="1353" y="17739"/>
                  <a:pt x="968" y="17440"/>
                  <a:pt x="570" y="17007"/>
                </a:cubicBezTo>
                <a:cubicBezTo>
                  <a:pt x="413" y="16807"/>
                  <a:pt x="57" y="16242"/>
                  <a:pt x="57" y="16242"/>
                </a:cubicBezTo>
                <a:cubicBezTo>
                  <a:pt x="57" y="16242"/>
                  <a:pt x="0" y="15210"/>
                  <a:pt x="28" y="14711"/>
                </a:cubicBezTo>
                <a:cubicBezTo>
                  <a:pt x="57" y="14278"/>
                  <a:pt x="128" y="13879"/>
                  <a:pt x="171" y="13413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09960" y="6594480"/>
            <a:ext cx="1832040" cy="110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649" y="1984"/>
                </a:moveTo>
                <a:cubicBezTo>
                  <a:pt x="4628" y="1756"/>
                  <a:pt x="4596" y="1528"/>
                  <a:pt x="4575" y="1300"/>
                </a:cubicBezTo>
                <a:cubicBezTo>
                  <a:pt x="4554" y="1001"/>
                  <a:pt x="4596" y="421"/>
                  <a:pt x="4596" y="421"/>
                </a:cubicBezTo>
                <a:cubicBezTo>
                  <a:pt x="4596" y="421"/>
                  <a:pt x="5742" y="228"/>
                  <a:pt x="6188" y="193"/>
                </a:cubicBezTo>
                <a:cubicBezTo>
                  <a:pt x="6793" y="123"/>
                  <a:pt x="7398" y="88"/>
                  <a:pt x="8003" y="35"/>
                </a:cubicBezTo>
                <a:cubicBezTo>
                  <a:pt x="8544" y="35"/>
                  <a:pt x="9107" y="0"/>
                  <a:pt x="9670" y="35"/>
                </a:cubicBezTo>
                <a:cubicBezTo>
                  <a:pt x="10338" y="88"/>
                  <a:pt x="11018" y="193"/>
                  <a:pt x="11676" y="299"/>
                </a:cubicBezTo>
                <a:cubicBezTo>
                  <a:pt x="12376" y="421"/>
                  <a:pt x="13087" y="562"/>
                  <a:pt x="13820" y="825"/>
                </a:cubicBezTo>
                <a:cubicBezTo>
                  <a:pt x="14626" y="1124"/>
                  <a:pt x="15412" y="1563"/>
                  <a:pt x="16166" y="2072"/>
                </a:cubicBezTo>
                <a:cubicBezTo>
                  <a:pt x="16590" y="2371"/>
                  <a:pt x="17004" y="2757"/>
                  <a:pt x="17386" y="3196"/>
                </a:cubicBezTo>
                <a:cubicBezTo>
                  <a:pt x="17864" y="3793"/>
                  <a:pt x="18341" y="4531"/>
                  <a:pt x="18681" y="5426"/>
                </a:cubicBezTo>
                <a:cubicBezTo>
                  <a:pt x="18925" y="6041"/>
                  <a:pt x="19106" y="6796"/>
                  <a:pt x="19191" y="7569"/>
                </a:cubicBezTo>
                <a:cubicBezTo>
                  <a:pt x="19265" y="8201"/>
                  <a:pt x="19222" y="8833"/>
                  <a:pt x="19148" y="9465"/>
                </a:cubicBezTo>
                <a:cubicBezTo>
                  <a:pt x="19106" y="9922"/>
                  <a:pt x="18989" y="10431"/>
                  <a:pt x="18830" y="10870"/>
                </a:cubicBezTo>
                <a:cubicBezTo>
                  <a:pt x="18745" y="11169"/>
                  <a:pt x="18639" y="11467"/>
                  <a:pt x="18501" y="11731"/>
                </a:cubicBezTo>
                <a:cubicBezTo>
                  <a:pt x="18437" y="11871"/>
                  <a:pt x="18203" y="12135"/>
                  <a:pt x="18203" y="12135"/>
                </a:cubicBezTo>
                <a:cubicBezTo>
                  <a:pt x="18203" y="12135"/>
                  <a:pt x="18596" y="13100"/>
                  <a:pt x="18437" y="13469"/>
                </a:cubicBezTo>
                <a:cubicBezTo>
                  <a:pt x="18278" y="13873"/>
                  <a:pt x="17853" y="13856"/>
                  <a:pt x="17556" y="13733"/>
                </a:cubicBezTo>
                <a:cubicBezTo>
                  <a:pt x="17269" y="13610"/>
                  <a:pt x="16972" y="13294"/>
                  <a:pt x="16792" y="12872"/>
                </a:cubicBezTo>
                <a:cubicBezTo>
                  <a:pt x="16643" y="12521"/>
                  <a:pt x="16420" y="11871"/>
                  <a:pt x="16590" y="11467"/>
                </a:cubicBezTo>
                <a:cubicBezTo>
                  <a:pt x="16739" y="11169"/>
                  <a:pt x="17068" y="11362"/>
                  <a:pt x="17291" y="11309"/>
                </a:cubicBezTo>
                <a:cubicBezTo>
                  <a:pt x="17397" y="11309"/>
                  <a:pt x="17673" y="11274"/>
                  <a:pt x="17673" y="11274"/>
                </a:cubicBezTo>
                <a:cubicBezTo>
                  <a:pt x="17673" y="11274"/>
                  <a:pt x="17917" y="10537"/>
                  <a:pt x="17959" y="10326"/>
                </a:cubicBezTo>
                <a:cubicBezTo>
                  <a:pt x="18044" y="9940"/>
                  <a:pt x="18150" y="9588"/>
                  <a:pt x="18182" y="9202"/>
                </a:cubicBezTo>
                <a:cubicBezTo>
                  <a:pt x="18235" y="8728"/>
                  <a:pt x="18257" y="8201"/>
                  <a:pt x="18182" y="7692"/>
                </a:cubicBezTo>
                <a:cubicBezTo>
                  <a:pt x="18119" y="7165"/>
                  <a:pt x="17991" y="6656"/>
                  <a:pt x="17832" y="6164"/>
                </a:cubicBezTo>
                <a:cubicBezTo>
                  <a:pt x="17598" y="5532"/>
                  <a:pt x="17269" y="4935"/>
                  <a:pt x="16909" y="4408"/>
                </a:cubicBezTo>
                <a:cubicBezTo>
                  <a:pt x="16686" y="4092"/>
                  <a:pt x="16420" y="3758"/>
                  <a:pt x="16144" y="3530"/>
                </a:cubicBezTo>
                <a:cubicBezTo>
                  <a:pt x="15698" y="3108"/>
                  <a:pt x="15200" y="2810"/>
                  <a:pt x="14711" y="2564"/>
                </a:cubicBezTo>
                <a:cubicBezTo>
                  <a:pt x="14212" y="2300"/>
                  <a:pt x="13661" y="2160"/>
                  <a:pt x="13140" y="2020"/>
                </a:cubicBezTo>
                <a:cubicBezTo>
                  <a:pt x="12673" y="1861"/>
                  <a:pt x="12175" y="1774"/>
                  <a:pt x="11676" y="1686"/>
                </a:cubicBezTo>
                <a:cubicBezTo>
                  <a:pt x="11262" y="1598"/>
                  <a:pt x="10837" y="1493"/>
                  <a:pt x="10402" y="1458"/>
                </a:cubicBezTo>
                <a:cubicBezTo>
                  <a:pt x="9850" y="1387"/>
                  <a:pt x="9266" y="1300"/>
                  <a:pt x="8682" y="1264"/>
                </a:cubicBezTo>
                <a:cubicBezTo>
                  <a:pt x="8311" y="1229"/>
                  <a:pt x="7939" y="1194"/>
                  <a:pt x="7557" y="1229"/>
                </a:cubicBezTo>
                <a:cubicBezTo>
                  <a:pt x="7058" y="1264"/>
                  <a:pt x="6549" y="1335"/>
                  <a:pt x="6061" y="1458"/>
                </a:cubicBezTo>
                <a:cubicBezTo>
                  <a:pt x="5742" y="1528"/>
                  <a:pt x="5434" y="1563"/>
                  <a:pt x="5116" y="1686"/>
                </a:cubicBezTo>
                <a:cubicBezTo>
                  <a:pt x="4660" y="1826"/>
                  <a:pt x="4193" y="2037"/>
                  <a:pt x="3715" y="2300"/>
                </a:cubicBezTo>
                <a:cubicBezTo>
                  <a:pt x="3407" y="2494"/>
                  <a:pt x="3057" y="2757"/>
                  <a:pt x="2760" y="3020"/>
                </a:cubicBezTo>
                <a:cubicBezTo>
                  <a:pt x="2314" y="3372"/>
                  <a:pt x="1836" y="3828"/>
                  <a:pt x="1444" y="4390"/>
                </a:cubicBezTo>
                <a:cubicBezTo>
                  <a:pt x="987" y="5058"/>
                  <a:pt x="563" y="5865"/>
                  <a:pt x="297" y="6761"/>
                </a:cubicBezTo>
                <a:cubicBezTo>
                  <a:pt x="117" y="7393"/>
                  <a:pt x="0" y="8131"/>
                  <a:pt x="0" y="8833"/>
                </a:cubicBezTo>
                <a:cubicBezTo>
                  <a:pt x="0" y="9887"/>
                  <a:pt x="85" y="11011"/>
                  <a:pt x="340" y="11994"/>
                </a:cubicBezTo>
                <a:cubicBezTo>
                  <a:pt x="563" y="12872"/>
                  <a:pt x="966" y="13698"/>
                  <a:pt x="1390" y="14365"/>
                </a:cubicBezTo>
                <a:cubicBezTo>
                  <a:pt x="1942" y="15208"/>
                  <a:pt x="2600" y="15980"/>
                  <a:pt x="3301" y="16542"/>
                </a:cubicBezTo>
                <a:cubicBezTo>
                  <a:pt x="3768" y="16929"/>
                  <a:pt x="4267" y="17192"/>
                  <a:pt x="4776" y="17333"/>
                </a:cubicBezTo>
                <a:cubicBezTo>
                  <a:pt x="5095" y="17403"/>
                  <a:pt x="5434" y="17227"/>
                  <a:pt x="5764" y="17280"/>
                </a:cubicBezTo>
                <a:cubicBezTo>
                  <a:pt x="6146" y="17403"/>
                  <a:pt x="6507" y="17666"/>
                  <a:pt x="6878" y="17842"/>
                </a:cubicBezTo>
                <a:cubicBezTo>
                  <a:pt x="7334" y="18035"/>
                  <a:pt x="7812" y="18299"/>
                  <a:pt x="8258" y="18474"/>
                </a:cubicBezTo>
                <a:cubicBezTo>
                  <a:pt x="8863" y="18738"/>
                  <a:pt x="9489" y="18966"/>
                  <a:pt x="10115" y="19177"/>
                </a:cubicBezTo>
                <a:cubicBezTo>
                  <a:pt x="10699" y="19370"/>
                  <a:pt x="11304" y="19633"/>
                  <a:pt x="11909" y="19774"/>
                </a:cubicBezTo>
                <a:cubicBezTo>
                  <a:pt x="12429" y="19897"/>
                  <a:pt x="12960" y="19967"/>
                  <a:pt x="13501" y="20002"/>
                </a:cubicBezTo>
                <a:cubicBezTo>
                  <a:pt x="14308" y="20037"/>
                  <a:pt x="15147" y="20072"/>
                  <a:pt x="15953" y="19897"/>
                </a:cubicBezTo>
                <a:cubicBezTo>
                  <a:pt x="16505" y="19774"/>
                  <a:pt x="17046" y="19510"/>
                  <a:pt x="17556" y="19141"/>
                </a:cubicBezTo>
                <a:cubicBezTo>
                  <a:pt x="17896" y="18878"/>
                  <a:pt x="18235" y="18474"/>
                  <a:pt x="18522" y="18105"/>
                </a:cubicBezTo>
                <a:cubicBezTo>
                  <a:pt x="18925" y="17579"/>
                  <a:pt x="19350" y="16999"/>
                  <a:pt x="19615" y="16279"/>
                </a:cubicBezTo>
                <a:cubicBezTo>
                  <a:pt x="19774" y="15840"/>
                  <a:pt x="19891" y="15401"/>
                  <a:pt x="19955" y="14909"/>
                </a:cubicBezTo>
                <a:cubicBezTo>
                  <a:pt x="20050" y="14365"/>
                  <a:pt x="20072" y="13698"/>
                  <a:pt x="20093" y="13136"/>
                </a:cubicBezTo>
                <a:cubicBezTo>
                  <a:pt x="20093" y="12802"/>
                  <a:pt x="20135" y="12135"/>
                  <a:pt x="20135" y="12135"/>
                </a:cubicBezTo>
                <a:cubicBezTo>
                  <a:pt x="20135" y="12135"/>
                  <a:pt x="19923" y="11696"/>
                  <a:pt x="19827" y="11467"/>
                </a:cubicBezTo>
                <a:cubicBezTo>
                  <a:pt x="19764" y="11239"/>
                  <a:pt x="19668" y="10976"/>
                  <a:pt x="19711" y="10765"/>
                </a:cubicBezTo>
                <a:cubicBezTo>
                  <a:pt x="19774" y="10466"/>
                  <a:pt x="20008" y="10273"/>
                  <a:pt x="20210" y="10238"/>
                </a:cubicBezTo>
                <a:cubicBezTo>
                  <a:pt x="20369" y="10203"/>
                  <a:pt x="20549" y="10238"/>
                  <a:pt x="20698" y="10273"/>
                </a:cubicBezTo>
                <a:cubicBezTo>
                  <a:pt x="20857" y="10361"/>
                  <a:pt x="20921" y="10396"/>
                  <a:pt x="21101" y="10501"/>
                </a:cubicBezTo>
                <a:cubicBezTo>
                  <a:pt x="21175" y="10537"/>
                  <a:pt x="21356" y="10712"/>
                  <a:pt x="21388" y="10835"/>
                </a:cubicBezTo>
                <a:cubicBezTo>
                  <a:pt x="21483" y="10976"/>
                  <a:pt x="21600" y="11221"/>
                  <a:pt x="21600" y="11467"/>
                </a:cubicBezTo>
                <a:cubicBezTo>
                  <a:pt x="21568" y="11924"/>
                  <a:pt x="21101" y="12574"/>
                  <a:pt x="21101" y="12574"/>
                </a:cubicBezTo>
                <a:cubicBezTo>
                  <a:pt x="21101" y="12574"/>
                  <a:pt x="21101" y="13171"/>
                  <a:pt x="21048" y="13434"/>
                </a:cubicBezTo>
                <a:cubicBezTo>
                  <a:pt x="20995" y="13873"/>
                  <a:pt x="20963" y="14365"/>
                  <a:pt x="20899" y="14804"/>
                </a:cubicBezTo>
                <a:cubicBezTo>
                  <a:pt x="20783" y="15471"/>
                  <a:pt x="20677" y="16226"/>
                  <a:pt x="20454" y="16876"/>
                </a:cubicBezTo>
                <a:cubicBezTo>
                  <a:pt x="20231" y="17543"/>
                  <a:pt x="19923" y="18228"/>
                  <a:pt x="19530" y="18738"/>
                </a:cubicBezTo>
                <a:cubicBezTo>
                  <a:pt x="19106" y="19335"/>
                  <a:pt x="18596" y="19826"/>
                  <a:pt x="18097" y="20213"/>
                </a:cubicBezTo>
                <a:cubicBezTo>
                  <a:pt x="17577" y="20634"/>
                  <a:pt x="17046" y="21038"/>
                  <a:pt x="16484" y="21249"/>
                </a:cubicBezTo>
                <a:cubicBezTo>
                  <a:pt x="16038" y="21460"/>
                  <a:pt x="15560" y="21477"/>
                  <a:pt x="15093" y="21512"/>
                </a:cubicBezTo>
                <a:cubicBezTo>
                  <a:pt x="14361" y="21600"/>
                  <a:pt x="13607" y="21600"/>
                  <a:pt x="12875" y="21512"/>
                </a:cubicBezTo>
                <a:cubicBezTo>
                  <a:pt x="12408" y="21477"/>
                  <a:pt x="11909" y="21337"/>
                  <a:pt x="11442" y="21249"/>
                </a:cubicBezTo>
                <a:cubicBezTo>
                  <a:pt x="10901" y="21161"/>
                  <a:pt x="10370" y="21038"/>
                  <a:pt x="9818" y="20898"/>
                </a:cubicBezTo>
                <a:cubicBezTo>
                  <a:pt x="9309" y="20740"/>
                  <a:pt x="8778" y="20476"/>
                  <a:pt x="8226" y="20300"/>
                </a:cubicBezTo>
                <a:cubicBezTo>
                  <a:pt x="7759" y="20125"/>
                  <a:pt x="7271" y="19914"/>
                  <a:pt x="6793" y="19703"/>
                </a:cubicBezTo>
                <a:cubicBezTo>
                  <a:pt x="6507" y="19563"/>
                  <a:pt x="6220" y="19405"/>
                  <a:pt x="5923" y="19177"/>
                </a:cubicBezTo>
                <a:cubicBezTo>
                  <a:pt x="5806" y="19071"/>
                  <a:pt x="5541" y="18773"/>
                  <a:pt x="5541" y="18773"/>
                </a:cubicBezTo>
                <a:cubicBezTo>
                  <a:pt x="5541" y="18773"/>
                  <a:pt x="5498" y="18228"/>
                  <a:pt x="5519" y="17965"/>
                </a:cubicBezTo>
                <a:cubicBezTo>
                  <a:pt x="5541" y="17737"/>
                  <a:pt x="5594" y="17491"/>
                  <a:pt x="5626" y="17262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446720" y="7496280"/>
            <a:ext cx="7920" cy="489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29080" y="2955960"/>
            <a:ext cx="484200" cy="62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520" y="14660"/>
                </a:moveTo>
                <a:cubicBezTo>
                  <a:pt x="21439" y="13223"/>
                  <a:pt x="19753" y="11910"/>
                  <a:pt x="18187" y="10972"/>
                </a:cubicBezTo>
                <a:cubicBezTo>
                  <a:pt x="17505" y="10503"/>
                  <a:pt x="16180" y="10659"/>
                  <a:pt x="15658" y="10034"/>
                </a:cubicBezTo>
                <a:cubicBezTo>
                  <a:pt x="14895" y="9190"/>
                  <a:pt x="15297" y="7909"/>
                  <a:pt x="15417" y="6877"/>
                </a:cubicBezTo>
                <a:cubicBezTo>
                  <a:pt x="15497" y="6127"/>
                  <a:pt x="16581" y="5220"/>
                  <a:pt x="15979" y="4626"/>
                </a:cubicBezTo>
                <a:cubicBezTo>
                  <a:pt x="15497" y="4095"/>
                  <a:pt x="14052" y="4814"/>
                  <a:pt x="13289" y="4376"/>
                </a:cubicBezTo>
                <a:cubicBezTo>
                  <a:pt x="12366" y="3751"/>
                  <a:pt x="12928" y="2251"/>
                  <a:pt x="12085" y="1438"/>
                </a:cubicBezTo>
                <a:cubicBezTo>
                  <a:pt x="11362" y="750"/>
                  <a:pt x="10238" y="125"/>
                  <a:pt x="9074" y="63"/>
                </a:cubicBezTo>
                <a:cubicBezTo>
                  <a:pt x="7789" y="0"/>
                  <a:pt x="6504" y="469"/>
                  <a:pt x="5460" y="1063"/>
                </a:cubicBezTo>
                <a:cubicBezTo>
                  <a:pt x="4738" y="1532"/>
                  <a:pt x="4135" y="2251"/>
                  <a:pt x="3774" y="2970"/>
                </a:cubicBezTo>
                <a:cubicBezTo>
                  <a:pt x="3372" y="3907"/>
                  <a:pt x="4135" y="5158"/>
                  <a:pt x="3252" y="5970"/>
                </a:cubicBezTo>
                <a:cubicBezTo>
                  <a:pt x="2690" y="6471"/>
                  <a:pt x="1486" y="6408"/>
                  <a:pt x="562" y="6533"/>
                </a:cubicBezTo>
                <a:cubicBezTo>
                  <a:pt x="562" y="6533"/>
                  <a:pt x="0" y="11910"/>
                  <a:pt x="0" y="11910"/>
                </a:cubicBezTo>
                <a:cubicBezTo>
                  <a:pt x="0" y="11910"/>
                  <a:pt x="1084" y="15504"/>
                  <a:pt x="1084" y="15504"/>
                </a:cubicBezTo>
                <a:cubicBezTo>
                  <a:pt x="1686" y="17568"/>
                  <a:pt x="3613" y="19537"/>
                  <a:pt x="6022" y="20600"/>
                </a:cubicBezTo>
                <a:cubicBezTo>
                  <a:pt x="8190" y="21600"/>
                  <a:pt x="11081" y="21287"/>
                  <a:pt x="13610" y="21131"/>
                </a:cubicBezTo>
                <a:cubicBezTo>
                  <a:pt x="14534" y="21069"/>
                  <a:pt x="15417" y="21006"/>
                  <a:pt x="16260" y="20881"/>
                </a:cubicBezTo>
                <a:cubicBezTo>
                  <a:pt x="16260" y="20537"/>
                  <a:pt x="15417" y="20537"/>
                  <a:pt x="15417" y="20131"/>
                </a:cubicBezTo>
                <a:cubicBezTo>
                  <a:pt x="15297" y="19537"/>
                  <a:pt x="16260" y="19068"/>
                  <a:pt x="16862" y="18599"/>
                </a:cubicBezTo>
                <a:cubicBezTo>
                  <a:pt x="17585" y="18099"/>
                  <a:pt x="18790" y="18036"/>
                  <a:pt x="19552" y="17443"/>
                </a:cubicBezTo>
                <a:cubicBezTo>
                  <a:pt x="20516" y="16724"/>
                  <a:pt x="21600" y="15723"/>
                  <a:pt x="21520" y="1466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70400" y="3144960"/>
            <a:ext cx="4255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661" y="0"/>
                </a:moveTo>
                <a:cubicBezTo>
                  <a:pt x="2608" y="120"/>
                  <a:pt x="1556" y="120"/>
                  <a:pt x="458" y="269"/>
                </a:cubicBezTo>
                <a:cubicBezTo>
                  <a:pt x="92" y="1763"/>
                  <a:pt x="0" y="3227"/>
                  <a:pt x="183" y="4750"/>
                </a:cubicBezTo>
                <a:cubicBezTo>
                  <a:pt x="641" y="8156"/>
                  <a:pt x="2471" y="11383"/>
                  <a:pt x="3386" y="14699"/>
                </a:cubicBezTo>
                <a:cubicBezTo>
                  <a:pt x="3844" y="16671"/>
                  <a:pt x="2700" y="19001"/>
                  <a:pt x="4439" y="20644"/>
                </a:cubicBezTo>
                <a:cubicBezTo>
                  <a:pt x="5492" y="21600"/>
                  <a:pt x="8100" y="20644"/>
                  <a:pt x="9931" y="20644"/>
                </a:cubicBezTo>
                <a:cubicBezTo>
                  <a:pt x="10251" y="20644"/>
                  <a:pt x="10525" y="20644"/>
                  <a:pt x="10800" y="20584"/>
                </a:cubicBezTo>
                <a:cubicBezTo>
                  <a:pt x="11898" y="20465"/>
                  <a:pt x="13042" y="20495"/>
                  <a:pt x="13912" y="20136"/>
                </a:cubicBezTo>
                <a:cubicBezTo>
                  <a:pt x="15376" y="19598"/>
                  <a:pt x="16200" y="18583"/>
                  <a:pt x="17573" y="17925"/>
                </a:cubicBezTo>
                <a:cubicBezTo>
                  <a:pt x="18534" y="17477"/>
                  <a:pt x="19586" y="17029"/>
                  <a:pt x="20685" y="16671"/>
                </a:cubicBezTo>
                <a:cubicBezTo>
                  <a:pt x="20593" y="16013"/>
                  <a:pt x="20090" y="15266"/>
                  <a:pt x="20456" y="14669"/>
                </a:cubicBezTo>
                <a:cubicBezTo>
                  <a:pt x="20685" y="14340"/>
                  <a:pt x="21600" y="14221"/>
                  <a:pt x="21600" y="13832"/>
                </a:cubicBezTo>
                <a:cubicBezTo>
                  <a:pt x="21600" y="13832"/>
                  <a:pt x="18534" y="13952"/>
                  <a:pt x="18534" y="13952"/>
                </a:cubicBezTo>
                <a:cubicBezTo>
                  <a:pt x="15651" y="14101"/>
                  <a:pt x="12356" y="14400"/>
                  <a:pt x="9885" y="13444"/>
                </a:cubicBezTo>
                <a:cubicBezTo>
                  <a:pt x="7139" y="12428"/>
                  <a:pt x="4942" y="10546"/>
                  <a:pt x="4256" y="8574"/>
                </a:cubicBezTo>
                <a:cubicBezTo>
                  <a:pt x="3249" y="5796"/>
                  <a:pt x="3386" y="2928"/>
                  <a:pt x="3661" y="0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78440" y="2955960"/>
            <a:ext cx="834840" cy="102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553" y="8941"/>
                </a:moveTo>
                <a:cubicBezTo>
                  <a:pt x="21507" y="8064"/>
                  <a:pt x="20530" y="7264"/>
                  <a:pt x="19624" y="6692"/>
                </a:cubicBezTo>
                <a:cubicBezTo>
                  <a:pt x="19228" y="6406"/>
                  <a:pt x="18461" y="6501"/>
                  <a:pt x="18159" y="6120"/>
                </a:cubicBezTo>
                <a:cubicBezTo>
                  <a:pt x="17717" y="5605"/>
                  <a:pt x="17950" y="4823"/>
                  <a:pt x="18019" y="4194"/>
                </a:cubicBezTo>
                <a:cubicBezTo>
                  <a:pt x="18066" y="3737"/>
                  <a:pt x="18694" y="3184"/>
                  <a:pt x="18345" y="2822"/>
                </a:cubicBezTo>
                <a:cubicBezTo>
                  <a:pt x="18066" y="2497"/>
                  <a:pt x="17229" y="2936"/>
                  <a:pt x="16787" y="2669"/>
                </a:cubicBezTo>
                <a:cubicBezTo>
                  <a:pt x="16252" y="2288"/>
                  <a:pt x="16578" y="1373"/>
                  <a:pt x="16090" y="877"/>
                </a:cubicBezTo>
                <a:cubicBezTo>
                  <a:pt x="15671" y="458"/>
                  <a:pt x="15020" y="76"/>
                  <a:pt x="14346" y="38"/>
                </a:cubicBezTo>
                <a:cubicBezTo>
                  <a:pt x="13602" y="0"/>
                  <a:pt x="12858" y="286"/>
                  <a:pt x="12253" y="648"/>
                </a:cubicBezTo>
                <a:cubicBezTo>
                  <a:pt x="11835" y="934"/>
                  <a:pt x="11486" y="1373"/>
                  <a:pt x="11277" y="1811"/>
                </a:cubicBezTo>
                <a:cubicBezTo>
                  <a:pt x="11044" y="2383"/>
                  <a:pt x="11486" y="3146"/>
                  <a:pt x="10974" y="3641"/>
                </a:cubicBezTo>
                <a:cubicBezTo>
                  <a:pt x="10649" y="3946"/>
                  <a:pt x="9951" y="3908"/>
                  <a:pt x="9417" y="3984"/>
                </a:cubicBezTo>
                <a:cubicBezTo>
                  <a:pt x="8882" y="4061"/>
                  <a:pt x="8347" y="4061"/>
                  <a:pt x="7789" y="4156"/>
                </a:cubicBezTo>
                <a:cubicBezTo>
                  <a:pt x="7371" y="4232"/>
                  <a:pt x="6696" y="4270"/>
                  <a:pt x="6371" y="4595"/>
                </a:cubicBezTo>
                <a:cubicBezTo>
                  <a:pt x="6022" y="4919"/>
                  <a:pt x="5929" y="5395"/>
                  <a:pt x="5882" y="5796"/>
                </a:cubicBezTo>
                <a:cubicBezTo>
                  <a:pt x="5836" y="6368"/>
                  <a:pt x="6626" y="7092"/>
                  <a:pt x="6185" y="7588"/>
                </a:cubicBezTo>
                <a:cubicBezTo>
                  <a:pt x="5789" y="8007"/>
                  <a:pt x="4906" y="7740"/>
                  <a:pt x="4255" y="7912"/>
                </a:cubicBezTo>
                <a:cubicBezTo>
                  <a:pt x="3371" y="8141"/>
                  <a:pt x="2232" y="8255"/>
                  <a:pt x="1488" y="8808"/>
                </a:cubicBezTo>
                <a:cubicBezTo>
                  <a:pt x="907" y="9265"/>
                  <a:pt x="465" y="9914"/>
                  <a:pt x="279" y="10543"/>
                </a:cubicBezTo>
                <a:cubicBezTo>
                  <a:pt x="47" y="11343"/>
                  <a:pt x="0" y="12277"/>
                  <a:pt x="233" y="13078"/>
                </a:cubicBezTo>
                <a:cubicBezTo>
                  <a:pt x="395" y="13574"/>
                  <a:pt x="767" y="13974"/>
                  <a:pt x="1093" y="14432"/>
                </a:cubicBezTo>
                <a:cubicBezTo>
                  <a:pt x="1372" y="14756"/>
                  <a:pt x="2116" y="15023"/>
                  <a:pt x="2046" y="15423"/>
                </a:cubicBezTo>
                <a:cubicBezTo>
                  <a:pt x="2000" y="15938"/>
                  <a:pt x="1163" y="16167"/>
                  <a:pt x="1093" y="16643"/>
                </a:cubicBezTo>
                <a:cubicBezTo>
                  <a:pt x="1070" y="16872"/>
                  <a:pt x="1256" y="17196"/>
                  <a:pt x="1442" y="17444"/>
                </a:cubicBezTo>
                <a:cubicBezTo>
                  <a:pt x="1721" y="17768"/>
                  <a:pt x="2139" y="17997"/>
                  <a:pt x="2534" y="18168"/>
                </a:cubicBezTo>
                <a:cubicBezTo>
                  <a:pt x="3023" y="18321"/>
                  <a:pt x="3767" y="17997"/>
                  <a:pt x="4255" y="18283"/>
                </a:cubicBezTo>
                <a:cubicBezTo>
                  <a:pt x="4743" y="18569"/>
                  <a:pt x="4743" y="19217"/>
                  <a:pt x="5045" y="19694"/>
                </a:cubicBezTo>
                <a:cubicBezTo>
                  <a:pt x="5394" y="20246"/>
                  <a:pt x="5836" y="20818"/>
                  <a:pt x="6464" y="21181"/>
                </a:cubicBezTo>
                <a:cubicBezTo>
                  <a:pt x="6905" y="21467"/>
                  <a:pt x="7557" y="21600"/>
                  <a:pt x="8138" y="21505"/>
                </a:cubicBezTo>
                <a:cubicBezTo>
                  <a:pt x="9021" y="21428"/>
                  <a:pt x="9719" y="20818"/>
                  <a:pt x="10579" y="20742"/>
                </a:cubicBezTo>
                <a:cubicBezTo>
                  <a:pt x="11137" y="20704"/>
                  <a:pt x="11718" y="21028"/>
                  <a:pt x="12300" y="21142"/>
                </a:cubicBezTo>
                <a:cubicBezTo>
                  <a:pt x="12951" y="21276"/>
                  <a:pt x="13602" y="21600"/>
                  <a:pt x="14183" y="21505"/>
                </a:cubicBezTo>
                <a:cubicBezTo>
                  <a:pt x="14625" y="21467"/>
                  <a:pt x="15160" y="21181"/>
                  <a:pt x="15392" y="20818"/>
                </a:cubicBezTo>
                <a:cubicBezTo>
                  <a:pt x="15718" y="20380"/>
                  <a:pt x="15718" y="19732"/>
                  <a:pt x="15671" y="19217"/>
                </a:cubicBezTo>
                <a:cubicBezTo>
                  <a:pt x="15601" y="18645"/>
                  <a:pt x="14974" y="17635"/>
                  <a:pt x="14974" y="17635"/>
                </a:cubicBezTo>
                <a:cubicBezTo>
                  <a:pt x="14974" y="17635"/>
                  <a:pt x="16136" y="17444"/>
                  <a:pt x="16578" y="17158"/>
                </a:cubicBezTo>
                <a:cubicBezTo>
                  <a:pt x="16927" y="16967"/>
                  <a:pt x="17159" y="16586"/>
                  <a:pt x="17438" y="16224"/>
                </a:cubicBezTo>
                <a:cubicBezTo>
                  <a:pt x="17717" y="15843"/>
                  <a:pt x="17903" y="15309"/>
                  <a:pt x="18019" y="14813"/>
                </a:cubicBezTo>
                <a:cubicBezTo>
                  <a:pt x="18066" y="14336"/>
                  <a:pt x="17717" y="13784"/>
                  <a:pt x="17950" y="13345"/>
                </a:cubicBezTo>
                <a:cubicBezTo>
                  <a:pt x="18066" y="13135"/>
                  <a:pt x="18531" y="13059"/>
                  <a:pt x="18531" y="12811"/>
                </a:cubicBezTo>
                <a:cubicBezTo>
                  <a:pt x="18531" y="12602"/>
                  <a:pt x="18019" y="12525"/>
                  <a:pt x="18019" y="12277"/>
                </a:cubicBezTo>
                <a:cubicBezTo>
                  <a:pt x="17950" y="11915"/>
                  <a:pt x="18508" y="11629"/>
                  <a:pt x="18856" y="11343"/>
                </a:cubicBezTo>
                <a:cubicBezTo>
                  <a:pt x="19275" y="11038"/>
                  <a:pt x="19972" y="11000"/>
                  <a:pt x="20414" y="10638"/>
                </a:cubicBezTo>
                <a:cubicBezTo>
                  <a:pt x="20972" y="10199"/>
                  <a:pt x="21600" y="9589"/>
                  <a:pt x="21553" y="8941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02160" y="7518240"/>
            <a:ext cx="4680" cy="525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568760" y="7540560"/>
            <a:ext cx="6480" cy="381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46520" y="7551720"/>
            <a:ext cx="3240" cy="604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722840" y="7570440"/>
            <a:ext cx="9360" cy="522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799160" y="7588080"/>
            <a:ext cx="12600" cy="540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938840" y="7621200"/>
            <a:ext cx="4680" cy="334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54760" y="7628040"/>
            <a:ext cx="4680" cy="381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14880" y="7623000"/>
            <a:ext cx="9720" cy="414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70320" y="7635960"/>
            <a:ext cx="5040" cy="302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26120" y="7615080"/>
            <a:ext cx="15840" cy="540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86240" y="7615080"/>
            <a:ext cx="12960" cy="288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27640" y="7612200"/>
            <a:ext cx="14400" cy="252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75160" y="7594560"/>
            <a:ext cx="22320" cy="255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7569360"/>
            <a:ext cx="20880" cy="252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46800" y="7548480"/>
            <a:ext cx="25200" cy="316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1720" y="7523280"/>
            <a:ext cx="20520" cy="298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13400" y="7496280"/>
            <a:ext cx="28440" cy="298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41840" y="7470720"/>
            <a:ext cx="30240" cy="288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7451640"/>
            <a:ext cx="29880" cy="208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4680" y="7421400"/>
            <a:ext cx="19080" cy="162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97640" y="7383600"/>
            <a:ext cx="27000" cy="158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02320" y="7345440"/>
            <a:ext cx="39600" cy="140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11680" y="7297560"/>
            <a:ext cx="36720" cy="129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14920" y="7269120"/>
            <a:ext cx="38160" cy="972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14920" y="7245360"/>
            <a:ext cx="50760" cy="93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987800" y="7615080"/>
            <a:ext cx="6480" cy="525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883040" y="7606800"/>
            <a:ext cx="1800" cy="478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348080" y="6646680"/>
            <a:ext cx="1800" cy="3492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400640" y="6638400"/>
            <a:ext cx="1440" cy="3492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465800" y="6626160"/>
            <a:ext cx="7920" cy="316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522680" y="6620040"/>
            <a:ext cx="7920" cy="396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579920" y="6619680"/>
            <a:ext cx="9720" cy="378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641840" y="6624360"/>
            <a:ext cx="7920" cy="363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21400" y="6626160"/>
            <a:ext cx="2880" cy="381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76840" y="6638400"/>
            <a:ext cx="4680" cy="320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835520" y="6632640"/>
            <a:ext cx="11160" cy="396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883040" y="6640560"/>
            <a:ext cx="5040" cy="460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937040" y="6656040"/>
            <a:ext cx="6480" cy="284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986360" y="6648120"/>
            <a:ext cx="9360" cy="428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035680" y="6659640"/>
            <a:ext cx="17280" cy="396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092560" y="6676560"/>
            <a:ext cx="6480" cy="399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154480" y="6690960"/>
            <a:ext cx="14400" cy="428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202360" y="6711840"/>
            <a:ext cx="12600" cy="302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241960" y="6732360"/>
            <a:ext cx="19080" cy="284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89480" y="6759360"/>
            <a:ext cx="22320" cy="219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329080" y="6788160"/>
            <a:ext cx="20880" cy="2232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372280" y="6840000"/>
            <a:ext cx="29880" cy="82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357880" y="6821280"/>
            <a:ext cx="28440" cy="126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408640" y="6872040"/>
            <a:ext cx="31680" cy="2052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435640" y="6918120"/>
            <a:ext cx="36360" cy="2196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451480" y="6983280"/>
            <a:ext cx="42840" cy="1440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451480" y="7063920"/>
            <a:ext cx="27000" cy="32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454720" y="7029360"/>
            <a:ext cx="34920" cy="792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445000" y="7095960"/>
            <a:ext cx="23760" cy="64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424480" y="7129440"/>
            <a:ext cx="47520" cy="144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23040" y="7147080"/>
            <a:ext cx="39600" cy="2880"/>
          </a:xfrm>
          <a:prstGeom prst="line">
            <a:avLst/>
          </a:prstGeom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09840" y="6618240"/>
            <a:ext cx="2917800" cy="96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60" y="2350"/>
                </a:moveTo>
                <a:cubicBezTo>
                  <a:pt x="20760" y="2350"/>
                  <a:pt x="20734" y="1418"/>
                  <a:pt x="20714" y="973"/>
                </a:cubicBezTo>
                <a:cubicBezTo>
                  <a:pt x="20700" y="669"/>
                  <a:pt x="20660" y="0"/>
                  <a:pt x="20660" y="0"/>
                </a:cubicBezTo>
                <a:cubicBezTo>
                  <a:pt x="20660" y="0"/>
                  <a:pt x="20040" y="365"/>
                  <a:pt x="19734" y="608"/>
                </a:cubicBezTo>
                <a:cubicBezTo>
                  <a:pt x="19394" y="811"/>
                  <a:pt x="19054" y="1155"/>
                  <a:pt x="18774" y="1499"/>
                </a:cubicBezTo>
                <a:cubicBezTo>
                  <a:pt x="18321" y="2047"/>
                  <a:pt x="17928" y="2654"/>
                  <a:pt x="17495" y="3364"/>
                </a:cubicBezTo>
                <a:cubicBezTo>
                  <a:pt x="17015" y="4154"/>
                  <a:pt x="16508" y="4964"/>
                  <a:pt x="16042" y="5755"/>
                </a:cubicBezTo>
                <a:cubicBezTo>
                  <a:pt x="15602" y="6504"/>
                  <a:pt x="15189" y="7355"/>
                  <a:pt x="14762" y="8125"/>
                </a:cubicBezTo>
                <a:cubicBezTo>
                  <a:pt x="14382" y="8855"/>
                  <a:pt x="13989" y="9544"/>
                  <a:pt x="13602" y="10273"/>
                </a:cubicBezTo>
                <a:cubicBezTo>
                  <a:pt x="13143" y="11124"/>
                  <a:pt x="12696" y="12016"/>
                  <a:pt x="12210" y="12786"/>
                </a:cubicBezTo>
                <a:cubicBezTo>
                  <a:pt x="11776" y="13475"/>
                  <a:pt x="11310" y="14326"/>
                  <a:pt x="10850" y="14934"/>
                </a:cubicBezTo>
                <a:cubicBezTo>
                  <a:pt x="10383" y="15562"/>
                  <a:pt x="9917" y="16170"/>
                  <a:pt x="9424" y="16676"/>
                </a:cubicBezTo>
                <a:cubicBezTo>
                  <a:pt x="8904" y="17203"/>
                  <a:pt x="8357" y="17547"/>
                  <a:pt x="7818" y="17851"/>
                </a:cubicBezTo>
                <a:cubicBezTo>
                  <a:pt x="7358" y="18095"/>
                  <a:pt x="6878" y="18358"/>
                  <a:pt x="6398" y="18500"/>
                </a:cubicBezTo>
                <a:cubicBezTo>
                  <a:pt x="5832" y="18601"/>
                  <a:pt x="5258" y="18865"/>
                  <a:pt x="4685" y="18783"/>
                </a:cubicBezTo>
                <a:cubicBezTo>
                  <a:pt x="4259" y="18743"/>
                  <a:pt x="3805" y="18520"/>
                  <a:pt x="3386" y="18216"/>
                </a:cubicBezTo>
                <a:cubicBezTo>
                  <a:pt x="2992" y="17973"/>
                  <a:pt x="2606" y="17466"/>
                  <a:pt x="2213" y="17021"/>
                </a:cubicBezTo>
                <a:cubicBezTo>
                  <a:pt x="1833" y="16615"/>
                  <a:pt x="1426" y="16068"/>
                  <a:pt x="1060" y="15562"/>
                </a:cubicBezTo>
                <a:cubicBezTo>
                  <a:pt x="800" y="15177"/>
                  <a:pt x="260" y="14245"/>
                  <a:pt x="260" y="14245"/>
                </a:cubicBezTo>
                <a:cubicBezTo>
                  <a:pt x="260" y="14245"/>
                  <a:pt x="233" y="14630"/>
                  <a:pt x="193" y="14974"/>
                </a:cubicBezTo>
                <a:cubicBezTo>
                  <a:pt x="147" y="15400"/>
                  <a:pt x="0" y="15967"/>
                  <a:pt x="0" y="15967"/>
                </a:cubicBezTo>
                <a:cubicBezTo>
                  <a:pt x="0" y="15967"/>
                  <a:pt x="527" y="16818"/>
                  <a:pt x="780" y="17162"/>
                </a:cubicBezTo>
                <a:cubicBezTo>
                  <a:pt x="1246" y="17811"/>
                  <a:pt x="1699" y="18500"/>
                  <a:pt x="2179" y="18946"/>
                </a:cubicBezTo>
                <a:cubicBezTo>
                  <a:pt x="2666" y="19472"/>
                  <a:pt x="3192" y="19898"/>
                  <a:pt x="3706" y="20202"/>
                </a:cubicBezTo>
                <a:cubicBezTo>
                  <a:pt x="4312" y="20546"/>
                  <a:pt x="4965" y="20587"/>
                  <a:pt x="5605" y="20587"/>
                </a:cubicBezTo>
                <a:cubicBezTo>
                  <a:pt x="6111" y="20587"/>
                  <a:pt x="6638" y="20364"/>
                  <a:pt x="7144" y="20202"/>
                </a:cubicBezTo>
                <a:cubicBezTo>
                  <a:pt x="7638" y="20020"/>
                  <a:pt x="8144" y="19817"/>
                  <a:pt x="8651" y="19472"/>
                </a:cubicBezTo>
                <a:cubicBezTo>
                  <a:pt x="9197" y="19087"/>
                  <a:pt x="9717" y="18520"/>
                  <a:pt x="10257" y="17973"/>
                </a:cubicBezTo>
                <a:cubicBezTo>
                  <a:pt x="10683" y="17547"/>
                  <a:pt x="11097" y="16980"/>
                  <a:pt x="11523" y="16474"/>
                </a:cubicBezTo>
                <a:cubicBezTo>
                  <a:pt x="11763" y="16170"/>
                  <a:pt x="12016" y="15825"/>
                  <a:pt x="12210" y="15825"/>
                </a:cubicBezTo>
                <a:cubicBezTo>
                  <a:pt x="12649" y="15785"/>
                  <a:pt x="13043" y="15825"/>
                  <a:pt x="13423" y="15906"/>
                </a:cubicBezTo>
                <a:cubicBezTo>
                  <a:pt x="13976" y="16048"/>
                  <a:pt x="14522" y="16210"/>
                  <a:pt x="15055" y="16474"/>
                </a:cubicBezTo>
                <a:cubicBezTo>
                  <a:pt x="15549" y="16676"/>
                  <a:pt x="16055" y="16980"/>
                  <a:pt x="16548" y="17325"/>
                </a:cubicBezTo>
                <a:cubicBezTo>
                  <a:pt x="17141" y="17710"/>
                  <a:pt x="17775" y="18257"/>
                  <a:pt x="18408" y="18783"/>
                </a:cubicBezTo>
                <a:cubicBezTo>
                  <a:pt x="18927" y="19209"/>
                  <a:pt x="19454" y="19655"/>
                  <a:pt x="20014" y="20202"/>
                </a:cubicBezTo>
                <a:cubicBezTo>
                  <a:pt x="20320" y="20506"/>
                  <a:pt x="21293" y="21600"/>
                  <a:pt x="21293" y="21600"/>
                </a:cubicBezTo>
                <a:cubicBezTo>
                  <a:pt x="21293" y="21600"/>
                  <a:pt x="21407" y="20749"/>
                  <a:pt x="21453" y="20364"/>
                </a:cubicBezTo>
                <a:cubicBezTo>
                  <a:pt x="21493" y="19999"/>
                  <a:pt x="21600" y="19209"/>
                  <a:pt x="21600" y="19209"/>
                </a:cubicBezTo>
                <a:cubicBezTo>
                  <a:pt x="21600" y="19209"/>
                  <a:pt x="20774" y="18561"/>
                  <a:pt x="20434" y="18317"/>
                </a:cubicBezTo>
                <a:cubicBezTo>
                  <a:pt x="20174" y="18095"/>
                  <a:pt x="19927" y="17811"/>
                  <a:pt x="19661" y="17629"/>
                </a:cubicBezTo>
                <a:cubicBezTo>
                  <a:pt x="19174" y="17203"/>
                  <a:pt x="18661" y="16818"/>
                  <a:pt x="18188" y="16372"/>
                </a:cubicBezTo>
                <a:cubicBezTo>
                  <a:pt x="17828" y="16068"/>
                  <a:pt x="17295" y="15663"/>
                  <a:pt x="16761" y="15217"/>
                </a:cubicBezTo>
                <a:cubicBezTo>
                  <a:pt x="16408" y="15015"/>
                  <a:pt x="16055" y="14812"/>
                  <a:pt x="15509" y="14468"/>
                </a:cubicBezTo>
                <a:cubicBezTo>
                  <a:pt x="15289" y="14326"/>
                  <a:pt x="15015" y="14123"/>
                  <a:pt x="14775" y="14022"/>
                </a:cubicBezTo>
                <a:cubicBezTo>
                  <a:pt x="14436" y="13920"/>
                  <a:pt x="14109" y="13779"/>
                  <a:pt x="13796" y="13779"/>
                </a:cubicBezTo>
                <a:cubicBezTo>
                  <a:pt x="13622" y="13779"/>
                  <a:pt x="13289" y="13860"/>
                  <a:pt x="13289" y="13860"/>
                </a:cubicBezTo>
                <a:cubicBezTo>
                  <a:pt x="13289" y="13860"/>
                  <a:pt x="13749" y="12826"/>
                  <a:pt x="13976" y="12360"/>
                </a:cubicBezTo>
                <a:cubicBezTo>
                  <a:pt x="14256" y="11773"/>
                  <a:pt x="14536" y="11246"/>
                  <a:pt x="14815" y="10739"/>
                </a:cubicBezTo>
                <a:cubicBezTo>
                  <a:pt x="15042" y="10314"/>
                  <a:pt x="15289" y="9827"/>
                  <a:pt x="15509" y="9402"/>
                </a:cubicBezTo>
                <a:cubicBezTo>
                  <a:pt x="15775" y="8895"/>
                  <a:pt x="16055" y="8389"/>
                  <a:pt x="16322" y="7882"/>
                </a:cubicBezTo>
                <a:cubicBezTo>
                  <a:pt x="16702" y="7153"/>
                  <a:pt x="17095" y="6444"/>
                  <a:pt x="17481" y="5815"/>
                </a:cubicBezTo>
                <a:cubicBezTo>
                  <a:pt x="17715" y="5390"/>
                  <a:pt x="17961" y="4964"/>
                  <a:pt x="18194" y="4620"/>
                </a:cubicBezTo>
                <a:cubicBezTo>
                  <a:pt x="18508" y="4154"/>
                  <a:pt x="18828" y="3708"/>
                  <a:pt x="19154" y="3404"/>
                </a:cubicBezTo>
                <a:cubicBezTo>
                  <a:pt x="19507" y="3060"/>
                  <a:pt x="19861" y="2715"/>
                  <a:pt x="20207" y="2654"/>
                </a:cubicBezTo>
                <a:cubicBezTo>
                  <a:pt x="20420" y="2614"/>
                  <a:pt x="20760" y="2350"/>
                  <a:pt x="20760" y="235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06560" y="6923160"/>
            <a:ext cx="555480" cy="399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004760" y="6916680"/>
            <a:ext cx="557280" cy="406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93" y="21600"/>
                </a:moveTo>
                <a:cubicBezTo>
                  <a:pt x="20693" y="21600"/>
                  <a:pt x="21600" y="18398"/>
                  <a:pt x="21600" y="18398"/>
                </a:cubicBezTo>
                <a:cubicBezTo>
                  <a:pt x="21600" y="18398"/>
                  <a:pt x="19541" y="17251"/>
                  <a:pt x="18564" y="16582"/>
                </a:cubicBezTo>
                <a:cubicBezTo>
                  <a:pt x="17413" y="15770"/>
                  <a:pt x="14865" y="13858"/>
                  <a:pt x="14865" y="13858"/>
                </a:cubicBezTo>
                <a:cubicBezTo>
                  <a:pt x="14865" y="13858"/>
                  <a:pt x="15179" y="9032"/>
                  <a:pt x="14830" y="6786"/>
                </a:cubicBezTo>
                <a:cubicBezTo>
                  <a:pt x="14656" y="5878"/>
                  <a:pt x="14307" y="4874"/>
                  <a:pt x="13784" y="4062"/>
                </a:cubicBezTo>
                <a:cubicBezTo>
                  <a:pt x="12981" y="2772"/>
                  <a:pt x="11795" y="1625"/>
                  <a:pt x="10538" y="1147"/>
                </a:cubicBezTo>
                <a:cubicBezTo>
                  <a:pt x="9108" y="526"/>
                  <a:pt x="7468" y="0"/>
                  <a:pt x="5967" y="526"/>
                </a:cubicBezTo>
                <a:cubicBezTo>
                  <a:pt x="4885" y="908"/>
                  <a:pt x="3699" y="1625"/>
                  <a:pt x="2826" y="2676"/>
                </a:cubicBezTo>
                <a:cubicBezTo>
                  <a:pt x="1989" y="3536"/>
                  <a:pt x="1326" y="4874"/>
                  <a:pt x="803" y="6165"/>
                </a:cubicBezTo>
                <a:cubicBezTo>
                  <a:pt x="454" y="7168"/>
                  <a:pt x="70" y="8506"/>
                  <a:pt x="70" y="9701"/>
                </a:cubicBezTo>
                <a:cubicBezTo>
                  <a:pt x="0" y="11517"/>
                  <a:pt x="209" y="13619"/>
                  <a:pt x="872" y="15388"/>
                </a:cubicBezTo>
                <a:cubicBezTo>
                  <a:pt x="1186" y="16200"/>
                  <a:pt x="1710" y="16869"/>
                  <a:pt x="2233" y="17490"/>
                </a:cubicBezTo>
                <a:cubicBezTo>
                  <a:pt x="2931" y="18207"/>
                  <a:pt x="3769" y="18781"/>
                  <a:pt x="4641" y="19115"/>
                </a:cubicBezTo>
                <a:cubicBezTo>
                  <a:pt x="5758" y="19402"/>
                  <a:pt x="6944" y="19211"/>
                  <a:pt x="8096" y="19019"/>
                </a:cubicBezTo>
                <a:cubicBezTo>
                  <a:pt x="9108" y="18781"/>
                  <a:pt x="10154" y="18303"/>
                  <a:pt x="11062" y="17681"/>
                </a:cubicBezTo>
                <a:cubicBezTo>
                  <a:pt x="11655" y="17251"/>
                  <a:pt x="12597" y="16057"/>
                  <a:pt x="12597" y="16057"/>
                </a:cubicBezTo>
                <a:cubicBezTo>
                  <a:pt x="12597" y="16057"/>
                  <a:pt x="13469" y="16773"/>
                  <a:pt x="13923" y="17060"/>
                </a:cubicBezTo>
                <a:cubicBezTo>
                  <a:pt x="15040" y="17873"/>
                  <a:pt x="16052" y="18876"/>
                  <a:pt x="17168" y="19593"/>
                </a:cubicBezTo>
                <a:cubicBezTo>
                  <a:pt x="18285" y="20310"/>
                  <a:pt x="20693" y="21600"/>
                  <a:pt x="20693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71720" y="6981840"/>
            <a:ext cx="271440" cy="25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732" y="611"/>
                </a:moveTo>
                <a:cubicBezTo>
                  <a:pt x="11944" y="76"/>
                  <a:pt x="10156" y="0"/>
                  <a:pt x="8583" y="382"/>
                </a:cubicBezTo>
                <a:cubicBezTo>
                  <a:pt x="5865" y="1374"/>
                  <a:pt x="2861" y="2977"/>
                  <a:pt x="1502" y="5724"/>
                </a:cubicBezTo>
                <a:cubicBezTo>
                  <a:pt x="143" y="8472"/>
                  <a:pt x="0" y="12059"/>
                  <a:pt x="1073" y="14883"/>
                </a:cubicBezTo>
                <a:cubicBezTo>
                  <a:pt x="1931" y="17478"/>
                  <a:pt x="4220" y="20073"/>
                  <a:pt x="6795" y="20913"/>
                </a:cubicBezTo>
                <a:cubicBezTo>
                  <a:pt x="8797" y="21600"/>
                  <a:pt x="11301" y="21371"/>
                  <a:pt x="13303" y="21066"/>
                </a:cubicBezTo>
                <a:cubicBezTo>
                  <a:pt x="15306" y="20684"/>
                  <a:pt x="16736" y="19310"/>
                  <a:pt x="18310" y="18165"/>
                </a:cubicBezTo>
                <a:cubicBezTo>
                  <a:pt x="19669" y="17020"/>
                  <a:pt x="20742" y="15418"/>
                  <a:pt x="21099" y="13662"/>
                </a:cubicBezTo>
                <a:cubicBezTo>
                  <a:pt x="21600" y="11525"/>
                  <a:pt x="21099" y="9235"/>
                  <a:pt x="20742" y="7175"/>
                </a:cubicBezTo>
                <a:cubicBezTo>
                  <a:pt x="20241" y="5419"/>
                  <a:pt x="19168" y="4274"/>
                  <a:pt x="18095" y="3206"/>
                </a:cubicBezTo>
                <a:cubicBezTo>
                  <a:pt x="16736" y="1908"/>
                  <a:pt x="15306" y="1069"/>
                  <a:pt x="13732" y="61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71720" y="6981840"/>
            <a:ext cx="271440" cy="25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732" y="611"/>
                </a:moveTo>
                <a:cubicBezTo>
                  <a:pt x="11944" y="76"/>
                  <a:pt x="10156" y="0"/>
                  <a:pt x="8583" y="382"/>
                </a:cubicBezTo>
                <a:cubicBezTo>
                  <a:pt x="5865" y="1374"/>
                  <a:pt x="2861" y="2977"/>
                  <a:pt x="1502" y="5724"/>
                </a:cubicBezTo>
                <a:cubicBezTo>
                  <a:pt x="143" y="8472"/>
                  <a:pt x="0" y="12059"/>
                  <a:pt x="1073" y="14883"/>
                </a:cubicBezTo>
                <a:cubicBezTo>
                  <a:pt x="1931" y="17478"/>
                  <a:pt x="4220" y="20073"/>
                  <a:pt x="6795" y="20913"/>
                </a:cubicBezTo>
                <a:cubicBezTo>
                  <a:pt x="8797" y="21600"/>
                  <a:pt x="11301" y="21371"/>
                  <a:pt x="13303" y="21066"/>
                </a:cubicBezTo>
                <a:cubicBezTo>
                  <a:pt x="15306" y="20684"/>
                  <a:pt x="16736" y="19310"/>
                  <a:pt x="18310" y="18165"/>
                </a:cubicBezTo>
                <a:cubicBezTo>
                  <a:pt x="19669" y="17020"/>
                  <a:pt x="20742" y="15418"/>
                  <a:pt x="21099" y="13662"/>
                </a:cubicBezTo>
                <a:cubicBezTo>
                  <a:pt x="21600" y="11525"/>
                  <a:pt x="21099" y="9235"/>
                  <a:pt x="20742" y="7175"/>
                </a:cubicBezTo>
                <a:cubicBezTo>
                  <a:pt x="20241" y="5419"/>
                  <a:pt x="19168" y="4274"/>
                  <a:pt x="18095" y="3206"/>
                </a:cubicBezTo>
                <a:cubicBezTo>
                  <a:pt x="16736" y="1908"/>
                  <a:pt x="15306" y="1069"/>
                  <a:pt x="13732" y="611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155600" y="7024680"/>
            <a:ext cx="279360" cy="266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152360" y="7023240"/>
            <a:ext cx="282600" cy="268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39" y="4768"/>
                </a:moveTo>
                <a:cubicBezTo>
                  <a:pt x="1307" y="6357"/>
                  <a:pt x="550" y="7946"/>
                  <a:pt x="275" y="9753"/>
                </a:cubicBezTo>
                <a:cubicBezTo>
                  <a:pt x="0" y="12425"/>
                  <a:pt x="413" y="15604"/>
                  <a:pt x="1857" y="17771"/>
                </a:cubicBezTo>
                <a:cubicBezTo>
                  <a:pt x="2614" y="18999"/>
                  <a:pt x="4196" y="19722"/>
                  <a:pt x="5641" y="20372"/>
                </a:cubicBezTo>
                <a:cubicBezTo>
                  <a:pt x="7361" y="21094"/>
                  <a:pt x="9562" y="21600"/>
                  <a:pt x="11488" y="21600"/>
                </a:cubicBezTo>
                <a:cubicBezTo>
                  <a:pt x="13208" y="21600"/>
                  <a:pt x="15203" y="20950"/>
                  <a:pt x="16854" y="19866"/>
                </a:cubicBezTo>
                <a:cubicBezTo>
                  <a:pt x="18229" y="18999"/>
                  <a:pt x="19468" y="17555"/>
                  <a:pt x="20293" y="15965"/>
                </a:cubicBezTo>
                <a:cubicBezTo>
                  <a:pt x="21050" y="14376"/>
                  <a:pt x="21600" y="12425"/>
                  <a:pt x="21600" y="10619"/>
                </a:cubicBezTo>
                <a:cubicBezTo>
                  <a:pt x="21600" y="8163"/>
                  <a:pt x="21187" y="5490"/>
                  <a:pt x="19880" y="3540"/>
                </a:cubicBezTo>
                <a:cubicBezTo>
                  <a:pt x="19261" y="2601"/>
                  <a:pt x="18092" y="1878"/>
                  <a:pt x="17060" y="1373"/>
                </a:cubicBezTo>
                <a:cubicBezTo>
                  <a:pt x="15684" y="650"/>
                  <a:pt x="13827" y="361"/>
                  <a:pt x="12038" y="144"/>
                </a:cubicBezTo>
                <a:cubicBezTo>
                  <a:pt x="10112" y="0"/>
                  <a:pt x="7911" y="506"/>
                  <a:pt x="6191" y="1228"/>
                </a:cubicBezTo>
                <a:cubicBezTo>
                  <a:pt x="4746" y="2023"/>
                  <a:pt x="3302" y="3251"/>
                  <a:pt x="2339" y="4768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11400" y="7080120"/>
            <a:ext cx="183960" cy="1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2" y="4775"/>
                </a:moveTo>
                <a:cubicBezTo>
                  <a:pt x="1159" y="6025"/>
                  <a:pt x="421" y="7731"/>
                  <a:pt x="316" y="9663"/>
                </a:cubicBezTo>
                <a:cubicBezTo>
                  <a:pt x="0" y="12278"/>
                  <a:pt x="421" y="15575"/>
                  <a:pt x="2002" y="17848"/>
                </a:cubicBezTo>
                <a:cubicBezTo>
                  <a:pt x="2950" y="19213"/>
                  <a:pt x="4425" y="19895"/>
                  <a:pt x="6006" y="20691"/>
                </a:cubicBezTo>
                <a:cubicBezTo>
                  <a:pt x="7797" y="21373"/>
                  <a:pt x="9588" y="21600"/>
                  <a:pt x="11380" y="21600"/>
                </a:cubicBezTo>
                <a:cubicBezTo>
                  <a:pt x="13065" y="21600"/>
                  <a:pt x="15173" y="20918"/>
                  <a:pt x="16648" y="19895"/>
                </a:cubicBezTo>
                <a:cubicBezTo>
                  <a:pt x="17807" y="19213"/>
                  <a:pt x="18966" y="17507"/>
                  <a:pt x="19809" y="16143"/>
                </a:cubicBezTo>
                <a:cubicBezTo>
                  <a:pt x="20757" y="14665"/>
                  <a:pt x="21073" y="12505"/>
                  <a:pt x="21389" y="10573"/>
                </a:cubicBezTo>
                <a:cubicBezTo>
                  <a:pt x="21600" y="9095"/>
                  <a:pt x="21600" y="7162"/>
                  <a:pt x="20862" y="5798"/>
                </a:cubicBezTo>
                <a:cubicBezTo>
                  <a:pt x="20020" y="3865"/>
                  <a:pt x="18439" y="2387"/>
                  <a:pt x="16964" y="1364"/>
                </a:cubicBezTo>
                <a:cubicBezTo>
                  <a:pt x="15594" y="455"/>
                  <a:pt x="13592" y="0"/>
                  <a:pt x="11801" y="0"/>
                </a:cubicBezTo>
                <a:cubicBezTo>
                  <a:pt x="10010" y="0"/>
                  <a:pt x="7797" y="227"/>
                  <a:pt x="6006" y="1251"/>
                </a:cubicBezTo>
                <a:cubicBezTo>
                  <a:pt x="4425" y="1933"/>
                  <a:pt x="3161" y="3297"/>
                  <a:pt x="2002" y="477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11400" y="7080120"/>
            <a:ext cx="183960" cy="1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2" y="4775"/>
                </a:moveTo>
                <a:cubicBezTo>
                  <a:pt x="1159" y="6025"/>
                  <a:pt x="421" y="7731"/>
                  <a:pt x="316" y="9663"/>
                </a:cubicBezTo>
                <a:cubicBezTo>
                  <a:pt x="0" y="12278"/>
                  <a:pt x="421" y="15575"/>
                  <a:pt x="2002" y="17848"/>
                </a:cubicBezTo>
                <a:cubicBezTo>
                  <a:pt x="2950" y="19213"/>
                  <a:pt x="4425" y="19895"/>
                  <a:pt x="6006" y="20691"/>
                </a:cubicBezTo>
                <a:cubicBezTo>
                  <a:pt x="7797" y="21373"/>
                  <a:pt x="9588" y="21600"/>
                  <a:pt x="11380" y="21600"/>
                </a:cubicBezTo>
                <a:cubicBezTo>
                  <a:pt x="13065" y="21600"/>
                  <a:pt x="15173" y="20918"/>
                  <a:pt x="16648" y="19895"/>
                </a:cubicBezTo>
                <a:cubicBezTo>
                  <a:pt x="17807" y="19213"/>
                  <a:pt x="18966" y="17507"/>
                  <a:pt x="19809" y="16143"/>
                </a:cubicBezTo>
                <a:cubicBezTo>
                  <a:pt x="20757" y="14665"/>
                  <a:pt x="21073" y="12505"/>
                  <a:pt x="21389" y="10573"/>
                </a:cubicBezTo>
                <a:cubicBezTo>
                  <a:pt x="21600" y="9095"/>
                  <a:pt x="21600" y="7162"/>
                  <a:pt x="20862" y="5798"/>
                </a:cubicBezTo>
                <a:cubicBezTo>
                  <a:pt x="20020" y="3865"/>
                  <a:pt x="18439" y="2387"/>
                  <a:pt x="16964" y="1364"/>
                </a:cubicBezTo>
                <a:cubicBezTo>
                  <a:pt x="15594" y="455"/>
                  <a:pt x="13592" y="0"/>
                  <a:pt x="11801" y="0"/>
                </a:cubicBezTo>
                <a:cubicBezTo>
                  <a:pt x="10010" y="0"/>
                  <a:pt x="7797" y="227"/>
                  <a:pt x="6006" y="1251"/>
                </a:cubicBezTo>
                <a:cubicBezTo>
                  <a:pt x="4425" y="1933"/>
                  <a:pt x="3161" y="3297"/>
                  <a:pt x="2002" y="4775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25360" y="7068960"/>
            <a:ext cx="43200" cy="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4988" y="15120"/>
                  <a:pt x="6612" y="7020"/>
                  <a:pt x="0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25360" y="7121520"/>
            <a:ext cx="28800" cy="2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4850" y="14727"/>
                  <a:pt x="6750" y="6873"/>
                  <a:pt x="0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23920" y="7175520"/>
            <a:ext cx="25560" cy="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5641" y="15429"/>
                  <a:pt x="6703" y="9257"/>
                  <a:pt x="0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54160" y="7029360"/>
            <a:ext cx="39600" cy="3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5709" y="15000"/>
                  <a:pt x="8345" y="7200"/>
                  <a:pt x="982" y="0"/>
                </a:cubicBezTo>
                <a:cubicBezTo>
                  <a:pt x="982" y="0"/>
                  <a:pt x="982" y="0"/>
                  <a:pt x="0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01680" y="7008840"/>
            <a:ext cx="19080" cy="3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4040" y="15247"/>
                  <a:pt x="7560" y="7624"/>
                  <a:pt x="0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09840" y="6618240"/>
            <a:ext cx="2917800" cy="96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60" y="2350"/>
                </a:moveTo>
                <a:cubicBezTo>
                  <a:pt x="20760" y="2350"/>
                  <a:pt x="20734" y="1418"/>
                  <a:pt x="20714" y="973"/>
                </a:cubicBezTo>
                <a:cubicBezTo>
                  <a:pt x="20700" y="669"/>
                  <a:pt x="20660" y="0"/>
                  <a:pt x="20660" y="0"/>
                </a:cubicBezTo>
                <a:cubicBezTo>
                  <a:pt x="20660" y="0"/>
                  <a:pt x="20040" y="365"/>
                  <a:pt x="19734" y="608"/>
                </a:cubicBezTo>
                <a:cubicBezTo>
                  <a:pt x="19394" y="811"/>
                  <a:pt x="19054" y="1155"/>
                  <a:pt x="18774" y="1499"/>
                </a:cubicBezTo>
                <a:cubicBezTo>
                  <a:pt x="18321" y="2047"/>
                  <a:pt x="17928" y="2654"/>
                  <a:pt x="17495" y="3364"/>
                </a:cubicBezTo>
                <a:cubicBezTo>
                  <a:pt x="17015" y="4154"/>
                  <a:pt x="16508" y="4964"/>
                  <a:pt x="16042" y="5755"/>
                </a:cubicBezTo>
                <a:cubicBezTo>
                  <a:pt x="15602" y="6504"/>
                  <a:pt x="15189" y="7355"/>
                  <a:pt x="14762" y="8125"/>
                </a:cubicBezTo>
                <a:cubicBezTo>
                  <a:pt x="14382" y="8855"/>
                  <a:pt x="13989" y="9544"/>
                  <a:pt x="13602" y="10273"/>
                </a:cubicBezTo>
                <a:cubicBezTo>
                  <a:pt x="13143" y="11124"/>
                  <a:pt x="12696" y="12016"/>
                  <a:pt x="12210" y="12786"/>
                </a:cubicBezTo>
                <a:cubicBezTo>
                  <a:pt x="11776" y="13475"/>
                  <a:pt x="11310" y="14326"/>
                  <a:pt x="10850" y="14934"/>
                </a:cubicBezTo>
                <a:cubicBezTo>
                  <a:pt x="10383" y="15562"/>
                  <a:pt x="9917" y="16170"/>
                  <a:pt x="9424" y="16676"/>
                </a:cubicBezTo>
                <a:cubicBezTo>
                  <a:pt x="8904" y="17203"/>
                  <a:pt x="8357" y="17547"/>
                  <a:pt x="7818" y="17851"/>
                </a:cubicBezTo>
                <a:cubicBezTo>
                  <a:pt x="7358" y="18095"/>
                  <a:pt x="6878" y="18358"/>
                  <a:pt x="6398" y="18500"/>
                </a:cubicBezTo>
                <a:cubicBezTo>
                  <a:pt x="5832" y="18601"/>
                  <a:pt x="5258" y="18865"/>
                  <a:pt x="4685" y="18783"/>
                </a:cubicBezTo>
                <a:cubicBezTo>
                  <a:pt x="4259" y="18743"/>
                  <a:pt x="3805" y="18520"/>
                  <a:pt x="3386" y="18216"/>
                </a:cubicBezTo>
                <a:cubicBezTo>
                  <a:pt x="2992" y="17973"/>
                  <a:pt x="2606" y="17466"/>
                  <a:pt x="2213" y="17021"/>
                </a:cubicBezTo>
                <a:cubicBezTo>
                  <a:pt x="1833" y="16615"/>
                  <a:pt x="1426" y="16068"/>
                  <a:pt x="1060" y="15562"/>
                </a:cubicBezTo>
                <a:cubicBezTo>
                  <a:pt x="800" y="15177"/>
                  <a:pt x="260" y="14245"/>
                  <a:pt x="260" y="14245"/>
                </a:cubicBezTo>
                <a:cubicBezTo>
                  <a:pt x="260" y="14245"/>
                  <a:pt x="233" y="14630"/>
                  <a:pt x="193" y="14974"/>
                </a:cubicBezTo>
                <a:cubicBezTo>
                  <a:pt x="147" y="15400"/>
                  <a:pt x="0" y="15967"/>
                  <a:pt x="0" y="15967"/>
                </a:cubicBezTo>
                <a:cubicBezTo>
                  <a:pt x="0" y="15967"/>
                  <a:pt x="527" y="16818"/>
                  <a:pt x="780" y="17162"/>
                </a:cubicBezTo>
                <a:cubicBezTo>
                  <a:pt x="1246" y="17811"/>
                  <a:pt x="1699" y="18500"/>
                  <a:pt x="2179" y="18946"/>
                </a:cubicBezTo>
                <a:cubicBezTo>
                  <a:pt x="2666" y="19472"/>
                  <a:pt x="3192" y="19898"/>
                  <a:pt x="3706" y="20202"/>
                </a:cubicBezTo>
                <a:cubicBezTo>
                  <a:pt x="4312" y="20546"/>
                  <a:pt x="4965" y="20587"/>
                  <a:pt x="5605" y="20587"/>
                </a:cubicBezTo>
                <a:cubicBezTo>
                  <a:pt x="6111" y="20587"/>
                  <a:pt x="6638" y="20364"/>
                  <a:pt x="7144" y="20202"/>
                </a:cubicBezTo>
                <a:cubicBezTo>
                  <a:pt x="7638" y="20020"/>
                  <a:pt x="8144" y="19817"/>
                  <a:pt x="8651" y="19472"/>
                </a:cubicBezTo>
                <a:cubicBezTo>
                  <a:pt x="9197" y="19087"/>
                  <a:pt x="9717" y="18520"/>
                  <a:pt x="10257" y="17973"/>
                </a:cubicBezTo>
                <a:cubicBezTo>
                  <a:pt x="10683" y="17547"/>
                  <a:pt x="11097" y="16980"/>
                  <a:pt x="11523" y="16474"/>
                </a:cubicBezTo>
                <a:cubicBezTo>
                  <a:pt x="11763" y="16170"/>
                  <a:pt x="12016" y="15825"/>
                  <a:pt x="12210" y="15825"/>
                </a:cubicBezTo>
                <a:cubicBezTo>
                  <a:pt x="12649" y="15785"/>
                  <a:pt x="13043" y="15825"/>
                  <a:pt x="13423" y="15906"/>
                </a:cubicBezTo>
                <a:cubicBezTo>
                  <a:pt x="13976" y="16048"/>
                  <a:pt x="14522" y="16210"/>
                  <a:pt x="15055" y="16474"/>
                </a:cubicBezTo>
                <a:cubicBezTo>
                  <a:pt x="15549" y="16676"/>
                  <a:pt x="16055" y="16980"/>
                  <a:pt x="16548" y="17325"/>
                </a:cubicBezTo>
                <a:cubicBezTo>
                  <a:pt x="17141" y="17710"/>
                  <a:pt x="17775" y="18257"/>
                  <a:pt x="18408" y="18783"/>
                </a:cubicBezTo>
                <a:cubicBezTo>
                  <a:pt x="18927" y="19209"/>
                  <a:pt x="19454" y="19655"/>
                  <a:pt x="20014" y="20202"/>
                </a:cubicBezTo>
                <a:cubicBezTo>
                  <a:pt x="20320" y="20506"/>
                  <a:pt x="21293" y="21600"/>
                  <a:pt x="21293" y="21600"/>
                </a:cubicBezTo>
                <a:cubicBezTo>
                  <a:pt x="21293" y="21600"/>
                  <a:pt x="21407" y="20749"/>
                  <a:pt x="21453" y="20364"/>
                </a:cubicBezTo>
                <a:cubicBezTo>
                  <a:pt x="21493" y="19999"/>
                  <a:pt x="21600" y="19209"/>
                  <a:pt x="21600" y="19209"/>
                </a:cubicBezTo>
                <a:cubicBezTo>
                  <a:pt x="21600" y="19209"/>
                  <a:pt x="20774" y="18561"/>
                  <a:pt x="20434" y="18317"/>
                </a:cubicBezTo>
                <a:cubicBezTo>
                  <a:pt x="20174" y="18095"/>
                  <a:pt x="19927" y="17811"/>
                  <a:pt x="19661" y="17629"/>
                </a:cubicBezTo>
                <a:cubicBezTo>
                  <a:pt x="19174" y="17203"/>
                  <a:pt x="18661" y="16818"/>
                  <a:pt x="18188" y="16372"/>
                </a:cubicBezTo>
                <a:cubicBezTo>
                  <a:pt x="17828" y="16068"/>
                  <a:pt x="17295" y="15663"/>
                  <a:pt x="16761" y="15217"/>
                </a:cubicBezTo>
                <a:cubicBezTo>
                  <a:pt x="16408" y="15015"/>
                  <a:pt x="16055" y="14812"/>
                  <a:pt x="15509" y="14468"/>
                </a:cubicBezTo>
                <a:cubicBezTo>
                  <a:pt x="15289" y="14326"/>
                  <a:pt x="15015" y="14123"/>
                  <a:pt x="14775" y="14022"/>
                </a:cubicBezTo>
                <a:cubicBezTo>
                  <a:pt x="14436" y="13920"/>
                  <a:pt x="14109" y="13779"/>
                  <a:pt x="13796" y="13779"/>
                </a:cubicBezTo>
                <a:cubicBezTo>
                  <a:pt x="13622" y="13779"/>
                  <a:pt x="13289" y="13860"/>
                  <a:pt x="13289" y="13860"/>
                </a:cubicBezTo>
                <a:cubicBezTo>
                  <a:pt x="13289" y="13860"/>
                  <a:pt x="13749" y="12826"/>
                  <a:pt x="13976" y="12360"/>
                </a:cubicBezTo>
                <a:cubicBezTo>
                  <a:pt x="14256" y="11773"/>
                  <a:pt x="14536" y="11246"/>
                  <a:pt x="14815" y="10739"/>
                </a:cubicBezTo>
                <a:cubicBezTo>
                  <a:pt x="15042" y="10314"/>
                  <a:pt x="15289" y="9827"/>
                  <a:pt x="15509" y="9402"/>
                </a:cubicBezTo>
                <a:cubicBezTo>
                  <a:pt x="15775" y="8895"/>
                  <a:pt x="16055" y="8389"/>
                  <a:pt x="16322" y="7882"/>
                </a:cubicBezTo>
                <a:cubicBezTo>
                  <a:pt x="16702" y="7153"/>
                  <a:pt x="17095" y="6444"/>
                  <a:pt x="17481" y="5815"/>
                </a:cubicBezTo>
                <a:cubicBezTo>
                  <a:pt x="17715" y="5390"/>
                  <a:pt x="17961" y="4964"/>
                  <a:pt x="18194" y="4620"/>
                </a:cubicBezTo>
                <a:cubicBezTo>
                  <a:pt x="18508" y="4154"/>
                  <a:pt x="18828" y="3708"/>
                  <a:pt x="19154" y="3404"/>
                </a:cubicBezTo>
                <a:cubicBezTo>
                  <a:pt x="19507" y="3060"/>
                  <a:pt x="19861" y="2715"/>
                  <a:pt x="20207" y="2654"/>
                </a:cubicBezTo>
                <a:cubicBezTo>
                  <a:pt x="20420" y="2614"/>
                  <a:pt x="20760" y="2350"/>
                  <a:pt x="20760" y="235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4280" y="1557360"/>
            <a:ext cx="303480" cy="33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45" y="3853"/>
                </a:moveTo>
                <a:cubicBezTo>
                  <a:pt x="2045" y="3853"/>
                  <a:pt x="8436" y="6422"/>
                  <a:pt x="8436" y="6422"/>
                </a:cubicBezTo>
                <a:cubicBezTo>
                  <a:pt x="8436" y="6422"/>
                  <a:pt x="14251" y="0"/>
                  <a:pt x="14251" y="0"/>
                </a:cubicBezTo>
                <a:cubicBezTo>
                  <a:pt x="14251" y="0"/>
                  <a:pt x="14762" y="9049"/>
                  <a:pt x="14762" y="9049"/>
                </a:cubicBezTo>
                <a:cubicBezTo>
                  <a:pt x="14762" y="9049"/>
                  <a:pt x="21600" y="10508"/>
                  <a:pt x="21600" y="10508"/>
                </a:cubicBezTo>
                <a:cubicBezTo>
                  <a:pt x="21600" y="10508"/>
                  <a:pt x="14570" y="14186"/>
                  <a:pt x="14570" y="14186"/>
                </a:cubicBezTo>
                <a:cubicBezTo>
                  <a:pt x="14570" y="14186"/>
                  <a:pt x="12334" y="21600"/>
                  <a:pt x="12334" y="21600"/>
                </a:cubicBezTo>
                <a:cubicBezTo>
                  <a:pt x="12334" y="21600"/>
                  <a:pt x="9586" y="15645"/>
                  <a:pt x="6774" y="14536"/>
                </a:cubicBezTo>
                <a:cubicBezTo>
                  <a:pt x="5176" y="13661"/>
                  <a:pt x="0" y="14653"/>
                  <a:pt x="0" y="14653"/>
                </a:cubicBezTo>
                <a:cubicBezTo>
                  <a:pt x="0" y="14653"/>
                  <a:pt x="4665" y="9165"/>
                  <a:pt x="4665" y="9165"/>
                </a:cubicBezTo>
                <a:cubicBezTo>
                  <a:pt x="4665" y="9165"/>
                  <a:pt x="2045" y="3853"/>
                  <a:pt x="2045" y="3853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84320" y="1270080"/>
            <a:ext cx="141480" cy="136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15" y="6963"/>
                </a:moveTo>
                <a:cubicBezTo>
                  <a:pt x="21600" y="12363"/>
                  <a:pt x="18415" y="17763"/>
                  <a:pt x="13431" y="19895"/>
                </a:cubicBezTo>
                <a:cubicBezTo>
                  <a:pt x="8446" y="21600"/>
                  <a:pt x="2908" y="19468"/>
                  <a:pt x="1246" y="14495"/>
                </a:cubicBezTo>
                <a:cubicBezTo>
                  <a:pt x="0" y="9663"/>
                  <a:pt x="2908" y="4263"/>
                  <a:pt x="8446" y="1989"/>
                </a:cubicBezTo>
                <a:cubicBezTo>
                  <a:pt x="13154" y="0"/>
                  <a:pt x="18415" y="2132"/>
                  <a:pt x="20215" y="6963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44840" y="1293840"/>
            <a:ext cx="314280" cy="357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81" y="5114"/>
                </a:moveTo>
                <a:cubicBezTo>
                  <a:pt x="681" y="5114"/>
                  <a:pt x="7736" y="7019"/>
                  <a:pt x="7736" y="7019"/>
                </a:cubicBezTo>
                <a:cubicBezTo>
                  <a:pt x="7736" y="7019"/>
                  <a:pt x="12564" y="0"/>
                  <a:pt x="12564" y="0"/>
                </a:cubicBezTo>
                <a:cubicBezTo>
                  <a:pt x="12564" y="0"/>
                  <a:pt x="14235" y="8977"/>
                  <a:pt x="14235" y="8977"/>
                </a:cubicBezTo>
                <a:cubicBezTo>
                  <a:pt x="14235" y="8977"/>
                  <a:pt x="21600" y="9521"/>
                  <a:pt x="21600" y="9521"/>
                </a:cubicBezTo>
                <a:cubicBezTo>
                  <a:pt x="21600" y="9521"/>
                  <a:pt x="14916" y="13765"/>
                  <a:pt x="14916" y="13765"/>
                </a:cubicBezTo>
                <a:cubicBezTo>
                  <a:pt x="14916" y="13765"/>
                  <a:pt x="13740" y="21600"/>
                  <a:pt x="13740" y="21600"/>
                </a:cubicBezTo>
                <a:cubicBezTo>
                  <a:pt x="13740" y="21600"/>
                  <a:pt x="10088" y="15942"/>
                  <a:pt x="7056" y="15180"/>
                </a:cubicBezTo>
                <a:cubicBezTo>
                  <a:pt x="5075" y="14473"/>
                  <a:pt x="0" y="16105"/>
                  <a:pt x="0" y="16105"/>
                </a:cubicBezTo>
                <a:cubicBezTo>
                  <a:pt x="0" y="16105"/>
                  <a:pt x="4147" y="10065"/>
                  <a:pt x="4147" y="10065"/>
                </a:cubicBezTo>
                <a:cubicBezTo>
                  <a:pt x="4147" y="10065"/>
                  <a:pt x="681" y="5114"/>
                  <a:pt x="681" y="5114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0400" y="1785960"/>
            <a:ext cx="31896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5690"/>
                </a:moveTo>
                <a:cubicBezTo>
                  <a:pt x="0" y="5690"/>
                  <a:pt x="7281" y="7112"/>
                  <a:pt x="7281" y="7112"/>
                </a:cubicBezTo>
                <a:cubicBezTo>
                  <a:pt x="7281" y="7112"/>
                  <a:pt x="11892" y="0"/>
                  <a:pt x="11892" y="0"/>
                </a:cubicBezTo>
                <a:cubicBezTo>
                  <a:pt x="11892" y="0"/>
                  <a:pt x="14016" y="9009"/>
                  <a:pt x="14016" y="9009"/>
                </a:cubicBezTo>
                <a:cubicBezTo>
                  <a:pt x="14016" y="9009"/>
                  <a:pt x="21600" y="9220"/>
                  <a:pt x="21600" y="9220"/>
                </a:cubicBezTo>
                <a:cubicBezTo>
                  <a:pt x="21600" y="9220"/>
                  <a:pt x="14926" y="13803"/>
                  <a:pt x="14926" y="13803"/>
                </a:cubicBezTo>
                <a:cubicBezTo>
                  <a:pt x="14926" y="13803"/>
                  <a:pt x="14319" y="21600"/>
                  <a:pt x="14319" y="21600"/>
                </a:cubicBezTo>
                <a:cubicBezTo>
                  <a:pt x="14319" y="21600"/>
                  <a:pt x="10133" y="16279"/>
                  <a:pt x="6978" y="15541"/>
                </a:cubicBezTo>
                <a:cubicBezTo>
                  <a:pt x="5097" y="14909"/>
                  <a:pt x="121" y="16700"/>
                  <a:pt x="121" y="16700"/>
                </a:cubicBezTo>
                <a:cubicBezTo>
                  <a:pt x="121" y="16700"/>
                  <a:pt x="3701" y="10484"/>
                  <a:pt x="3701" y="10484"/>
                </a:cubicBezTo>
                <a:cubicBezTo>
                  <a:pt x="3701" y="10484"/>
                  <a:pt x="0" y="5690"/>
                  <a:pt x="0" y="5690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41920" y="1468440"/>
            <a:ext cx="25416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5" y="5317"/>
                </a:moveTo>
                <a:cubicBezTo>
                  <a:pt x="305" y="5317"/>
                  <a:pt x="7404" y="7045"/>
                  <a:pt x="7404" y="7045"/>
                </a:cubicBezTo>
                <a:cubicBezTo>
                  <a:pt x="7404" y="7045"/>
                  <a:pt x="12212" y="0"/>
                  <a:pt x="12212" y="0"/>
                </a:cubicBezTo>
                <a:cubicBezTo>
                  <a:pt x="12212" y="0"/>
                  <a:pt x="14120" y="9039"/>
                  <a:pt x="14120" y="9039"/>
                </a:cubicBezTo>
                <a:cubicBezTo>
                  <a:pt x="14120" y="9039"/>
                  <a:pt x="21600" y="9371"/>
                  <a:pt x="21600" y="9371"/>
                </a:cubicBezTo>
                <a:cubicBezTo>
                  <a:pt x="21600" y="9371"/>
                  <a:pt x="14807" y="13758"/>
                  <a:pt x="14807" y="13758"/>
                </a:cubicBezTo>
                <a:cubicBezTo>
                  <a:pt x="14807" y="13758"/>
                  <a:pt x="13967" y="21600"/>
                  <a:pt x="13967" y="21600"/>
                </a:cubicBezTo>
                <a:cubicBezTo>
                  <a:pt x="13967" y="21600"/>
                  <a:pt x="10151" y="16150"/>
                  <a:pt x="6869" y="15286"/>
                </a:cubicBezTo>
                <a:cubicBezTo>
                  <a:pt x="4961" y="14622"/>
                  <a:pt x="0" y="16283"/>
                  <a:pt x="0" y="16283"/>
                </a:cubicBezTo>
                <a:cubicBezTo>
                  <a:pt x="0" y="16283"/>
                  <a:pt x="3816" y="10235"/>
                  <a:pt x="3816" y="10235"/>
                </a:cubicBezTo>
                <a:cubicBezTo>
                  <a:pt x="3816" y="10235"/>
                  <a:pt x="305" y="5317"/>
                  <a:pt x="305" y="5317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38160" y="2116080"/>
            <a:ext cx="115920" cy="11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0" y="6968"/>
                </a:moveTo>
                <a:cubicBezTo>
                  <a:pt x="21600" y="12368"/>
                  <a:pt x="18419" y="17594"/>
                  <a:pt x="13395" y="19858"/>
                </a:cubicBezTo>
                <a:cubicBezTo>
                  <a:pt x="8372" y="21600"/>
                  <a:pt x="2847" y="19335"/>
                  <a:pt x="1005" y="14284"/>
                </a:cubicBezTo>
                <a:cubicBezTo>
                  <a:pt x="0" y="9406"/>
                  <a:pt x="2847" y="4006"/>
                  <a:pt x="8372" y="1742"/>
                </a:cubicBezTo>
                <a:cubicBezTo>
                  <a:pt x="13228" y="0"/>
                  <a:pt x="18419" y="2090"/>
                  <a:pt x="20260" y="6968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19360" y="1967040"/>
            <a:ext cx="90360" cy="8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509" y="6664"/>
                </a:moveTo>
                <a:cubicBezTo>
                  <a:pt x="21600" y="12409"/>
                  <a:pt x="18327" y="17923"/>
                  <a:pt x="13527" y="19762"/>
                </a:cubicBezTo>
                <a:cubicBezTo>
                  <a:pt x="8727" y="21600"/>
                  <a:pt x="3273" y="19762"/>
                  <a:pt x="1527" y="14477"/>
                </a:cubicBezTo>
                <a:cubicBezTo>
                  <a:pt x="0" y="9651"/>
                  <a:pt x="3273" y="4366"/>
                  <a:pt x="8727" y="1838"/>
                </a:cubicBezTo>
                <a:cubicBezTo>
                  <a:pt x="13527" y="0"/>
                  <a:pt x="18327" y="1838"/>
                  <a:pt x="20509" y="6664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71800" y="1414440"/>
            <a:ext cx="119160" cy="11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786" y="6857"/>
                </a:moveTo>
                <a:cubicBezTo>
                  <a:pt x="21600" y="12343"/>
                  <a:pt x="18137" y="17829"/>
                  <a:pt x="13191" y="19886"/>
                </a:cubicBezTo>
                <a:cubicBezTo>
                  <a:pt x="8244" y="21600"/>
                  <a:pt x="2638" y="19543"/>
                  <a:pt x="989" y="14400"/>
                </a:cubicBezTo>
                <a:cubicBezTo>
                  <a:pt x="0" y="9771"/>
                  <a:pt x="2638" y="4286"/>
                  <a:pt x="8244" y="1886"/>
                </a:cubicBezTo>
                <a:cubicBezTo>
                  <a:pt x="12861" y="0"/>
                  <a:pt x="18137" y="2229"/>
                  <a:pt x="19786" y="6857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22960" y="1282680"/>
            <a:ext cx="95040" cy="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66" y="6920"/>
                </a:moveTo>
                <a:cubicBezTo>
                  <a:pt x="21600" y="12583"/>
                  <a:pt x="18103" y="18035"/>
                  <a:pt x="13577" y="19713"/>
                </a:cubicBezTo>
                <a:cubicBezTo>
                  <a:pt x="8640" y="21600"/>
                  <a:pt x="3086" y="19293"/>
                  <a:pt x="1440" y="14470"/>
                </a:cubicBezTo>
                <a:cubicBezTo>
                  <a:pt x="0" y="9437"/>
                  <a:pt x="3086" y="3775"/>
                  <a:pt x="8640" y="2097"/>
                </a:cubicBezTo>
                <a:cubicBezTo>
                  <a:pt x="12960" y="0"/>
                  <a:pt x="18103" y="2517"/>
                  <a:pt x="20366" y="6920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61120" y="2087640"/>
            <a:ext cx="90360" cy="87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17" y="7126"/>
                </a:moveTo>
                <a:cubicBezTo>
                  <a:pt x="21600" y="12247"/>
                  <a:pt x="18392" y="17814"/>
                  <a:pt x="13473" y="19819"/>
                </a:cubicBezTo>
                <a:cubicBezTo>
                  <a:pt x="8768" y="21600"/>
                  <a:pt x="3208" y="19819"/>
                  <a:pt x="1497" y="14474"/>
                </a:cubicBezTo>
                <a:cubicBezTo>
                  <a:pt x="0" y="9353"/>
                  <a:pt x="3208" y="4008"/>
                  <a:pt x="8768" y="1781"/>
                </a:cubicBezTo>
                <a:cubicBezTo>
                  <a:pt x="13473" y="0"/>
                  <a:pt x="18392" y="1781"/>
                  <a:pt x="20317" y="7126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90840" y="1374840"/>
            <a:ext cx="155880" cy="15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77" y="6726"/>
                </a:moveTo>
                <a:cubicBezTo>
                  <a:pt x="21600" y="12158"/>
                  <a:pt x="18479" y="17720"/>
                  <a:pt x="13110" y="19660"/>
                </a:cubicBezTo>
                <a:cubicBezTo>
                  <a:pt x="8116" y="21600"/>
                  <a:pt x="2872" y="19660"/>
                  <a:pt x="999" y="14357"/>
                </a:cubicBezTo>
                <a:cubicBezTo>
                  <a:pt x="0" y="9571"/>
                  <a:pt x="2872" y="4139"/>
                  <a:pt x="8116" y="1552"/>
                </a:cubicBezTo>
                <a:cubicBezTo>
                  <a:pt x="12985" y="0"/>
                  <a:pt x="18479" y="2199"/>
                  <a:pt x="19977" y="6726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0720" y="1127160"/>
            <a:ext cx="5398920" cy="699768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4T12:56:27Z</dcterms:created>
  <dc:creator>OfficeHamada</dc:creator>
  <dc:description/>
  <dc:language>en-US</dc:language>
  <cp:lastModifiedBy>OfficeHamada</cp:lastModifiedBy>
  <cp:lastPrinted>2016-03-04T17:19:08Z</cp:lastPrinted>
  <dcterms:modified xsi:type="dcterms:W3CDTF">2016-03-16T09:06:50Z</dcterms:modified>
  <cp:revision>20</cp:revision>
  <dc:subject/>
  <dc:title/>
</cp:coreProperties>
</file>