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4789440"/>
            <a:ext cx="501480" cy="525600"/>
          </a:xfrm>
          <a:prstGeom prst="rect">
            <a:avLst/>
          </a:prstGeom>
          <a:solidFill>
            <a:srgbClr val="fff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20720" y="5313240"/>
            <a:ext cx="5398920" cy="288144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720720" y="1055520"/>
            <a:ext cx="5396040" cy="202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3897"/>
                </a:lnTo>
                <a:lnTo>
                  <a:pt x="21326" y="13552"/>
                </a:lnTo>
                <a:lnTo>
                  <a:pt x="20847" y="13331"/>
                </a:lnTo>
                <a:lnTo>
                  <a:pt x="19986" y="13504"/>
                </a:lnTo>
                <a:lnTo>
                  <a:pt x="19089" y="13475"/>
                </a:lnTo>
                <a:lnTo>
                  <a:pt x="18023" y="14349"/>
                </a:lnTo>
                <a:lnTo>
                  <a:pt x="17609" y="14656"/>
                </a:lnTo>
                <a:lnTo>
                  <a:pt x="16834" y="14723"/>
                </a:lnTo>
                <a:lnTo>
                  <a:pt x="15670" y="13734"/>
                </a:lnTo>
                <a:lnTo>
                  <a:pt x="15040" y="12495"/>
                </a:lnTo>
                <a:lnTo>
                  <a:pt x="14284" y="11842"/>
                </a:lnTo>
                <a:lnTo>
                  <a:pt x="13808" y="12313"/>
                </a:lnTo>
                <a:lnTo>
                  <a:pt x="13275" y="13648"/>
                </a:lnTo>
                <a:lnTo>
                  <a:pt x="12097" y="16673"/>
                </a:lnTo>
                <a:lnTo>
                  <a:pt x="10696" y="18565"/>
                </a:lnTo>
                <a:lnTo>
                  <a:pt x="9464" y="18565"/>
                </a:lnTo>
                <a:lnTo>
                  <a:pt x="7252" y="20534"/>
                </a:lnTo>
                <a:lnTo>
                  <a:pt x="5645" y="20707"/>
                </a:lnTo>
                <a:lnTo>
                  <a:pt x="4979" y="20803"/>
                </a:lnTo>
                <a:lnTo>
                  <a:pt x="3541" y="21600"/>
                </a:lnTo>
                <a:lnTo>
                  <a:pt x="2839" y="20707"/>
                </a:lnTo>
                <a:lnTo>
                  <a:pt x="2061" y="20803"/>
                </a:lnTo>
                <a:lnTo>
                  <a:pt x="0" y="21091"/>
                </a:lnTo>
                <a:lnTo>
                  <a:pt x="0" y="0"/>
                </a:lnTo>
              </a:path>
            </a:pathLst>
          </a:custGeom>
          <a:solidFill>
            <a:srgbClr val="ffe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20720" y="2809800"/>
            <a:ext cx="5396040" cy="250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1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19635"/>
                </a:lnTo>
                <a:lnTo>
                  <a:pt x="15217" y="0"/>
                </a:lnTo>
                <a:lnTo>
                  <a:pt x="21600" y="31"/>
                </a:lnTo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20720" y="2228760"/>
            <a:ext cx="5396040" cy="270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309"/>
                </a:moveTo>
                <a:cubicBezTo>
                  <a:pt x="21600" y="1309"/>
                  <a:pt x="21600" y="3632"/>
                  <a:pt x="21600" y="3632"/>
                </a:cubicBezTo>
                <a:cubicBezTo>
                  <a:pt x="21600" y="3632"/>
                  <a:pt x="15217" y="3632"/>
                  <a:pt x="15217" y="3632"/>
                </a:cubicBezTo>
                <a:cubicBezTo>
                  <a:pt x="15217" y="3632"/>
                  <a:pt x="0" y="21600"/>
                  <a:pt x="0" y="21600"/>
                </a:cubicBezTo>
                <a:cubicBezTo>
                  <a:pt x="0" y="21600"/>
                  <a:pt x="0" y="8042"/>
                  <a:pt x="0" y="8042"/>
                </a:cubicBezTo>
                <a:cubicBezTo>
                  <a:pt x="29" y="8006"/>
                  <a:pt x="68" y="7991"/>
                  <a:pt x="97" y="7962"/>
                </a:cubicBezTo>
                <a:cubicBezTo>
                  <a:pt x="403" y="7732"/>
                  <a:pt x="717" y="7531"/>
                  <a:pt x="1030" y="7358"/>
                </a:cubicBezTo>
                <a:cubicBezTo>
                  <a:pt x="1581" y="7013"/>
                  <a:pt x="2133" y="6682"/>
                  <a:pt x="2673" y="6855"/>
                </a:cubicBezTo>
                <a:cubicBezTo>
                  <a:pt x="3008" y="6970"/>
                  <a:pt x="3282" y="7437"/>
                  <a:pt x="3588" y="7847"/>
                </a:cubicBezTo>
                <a:cubicBezTo>
                  <a:pt x="3743" y="8042"/>
                  <a:pt x="3912" y="8171"/>
                  <a:pt x="4078" y="8207"/>
                </a:cubicBezTo>
                <a:cubicBezTo>
                  <a:pt x="4489" y="8272"/>
                  <a:pt x="4888" y="7926"/>
                  <a:pt x="5231" y="7473"/>
                </a:cubicBezTo>
                <a:cubicBezTo>
                  <a:pt x="5522" y="7106"/>
                  <a:pt x="5760" y="6538"/>
                  <a:pt x="6088" y="6495"/>
                </a:cubicBezTo>
                <a:cubicBezTo>
                  <a:pt x="6311" y="6466"/>
                  <a:pt x="6488" y="6855"/>
                  <a:pt x="6722" y="6919"/>
                </a:cubicBezTo>
                <a:cubicBezTo>
                  <a:pt x="7309" y="7085"/>
                  <a:pt x="7878" y="6322"/>
                  <a:pt x="8433" y="5841"/>
                </a:cubicBezTo>
                <a:cubicBezTo>
                  <a:pt x="8804" y="5502"/>
                  <a:pt x="9168" y="5136"/>
                  <a:pt x="9557" y="5164"/>
                </a:cubicBezTo>
                <a:cubicBezTo>
                  <a:pt x="9784" y="5179"/>
                  <a:pt x="9986" y="5517"/>
                  <a:pt x="10227" y="5538"/>
                </a:cubicBezTo>
                <a:cubicBezTo>
                  <a:pt x="10980" y="5603"/>
                  <a:pt x="11643" y="4560"/>
                  <a:pt x="12237" y="3647"/>
                </a:cubicBezTo>
                <a:cubicBezTo>
                  <a:pt x="12277" y="3582"/>
                  <a:pt x="12317" y="3524"/>
                  <a:pt x="12353" y="3467"/>
                </a:cubicBezTo>
                <a:cubicBezTo>
                  <a:pt x="12785" y="2820"/>
                  <a:pt x="13142" y="1964"/>
                  <a:pt x="13520" y="1144"/>
                </a:cubicBezTo>
                <a:cubicBezTo>
                  <a:pt x="13786" y="554"/>
                  <a:pt x="14093" y="14"/>
                  <a:pt x="14460" y="0"/>
                </a:cubicBezTo>
                <a:cubicBezTo>
                  <a:pt x="14719" y="0"/>
                  <a:pt x="14936" y="453"/>
                  <a:pt x="15188" y="842"/>
                </a:cubicBezTo>
                <a:cubicBezTo>
                  <a:pt x="15591" y="1446"/>
                  <a:pt x="16074" y="1820"/>
                  <a:pt x="16557" y="2057"/>
                </a:cubicBezTo>
                <a:cubicBezTo>
                  <a:pt x="17129" y="2352"/>
                  <a:pt x="17731" y="2302"/>
                  <a:pt x="18329" y="2237"/>
                </a:cubicBezTo>
                <a:cubicBezTo>
                  <a:pt x="18718" y="2187"/>
                  <a:pt x="19114" y="2057"/>
                  <a:pt x="19478" y="1820"/>
                </a:cubicBezTo>
                <a:cubicBezTo>
                  <a:pt x="20015" y="1446"/>
                  <a:pt x="20490" y="755"/>
                  <a:pt x="21034" y="842"/>
                </a:cubicBezTo>
                <a:cubicBezTo>
                  <a:pt x="21240" y="863"/>
                  <a:pt x="21423" y="1057"/>
                  <a:pt x="21600" y="1309"/>
                </a:cubicBez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20720" y="2065320"/>
            <a:ext cx="5396040" cy="11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4589"/>
                </a:moveTo>
                <a:cubicBezTo>
                  <a:pt x="21600" y="4589"/>
                  <a:pt x="21600" y="5919"/>
                  <a:pt x="21600" y="5919"/>
                </a:cubicBezTo>
                <a:cubicBezTo>
                  <a:pt x="21423" y="5351"/>
                  <a:pt x="21240" y="4930"/>
                  <a:pt x="21034" y="4849"/>
                </a:cubicBezTo>
                <a:cubicBezTo>
                  <a:pt x="20490" y="4686"/>
                  <a:pt x="20015" y="6243"/>
                  <a:pt x="19478" y="7054"/>
                </a:cubicBezTo>
                <a:cubicBezTo>
                  <a:pt x="19114" y="7605"/>
                  <a:pt x="18718" y="7897"/>
                  <a:pt x="18329" y="8011"/>
                </a:cubicBezTo>
                <a:cubicBezTo>
                  <a:pt x="17731" y="8157"/>
                  <a:pt x="17129" y="8270"/>
                  <a:pt x="16557" y="7605"/>
                </a:cubicBezTo>
                <a:cubicBezTo>
                  <a:pt x="16074" y="7054"/>
                  <a:pt x="15591" y="6243"/>
                  <a:pt x="15188" y="4849"/>
                </a:cubicBezTo>
                <a:cubicBezTo>
                  <a:pt x="14936" y="3989"/>
                  <a:pt x="14719" y="2968"/>
                  <a:pt x="14460" y="2968"/>
                </a:cubicBezTo>
                <a:cubicBezTo>
                  <a:pt x="14093" y="3000"/>
                  <a:pt x="13786" y="4216"/>
                  <a:pt x="13520" y="5546"/>
                </a:cubicBezTo>
                <a:cubicBezTo>
                  <a:pt x="13142" y="7395"/>
                  <a:pt x="12785" y="9308"/>
                  <a:pt x="12353" y="10768"/>
                </a:cubicBezTo>
                <a:cubicBezTo>
                  <a:pt x="11729" y="12957"/>
                  <a:pt x="11023" y="15600"/>
                  <a:pt x="10227" y="15438"/>
                </a:cubicBezTo>
                <a:cubicBezTo>
                  <a:pt x="9986" y="15422"/>
                  <a:pt x="9784" y="14659"/>
                  <a:pt x="9557" y="14611"/>
                </a:cubicBezTo>
                <a:cubicBezTo>
                  <a:pt x="9168" y="14546"/>
                  <a:pt x="8804" y="15373"/>
                  <a:pt x="8433" y="16135"/>
                </a:cubicBezTo>
                <a:cubicBezTo>
                  <a:pt x="7878" y="17222"/>
                  <a:pt x="7309" y="18957"/>
                  <a:pt x="6722" y="18584"/>
                </a:cubicBezTo>
                <a:cubicBezTo>
                  <a:pt x="6488" y="18438"/>
                  <a:pt x="6311" y="17546"/>
                  <a:pt x="6088" y="17611"/>
                </a:cubicBezTo>
                <a:cubicBezTo>
                  <a:pt x="5760" y="17708"/>
                  <a:pt x="5522" y="18989"/>
                  <a:pt x="5231" y="19816"/>
                </a:cubicBezTo>
                <a:cubicBezTo>
                  <a:pt x="4888" y="20838"/>
                  <a:pt x="4489" y="21600"/>
                  <a:pt x="4078" y="21470"/>
                </a:cubicBezTo>
                <a:cubicBezTo>
                  <a:pt x="3912" y="21389"/>
                  <a:pt x="3743" y="21097"/>
                  <a:pt x="3588" y="20643"/>
                </a:cubicBezTo>
                <a:cubicBezTo>
                  <a:pt x="3282" y="19751"/>
                  <a:pt x="3008" y="18665"/>
                  <a:pt x="2673" y="18438"/>
                </a:cubicBezTo>
                <a:cubicBezTo>
                  <a:pt x="2133" y="18049"/>
                  <a:pt x="1581" y="18778"/>
                  <a:pt x="1030" y="19557"/>
                </a:cubicBezTo>
                <a:cubicBezTo>
                  <a:pt x="717" y="19946"/>
                  <a:pt x="403" y="20400"/>
                  <a:pt x="97" y="20919"/>
                </a:cubicBezTo>
                <a:cubicBezTo>
                  <a:pt x="68" y="20984"/>
                  <a:pt x="36" y="21065"/>
                  <a:pt x="7" y="21114"/>
                </a:cubicBezTo>
                <a:cubicBezTo>
                  <a:pt x="7" y="21114"/>
                  <a:pt x="0" y="13459"/>
                  <a:pt x="0" y="13459"/>
                </a:cubicBezTo>
                <a:cubicBezTo>
                  <a:pt x="83" y="13232"/>
                  <a:pt x="177" y="13184"/>
                  <a:pt x="274" y="13216"/>
                </a:cubicBezTo>
                <a:cubicBezTo>
                  <a:pt x="684" y="13346"/>
                  <a:pt x="879" y="15827"/>
                  <a:pt x="1290" y="15486"/>
                </a:cubicBezTo>
                <a:cubicBezTo>
                  <a:pt x="1617" y="15195"/>
                  <a:pt x="1545" y="13151"/>
                  <a:pt x="1826" y="12503"/>
                </a:cubicBezTo>
                <a:cubicBezTo>
                  <a:pt x="2230" y="11659"/>
                  <a:pt x="2673" y="13897"/>
                  <a:pt x="3105" y="14465"/>
                </a:cubicBezTo>
                <a:cubicBezTo>
                  <a:pt x="3548" y="15032"/>
                  <a:pt x="3991" y="15957"/>
                  <a:pt x="4445" y="15957"/>
                </a:cubicBezTo>
                <a:cubicBezTo>
                  <a:pt x="4971" y="15957"/>
                  <a:pt x="5393" y="14351"/>
                  <a:pt x="5814" y="14903"/>
                </a:cubicBezTo>
                <a:cubicBezTo>
                  <a:pt x="5991" y="15130"/>
                  <a:pt x="6164" y="16022"/>
                  <a:pt x="6355" y="15827"/>
                </a:cubicBezTo>
                <a:cubicBezTo>
                  <a:pt x="6708" y="15422"/>
                  <a:pt x="6816" y="13411"/>
                  <a:pt x="7151" y="12649"/>
                </a:cubicBezTo>
                <a:cubicBezTo>
                  <a:pt x="7457" y="11951"/>
                  <a:pt x="7839" y="12195"/>
                  <a:pt x="8203" y="12616"/>
                </a:cubicBezTo>
                <a:cubicBezTo>
                  <a:pt x="8340" y="12795"/>
                  <a:pt x="8494" y="13086"/>
                  <a:pt x="8617" y="12795"/>
                </a:cubicBezTo>
                <a:cubicBezTo>
                  <a:pt x="8884" y="12195"/>
                  <a:pt x="8992" y="10670"/>
                  <a:pt x="9251" y="10492"/>
                </a:cubicBezTo>
                <a:cubicBezTo>
                  <a:pt x="9525" y="10249"/>
                  <a:pt x="9737" y="11286"/>
                  <a:pt x="10015" y="11432"/>
                </a:cubicBezTo>
                <a:cubicBezTo>
                  <a:pt x="10555" y="11692"/>
                  <a:pt x="11063" y="10330"/>
                  <a:pt x="11535" y="8805"/>
                </a:cubicBezTo>
                <a:cubicBezTo>
                  <a:pt x="11910" y="7605"/>
                  <a:pt x="12270" y="6308"/>
                  <a:pt x="12601" y="4849"/>
                </a:cubicBezTo>
                <a:cubicBezTo>
                  <a:pt x="12778" y="4086"/>
                  <a:pt x="12943" y="3195"/>
                  <a:pt x="13116" y="2384"/>
                </a:cubicBezTo>
                <a:cubicBezTo>
                  <a:pt x="13275" y="1686"/>
                  <a:pt x="13433" y="1005"/>
                  <a:pt x="13758" y="632"/>
                </a:cubicBezTo>
                <a:cubicBezTo>
                  <a:pt x="14302" y="0"/>
                  <a:pt x="14882" y="681"/>
                  <a:pt x="15155" y="1573"/>
                </a:cubicBezTo>
                <a:cubicBezTo>
                  <a:pt x="15469" y="2514"/>
                  <a:pt x="15699" y="4054"/>
                  <a:pt x="16045" y="4589"/>
                </a:cubicBezTo>
                <a:cubicBezTo>
                  <a:pt x="16348" y="5076"/>
                  <a:pt x="16686" y="5270"/>
                  <a:pt x="17014" y="5205"/>
                </a:cubicBezTo>
                <a:cubicBezTo>
                  <a:pt x="17165" y="5157"/>
                  <a:pt x="17320" y="4995"/>
                  <a:pt x="17475" y="4881"/>
                </a:cubicBezTo>
                <a:cubicBezTo>
                  <a:pt x="17598" y="4832"/>
                  <a:pt x="17702" y="4476"/>
                  <a:pt x="17803" y="4184"/>
                </a:cubicBezTo>
                <a:cubicBezTo>
                  <a:pt x="18124" y="3130"/>
                  <a:pt x="18343" y="2124"/>
                  <a:pt x="18628" y="1962"/>
                </a:cubicBezTo>
                <a:cubicBezTo>
                  <a:pt x="18880" y="1832"/>
                  <a:pt x="19136" y="2319"/>
                  <a:pt x="19388" y="2805"/>
                </a:cubicBezTo>
                <a:cubicBezTo>
                  <a:pt x="19619" y="3195"/>
                  <a:pt x="19849" y="3649"/>
                  <a:pt x="20091" y="3762"/>
                </a:cubicBezTo>
                <a:cubicBezTo>
                  <a:pt x="20483" y="3924"/>
                  <a:pt x="20872" y="3519"/>
                  <a:pt x="21247" y="3892"/>
                </a:cubicBezTo>
                <a:cubicBezTo>
                  <a:pt x="21369" y="4054"/>
                  <a:pt x="21485" y="4281"/>
                  <a:pt x="21600" y="4589"/>
                </a:cubicBezTo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055520"/>
            <a:ext cx="5396040" cy="189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14376"/>
                  <a:pt x="21600" y="14376"/>
                </a:cubicBezTo>
                <a:cubicBezTo>
                  <a:pt x="21485" y="14171"/>
                  <a:pt x="21369" y="14017"/>
                  <a:pt x="21247" y="13935"/>
                </a:cubicBezTo>
                <a:cubicBezTo>
                  <a:pt x="20872" y="13690"/>
                  <a:pt x="20483" y="13956"/>
                  <a:pt x="20091" y="13843"/>
                </a:cubicBezTo>
                <a:cubicBezTo>
                  <a:pt x="19849" y="13782"/>
                  <a:pt x="19619" y="13495"/>
                  <a:pt x="19388" y="13249"/>
                </a:cubicBezTo>
                <a:cubicBezTo>
                  <a:pt x="19136" y="12931"/>
                  <a:pt x="18880" y="12634"/>
                  <a:pt x="18628" y="12716"/>
                </a:cubicBezTo>
                <a:cubicBezTo>
                  <a:pt x="18343" y="12829"/>
                  <a:pt x="18124" y="13464"/>
                  <a:pt x="17803" y="14110"/>
                </a:cubicBezTo>
                <a:cubicBezTo>
                  <a:pt x="17702" y="14304"/>
                  <a:pt x="17598" y="14520"/>
                  <a:pt x="17475" y="14561"/>
                </a:cubicBezTo>
                <a:cubicBezTo>
                  <a:pt x="17320" y="14632"/>
                  <a:pt x="17165" y="14735"/>
                  <a:pt x="17014" y="14755"/>
                </a:cubicBezTo>
                <a:cubicBezTo>
                  <a:pt x="16686" y="14806"/>
                  <a:pt x="16348" y="14673"/>
                  <a:pt x="16045" y="14376"/>
                </a:cubicBezTo>
                <a:cubicBezTo>
                  <a:pt x="15699" y="14017"/>
                  <a:pt x="15469" y="13065"/>
                  <a:pt x="15155" y="12460"/>
                </a:cubicBezTo>
                <a:cubicBezTo>
                  <a:pt x="14882" y="11907"/>
                  <a:pt x="14302" y="11476"/>
                  <a:pt x="13758" y="11866"/>
                </a:cubicBezTo>
                <a:cubicBezTo>
                  <a:pt x="13433" y="12101"/>
                  <a:pt x="13275" y="12552"/>
                  <a:pt x="13116" y="12983"/>
                </a:cubicBezTo>
                <a:cubicBezTo>
                  <a:pt x="12943" y="13495"/>
                  <a:pt x="12778" y="14058"/>
                  <a:pt x="12601" y="14550"/>
                </a:cubicBezTo>
                <a:cubicBezTo>
                  <a:pt x="12270" y="15462"/>
                  <a:pt x="11910" y="16282"/>
                  <a:pt x="11535" y="17040"/>
                </a:cubicBezTo>
                <a:cubicBezTo>
                  <a:pt x="11063" y="18003"/>
                  <a:pt x="10555" y="18864"/>
                  <a:pt x="10015" y="18700"/>
                </a:cubicBezTo>
                <a:cubicBezTo>
                  <a:pt x="9737" y="18608"/>
                  <a:pt x="9525" y="17962"/>
                  <a:pt x="9251" y="18106"/>
                </a:cubicBezTo>
                <a:cubicBezTo>
                  <a:pt x="8992" y="18219"/>
                  <a:pt x="8884" y="19182"/>
                  <a:pt x="8617" y="19551"/>
                </a:cubicBezTo>
                <a:cubicBezTo>
                  <a:pt x="8494" y="19735"/>
                  <a:pt x="8340" y="19551"/>
                  <a:pt x="8203" y="19448"/>
                </a:cubicBezTo>
                <a:cubicBezTo>
                  <a:pt x="7839" y="19182"/>
                  <a:pt x="7457" y="19028"/>
                  <a:pt x="7151" y="19469"/>
                </a:cubicBezTo>
                <a:cubicBezTo>
                  <a:pt x="6816" y="19950"/>
                  <a:pt x="6708" y="21211"/>
                  <a:pt x="6355" y="21467"/>
                </a:cubicBezTo>
                <a:cubicBezTo>
                  <a:pt x="6164" y="21600"/>
                  <a:pt x="5991" y="21036"/>
                  <a:pt x="5814" y="20883"/>
                </a:cubicBezTo>
                <a:cubicBezTo>
                  <a:pt x="5393" y="20545"/>
                  <a:pt x="4971" y="21559"/>
                  <a:pt x="4445" y="21559"/>
                </a:cubicBezTo>
                <a:cubicBezTo>
                  <a:pt x="3991" y="21559"/>
                  <a:pt x="3548" y="20965"/>
                  <a:pt x="3105" y="20616"/>
                </a:cubicBezTo>
                <a:cubicBezTo>
                  <a:pt x="2673" y="20258"/>
                  <a:pt x="2230" y="18833"/>
                  <a:pt x="1826" y="19376"/>
                </a:cubicBezTo>
                <a:cubicBezTo>
                  <a:pt x="1545" y="19786"/>
                  <a:pt x="1617" y="21088"/>
                  <a:pt x="1290" y="21252"/>
                </a:cubicBezTo>
                <a:cubicBezTo>
                  <a:pt x="879" y="21467"/>
                  <a:pt x="684" y="19899"/>
                  <a:pt x="274" y="19827"/>
                </a:cubicBezTo>
                <a:cubicBezTo>
                  <a:pt x="177" y="19807"/>
                  <a:pt x="83" y="19858"/>
                  <a:pt x="0" y="20002"/>
                </a:cubicBezTo>
                <a:cubicBezTo>
                  <a:pt x="0" y="20002"/>
                  <a:pt x="0" y="0"/>
                  <a:pt x="0" y="0"/>
                </a:cubicBezTo>
              </a:path>
            </a:pathLst>
          </a:custGeom>
          <a:solidFill>
            <a:srgbClr val="ffe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720" y="3381480"/>
            <a:ext cx="82872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45"/>
                </a:moveTo>
                <a:cubicBezTo>
                  <a:pt x="1032" y="491"/>
                  <a:pt x="2322" y="245"/>
                  <a:pt x="3025" y="245"/>
                </a:cubicBezTo>
                <a:cubicBezTo>
                  <a:pt x="6707" y="0"/>
                  <a:pt x="7810" y="491"/>
                  <a:pt x="8842" y="491"/>
                </a:cubicBezTo>
                <a:cubicBezTo>
                  <a:pt x="11445" y="736"/>
                  <a:pt x="13814" y="982"/>
                  <a:pt x="16206" y="982"/>
                </a:cubicBezTo>
                <a:cubicBezTo>
                  <a:pt x="18012" y="982"/>
                  <a:pt x="21600" y="1227"/>
                  <a:pt x="21600" y="1227"/>
                </a:cubicBezTo>
                <a:cubicBezTo>
                  <a:pt x="21600" y="1227"/>
                  <a:pt x="21577" y="21232"/>
                  <a:pt x="21577" y="21232"/>
                </a:cubicBezTo>
                <a:cubicBezTo>
                  <a:pt x="21577" y="21232"/>
                  <a:pt x="16253" y="21232"/>
                  <a:pt x="13696" y="21232"/>
                </a:cubicBezTo>
                <a:cubicBezTo>
                  <a:pt x="11984" y="21232"/>
                  <a:pt x="10061" y="21232"/>
                  <a:pt x="8091" y="21232"/>
                </a:cubicBezTo>
                <a:cubicBezTo>
                  <a:pt x="6168" y="21232"/>
                  <a:pt x="4104" y="21232"/>
                  <a:pt x="3025" y="21232"/>
                </a:cubicBezTo>
                <a:cubicBezTo>
                  <a:pt x="2298" y="21600"/>
                  <a:pt x="985" y="21232"/>
                  <a:pt x="0" y="21232"/>
                </a:cubicBezTo>
                <a:cubicBezTo>
                  <a:pt x="0" y="21232"/>
                  <a:pt x="0" y="245"/>
                  <a:pt x="0" y="245"/>
                </a:cubicBezTo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0720" y="3537000"/>
            <a:ext cx="82404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0720" y="3537000"/>
            <a:ext cx="824040" cy="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619" y="0"/>
                  <a:pt x="16648" y="0"/>
                  <a:pt x="14903" y="0"/>
                </a:cubicBezTo>
                <a:cubicBezTo>
                  <a:pt x="13064" y="0"/>
                  <a:pt x="10941" y="0"/>
                  <a:pt x="8843" y="0"/>
                </a:cubicBezTo>
                <a:cubicBezTo>
                  <a:pt x="6697" y="0"/>
                  <a:pt x="4480" y="0"/>
                  <a:pt x="3301" y="0"/>
                </a:cubicBezTo>
                <a:cubicBezTo>
                  <a:pt x="2500" y="21600"/>
                  <a:pt x="1085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3381480"/>
            <a:ext cx="830160" cy="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320"/>
                </a:moveTo>
                <a:cubicBezTo>
                  <a:pt x="1145" y="8640"/>
                  <a:pt x="2525" y="4320"/>
                  <a:pt x="3273" y="4320"/>
                </a:cubicBezTo>
                <a:cubicBezTo>
                  <a:pt x="7247" y="0"/>
                  <a:pt x="8416" y="8640"/>
                  <a:pt x="9561" y="8640"/>
                </a:cubicBezTo>
                <a:cubicBezTo>
                  <a:pt x="12343" y="12960"/>
                  <a:pt x="14914" y="17280"/>
                  <a:pt x="17509" y="17280"/>
                </a:cubicBezTo>
                <a:cubicBezTo>
                  <a:pt x="18631" y="17280"/>
                  <a:pt x="20314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19200" y="2692440"/>
            <a:ext cx="582480" cy="17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7377"/>
                </a:moveTo>
                <a:cubicBezTo>
                  <a:pt x="21600" y="17377"/>
                  <a:pt x="0" y="21600"/>
                  <a:pt x="0" y="21600"/>
                </a:cubicBezTo>
                <a:cubicBezTo>
                  <a:pt x="0" y="21238"/>
                  <a:pt x="0" y="20854"/>
                  <a:pt x="0" y="20602"/>
                </a:cubicBezTo>
                <a:cubicBezTo>
                  <a:pt x="167" y="17223"/>
                  <a:pt x="568" y="13822"/>
                  <a:pt x="734" y="12363"/>
                </a:cubicBezTo>
                <a:cubicBezTo>
                  <a:pt x="935" y="10498"/>
                  <a:pt x="1302" y="8568"/>
                  <a:pt x="1436" y="6703"/>
                </a:cubicBezTo>
                <a:cubicBezTo>
                  <a:pt x="1569" y="4607"/>
                  <a:pt x="1736" y="2556"/>
                  <a:pt x="1903" y="483"/>
                </a:cubicBezTo>
                <a:cubicBezTo>
                  <a:pt x="1903" y="329"/>
                  <a:pt x="2003" y="132"/>
                  <a:pt x="2003" y="0"/>
                </a:cubicBezTo>
                <a:cubicBezTo>
                  <a:pt x="2003" y="0"/>
                  <a:pt x="7946" y="132"/>
                  <a:pt x="7946" y="132"/>
                </a:cubicBezTo>
                <a:cubicBezTo>
                  <a:pt x="10650" y="143"/>
                  <a:pt x="13921" y="165"/>
                  <a:pt x="17093" y="186"/>
                </a:cubicBezTo>
                <a:cubicBezTo>
                  <a:pt x="18161" y="219"/>
                  <a:pt x="19864" y="219"/>
                  <a:pt x="21133" y="241"/>
                </a:cubicBezTo>
                <a:cubicBezTo>
                  <a:pt x="21199" y="1448"/>
                  <a:pt x="21133" y="2666"/>
                  <a:pt x="21133" y="4651"/>
                </a:cubicBezTo>
                <a:cubicBezTo>
                  <a:pt x="21133" y="6779"/>
                  <a:pt x="21266" y="9039"/>
                  <a:pt x="21266" y="11244"/>
                </a:cubicBezTo>
                <a:cubicBezTo>
                  <a:pt x="21266" y="12473"/>
                  <a:pt x="21333" y="13669"/>
                  <a:pt x="21433" y="14886"/>
                </a:cubicBezTo>
                <a:cubicBezTo>
                  <a:pt x="21433" y="15270"/>
                  <a:pt x="21567" y="16455"/>
                  <a:pt x="21600" y="17377"/>
                </a:cubicBezTo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84360" y="1982880"/>
            <a:ext cx="500040" cy="37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713"/>
                </a:moveTo>
                <a:cubicBezTo>
                  <a:pt x="194" y="16852"/>
                  <a:pt x="233" y="13096"/>
                  <a:pt x="311" y="9183"/>
                </a:cubicBezTo>
                <a:cubicBezTo>
                  <a:pt x="388" y="6730"/>
                  <a:pt x="583" y="2661"/>
                  <a:pt x="660" y="0"/>
                </a:cubicBezTo>
                <a:cubicBezTo>
                  <a:pt x="2797" y="261"/>
                  <a:pt x="5672" y="417"/>
                  <a:pt x="6527" y="417"/>
                </a:cubicBezTo>
                <a:cubicBezTo>
                  <a:pt x="9673" y="522"/>
                  <a:pt x="13442" y="678"/>
                  <a:pt x="17171" y="783"/>
                </a:cubicBezTo>
                <a:cubicBezTo>
                  <a:pt x="18298" y="887"/>
                  <a:pt x="20124" y="991"/>
                  <a:pt x="21600" y="1148"/>
                </a:cubicBezTo>
                <a:cubicBezTo>
                  <a:pt x="21522" y="4226"/>
                  <a:pt x="21445" y="9130"/>
                  <a:pt x="21445" y="12104"/>
                </a:cubicBezTo>
                <a:cubicBezTo>
                  <a:pt x="21445" y="13774"/>
                  <a:pt x="21445" y="17165"/>
                  <a:pt x="21522" y="21600"/>
                </a:cubicBezTo>
                <a:cubicBezTo>
                  <a:pt x="20201" y="21600"/>
                  <a:pt x="18725" y="21391"/>
                  <a:pt x="17715" y="21391"/>
                </a:cubicBezTo>
                <a:cubicBezTo>
                  <a:pt x="16394" y="21391"/>
                  <a:pt x="4778" y="20974"/>
                  <a:pt x="0" y="20713"/>
                </a:cubicBezTo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76440" y="2411280"/>
            <a:ext cx="511200" cy="20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619"/>
                </a:moveTo>
                <a:cubicBezTo>
                  <a:pt x="0" y="15375"/>
                  <a:pt x="0" y="11319"/>
                  <a:pt x="76" y="6980"/>
                </a:cubicBezTo>
                <a:cubicBezTo>
                  <a:pt x="190" y="4528"/>
                  <a:pt x="266" y="2358"/>
                  <a:pt x="266" y="0"/>
                </a:cubicBezTo>
                <a:cubicBezTo>
                  <a:pt x="2581" y="189"/>
                  <a:pt x="6302" y="943"/>
                  <a:pt x="7175" y="943"/>
                </a:cubicBezTo>
                <a:cubicBezTo>
                  <a:pt x="10250" y="1226"/>
                  <a:pt x="13932" y="1415"/>
                  <a:pt x="17576" y="1603"/>
                </a:cubicBezTo>
                <a:cubicBezTo>
                  <a:pt x="18639" y="1603"/>
                  <a:pt x="20157" y="1603"/>
                  <a:pt x="21448" y="1603"/>
                </a:cubicBezTo>
                <a:cubicBezTo>
                  <a:pt x="21524" y="7734"/>
                  <a:pt x="21600" y="14714"/>
                  <a:pt x="21600" y="21600"/>
                </a:cubicBezTo>
                <a:cubicBezTo>
                  <a:pt x="20157" y="21411"/>
                  <a:pt x="18335" y="21600"/>
                  <a:pt x="17121" y="21411"/>
                </a:cubicBezTo>
                <a:cubicBezTo>
                  <a:pt x="15792" y="21411"/>
                  <a:pt x="4441" y="20279"/>
                  <a:pt x="0" y="19619"/>
                </a:cubicBezTo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19200" y="1981080"/>
            <a:ext cx="79560" cy="248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342"/>
                  <a:pt x="0" y="21076"/>
                  <a:pt x="0" y="20889"/>
                </a:cubicBezTo>
                <a:cubicBezTo>
                  <a:pt x="971" y="18481"/>
                  <a:pt x="4126" y="16065"/>
                  <a:pt x="5097" y="15033"/>
                </a:cubicBezTo>
                <a:cubicBezTo>
                  <a:pt x="6796" y="13696"/>
                  <a:pt x="9222" y="12313"/>
                  <a:pt x="10193" y="10992"/>
                </a:cubicBezTo>
                <a:cubicBezTo>
                  <a:pt x="11407" y="9498"/>
                  <a:pt x="12135" y="8029"/>
                  <a:pt x="13834" y="6559"/>
                </a:cubicBezTo>
                <a:cubicBezTo>
                  <a:pt x="15047" y="5801"/>
                  <a:pt x="15047" y="5050"/>
                  <a:pt x="15775" y="4307"/>
                </a:cubicBezTo>
                <a:cubicBezTo>
                  <a:pt x="17474" y="3330"/>
                  <a:pt x="18930" y="2361"/>
                  <a:pt x="19416" y="1384"/>
                </a:cubicBezTo>
                <a:cubicBezTo>
                  <a:pt x="19658" y="1016"/>
                  <a:pt x="20629" y="407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81160" y="2000160"/>
            <a:ext cx="20520" cy="212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0"/>
                </a:moveTo>
                <a:cubicBezTo>
                  <a:pt x="1878" y="540"/>
                  <a:pt x="0" y="1420"/>
                  <a:pt x="0" y="1942"/>
                </a:cubicBezTo>
                <a:cubicBezTo>
                  <a:pt x="0" y="2574"/>
                  <a:pt x="5635" y="4754"/>
                  <a:pt x="7513" y="6916"/>
                </a:cubicBezTo>
                <a:cubicBezTo>
                  <a:pt x="10330" y="8015"/>
                  <a:pt x="7513" y="9105"/>
                  <a:pt x="7513" y="10983"/>
                </a:cubicBezTo>
                <a:cubicBezTo>
                  <a:pt x="7513" y="12742"/>
                  <a:pt x="12209" y="14638"/>
                  <a:pt x="12209" y="16470"/>
                </a:cubicBezTo>
                <a:cubicBezTo>
                  <a:pt x="12209" y="17496"/>
                  <a:pt x="14087" y="18504"/>
                  <a:pt x="15026" y="19511"/>
                </a:cubicBezTo>
                <a:cubicBezTo>
                  <a:pt x="15026" y="19823"/>
                  <a:pt x="19722" y="20821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6760" y="3692520"/>
            <a:ext cx="150840" cy="70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771" y="21600"/>
                </a:moveTo>
                <a:cubicBezTo>
                  <a:pt x="18771" y="21600"/>
                  <a:pt x="19414" y="16125"/>
                  <a:pt x="19671" y="13497"/>
                </a:cubicBezTo>
                <a:cubicBezTo>
                  <a:pt x="19929" y="9965"/>
                  <a:pt x="20186" y="8103"/>
                  <a:pt x="20571" y="6297"/>
                </a:cubicBezTo>
                <a:cubicBezTo>
                  <a:pt x="20700" y="4380"/>
                  <a:pt x="21600" y="2464"/>
                  <a:pt x="18000" y="821"/>
                </a:cubicBezTo>
                <a:cubicBezTo>
                  <a:pt x="16843" y="356"/>
                  <a:pt x="14529" y="0"/>
                  <a:pt x="11957" y="55"/>
                </a:cubicBezTo>
                <a:cubicBezTo>
                  <a:pt x="9000" y="110"/>
                  <a:pt x="7071" y="438"/>
                  <a:pt x="6043" y="821"/>
                </a:cubicBezTo>
                <a:cubicBezTo>
                  <a:pt x="2443" y="2409"/>
                  <a:pt x="2186" y="4189"/>
                  <a:pt x="1543" y="6297"/>
                </a:cubicBezTo>
                <a:cubicBezTo>
                  <a:pt x="900" y="8760"/>
                  <a:pt x="1029" y="11279"/>
                  <a:pt x="900" y="13825"/>
                </a:cubicBezTo>
                <a:cubicBezTo>
                  <a:pt x="900" y="16371"/>
                  <a:pt x="0" y="21490"/>
                  <a:pt x="0" y="21490"/>
                </a:cubicBezTo>
                <a:cubicBezTo>
                  <a:pt x="0" y="21490"/>
                  <a:pt x="18771" y="21600"/>
                  <a:pt x="18771" y="21600"/>
                </a:cubicBezTo>
              </a:path>
            </a:pathLst>
          </a:custGeom>
          <a:solidFill>
            <a:srgbClr val="ffcc33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4440" y="3676680"/>
            <a:ext cx="1191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164" y="21600"/>
                </a:moveTo>
                <a:cubicBezTo>
                  <a:pt x="19164" y="21600"/>
                  <a:pt x="19976" y="15984"/>
                  <a:pt x="19976" y="13203"/>
                </a:cubicBezTo>
                <a:cubicBezTo>
                  <a:pt x="19976" y="10611"/>
                  <a:pt x="20301" y="7992"/>
                  <a:pt x="20626" y="6237"/>
                </a:cubicBezTo>
                <a:cubicBezTo>
                  <a:pt x="20950" y="4374"/>
                  <a:pt x="21600" y="2403"/>
                  <a:pt x="17865" y="810"/>
                </a:cubicBezTo>
                <a:cubicBezTo>
                  <a:pt x="16890" y="324"/>
                  <a:pt x="14129" y="0"/>
                  <a:pt x="11693" y="54"/>
                </a:cubicBezTo>
                <a:cubicBezTo>
                  <a:pt x="8932" y="108"/>
                  <a:pt x="6821" y="405"/>
                  <a:pt x="5847" y="810"/>
                </a:cubicBezTo>
                <a:cubicBezTo>
                  <a:pt x="1949" y="2349"/>
                  <a:pt x="1624" y="4131"/>
                  <a:pt x="1137" y="6183"/>
                </a:cubicBezTo>
                <a:cubicBezTo>
                  <a:pt x="650" y="8613"/>
                  <a:pt x="1137" y="11070"/>
                  <a:pt x="650" y="13635"/>
                </a:cubicBezTo>
                <a:cubicBezTo>
                  <a:pt x="650" y="16173"/>
                  <a:pt x="0" y="21411"/>
                  <a:pt x="0" y="21411"/>
                </a:cubicBezTo>
                <a:cubicBezTo>
                  <a:pt x="0" y="21411"/>
                  <a:pt x="19164" y="21600"/>
                  <a:pt x="19164" y="21600"/>
                </a:cubicBezTo>
              </a:path>
            </a:pathLst>
          </a:custGeom>
          <a:solidFill>
            <a:srgbClr val="ffcc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44480" y="1712880"/>
            <a:ext cx="435240" cy="19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4" y="20306"/>
                </a:moveTo>
                <a:cubicBezTo>
                  <a:pt x="134" y="20306"/>
                  <a:pt x="0" y="0"/>
                  <a:pt x="0" y="0"/>
                </a:cubicBezTo>
                <a:cubicBezTo>
                  <a:pt x="0" y="0"/>
                  <a:pt x="6842" y="597"/>
                  <a:pt x="10196" y="796"/>
                </a:cubicBezTo>
                <a:cubicBezTo>
                  <a:pt x="13998" y="995"/>
                  <a:pt x="21600" y="1493"/>
                  <a:pt x="21600" y="1493"/>
                </a:cubicBezTo>
                <a:cubicBezTo>
                  <a:pt x="21600" y="1493"/>
                  <a:pt x="21376" y="8660"/>
                  <a:pt x="21376" y="12044"/>
                </a:cubicBezTo>
                <a:cubicBezTo>
                  <a:pt x="21332" y="14732"/>
                  <a:pt x="21153" y="18912"/>
                  <a:pt x="21019" y="21600"/>
                </a:cubicBezTo>
              </a:path>
            </a:pathLst>
          </a:custGeom>
          <a:solidFill>
            <a:srgbClr val="9966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4760" y="1893960"/>
            <a:ext cx="59184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14586" y="2340"/>
                  <a:pt x="15995" y="2340"/>
                </a:cubicBezTo>
                <a:cubicBezTo>
                  <a:pt x="17863" y="2700"/>
                  <a:pt x="21600" y="3420"/>
                  <a:pt x="21600" y="3420"/>
                </a:cubicBezTo>
                <a:cubicBezTo>
                  <a:pt x="21600" y="3420"/>
                  <a:pt x="21502" y="21600"/>
                  <a:pt x="21502" y="21600"/>
                </a:cubicBezTo>
                <a:cubicBezTo>
                  <a:pt x="21502" y="21600"/>
                  <a:pt x="17700" y="20700"/>
                  <a:pt x="15930" y="20340"/>
                </a:cubicBezTo>
                <a:cubicBezTo>
                  <a:pt x="12783" y="19980"/>
                  <a:pt x="9604" y="19440"/>
                  <a:pt x="6949" y="19080"/>
                </a:cubicBezTo>
                <a:cubicBezTo>
                  <a:pt x="5834" y="19080"/>
                  <a:pt x="131" y="16740"/>
                  <a:pt x="131" y="16740"/>
                </a:cubicBezTo>
                <a:cubicBezTo>
                  <a:pt x="131" y="16740"/>
                  <a:pt x="0" y="0"/>
                  <a:pt x="0" y="0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41600" y="1301760"/>
            <a:ext cx="433440" cy="42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4280" y="21464"/>
                  <a:pt x="10643" y="21237"/>
                </a:cubicBezTo>
                <a:cubicBezTo>
                  <a:pt x="7140" y="21146"/>
                  <a:pt x="0" y="20783"/>
                  <a:pt x="0" y="20783"/>
                </a:cubicBezTo>
                <a:cubicBezTo>
                  <a:pt x="0" y="20783"/>
                  <a:pt x="3907" y="14067"/>
                  <a:pt x="5703" y="10800"/>
                </a:cubicBezTo>
                <a:cubicBezTo>
                  <a:pt x="7679" y="7124"/>
                  <a:pt x="11765" y="0"/>
                  <a:pt x="11765" y="0"/>
                </a:cubicBezTo>
                <a:cubicBezTo>
                  <a:pt x="11765" y="0"/>
                  <a:pt x="14460" y="6444"/>
                  <a:pt x="15897" y="9666"/>
                </a:cubicBezTo>
                <a:cubicBezTo>
                  <a:pt x="17738" y="13704"/>
                  <a:pt x="21600" y="21600"/>
                  <a:pt x="21600" y="21600"/>
                </a:cubicBezTo>
              </a:path>
            </a:pathLst>
          </a:custGeom>
          <a:solidFill>
            <a:srgbClr val="9966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38280" y="2338560"/>
            <a:ext cx="611280" cy="8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14792" y="3273"/>
                  <a:pt x="16128" y="3273"/>
                </a:cubicBezTo>
                <a:cubicBezTo>
                  <a:pt x="17973" y="3709"/>
                  <a:pt x="21600" y="4800"/>
                  <a:pt x="21600" y="4800"/>
                </a:cubicBezTo>
                <a:cubicBezTo>
                  <a:pt x="21600" y="4800"/>
                  <a:pt x="21473" y="21600"/>
                  <a:pt x="21473" y="21600"/>
                </a:cubicBezTo>
                <a:cubicBezTo>
                  <a:pt x="21473" y="21600"/>
                  <a:pt x="17814" y="21600"/>
                  <a:pt x="16065" y="21382"/>
                </a:cubicBezTo>
                <a:cubicBezTo>
                  <a:pt x="13011" y="20945"/>
                  <a:pt x="9925" y="20509"/>
                  <a:pt x="7348" y="19855"/>
                </a:cubicBezTo>
                <a:cubicBezTo>
                  <a:pt x="6267" y="19855"/>
                  <a:pt x="0" y="17236"/>
                  <a:pt x="0" y="17236"/>
                </a:cubicBezTo>
                <a:cubicBezTo>
                  <a:pt x="0" y="17236"/>
                  <a:pt x="0" y="0"/>
                  <a:pt x="0" y="0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98760" y="2798640"/>
            <a:ext cx="96840" cy="170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408" y="15866"/>
                  <a:pt x="815" y="12987"/>
                </a:cubicBezTo>
                <a:cubicBezTo>
                  <a:pt x="1223" y="10794"/>
                  <a:pt x="2649" y="8578"/>
                  <a:pt x="2649" y="6408"/>
                </a:cubicBezTo>
                <a:cubicBezTo>
                  <a:pt x="2649" y="4569"/>
                  <a:pt x="3057" y="2730"/>
                  <a:pt x="3872" y="480"/>
                </a:cubicBezTo>
                <a:cubicBezTo>
                  <a:pt x="3872" y="206"/>
                  <a:pt x="8558" y="0"/>
                  <a:pt x="12226" y="23"/>
                </a:cubicBezTo>
                <a:cubicBezTo>
                  <a:pt x="16709" y="57"/>
                  <a:pt x="19766" y="503"/>
                  <a:pt x="19766" y="503"/>
                </a:cubicBezTo>
                <a:cubicBezTo>
                  <a:pt x="19766" y="503"/>
                  <a:pt x="19766" y="5460"/>
                  <a:pt x="19766" y="7904"/>
                </a:cubicBezTo>
                <a:cubicBezTo>
                  <a:pt x="19766" y="9424"/>
                  <a:pt x="19766" y="10977"/>
                  <a:pt x="19766" y="12953"/>
                </a:cubicBezTo>
                <a:cubicBezTo>
                  <a:pt x="19766" y="15626"/>
                  <a:pt x="21600" y="20778"/>
                  <a:pt x="21600" y="20778"/>
                </a:cubicBezTo>
                <a:cubicBezTo>
                  <a:pt x="21600" y="20778"/>
                  <a:pt x="0" y="21600"/>
                  <a:pt x="0" y="2160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98760" y="3821040"/>
            <a:ext cx="4680" cy="67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10800" y="721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3440" y="3303720"/>
            <a:ext cx="7920" cy="51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800" y="14400"/>
                  <a:pt x="21600" y="71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1360" y="2835360"/>
            <a:ext cx="468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14899"/>
                  <a:pt x="7200" y="81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6040" y="2798640"/>
            <a:ext cx="36720" cy="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9257"/>
                  <a:pt x="12117" y="0"/>
                  <a:pt x="21600" y="102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52760" y="2800440"/>
            <a:ext cx="3312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2843" y="1543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98760" y="4435560"/>
            <a:ext cx="9684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6640" y="2798640"/>
            <a:ext cx="81000" cy="16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485" y="16650"/>
                  <a:pt x="971" y="13629"/>
                </a:cubicBezTo>
                <a:cubicBezTo>
                  <a:pt x="1456" y="11327"/>
                  <a:pt x="2427" y="9002"/>
                  <a:pt x="2427" y="6725"/>
                </a:cubicBezTo>
                <a:cubicBezTo>
                  <a:pt x="2427" y="4795"/>
                  <a:pt x="3155" y="2865"/>
                  <a:pt x="4126" y="503"/>
                </a:cubicBezTo>
                <a:cubicBezTo>
                  <a:pt x="4126" y="216"/>
                  <a:pt x="8737" y="0"/>
                  <a:pt x="12135" y="24"/>
                </a:cubicBezTo>
                <a:cubicBezTo>
                  <a:pt x="16989" y="60"/>
                  <a:pt x="19901" y="527"/>
                  <a:pt x="19901" y="527"/>
                </a:cubicBezTo>
                <a:cubicBezTo>
                  <a:pt x="19901" y="527"/>
                  <a:pt x="19901" y="5730"/>
                  <a:pt x="19901" y="8295"/>
                </a:cubicBezTo>
                <a:cubicBezTo>
                  <a:pt x="19901" y="9889"/>
                  <a:pt x="19901" y="11519"/>
                  <a:pt x="19901" y="13593"/>
                </a:cubicBezTo>
                <a:cubicBezTo>
                  <a:pt x="19901" y="16398"/>
                  <a:pt x="21600" y="20785"/>
                  <a:pt x="21600" y="20785"/>
                </a:cubicBezTo>
                <a:cubicBezTo>
                  <a:pt x="21600" y="20785"/>
                  <a:pt x="0" y="21600"/>
                  <a:pt x="0" y="2160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36640" y="3821040"/>
            <a:ext cx="3240" cy="5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10800" y="818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39880" y="3303720"/>
            <a:ext cx="6480" cy="51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200" y="14400"/>
                  <a:pt x="21600" y="71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46360" y="2835360"/>
            <a:ext cx="612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14899"/>
                  <a:pt x="9257" y="81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798640"/>
            <a:ext cx="30240" cy="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9257"/>
                  <a:pt x="12436" y="0"/>
                  <a:pt x="21600" y="102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82720" y="2800440"/>
            <a:ext cx="2844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3500" y="1543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36640" y="4359240"/>
            <a:ext cx="8100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52560" y="2798640"/>
            <a:ext cx="85680" cy="153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068" y="17545"/>
                  <a:pt x="2298" y="14362"/>
                </a:cubicBezTo>
                <a:cubicBezTo>
                  <a:pt x="2987" y="11937"/>
                  <a:pt x="3906" y="9486"/>
                  <a:pt x="3906" y="7086"/>
                </a:cubicBezTo>
                <a:cubicBezTo>
                  <a:pt x="3906" y="5053"/>
                  <a:pt x="4366" y="3019"/>
                  <a:pt x="5515" y="531"/>
                </a:cubicBezTo>
                <a:cubicBezTo>
                  <a:pt x="5515" y="227"/>
                  <a:pt x="9651" y="0"/>
                  <a:pt x="13098" y="25"/>
                </a:cubicBezTo>
                <a:cubicBezTo>
                  <a:pt x="17694" y="63"/>
                  <a:pt x="20451" y="556"/>
                  <a:pt x="20451" y="556"/>
                </a:cubicBezTo>
                <a:cubicBezTo>
                  <a:pt x="20451" y="556"/>
                  <a:pt x="20451" y="6038"/>
                  <a:pt x="20451" y="8741"/>
                </a:cubicBezTo>
                <a:cubicBezTo>
                  <a:pt x="20451" y="10421"/>
                  <a:pt x="20451" y="12139"/>
                  <a:pt x="20451" y="14324"/>
                </a:cubicBezTo>
                <a:cubicBezTo>
                  <a:pt x="20451" y="17280"/>
                  <a:pt x="21600" y="20931"/>
                  <a:pt x="21600" y="20931"/>
                </a:cubicBezTo>
                <a:cubicBezTo>
                  <a:pt x="21600" y="20931"/>
                  <a:pt x="0" y="21600"/>
                  <a:pt x="0" y="2160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52560" y="3821040"/>
            <a:ext cx="9720" cy="51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19440" y="94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62280" y="3303720"/>
            <a:ext cx="6120" cy="51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9257" y="14400"/>
                  <a:pt x="21600" y="71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68400" y="2835360"/>
            <a:ext cx="648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14899"/>
                  <a:pt x="6171" y="81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74880" y="2798640"/>
            <a:ext cx="30240" cy="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9257"/>
                  <a:pt x="11782" y="0"/>
                  <a:pt x="21600" y="102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2800440"/>
            <a:ext cx="2844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3500" y="1543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2560" y="4289400"/>
            <a:ext cx="856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8200" y="2798640"/>
            <a:ext cx="615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91" y="18272"/>
                  <a:pt x="2191" y="14957"/>
                </a:cubicBezTo>
                <a:cubicBezTo>
                  <a:pt x="2817" y="12431"/>
                  <a:pt x="4070" y="9879"/>
                  <a:pt x="4070" y="7380"/>
                </a:cubicBezTo>
                <a:cubicBezTo>
                  <a:pt x="4070" y="5262"/>
                  <a:pt x="4696" y="3144"/>
                  <a:pt x="5322" y="552"/>
                </a:cubicBezTo>
                <a:cubicBezTo>
                  <a:pt x="5322" y="237"/>
                  <a:pt x="10017" y="0"/>
                  <a:pt x="13148" y="26"/>
                </a:cubicBezTo>
                <a:cubicBezTo>
                  <a:pt x="18470" y="66"/>
                  <a:pt x="21600" y="579"/>
                  <a:pt x="21600" y="579"/>
                </a:cubicBezTo>
                <a:cubicBezTo>
                  <a:pt x="21600" y="579"/>
                  <a:pt x="21600" y="6288"/>
                  <a:pt x="21600" y="9103"/>
                </a:cubicBezTo>
                <a:cubicBezTo>
                  <a:pt x="21600" y="10853"/>
                  <a:pt x="21600" y="12642"/>
                  <a:pt x="21600" y="14917"/>
                </a:cubicBezTo>
                <a:cubicBezTo>
                  <a:pt x="21600" y="17996"/>
                  <a:pt x="20661" y="20955"/>
                  <a:pt x="20661" y="20955"/>
                </a:cubicBezTo>
                <a:cubicBezTo>
                  <a:pt x="20661" y="20955"/>
                  <a:pt x="0" y="21600"/>
                  <a:pt x="0" y="2160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3821040"/>
            <a:ext cx="612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1077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4320" y="3303720"/>
            <a:ext cx="4680" cy="51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200" y="14400"/>
                  <a:pt x="21600" y="71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9000" y="2835360"/>
            <a:ext cx="324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14899"/>
                  <a:pt x="10800" y="81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2240" y="2798640"/>
            <a:ext cx="22320" cy="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9257"/>
                  <a:pt x="12960" y="0"/>
                  <a:pt x="21600" y="102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14560" y="2800440"/>
            <a:ext cx="2520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3600" y="1543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78200" y="4232160"/>
            <a:ext cx="58680" cy="4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9240" y="3754440"/>
            <a:ext cx="261720" cy="31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" y="21600"/>
                </a:moveTo>
                <a:cubicBezTo>
                  <a:pt x="148" y="21600"/>
                  <a:pt x="148" y="14109"/>
                  <a:pt x="148" y="10425"/>
                </a:cubicBezTo>
                <a:cubicBezTo>
                  <a:pt x="148" y="8740"/>
                  <a:pt x="0" y="7179"/>
                  <a:pt x="297" y="5743"/>
                </a:cubicBezTo>
                <a:cubicBezTo>
                  <a:pt x="520" y="4869"/>
                  <a:pt x="1113" y="4058"/>
                  <a:pt x="1930" y="3434"/>
                </a:cubicBezTo>
                <a:cubicBezTo>
                  <a:pt x="2895" y="2684"/>
                  <a:pt x="3637" y="2060"/>
                  <a:pt x="4751" y="1623"/>
                </a:cubicBezTo>
                <a:cubicBezTo>
                  <a:pt x="5493" y="1249"/>
                  <a:pt x="6606" y="936"/>
                  <a:pt x="7423" y="499"/>
                </a:cubicBezTo>
                <a:cubicBezTo>
                  <a:pt x="8016" y="250"/>
                  <a:pt x="8981" y="125"/>
                  <a:pt x="9501" y="125"/>
                </a:cubicBezTo>
                <a:cubicBezTo>
                  <a:pt x="10763" y="0"/>
                  <a:pt x="12915" y="375"/>
                  <a:pt x="14177" y="812"/>
                </a:cubicBezTo>
                <a:cubicBezTo>
                  <a:pt x="15291" y="1124"/>
                  <a:pt x="15291" y="1249"/>
                  <a:pt x="16553" y="1623"/>
                </a:cubicBezTo>
                <a:cubicBezTo>
                  <a:pt x="17369" y="1935"/>
                  <a:pt x="18260" y="2560"/>
                  <a:pt x="18779" y="2997"/>
                </a:cubicBezTo>
                <a:cubicBezTo>
                  <a:pt x="19373" y="3746"/>
                  <a:pt x="19744" y="4620"/>
                  <a:pt x="20041" y="5431"/>
                </a:cubicBezTo>
                <a:cubicBezTo>
                  <a:pt x="20635" y="7491"/>
                  <a:pt x="21600" y="10550"/>
                  <a:pt x="21600" y="10550"/>
                </a:cubicBezTo>
                <a:cubicBezTo>
                  <a:pt x="21600" y="10550"/>
                  <a:pt x="148" y="21600"/>
                  <a:pt x="148" y="2160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41680" y="3497400"/>
            <a:ext cx="125280" cy="35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99" y="21600"/>
                </a:moveTo>
                <a:cubicBezTo>
                  <a:pt x="1399" y="21600"/>
                  <a:pt x="0" y="16855"/>
                  <a:pt x="466" y="14236"/>
                </a:cubicBezTo>
                <a:cubicBezTo>
                  <a:pt x="466" y="13364"/>
                  <a:pt x="777" y="11945"/>
                  <a:pt x="1865" y="11127"/>
                </a:cubicBezTo>
                <a:cubicBezTo>
                  <a:pt x="3108" y="10091"/>
                  <a:pt x="8081" y="8182"/>
                  <a:pt x="8081" y="8182"/>
                </a:cubicBezTo>
                <a:cubicBezTo>
                  <a:pt x="8081" y="8182"/>
                  <a:pt x="7304" y="6982"/>
                  <a:pt x="7304" y="6982"/>
                </a:cubicBezTo>
                <a:cubicBezTo>
                  <a:pt x="7304" y="6982"/>
                  <a:pt x="4817" y="6709"/>
                  <a:pt x="3729" y="6382"/>
                </a:cubicBezTo>
                <a:cubicBezTo>
                  <a:pt x="2642" y="6055"/>
                  <a:pt x="2176" y="5345"/>
                  <a:pt x="2176" y="4691"/>
                </a:cubicBezTo>
                <a:cubicBezTo>
                  <a:pt x="2176" y="3927"/>
                  <a:pt x="3108" y="3055"/>
                  <a:pt x="3419" y="2400"/>
                </a:cubicBezTo>
                <a:cubicBezTo>
                  <a:pt x="4196" y="1636"/>
                  <a:pt x="4196" y="1200"/>
                  <a:pt x="7148" y="655"/>
                </a:cubicBezTo>
                <a:cubicBezTo>
                  <a:pt x="9945" y="55"/>
                  <a:pt x="13675" y="0"/>
                  <a:pt x="16006" y="927"/>
                </a:cubicBezTo>
                <a:cubicBezTo>
                  <a:pt x="16938" y="1418"/>
                  <a:pt x="14607" y="2236"/>
                  <a:pt x="14296" y="2945"/>
                </a:cubicBezTo>
                <a:cubicBezTo>
                  <a:pt x="13986" y="3764"/>
                  <a:pt x="13364" y="4473"/>
                  <a:pt x="13675" y="5236"/>
                </a:cubicBezTo>
                <a:cubicBezTo>
                  <a:pt x="13986" y="6164"/>
                  <a:pt x="15229" y="7091"/>
                  <a:pt x="16627" y="8073"/>
                </a:cubicBezTo>
                <a:cubicBezTo>
                  <a:pt x="17560" y="8782"/>
                  <a:pt x="18803" y="9382"/>
                  <a:pt x="19114" y="10091"/>
                </a:cubicBezTo>
                <a:cubicBezTo>
                  <a:pt x="20046" y="11564"/>
                  <a:pt x="20823" y="14727"/>
                  <a:pt x="20823" y="14727"/>
                </a:cubicBezTo>
                <a:cubicBezTo>
                  <a:pt x="20823" y="14727"/>
                  <a:pt x="21600" y="17236"/>
                  <a:pt x="21600" y="17236"/>
                </a:cubicBezTo>
                <a:cubicBezTo>
                  <a:pt x="21600" y="17236"/>
                  <a:pt x="1399" y="21600"/>
                  <a:pt x="1399" y="2160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7200" y="2674800"/>
            <a:ext cx="5389560" cy="224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1" y="21600"/>
                </a:moveTo>
                <a:lnTo>
                  <a:pt x="0" y="21583"/>
                </a:lnTo>
                <a:lnTo>
                  <a:pt x="15238" y="9"/>
                </a:lnTo>
                <a:lnTo>
                  <a:pt x="21600" y="0"/>
                </a:lnTo>
                <a:lnTo>
                  <a:pt x="21596" y="1287"/>
                </a:lnTo>
                <a:lnTo>
                  <a:pt x="15213" y="1305"/>
                </a:lnTo>
                <a:lnTo>
                  <a:pt x="3282" y="18420"/>
                </a:lnTo>
                <a:lnTo>
                  <a:pt x="1071" y="21600"/>
                </a:lnTo>
              </a:path>
            </a:pathLst>
          </a:custGeom>
          <a:solidFill>
            <a:srgbClr val="66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2681280"/>
            <a:ext cx="5396040" cy="224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15217" y="0"/>
                </a:lnTo>
                <a:lnTo>
                  <a:pt x="0" y="21600"/>
                </a:ln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2071800"/>
            <a:ext cx="71640" cy="17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327"/>
                  <a:pt x="21600" y="327"/>
                </a:cubicBezTo>
                <a:cubicBezTo>
                  <a:pt x="21600" y="327"/>
                  <a:pt x="21600" y="21600"/>
                  <a:pt x="21600" y="21600"/>
                </a:cubicBezTo>
                <a:cubicBezTo>
                  <a:pt x="21600" y="21600"/>
                  <a:pt x="0" y="21491"/>
                  <a:pt x="0" y="21491"/>
                </a:cubicBezTo>
                <a:cubicBezTo>
                  <a:pt x="0" y="21491"/>
                  <a:pt x="0" y="0"/>
                  <a:pt x="0" y="0"/>
                </a:cubicBezTo>
              </a:path>
            </a:pathLst>
          </a:custGeom>
          <a:solidFill>
            <a:srgbClr val="ffcc33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1160" y="2071800"/>
            <a:ext cx="65160" cy="18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8" y="0"/>
                </a:moveTo>
                <a:cubicBezTo>
                  <a:pt x="888" y="0"/>
                  <a:pt x="21600" y="316"/>
                  <a:pt x="21600" y="316"/>
                </a:cubicBezTo>
                <a:cubicBezTo>
                  <a:pt x="21600" y="316"/>
                  <a:pt x="21008" y="21600"/>
                  <a:pt x="21008" y="21600"/>
                </a:cubicBezTo>
                <a:cubicBezTo>
                  <a:pt x="21008" y="21600"/>
                  <a:pt x="0" y="21600"/>
                  <a:pt x="0" y="21600"/>
                </a:cubicBezTo>
                <a:cubicBezTo>
                  <a:pt x="0" y="21600"/>
                  <a:pt x="888" y="0"/>
                  <a:pt x="888" y="0"/>
                </a:cubicBezTo>
              </a:path>
            </a:pathLst>
          </a:custGeom>
          <a:solidFill>
            <a:srgbClr val="ffcc33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2071800"/>
            <a:ext cx="65160" cy="18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0" y="0"/>
                </a:moveTo>
                <a:cubicBezTo>
                  <a:pt x="600" y="0"/>
                  <a:pt x="21600" y="316"/>
                  <a:pt x="21600" y="316"/>
                </a:cubicBezTo>
                <a:cubicBezTo>
                  <a:pt x="21600" y="316"/>
                  <a:pt x="21000" y="21600"/>
                  <a:pt x="21000" y="21600"/>
                </a:cubicBezTo>
                <a:cubicBezTo>
                  <a:pt x="21000" y="21600"/>
                  <a:pt x="0" y="21600"/>
                  <a:pt x="0" y="21600"/>
                </a:cubicBezTo>
                <a:cubicBezTo>
                  <a:pt x="0" y="21600"/>
                  <a:pt x="600" y="0"/>
                  <a:pt x="600" y="0"/>
                </a:cubicBezTo>
              </a:path>
            </a:pathLst>
          </a:custGeom>
          <a:solidFill>
            <a:srgbClr val="ffcc33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73200" y="2598840"/>
            <a:ext cx="51264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737"/>
                </a:moveTo>
                <a:cubicBezTo>
                  <a:pt x="76" y="12117"/>
                  <a:pt x="0" y="5971"/>
                  <a:pt x="76" y="0"/>
                </a:cubicBezTo>
                <a:cubicBezTo>
                  <a:pt x="4472" y="1229"/>
                  <a:pt x="15802" y="3337"/>
                  <a:pt x="17091" y="3337"/>
                </a:cubicBezTo>
                <a:cubicBezTo>
                  <a:pt x="18303" y="3688"/>
                  <a:pt x="20160" y="4039"/>
                  <a:pt x="21600" y="4390"/>
                </a:cubicBezTo>
                <a:cubicBezTo>
                  <a:pt x="21600" y="8605"/>
                  <a:pt x="21600" y="12117"/>
                  <a:pt x="21600" y="15980"/>
                </a:cubicBezTo>
                <a:cubicBezTo>
                  <a:pt x="21600" y="17737"/>
                  <a:pt x="21600" y="19844"/>
                  <a:pt x="21600" y="21600"/>
                </a:cubicBezTo>
                <a:cubicBezTo>
                  <a:pt x="20160" y="21249"/>
                  <a:pt x="18227" y="21249"/>
                  <a:pt x="17015" y="20722"/>
                </a:cubicBezTo>
                <a:cubicBezTo>
                  <a:pt x="13377" y="20371"/>
                  <a:pt x="9701" y="20020"/>
                  <a:pt x="6632" y="19844"/>
                </a:cubicBezTo>
                <a:cubicBezTo>
                  <a:pt x="5836" y="19844"/>
                  <a:pt x="2425" y="18263"/>
                  <a:pt x="0" y="17737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10000" y="3402000"/>
            <a:ext cx="411120" cy="16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" y="10444"/>
                </a:moveTo>
                <a:cubicBezTo>
                  <a:pt x="189" y="8308"/>
                  <a:pt x="473" y="6290"/>
                  <a:pt x="1087" y="4391"/>
                </a:cubicBezTo>
                <a:cubicBezTo>
                  <a:pt x="1607" y="2611"/>
                  <a:pt x="2221" y="1305"/>
                  <a:pt x="2789" y="831"/>
                </a:cubicBezTo>
                <a:cubicBezTo>
                  <a:pt x="3403" y="237"/>
                  <a:pt x="4112" y="0"/>
                  <a:pt x="4585" y="237"/>
                </a:cubicBezTo>
                <a:cubicBezTo>
                  <a:pt x="5246" y="475"/>
                  <a:pt x="5814" y="1543"/>
                  <a:pt x="6523" y="2136"/>
                </a:cubicBezTo>
                <a:cubicBezTo>
                  <a:pt x="7279" y="2611"/>
                  <a:pt x="8224" y="1899"/>
                  <a:pt x="9075" y="2611"/>
                </a:cubicBezTo>
                <a:cubicBezTo>
                  <a:pt x="9737" y="3442"/>
                  <a:pt x="10162" y="5103"/>
                  <a:pt x="10776" y="5815"/>
                </a:cubicBezTo>
                <a:cubicBezTo>
                  <a:pt x="11580" y="6884"/>
                  <a:pt x="12478" y="6646"/>
                  <a:pt x="13281" y="6646"/>
                </a:cubicBezTo>
                <a:cubicBezTo>
                  <a:pt x="13896" y="6646"/>
                  <a:pt x="14605" y="6290"/>
                  <a:pt x="15219" y="6290"/>
                </a:cubicBezTo>
                <a:cubicBezTo>
                  <a:pt x="16070" y="6053"/>
                  <a:pt x="17204" y="6290"/>
                  <a:pt x="18197" y="6290"/>
                </a:cubicBezTo>
                <a:cubicBezTo>
                  <a:pt x="19284" y="6646"/>
                  <a:pt x="21600" y="7002"/>
                  <a:pt x="21600" y="7002"/>
                </a:cubicBezTo>
                <a:cubicBezTo>
                  <a:pt x="21600" y="7002"/>
                  <a:pt x="20371" y="11749"/>
                  <a:pt x="19615" y="12699"/>
                </a:cubicBezTo>
                <a:cubicBezTo>
                  <a:pt x="18575" y="14004"/>
                  <a:pt x="17582" y="13530"/>
                  <a:pt x="16779" y="14242"/>
                </a:cubicBezTo>
                <a:cubicBezTo>
                  <a:pt x="16070" y="14835"/>
                  <a:pt x="15597" y="16615"/>
                  <a:pt x="14888" y="17446"/>
                </a:cubicBezTo>
                <a:cubicBezTo>
                  <a:pt x="13943" y="18158"/>
                  <a:pt x="12856" y="17209"/>
                  <a:pt x="11580" y="17802"/>
                </a:cubicBezTo>
                <a:cubicBezTo>
                  <a:pt x="10871" y="18396"/>
                  <a:pt x="10162" y="21125"/>
                  <a:pt x="9500" y="21363"/>
                </a:cubicBezTo>
                <a:cubicBezTo>
                  <a:pt x="8791" y="21600"/>
                  <a:pt x="8082" y="21125"/>
                  <a:pt x="7279" y="20176"/>
                </a:cubicBezTo>
                <a:cubicBezTo>
                  <a:pt x="6806" y="19938"/>
                  <a:pt x="6523" y="19226"/>
                  <a:pt x="6097" y="19226"/>
                </a:cubicBezTo>
                <a:cubicBezTo>
                  <a:pt x="5483" y="18989"/>
                  <a:pt x="5010" y="19226"/>
                  <a:pt x="4396" y="19464"/>
                </a:cubicBezTo>
                <a:cubicBezTo>
                  <a:pt x="3970" y="19582"/>
                  <a:pt x="2080" y="20769"/>
                  <a:pt x="1087" y="18158"/>
                </a:cubicBezTo>
                <a:cubicBezTo>
                  <a:pt x="284" y="16141"/>
                  <a:pt x="0" y="13174"/>
                  <a:pt x="95" y="10444"/>
                </a:cubicBezTo>
              </a:path>
            </a:pathLst>
          </a:custGeom>
          <a:solidFill>
            <a:srgbClr val="cccc7a"/>
          </a:solidFill>
          <a:ln w="720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3640" y="2019240"/>
            <a:ext cx="493560" cy="43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0" y="6639"/>
                </a:moveTo>
                <a:cubicBezTo>
                  <a:pt x="1102" y="6949"/>
                  <a:pt x="826" y="8144"/>
                  <a:pt x="826" y="8941"/>
                </a:cubicBezTo>
                <a:cubicBezTo>
                  <a:pt x="826" y="9826"/>
                  <a:pt x="1652" y="11287"/>
                  <a:pt x="1652" y="11287"/>
                </a:cubicBezTo>
                <a:cubicBezTo>
                  <a:pt x="1652" y="11287"/>
                  <a:pt x="984" y="12615"/>
                  <a:pt x="748" y="13323"/>
                </a:cubicBezTo>
                <a:cubicBezTo>
                  <a:pt x="511" y="14120"/>
                  <a:pt x="0" y="15049"/>
                  <a:pt x="236" y="15890"/>
                </a:cubicBezTo>
                <a:cubicBezTo>
                  <a:pt x="511" y="16864"/>
                  <a:pt x="1416" y="17484"/>
                  <a:pt x="2361" y="17661"/>
                </a:cubicBezTo>
                <a:cubicBezTo>
                  <a:pt x="3344" y="17882"/>
                  <a:pt x="5351" y="17661"/>
                  <a:pt x="5351" y="17661"/>
                </a:cubicBezTo>
                <a:cubicBezTo>
                  <a:pt x="5351" y="17661"/>
                  <a:pt x="7672" y="20449"/>
                  <a:pt x="9167" y="20936"/>
                </a:cubicBezTo>
                <a:cubicBezTo>
                  <a:pt x="10780" y="21600"/>
                  <a:pt x="12590" y="21246"/>
                  <a:pt x="13613" y="19830"/>
                </a:cubicBezTo>
                <a:cubicBezTo>
                  <a:pt x="14125" y="19166"/>
                  <a:pt x="14007" y="18148"/>
                  <a:pt x="14675" y="17484"/>
                </a:cubicBezTo>
                <a:cubicBezTo>
                  <a:pt x="15698" y="16466"/>
                  <a:pt x="17430" y="16864"/>
                  <a:pt x="18846" y="16244"/>
                </a:cubicBezTo>
                <a:cubicBezTo>
                  <a:pt x="19751" y="15890"/>
                  <a:pt x="20538" y="15138"/>
                  <a:pt x="20931" y="14297"/>
                </a:cubicBezTo>
                <a:cubicBezTo>
                  <a:pt x="21600" y="12792"/>
                  <a:pt x="21600" y="10977"/>
                  <a:pt x="20616" y="10180"/>
                </a:cubicBezTo>
                <a:cubicBezTo>
                  <a:pt x="20105" y="9693"/>
                  <a:pt x="19043" y="9472"/>
                  <a:pt x="19043" y="9472"/>
                </a:cubicBezTo>
                <a:cubicBezTo>
                  <a:pt x="19043" y="9472"/>
                  <a:pt x="19436" y="8587"/>
                  <a:pt x="19711" y="7923"/>
                </a:cubicBezTo>
                <a:cubicBezTo>
                  <a:pt x="20026" y="7038"/>
                  <a:pt x="19751" y="6020"/>
                  <a:pt x="19554" y="5444"/>
                </a:cubicBezTo>
                <a:cubicBezTo>
                  <a:pt x="19121" y="4515"/>
                  <a:pt x="18177" y="3851"/>
                  <a:pt x="17626" y="3762"/>
                </a:cubicBezTo>
                <a:cubicBezTo>
                  <a:pt x="16525" y="3585"/>
                  <a:pt x="14282" y="3984"/>
                  <a:pt x="14282" y="3984"/>
                </a:cubicBezTo>
                <a:cubicBezTo>
                  <a:pt x="14282" y="3984"/>
                  <a:pt x="13102" y="1505"/>
                  <a:pt x="12157" y="841"/>
                </a:cubicBezTo>
                <a:cubicBezTo>
                  <a:pt x="11016" y="0"/>
                  <a:pt x="9443" y="266"/>
                  <a:pt x="8498" y="1416"/>
                </a:cubicBezTo>
                <a:cubicBezTo>
                  <a:pt x="7515" y="2700"/>
                  <a:pt x="7790" y="4780"/>
                  <a:pt x="6610" y="6108"/>
                </a:cubicBezTo>
                <a:cubicBezTo>
                  <a:pt x="5941" y="6861"/>
                  <a:pt x="4682" y="6551"/>
                  <a:pt x="3580" y="6418"/>
                </a:cubicBezTo>
                <a:cubicBezTo>
                  <a:pt x="2990" y="6285"/>
                  <a:pt x="2361" y="6285"/>
                  <a:pt x="1810" y="6639"/>
                </a:cubicBezTo>
              </a:path>
            </a:pathLst>
          </a:custGeom>
          <a:solidFill>
            <a:srgbClr val="ffcc9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70240" y="2274840"/>
            <a:ext cx="38088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6" y="7965"/>
                </a:moveTo>
                <a:cubicBezTo>
                  <a:pt x="2969" y="7290"/>
                  <a:pt x="3788" y="6750"/>
                  <a:pt x="4555" y="5805"/>
                </a:cubicBezTo>
                <a:cubicBezTo>
                  <a:pt x="5323" y="4995"/>
                  <a:pt x="5323" y="3645"/>
                  <a:pt x="5886" y="3308"/>
                </a:cubicBezTo>
                <a:cubicBezTo>
                  <a:pt x="7064" y="2295"/>
                  <a:pt x="10135" y="4253"/>
                  <a:pt x="10135" y="4253"/>
                </a:cubicBezTo>
                <a:cubicBezTo>
                  <a:pt x="10135" y="4253"/>
                  <a:pt x="11977" y="1350"/>
                  <a:pt x="13103" y="675"/>
                </a:cubicBezTo>
                <a:cubicBezTo>
                  <a:pt x="14485" y="0"/>
                  <a:pt x="16123" y="945"/>
                  <a:pt x="17505" y="2295"/>
                </a:cubicBezTo>
                <a:cubicBezTo>
                  <a:pt x="18529" y="3105"/>
                  <a:pt x="19450" y="4455"/>
                  <a:pt x="20116" y="5805"/>
                </a:cubicBezTo>
                <a:cubicBezTo>
                  <a:pt x="20986" y="7830"/>
                  <a:pt x="21600" y="10125"/>
                  <a:pt x="21395" y="12623"/>
                </a:cubicBezTo>
                <a:cubicBezTo>
                  <a:pt x="21088" y="14985"/>
                  <a:pt x="19911" y="16740"/>
                  <a:pt x="18375" y="18023"/>
                </a:cubicBezTo>
                <a:cubicBezTo>
                  <a:pt x="17198" y="19035"/>
                  <a:pt x="15663" y="18765"/>
                  <a:pt x="14229" y="18630"/>
                </a:cubicBezTo>
                <a:cubicBezTo>
                  <a:pt x="13359" y="18495"/>
                  <a:pt x="11517" y="18023"/>
                  <a:pt x="11517" y="18023"/>
                </a:cubicBezTo>
                <a:cubicBezTo>
                  <a:pt x="11517" y="18023"/>
                  <a:pt x="10595" y="20183"/>
                  <a:pt x="9674" y="20790"/>
                </a:cubicBezTo>
                <a:cubicBezTo>
                  <a:pt x="8957" y="21330"/>
                  <a:pt x="7934" y="21600"/>
                  <a:pt x="7166" y="20993"/>
                </a:cubicBezTo>
                <a:cubicBezTo>
                  <a:pt x="6193" y="20318"/>
                  <a:pt x="5579" y="18630"/>
                  <a:pt x="4504" y="17820"/>
                </a:cubicBezTo>
                <a:cubicBezTo>
                  <a:pt x="3378" y="16740"/>
                  <a:pt x="1894" y="16740"/>
                  <a:pt x="973" y="15593"/>
                </a:cubicBezTo>
                <a:cubicBezTo>
                  <a:pt x="102" y="14580"/>
                  <a:pt x="0" y="12623"/>
                  <a:pt x="358" y="10868"/>
                </a:cubicBezTo>
                <a:cubicBezTo>
                  <a:pt x="563" y="9585"/>
                  <a:pt x="1331" y="8438"/>
                  <a:pt x="1996" y="7965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08240" y="2211480"/>
            <a:ext cx="360360" cy="2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850" y="21246"/>
                </a:moveTo>
                <a:cubicBezTo>
                  <a:pt x="10504" y="21600"/>
                  <a:pt x="9373" y="19918"/>
                  <a:pt x="8188" y="18148"/>
                </a:cubicBezTo>
                <a:cubicBezTo>
                  <a:pt x="7487" y="17085"/>
                  <a:pt x="6033" y="15669"/>
                  <a:pt x="6033" y="15669"/>
                </a:cubicBezTo>
                <a:cubicBezTo>
                  <a:pt x="6033" y="15669"/>
                  <a:pt x="3932" y="16289"/>
                  <a:pt x="3070" y="16111"/>
                </a:cubicBezTo>
                <a:cubicBezTo>
                  <a:pt x="1778" y="15757"/>
                  <a:pt x="700" y="13810"/>
                  <a:pt x="323" y="11597"/>
                </a:cubicBezTo>
                <a:cubicBezTo>
                  <a:pt x="0" y="9030"/>
                  <a:pt x="323" y="6374"/>
                  <a:pt x="1508" y="4869"/>
                </a:cubicBezTo>
                <a:cubicBezTo>
                  <a:pt x="2586" y="3364"/>
                  <a:pt x="3932" y="3098"/>
                  <a:pt x="5009" y="3895"/>
                </a:cubicBezTo>
                <a:cubicBezTo>
                  <a:pt x="6518" y="4869"/>
                  <a:pt x="7649" y="6905"/>
                  <a:pt x="8457" y="6197"/>
                </a:cubicBezTo>
                <a:cubicBezTo>
                  <a:pt x="9480" y="5223"/>
                  <a:pt x="8295" y="1682"/>
                  <a:pt x="9480" y="974"/>
                </a:cubicBezTo>
                <a:cubicBezTo>
                  <a:pt x="10935" y="0"/>
                  <a:pt x="13035" y="5400"/>
                  <a:pt x="13035" y="5400"/>
                </a:cubicBezTo>
                <a:cubicBezTo>
                  <a:pt x="13035" y="5400"/>
                  <a:pt x="14705" y="2744"/>
                  <a:pt x="15621" y="2921"/>
                </a:cubicBezTo>
                <a:cubicBezTo>
                  <a:pt x="17722" y="3364"/>
                  <a:pt x="19284" y="6374"/>
                  <a:pt x="20415" y="9472"/>
                </a:cubicBezTo>
                <a:cubicBezTo>
                  <a:pt x="21169" y="11420"/>
                  <a:pt x="21600" y="13633"/>
                  <a:pt x="21438" y="15934"/>
                </a:cubicBezTo>
                <a:cubicBezTo>
                  <a:pt x="21277" y="18413"/>
                  <a:pt x="20415" y="20626"/>
                  <a:pt x="19284" y="20803"/>
                </a:cubicBezTo>
                <a:cubicBezTo>
                  <a:pt x="17722" y="21246"/>
                  <a:pt x="16429" y="17970"/>
                  <a:pt x="14705" y="18413"/>
                </a:cubicBezTo>
                <a:cubicBezTo>
                  <a:pt x="13574" y="18590"/>
                  <a:pt x="13035" y="20803"/>
                  <a:pt x="11850" y="21246"/>
                </a:cubicBezTo>
              </a:path>
            </a:pathLst>
          </a:custGeom>
          <a:solidFill>
            <a:srgbClr val="ffcc9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17680" y="1420920"/>
            <a:ext cx="1173240" cy="57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" y="13764"/>
                </a:moveTo>
                <a:cubicBezTo>
                  <a:pt x="66" y="15338"/>
                  <a:pt x="530" y="16912"/>
                  <a:pt x="1160" y="17983"/>
                </a:cubicBezTo>
                <a:cubicBezTo>
                  <a:pt x="1723" y="18820"/>
                  <a:pt x="2452" y="19356"/>
                  <a:pt x="3164" y="19490"/>
                </a:cubicBezTo>
                <a:cubicBezTo>
                  <a:pt x="3793" y="19624"/>
                  <a:pt x="4356" y="18553"/>
                  <a:pt x="4986" y="18620"/>
                </a:cubicBezTo>
                <a:cubicBezTo>
                  <a:pt x="5913" y="18687"/>
                  <a:pt x="6642" y="20361"/>
                  <a:pt x="7587" y="21098"/>
                </a:cubicBezTo>
                <a:cubicBezTo>
                  <a:pt x="8348" y="21600"/>
                  <a:pt x="9160" y="21265"/>
                  <a:pt x="9541" y="20093"/>
                </a:cubicBezTo>
                <a:cubicBezTo>
                  <a:pt x="9823" y="19356"/>
                  <a:pt x="9607" y="18117"/>
                  <a:pt x="10038" y="17682"/>
                </a:cubicBezTo>
                <a:cubicBezTo>
                  <a:pt x="10386" y="17313"/>
                  <a:pt x="10750" y="18385"/>
                  <a:pt x="11164" y="18251"/>
                </a:cubicBezTo>
                <a:cubicBezTo>
                  <a:pt x="11545" y="18117"/>
                  <a:pt x="12109" y="17113"/>
                  <a:pt x="12109" y="17113"/>
                </a:cubicBezTo>
                <a:cubicBezTo>
                  <a:pt x="12109" y="17113"/>
                  <a:pt x="12771" y="18184"/>
                  <a:pt x="13169" y="18251"/>
                </a:cubicBezTo>
                <a:cubicBezTo>
                  <a:pt x="13616" y="18318"/>
                  <a:pt x="14428" y="17380"/>
                  <a:pt x="14428" y="17380"/>
                </a:cubicBezTo>
                <a:cubicBezTo>
                  <a:pt x="14428" y="17380"/>
                  <a:pt x="16316" y="18753"/>
                  <a:pt x="17310" y="18753"/>
                </a:cubicBezTo>
                <a:cubicBezTo>
                  <a:pt x="17989" y="18753"/>
                  <a:pt x="18801" y="18452"/>
                  <a:pt x="19215" y="17380"/>
                </a:cubicBezTo>
                <a:cubicBezTo>
                  <a:pt x="19596" y="16409"/>
                  <a:pt x="19629" y="15137"/>
                  <a:pt x="19811" y="14099"/>
                </a:cubicBezTo>
                <a:cubicBezTo>
                  <a:pt x="19960" y="13261"/>
                  <a:pt x="20159" y="12592"/>
                  <a:pt x="20374" y="11989"/>
                </a:cubicBezTo>
                <a:cubicBezTo>
                  <a:pt x="20722" y="11085"/>
                  <a:pt x="21600" y="9444"/>
                  <a:pt x="21600" y="9444"/>
                </a:cubicBezTo>
                <a:cubicBezTo>
                  <a:pt x="21600" y="9444"/>
                  <a:pt x="20308" y="4923"/>
                  <a:pt x="18966" y="4554"/>
                </a:cubicBezTo>
                <a:cubicBezTo>
                  <a:pt x="18155" y="4353"/>
                  <a:pt x="17492" y="5860"/>
                  <a:pt x="16482" y="5191"/>
                </a:cubicBezTo>
                <a:cubicBezTo>
                  <a:pt x="15985" y="4923"/>
                  <a:pt x="15836" y="3650"/>
                  <a:pt x="15521" y="2880"/>
                </a:cubicBezTo>
                <a:cubicBezTo>
                  <a:pt x="15206" y="2143"/>
                  <a:pt x="15040" y="904"/>
                  <a:pt x="14560" y="904"/>
                </a:cubicBezTo>
                <a:cubicBezTo>
                  <a:pt x="13732" y="804"/>
                  <a:pt x="13020" y="2813"/>
                  <a:pt x="12191" y="2713"/>
                </a:cubicBezTo>
                <a:cubicBezTo>
                  <a:pt x="11694" y="2646"/>
                  <a:pt x="11446" y="1574"/>
                  <a:pt x="10999" y="971"/>
                </a:cubicBezTo>
                <a:cubicBezTo>
                  <a:pt x="10469" y="234"/>
                  <a:pt x="9723" y="100"/>
                  <a:pt x="8994" y="0"/>
                </a:cubicBezTo>
                <a:cubicBezTo>
                  <a:pt x="8315" y="0"/>
                  <a:pt x="7520" y="100"/>
                  <a:pt x="7073" y="971"/>
                </a:cubicBezTo>
                <a:cubicBezTo>
                  <a:pt x="6493" y="2009"/>
                  <a:pt x="6079" y="5191"/>
                  <a:pt x="6079" y="5191"/>
                </a:cubicBezTo>
                <a:cubicBezTo>
                  <a:pt x="6079" y="5191"/>
                  <a:pt x="4638" y="5559"/>
                  <a:pt x="4290" y="6631"/>
                </a:cubicBezTo>
                <a:cubicBezTo>
                  <a:pt x="4009" y="7501"/>
                  <a:pt x="4257" y="8841"/>
                  <a:pt x="3909" y="9444"/>
                </a:cubicBezTo>
                <a:cubicBezTo>
                  <a:pt x="3545" y="10147"/>
                  <a:pt x="2882" y="9444"/>
                  <a:pt x="2253" y="9444"/>
                </a:cubicBezTo>
                <a:cubicBezTo>
                  <a:pt x="1690" y="9444"/>
                  <a:pt x="1193" y="10013"/>
                  <a:pt x="779" y="10716"/>
                </a:cubicBezTo>
                <a:cubicBezTo>
                  <a:pt x="348" y="11553"/>
                  <a:pt x="0" y="12659"/>
                  <a:pt x="33" y="13764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94120" y="1201680"/>
            <a:ext cx="1062000" cy="58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8" y="10420"/>
                </a:moveTo>
                <a:cubicBezTo>
                  <a:pt x="311" y="8666"/>
                  <a:pt x="971" y="6946"/>
                  <a:pt x="1905" y="6549"/>
                </a:cubicBezTo>
                <a:cubicBezTo>
                  <a:pt x="2730" y="6186"/>
                  <a:pt x="4324" y="6549"/>
                  <a:pt x="4324" y="6549"/>
                </a:cubicBezTo>
                <a:cubicBezTo>
                  <a:pt x="4324" y="6549"/>
                  <a:pt x="5002" y="4995"/>
                  <a:pt x="5313" y="4234"/>
                </a:cubicBezTo>
                <a:cubicBezTo>
                  <a:pt x="5734" y="3242"/>
                  <a:pt x="6247" y="2282"/>
                  <a:pt x="6852" y="1852"/>
                </a:cubicBezTo>
                <a:cubicBezTo>
                  <a:pt x="7438" y="1422"/>
                  <a:pt x="8116" y="1555"/>
                  <a:pt x="8739" y="1852"/>
                </a:cubicBezTo>
                <a:cubicBezTo>
                  <a:pt x="9014" y="1985"/>
                  <a:pt x="9124" y="3043"/>
                  <a:pt x="9380" y="2878"/>
                </a:cubicBezTo>
                <a:cubicBezTo>
                  <a:pt x="9875" y="2679"/>
                  <a:pt x="10021" y="1489"/>
                  <a:pt x="10443" y="1058"/>
                </a:cubicBezTo>
                <a:cubicBezTo>
                  <a:pt x="10864" y="562"/>
                  <a:pt x="11377" y="0"/>
                  <a:pt x="11835" y="232"/>
                </a:cubicBezTo>
                <a:cubicBezTo>
                  <a:pt x="12586" y="496"/>
                  <a:pt x="13173" y="1489"/>
                  <a:pt x="13722" y="2382"/>
                </a:cubicBezTo>
                <a:cubicBezTo>
                  <a:pt x="14217" y="3242"/>
                  <a:pt x="14400" y="4796"/>
                  <a:pt x="15023" y="5359"/>
                </a:cubicBezTo>
                <a:cubicBezTo>
                  <a:pt x="15737" y="5987"/>
                  <a:pt x="16653" y="6186"/>
                  <a:pt x="17551" y="6351"/>
                </a:cubicBezTo>
                <a:cubicBezTo>
                  <a:pt x="18192" y="6417"/>
                  <a:pt x="18834" y="6781"/>
                  <a:pt x="19456" y="6946"/>
                </a:cubicBezTo>
                <a:cubicBezTo>
                  <a:pt x="20189" y="7178"/>
                  <a:pt x="21087" y="8236"/>
                  <a:pt x="21398" y="9791"/>
                </a:cubicBezTo>
                <a:cubicBezTo>
                  <a:pt x="21600" y="10850"/>
                  <a:pt x="21508" y="12404"/>
                  <a:pt x="21179" y="13628"/>
                </a:cubicBezTo>
                <a:cubicBezTo>
                  <a:pt x="21087" y="13926"/>
                  <a:pt x="20721" y="15051"/>
                  <a:pt x="20171" y="15712"/>
                </a:cubicBezTo>
                <a:cubicBezTo>
                  <a:pt x="19695" y="16341"/>
                  <a:pt x="19273" y="17002"/>
                  <a:pt x="18779" y="17168"/>
                </a:cubicBezTo>
                <a:cubicBezTo>
                  <a:pt x="18284" y="17333"/>
                  <a:pt x="17789" y="17267"/>
                  <a:pt x="17331" y="17002"/>
                </a:cubicBezTo>
                <a:cubicBezTo>
                  <a:pt x="16782" y="16738"/>
                  <a:pt x="15921" y="16605"/>
                  <a:pt x="15921" y="16605"/>
                </a:cubicBezTo>
                <a:cubicBezTo>
                  <a:pt x="15921" y="16605"/>
                  <a:pt x="15151" y="19781"/>
                  <a:pt x="14363" y="20508"/>
                </a:cubicBezTo>
                <a:cubicBezTo>
                  <a:pt x="13631" y="21170"/>
                  <a:pt x="12696" y="20905"/>
                  <a:pt x="12000" y="19946"/>
                </a:cubicBezTo>
                <a:cubicBezTo>
                  <a:pt x="11340" y="18954"/>
                  <a:pt x="10205" y="17267"/>
                  <a:pt x="10205" y="17267"/>
                </a:cubicBezTo>
                <a:cubicBezTo>
                  <a:pt x="10205" y="17267"/>
                  <a:pt x="9472" y="19417"/>
                  <a:pt x="8922" y="20045"/>
                </a:cubicBezTo>
                <a:cubicBezTo>
                  <a:pt x="8482" y="20707"/>
                  <a:pt x="7915" y="21170"/>
                  <a:pt x="7328" y="21600"/>
                </a:cubicBezTo>
                <a:cubicBezTo>
                  <a:pt x="6669" y="21534"/>
                  <a:pt x="6009" y="21534"/>
                  <a:pt x="5460" y="21038"/>
                </a:cubicBezTo>
                <a:cubicBezTo>
                  <a:pt x="5002" y="20608"/>
                  <a:pt x="4544" y="19781"/>
                  <a:pt x="4635" y="18987"/>
                </a:cubicBezTo>
                <a:cubicBezTo>
                  <a:pt x="4763" y="18160"/>
                  <a:pt x="5148" y="17531"/>
                  <a:pt x="5148" y="17531"/>
                </a:cubicBezTo>
                <a:cubicBezTo>
                  <a:pt x="5148" y="17531"/>
                  <a:pt x="2986" y="16804"/>
                  <a:pt x="2034" y="15778"/>
                </a:cubicBezTo>
                <a:cubicBezTo>
                  <a:pt x="1484" y="15183"/>
                  <a:pt x="971" y="14191"/>
                  <a:pt x="623" y="13297"/>
                </a:cubicBezTo>
                <a:cubicBezTo>
                  <a:pt x="311" y="12504"/>
                  <a:pt x="0" y="11478"/>
                  <a:pt x="128" y="10420"/>
                </a:cubicBezTo>
              </a:path>
            </a:pathLst>
          </a:custGeom>
          <a:solidFill>
            <a:srgbClr val="ffcc99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48040" y="2060640"/>
            <a:ext cx="35568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03" y="20783"/>
                </a:moveTo>
                <a:cubicBezTo>
                  <a:pt x="2570" y="19785"/>
                  <a:pt x="984" y="17516"/>
                  <a:pt x="492" y="14430"/>
                </a:cubicBezTo>
                <a:cubicBezTo>
                  <a:pt x="0" y="11345"/>
                  <a:pt x="875" y="8259"/>
                  <a:pt x="1586" y="6534"/>
                </a:cubicBezTo>
                <a:cubicBezTo>
                  <a:pt x="2133" y="4992"/>
                  <a:pt x="3609" y="3812"/>
                  <a:pt x="4703" y="3812"/>
                </a:cubicBezTo>
                <a:cubicBezTo>
                  <a:pt x="6179" y="3812"/>
                  <a:pt x="7109" y="5355"/>
                  <a:pt x="8859" y="5355"/>
                </a:cubicBezTo>
                <a:cubicBezTo>
                  <a:pt x="9570" y="5355"/>
                  <a:pt x="10116" y="4084"/>
                  <a:pt x="10827" y="3267"/>
                </a:cubicBezTo>
                <a:cubicBezTo>
                  <a:pt x="11648" y="2360"/>
                  <a:pt x="12304" y="0"/>
                  <a:pt x="13288" y="363"/>
                </a:cubicBezTo>
                <a:cubicBezTo>
                  <a:pt x="14546" y="908"/>
                  <a:pt x="14983" y="3630"/>
                  <a:pt x="15749" y="5355"/>
                </a:cubicBezTo>
                <a:cubicBezTo>
                  <a:pt x="16569" y="7261"/>
                  <a:pt x="17663" y="11708"/>
                  <a:pt x="17663" y="11708"/>
                </a:cubicBezTo>
                <a:cubicBezTo>
                  <a:pt x="17663" y="11708"/>
                  <a:pt x="18756" y="11345"/>
                  <a:pt x="19522" y="11345"/>
                </a:cubicBezTo>
                <a:cubicBezTo>
                  <a:pt x="20780" y="11526"/>
                  <a:pt x="21600" y="13704"/>
                  <a:pt x="21545" y="15338"/>
                </a:cubicBezTo>
                <a:cubicBezTo>
                  <a:pt x="21436" y="17334"/>
                  <a:pt x="20233" y="19240"/>
                  <a:pt x="19085" y="19422"/>
                </a:cubicBezTo>
                <a:cubicBezTo>
                  <a:pt x="18046" y="19603"/>
                  <a:pt x="17335" y="16699"/>
                  <a:pt x="16186" y="16790"/>
                </a:cubicBezTo>
                <a:cubicBezTo>
                  <a:pt x="14983" y="16971"/>
                  <a:pt x="13288" y="20239"/>
                  <a:pt x="13288" y="20239"/>
                </a:cubicBezTo>
                <a:cubicBezTo>
                  <a:pt x="13288" y="20239"/>
                  <a:pt x="9570" y="17153"/>
                  <a:pt x="9570" y="17153"/>
                </a:cubicBezTo>
                <a:cubicBezTo>
                  <a:pt x="9570" y="17153"/>
                  <a:pt x="6453" y="21600"/>
                  <a:pt x="4703" y="20783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0720" y="1700280"/>
            <a:ext cx="716040" cy="56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45"/>
                </a:moveTo>
                <a:cubicBezTo>
                  <a:pt x="21464" y="345"/>
                  <a:pt x="21355" y="345"/>
                  <a:pt x="21220" y="345"/>
                </a:cubicBezTo>
                <a:cubicBezTo>
                  <a:pt x="20812" y="345"/>
                  <a:pt x="20731" y="1208"/>
                  <a:pt x="20269" y="1277"/>
                </a:cubicBezTo>
                <a:cubicBezTo>
                  <a:pt x="19128" y="1587"/>
                  <a:pt x="18258" y="0"/>
                  <a:pt x="17144" y="173"/>
                </a:cubicBezTo>
                <a:cubicBezTo>
                  <a:pt x="16112" y="414"/>
                  <a:pt x="15650" y="1967"/>
                  <a:pt x="15188" y="3485"/>
                </a:cubicBezTo>
                <a:cubicBezTo>
                  <a:pt x="14971" y="4244"/>
                  <a:pt x="14780" y="5279"/>
                  <a:pt x="14183" y="5417"/>
                </a:cubicBezTo>
                <a:cubicBezTo>
                  <a:pt x="13558" y="5555"/>
                  <a:pt x="12987" y="4451"/>
                  <a:pt x="12417" y="3899"/>
                </a:cubicBezTo>
                <a:cubicBezTo>
                  <a:pt x="11955" y="3347"/>
                  <a:pt x="11438" y="2967"/>
                  <a:pt x="10895" y="3140"/>
                </a:cubicBezTo>
                <a:cubicBezTo>
                  <a:pt x="10406" y="3278"/>
                  <a:pt x="9808" y="3899"/>
                  <a:pt x="9537" y="4520"/>
                </a:cubicBezTo>
                <a:cubicBezTo>
                  <a:pt x="9292" y="5038"/>
                  <a:pt x="9020" y="6418"/>
                  <a:pt x="9020" y="6418"/>
                </a:cubicBezTo>
                <a:cubicBezTo>
                  <a:pt x="9020" y="6418"/>
                  <a:pt x="8205" y="5176"/>
                  <a:pt x="7118" y="4762"/>
                </a:cubicBezTo>
                <a:cubicBezTo>
                  <a:pt x="6140" y="4313"/>
                  <a:pt x="4918" y="4520"/>
                  <a:pt x="4728" y="4658"/>
                </a:cubicBezTo>
                <a:cubicBezTo>
                  <a:pt x="4238" y="5038"/>
                  <a:pt x="3940" y="5555"/>
                  <a:pt x="3777" y="6211"/>
                </a:cubicBezTo>
                <a:cubicBezTo>
                  <a:pt x="3532" y="7073"/>
                  <a:pt x="3478" y="7971"/>
                  <a:pt x="3016" y="8557"/>
                </a:cubicBezTo>
                <a:cubicBezTo>
                  <a:pt x="2554" y="9178"/>
                  <a:pt x="1766" y="9109"/>
                  <a:pt x="1087" y="9592"/>
                </a:cubicBezTo>
                <a:cubicBezTo>
                  <a:pt x="516" y="10041"/>
                  <a:pt x="109" y="11180"/>
                  <a:pt x="54" y="11973"/>
                </a:cubicBezTo>
                <a:cubicBezTo>
                  <a:pt x="0" y="12663"/>
                  <a:pt x="163" y="13319"/>
                  <a:pt x="625" y="13767"/>
                </a:cubicBezTo>
                <a:cubicBezTo>
                  <a:pt x="1358" y="14388"/>
                  <a:pt x="2554" y="13698"/>
                  <a:pt x="3179" y="14527"/>
                </a:cubicBezTo>
                <a:cubicBezTo>
                  <a:pt x="3423" y="14803"/>
                  <a:pt x="3532" y="15493"/>
                  <a:pt x="3532" y="15493"/>
                </a:cubicBezTo>
                <a:cubicBezTo>
                  <a:pt x="3532" y="15493"/>
                  <a:pt x="5325" y="15872"/>
                  <a:pt x="5597" y="16010"/>
                </a:cubicBezTo>
                <a:cubicBezTo>
                  <a:pt x="6711" y="16700"/>
                  <a:pt x="7336" y="18288"/>
                  <a:pt x="8151" y="19254"/>
                </a:cubicBezTo>
                <a:cubicBezTo>
                  <a:pt x="8613" y="19875"/>
                  <a:pt x="9292" y="19944"/>
                  <a:pt x="10080" y="20151"/>
                </a:cubicBezTo>
                <a:cubicBezTo>
                  <a:pt x="10814" y="20289"/>
                  <a:pt x="12525" y="19944"/>
                  <a:pt x="12525" y="19944"/>
                </a:cubicBezTo>
                <a:cubicBezTo>
                  <a:pt x="12525" y="19944"/>
                  <a:pt x="14264" y="21151"/>
                  <a:pt x="15188" y="21289"/>
                </a:cubicBezTo>
                <a:cubicBezTo>
                  <a:pt x="16329" y="21531"/>
                  <a:pt x="17606" y="21600"/>
                  <a:pt x="18720" y="21013"/>
                </a:cubicBezTo>
                <a:cubicBezTo>
                  <a:pt x="19807" y="20427"/>
                  <a:pt x="20486" y="19047"/>
                  <a:pt x="21355" y="17942"/>
                </a:cubicBezTo>
                <a:cubicBezTo>
                  <a:pt x="21410" y="17873"/>
                  <a:pt x="21464" y="17804"/>
                  <a:pt x="21546" y="17701"/>
                </a:cubicBezTo>
                <a:cubicBezTo>
                  <a:pt x="21546" y="17701"/>
                  <a:pt x="21600" y="345"/>
                  <a:pt x="21600" y="345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0720" y="1055520"/>
            <a:ext cx="5396040" cy="711540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38440" y="3432240"/>
            <a:ext cx="21096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320"/>
                </a:moveTo>
                <a:cubicBezTo>
                  <a:pt x="923" y="8280"/>
                  <a:pt x="2123" y="3600"/>
                  <a:pt x="3508" y="2520"/>
                </a:cubicBezTo>
                <a:cubicBezTo>
                  <a:pt x="5631" y="0"/>
                  <a:pt x="8215" y="1440"/>
                  <a:pt x="9785" y="3960"/>
                </a:cubicBezTo>
                <a:cubicBezTo>
                  <a:pt x="12646" y="9000"/>
                  <a:pt x="14769" y="18000"/>
                  <a:pt x="16892" y="20520"/>
                </a:cubicBezTo>
                <a:cubicBezTo>
                  <a:pt x="18277" y="21600"/>
                  <a:pt x="19846" y="20880"/>
                  <a:pt x="21415" y="20520"/>
                </a:cubicBezTo>
                <a:cubicBezTo>
                  <a:pt x="21415" y="20520"/>
                  <a:pt x="21600" y="20520"/>
                  <a:pt x="21600" y="20520"/>
                </a:cubicBezTo>
              </a:path>
            </a:pathLst>
          </a:custGeom>
          <a:solidFill>
            <a:srgbClr val="cccc7a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39880" y="3467160"/>
            <a:ext cx="279360" cy="5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274"/>
                </a:moveTo>
                <a:cubicBezTo>
                  <a:pt x="2090" y="1137"/>
                  <a:pt x="4320" y="0"/>
                  <a:pt x="6062" y="3789"/>
                </a:cubicBezTo>
                <a:cubicBezTo>
                  <a:pt x="7386" y="6821"/>
                  <a:pt x="8501" y="14400"/>
                  <a:pt x="9755" y="17053"/>
                </a:cubicBezTo>
                <a:cubicBezTo>
                  <a:pt x="11845" y="20842"/>
                  <a:pt x="14563" y="21600"/>
                  <a:pt x="17071" y="18189"/>
                </a:cubicBezTo>
                <a:cubicBezTo>
                  <a:pt x="18674" y="17053"/>
                  <a:pt x="20206" y="11368"/>
                  <a:pt x="21600" y="6442"/>
                </a:cubicBezTo>
              </a:path>
            </a:pathLst>
          </a:custGeom>
          <a:solidFill>
            <a:srgbClr val="cccc7a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1680" y="3481560"/>
            <a:ext cx="1270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00"/>
                </a:moveTo>
                <a:cubicBezTo>
                  <a:pt x="1065" y="7600"/>
                  <a:pt x="1825" y="1200"/>
                  <a:pt x="3651" y="800"/>
                </a:cubicBezTo>
                <a:cubicBezTo>
                  <a:pt x="5932" y="0"/>
                  <a:pt x="8214" y="6000"/>
                  <a:pt x="10192" y="9200"/>
                </a:cubicBezTo>
                <a:cubicBezTo>
                  <a:pt x="12777" y="14000"/>
                  <a:pt x="15972" y="20000"/>
                  <a:pt x="19623" y="21600"/>
                </a:cubicBezTo>
                <a:cubicBezTo>
                  <a:pt x="20383" y="21600"/>
                  <a:pt x="20992" y="21600"/>
                  <a:pt x="21600" y="20000"/>
                </a:cubicBezTo>
              </a:path>
            </a:pathLst>
          </a:custGeom>
          <a:solidFill>
            <a:srgbClr val="cccc7a"/>
          </a:solidFill>
          <a:ln w="3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133880"/>
            <a:ext cx="235080" cy="9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17" y="20225"/>
                </a:moveTo>
                <a:cubicBezTo>
                  <a:pt x="6621" y="19833"/>
                  <a:pt x="910" y="19833"/>
                  <a:pt x="910" y="19833"/>
                </a:cubicBezTo>
                <a:cubicBezTo>
                  <a:pt x="910" y="19833"/>
                  <a:pt x="0" y="8640"/>
                  <a:pt x="662" y="3731"/>
                </a:cubicBezTo>
                <a:cubicBezTo>
                  <a:pt x="1076" y="982"/>
                  <a:pt x="3145" y="589"/>
                  <a:pt x="5214" y="589"/>
                </a:cubicBezTo>
                <a:cubicBezTo>
                  <a:pt x="7614" y="589"/>
                  <a:pt x="9848" y="0"/>
                  <a:pt x="12331" y="0"/>
                </a:cubicBezTo>
                <a:cubicBezTo>
                  <a:pt x="14731" y="0"/>
                  <a:pt x="17214" y="589"/>
                  <a:pt x="19117" y="589"/>
                </a:cubicBezTo>
                <a:cubicBezTo>
                  <a:pt x="19862" y="589"/>
                  <a:pt x="21434" y="2160"/>
                  <a:pt x="21434" y="2160"/>
                </a:cubicBezTo>
                <a:cubicBezTo>
                  <a:pt x="21434" y="2160"/>
                  <a:pt x="21600" y="7265"/>
                  <a:pt x="21600" y="10604"/>
                </a:cubicBezTo>
                <a:cubicBezTo>
                  <a:pt x="21600" y="13353"/>
                  <a:pt x="21600" y="17084"/>
                  <a:pt x="20524" y="19440"/>
                </a:cubicBezTo>
                <a:cubicBezTo>
                  <a:pt x="19697" y="21600"/>
                  <a:pt x="18041" y="21207"/>
                  <a:pt x="16138" y="20618"/>
                </a:cubicBezTo>
                <a:cubicBezTo>
                  <a:pt x="13986" y="20225"/>
                  <a:pt x="11752" y="20618"/>
                  <a:pt x="9517" y="20225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1520" y="4033800"/>
            <a:ext cx="23472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63" y="20432"/>
                </a:moveTo>
                <a:cubicBezTo>
                  <a:pt x="6760" y="20043"/>
                  <a:pt x="907" y="20043"/>
                  <a:pt x="907" y="20043"/>
                </a:cubicBezTo>
                <a:cubicBezTo>
                  <a:pt x="907" y="20043"/>
                  <a:pt x="0" y="8757"/>
                  <a:pt x="742" y="3892"/>
                </a:cubicBezTo>
                <a:cubicBezTo>
                  <a:pt x="1072" y="778"/>
                  <a:pt x="3298" y="389"/>
                  <a:pt x="5359" y="389"/>
                </a:cubicBezTo>
                <a:cubicBezTo>
                  <a:pt x="7585" y="389"/>
                  <a:pt x="9976" y="0"/>
                  <a:pt x="12366" y="0"/>
                </a:cubicBezTo>
                <a:cubicBezTo>
                  <a:pt x="14840" y="0"/>
                  <a:pt x="17313" y="389"/>
                  <a:pt x="19127" y="389"/>
                </a:cubicBezTo>
                <a:cubicBezTo>
                  <a:pt x="19869" y="389"/>
                  <a:pt x="21435" y="2141"/>
                  <a:pt x="21435" y="2141"/>
                </a:cubicBezTo>
                <a:cubicBezTo>
                  <a:pt x="21435" y="2141"/>
                  <a:pt x="21600" y="7589"/>
                  <a:pt x="21600" y="10703"/>
                </a:cubicBezTo>
                <a:cubicBezTo>
                  <a:pt x="21600" y="13232"/>
                  <a:pt x="21600" y="16930"/>
                  <a:pt x="20611" y="19654"/>
                </a:cubicBezTo>
                <a:cubicBezTo>
                  <a:pt x="19704" y="21600"/>
                  <a:pt x="18137" y="21211"/>
                  <a:pt x="16241" y="20822"/>
                </a:cubicBezTo>
                <a:cubicBezTo>
                  <a:pt x="14098" y="20432"/>
                  <a:pt x="11789" y="20822"/>
                  <a:pt x="9563" y="20432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9800" y="4106880"/>
            <a:ext cx="23652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81" y="20432"/>
                </a:moveTo>
                <a:cubicBezTo>
                  <a:pt x="6595" y="19849"/>
                  <a:pt x="907" y="19849"/>
                  <a:pt x="907" y="19849"/>
                </a:cubicBezTo>
                <a:cubicBezTo>
                  <a:pt x="907" y="19849"/>
                  <a:pt x="0" y="8757"/>
                  <a:pt x="660" y="3892"/>
                </a:cubicBezTo>
                <a:cubicBezTo>
                  <a:pt x="1072" y="778"/>
                  <a:pt x="3133" y="389"/>
                  <a:pt x="5276" y="389"/>
                </a:cubicBezTo>
                <a:cubicBezTo>
                  <a:pt x="7585" y="389"/>
                  <a:pt x="9811" y="0"/>
                  <a:pt x="12284" y="0"/>
                </a:cubicBezTo>
                <a:cubicBezTo>
                  <a:pt x="14675" y="0"/>
                  <a:pt x="17148" y="389"/>
                  <a:pt x="19127" y="389"/>
                </a:cubicBezTo>
                <a:cubicBezTo>
                  <a:pt x="19786" y="389"/>
                  <a:pt x="21353" y="1946"/>
                  <a:pt x="21353" y="1946"/>
                </a:cubicBezTo>
                <a:cubicBezTo>
                  <a:pt x="21353" y="1946"/>
                  <a:pt x="21600" y="7395"/>
                  <a:pt x="21600" y="10508"/>
                </a:cubicBezTo>
                <a:cubicBezTo>
                  <a:pt x="21600" y="13038"/>
                  <a:pt x="21600" y="16735"/>
                  <a:pt x="20446" y="19459"/>
                </a:cubicBezTo>
                <a:cubicBezTo>
                  <a:pt x="19621" y="21600"/>
                  <a:pt x="17973" y="21211"/>
                  <a:pt x="16159" y="20822"/>
                </a:cubicBezTo>
                <a:cubicBezTo>
                  <a:pt x="14015" y="20432"/>
                  <a:pt x="11707" y="20822"/>
                  <a:pt x="9481" y="20432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32080" y="4014720"/>
            <a:ext cx="236520" cy="9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63" y="20422"/>
                </a:moveTo>
                <a:cubicBezTo>
                  <a:pt x="6678" y="20029"/>
                  <a:pt x="989" y="20029"/>
                  <a:pt x="989" y="20029"/>
                </a:cubicBezTo>
                <a:cubicBezTo>
                  <a:pt x="989" y="20029"/>
                  <a:pt x="0" y="9033"/>
                  <a:pt x="742" y="3535"/>
                </a:cubicBezTo>
                <a:cubicBezTo>
                  <a:pt x="1072" y="785"/>
                  <a:pt x="3215" y="393"/>
                  <a:pt x="5276" y="393"/>
                </a:cubicBezTo>
                <a:cubicBezTo>
                  <a:pt x="7585" y="393"/>
                  <a:pt x="9811" y="0"/>
                  <a:pt x="12284" y="0"/>
                </a:cubicBezTo>
                <a:cubicBezTo>
                  <a:pt x="14757" y="0"/>
                  <a:pt x="17231" y="393"/>
                  <a:pt x="19127" y="393"/>
                </a:cubicBezTo>
                <a:cubicBezTo>
                  <a:pt x="19786" y="393"/>
                  <a:pt x="21353" y="1964"/>
                  <a:pt x="21353" y="1964"/>
                </a:cubicBezTo>
                <a:cubicBezTo>
                  <a:pt x="21353" y="1964"/>
                  <a:pt x="21600" y="7462"/>
                  <a:pt x="21600" y="10996"/>
                </a:cubicBezTo>
                <a:cubicBezTo>
                  <a:pt x="21600" y="13353"/>
                  <a:pt x="21600" y="17084"/>
                  <a:pt x="20528" y="19440"/>
                </a:cubicBezTo>
                <a:cubicBezTo>
                  <a:pt x="19704" y="21600"/>
                  <a:pt x="18055" y="21207"/>
                  <a:pt x="16159" y="20815"/>
                </a:cubicBezTo>
                <a:cubicBezTo>
                  <a:pt x="14015" y="20422"/>
                  <a:pt x="11789" y="20815"/>
                  <a:pt x="9563" y="20422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9160" y="3927600"/>
            <a:ext cx="235080" cy="9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17" y="20225"/>
                </a:moveTo>
                <a:cubicBezTo>
                  <a:pt x="6703" y="19833"/>
                  <a:pt x="828" y="19833"/>
                  <a:pt x="828" y="19833"/>
                </a:cubicBezTo>
                <a:cubicBezTo>
                  <a:pt x="828" y="19833"/>
                  <a:pt x="0" y="8444"/>
                  <a:pt x="662" y="3535"/>
                </a:cubicBezTo>
                <a:cubicBezTo>
                  <a:pt x="993" y="785"/>
                  <a:pt x="3145" y="393"/>
                  <a:pt x="5297" y="393"/>
                </a:cubicBezTo>
                <a:cubicBezTo>
                  <a:pt x="7531" y="393"/>
                  <a:pt x="9766" y="0"/>
                  <a:pt x="12248" y="0"/>
                </a:cubicBezTo>
                <a:cubicBezTo>
                  <a:pt x="14731" y="0"/>
                  <a:pt x="17131" y="393"/>
                  <a:pt x="19117" y="393"/>
                </a:cubicBezTo>
                <a:cubicBezTo>
                  <a:pt x="19779" y="393"/>
                  <a:pt x="21434" y="1767"/>
                  <a:pt x="21434" y="1767"/>
                </a:cubicBezTo>
                <a:cubicBezTo>
                  <a:pt x="21434" y="1767"/>
                  <a:pt x="21600" y="7462"/>
                  <a:pt x="21600" y="10604"/>
                </a:cubicBezTo>
                <a:cubicBezTo>
                  <a:pt x="21600" y="13353"/>
                  <a:pt x="21600" y="17084"/>
                  <a:pt x="20524" y="19440"/>
                </a:cubicBezTo>
                <a:cubicBezTo>
                  <a:pt x="19614" y="21600"/>
                  <a:pt x="18124" y="21011"/>
                  <a:pt x="16138" y="20618"/>
                </a:cubicBezTo>
                <a:cubicBezTo>
                  <a:pt x="14069" y="20225"/>
                  <a:pt x="11752" y="20618"/>
                  <a:pt x="9517" y="20225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3836880"/>
            <a:ext cx="23472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17" y="20822"/>
                </a:moveTo>
                <a:cubicBezTo>
                  <a:pt x="6703" y="20238"/>
                  <a:pt x="910" y="20238"/>
                  <a:pt x="910" y="20238"/>
                </a:cubicBezTo>
                <a:cubicBezTo>
                  <a:pt x="910" y="20238"/>
                  <a:pt x="0" y="8757"/>
                  <a:pt x="745" y="3892"/>
                </a:cubicBezTo>
                <a:cubicBezTo>
                  <a:pt x="1076" y="973"/>
                  <a:pt x="3145" y="584"/>
                  <a:pt x="5297" y="584"/>
                </a:cubicBezTo>
                <a:cubicBezTo>
                  <a:pt x="7531" y="584"/>
                  <a:pt x="9848" y="0"/>
                  <a:pt x="12331" y="0"/>
                </a:cubicBezTo>
                <a:cubicBezTo>
                  <a:pt x="14814" y="0"/>
                  <a:pt x="17214" y="584"/>
                  <a:pt x="19117" y="584"/>
                </a:cubicBezTo>
                <a:cubicBezTo>
                  <a:pt x="19862" y="584"/>
                  <a:pt x="21434" y="2335"/>
                  <a:pt x="21434" y="2335"/>
                </a:cubicBezTo>
                <a:cubicBezTo>
                  <a:pt x="21434" y="2335"/>
                  <a:pt x="21600" y="7589"/>
                  <a:pt x="21600" y="10897"/>
                </a:cubicBezTo>
                <a:cubicBezTo>
                  <a:pt x="21600" y="13427"/>
                  <a:pt x="21600" y="17514"/>
                  <a:pt x="20524" y="19849"/>
                </a:cubicBezTo>
                <a:cubicBezTo>
                  <a:pt x="19697" y="21600"/>
                  <a:pt x="18124" y="21211"/>
                  <a:pt x="16221" y="21211"/>
                </a:cubicBezTo>
                <a:cubicBezTo>
                  <a:pt x="14069" y="20822"/>
                  <a:pt x="11752" y="21211"/>
                  <a:pt x="9517" y="20822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63880" y="3587760"/>
            <a:ext cx="23508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17" y="20238"/>
                </a:moveTo>
                <a:cubicBezTo>
                  <a:pt x="6703" y="19849"/>
                  <a:pt x="828" y="19849"/>
                  <a:pt x="828" y="19849"/>
                </a:cubicBezTo>
                <a:cubicBezTo>
                  <a:pt x="828" y="19849"/>
                  <a:pt x="0" y="8951"/>
                  <a:pt x="745" y="3892"/>
                </a:cubicBezTo>
                <a:cubicBezTo>
                  <a:pt x="1076" y="973"/>
                  <a:pt x="3228" y="584"/>
                  <a:pt x="5297" y="584"/>
                </a:cubicBezTo>
                <a:cubicBezTo>
                  <a:pt x="7531" y="584"/>
                  <a:pt x="9848" y="0"/>
                  <a:pt x="12248" y="0"/>
                </a:cubicBezTo>
                <a:cubicBezTo>
                  <a:pt x="14731" y="0"/>
                  <a:pt x="17214" y="584"/>
                  <a:pt x="19200" y="584"/>
                </a:cubicBezTo>
                <a:cubicBezTo>
                  <a:pt x="19862" y="584"/>
                  <a:pt x="21517" y="2141"/>
                  <a:pt x="21517" y="2141"/>
                </a:cubicBezTo>
                <a:cubicBezTo>
                  <a:pt x="21517" y="2141"/>
                  <a:pt x="21600" y="7395"/>
                  <a:pt x="21600" y="10897"/>
                </a:cubicBezTo>
                <a:cubicBezTo>
                  <a:pt x="21600" y="13427"/>
                  <a:pt x="21600" y="16930"/>
                  <a:pt x="20607" y="19459"/>
                </a:cubicBezTo>
                <a:cubicBezTo>
                  <a:pt x="19697" y="21600"/>
                  <a:pt x="18124" y="21211"/>
                  <a:pt x="16138" y="20627"/>
                </a:cubicBezTo>
                <a:cubicBezTo>
                  <a:pt x="14069" y="20238"/>
                  <a:pt x="11834" y="20627"/>
                  <a:pt x="9517" y="20238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8360" y="3500280"/>
            <a:ext cx="236520" cy="9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98" y="20225"/>
                </a:moveTo>
                <a:cubicBezTo>
                  <a:pt x="6595" y="20029"/>
                  <a:pt x="824" y="20029"/>
                  <a:pt x="824" y="20029"/>
                </a:cubicBezTo>
                <a:cubicBezTo>
                  <a:pt x="824" y="20029"/>
                  <a:pt x="0" y="8640"/>
                  <a:pt x="660" y="3731"/>
                </a:cubicBezTo>
                <a:cubicBezTo>
                  <a:pt x="989" y="982"/>
                  <a:pt x="3050" y="393"/>
                  <a:pt x="5276" y="393"/>
                </a:cubicBezTo>
                <a:cubicBezTo>
                  <a:pt x="7502" y="393"/>
                  <a:pt x="9728" y="0"/>
                  <a:pt x="12284" y="0"/>
                </a:cubicBezTo>
                <a:cubicBezTo>
                  <a:pt x="14757" y="0"/>
                  <a:pt x="17148" y="393"/>
                  <a:pt x="19127" y="393"/>
                </a:cubicBezTo>
                <a:cubicBezTo>
                  <a:pt x="19786" y="393"/>
                  <a:pt x="21435" y="2160"/>
                  <a:pt x="21435" y="2160"/>
                </a:cubicBezTo>
                <a:cubicBezTo>
                  <a:pt x="21435" y="2160"/>
                  <a:pt x="21600" y="7462"/>
                  <a:pt x="21600" y="10800"/>
                </a:cubicBezTo>
                <a:cubicBezTo>
                  <a:pt x="21600" y="13549"/>
                  <a:pt x="21600" y="17280"/>
                  <a:pt x="20446" y="19636"/>
                </a:cubicBezTo>
                <a:cubicBezTo>
                  <a:pt x="19621" y="21600"/>
                  <a:pt x="18055" y="21207"/>
                  <a:pt x="16159" y="20618"/>
                </a:cubicBezTo>
                <a:cubicBezTo>
                  <a:pt x="14098" y="20225"/>
                  <a:pt x="11707" y="20618"/>
                  <a:pt x="9398" y="20225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02040" y="3417840"/>
            <a:ext cx="17928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04" y="20225"/>
                </a:moveTo>
                <a:cubicBezTo>
                  <a:pt x="6696" y="20029"/>
                  <a:pt x="972" y="20029"/>
                  <a:pt x="972" y="20029"/>
                </a:cubicBezTo>
                <a:cubicBezTo>
                  <a:pt x="972" y="20029"/>
                  <a:pt x="0" y="8444"/>
                  <a:pt x="756" y="3731"/>
                </a:cubicBezTo>
                <a:cubicBezTo>
                  <a:pt x="1296" y="785"/>
                  <a:pt x="3240" y="393"/>
                  <a:pt x="5292" y="393"/>
                </a:cubicBezTo>
                <a:cubicBezTo>
                  <a:pt x="7668" y="393"/>
                  <a:pt x="9936" y="0"/>
                  <a:pt x="12204" y="0"/>
                </a:cubicBezTo>
                <a:cubicBezTo>
                  <a:pt x="14688" y="0"/>
                  <a:pt x="17280" y="393"/>
                  <a:pt x="19116" y="393"/>
                </a:cubicBezTo>
                <a:cubicBezTo>
                  <a:pt x="19764" y="393"/>
                  <a:pt x="21384" y="2160"/>
                  <a:pt x="21384" y="2160"/>
                </a:cubicBezTo>
                <a:cubicBezTo>
                  <a:pt x="21384" y="2160"/>
                  <a:pt x="21600" y="7462"/>
                  <a:pt x="21600" y="10800"/>
                </a:cubicBezTo>
                <a:cubicBezTo>
                  <a:pt x="21600" y="13156"/>
                  <a:pt x="21600" y="17280"/>
                  <a:pt x="20520" y="19636"/>
                </a:cubicBezTo>
                <a:cubicBezTo>
                  <a:pt x="19548" y="21600"/>
                  <a:pt x="18144" y="21011"/>
                  <a:pt x="16308" y="20618"/>
                </a:cubicBezTo>
                <a:cubicBezTo>
                  <a:pt x="14040" y="20225"/>
                  <a:pt x="11772" y="20618"/>
                  <a:pt x="9504" y="20225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24160" y="3408480"/>
            <a:ext cx="220680" cy="9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84" y="20238"/>
                </a:moveTo>
                <a:cubicBezTo>
                  <a:pt x="6728" y="19849"/>
                  <a:pt x="885" y="19849"/>
                  <a:pt x="885" y="19849"/>
                </a:cubicBezTo>
                <a:cubicBezTo>
                  <a:pt x="885" y="19849"/>
                  <a:pt x="0" y="8562"/>
                  <a:pt x="797" y="3892"/>
                </a:cubicBezTo>
                <a:cubicBezTo>
                  <a:pt x="1062" y="778"/>
                  <a:pt x="3187" y="389"/>
                  <a:pt x="5223" y="389"/>
                </a:cubicBezTo>
                <a:cubicBezTo>
                  <a:pt x="7613" y="389"/>
                  <a:pt x="10003" y="0"/>
                  <a:pt x="12216" y="0"/>
                </a:cubicBezTo>
                <a:cubicBezTo>
                  <a:pt x="14607" y="0"/>
                  <a:pt x="17262" y="389"/>
                  <a:pt x="19121" y="389"/>
                </a:cubicBezTo>
                <a:cubicBezTo>
                  <a:pt x="19741" y="389"/>
                  <a:pt x="21423" y="2141"/>
                  <a:pt x="21423" y="2141"/>
                </a:cubicBezTo>
                <a:cubicBezTo>
                  <a:pt x="21423" y="2141"/>
                  <a:pt x="21600" y="7200"/>
                  <a:pt x="21600" y="10508"/>
                </a:cubicBezTo>
                <a:cubicBezTo>
                  <a:pt x="21600" y="13038"/>
                  <a:pt x="21600" y="16735"/>
                  <a:pt x="20449" y="19459"/>
                </a:cubicBezTo>
                <a:cubicBezTo>
                  <a:pt x="19564" y="21600"/>
                  <a:pt x="18236" y="21211"/>
                  <a:pt x="16289" y="20822"/>
                </a:cubicBezTo>
                <a:cubicBezTo>
                  <a:pt x="14075" y="20238"/>
                  <a:pt x="11774" y="20822"/>
                  <a:pt x="9384" y="20238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7000" y="4059360"/>
            <a:ext cx="179280" cy="9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96" y="20422"/>
                </a:moveTo>
                <a:cubicBezTo>
                  <a:pt x="6696" y="20029"/>
                  <a:pt x="864" y="20029"/>
                  <a:pt x="864" y="20029"/>
                </a:cubicBezTo>
                <a:cubicBezTo>
                  <a:pt x="864" y="20029"/>
                  <a:pt x="0" y="8640"/>
                  <a:pt x="756" y="3731"/>
                </a:cubicBezTo>
                <a:cubicBezTo>
                  <a:pt x="1188" y="982"/>
                  <a:pt x="3240" y="393"/>
                  <a:pt x="5292" y="393"/>
                </a:cubicBezTo>
                <a:cubicBezTo>
                  <a:pt x="7668" y="393"/>
                  <a:pt x="9828" y="0"/>
                  <a:pt x="12204" y="0"/>
                </a:cubicBezTo>
                <a:cubicBezTo>
                  <a:pt x="14688" y="0"/>
                  <a:pt x="17280" y="393"/>
                  <a:pt x="19116" y="393"/>
                </a:cubicBezTo>
                <a:cubicBezTo>
                  <a:pt x="19764" y="393"/>
                  <a:pt x="21384" y="2160"/>
                  <a:pt x="21384" y="2160"/>
                </a:cubicBezTo>
                <a:cubicBezTo>
                  <a:pt x="21384" y="2160"/>
                  <a:pt x="21600" y="7462"/>
                  <a:pt x="21600" y="10800"/>
                </a:cubicBezTo>
                <a:cubicBezTo>
                  <a:pt x="21600" y="13156"/>
                  <a:pt x="21600" y="17280"/>
                  <a:pt x="20412" y="19636"/>
                </a:cubicBezTo>
                <a:cubicBezTo>
                  <a:pt x="19548" y="21600"/>
                  <a:pt x="18144" y="21011"/>
                  <a:pt x="16308" y="20618"/>
                </a:cubicBezTo>
                <a:cubicBezTo>
                  <a:pt x="14040" y="20422"/>
                  <a:pt x="11664" y="20618"/>
                  <a:pt x="9396" y="20422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1360" y="3970440"/>
            <a:ext cx="18108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49" y="20250"/>
                </a:moveTo>
                <a:cubicBezTo>
                  <a:pt x="6663" y="19864"/>
                  <a:pt x="860" y="19864"/>
                  <a:pt x="860" y="19864"/>
                </a:cubicBezTo>
                <a:cubicBezTo>
                  <a:pt x="860" y="19864"/>
                  <a:pt x="0" y="8486"/>
                  <a:pt x="645" y="3857"/>
                </a:cubicBezTo>
                <a:cubicBezTo>
                  <a:pt x="1075" y="771"/>
                  <a:pt x="3224" y="386"/>
                  <a:pt x="5266" y="386"/>
                </a:cubicBezTo>
                <a:cubicBezTo>
                  <a:pt x="7522" y="386"/>
                  <a:pt x="9779" y="0"/>
                  <a:pt x="12036" y="0"/>
                </a:cubicBezTo>
                <a:cubicBezTo>
                  <a:pt x="14615" y="0"/>
                  <a:pt x="17194" y="386"/>
                  <a:pt x="19021" y="386"/>
                </a:cubicBezTo>
                <a:cubicBezTo>
                  <a:pt x="19773" y="386"/>
                  <a:pt x="21278" y="2121"/>
                  <a:pt x="21278" y="2121"/>
                </a:cubicBezTo>
                <a:cubicBezTo>
                  <a:pt x="21278" y="2121"/>
                  <a:pt x="21600" y="7521"/>
                  <a:pt x="21600" y="10607"/>
                </a:cubicBezTo>
                <a:cubicBezTo>
                  <a:pt x="21600" y="12921"/>
                  <a:pt x="21600" y="16779"/>
                  <a:pt x="20310" y="19286"/>
                </a:cubicBezTo>
                <a:cubicBezTo>
                  <a:pt x="19451" y="21600"/>
                  <a:pt x="18161" y="21021"/>
                  <a:pt x="16227" y="20636"/>
                </a:cubicBezTo>
                <a:cubicBezTo>
                  <a:pt x="13863" y="20250"/>
                  <a:pt x="11606" y="20636"/>
                  <a:pt x="9349" y="20250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68760" y="3049560"/>
            <a:ext cx="21600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00" y="20250"/>
                </a:moveTo>
                <a:cubicBezTo>
                  <a:pt x="6632" y="19864"/>
                  <a:pt x="896" y="19864"/>
                  <a:pt x="896" y="19864"/>
                </a:cubicBezTo>
                <a:cubicBezTo>
                  <a:pt x="896" y="19864"/>
                  <a:pt x="0" y="8679"/>
                  <a:pt x="717" y="4050"/>
                </a:cubicBezTo>
                <a:cubicBezTo>
                  <a:pt x="1076" y="964"/>
                  <a:pt x="3137" y="579"/>
                  <a:pt x="5288" y="579"/>
                </a:cubicBezTo>
                <a:cubicBezTo>
                  <a:pt x="7529" y="579"/>
                  <a:pt x="9769" y="0"/>
                  <a:pt x="12100" y="0"/>
                </a:cubicBezTo>
                <a:cubicBezTo>
                  <a:pt x="14788" y="0"/>
                  <a:pt x="17208" y="579"/>
                  <a:pt x="19180" y="579"/>
                </a:cubicBezTo>
                <a:cubicBezTo>
                  <a:pt x="19718" y="579"/>
                  <a:pt x="21421" y="2121"/>
                  <a:pt x="21421" y="2121"/>
                </a:cubicBezTo>
                <a:cubicBezTo>
                  <a:pt x="21421" y="2121"/>
                  <a:pt x="21600" y="7521"/>
                  <a:pt x="21600" y="10800"/>
                </a:cubicBezTo>
                <a:cubicBezTo>
                  <a:pt x="21600" y="13307"/>
                  <a:pt x="21600" y="16779"/>
                  <a:pt x="20524" y="19671"/>
                </a:cubicBezTo>
                <a:cubicBezTo>
                  <a:pt x="19539" y="21600"/>
                  <a:pt x="18194" y="21214"/>
                  <a:pt x="16312" y="20829"/>
                </a:cubicBezTo>
                <a:cubicBezTo>
                  <a:pt x="13982" y="20250"/>
                  <a:pt x="11741" y="20829"/>
                  <a:pt x="9500" y="20250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0000" y="3141720"/>
            <a:ext cx="23508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17" y="20600"/>
                </a:moveTo>
                <a:cubicBezTo>
                  <a:pt x="6703" y="20000"/>
                  <a:pt x="910" y="20000"/>
                  <a:pt x="910" y="20000"/>
                </a:cubicBezTo>
                <a:cubicBezTo>
                  <a:pt x="910" y="20000"/>
                  <a:pt x="0" y="8600"/>
                  <a:pt x="745" y="3400"/>
                </a:cubicBezTo>
                <a:cubicBezTo>
                  <a:pt x="1159" y="600"/>
                  <a:pt x="3228" y="200"/>
                  <a:pt x="5297" y="200"/>
                </a:cubicBezTo>
                <a:cubicBezTo>
                  <a:pt x="7614" y="200"/>
                  <a:pt x="9931" y="0"/>
                  <a:pt x="12331" y="0"/>
                </a:cubicBezTo>
                <a:cubicBezTo>
                  <a:pt x="14814" y="0"/>
                  <a:pt x="17297" y="200"/>
                  <a:pt x="19200" y="200"/>
                </a:cubicBezTo>
                <a:cubicBezTo>
                  <a:pt x="19945" y="200"/>
                  <a:pt x="21434" y="2000"/>
                  <a:pt x="21434" y="2000"/>
                </a:cubicBezTo>
                <a:cubicBezTo>
                  <a:pt x="21434" y="2000"/>
                  <a:pt x="21600" y="7200"/>
                  <a:pt x="21600" y="10800"/>
                </a:cubicBezTo>
                <a:cubicBezTo>
                  <a:pt x="21600" y="13200"/>
                  <a:pt x="21600" y="17400"/>
                  <a:pt x="20607" y="19600"/>
                </a:cubicBezTo>
                <a:cubicBezTo>
                  <a:pt x="19697" y="21600"/>
                  <a:pt x="18124" y="21200"/>
                  <a:pt x="16221" y="21000"/>
                </a:cubicBezTo>
                <a:cubicBezTo>
                  <a:pt x="14069" y="20600"/>
                  <a:pt x="11752" y="21000"/>
                  <a:pt x="9517" y="20600"/>
                </a:cubicBezTo>
              </a:path>
            </a:pathLst>
          </a:custGeom>
          <a:solidFill>
            <a:srgbClr val="664d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743280"/>
            <a:ext cx="2436480" cy="15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19" y="21600"/>
                </a:moveTo>
                <a:cubicBezTo>
                  <a:pt x="19884" y="15006"/>
                  <a:pt x="19357" y="2115"/>
                  <a:pt x="12141" y="1596"/>
                </a:cubicBezTo>
                <a:cubicBezTo>
                  <a:pt x="3496" y="940"/>
                  <a:pt x="1022" y="12433"/>
                  <a:pt x="1237" y="21600"/>
                </a:cubicBezTo>
                <a:cubicBezTo>
                  <a:pt x="1237" y="21600"/>
                  <a:pt x="311" y="21600"/>
                  <a:pt x="311" y="21600"/>
                </a:cubicBezTo>
                <a:cubicBezTo>
                  <a:pt x="0" y="12705"/>
                  <a:pt x="1868" y="0"/>
                  <a:pt x="11822" y="0"/>
                </a:cubicBezTo>
                <a:cubicBezTo>
                  <a:pt x="20658" y="0"/>
                  <a:pt x="21249" y="16021"/>
                  <a:pt x="21600" y="21600"/>
                </a:cubicBezTo>
                <a:cubicBezTo>
                  <a:pt x="21600" y="21600"/>
                  <a:pt x="20419" y="21600"/>
                  <a:pt x="20419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71920" y="5661000"/>
            <a:ext cx="270000" cy="134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3" y="20995"/>
                </a:moveTo>
                <a:cubicBezTo>
                  <a:pt x="433" y="20995"/>
                  <a:pt x="217" y="17784"/>
                  <a:pt x="217" y="16157"/>
                </a:cubicBezTo>
                <a:cubicBezTo>
                  <a:pt x="217" y="15192"/>
                  <a:pt x="289" y="14213"/>
                  <a:pt x="289" y="13234"/>
                </a:cubicBezTo>
                <a:cubicBezTo>
                  <a:pt x="289" y="11894"/>
                  <a:pt x="0" y="10541"/>
                  <a:pt x="0" y="9230"/>
                </a:cubicBezTo>
                <a:cubicBezTo>
                  <a:pt x="0" y="8309"/>
                  <a:pt x="0" y="7358"/>
                  <a:pt x="0" y="6437"/>
                </a:cubicBezTo>
                <a:cubicBezTo>
                  <a:pt x="0" y="5875"/>
                  <a:pt x="0" y="5328"/>
                  <a:pt x="2312" y="4867"/>
                </a:cubicBezTo>
                <a:cubicBezTo>
                  <a:pt x="3829" y="4522"/>
                  <a:pt x="6646" y="4550"/>
                  <a:pt x="8091" y="4234"/>
                </a:cubicBezTo>
                <a:cubicBezTo>
                  <a:pt x="9680" y="3888"/>
                  <a:pt x="10258" y="3398"/>
                  <a:pt x="10908" y="2952"/>
                </a:cubicBezTo>
                <a:cubicBezTo>
                  <a:pt x="11486" y="2419"/>
                  <a:pt x="11342" y="1915"/>
                  <a:pt x="11486" y="1382"/>
                </a:cubicBezTo>
                <a:cubicBezTo>
                  <a:pt x="11631" y="1022"/>
                  <a:pt x="10547" y="605"/>
                  <a:pt x="11992" y="403"/>
                </a:cubicBezTo>
                <a:cubicBezTo>
                  <a:pt x="14159" y="86"/>
                  <a:pt x="17338" y="0"/>
                  <a:pt x="19938" y="158"/>
                </a:cubicBezTo>
                <a:cubicBezTo>
                  <a:pt x="21167" y="216"/>
                  <a:pt x="20733" y="562"/>
                  <a:pt x="20733" y="878"/>
                </a:cubicBezTo>
                <a:cubicBezTo>
                  <a:pt x="20589" y="1296"/>
                  <a:pt x="20372" y="1670"/>
                  <a:pt x="20083" y="2016"/>
                </a:cubicBezTo>
                <a:cubicBezTo>
                  <a:pt x="19794" y="2376"/>
                  <a:pt x="19144" y="2736"/>
                  <a:pt x="18566" y="3067"/>
                </a:cubicBezTo>
                <a:cubicBezTo>
                  <a:pt x="17843" y="3442"/>
                  <a:pt x="16110" y="4277"/>
                  <a:pt x="16110" y="4277"/>
                </a:cubicBezTo>
                <a:cubicBezTo>
                  <a:pt x="16110" y="4277"/>
                  <a:pt x="18421" y="5386"/>
                  <a:pt x="19144" y="5976"/>
                </a:cubicBezTo>
                <a:cubicBezTo>
                  <a:pt x="21022" y="7286"/>
                  <a:pt x="21022" y="8712"/>
                  <a:pt x="21311" y="10094"/>
                </a:cubicBezTo>
                <a:cubicBezTo>
                  <a:pt x="21600" y="12010"/>
                  <a:pt x="21600" y="13910"/>
                  <a:pt x="21600" y="15782"/>
                </a:cubicBezTo>
                <a:cubicBezTo>
                  <a:pt x="21600" y="17726"/>
                  <a:pt x="21311" y="21600"/>
                  <a:pt x="21311" y="21600"/>
                </a:cubicBezTo>
                <a:cubicBezTo>
                  <a:pt x="21311" y="21600"/>
                  <a:pt x="433" y="20995"/>
                  <a:pt x="433" y="20995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2760" y="5475240"/>
            <a:ext cx="53352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320"/>
                </a:moveTo>
                <a:cubicBezTo>
                  <a:pt x="0" y="20320"/>
                  <a:pt x="1861" y="21040"/>
                  <a:pt x="2736" y="21200"/>
                </a:cubicBezTo>
                <a:cubicBezTo>
                  <a:pt x="3576" y="21280"/>
                  <a:pt x="5108" y="21440"/>
                  <a:pt x="6677" y="21600"/>
                </a:cubicBezTo>
                <a:cubicBezTo>
                  <a:pt x="7443" y="21600"/>
                  <a:pt x="8246" y="21600"/>
                  <a:pt x="10070" y="21600"/>
                </a:cubicBezTo>
                <a:cubicBezTo>
                  <a:pt x="12041" y="21600"/>
                  <a:pt x="13865" y="21040"/>
                  <a:pt x="15616" y="20720"/>
                </a:cubicBezTo>
                <a:cubicBezTo>
                  <a:pt x="16601" y="20560"/>
                  <a:pt x="17623" y="20160"/>
                  <a:pt x="18353" y="19920"/>
                </a:cubicBezTo>
                <a:cubicBezTo>
                  <a:pt x="19228" y="19520"/>
                  <a:pt x="21600" y="18320"/>
                  <a:pt x="21600" y="18320"/>
                </a:cubicBezTo>
                <a:cubicBezTo>
                  <a:pt x="21600" y="18320"/>
                  <a:pt x="19447" y="16320"/>
                  <a:pt x="17003" y="15360"/>
                </a:cubicBezTo>
                <a:cubicBezTo>
                  <a:pt x="16528" y="15120"/>
                  <a:pt x="15434" y="14960"/>
                  <a:pt x="15032" y="14800"/>
                </a:cubicBezTo>
                <a:cubicBezTo>
                  <a:pt x="14668" y="14400"/>
                  <a:pt x="14266" y="13600"/>
                  <a:pt x="14120" y="12640"/>
                </a:cubicBezTo>
                <a:cubicBezTo>
                  <a:pt x="13828" y="11200"/>
                  <a:pt x="13938" y="9760"/>
                  <a:pt x="13938" y="8560"/>
                </a:cubicBezTo>
                <a:cubicBezTo>
                  <a:pt x="13938" y="6560"/>
                  <a:pt x="14814" y="2640"/>
                  <a:pt x="14485" y="1680"/>
                </a:cubicBezTo>
                <a:cubicBezTo>
                  <a:pt x="14047" y="0"/>
                  <a:pt x="11968" y="5280"/>
                  <a:pt x="11311" y="7680"/>
                </a:cubicBezTo>
                <a:cubicBezTo>
                  <a:pt x="11092" y="8560"/>
                  <a:pt x="10618" y="10080"/>
                  <a:pt x="10508" y="11200"/>
                </a:cubicBezTo>
                <a:cubicBezTo>
                  <a:pt x="10326" y="12000"/>
                  <a:pt x="10070" y="13200"/>
                  <a:pt x="9632" y="13600"/>
                </a:cubicBezTo>
                <a:cubicBezTo>
                  <a:pt x="7735" y="14880"/>
                  <a:pt x="6896" y="14880"/>
                  <a:pt x="6057" y="15360"/>
                </a:cubicBezTo>
                <a:cubicBezTo>
                  <a:pt x="4196" y="16560"/>
                  <a:pt x="2882" y="17040"/>
                  <a:pt x="1788" y="18160"/>
                </a:cubicBezTo>
                <a:cubicBezTo>
                  <a:pt x="1204" y="18720"/>
                  <a:pt x="0" y="20320"/>
                  <a:pt x="0" y="2032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75160" y="6697800"/>
            <a:ext cx="239760" cy="26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74" y="19296"/>
                </a:moveTo>
                <a:cubicBezTo>
                  <a:pt x="0" y="17424"/>
                  <a:pt x="3329" y="14688"/>
                  <a:pt x="4304" y="12096"/>
                </a:cubicBezTo>
                <a:cubicBezTo>
                  <a:pt x="5197" y="10080"/>
                  <a:pt x="6902" y="8712"/>
                  <a:pt x="7552" y="6696"/>
                </a:cubicBezTo>
                <a:cubicBezTo>
                  <a:pt x="8120" y="5400"/>
                  <a:pt x="7389" y="3888"/>
                  <a:pt x="8526" y="2232"/>
                </a:cubicBezTo>
                <a:cubicBezTo>
                  <a:pt x="9338" y="936"/>
                  <a:pt x="10556" y="0"/>
                  <a:pt x="12343" y="0"/>
                </a:cubicBezTo>
                <a:cubicBezTo>
                  <a:pt x="14698" y="0"/>
                  <a:pt x="16971" y="648"/>
                  <a:pt x="19164" y="1296"/>
                </a:cubicBezTo>
                <a:cubicBezTo>
                  <a:pt x="20382" y="1656"/>
                  <a:pt x="21600" y="13248"/>
                  <a:pt x="20220" y="19080"/>
                </a:cubicBezTo>
                <a:cubicBezTo>
                  <a:pt x="19732" y="21600"/>
                  <a:pt x="14535" y="18936"/>
                  <a:pt x="11774" y="18936"/>
                </a:cubicBezTo>
                <a:cubicBezTo>
                  <a:pt x="8608" y="18936"/>
                  <a:pt x="4466" y="21096"/>
                  <a:pt x="2274" y="19296"/>
                </a:cubicBezTo>
              </a:path>
            </a:pathLst>
          </a:custGeom>
          <a:solidFill>
            <a:srgbClr val="e5e5e5"/>
          </a:solidFill>
          <a:ln w="72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8920" y="6710400"/>
            <a:ext cx="4284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800"/>
                </a:moveTo>
                <a:cubicBezTo>
                  <a:pt x="2757" y="11733"/>
                  <a:pt x="4596" y="5333"/>
                  <a:pt x="14706" y="1867"/>
                </a:cubicBezTo>
                <a:cubicBezTo>
                  <a:pt x="19302" y="0"/>
                  <a:pt x="21600" y="8267"/>
                  <a:pt x="20681" y="10667"/>
                </a:cubicBezTo>
                <a:cubicBezTo>
                  <a:pt x="18383" y="15200"/>
                  <a:pt x="12409" y="18400"/>
                  <a:pt x="5974" y="21067"/>
                </a:cubicBezTo>
                <a:cubicBezTo>
                  <a:pt x="2757" y="21600"/>
                  <a:pt x="0" y="18400"/>
                  <a:pt x="0" y="16800"/>
                </a:cubicBezTo>
              </a:path>
            </a:pathLst>
          </a:custGeom>
          <a:solidFill>
            <a:srgbClr val="fff0f0"/>
          </a:solidFill>
          <a:ln w="3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6794640"/>
            <a:ext cx="23760" cy="3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663"/>
                </a:moveTo>
                <a:cubicBezTo>
                  <a:pt x="3200" y="11109"/>
                  <a:pt x="4800" y="6171"/>
                  <a:pt x="15200" y="1851"/>
                </a:cubicBezTo>
                <a:cubicBezTo>
                  <a:pt x="20000" y="0"/>
                  <a:pt x="21600" y="8023"/>
                  <a:pt x="20000" y="9257"/>
                </a:cubicBezTo>
                <a:cubicBezTo>
                  <a:pt x="18400" y="14811"/>
                  <a:pt x="13600" y="17280"/>
                  <a:pt x="6400" y="21600"/>
                </a:cubicBezTo>
                <a:cubicBezTo>
                  <a:pt x="3200" y="21600"/>
                  <a:pt x="0" y="17280"/>
                  <a:pt x="0" y="16663"/>
                </a:cubicBezTo>
              </a:path>
            </a:pathLst>
          </a:custGeom>
          <a:solidFill>
            <a:srgbClr val="e5e5e5"/>
          </a:solidFill>
          <a:ln w="3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0560" y="7613640"/>
            <a:ext cx="183528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02"/>
                </a:moveTo>
                <a:cubicBezTo>
                  <a:pt x="21600" y="16593"/>
                  <a:pt x="16769" y="21600"/>
                  <a:pt x="10795" y="21600"/>
                </a:cubicBezTo>
                <a:cubicBezTo>
                  <a:pt x="4841" y="21600"/>
                  <a:pt x="0" y="16593"/>
                  <a:pt x="0" y="10702"/>
                </a:cubicBezTo>
                <a:cubicBezTo>
                  <a:pt x="0" y="4909"/>
                  <a:pt x="4841" y="0"/>
                  <a:pt x="10795" y="0"/>
                </a:cubicBezTo>
                <a:cubicBezTo>
                  <a:pt x="16769" y="0"/>
                  <a:pt x="21600" y="4909"/>
                  <a:pt x="21600" y="10702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81040" y="5437080"/>
            <a:ext cx="4148280" cy="19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52" y="19193"/>
                </a:moveTo>
                <a:cubicBezTo>
                  <a:pt x="5225" y="18847"/>
                  <a:pt x="4288" y="18332"/>
                  <a:pt x="3557" y="17906"/>
                </a:cubicBezTo>
                <a:cubicBezTo>
                  <a:pt x="3004" y="17599"/>
                  <a:pt x="2648" y="17401"/>
                  <a:pt x="2207" y="16836"/>
                </a:cubicBezTo>
                <a:cubicBezTo>
                  <a:pt x="1650" y="16103"/>
                  <a:pt x="1059" y="14350"/>
                  <a:pt x="637" y="12419"/>
                </a:cubicBezTo>
                <a:cubicBezTo>
                  <a:pt x="492" y="11696"/>
                  <a:pt x="398" y="10914"/>
                  <a:pt x="291" y="10181"/>
                </a:cubicBezTo>
                <a:cubicBezTo>
                  <a:pt x="141" y="9161"/>
                  <a:pt x="42" y="8111"/>
                  <a:pt x="19" y="7061"/>
                </a:cubicBezTo>
                <a:cubicBezTo>
                  <a:pt x="0" y="5952"/>
                  <a:pt x="61" y="4843"/>
                  <a:pt x="211" y="3823"/>
                </a:cubicBezTo>
                <a:cubicBezTo>
                  <a:pt x="319" y="3080"/>
                  <a:pt x="483" y="2347"/>
                  <a:pt x="698" y="1694"/>
                </a:cubicBezTo>
                <a:cubicBezTo>
                  <a:pt x="886" y="1119"/>
                  <a:pt x="1115" y="594"/>
                  <a:pt x="1397" y="257"/>
                </a:cubicBezTo>
                <a:cubicBezTo>
                  <a:pt x="1514" y="99"/>
                  <a:pt x="1664" y="0"/>
                  <a:pt x="1800" y="10"/>
                </a:cubicBezTo>
                <a:cubicBezTo>
                  <a:pt x="1870" y="10"/>
                  <a:pt x="1982" y="30"/>
                  <a:pt x="2011" y="178"/>
                </a:cubicBezTo>
                <a:cubicBezTo>
                  <a:pt x="2043" y="337"/>
                  <a:pt x="2053" y="465"/>
                  <a:pt x="2020" y="555"/>
                </a:cubicBezTo>
                <a:cubicBezTo>
                  <a:pt x="1851" y="1089"/>
                  <a:pt x="1561" y="1367"/>
                  <a:pt x="1354" y="1812"/>
                </a:cubicBezTo>
                <a:cubicBezTo>
                  <a:pt x="1134" y="2258"/>
                  <a:pt x="994" y="2922"/>
                  <a:pt x="1003" y="3555"/>
                </a:cubicBezTo>
                <a:cubicBezTo>
                  <a:pt x="1017" y="4318"/>
                  <a:pt x="1153" y="5091"/>
                  <a:pt x="1406" y="5685"/>
                </a:cubicBezTo>
                <a:cubicBezTo>
                  <a:pt x="1823" y="6665"/>
                  <a:pt x="2381" y="7467"/>
                  <a:pt x="2967" y="8091"/>
                </a:cubicBezTo>
                <a:cubicBezTo>
                  <a:pt x="4129" y="9290"/>
                  <a:pt x="5343" y="10508"/>
                  <a:pt x="6613" y="11389"/>
                </a:cubicBezTo>
                <a:cubicBezTo>
                  <a:pt x="7775" y="12201"/>
                  <a:pt x="8890" y="12984"/>
                  <a:pt x="10024" y="13598"/>
                </a:cubicBezTo>
                <a:cubicBezTo>
                  <a:pt x="10966" y="14093"/>
                  <a:pt x="11946" y="14459"/>
                  <a:pt x="12836" y="14895"/>
                </a:cubicBezTo>
                <a:cubicBezTo>
                  <a:pt x="13375" y="15153"/>
                  <a:pt x="13938" y="15361"/>
                  <a:pt x="14486" y="15509"/>
                </a:cubicBezTo>
                <a:cubicBezTo>
                  <a:pt x="15212" y="15707"/>
                  <a:pt x="15948" y="15886"/>
                  <a:pt x="16684" y="15955"/>
                </a:cubicBezTo>
                <a:cubicBezTo>
                  <a:pt x="17153" y="15994"/>
                  <a:pt x="17626" y="15886"/>
                  <a:pt x="18095" y="15787"/>
                </a:cubicBezTo>
                <a:cubicBezTo>
                  <a:pt x="18394" y="15707"/>
                  <a:pt x="18680" y="15608"/>
                  <a:pt x="18971" y="15450"/>
                </a:cubicBezTo>
                <a:cubicBezTo>
                  <a:pt x="19140" y="15351"/>
                  <a:pt x="19318" y="15202"/>
                  <a:pt x="19444" y="14935"/>
                </a:cubicBezTo>
                <a:cubicBezTo>
                  <a:pt x="19636" y="14588"/>
                  <a:pt x="19786" y="14152"/>
                  <a:pt x="19885" y="13717"/>
                </a:cubicBezTo>
                <a:cubicBezTo>
                  <a:pt x="19964" y="13360"/>
                  <a:pt x="20044" y="13073"/>
                  <a:pt x="20194" y="12885"/>
                </a:cubicBezTo>
                <a:cubicBezTo>
                  <a:pt x="20405" y="12598"/>
                  <a:pt x="20602" y="12449"/>
                  <a:pt x="20813" y="12370"/>
                </a:cubicBezTo>
                <a:cubicBezTo>
                  <a:pt x="21066" y="12271"/>
                  <a:pt x="21502" y="12291"/>
                  <a:pt x="21502" y="12291"/>
                </a:cubicBezTo>
                <a:cubicBezTo>
                  <a:pt x="21502" y="12291"/>
                  <a:pt x="21553" y="12578"/>
                  <a:pt x="21572" y="12716"/>
                </a:cubicBezTo>
                <a:cubicBezTo>
                  <a:pt x="21581" y="12835"/>
                  <a:pt x="21600" y="13132"/>
                  <a:pt x="21600" y="13132"/>
                </a:cubicBezTo>
                <a:cubicBezTo>
                  <a:pt x="21600" y="13132"/>
                  <a:pt x="21342" y="13558"/>
                  <a:pt x="21225" y="13746"/>
                </a:cubicBezTo>
                <a:cubicBezTo>
                  <a:pt x="21103" y="13915"/>
                  <a:pt x="20892" y="14143"/>
                  <a:pt x="20789" y="14549"/>
                </a:cubicBezTo>
                <a:cubicBezTo>
                  <a:pt x="20686" y="14895"/>
                  <a:pt x="20672" y="15351"/>
                  <a:pt x="20649" y="15787"/>
                </a:cubicBezTo>
                <a:cubicBezTo>
                  <a:pt x="20592" y="16401"/>
                  <a:pt x="20503" y="17044"/>
                  <a:pt x="20414" y="17530"/>
                </a:cubicBezTo>
                <a:cubicBezTo>
                  <a:pt x="20297" y="18114"/>
                  <a:pt x="20147" y="18678"/>
                  <a:pt x="19988" y="19025"/>
                </a:cubicBezTo>
                <a:cubicBezTo>
                  <a:pt x="19824" y="19362"/>
                  <a:pt x="19580" y="19728"/>
                  <a:pt x="19308" y="20025"/>
                </a:cubicBezTo>
                <a:cubicBezTo>
                  <a:pt x="18943" y="20431"/>
                  <a:pt x="18530" y="20837"/>
                  <a:pt x="18104" y="21045"/>
                </a:cubicBezTo>
                <a:cubicBezTo>
                  <a:pt x="17373" y="21432"/>
                  <a:pt x="16614" y="21550"/>
                  <a:pt x="15868" y="21570"/>
                </a:cubicBezTo>
                <a:cubicBezTo>
                  <a:pt x="14631" y="21600"/>
                  <a:pt x="13919" y="21600"/>
                  <a:pt x="12827" y="21432"/>
                </a:cubicBezTo>
                <a:cubicBezTo>
                  <a:pt x="12133" y="21323"/>
                  <a:pt x="11055" y="21045"/>
                  <a:pt x="10521" y="20927"/>
                </a:cubicBezTo>
                <a:cubicBezTo>
                  <a:pt x="9678" y="20738"/>
                  <a:pt x="8839" y="20352"/>
                  <a:pt x="8023" y="20045"/>
                </a:cubicBezTo>
                <a:cubicBezTo>
                  <a:pt x="7377" y="19798"/>
                  <a:pt x="6659" y="19520"/>
                  <a:pt x="5952" y="19193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95760" y="6634080"/>
            <a:ext cx="1019160" cy="13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82" y="0"/>
                </a:moveTo>
                <a:cubicBezTo>
                  <a:pt x="782" y="0"/>
                  <a:pt x="0" y="575"/>
                  <a:pt x="229" y="1079"/>
                </a:cubicBezTo>
                <a:cubicBezTo>
                  <a:pt x="458" y="1683"/>
                  <a:pt x="1354" y="2632"/>
                  <a:pt x="1926" y="3336"/>
                </a:cubicBezTo>
                <a:cubicBezTo>
                  <a:pt x="3374" y="5191"/>
                  <a:pt x="4347" y="6141"/>
                  <a:pt x="5243" y="7047"/>
                </a:cubicBezTo>
                <a:cubicBezTo>
                  <a:pt x="7511" y="9376"/>
                  <a:pt x="9685" y="11778"/>
                  <a:pt x="11744" y="14064"/>
                </a:cubicBezTo>
                <a:cubicBezTo>
                  <a:pt x="13212" y="15675"/>
                  <a:pt x="14432" y="17271"/>
                  <a:pt x="15804" y="18825"/>
                </a:cubicBezTo>
                <a:cubicBezTo>
                  <a:pt x="16529" y="19659"/>
                  <a:pt x="17863" y="21312"/>
                  <a:pt x="17863" y="21312"/>
                </a:cubicBezTo>
                <a:cubicBezTo>
                  <a:pt x="17863" y="21312"/>
                  <a:pt x="20037" y="21600"/>
                  <a:pt x="20037" y="21600"/>
                </a:cubicBezTo>
                <a:cubicBezTo>
                  <a:pt x="20037" y="21600"/>
                  <a:pt x="21600" y="21183"/>
                  <a:pt x="21600" y="21183"/>
                </a:cubicBezTo>
                <a:cubicBezTo>
                  <a:pt x="21600" y="21183"/>
                  <a:pt x="16891" y="16380"/>
                  <a:pt x="16891" y="16380"/>
                </a:cubicBezTo>
                <a:cubicBezTo>
                  <a:pt x="16891" y="16380"/>
                  <a:pt x="13402" y="12900"/>
                  <a:pt x="11667" y="11203"/>
                </a:cubicBezTo>
                <a:cubicBezTo>
                  <a:pt x="9780" y="9304"/>
                  <a:pt x="7874" y="7392"/>
                  <a:pt x="6005" y="5565"/>
                </a:cubicBezTo>
                <a:cubicBezTo>
                  <a:pt x="4690" y="4228"/>
                  <a:pt x="3374" y="2905"/>
                  <a:pt x="2116" y="1539"/>
                </a:cubicBezTo>
                <a:cubicBezTo>
                  <a:pt x="1601" y="964"/>
                  <a:pt x="782" y="0"/>
                  <a:pt x="782" y="0"/>
                </a:cubicBezTo>
              </a:path>
            </a:pathLst>
          </a:custGeom>
          <a:solidFill>
            <a:srgbClr val="cca452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24600" y="7921800"/>
            <a:ext cx="841320" cy="7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47" y="14400"/>
                  <a:pt x="670" y="7200"/>
                  <a:pt x="1271" y="6400"/>
                </a:cubicBezTo>
                <a:cubicBezTo>
                  <a:pt x="2657" y="5067"/>
                  <a:pt x="3973" y="14133"/>
                  <a:pt x="5336" y="15733"/>
                </a:cubicBezTo>
                <a:cubicBezTo>
                  <a:pt x="6145" y="16800"/>
                  <a:pt x="6907" y="16267"/>
                  <a:pt x="7693" y="15733"/>
                </a:cubicBezTo>
                <a:cubicBezTo>
                  <a:pt x="9079" y="14933"/>
                  <a:pt x="10511" y="15733"/>
                  <a:pt x="11874" y="12800"/>
                </a:cubicBezTo>
                <a:cubicBezTo>
                  <a:pt x="12960" y="10400"/>
                  <a:pt x="13907" y="0"/>
                  <a:pt x="15016" y="0"/>
                </a:cubicBezTo>
                <a:cubicBezTo>
                  <a:pt x="16495" y="0"/>
                  <a:pt x="17858" y="12800"/>
                  <a:pt x="19313" y="14133"/>
                </a:cubicBezTo>
                <a:cubicBezTo>
                  <a:pt x="20121" y="14400"/>
                  <a:pt x="20861" y="10400"/>
                  <a:pt x="21600" y="6400"/>
                </a:cubicBezTo>
              </a:path>
            </a:pathLst>
          </a:custGeom>
          <a:solidFill>
            <a:srgbClr val="333333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2200" y="2813040"/>
            <a:ext cx="4894560" cy="197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14562" y="0"/>
                  <a:pt x="14562" y="0"/>
                </a:cubicBezTo>
                <a:cubicBezTo>
                  <a:pt x="14562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57360" y="5925960"/>
            <a:ext cx="2041560" cy="12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05" y="4591"/>
                </a:moveTo>
                <a:cubicBezTo>
                  <a:pt x="733" y="6095"/>
                  <a:pt x="923" y="7463"/>
                  <a:pt x="1228" y="8953"/>
                </a:cubicBezTo>
                <a:cubicBezTo>
                  <a:pt x="1618" y="10747"/>
                  <a:pt x="2266" y="12434"/>
                  <a:pt x="3180" y="13605"/>
                </a:cubicBezTo>
                <a:cubicBezTo>
                  <a:pt x="4493" y="15246"/>
                  <a:pt x="6083" y="16265"/>
                  <a:pt x="7682" y="17040"/>
                </a:cubicBezTo>
                <a:cubicBezTo>
                  <a:pt x="10691" y="18514"/>
                  <a:pt x="13832" y="19730"/>
                  <a:pt x="16983" y="20734"/>
                </a:cubicBezTo>
                <a:cubicBezTo>
                  <a:pt x="18497" y="21220"/>
                  <a:pt x="21600" y="21600"/>
                  <a:pt x="21600" y="21600"/>
                </a:cubicBezTo>
                <a:cubicBezTo>
                  <a:pt x="21600" y="21600"/>
                  <a:pt x="18297" y="20019"/>
                  <a:pt x="18297" y="20019"/>
                </a:cubicBezTo>
                <a:cubicBezTo>
                  <a:pt x="18297" y="20019"/>
                  <a:pt x="20305" y="19898"/>
                  <a:pt x="20305" y="19898"/>
                </a:cubicBezTo>
                <a:cubicBezTo>
                  <a:pt x="20305" y="19898"/>
                  <a:pt x="18439" y="18666"/>
                  <a:pt x="18439" y="18666"/>
                </a:cubicBezTo>
                <a:cubicBezTo>
                  <a:pt x="18439" y="18666"/>
                  <a:pt x="19648" y="18073"/>
                  <a:pt x="19648" y="18073"/>
                </a:cubicBezTo>
                <a:cubicBezTo>
                  <a:pt x="19648" y="18073"/>
                  <a:pt x="18363" y="17921"/>
                  <a:pt x="17916" y="17313"/>
                </a:cubicBezTo>
                <a:cubicBezTo>
                  <a:pt x="17411" y="16629"/>
                  <a:pt x="17021" y="15277"/>
                  <a:pt x="17021" y="15277"/>
                </a:cubicBezTo>
                <a:cubicBezTo>
                  <a:pt x="17021" y="15277"/>
                  <a:pt x="14375" y="14684"/>
                  <a:pt x="13489" y="14243"/>
                </a:cubicBezTo>
                <a:cubicBezTo>
                  <a:pt x="11395" y="13209"/>
                  <a:pt x="10110" y="12510"/>
                  <a:pt x="8158" y="10868"/>
                </a:cubicBezTo>
                <a:cubicBezTo>
                  <a:pt x="7435" y="10260"/>
                  <a:pt x="6749" y="9531"/>
                  <a:pt x="6026" y="8680"/>
                </a:cubicBezTo>
                <a:cubicBezTo>
                  <a:pt x="5179" y="7691"/>
                  <a:pt x="4303" y="6688"/>
                  <a:pt x="3379" y="5366"/>
                </a:cubicBezTo>
                <a:cubicBezTo>
                  <a:pt x="2875" y="4667"/>
                  <a:pt x="2504" y="4743"/>
                  <a:pt x="2209" y="4621"/>
                </a:cubicBezTo>
                <a:cubicBezTo>
                  <a:pt x="1656" y="4363"/>
                  <a:pt x="1228" y="3633"/>
                  <a:pt x="952" y="2888"/>
                </a:cubicBezTo>
                <a:cubicBezTo>
                  <a:pt x="628" y="1991"/>
                  <a:pt x="0" y="0"/>
                  <a:pt x="0" y="0"/>
                </a:cubicBezTo>
                <a:cubicBezTo>
                  <a:pt x="0" y="0"/>
                  <a:pt x="381" y="3770"/>
                  <a:pt x="505" y="4591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76360" y="3571920"/>
            <a:ext cx="748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077"/>
                </a:moveTo>
                <a:cubicBezTo>
                  <a:pt x="0" y="5631"/>
                  <a:pt x="5532" y="0"/>
                  <a:pt x="10537" y="0"/>
                </a:cubicBezTo>
                <a:cubicBezTo>
                  <a:pt x="16332" y="0"/>
                  <a:pt x="21600" y="5631"/>
                  <a:pt x="21337" y="11077"/>
                </a:cubicBezTo>
                <a:cubicBezTo>
                  <a:pt x="20810" y="16154"/>
                  <a:pt x="18966" y="21600"/>
                  <a:pt x="10010" y="21415"/>
                </a:cubicBezTo>
                <a:cubicBezTo>
                  <a:pt x="527" y="21138"/>
                  <a:pt x="0" y="16062"/>
                  <a:pt x="0" y="11077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08320" y="3676680"/>
            <a:ext cx="209520" cy="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969" y="21600"/>
                  <a:pt x="7662" y="0"/>
                  <a:pt x="11169" y="0"/>
                </a:cubicBezTo>
                <a:cubicBezTo>
                  <a:pt x="14585" y="0"/>
                  <a:pt x="18092" y="0"/>
                  <a:pt x="21600" y="0"/>
                </a:cubicBezTo>
              </a:path>
            </a:pathLst>
          </a:custGeom>
          <a:solidFill>
            <a:srgbClr val="ffffff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76360" y="3571920"/>
            <a:ext cx="7488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10980"/>
                  <a:pt x="5532" y="0"/>
                  <a:pt x="10537" y="0"/>
                </a:cubicBezTo>
                <a:cubicBezTo>
                  <a:pt x="16332" y="0"/>
                  <a:pt x="21600" y="10980"/>
                  <a:pt x="21337" y="21600"/>
                </a:cubicBezTo>
                <a:cubicBezTo>
                  <a:pt x="17649" y="21600"/>
                  <a:pt x="15015" y="21240"/>
                  <a:pt x="11590" y="21240"/>
                </a:cubicBezTo>
                <a:cubicBezTo>
                  <a:pt x="7902" y="21240"/>
                  <a:pt x="3951" y="21600"/>
                  <a:pt x="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98640" y="4659480"/>
            <a:ext cx="1171440" cy="65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83" y="21570"/>
                </a:moveTo>
                <a:cubicBezTo>
                  <a:pt x="21583" y="21570"/>
                  <a:pt x="19875" y="21570"/>
                  <a:pt x="19875" y="21570"/>
                </a:cubicBezTo>
                <a:cubicBezTo>
                  <a:pt x="19891" y="8292"/>
                  <a:pt x="16042" y="3659"/>
                  <a:pt x="10535" y="3659"/>
                </a:cubicBezTo>
                <a:cubicBezTo>
                  <a:pt x="5292" y="3659"/>
                  <a:pt x="2090" y="8262"/>
                  <a:pt x="1476" y="21600"/>
                </a:cubicBezTo>
                <a:cubicBezTo>
                  <a:pt x="1476" y="21600"/>
                  <a:pt x="0" y="21570"/>
                  <a:pt x="0" y="21570"/>
                </a:cubicBezTo>
                <a:cubicBezTo>
                  <a:pt x="0" y="8852"/>
                  <a:pt x="4695" y="502"/>
                  <a:pt x="10535" y="266"/>
                </a:cubicBezTo>
                <a:cubicBezTo>
                  <a:pt x="16839" y="0"/>
                  <a:pt x="21600" y="8587"/>
                  <a:pt x="21583" y="21570"/>
                </a:cubicBezTo>
              </a:path>
            </a:pathLst>
          </a:custGeom>
          <a:solidFill>
            <a:srgbClr val="66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98640" y="4659480"/>
            <a:ext cx="1173240" cy="66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50" y="21600"/>
                </a:moveTo>
                <a:cubicBezTo>
                  <a:pt x="21600" y="8570"/>
                  <a:pt x="16829" y="0"/>
                  <a:pt x="10518" y="264"/>
                </a:cubicBezTo>
                <a:cubicBezTo>
                  <a:pt x="4688" y="499"/>
                  <a:pt x="0" y="8804"/>
                  <a:pt x="0" y="21453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4770360"/>
            <a:ext cx="717480" cy="54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307" y="21600"/>
                </a:moveTo>
                <a:cubicBezTo>
                  <a:pt x="14445" y="19511"/>
                  <a:pt x="21600" y="3683"/>
                  <a:pt x="20055" y="708"/>
                </a:cubicBezTo>
                <a:cubicBezTo>
                  <a:pt x="18429" y="177"/>
                  <a:pt x="16695" y="0"/>
                  <a:pt x="14797" y="0"/>
                </a:cubicBezTo>
                <a:cubicBezTo>
                  <a:pt x="6233" y="0"/>
                  <a:pt x="1003" y="5524"/>
                  <a:pt x="0" y="21529"/>
                </a:cubicBezTo>
                <a:cubicBezTo>
                  <a:pt x="0" y="21529"/>
                  <a:pt x="13307" y="21600"/>
                  <a:pt x="13307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21000" y="4788000"/>
            <a:ext cx="558720" cy="53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55"/>
                </a:moveTo>
                <a:cubicBezTo>
                  <a:pt x="1461" y="19345"/>
                  <a:pt x="10643" y="3055"/>
                  <a:pt x="8661" y="0"/>
                </a:cubicBezTo>
                <a:cubicBezTo>
                  <a:pt x="16591" y="2036"/>
                  <a:pt x="21600" y="8436"/>
                  <a:pt x="21496" y="21600"/>
                </a:cubicBezTo>
                <a:cubicBezTo>
                  <a:pt x="21496" y="21600"/>
                  <a:pt x="0" y="21455"/>
                  <a:pt x="0" y="21455"/>
                </a:cubicBezTo>
              </a:path>
            </a:pathLst>
          </a:custGeom>
          <a:solidFill>
            <a:srgbClr val="fff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4770360"/>
            <a:ext cx="1000080" cy="55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42" y="21600"/>
                </a:moveTo>
                <a:cubicBezTo>
                  <a:pt x="21600" y="5576"/>
                  <a:pt x="17074" y="0"/>
                  <a:pt x="10606" y="0"/>
                </a:cubicBezTo>
                <a:cubicBezTo>
                  <a:pt x="4468" y="0"/>
                  <a:pt x="719" y="5506"/>
                  <a:pt x="0" y="2145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4119480"/>
            <a:ext cx="1861920" cy="120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6" y="21600"/>
                </a:moveTo>
                <a:cubicBezTo>
                  <a:pt x="63" y="17868"/>
                  <a:pt x="0" y="16091"/>
                  <a:pt x="2307" y="12698"/>
                </a:cubicBezTo>
                <a:cubicBezTo>
                  <a:pt x="3236" y="11309"/>
                  <a:pt x="4834" y="9677"/>
                  <a:pt x="6431" y="7593"/>
                </a:cubicBezTo>
                <a:cubicBezTo>
                  <a:pt x="7621" y="5994"/>
                  <a:pt x="8707" y="4104"/>
                  <a:pt x="9813" y="2989"/>
                </a:cubicBezTo>
                <a:cubicBezTo>
                  <a:pt x="11296" y="1519"/>
                  <a:pt x="13248" y="1599"/>
                  <a:pt x="15242" y="824"/>
                </a:cubicBezTo>
                <a:cubicBezTo>
                  <a:pt x="16255" y="469"/>
                  <a:pt x="16954" y="1292"/>
                  <a:pt x="17267" y="0"/>
                </a:cubicBezTo>
                <a:cubicBezTo>
                  <a:pt x="20629" y="5751"/>
                  <a:pt x="21120" y="15655"/>
                  <a:pt x="21600" y="21600"/>
                </a:cubicBezTo>
                <a:cubicBezTo>
                  <a:pt x="21600" y="21600"/>
                  <a:pt x="376" y="21600"/>
                  <a:pt x="376" y="21600"/>
                </a:cubicBezTo>
              </a:path>
            </a:pathLst>
          </a:cu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7920" y="3819600"/>
            <a:ext cx="1814400" cy="150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64" y="21600"/>
                </a:moveTo>
                <a:cubicBezTo>
                  <a:pt x="3943" y="18612"/>
                  <a:pt x="3879" y="17189"/>
                  <a:pt x="6246" y="14473"/>
                </a:cubicBezTo>
                <a:cubicBezTo>
                  <a:pt x="7200" y="13361"/>
                  <a:pt x="8839" y="12055"/>
                  <a:pt x="10479" y="10386"/>
                </a:cubicBezTo>
                <a:cubicBezTo>
                  <a:pt x="11700" y="9106"/>
                  <a:pt x="12814" y="7592"/>
                  <a:pt x="13950" y="6700"/>
                </a:cubicBezTo>
                <a:cubicBezTo>
                  <a:pt x="15471" y="5523"/>
                  <a:pt x="17475" y="5588"/>
                  <a:pt x="19521" y="4967"/>
                </a:cubicBezTo>
                <a:cubicBezTo>
                  <a:pt x="20561" y="4682"/>
                  <a:pt x="21279" y="5342"/>
                  <a:pt x="21600" y="4307"/>
                </a:cubicBezTo>
                <a:cubicBezTo>
                  <a:pt x="20057" y="2251"/>
                  <a:pt x="17936" y="828"/>
                  <a:pt x="14925" y="686"/>
                </a:cubicBezTo>
                <a:cubicBezTo>
                  <a:pt x="3321" y="0"/>
                  <a:pt x="0" y="12016"/>
                  <a:pt x="289" y="21600"/>
                </a:cubicBezTo>
                <a:cubicBezTo>
                  <a:pt x="289" y="21600"/>
                  <a:pt x="4264" y="21600"/>
                  <a:pt x="4264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73440" y="3751200"/>
            <a:ext cx="2327400" cy="15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95" y="21600"/>
                </a:moveTo>
                <a:cubicBezTo>
                  <a:pt x="1295" y="21600"/>
                  <a:pt x="326" y="21600"/>
                  <a:pt x="326" y="21600"/>
                </a:cubicBezTo>
                <a:cubicBezTo>
                  <a:pt x="0" y="12705"/>
                  <a:pt x="1955" y="0"/>
                  <a:pt x="12370" y="0"/>
                </a:cubicBezTo>
                <a:cubicBezTo>
                  <a:pt x="18058" y="0"/>
                  <a:pt x="20481" y="6037"/>
                  <a:pt x="21600" y="12000"/>
                </a:cubicBezTo>
                <a:cubicBezTo>
                  <a:pt x="21600" y="12000"/>
                  <a:pt x="20715" y="14771"/>
                  <a:pt x="20715" y="14771"/>
                </a:cubicBezTo>
                <a:cubicBezTo>
                  <a:pt x="19896" y="8610"/>
                  <a:pt x="18084" y="1955"/>
                  <a:pt x="12704" y="1596"/>
                </a:cubicBezTo>
                <a:cubicBezTo>
                  <a:pt x="3658" y="940"/>
                  <a:pt x="1069" y="12433"/>
                  <a:pt x="1295" y="21600"/>
                </a:cubicBezTo>
              </a:path>
            </a:pathLst>
          </a:custGeom>
          <a:solidFill>
            <a:srgbClr val="66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73440" y="3751200"/>
            <a:ext cx="2435400" cy="15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19" y="21600"/>
                </a:moveTo>
                <a:cubicBezTo>
                  <a:pt x="19884" y="15006"/>
                  <a:pt x="19357" y="2115"/>
                  <a:pt x="12141" y="1596"/>
                </a:cubicBezTo>
                <a:cubicBezTo>
                  <a:pt x="3496" y="940"/>
                  <a:pt x="1022" y="12433"/>
                  <a:pt x="1237" y="21600"/>
                </a:cubicBezTo>
                <a:cubicBezTo>
                  <a:pt x="1237" y="21600"/>
                  <a:pt x="311" y="21600"/>
                  <a:pt x="311" y="21600"/>
                </a:cubicBezTo>
                <a:cubicBezTo>
                  <a:pt x="0" y="12705"/>
                  <a:pt x="1868" y="0"/>
                  <a:pt x="11822" y="0"/>
                </a:cubicBezTo>
                <a:cubicBezTo>
                  <a:pt x="20658" y="0"/>
                  <a:pt x="21249" y="16021"/>
                  <a:pt x="21600" y="21600"/>
                </a:cubicBezTo>
                <a:cubicBezTo>
                  <a:pt x="21600" y="21600"/>
                  <a:pt x="20419" y="21600"/>
                  <a:pt x="20419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73440" y="3751200"/>
            <a:ext cx="2371680" cy="15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573"/>
                </a:moveTo>
                <a:cubicBezTo>
                  <a:pt x="20723" y="7918"/>
                  <a:pt x="18534" y="0"/>
                  <a:pt x="12140" y="0"/>
                </a:cubicBezTo>
                <a:cubicBezTo>
                  <a:pt x="1918" y="0"/>
                  <a:pt x="0" y="12705"/>
                  <a:pt x="32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9360" y="3819600"/>
            <a:ext cx="2185920" cy="150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004" y="14706"/>
                  <a:pt x="20418" y="1229"/>
                  <a:pt x="12382" y="686"/>
                </a:cubicBezTo>
                <a:cubicBezTo>
                  <a:pt x="2756" y="0"/>
                  <a:pt x="0" y="12016"/>
                  <a:pt x="24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75200" y="2478240"/>
            <a:ext cx="84240" cy="16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16" y="243"/>
                </a:moveTo>
                <a:cubicBezTo>
                  <a:pt x="19277" y="0"/>
                  <a:pt x="21600" y="6674"/>
                  <a:pt x="21600" y="11285"/>
                </a:cubicBezTo>
                <a:cubicBezTo>
                  <a:pt x="21600" y="14319"/>
                  <a:pt x="19277" y="20872"/>
                  <a:pt x="10916" y="21357"/>
                </a:cubicBezTo>
                <a:cubicBezTo>
                  <a:pt x="3948" y="21600"/>
                  <a:pt x="929" y="16503"/>
                  <a:pt x="232" y="11649"/>
                </a:cubicBezTo>
                <a:cubicBezTo>
                  <a:pt x="0" y="6189"/>
                  <a:pt x="2323" y="485"/>
                  <a:pt x="10916" y="243"/>
                </a:cubicBezTo>
              </a:path>
            </a:pathLst>
          </a:custGeom>
          <a:solidFill>
            <a:srgbClr val="cccc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38600" y="2427120"/>
            <a:ext cx="1354320" cy="265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18" y="21431"/>
                </a:moveTo>
                <a:cubicBezTo>
                  <a:pt x="2255" y="21600"/>
                  <a:pt x="905" y="21431"/>
                  <a:pt x="761" y="20926"/>
                </a:cubicBezTo>
                <a:cubicBezTo>
                  <a:pt x="460" y="19951"/>
                  <a:pt x="402" y="18611"/>
                  <a:pt x="402" y="17255"/>
                </a:cubicBezTo>
                <a:cubicBezTo>
                  <a:pt x="402" y="15878"/>
                  <a:pt x="402" y="14566"/>
                  <a:pt x="273" y="13240"/>
                </a:cubicBezTo>
                <a:cubicBezTo>
                  <a:pt x="215" y="12624"/>
                  <a:pt x="0" y="11262"/>
                  <a:pt x="0" y="11262"/>
                </a:cubicBezTo>
                <a:cubicBezTo>
                  <a:pt x="0" y="11262"/>
                  <a:pt x="862" y="11042"/>
                  <a:pt x="1063" y="10771"/>
                </a:cubicBezTo>
                <a:cubicBezTo>
                  <a:pt x="1307" y="10463"/>
                  <a:pt x="1364" y="9855"/>
                  <a:pt x="1364" y="9855"/>
                </a:cubicBezTo>
                <a:cubicBezTo>
                  <a:pt x="1364" y="9855"/>
                  <a:pt x="5931" y="7364"/>
                  <a:pt x="8229" y="6118"/>
                </a:cubicBezTo>
                <a:cubicBezTo>
                  <a:pt x="9651" y="5356"/>
                  <a:pt x="11102" y="4579"/>
                  <a:pt x="12552" y="3825"/>
                </a:cubicBezTo>
                <a:cubicBezTo>
                  <a:pt x="14189" y="2997"/>
                  <a:pt x="15927" y="2169"/>
                  <a:pt x="17449" y="1282"/>
                </a:cubicBezTo>
                <a:cubicBezTo>
                  <a:pt x="17880" y="1033"/>
                  <a:pt x="18268" y="821"/>
                  <a:pt x="18670" y="608"/>
                </a:cubicBezTo>
                <a:cubicBezTo>
                  <a:pt x="19087" y="337"/>
                  <a:pt x="19518" y="81"/>
                  <a:pt x="20049" y="29"/>
                </a:cubicBezTo>
                <a:cubicBezTo>
                  <a:pt x="20437" y="0"/>
                  <a:pt x="21011" y="66"/>
                  <a:pt x="21255" y="271"/>
                </a:cubicBezTo>
                <a:cubicBezTo>
                  <a:pt x="21571" y="542"/>
                  <a:pt x="21600" y="974"/>
                  <a:pt x="21571" y="1392"/>
                </a:cubicBezTo>
                <a:cubicBezTo>
                  <a:pt x="21528" y="1707"/>
                  <a:pt x="21356" y="2367"/>
                  <a:pt x="21356" y="2367"/>
                </a:cubicBezTo>
                <a:cubicBezTo>
                  <a:pt x="21356" y="2367"/>
                  <a:pt x="20824" y="2865"/>
                  <a:pt x="20537" y="3085"/>
                </a:cubicBezTo>
                <a:cubicBezTo>
                  <a:pt x="20164" y="3348"/>
                  <a:pt x="19877" y="3510"/>
                  <a:pt x="19618" y="3693"/>
                </a:cubicBezTo>
                <a:cubicBezTo>
                  <a:pt x="19273" y="3891"/>
                  <a:pt x="18570" y="4330"/>
                  <a:pt x="18570" y="4330"/>
                </a:cubicBezTo>
                <a:cubicBezTo>
                  <a:pt x="18570" y="4330"/>
                  <a:pt x="18771" y="5561"/>
                  <a:pt x="18771" y="5561"/>
                </a:cubicBezTo>
                <a:cubicBezTo>
                  <a:pt x="18771" y="5561"/>
                  <a:pt x="18670" y="5722"/>
                  <a:pt x="18570" y="5818"/>
                </a:cubicBezTo>
                <a:cubicBezTo>
                  <a:pt x="17966" y="6301"/>
                  <a:pt x="17177" y="6704"/>
                  <a:pt x="16573" y="7202"/>
                </a:cubicBezTo>
                <a:cubicBezTo>
                  <a:pt x="16257" y="7459"/>
                  <a:pt x="15798" y="7891"/>
                  <a:pt x="15798" y="7891"/>
                </a:cubicBezTo>
                <a:cubicBezTo>
                  <a:pt x="15798" y="7891"/>
                  <a:pt x="15927" y="8675"/>
                  <a:pt x="16013" y="8998"/>
                </a:cubicBezTo>
                <a:cubicBezTo>
                  <a:pt x="16143" y="9415"/>
                  <a:pt x="16257" y="9855"/>
                  <a:pt x="16344" y="10265"/>
                </a:cubicBezTo>
                <a:cubicBezTo>
                  <a:pt x="16502" y="10595"/>
                  <a:pt x="16645" y="11042"/>
                  <a:pt x="16401" y="11423"/>
                </a:cubicBezTo>
                <a:cubicBezTo>
                  <a:pt x="16143" y="11892"/>
                  <a:pt x="15295" y="12331"/>
                  <a:pt x="14663" y="12712"/>
                </a:cubicBezTo>
                <a:cubicBezTo>
                  <a:pt x="14031" y="13079"/>
                  <a:pt x="13328" y="13364"/>
                  <a:pt x="12495" y="13636"/>
                </a:cubicBezTo>
                <a:cubicBezTo>
                  <a:pt x="12093" y="13775"/>
                  <a:pt x="10269" y="14471"/>
                  <a:pt x="10269" y="14471"/>
                </a:cubicBezTo>
                <a:cubicBezTo>
                  <a:pt x="10269" y="14471"/>
                  <a:pt x="10570" y="15526"/>
                  <a:pt x="10699" y="16053"/>
                </a:cubicBezTo>
                <a:cubicBezTo>
                  <a:pt x="10757" y="16361"/>
                  <a:pt x="10915" y="16676"/>
                  <a:pt x="10915" y="16984"/>
                </a:cubicBezTo>
                <a:cubicBezTo>
                  <a:pt x="10915" y="17109"/>
                  <a:pt x="10814" y="17240"/>
                  <a:pt x="10699" y="17350"/>
                </a:cubicBezTo>
                <a:cubicBezTo>
                  <a:pt x="10053" y="17841"/>
                  <a:pt x="9321" y="18303"/>
                  <a:pt x="8588" y="18772"/>
                </a:cubicBezTo>
                <a:cubicBezTo>
                  <a:pt x="7655" y="19299"/>
                  <a:pt x="4265" y="21278"/>
                  <a:pt x="3318" y="21431"/>
                </a:cubicBezTo>
              </a:path>
            </a:pathLst>
          </a:custGeom>
          <a:solidFill>
            <a:srgbClr val="666666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42000" y="3527280"/>
            <a:ext cx="40140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95" y="15225"/>
                </a:moveTo>
                <a:cubicBezTo>
                  <a:pt x="21600" y="14285"/>
                  <a:pt x="21358" y="13192"/>
                  <a:pt x="21020" y="12141"/>
                </a:cubicBezTo>
                <a:cubicBezTo>
                  <a:pt x="20005" y="9168"/>
                  <a:pt x="16381" y="6237"/>
                  <a:pt x="17058" y="3208"/>
                </a:cubicBezTo>
                <a:cubicBezTo>
                  <a:pt x="17299" y="1576"/>
                  <a:pt x="20005" y="0"/>
                  <a:pt x="18266" y="691"/>
                </a:cubicBezTo>
                <a:cubicBezTo>
                  <a:pt x="15608" y="1715"/>
                  <a:pt x="14448" y="3070"/>
                  <a:pt x="14062" y="4342"/>
                </a:cubicBezTo>
                <a:cubicBezTo>
                  <a:pt x="13337" y="6361"/>
                  <a:pt x="14448" y="8394"/>
                  <a:pt x="14932" y="10427"/>
                </a:cubicBezTo>
                <a:cubicBezTo>
                  <a:pt x="15366" y="12086"/>
                  <a:pt x="15511" y="13815"/>
                  <a:pt x="13723" y="15336"/>
                </a:cubicBezTo>
                <a:cubicBezTo>
                  <a:pt x="11887" y="16954"/>
                  <a:pt x="0" y="21600"/>
                  <a:pt x="0" y="21600"/>
                </a:cubicBezTo>
                <a:cubicBezTo>
                  <a:pt x="0" y="21600"/>
                  <a:pt x="11597" y="18336"/>
                  <a:pt x="14352" y="17451"/>
                </a:cubicBezTo>
                <a:cubicBezTo>
                  <a:pt x="16091" y="16912"/>
                  <a:pt x="18991" y="16165"/>
                  <a:pt x="20295" y="15225"/>
                </a:cubicBezTo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10240" y="2643120"/>
            <a:ext cx="1069920" cy="205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255" y="19361"/>
                </a:moveTo>
                <a:cubicBezTo>
                  <a:pt x="2982" y="20060"/>
                  <a:pt x="2873" y="21600"/>
                  <a:pt x="1564" y="21335"/>
                </a:cubicBezTo>
                <a:cubicBezTo>
                  <a:pt x="0" y="21033"/>
                  <a:pt x="673" y="19672"/>
                  <a:pt x="564" y="18831"/>
                </a:cubicBezTo>
                <a:cubicBezTo>
                  <a:pt x="436" y="17282"/>
                  <a:pt x="764" y="15789"/>
                  <a:pt x="709" y="14306"/>
                </a:cubicBezTo>
                <a:cubicBezTo>
                  <a:pt x="673" y="13266"/>
                  <a:pt x="273" y="12227"/>
                  <a:pt x="1255" y="11518"/>
                </a:cubicBezTo>
                <a:cubicBezTo>
                  <a:pt x="6364" y="7843"/>
                  <a:pt x="11164" y="5187"/>
                  <a:pt x="16200" y="2636"/>
                </a:cubicBezTo>
                <a:cubicBezTo>
                  <a:pt x="18818" y="1285"/>
                  <a:pt x="21600" y="0"/>
                  <a:pt x="21182" y="369"/>
                </a:cubicBezTo>
                <a:cubicBezTo>
                  <a:pt x="19945" y="1512"/>
                  <a:pt x="17418" y="2532"/>
                  <a:pt x="15855" y="3572"/>
                </a:cubicBezTo>
                <a:cubicBezTo>
                  <a:pt x="14255" y="4611"/>
                  <a:pt x="12691" y="5679"/>
                  <a:pt x="11073" y="6756"/>
                </a:cubicBezTo>
                <a:cubicBezTo>
                  <a:pt x="9109" y="8031"/>
                  <a:pt x="6855" y="9250"/>
                  <a:pt x="5418" y="10715"/>
                </a:cubicBezTo>
                <a:cubicBezTo>
                  <a:pt x="4600" y="11518"/>
                  <a:pt x="4745" y="12501"/>
                  <a:pt x="4527" y="13417"/>
                </a:cubicBezTo>
                <a:cubicBezTo>
                  <a:pt x="4018" y="15383"/>
                  <a:pt x="3982" y="17405"/>
                  <a:pt x="3255" y="19361"/>
                </a:cubicBezTo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22880" y="2989440"/>
            <a:ext cx="55872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374" y="522"/>
                </a:moveTo>
                <a:cubicBezTo>
                  <a:pt x="21600" y="816"/>
                  <a:pt x="19026" y="4764"/>
                  <a:pt x="17739" y="6493"/>
                </a:cubicBezTo>
                <a:cubicBezTo>
                  <a:pt x="15409" y="9625"/>
                  <a:pt x="12939" y="11550"/>
                  <a:pt x="9948" y="14128"/>
                </a:cubicBezTo>
                <a:cubicBezTo>
                  <a:pt x="7235" y="16379"/>
                  <a:pt x="5948" y="20589"/>
                  <a:pt x="2435" y="21208"/>
                </a:cubicBezTo>
                <a:cubicBezTo>
                  <a:pt x="0" y="21600"/>
                  <a:pt x="2887" y="16379"/>
                  <a:pt x="4139" y="14389"/>
                </a:cubicBezTo>
                <a:cubicBezTo>
                  <a:pt x="6296" y="11094"/>
                  <a:pt x="9357" y="8255"/>
                  <a:pt x="12313" y="5547"/>
                </a:cubicBezTo>
                <a:cubicBezTo>
                  <a:pt x="14470" y="3589"/>
                  <a:pt x="16452" y="0"/>
                  <a:pt x="19374" y="522"/>
                </a:cubicBezTo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61040" y="3432240"/>
            <a:ext cx="307800" cy="60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277"/>
                </a:moveTo>
                <a:cubicBezTo>
                  <a:pt x="0" y="13993"/>
                  <a:pt x="253" y="12678"/>
                  <a:pt x="1204" y="11073"/>
                </a:cubicBezTo>
                <a:cubicBezTo>
                  <a:pt x="2027" y="9885"/>
                  <a:pt x="4561" y="7221"/>
                  <a:pt x="4561" y="7221"/>
                </a:cubicBezTo>
                <a:cubicBezTo>
                  <a:pt x="4561" y="7221"/>
                  <a:pt x="5764" y="9564"/>
                  <a:pt x="6841" y="10559"/>
                </a:cubicBezTo>
                <a:cubicBezTo>
                  <a:pt x="7791" y="11490"/>
                  <a:pt x="9248" y="12260"/>
                  <a:pt x="11022" y="12549"/>
                </a:cubicBezTo>
                <a:cubicBezTo>
                  <a:pt x="12035" y="12678"/>
                  <a:pt x="14569" y="12421"/>
                  <a:pt x="14569" y="12421"/>
                </a:cubicBezTo>
                <a:cubicBezTo>
                  <a:pt x="14569" y="12421"/>
                  <a:pt x="12605" y="9243"/>
                  <a:pt x="12225" y="7863"/>
                </a:cubicBezTo>
                <a:cubicBezTo>
                  <a:pt x="11845" y="6579"/>
                  <a:pt x="11845" y="4718"/>
                  <a:pt x="12985" y="2953"/>
                </a:cubicBezTo>
                <a:cubicBezTo>
                  <a:pt x="13302" y="2182"/>
                  <a:pt x="14316" y="1476"/>
                  <a:pt x="15646" y="802"/>
                </a:cubicBezTo>
                <a:cubicBezTo>
                  <a:pt x="16596" y="353"/>
                  <a:pt x="18813" y="0"/>
                  <a:pt x="18813" y="0"/>
                </a:cubicBezTo>
                <a:cubicBezTo>
                  <a:pt x="18813" y="0"/>
                  <a:pt x="19256" y="3113"/>
                  <a:pt x="19573" y="4654"/>
                </a:cubicBezTo>
                <a:cubicBezTo>
                  <a:pt x="19763" y="6098"/>
                  <a:pt x="20333" y="7639"/>
                  <a:pt x="20523" y="8088"/>
                </a:cubicBezTo>
                <a:cubicBezTo>
                  <a:pt x="21157" y="9725"/>
                  <a:pt x="21600" y="11265"/>
                  <a:pt x="21600" y="11265"/>
                </a:cubicBezTo>
                <a:cubicBezTo>
                  <a:pt x="21600" y="11265"/>
                  <a:pt x="14316" y="16336"/>
                  <a:pt x="13175" y="17139"/>
                </a:cubicBezTo>
                <a:cubicBezTo>
                  <a:pt x="11402" y="18358"/>
                  <a:pt x="8995" y="19482"/>
                  <a:pt x="7791" y="20220"/>
                </a:cubicBezTo>
                <a:cubicBezTo>
                  <a:pt x="7158" y="20573"/>
                  <a:pt x="6271" y="21054"/>
                  <a:pt x="5448" y="21215"/>
                </a:cubicBezTo>
                <a:cubicBezTo>
                  <a:pt x="4561" y="21375"/>
                  <a:pt x="3357" y="21600"/>
                  <a:pt x="2407" y="21343"/>
                </a:cubicBezTo>
                <a:cubicBezTo>
                  <a:pt x="1204" y="21054"/>
                  <a:pt x="633" y="19738"/>
                  <a:pt x="380" y="18423"/>
                </a:cubicBezTo>
                <a:cubicBezTo>
                  <a:pt x="253" y="17620"/>
                  <a:pt x="0" y="16754"/>
                  <a:pt x="0" y="15277"/>
                </a:cubicBezTo>
              </a:path>
            </a:pathLst>
          </a:custGeom>
          <a:solidFill>
            <a:srgbClr val="cccc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05120" y="5322960"/>
            <a:ext cx="52092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-1"/>
                </a:moveTo>
                <a:cubicBezTo>
                  <a:pt x="0" y="-1"/>
                  <a:pt x="21600" y="-1"/>
                  <a:pt x="21600" y="-1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95400" y="5316480"/>
            <a:ext cx="582840" cy="180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-1"/>
                </a:moveTo>
                <a:cubicBezTo>
                  <a:pt x="0" y="-1"/>
                  <a:pt x="21600" y="-1"/>
                  <a:pt x="21600" y="-1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2T11:21:00Z</dcterms:created>
  <dc:creator>OfficeHamada</dc:creator>
  <dc:description/>
  <dc:language>en-US</dc:language>
  <cp:lastModifiedBy>OfficeHamada</cp:lastModifiedBy>
  <cp:lastPrinted>2016-03-02T19:50:52Z</cp:lastPrinted>
  <dcterms:modified xsi:type="dcterms:W3CDTF">2016-03-18T13:59:59Z</dcterms:modified>
  <cp:revision>52</cp:revision>
  <dc:subject/>
  <dc:title/>
</cp:coreProperties>
</file>