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1268280"/>
            <a:ext cx="5398920" cy="278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21544"/>
                  <a:pt x="21600" y="21544"/>
                </a:cubicBezTo>
                <a:cubicBezTo>
                  <a:pt x="20293" y="21600"/>
                  <a:pt x="18432" y="21558"/>
                  <a:pt x="18432" y="21558"/>
                </a:cubicBezTo>
                <a:cubicBezTo>
                  <a:pt x="18432" y="21558"/>
                  <a:pt x="10181" y="21454"/>
                  <a:pt x="6062" y="21426"/>
                </a:cubicBezTo>
                <a:cubicBezTo>
                  <a:pt x="4043" y="21412"/>
                  <a:pt x="2023" y="21412"/>
                  <a:pt x="0" y="21426"/>
                </a:cubicBezTo>
                <a:cubicBezTo>
                  <a:pt x="0" y="21426"/>
                  <a:pt x="0" y="0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20720" y="4030560"/>
            <a:ext cx="5398920" cy="395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3"/>
                </a:moveTo>
                <a:cubicBezTo>
                  <a:pt x="21600" y="103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0" y="21600"/>
                  <a:pt x="0" y="10"/>
                  <a:pt x="0" y="10"/>
                </a:cubicBezTo>
                <a:cubicBezTo>
                  <a:pt x="2023" y="0"/>
                  <a:pt x="4043" y="10"/>
                  <a:pt x="6062" y="20"/>
                </a:cubicBezTo>
                <a:cubicBezTo>
                  <a:pt x="10181" y="39"/>
                  <a:pt x="18432" y="113"/>
                  <a:pt x="18432" y="113"/>
                </a:cubicBezTo>
                <a:cubicBezTo>
                  <a:pt x="18432" y="113"/>
                  <a:pt x="20293" y="143"/>
                  <a:pt x="21600" y="10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6006960" y="2098800"/>
            <a:ext cx="11268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9583"/>
                </a:moveTo>
                <a:cubicBezTo>
                  <a:pt x="19872" y="20299"/>
                  <a:pt x="17798" y="20949"/>
                  <a:pt x="16070" y="21600"/>
                </a:cubicBezTo>
                <a:cubicBezTo>
                  <a:pt x="13997" y="21080"/>
                  <a:pt x="11059" y="20429"/>
                  <a:pt x="9158" y="19713"/>
                </a:cubicBezTo>
                <a:cubicBezTo>
                  <a:pt x="4147" y="18087"/>
                  <a:pt x="864" y="15484"/>
                  <a:pt x="346" y="13012"/>
                </a:cubicBezTo>
                <a:cubicBezTo>
                  <a:pt x="0" y="10410"/>
                  <a:pt x="2592" y="7677"/>
                  <a:pt x="6739" y="5595"/>
                </a:cubicBezTo>
                <a:cubicBezTo>
                  <a:pt x="10541" y="3383"/>
                  <a:pt x="15725" y="1627"/>
                  <a:pt x="21600" y="0"/>
                </a:cubicBezTo>
                <a:cubicBezTo>
                  <a:pt x="21600" y="0"/>
                  <a:pt x="21600" y="19583"/>
                  <a:pt x="21600" y="19583"/>
                </a:cubicBezTo>
              </a:path>
            </a:pathLst>
          </a:cu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006960" y="2098800"/>
            <a:ext cx="11268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9583"/>
                  <a:pt x="21600" y="19583"/>
                </a:cubicBezTo>
                <a:cubicBezTo>
                  <a:pt x="19872" y="20299"/>
                  <a:pt x="17798" y="20949"/>
                  <a:pt x="16070" y="21600"/>
                </a:cubicBezTo>
                <a:cubicBezTo>
                  <a:pt x="13997" y="21080"/>
                  <a:pt x="11059" y="20429"/>
                  <a:pt x="9158" y="19713"/>
                </a:cubicBezTo>
                <a:cubicBezTo>
                  <a:pt x="4147" y="18087"/>
                  <a:pt x="864" y="15484"/>
                  <a:pt x="346" y="13012"/>
                </a:cubicBezTo>
                <a:cubicBezTo>
                  <a:pt x="0" y="10410"/>
                  <a:pt x="2592" y="7677"/>
                  <a:pt x="6739" y="5595"/>
                </a:cubicBezTo>
                <a:cubicBezTo>
                  <a:pt x="10541" y="3383"/>
                  <a:pt x="15725" y="1627"/>
                  <a:pt x="2160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20720" y="1488960"/>
            <a:ext cx="5398920" cy="256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830"/>
                </a:moveTo>
                <a:cubicBezTo>
                  <a:pt x="21600" y="7830"/>
                  <a:pt x="21600" y="21600"/>
                  <a:pt x="21600" y="21600"/>
                </a:cubicBezTo>
                <a:cubicBezTo>
                  <a:pt x="21492" y="21600"/>
                  <a:pt x="21431" y="21600"/>
                  <a:pt x="21431" y="21600"/>
                </a:cubicBezTo>
                <a:cubicBezTo>
                  <a:pt x="21431" y="21600"/>
                  <a:pt x="11837" y="21486"/>
                  <a:pt x="7049" y="21456"/>
                </a:cubicBezTo>
                <a:cubicBezTo>
                  <a:pt x="4702" y="21441"/>
                  <a:pt x="2351" y="21441"/>
                  <a:pt x="0" y="21456"/>
                </a:cubicBezTo>
                <a:cubicBezTo>
                  <a:pt x="0" y="21456"/>
                  <a:pt x="0" y="17230"/>
                  <a:pt x="0" y="17230"/>
                </a:cubicBezTo>
                <a:cubicBezTo>
                  <a:pt x="0" y="17230"/>
                  <a:pt x="6480" y="16828"/>
                  <a:pt x="6480" y="16828"/>
                </a:cubicBezTo>
                <a:cubicBezTo>
                  <a:pt x="6480" y="16828"/>
                  <a:pt x="6995" y="16092"/>
                  <a:pt x="7142" y="15424"/>
                </a:cubicBezTo>
                <a:cubicBezTo>
                  <a:pt x="7157" y="15341"/>
                  <a:pt x="7171" y="15257"/>
                  <a:pt x="7178" y="15181"/>
                </a:cubicBezTo>
                <a:cubicBezTo>
                  <a:pt x="7265" y="14104"/>
                  <a:pt x="7348" y="13080"/>
                  <a:pt x="7574" y="12124"/>
                </a:cubicBezTo>
                <a:cubicBezTo>
                  <a:pt x="7834" y="11016"/>
                  <a:pt x="8251" y="10129"/>
                  <a:pt x="8647" y="9218"/>
                </a:cubicBezTo>
                <a:cubicBezTo>
                  <a:pt x="9169" y="8004"/>
                  <a:pt x="9796" y="6995"/>
                  <a:pt x="10440" y="6047"/>
                </a:cubicBezTo>
                <a:cubicBezTo>
                  <a:pt x="10926" y="5349"/>
                  <a:pt x="11473" y="4689"/>
                  <a:pt x="12049" y="4332"/>
                </a:cubicBezTo>
                <a:cubicBezTo>
                  <a:pt x="12492" y="4067"/>
                  <a:pt x="12960" y="4438"/>
                  <a:pt x="13378" y="4105"/>
                </a:cubicBezTo>
                <a:cubicBezTo>
                  <a:pt x="13784" y="3778"/>
                  <a:pt x="14047" y="2989"/>
                  <a:pt x="14404" y="2428"/>
                </a:cubicBezTo>
                <a:cubicBezTo>
                  <a:pt x="14731" y="1919"/>
                  <a:pt x="15095" y="1495"/>
                  <a:pt x="15484" y="1153"/>
                </a:cubicBezTo>
                <a:cubicBezTo>
                  <a:pt x="15962" y="736"/>
                  <a:pt x="16470" y="379"/>
                  <a:pt x="16974" y="205"/>
                </a:cubicBezTo>
                <a:cubicBezTo>
                  <a:pt x="17446" y="46"/>
                  <a:pt x="17975" y="0"/>
                  <a:pt x="18461" y="15"/>
                </a:cubicBezTo>
                <a:cubicBezTo>
                  <a:pt x="18824" y="30"/>
                  <a:pt x="19159" y="137"/>
                  <a:pt x="19512" y="266"/>
                </a:cubicBezTo>
                <a:cubicBezTo>
                  <a:pt x="20117" y="478"/>
                  <a:pt x="20743" y="865"/>
                  <a:pt x="21085" y="1851"/>
                </a:cubicBezTo>
                <a:cubicBezTo>
                  <a:pt x="21290" y="2451"/>
                  <a:pt x="21280" y="3270"/>
                  <a:pt x="21085" y="3976"/>
                </a:cubicBezTo>
                <a:cubicBezTo>
                  <a:pt x="20866" y="4742"/>
                  <a:pt x="20520" y="5296"/>
                  <a:pt x="20272" y="6009"/>
                </a:cubicBezTo>
                <a:cubicBezTo>
                  <a:pt x="20081" y="6548"/>
                  <a:pt x="19958" y="7200"/>
                  <a:pt x="20059" y="7777"/>
                </a:cubicBezTo>
                <a:cubicBezTo>
                  <a:pt x="20167" y="8406"/>
                  <a:pt x="20444" y="8725"/>
                  <a:pt x="20718" y="8619"/>
                </a:cubicBezTo>
                <a:cubicBezTo>
                  <a:pt x="21006" y="8490"/>
                  <a:pt x="21251" y="8118"/>
                  <a:pt x="21485" y="7648"/>
                </a:cubicBezTo>
                <a:cubicBezTo>
                  <a:pt x="21532" y="7716"/>
                  <a:pt x="21553" y="7777"/>
                  <a:pt x="21600" y="7830"/>
                </a:cubicBezTo>
              </a:path>
            </a:pathLst>
          </a:custGeom>
          <a:solidFill>
            <a:srgbClr val="e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249640" y="1293840"/>
            <a:ext cx="3870000" cy="202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579"/>
                </a:moveTo>
                <a:cubicBezTo>
                  <a:pt x="21429" y="8818"/>
                  <a:pt x="21279" y="9078"/>
                  <a:pt x="21168" y="9404"/>
                </a:cubicBezTo>
                <a:cubicBezTo>
                  <a:pt x="21048" y="9711"/>
                  <a:pt x="20972" y="10114"/>
                  <a:pt x="20982" y="10498"/>
                </a:cubicBezTo>
                <a:cubicBezTo>
                  <a:pt x="20997" y="10862"/>
                  <a:pt x="21093" y="11246"/>
                  <a:pt x="21238" y="11486"/>
                </a:cubicBezTo>
                <a:cubicBezTo>
                  <a:pt x="21294" y="11592"/>
                  <a:pt x="21354" y="11688"/>
                  <a:pt x="21419" y="11764"/>
                </a:cubicBezTo>
                <a:cubicBezTo>
                  <a:pt x="21093" y="12359"/>
                  <a:pt x="20771" y="12829"/>
                  <a:pt x="20370" y="12993"/>
                </a:cubicBezTo>
                <a:cubicBezTo>
                  <a:pt x="19988" y="13127"/>
                  <a:pt x="19601" y="12724"/>
                  <a:pt x="19451" y="11927"/>
                </a:cubicBezTo>
                <a:cubicBezTo>
                  <a:pt x="19310" y="11198"/>
                  <a:pt x="19481" y="10373"/>
                  <a:pt x="19747" y="9692"/>
                </a:cubicBezTo>
                <a:cubicBezTo>
                  <a:pt x="20093" y="8790"/>
                  <a:pt x="20575" y="8089"/>
                  <a:pt x="20882" y="7120"/>
                </a:cubicBezTo>
                <a:cubicBezTo>
                  <a:pt x="21153" y="6228"/>
                  <a:pt x="21168" y="5191"/>
                  <a:pt x="20882" y="4433"/>
                </a:cubicBezTo>
                <a:cubicBezTo>
                  <a:pt x="20405" y="3186"/>
                  <a:pt x="19531" y="2696"/>
                  <a:pt x="18687" y="2428"/>
                </a:cubicBezTo>
                <a:cubicBezTo>
                  <a:pt x="18195" y="2265"/>
                  <a:pt x="17728" y="2130"/>
                  <a:pt x="17221" y="2111"/>
                </a:cubicBezTo>
                <a:cubicBezTo>
                  <a:pt x="16543" y="2092"/>
                  <a:pt x="15805" y="2149"/>
                  <a:pt x="15147" y="2351"/>
                </a:cubicBezTo>
                <a:cubicBezTo>
                  <a:pt x="14444" y="2572"/>
                  <a:pt x="13735" y="3023"/>
                  <a:pt x="13067" y="3550"/>
                </a:cubicBezTo>
                <a:cubicBezTo>
                  <a:pt x="12525" y="3982"/>
                  <a:pt x="12018" y="4520"/>
                  <a:pt x="11561" y="5163"/>
                </a:cubicBezTo>
                <a:cubicBezTo>
                  <a:pt x="11064" y="5873"/>
                  <a:pt x="10697" y="6871"/>
                  <a:pt x="10130" y="7283"/>
                </a:cubicBezTo>
                <a:cubicBezTo>
                  <a:pt x="9547" y="7705"/>
                  <a:pt x="8894" y="7235"/>
                  <a:pt x="8276" y="7571"/>
                </a:cubicBezTo>
                <a:cubicBezTo>
                  <a:pt x="7473" y="8022"/>
                  <a:pt x="6710" y="8857"/>
                  <a:pt x="6032" y="9740"/>
                </a:cubicBezTo>
                <a:cubicBezTo>
                  <a:pt x="5133" y="10939"/>
                  <a:pt x="4259" y="12215"/>
                  <a:pt x="3531" y="13751"/>
                </a:cubicBezTo>
                <a:cubicBezTo>
                  <a:pt x="2978" y="14902"/>
                  <a:pt x="2396" y="16025"/>
                  <a:pt x="2034" y="17426"/>
                </a:cubicBezTo>
                <a:cubicBezTo>
                  <a:pt x="1718" y="18635"/>
                  <a:pt x="1602" y="19930"/>
                  <a:pt x="1482" y="21293"/>
                </a:cubicBezTo>
                <a:cubicBezTo>
                  <a:pt x="1471" y="21389"/>
                  <a:pt x="1451" y="21494"/>
                  <a:pt x="1431" y="21600"/>
                </a:cubicBezTo>
                <a:cubicBezTo>
                  <a:pt x="1165" y="21600"/>
                  <a:pt x="904" y="21533"/>
                  <a:pt x="658" y="21331"/>
                </a:cubicBezTo>
                <a:cubicBezTo>
                  <a:pt x="296" y="21053"/>
                  <a:pt x="20" y="20237"/>
                  <a:pt x="10" y="19489"/>
                </a:cubicBezTo>
                <a:cubicBezTo>
                  <a:pt x="0" y="18107"/>
                  <a:pt x="221" y="16697"/>
                  <a:pt x="603" y="15516"/>
                </a:cubicBezTo>
                <a:cubicBezTo>
                  <a:pt x="1155" y="13799"/>
                  <a:pt x="1964" y="12398"/>
                  <a:pt x="2732" y="11016"/>
                </a:cubicBezTo>
                <a:cubicBezTo>
                  <a:pt x="3380" y="9864"/>
                  <a:pt x="4173" y="9058"/>
                  <a:pt x="4841" y="7945"/>
                </a:cubicBezTo>
                <a:cubicBezTo>
                  <a:pt x="5394" y="7034"/>
                  <a:pt x="5861" y="5940"/>
                  <a:pt x="6378" y="4971"/>
                </a:cubicBezTo>
                <a:cubicBezTo>
                  <a:pt x="6825" y="4136"/>
                  <a:pt x="7312" y="3406"/>
                  <a:pt x="7865" y="2927"/>
                </a:cubicBezTo>
                <a:cubicBezTo>
                  <a:pt x="8553" y="2313"/>
                  <a:pt x="9361" y="2313"/>
                  <a:pt x="10069" y="1785"/>
                </a:cubicBezTo>
                <a:cubicBezTo>
                  <a:pt x="10366" y="1564"/>
                  <a:pt x="10632" y="1132"/>
                  <a:pt x="10938" y="1113"/>
                </a:cubicBezTo>
                <a:cubicBezTo>
                  <a:pt x="11646" y="1056"/>
                  <a:pt x="12349" y="1650"/>
                  <a:pt x="13067" y="1507"/>
                </a:cubicBezTo>
                <a:cubicBezTo>
                  <a:pt x="13509" y="1420"/>
                  <a:pt x="13891" y="873"/>
                  <a:pt x="14333" y="653"/>
                </a:cubicBezTo>
                <a:cubicBezTo>
                  <a:pt x="14785" y="403"/>
                  <a:pt x="15252" y="67"/>
                  <a:pt x="15719" y="125"/>
                </a:cubicBezTo>
                <a:cubicBezTo>
                  <a:pt x="16196" y="192"/>
                  <a:pt x="16638" y="614"/>
                  <a:pt x="17095" y="653"/>
                </a:cubicBezTo>
                <a:cubicBezTo>
                  <a:pt x="17828" y="710"/>
                  <a:pt x="18557" y="0"/>
                  <a:pt x="19280" y="269"/>
                </a:cubicBezTo>
                <a:cubicBezTo>
                  <a:pt x="19692" y="403"/>
                  <a:pt x="19998" y="1257"/>
                  <a:pt x="20415" y="1180"/>
                </a:cubicBezTo>
                <a:cubicBezTo>
                  <a:pt x="20686" y="1113"/>
                  <a:pt x="20857" y="528"/>
                  <a:pt x="21038" y="691"/>
                </a:cubicBezTo>
                <a:cubicBezTo>
                  <a:pt x="21314" y="940"/>
                  <a:pt x="21178" y="1698"/>
                  <a:pt x="21354" y="2255"/>
                </a:cubicBezTo>
                <a:cubicBezTo>
                  <a:pt x="21419" y="2428"/>
                  <a:pt x="21505" y="2572"/>
                  <a:pt x="21600" y="2677"/>
                </a:cubicBezTo>
                <a:cubicBezTo>
                  <a:pt x="21600" y="2677"/>
                  <a:pt x="21600" y="8579"/>
                  <a:pt x="21600" y="8579"/>
                </a:cubicBezTo>
              </a:path>
            </a:pathLst>
          </a:custGeom>
          <a:solidFill>
            <a:srgbClr val="cc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49640" y="1293840"/>
            <a:ext cx="3870000" cy="202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658"/>
                </a:moveTo>
                <a:cubicBezTo>
                  <a:pt x="21600" y="2658"/>
                  <a:pt x="21600" y="8579"/>
                  <a:pt x="21600" y="8579"/>
                </a:cubicBezTo>
                <a:cubicBezTo>
                  <a:pt x="21429" y="8818"/>
                  <a:pt x="21279" y="9078"/>
                  <a:pt x="21168" y="9404"/>
                </a:cubicBezTo>
                <a:cubicBezTo>
                  <a:pt x="21048" y="9711"/>
                  <a:pt x="20972" y="10114"/>
                  <a:pt x="20982" y="10498"/>
                </a:cubicBezTo>
                <a:cubicBezTo>
                  <a:pt x="20997" y="10862"/>
                  <a:pt x="21093" y="11246"/>
                  <a:pt x="21238" y="11486"/>
                </a:cubicBezTo>
                <a:cubicBezTo>
                  <a:pt x="21294" y="11592"/>
                  <a:pt x="21354" y="11688"/>
                  <a:pt x="21419" y="11764"/>
                </a:cubicBezTo>
                <a:cubicBezTo>
                  <a:pt x="21093" y="12359"/>
                  <a:pt x="20771" y="12829"/>
                  <a:pt x="20370" y="12993"/>
                </a:cubicBezTo>
                <a:cubicBezTo>
                  <a:pt x="19988" y="13127"/>
                  <a:pt x="19601" y="12724"/>
                  <a:pt x="19451" y="11927"/>
                </a:cubicBezTo>
                <a:cubicBezTo>
                  <a:pt x="19310" y="11198"/>
                  <a:pt x="19481" y="10373"/>
                  <a:pt x="19747" y="9692"/>
                </a:cubicBezTo>
                <a:cubicBezTo>
                  <a:pt x="20093" y="8790"/>
                  <a:pt x="20575" y="8089"/>
                  <a:pt x="20882" y="7120"/>
                </a:cubicBezTo>
                <a:cubicBezTo>
                  <a:pt x="21153" y="6228"/>
                  <a:pt x="21168" y="5191"/>
                  <a:pt x="20882" y="4433"/>
                </a:cubicBezTo>
                <a:cubicBezTo>
                  <a:pt x="20405" y="3186"/>
                  <a:pt x="19531" y="2696"/>
                  <a:pt x="18687" y="2428"/>
                </a:cubicBezTo>
                <a:cubicBezTo>
                  <a:pt x="18195" y="2265"/>
                  <a:pt x="17728" y="2130"/>
                  <a:pt x="17221" y="2111"/>
                </a:cubicBezTo>
                <a:cubicBezTo>
                  <a:pt x="16543" y="2092"/>
                  <a:pt x="15805" y="2149"/>
                  <a:pt x="15147" y="2351"/>
                </a:cubicBezTo>
                <a:cubicBezTo>
                  <a:pt x="14444" y="2572"/>
                  <a:pt x="13735" y="3023"/>
                  <a:pt x="13067" y="3550"/>
                </a:cubicBezTo>
                <a:cubicBezTo>
                  <a:pt x="12525" y="3982"/>
                  <a:pt x="12018" y="4520"/>
                  <a:pt x="11561" y="5163"/>
                </a:cubicBezTo>
                <a:cubicBezTo>
                  <a:pt x="11064" y="5873"/>
                  <a:pt x="10697" y="6871"/>
                  <a:pt x="10130" y="7283"/>
                </a:cubicBezTo>
                <a:cubicBezTo>
                  <a:pt x="9547" y="7705"/>
                  <a:pt x="8894" y="7235"/>
                  <a:pt x="8276" y="7571"/>
                </a:cubicBezTo>
                <a:cubicBezTo>
                  <a:pt x="7473" y="8022"/>
                  <a:pt x="6710" y="8857"/>
                  <a:pt x="6032" y="9740"/>
                </a:cubicBezTo>
                <a:cubicBezTo>
                  <a:pt x="5133" y="10939"/>
                  <a:pt x="4259" y="12215"/>
                  <a:pt x="3531" y="13751"/>
                </a:cubicBezTo>
                <a:cubicBezTo>
                  <a:pt x="2978" y="14902"/>
                  <a:pt x="2396" y="16025"/>
                  <a:pt x="2034" y="17426"/>
                </a:cubicBezTo>
                <a:cubicBezTo>
                  <a:pt x="1718" y="18635"/>
                  <a:pt x="1602" y="19930"/>
                  <a:pt x="1482" y="21293"/>
                </a:cubicBezTo>
                <a:cubicBezTo>
                  <a:pt x="1471" y="21389"/>
                  <a:pt x="1451" y="21494"/>
                  <a:pt x="1431" y="21600"/>
                </a:cubicBezTo>
                <a:cubicBezTo>
                  <a:pt x="1165" y="21600"/>
                  <a:pt x="904" y="21533"/>
                  <a:pt x="658" y="21331"/>
                </a:cubicBezTo>
                <a:cubicBezTo>
                  <a:pt x="296" y="21053"/>
                  <a:pt x="20" y="20237"/>
                  <a:pt x="10" y="19489"/>
                </a:cubicBezTo>
                <a:cubicBezTo>
                  <a:pt x="0" y="18107"/>
                  <a:pt x="221" y="16697"/>
                  <a:pt x="603" y="15516"/>
                </a:cubicBezTo>
                <a:cubicBezTo>
                  <a:pt x="1155" y="13799"/>
                  <a:pt x="1964" y="12398"/>
                  <a:pt x="2732" y="11016"/>
                </a:cubicBezTo>
                <a:cubicBezTo>
                  <a:pt x="3380" y="9864"/>
                  <a:pt x="4173" y="9058"/>
                  <a:pt x="4841" y="7945"/>
                </a:cubicBezTo>
                <a:cubicBezTo>
                  <a:pt x="5394" y="7034"/>
                  <a:pt x="5861" y="5940"/>
                  <a:pt x="6378" y="4971"/>
                </a:cubicBezTo>
                <a:cubicBezTo>
                  <a:pt x="6825" y="4136"/>
                  <a:pt x="7312" y="3406"/>
                  <a:pt x="7865" y="2927"/>
                </a:cubicBezTo>
                <a:cubicBezTo>
                  <a:pt x="8553" y="2313"/>
                  <a:pt x="9361" y="2313"/>
                  <a:pt x="10069" y="1785"/>
                </a:cubicBezTo>
                <a:cubicBezTo>
                  <a:pt x="10366" y="1564"/>
                  <a:pt x="10632" y="1132"/>
                  <a:pt x="10938" y="1113"/>
                </a:cubicBezTo>
                <a:cubicBezTo>
                  <a:pt x="11646" y="1056"/>
                  <a:pt x="12349" y="1650"/>
                  <a:pt x="13067" y="1507"/>
                </a:cubicBezTo>
                <a:cubicBezTo>
                  <a:pt x="13509" y="1420"/>
                  <a:pt x="13891" y="873"/>
                  <a:pt x="14333" y="653"/>
                </a:cubicBezTo>
                <a:cubicBezTo>
                  <a:pt x="14785" y="403"/>
                  <a:pt x="15252" y="67"/>
                  <a:pt x="15719" y="125"/>
                </a:cubicBezTo>
                <a:cubicBezTo>
                  <a:pt x="16196" y="192"/>
                  <a:pt x="16638" y="614"/>
                  <a:pt x="17095" y="653"/>
                </a:cubicBezTo>
                <a:cubicBezTo>
                  <a:pt x="17828" y="710"/>
                  <a:pt x="18557" y="0"/>
                  <a:pt x="19280" y="269"/>
                </a:cubicBezTo>
                <a:cubicBezTo>
                  <a:pt x="19692" y="403"/>
                  <a:pt x="19998" y="1257"/>
                  <a:pt x="20415" y="1180"/>
                </a:cubicBezTo>
                <a:cubicBezTo>
                  <a:pt x="20686" y="1113"/>
                  <a:pt x="20857" y="528"/>
                  <a:pt x="21038" y="691"/>
                </a:cubicBezTo>
                <a:cubicBezTo>
                  <a:pt x="21314" y="940"/>
                  <a:pt x="21178" y="1698"/>
                  <a:pt x="21354" y="2255"/>
                </a:cubicBezTo>
                <a:cubicBezTo>
                  <a:pt x="21419" y="2428"/>
                  <a:pt x="21505" y="2552"/>
                  <a:pt x="21600" y="265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720" y="1268280"/>
            <a:ext cx="5398920" cy="226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2610"/>
                  <a:pt x="21600" y="2610"/>
                </a:cubicBezTo>
                <a:cubicBezTo>
                  <a:pt x="21532" y="2515"/>
                  <a:pt x="21470" y="2404"/>
                  <a:pt x="21424" y="2249"/>
                </a:cubicBezTo>
                <a:cubicBezTo>
                  <a:pt x="21298" y="1751"/>
                  <a:pt x="21395" y="1073"/>
                  <a:pt x="21197" y="850"/>
                </a:cubicBezTo>
                <a:cubicBezTo>
                  <a:pt x="21067" y="704"/>
                  <a:pt x="20945" y="1228"/>
                  <a:pt x="20750" y="1288"/>
                </a:cubicBezTo>
                <a:cubicBezTo>
                  <a:pt x="20452" y="1356"/>
                  <a:pt x="20232" y="592"/>
                  <a:pt x="19937" y="472"/>
                </a:cubicBezTo>
                <a:cubicBezTo>
                  <a:pt x="19418" y="232"/>
                  <a:pt x="18896" y="867"/>
                  <a:pt x="18371" y="816"/>
                </a:cubicBezTo>
                <a:cubicBezTo>
                  <a:pt x="18043" y="781"/>
                  <a:pt x="17726" y="403"/>
                  <a:pt x="17384" y="343"/>
                </a:cubicBezTo>
                <a:cubicBezTo>
                  <a:pt x="17050" y="292"/>
                  <a:pt x="16715" y="592"/>
                  <a:pt x="16391" y="816"/>
                </a:cubicBezTo>
                <a:cubicBezTo>
                  <a:pt x="16074" y="1013"/>
                  <a:pt x="15800" y="1502"/>
                  <a:pt x="15484" y="1580"/>
                </a:cubicBezTo>
                <a:cubicBezTo>
                  <a:pt x="14969" y="1708"/>
                  <a:pt x="14465" y="1176"/>
                  <a:pt x="13957" y="1228"/>
                </a:cubicBezTo>
                <a:cubicBezTo>
                  <a:pt x="13738" y="1245"/>
                  <a:pt x="13547" y="1631"/>
                  <a:pt x="13334" y="1829"/>
                </a:cubicBezTo>
                <a:cubicBezTo>
                  <a:pt x="12827" y="2301"/>
                  <a:pt x="12247" y="2301"/>
                  <a:pt x="11754" y="2850"/>
                </a:cubicBezTo>
                <a:cubicBezTo>
                  <a:pt x="11358" y="3279"/>
                  <a:pt x="11009" y="3932"/>
                  <a:pt x="10688" y="4679"/>
                </a:cubicBezTo>
                <a:cubicBezTo>
                  <a:pt x="10318" y="5546"/>
                  <a:pt x="9983" y="6525"/>
                  <a:pt x="9587" y="7340"/>
                </a:cubicBezTo>
                <a:cubicBezTo>
                  <a:pt x="9108" y="8336"/>
                  <a:pt x="8539" y="9057"/>
                  <a:pt x="8075" y="10087"/>
                </a:cubicBezTo>
                <a:cubicBezTo>
                  <a:pt x="7524" y="11324"/>
                  <a:pt x="6944" y="12577"/>
                  <a:pt x="6548" y="14114"/>
                </a:cubicBezTo>
                <a:cubicBezTo>
                  <a:pt x="6275" y="15170"/>
                  <a:pt x="6116" y="16432"/>
                  <a:pt x="6124" y="17668"/>
                </a:cubicBezTo>
                <a:cubicBezTo>
                  <a:pt x="6131" y="18338"/>
                  <a:pt x="6329" y="19067"/>
                  <a:pt x="6588" y="19316"/>
                </a:cubicBezTo>
                <a:cubicBezTo>
                  <a:pt x="6764" y="19497"/>
                  <a:pt x="6944" y="19557"/>
                  <a:pt x="7135" y="19557"/>
                </a:cubicBezTo>
                <a:cubicBezTo>
                  <a:pt x="6991" y="20312"/>
                  <a:pt x="6480" y="21145"/>
                  <a:pt x="6480" y="21145"/>
                </a:cubicBezTo>
                <a:cubicBezTo>
                  <a:pt x="6480" y="21145"/>
                  <a:pt x="0" y="21600"/>
                  <a:pt x="0" y="21600"/>
                </a:cubicBezTo>
                <a:cubicBezTo>
                  <a:pt x="0" y="21600"/>
                  <a:pt x="0" y="0"/>
                  <a:pt x="0" y="0"/>
                </a:cubicBezTo>
              </a:path>
            </a:pathLst>
          </a:cu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720" y="4032360"/>
            <a:ext cx="5398920" cy="164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48"/>
                </a:moveTo>
                <a:cubicBezTo>
                  <a:pt x="21600" y="248"/>
                  <a:pt x="21600" y="14936"/>
                  <a:pt x="21600" y="14936"/>
                </a:cubicBezTo>
                <a:cubicBezTo>
                  <a:pt x="21006" y="14191"/>
                  <a:pt x="20398" y="13506"/>
                  <a:pt x="19786" y="12986"/>
                </a:cubicBezTo>
                <a:cubicBezTo>
                  <a:pt x="18896" y="12265"/>
                  <a:pt x="17975" y="11852"/>
                  <a:pt x="17064" y="11568"/>
                </a:cubicBezTo>
                <a:cubicBezTo>
                  <a:pt x="15311" y="11072"/>
                  <a:pt x="13540" y="10871"/>
                  <a:pt x="11776" y="11249"/>
                </a:cubicBezTo>
                <a:cubicBezTo>
                  <a:pt x="10256" y="11568"/>
                  <a:pt x="8676" y="12596"/>
                  <a:pt x="7103" y="13589"/>
                </a:cubicBezTo>
                <a:cubicBezTo>
                  <a:pt x="5576" y="14841"/>
                  <a:pt x="4043" y="16117"/>
                  <a:pt x="2704" y="17736"/>
                </a:cubicBezTo>
                <a:cubicBezTo>
                  <a:pt x="1757" y="18906"/>
                  <a:pt x="821" y="20277"/>
                  <a:pt x="0" y="21600"/>
                </a:cubicBezTo>
                <a:cubicBezTo>
                  <a:pt x="0" y="21600"/>
                  <a:pt x="0" y="24"/>
                  <a:pt x="0" y="24"/>
                </a:cubicBezTo>
                <a:cubicBezTo>
                  <a:pt x="2243" y="0"/>
                  <a:pt x="4871" y="0"/>
                  <a:pt x="7049" y="24"/>
                </a:cubicBezTo>
                <a:cubicBezTo>
                  <a:pt x="11837" y="71"/>
                  <a:pt x="21431" y="248"/>
                  <a:pt x="21431" y="248"/>
                </a:cubicBezTo>
                <a:cubicBezTo>
                  <a:pt x="21431" y="248"/>
                  <a:pt x="21492" y="248"/>
                  <a:pt x="21600" y="248"/>
                </a:cubicBezTo>
              </a:path>
            </a:pathLst>
          </a:custGeom>
          <a:noFill/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4272120"/>
            <a:ext cx="53989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21" y="20051"/>
                  <a:pt x="1757" y="18447"/>
                  <a:pt x="2704" y="17078"/>
                </a:cubicBezTo>
                <a:cubicBezTo>
                  <a:pt x="4043" y="15184"/>
                  <a:pt x="5576" y="13690"/>
                  <a:pt x="7103" y="12224"/>
                </a:cubicBezTo>
                <a:cubicBezTo>
                  <a:pt x="8676" y="11063"/>
                  <a:pt x="10256" y="9860"/>
                  <a:pt x="11776" y="9486"/>
                </a:cubicBezTo>
                <a:cubicBezTo>
                  <a:pt x="13540" y="9044"/>
                  <a:pt x="15311" y="9279"/>
                  <a:pt x="17064" y="9860"/>
                </a:cubicBezTo>
                <a:cubicBezTo>
                  <a:pt x="17975" y="10192"/>
                  <a:pt x="18896" y="10676"/>
                  <a:pt x="19786" y="11519"/>
                </a:cubicBezTo>
                <a:cubicBezTo>
                  <a:pt x="20398" y="12128"/>
                  <a:pt x="21006" y="12930"/>
                  <a:pt x="21600" y="13801"/>
                </a:cubicBezTo>
                <a:cubicBezTo>
                  <a:pt x="21600" y="13801"/>
                  <a:pt x="21600" y="7495"/>
                  <a:pt x="21600" y="7495"/>
                </a:cubicBezTo>
                <a:cubicBezTo>
                  <a:pt x="21229" y="7232"/>
                  <a:pt x="20848" y="6956"/>
                  <a:pt x="20477" y="6831"/>
                </a:cubicBezTo>
                <a:cubicBezTo>
                  <a:pt x="20246" y="6748"/>
                  <a:pt x="20020" y="6790"/>
                  <a:pt x="19807" y="6887"/>
                </a:cubicBezTo>
                <a:cubicBezTo>
                  <a:pt x="19310" y="7122"/>
                  <a:pt x="18842" y="7813"/>
                  <a:pt x="18364" y="7813"/>
                </a:cubicBezTo>
                <a:cubicBezTo>
                  <a:pt x="18061" y="7813"/>
                  <a:pt x="17770" y="7329"/>
                  <a:pt x="17762" y="6416"/>
                </a:cubicBezTo>
                <a:cubicBezTo>
                  <a:pt x="17755" y="5338"/>
                  <a:pt x="18328" y="5047"/>
                  <a:pt x="18328" y="3969"/>
                </a:cubicBezTo>
                <a:cubicBezTo>
                  <a:pt x="18328" y="3125"/>
                  <a:pt x="17968" y="2918"/>
                  <a:pt x="17762" y="2572"/>
                </a:cubicBezTo>
                <a:cubicBezTo>
                  <a:pt x="17309" y="1784"/>
                  <a:pt x="16844" y="844"/>
                  <a:pt x="16348" y="553"/>
                </a:cubicBezTo>
                <a:cubicBezTo>
                  <a:pt x="15833" y="235"/>
                  <a:pt x="15278" y="0"/>
                  <a:pt x="14785" y="733"/>
                </a:cubicBezTo>
                <a:cubicBezTo>
                  <a:pt x="14580" y="1051"/>
                  <a:pt x="14472" y="1756"/>
                  <a:pt x="14306" y="1894"/>
                </a:cubicBezTo>
                <a:cubicBezTo>
                  <a:pt x="14216" y="1991"/>
                  <a:pt x="14119" y="1687"/>
                  <a:pt x="14065" y="1632"/>
                </a:cubicBezTo>
                <a:cubicBezTo>
                  <a:pt x="13198" y="705"/>
                  <a:pt x="12287" y="1521"/>
                  <a:pt x="11369" y="2102"/>
                </a:cubicBezTo>
                <a:cubicBezTo>
                  <a:pt x="10627" y="2572"/>
                  <a:pt x="9893" y="2849"/>
                  <a:pt x="9155" y="2572"/>
                </a:cubicBezTo>
                <a:cubicBezTo>
                  <a:pt x="8852" y="2448"/>
                  <a:pt x="8647" y="1148"/>
                  <a:pt x="8348" y="871"/>
                </a:cubicBezTo>
                <a:cubicBezTo>
                  <a:pt x="7963" y="553"/>
                  <a:pt x="7531" y="373"/>
                  <a:pt x="7150" y="871"/>
                </a:cubicBezTo>
                <a:cubicBezTo>
                  <a:pt x="6944" y="1148"/>
                  <a:pt x="6966" y="2475"/>
                  <a:pt x="6782" y="2890"/>
                </a:cubicBezTo>
                <a:cubicBezTo>
                  <a:pt x="6336" y="3872"/>
                  <a:pt x="5746" y="3706"/>
                  <a:pt x="5332" y="4881"/>
                </a:cubicBezTo>
                <a:cubicBezTo>
                  <a:pt x="5191" y="5282"/>
                  <a:pt x="5677" y="5393"/>
                  <a:pt x="5861" y="5504"/>
                </a:cubicBezTo>
                <a:cubicBezTo>
                  <a:pt x="6473" y="5946"/>
                  <a:pt x="7110" y="5919"/>
                  <a:pt x="7711" y="6596"/>
                </a:cubicBezTo>
                <a:cubicBezTo>
                  <a:pt x="7963" y="6859"/>
                  <a:pt x="8525" y="7564"/>
                  <a:pt x="8348" y="8283"/>
                </a:cubicBezTo>
                <a:cubicBezTo>
                  <a:pt x="8071" y="9514"/>
                  <a:pt x="7513" y="8823"/>
                  <a:pt x="7103" y="9224"/>
                </a:cubicBezTo>
                <a:cubicBezTo>
                  <a:pt x="6253" y="10067"/>
                  <a:pt x="5432" y="11243"/>
                  <a:pt x="4572" y="11989"/>
                </a:cubicBezTo>
                <a:cubicBezTo>
                  <a:pt x="3539" y="12902"/>
                  <a:pt x="2455" y="12985"/>
                  <a:pt x="1433" y="14160"/>
                </a:cubicBezTo>
                <a:cubicBezTo>
                  <a:pt x="943" y="14741"/>
                  <a:pt x="472" y="15529"/>
                  <a:pt x="7" y="16428"/>
                </a:cubicBezTo>
                <a:cubicBezTo>
                  <a:pt x="7" y="16428"/>
                  <a:pt x="0" y="21600"/>
                  <a:pt x="0" y="21600"/>
                </a:cubicBezTo>
              </a:path>
            </a:pathLst>
          </a:custGeom>
          <a:solidFill>
            <a:srgbClr val="ebf5ff"/>
          </a:solidFill>
          <a:ln w="3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4861080"/>
            <a:ext cx="5398920" cy="312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43"/>
                </a:moveTo>
                <a:cubicBezTo>
                  <a:pt x="21600" y="2143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0" y="21600"/>
                  <a:pt x="0" y="5655"/>
                  <a:pt x="0" y="5655"/>
                </a:cubicBezTo>
                <a:cubicBezTo>
                  <a:pt x="821" y="4958"/>
                  <a:pt x="1757" y="4235"/>
                  <a:pt x="2704" y="3619"/>
                </a:cubicBezTo>
                <a:cubicBezTo>
                  <a:pt x="4043" y="2765"/>
                  <a:pt x="5576" y="2093"/>
                  <a:pt x="7103" y="1433"/>
                </a:cubicBezTo>
                <a:cubicBezTo>
                  <a:pt x="8676" y="909"/>
                  <a:pt x="10256" y="367"/>
                  <a:pt x="11776" y="199"/>
                </a:cubicBezTo>
                <a:cubicBezTo>
                  <a:pt x="13540" y="0"/>
                  <a:pt x="15311" y="106"/>
                  <a:pt x="17064" y="367"/>
                </a:cubicBezTo>
                <a:cubicBezTo>
                  <a:pt x="17975" y="517"/>
                  <a:pt x="18896" y="735"/>
                  <a:pt x="19786" y="1115"/>
                </a:cubicBezTo>
                <a:cubicBezTo>
                  <a:pt x="20398" y="1389"/>
                  <a:pt x="21006" y="1750"/>
                  <a:pt x="21600" y="2143"/>
                </a:cubicBezTo>
              </a:path>
            </a:pathLst>
          </a:custGeom>
          <a:solidFill>
            <a:srgbClr val="cc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148360"/>
            <a:ext cx="5397480" cy="283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49" y="21600"/>
                </a:moveTo>
                <a:cubicBezTo>
                  <a:pt x="17149" y="21600"/>
                  <a:pt x="0" y="21600"/>
                  <a:pt x="0" y="21600"/>
                </a:cubicBezTo>
                <a:cubicBezTo>
                  <a:pt x="0" y="21600"/>
                  <a:pt x="0" y="8993"/>
                  <a:pt x="0" y="8993"/>
                </a:cubicBezTo>
                <a:cubicBezTo>
                  <a:pt x="299" y="8238"/>
                  <a:pt x="609" y="7497"/>
                  <a:pt x="947" y="6804"/>
                </a:cubicBezTo>
                <a:cubicBezTo>
                  <a:pt x="1404" y="5878"/>
                  <a:pt x="1937" y="5090"/>
                  <a:pt x="2514" y="4479"/>
                </a:cubicBezTo>
                <a:cubicBezTo>
                  <a:pt x="3335" y="3587"/>
                  <a:pt x="4228" y="2929"/>
                  <a:pt x="5236" y="2346"/>
                </a:cubicBezTo>
                <a:cubicBezTo>
                  <a:pt x="6597" y="1564"/>
                  <a:pt x="8013" y="1056"/>
                  <a:pt x="9651" y="576"/>
                </a:cubicBezTo>
                <a:cubicBezTo>
                  <a:pt x="11157" y="144"/>
                  <a:pt x="12683" y="0"/>
                  <a:pt x="14203" y="48"/>
                </a:cubicBezTo>
                <a:cubicBezTo>
                  <a:pt x="14707" y="62"/>
                  <a:pt x="16180" y="82"/>
                  <a:pt x="17513" y="638"/>
                </a:cubicBezTo>
                <a:cubicBezTo>
                  <a:pt x="18582" y="1091"/>
                  <a:pt x="19335" y="1331"/>
                  <a:pt x="19990" y="1969"/>
                </a:cubicBezTo>
                <a:cubicBezTo>
                  <a:pt x="20725" y="2675"/>
                  <a:pt x="21334" y="3793"/>
                  <a:pt x="21431" y="4836"/>
                </a:cubicBezTo>
                <a:cubicBezTo>
                  <a:pt x="21600" y="6619"/>
                  <a:pt x="21409" y="8478"/>
                  <a:pt x="21103" y="10296"/>
                </a:cubicBezTo>
                <a:cubicBezTo>
                  <a:pt x="20934" y="11352"/>
                  <a:pt x="20671" y="12347"/>
                  <a:pt x="20394" y="13533"/>
                </a:cubicBezTo>
                <a:cubicBezTo>
                  <a:pt x="19965" y="15331"/>
                  <a:pt x="19378" y="17272"/>
                  <a:pt x="18636" y="18952"/>
                </a:cubicBezTo>
                <a:cubicBezTo>
                  <a:pt x="18301" y="19700"/>
                  <a:pt x="17891" y="20338"/>
                  <a:pt x="17502" y="20996"/>
                </a:cubicBezTo>
                <a:cubicBezTo>
                  <a:pt x="17379" y="21195"/>
                  <a:pt x="17268" y="21401"/>
                  <a:pt x="17149" y="21600"/>
                </a:cubicBez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4035600"/>
            <a:ext cx="539892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24"/>
                </a:moveTo>
                <a:cubicBezTo>
                  <a:pt x="21600" y="724"/>
                  <a:pt x="21600" y="19257"/>
                  <a:pt x="21600" y="19257"/>
                </a:cubicBezTo>
                <a:cubicBezTo>
                  <a:pt x="21470" y="18618"/>
                  <a:pt x="21352" y="17893"/>
                  <a:pt x="21218" y="17297"/>
                </a:cubicBezTo>
                <a:cubicBezTo>
                  <a:pt x="20916" y="15721"/>
                  <a:pt x="20610" y="14400"/>
                  <a:pt x="20293" y="13505"/>
                </a:cubicBezTo>
                <a:cubicBezTo>
                  <a:pt x="19724" y="11886"/>
                  <a:pt x="19141" y="10907"/>
                  <a:pt x="18562" y="9628"/>
                </a:cubicBezTo>
                <a:cubicBezTo>
                  <a:pt x="18104" y="8649"/>
                  <a:pt x="17640" y="8009"/>
                  <a:pt x="17194" y="6817"/>
                </a:cubicBezTo>
                <a:cubicBezTo>
                  <a:pt x="16859" y="5922"/>
                  <a:pt x="16531" y="4644"/>
                  <a:pt x="16189" y="4431"/>
                </a:cubicBezTo>
                <a:cubicBezTo>
                  <a:pt x="15469" y="3877"/>
                  <a:pt x="14738" y="5283"/>
                  <a:pt x="14015" y="5368"/>
                </a:cubicBezTo>
                <a:cubicBezTo>
                  <a:pt x="13633" y="5496"/>
                  <a:pt x="13158" y="5027"/>
                  <a:pt x="12697" y="4857"/>
                </a:cubicBezTo>
                <a:cubicBezTo>
                  <a:pt x="11866" y="4601"/>
                  <a:pt x="11034" y="4857"/>
                  <a:pt x="10123" y="4857"/>
                </a:cubicBezTo>
                <a:cubicBezTo>
                  <a:pt x="9857" y="4857"/>
                  <a:pt x="9583" y="4516"/>
                  <a:pt x="9317" y="4857"/>
                </a:cubicBezTo>
                <a:cubicBezTo>
                  <a:pt x="8842" y="5581"/>
                  <a:pt x="8381" y="8521"/>
                  <a:pt x="7909" y="8180"/>
                </a:cubicBezTo>
                <a:cubicBezTo>
                  <a:pt x="7423" y="7796"/>
                  <a:pt x="6991" y="4133"/>
                  <a:pt x="6746" y="7754"/>
                </a:cubicBezTo>
                <a:cubicBezTo>
                  <a:pt x="6570" y="10353"/>
                  <a:pt x="6746" y="14400"/>
                  <a:pt x="6746" y="14400"/>
                </a:cubicBezTo>
                <a:cubicBezTo>
                  <a:pt x="6746" y="14400"/>
                  <a:pt x="5562" y="12270"/>
                  <a:pt x="4975" y="11546"/>
                </a:cubicBezTo>
                <a:cubicBezTo>
                  <a:pt x="4349" y="10821"/>
                  <a:pt x="3715" y="10438"/>
                  <a:pt x="3085" y="10353"/>
                </a:cubicBezTo>
                <a:cubicBezTo>
                  <a:pt x="2228" y="10182"/>
                  <a:pt x="1368" y="10608"/>
                  <a:pt x="1325" y="16786"/>
                </a:cubicBezTo>
                <a:cubicBezTo>
                  <a:pt x="1307" y="19086"/>
                  <a:pt x="1757" y="21600"/>
                  <a:pt x="1757" y="21600"/>
                </a:cubicBezTo>
                <a:cubicBezTo>
                  <a:pt x="1757" y="21600"/>
                  <a:pt x="947" y="19598"/>
                  <a:pt x="554" y="19598"/>
                </a:cubicBezTo>
                <a:cubicBezTo>
                  <a:pt x="364" y="19598"/>
                  <a:pt x="184" y="19811"/>
                  <a:pt x="0" y="20151"/>
                </a:cubicBezTo>
                <a:cubicBezTo>
                  <a:pt x="0" y="20151"/>
                  <a:pt x="0" y="0"/>
                  <a:pt x="0" y="0"/>
                </a:cubicBezTo>
                <a:cubicBezTo>
                  <a:pt x="0" y="0"/>
                  <a:pt x="21600" y="724"/>
                  <a:pt x="21600" y="724"/>
                </a:cubicBez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0720" y="4116240"/>
            <a:ext cx="5398920" cy="122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729"/>
                </a:moveTo>
                <a:cubicBezTo>
                  <a:pt x="21600" y="5729"/>
                  <a:pt x="21600" y="11348"/>
                  <a:pt x="21600" y="11348"/>
                </a:cubicBezTo>
                <a:cubicBezTo>
                  <a:pt x="21229" y="11046"/>
                  <a:pt x="20848" y="10729"/>
                  <a:pt x="20477" y="10586"/>
                </a:cubicBezTo>
                <a:cubicBezTo>
                  <a:pt x="20246" y="10491"/>
                  <a:pt x="20020" y="10538"/>
                  <a:pt x="19807" y="10649"/>
                </a:cubicBezTo>
                <a:cubicBezTo>
                  <a:pt x="19310" y="10919"/>
                  <a:pt x="18842" y="11713"/>
                  <a:pt x="18364" y="11713"/>
                </a:cubicBezTo>
                <a:cubicBezTo>
                  <a:pt x="18061" y="11713"/>
                  <a:pt x="17770" y="11157"/>
                  <a:pt x="17762" y="10110"/>
                </a:cubicBezTo>
                <a:cubicBezTo>
                  <a:pt x="17755" y="8872"/>
                  <a:pt x="18328" y="8538"/>
                  <a:pt x="18328" y="7301"/>
                </a:cubicBezTo>
                <a:cubicBezTo>
                  <a:pt x="18328" y="6332"/>
                  <a:pt x="17968" y="6094"/>
                  <a:pt x="17762" y="5698"/>
                </a:cubicBezTo>
                <a:cubicBezTo>
                  <a:pt x="17309" y="4793"/>
                  <a:pt x="16844" y="3714"/>
                  <a:pt x="16348" y="3380"/>
                </a:cubicBezTo>
                <a:cubicBezTo>
                  <a:pt x="15833" y="3015"/>
                  <a:pt x="15278" y="2746"/>
                  <a:pt x="14785" y="3587"/>
                </a:cubicBezTo>
                <a:cubicBezTo>
                  <a:pt x="14580" y="3952"/>
                  <a:pt x="14472" y="4761"/>
                  <a:pt x="14306" y="4920"/>
                </a:cubicBezTo>
                <a:cubicBezTo>
                  <a:pt x="14216" y="5031"/>
                  <a:pt x="14119" y="4682"/>
                  <a:pt x="14065" y="4618"/>
                </a:cubicBezTo>
                <a:cubicBezTo>
                  <a:pt x="13198" y="3555"/>
                  <a:pt x="12287" y="4491"/>
                  <a:pt x="11369" y="5158"/>
                </a:cubicBezTo>
                <a:cubicBezTo>
                  <a:pt x="10627" y="5698"/>
                  <a:pt x="9893" y="6015"/>
                  <a:pt x="9155" y="5698"/>
                </a:cubicBezTo>
                <a:cubicBezTo>
                  <a:pt x="8852" y="5555"/>
                  <a:pt x="8647" y="4063"/>
                  <a:pt x="8348" y="3745"/>
                </a:cubicBezTo>
                <a:cubicBezTo>
                  <a:pt x="7963" y="3380"/>
                  <a:pt x="7531" y="3174"/>
                  <a:pt x="7150" y="3745"/>
                </a:cubicBezTo>
                <a:cubicBezTo>
                  <a:pt x="6944" y="4063"/>
                  <a:pt x="6966" y="5586"/>
                  <a:pt x="6782" y="6063"/>
                </a:cubicBezTo>
                <a:cubicBezTo>
                  <a:pt x="6336" y="7189"/>
                  <a:pt x="5746" y="6999"/>
                  <a:pt x="5332" y="8348"/>
                </a:cubicBezTo>
                <a:cubicBezTo>
                  <a:pt x="5191" y="8808"/>
                  <a:pt x="5677" y="8935"/>
                  <a:pt x="5861" y="9062"/>
                </a:cubicBezTo>
                <a:cubicBezTo>
                  <a:pt x="6473" y="9570"/>
                  <a:pt x="7110" y="9538"/>
                  <a:pt x="7711" y="10316"/>
                </a:cubicBezTo>
                <a:cubicBezTo>
                  <a:pt x="7963" y="10617"/>
                  <a:pt x="8525" y="11427"/>
                  <a:pt x="8348" y="12252"/>
                </a:cubicBezTo>
                <a:cubicBezTo>
                  <a:pt x="8071" y="13665"/>
                  <a:pt x="7513" y="12871"/>
                  <a:pt x="7103" y="13331"/>
                </a:cubicBezTo>
                <a:cubicBezTo>
                  <a:pt x="6253" y="14299"/>
                  <a:pt x="5432" y="15648"/>
                  <a:pt x="4572" y="16506"/>
                </a:cubicBezTo>
                <a:cubicBezTo>
                  <a:pt x="3539" y="17553"/>
                  <a:pt x="2455" y="17648"/>
                  <a:pt x="1433" y="18997"/>
                </a:cubicBezTo>
                <a:cubicBezTo>
                  <a:pt x="943" y="19664"/>
                  <a:pt x="472" y="20568"/>
                  <a:pt x="7" y="21600"/>
                </a:cubicBezTo>
                <a:cubicBezTo>
                  <a:pt x="7" y="21600"/>
                  <a:pt x="0" y="6063"/>
                  <a:pt x="0" y="6063"/>
                </a:cubicBezTo>
                <a:cubicBezTo>
                  <a:pt x="184" y="5936"/>
                  <a:pt x="364" y="5856"/>
                  <a:pt x="554" y="5856"/>
                </a:cubicBezTo>
                <a:cubicBezTo>
                  <a:pt x="947" y="5856"/>
                  <a:pt x="1757" y="6602"/>
                  <a:pt x="1757" y="6602"/>
                </a:cubicBezTo>
                <a:cubicBezTo>
                  <a:pt x="1757" y="6602"/>
                  <a:pt x="1307" y="5666"/>
                  <a:pt x="1325" y="4809"/>
                </a:cubicBezTo>
                <a:cubicBezTo>
                  <a:pt x="1368" y="2508"/>
                  <a:pt x="2228" y="2349"/>
                  <a:pt x="3085" y="2412"/>
                </a:cubicBezTo>
                <a:cubicBezTo>
                  <a:pt x="3715" y="2444"/>
                  <a:pt x="4349" y="2587"/>
                  <a:pt x="4975" y="2857"/>
                </a:cubicBezTo>
                <a:cubicBezTo>
                  <a:pt x="5562" y="3127"/>
                  <a:pt x="6746" y="3920"/>
                  <a:pt x="6746" y="3920"/>
                </a:cubicBezTo>
                <a:cubicBezTo>
                  <a:pt x="6746" y="3920"/>
                  <a:pt x="6570" y="2412"/>
                  <a:pt x="6746" y="1444"/>
                </a:cubicBezTo>
                <a:cubicBezTo>
                  <a:pt x="6991" y="95"/>
                  <a:pt x="7423" y="1460"/>
                  <a:pt x="7909" y="1603"/>
                </a:cubicBezTo>
                <a:cubicBezTo>
                  <a:pt x="8381" y="1730"/>
                  <a:pt x="8842" y="635"/>
                  <a:pt x="9317" y="365"/>
                </a:cubicBezTo>
                <a:cubicBezTo>
                  <a:pt x="9583" y="238"/>
                  <a:pt x="9857" y="365"/>
                  <a:pt x="10123" y="365"/>
                </a:cubicBezTo>
                <a:cubicBezTo>
                  <a:pt x="11034" y="365"/>
                  <a:pt x="11866" y="270"/>
                  <a:pt x="12697" y="365"/>
                </a:cubicBezTo>
                <a:cubicBezTo>
                  <a:pt x="13158" y="429"/>
                  <a:pt x="13633" y="603"/>
                  <a:pt x="14015" y="555"/>
                </a:cubicBezTo>
                <a:cubicBezTo>
                  <a:pt x="14738" y="524"/>
                  <a:pt x="15469" y="0"/>
                  <a:pt x="16189" y="206"/>
                </a:cubicBezTo>
                <a:cubicBezTo>
                  <a:pt x="16531" y="286"/>
                  <a:pt x="16859" y="762"/>
                  <a:pt x="17194" y="1095"/>
                </a:cubicBezTo>
                <a:cubicBezTo>
                  <a:pt x="17640" y="1539"/>
                  <a:pt x="18104" y="1778"/>
                  <a:pt x="18562" y="2143"/>
                </a:cubicBezTo>
                <a:cubicBezTo>
                  <a:pt x="19141" y="2619"/>
                  <a:pt x="19724" y="2984"/>
                  <a:pt x="20293" y="3587"/>
                </a:cubicBezTo>
                <a:cubicBezTo>
                  <a:pt x="20610" y="3920"/>
                  <a:pt x="20916" y="4412"/>
                  <a:pt x="21218" y="4999"/>
                </a:cubicBezTo>
                <a:cubicBezTo>
                  <a:pt x="21352" y="5221"/>
                  <a:pt x="21470" y="5491"/>
                  <a:pt x="21600" y="5729"/>
                </a:cubicBezTo>
              </a:path>
            </a:pathLst>
          </a:cu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0040" y="3813120"/>
            <a:ext cx="1788840" cy="2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503" y="2979"/>
                  <a:pt x="14212" y="6703"/>
                  <a:pt x="12343" y="8193"/>
                </a:cubicBezTo>
                <a:cubicBezTo>
                  <a:pt x="10083" y="8938"/>
                  <a:pt x="7747" y="8193"/>
                  <a:pt x="5520" y="15641"/>
                </a:cubicBezTo>
                <a:cubicBezTo>
                  <a:pt x="3672" y="21600"/>
                  <a:pt x="1836" y="15641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387600"/>
            <a:ext cx="1780920" cy="3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30" y="19145"/>
                  <a:pt x="1604" y="16691"/>
                  <a:pt x="2434" y="15218"/>
                </a:cubicBezTo>
                <a:cubicBezTo>
                  <a:pt x="4737" y="13255"/>
                  <a:pt x="7073" y="13255"/>
                  <a:pt x="9376" y="12273"/>
                </a:cubicBezTo>
                <a:cubicBezTo>
                  <a:pt x="10664" y="10800"/>
                  <a:pt x="11973" y="9327"/>
                  <a:pt x="13261" y="8345"/>
                </a:cubicBezTo>
                <a:cubicBezTo>
                  <a:pt x="14156" y="6873"/>
                  <a:pt x="15084" y="4909"/>
                  <a:pt x="16001" y="3927"/>
                </a:cubicBezTo>
                <a:cubicBezTo>
                  <a:pt x="16929" y="2455"/>
                  <a:pt x="17845" y="3927"/>
                  <a:pt x="18762" y="2455"/>
                </a:cubicBezTo>
                <a:cubicBezTo>
                  <a:pt x="19319" y="1964"/>
                  <a:pt x="20640" y="982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3349800"/>
            <a:ext cx="2057400" cy="49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704"/>
                  <a:pt x="0" y="704"/>
                </a:cubicBezTo>
                <a:cubicBezTo>
                  <a:pt x="1020" y="313"/>
                  <a:pt x="2041" y="313"/>
                  <a:pt x="3033" y="196"/>
                </a:cubicBezTo>
                <a:cubicBezTo>
                  <a:pt x="5131" y="117"/>
                  <a:pt x="7238" y="313"/>
                  <a:pt x="9354" y="196"/>
                </a:cubicBezTo>
                <a:cubicBezTo>
                  <a:pt x="11490" y="117"/>
                  <a:pt x="13644" y="0"/>
                  <a:pt x="15780" y="0"/>
                </a:cubicBezTo>
                <a:cubicBezTo>
                  <a:pt x="17424" y="39"/>
                  <a:pt x="20353" y="391"/>
                  <a:pt x="21600" y="548"/>
                </a:cubicBezTo>
                <a:cubicBezTo>
                  <a:pt x="20910" y="4813"/>
                  <a:pt x="20258" y="9039"/>
                  <a:pt x="19682" y="13578"/>
                </a:cubicBezTo>
                <a:cubicBezTo>
                  <a:pt x="19398" y="15770"/>
                  <a:pt x="19162" y="17961"/>
                  <a:pt x="18964" y="20270"/>
                </a:cubicBezTo>
                <a:cubicBezTo>
                  <a:pt x="16309" y="20465"/>
                  <a:pt x="12803" y="20583"/>
                  <a:pt x="11254" y="20700"/>
                </a:cubicBezTo>
                <a:cubicBezTo>
                  <a:pt x="9288" y="20778"/>
                  <a:pt x="7257" y="20700"/>
                  <a:pt x="5320" y="21130"/>
                </a:cubicBezTo>
                <a:cubicBezTo>
                  <a:pt x="3713" y="21443"/>
                  <a:pt x="2117" y="21130"/>
                  <a:pt x="520" y="21443"/>
                </a:cubicBezTo>
                <a:cubicBezTo>
                  <a:pt x="340" y="21522"/>
                  <a:pt x="161" y="21522"/>
                  <a:pt x="0" y="21600"/>
                </a:cubicBezTo>
              </a:path>
            </a:pathLst>
          </a:custGeom>
          <a:solidFill>
            <a:srgbClr val="f5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55600" y="4859280"/>
            <a:ext cx="4684680" cy="297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012" y="3172"/>
                </a:moveTo>
                <a:cubicBezTo>
                  <a:pt x="7012" y="3172"/>
                  <a:pt x="6887" y="2596"/>
                  <a:pt x="6838" y="2308"/>
                </a:cubicBezTo>
                <a:cubicBezTo>
                  <a:pt x="6792" y="2034"/>
                  <a:pt x="6705" y="1367"/>
                  <a:pt x="6705" y="1367"/>
                </a:cubicBezTo>
                <a:cubicBezTo>
                  <a:pt x="6705" y="1367"/>
                  <a:pt x="8916" y="647"/>
                  <a:pt x="10016" y="399"/>
                </a:cubicBezTo>
                <a:cubicBezTo>
                  <a:pt x="11128" y="150"/>
                  <a:pt x="12879" y="39"/>
                  <a:pt x="12879" y="39"/>
                </a:cubicBezTo>
                <a:cubicBezTo>
                  <a:pt x="12879" y="39"/>
                  <a:pt x="14202" y="0"/>
                  <a:pt x="14858" y="39"/>
                </a:cubicBezTo>
                <a:cubicBezTo>
                  <a:pt x="15252" y="72"/>
                  <a:pt x="16538" y="281"/>
                  <a:pt x="16538" y="281"/>
                </a:cubicBezTo>
                <a:cubicBezTo>
                  <a:pt x="16538" y="281"/>
                  <a:pt x="16468" y="1144"/>
                  <a:pt x="16434" y="1563"/>
                </a:cubicBezTo>
                <a:cubicBezTo>
                  <a:pt x="16397" y="1936"/>
                  <a:pt x="16356" y="2642"/>
                  <a:pt x="16356" y="2642"/>
                </a:cubicBezTo>
                <a:cubicBezTo>
                  <a:pt x="16356" y="2642"/>
                  <a:pt x="17293" y="3316"/>
                  <a:pt x="17737" y="3701"/>
                </a:cubicBezTo>
                <a:cubicBezTo>
                  <a:pt x="18368" y="4251"/>
                  <a:pt x="19015" y="4761"/>
                  <a:pt x="19596" y="5441"/>
                </a:cubicBezTo>
                <a:cubicBezTo>
                  <a:pt x="19982" y="5879"/>
                  <a:pt x="20401" y="6311"/>
                  <a:pt x="20758" y="6821"/>
                </a:cubicBezTo>
                <a:cubicBezTo>
                  <a:pt x="21040" y="7220"/>
                  <a:pt x="21301" y="7671"/>
                  <a:pt x="21430" y="8227"/>
                </a:cubicBezTo>
                <a:cubicBezTo>
                  <a:pt x="21571" y="8815"/>
                  <a:pt x="21600" y="9482"/>
                  <a:pt x="21430" y="10064"/>
                </a:cubicBezTo>
                <a:cubicBezTo>
                  <a:pt x="21318" y="10463"/>
                  <a:pt x="21115" y="10888"/>
                  <a:pt x="20837" y="10999"/>
                </a:cubicBezTo>
                <a:cubicBezTo>
                  <a:pt x="20654" y="11065"/>
                  <a:pt x="20388" y="11111"/>
                  <a:pt x="20388" y="11111"/>
                </a:cubicBezTo>
                <a:cubicBezTo>
                  <a:pt x="20388" y="11111"/>
                  <a:pt x="20471" y="11830"/>
                  <a:pt x="20459" y="12177"/>
                </a:cubicBezTo>
                <a:cubicBezTo>
                  <a:pt x="20434" y="13020"/>
                  <a:pt x="20330" y="13870"/>
                  <a:pt x="20052" y="14590"/>
                </a:cubicBezTo>
                <a:cubicBezTo>
                  <a:pt x="19857" y="15087"/>
                  <a:pt x="19629" y="15669"/>
                  <a:pt x="19268" y="15884"/>
                </a:cubicBezTo>
                <a:cubicBezTo>
                  <a:pt x="19007" y="16054"/>
                  <a:pt x="18414" y="15943"/>
                  <a:pt x="18414" y="15943"/>
                </a:cubicBezTo>
                <a:cubicBezTo>
                  <a:pt x="18414" y="15943"/>
                  <a:pt x="18272" y="16767"/>
                  <a:pt x="17974" y="17539"/>
                </a:cubicBezTo>
                <a:cubicBezTo>
                  <a:pt x="17692" y="18245"/>
                  <a:pt x="17264" y="18886"/>
                  <a:pt x="17028" y="19095"/>
                </a:cubicBezTo>
                <a:cubicBezTo>
                  <a:pt x="16696" y="19383"/>
                  <a:pt x="16343" y="19514"/>
                  <a:pt x="16202" y="19547"/>
                </a:cubicBezTo>
                <a:cubicBezTo>
                  <a:pt x="16111" y="19560"/>
                  <a:pt x="15907" y="19612"/>
                  <a:pt x="15704" y="19501"/>
                </a:cubicBezTo>
                <a:cubicBezTo>
                  <a:pt x="15468" y="19370"/>
                  <a:pt x="15235" y="19063"/>
                  <a:pt x="15235" y="19063"/>
                </a:cubicBezTo>
                <a:cubicBezTo>
                  <a:pt x="15235" y="19063"/>
                  <a:pt x="14908" y="19625"/>
                  <a:pt x="14742" y="19887"/>
                </a:cubicBezTo>
                <a:cubicBezTo>
                  <a:pt x="14551" y="20174"/>
                  <a:pt x="14331" y="20443"/>
                  <a:pt x="14103" y="20678"/>
                </a:cubicBezTo>
                <a:cubicBezTo>
                  <a:pt x="13962" y="20815"/>
                  <a:pt x="13501" y="21247"/>
                  <a:pt x="13082" y="21149"/>
                </a:cubicBezTo>
                <a:cubicBezTo>
                  <a:pt x="12597" y="21051"/>
                  <a:pt x="12169" y="20429"/>
                  <a:pt x="12169" y="20429"/>
                </a:cubicBezTo>
                <a:cubicBezTo>
                  <a:pt x="12169" y="20429"/>
                  <a:pt x="11767" y="20815"/>
                  <a:pt x="11530" y="21077"/>
                </a:cubicBezTo>
                <a:cubicBezTo>
                  <a:pt x="11269" y="21365"/>
                  <a:pt x="10854" y="21508"/>
                  <a:pt x="10451" y="21541"/>
                </a:cubicBezTo>
                <a:cubicBezTo>
                  <a:pt x="9925" y="21600"/>
                  <a:pt x="9402" y="21535"/>
                  <a:pt x="8896" y="21299"/>
                </a:cubicBezTo>
                <a:cubicBezTo>
                  <a:pt x="8613" y="21175"/>
                  <a:pt x="8335" y="20992"/>
                  <a:pt x="8111" y="20756"/>
                </a:cubicBezTo>
                <a:cubicBezTo>
                  <a:pt x="7896" y="20528"/>
                  <a:pt x="7539" y="19887"/>
                  <a:pt x="7539" y="19887"/>
                </a:cubicBezTo>
                <a:cubicBezTo>
                  <a:pt x="7539" y="19887"/>
                  <a:pt x="7273" y="20142"/>
                  <a:pt x="6916" y="20266"/>
                </a:cubicBezTo>
                <a:cubicBezTo>
                  <a:pt x="6572" y="20371"/>
                  <a:pt x="6186" y="20371"/>
                  <a:pt x="5821" y="20207"/>
                </a:cubicBezTo>
                <a:cubicBezTo>
                  <a:pt x="5356" y="19998"/>
                  <a:pt x="4933" y="19599"/>
                  <a:pt x="4585" y="19063"/>
                </a:cubicBezTo>
                <a:cubicBezTo>
                  <a:pt x="4498" y="18925"/>
                  <a:pt x="4311" y="18598"/>
                  <a:pt x="4174" y="18134"/>
                </a:cubicBezTo>
                <a:cubicBezTo>
                  <a:pt x="4000" y="17598"/>
                  <a:pt x="3875" y="16950"/>
                  <a:pt x="3875" y="16950"/>
                </a:cubicBezTo>
                <a:cubicBezTo>
                  <a:pt x="3875" y="16950"/>
                  <a:pt x="3494" y="17075"/>
                  <a:pt x="3299" y="17088"/>
                </a:cubicBezTo>
                <a:cubicBezTo>
                  <a:pt x="3016" y="17101"/>
                  <a:pt x="2738" y="17035"/>
                  <a:pt x="2527" y="16826"/>
                </a:cubicBezTo>
                <a:cubicBezTo>
                  <a:pt x="2290" y="16578"/>
                  <a:pt x="2079" y="16231"/>
                  <a:pt x="1933" y="15832"/>
                </a:cubicBezTo>
                <a:cubicBezTo>
                  <a:pt x="1784" y="15433"/>
                  <a:pt x="1701" y="14982"/>
                  <a:pt x="1643" y="14550"/>
                </a:cubicBezTo>
                <a:cubicBezTo>
                  <a:pt x="1581" y="14145"/>
                  <a:pt x="1527" y="13746"/>
                  <a:pt x="1564" y="13249"/>
                </a:cubicBezTo>
                <a:cubicBezTo>
                  <a:pt x="1589" y="12824"/>
                  <a:pt x="1738" y="12464"/>
                  <a:pt x="1738" y="12464"/>
                </a:cubicBezTo>
                <a:cubicBezTo>
                  <a:pt x="1738" y="12464"/>
                  <a:pt x="1261" y="12451"/>
                  <a:pt x="1037" y="12353"/>
                </a:cubicBezTo>
                <a:cubicBezTo>
                  <a:pt x="805" y="12255"/>
                  <a:pt x="610" y="12039"/>
                  <a:pt x="469" y="11758"/>
                </a:cubicBezTo>
                <a:cubicBezTo>
                  <a:pt x="216" y="11261"/>
                  <a:pt x="50" y="10679"/>
                  <a:pt x="21" y="10104"/>
                </a:cubicBezTo>
                <a:cubicBezTo>
                  <a:pt x="0" y="9456"/>
                  <a:pt x="141" y="8796"/>
                  <a:pt x="398" y="8227"/>
                </a:cubicBezTo>
                <a:cubicBezTo>
                  <a:pt x="560" y="7880"/>
                  <a:pt x="734" y="7540"/>
                  <a:pt x="958" y="7285"/>
                </a:cubicBezTo>
                <a:cubicBezTo>
                  <a:pt x="1506" y="6677"/>
                  <a:pt x="2116" y="6239"/>
                  <a:pt x="2709" y="5814"/>
                </a:cubicBezTo>
                <a:cubicBezTo>
                  <a:pt x="3236" y="5441"/>
                  <a:pt x="3771" y="5081"/>
                  <a:pt x="4298" y="4748"/>
                </a:cubicBezTo>
                <a:cubicBezTo>
                  <a:pt x="4871" y="4375"/>
                  <a:pt x="5460" y="3989"/>
                  <a:pt x="6041" y="3629"/>
                </a:cubicBezTo>
                <a:cubicBezTo>
                  <a:pt x="6365" y="3427"/>
                  <a:pt x="7012" y="3172"/>
                  <a:pt x="7012" y="317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31800" y="5562720"/>
            <a:ext cx="1251000" cy="10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003" y="1670"/>
                  <a:pt x="16406" y="3437"/>
                  <a:pt x="13949" y="5357"/>
                </a:cubicBezTo>
                <a:cubicBezTo>
                  <a:pt x="11554" y="7200"/>
                  <a:pt x="9299" y="9235"/>
                  <a:pt x="7029" y="11635"/>
                </a:cubicBezTo>
                <a:cubicBezTo>
                  <a:pt x="5738" y="12960"/>
                  <a:pt x="4603" y="14477"/>
                  <a:pt x="3343" y="16166"/>
                </a:cubicBezTo>
                <a:cubicBezTo>
                  <a:pt x="2115" y="17875"/>
                  <a:pt x="1120" y="19853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95480" y="6118200"/>
            <a:ext cx="636480" cy="107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636" y="1992"/>
                  <a:pt x="15734" y="3983"/>
                  <a:pt x="13229" y="6156"/>
                </a:cubicBezTo>
                <a:cubicBezTo>
                  <a:pt x="10540" y="8546"/>
                  <a:pt x="8249" y="11081"/>
                  <a:pt x="5958" y="13688"/>
                </a:cubicBezTo>
                <a:cubicBezTo>
                  <a:pt x="4705" y="15064"/>
                  <a:pt x="3422" y="16440"/>
                  <a:pt x="2536" y="17744"/>
                </a:cubicBezTo>
                <a:cubicBezTo>
                  <a:pt x="1619" y="19047"/>
                  <a:pt x="794" y="20333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90720" y="6754680"/>
            <a:ext cx="173160" cy="84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450" y="2174"/>
                  <a:pt x="15413" y="4371"/>
                  <a:pt x="12713" y="6522"/>
                </a:cubicBezTo>
                <a:cubicBezTo>
                  <a:pt x="9900" y="8811"/>
                  <a:pt x="7313" y="11170"/>
                  <a:pt x="5175" y="13460"/>
                </a:cubicBezTo>
                <a:cubicBezTo>
                  <a:pt x="3600" y="15171"/>
                  <a:pt x="1688" y="16882"/>
                  <a:pt x="563" y="18594"/>
                </a:cubicBezTo>
                <a:cubicBezTo>
                  <a:pt x="0" y="20097"/>
                  <a:pt x="225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00360" y="6621480"/>
            <a:ext cx="195480" cy="104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3982" y="2540"/>
                  <a:pt x="7864" y="5117"/>
                  <a:pt x="11049" y="7657"/>
                </a:cubicBezTo>
                <a:cubicBezTo>
                  <a:pt x="13438" y="9530"/>
                  <a:pt x="15727" y="11421"/>
                  <a:pt x="17121" y="13349"/>
                </a:cubicBezTo>
                <a:cubicBezTo>
                  <a:pt x="18614" y="15092"/>
                  <a:pt x="19908" y="16909"/>
                  <a:pt x="20804" y="18689"/>
                </a:cubicBezTo>
                <a:cubicBezTo>
                  <a:pt x="21202" y="19635"/>
                  <a:pt x="21600" y="20617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89240" y="6348240"/>
            <a:ext cx="371520" cy="11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779" y="2280"/>
                  <a:pt x="5452" y="4560"/>
                  <a:pt x="7759" y="6789"/>
                </a:cubicBezTo>
                <a:cubicBezTo>
                  <a:pt x="10066" y="9086"/>
                  <a:pt x="12268" y="11366"/>
                  <a:pt x="14050" y="13646"/>
                </a:cubicBezTo>
                <a:cubicBezTo>
                  <a:pt x="15676" y="15737"/>
                  <a:pt x="16829" y="17897"/>
                  <a:pt x="19031" y="19920"/>
                </a:cubicBezTo>
                <a:cubicBezTo>
                  <a:pt x="19660" y="20520"/>
                  <a:pt x="20551" y="21051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89480" y="5934240"/>
            <a:ext cx="760320" cy="11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28" y="52"/>
                  <a:pt x="230" y="104"/>
                  <a:pt x="281" y="174"/>
                </a:cubicBezTo>
                <a:cubicBezTo>
                  <a:pt x="2812" y="2381"/>
                  <a:pt x="5266" y="4622"/>
                  <a:pt x="7771" y="6795"/>
                </a:cubicBezTo>
                <a:cubicBezTo>
                  <a:pt x="9995" y="8723"/>
                  <a:pt x="12295" y="10600"/>
                  <a:pt x="14366" y="12564"/>
                </a:cubicBezTo>
                <a:cubicBezTo>
                  <a:pt x="16513" y="14701"/>
                  <a:pt x="18456" y="16908"/>
                  <a:pt x="20220" y="19254"/>
                </a:cubicBezTo>
                <a:cubicBezTo>
                  <a:pt x="20833" y="19984"/>
                  <a:pt x="21217" y="20801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5616720"/>
            <a:ext cx="924120" cy="77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608" y="2142"/>
                  <a:pt x="5237" y="4209"/>
                  <a:pt x="7719" y="6427"/>
                </a:cubicBezTo>
                <a:cubicBezTo>
                  <a:pt x="9675" y="8217"/>
                  <a:pt x="11799" y="9779"/>
                  <a:pt x="13650" y="11770"/>
                </a:cubicBezTo>
                <a:cubicBezTo>
                  <a:pt x="14912" y="13106"/>
                  <a:pt x="16279" y="14366"/>
                  <a:pt x="17478" y="15803"/>
                </a:cubicBezTo>
                <a:cubicBezTo>
                  <a:pt x="18403" y="16912"/>
                  <a:pt x="19265" y="18147"/>
                  <a:pt x="20149" y="19306"/>
                </a:cubicBezTo>
                <a:cubicBezTo>
                  <a:pt x="20675" y="20012"/>
                  <a:pt x="21179" y="20793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5440" y="3629160"/>
            <a:ext cx="1936800" cy="275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3" y="20804"/>
                </a:moveTo>
                <a:cubicBezTo>
                  <a:pt x="913" y="20804"/>
                  <a:pt x="1726" y="21135"/>
                  <a:pt x="2148" y="21255"/>
                </a:cubicBezTo>
                <a:cubicBezTo>
                  <a:pt x="2610" y="21396"/>
                  <a:pt x="3643" y="21600"/>
                  <a:pt x="3643" y="21600"/>
                </a:cubicBezTo>
                <a:cubicBezTo>
                  <a:pt x="3643" y="21600"/>
                  <a:pt x="4707" y="21530"/>
                  <a:pt x="5209" y="21480"/>
                </a:cubicBezTo>
                <a:cubicBezTo>
                  <a:pt x="5701" y="21452"/>
                  <a:pt x="6675" y="21339"/>
                  <a:pt x="6675" y="21339"/>
                </a:cubicBezTo>
                <a:cubicBezTo>
                  <a:pt x="6675" y="21339"/>
                  <a:pt x="10037" y="19980"/>
                  <a:pt x="11613" y="19212"/>
                </a:cubicBezTo>
                <a:cubicBezTo>
                  <a:pt x="12667" y="18690"/>
                  <a:pt x="13661" y="18106"/>
                  <a:pt x="14644" y="17514"/>
                </a:cubicBezTo>
                <a:cubicBezTo>
                  <a:pt x="15658" y="16887"/>
                  <a:pt x="16692" y="16267"/>
                  <a:pt x="17555" y="15520"/>
                </a:cubicBezTo>
                <a:cubicBezTo>
                  <a:pt x="18268" y="14921"/>
                  <a:pt x="18860" y="14245"/>
                  <a:pt x="19231" y="13555"/>
                </a:cubicBezTo>
                <a:cubicBezTo>
                  <a:pt x="19593" y="12914"/>
                  <a:pt x="19793" y="12251"/>
                  <a:pt x="19894" y="11702"/>
                </a:cubicBezTo>
                <a:cubicBezTo>
                  <a:pt x="19974" y="11251"/>
                  <a:pt x="19974" y="10800"/>
                  <a:pt x="19894" y="10363"/>
                </a:cubicBezTo>
                <a:cubicBezTo>
                  <a:pt x="19793" y="9842"/>
                  <a:pt x="19593" y="9306"/>
                  <a:pt x="19171" y="8877"/>
                </a:cubicBezTo>
                <a:cubicBezTo>
                  <a:pt x="18940" y="8637"/>
                  <a:pt x="18579" y="8461"/>
                  <a:pt x="18288" y="8250"/>
                </a:cubicBezTo>
                <a:cubicBezTo>
                  <a:pt x="17896" y="7961"/>
                  <a:pt x="17505" y="7686"/>
                  <a:pt x="17164" y="7390"/>
                </a:cubicBezTo>
                <a:cubicBezTo>
                  <a:pt x="16862" y="7130"/>
                  <a:pt x="16612" y="6855"/>
                  <a:pt x="16441" y="6538"/>
                </a:cubicBezTo>
                <a:cubicBezTo>
                  <a:pt x="16270" y="6228"/>
                  <a:pt x="16180" y="5883"/>
                  <a:pt x="16170" y="5559"/>
                </a:cubicBezTo>
                <a:cubicBezTo>
                  <a:pt x="16150" y="5227"/>
                  <a:pt x="16180" y="4903"/>
                  <a:pt x="16250" y="4572"/>
                </a:cubicBezTo>
                <a:cubicBezTo>
                  <a:pt x="16290" y="4305"/>
                  <a:pt x="16481" y="3755"/>
                  <a:pt x="16481" y="3755"/>
                </a:cubicBezTo>
                <a:cubicBezTo>
                  <a:pt x="16481" y="3755"/>
                  <a:pt x="17284" y="4009"/>
                  <a:pt x="17686" y="4150"/>
                </a:cubicBezTo>
                <a:cubicBezTo>
                  <a:pt x="18007" y="4248"/>
                  <a:pt x="18348" y="4340"/>
                  <a:pt x="18639" y="4445"/>
                </a:cubicBezTo>
                <a:cubicBezTo>
                  <a:pt x="19131" y="4607"/>
                  <a:pt x="20165" y="4932"/>
                  <a:pt x="20165" y="4932"/>
                </a:cubicBezTo>
                <a:cubicBezTo>
                  <a:pt x="20165" y="4932"/>
                  <a:pt x="19843" y="5678"/>
                  <a:pt x="19673" y="6038"/>
                </a:cubicBezTo>
                <a:cubicBezTo>
                  <a:pt x="19452" y="6510"/>
                  <a:pt x="19131" y="6975"/>
                  <a:pt x="18860" y="7461"/>
                </a:cubicBezTo>
                <a:cubicBezTo>
                  <a:pt x="18729" y="7700"/>
                  <a:pt x="18599" y="8045"/>
                  <a:pt x="18599" y="8045"/>
                </a:cubicBezTo>
                <a:cubicBezTo>
                  <a:pt x="18599" y="8045"/>
                  <a:pt x="19572" y="8320"/>
                  <a:pt x="19572" y="8320"/>
                </a:cubicBezTo>
                <a:cubicBezTo>
                  <a:pt x="19572" y="8320"/>
                  <a:pt x="20396" y="7355"/>
                  <a:pt x="20636" y="7073"/>
                </a:cubicBezTo>
                <a:cubicBezTo>
                  <a:pt x="20998" y="6629"/>
                  <a:pt x="21249" y="6178"/>
                  <a:pt x="21329" y="6002"/>
                </a:cubicBezTo>
                <a:cubicBezTo>
                  <a:pt x="21600" y="5382"/>
                  <a:pt x="21570" y="4678"/>
                  <a:pt x="21480" y="4551"/>
                </a:cubicBezTo>
                <a:cubicBezTo>
                  <a:pt x="21229" y="4100"/>
                  <a:pt x="20616" y="3790"/>
                  <a:pt x="20084" y="3473"/>
                </a:cubicBezTo>
                <a:cubicBezTo>
                  <a:pt x="19342" y="3043"/>
                  <a:pt x="18559" y="2628"/>
                  <a:pt x="17726" y="2268"/>
                </a:cubicBezTo>
                <a:cubicBezTo>
                  <a:pt x="17113" y="2001"/>
                  <a:pt x="16461" y="1761"/>
                  <a:pt x="15809" y="1571"/>
                </a:cubicBezTo>
                <a:cubicBezTo>
                  <a:pt x="15317" y="1423"/>
                  <a:pt x="14825" y="1289"/>
                  <a:pt x="14323" y="1198"/>
                </a:cubicBezTo>
                <a:cubicBezTo>
                  <a:pt x="13831" y="1106"/>
                  <a:pt x="13319" y="1036"/>
                  <a:pt x="12838" y="1007"/>
                </a:cubicBezTo>
                <a:cubicBezTo>
                  <a:pt x="12496" y="986"/>
                  <a:pt x="12135" y="986"/>
                  <a:pt x="11804" y="1036"/>
                </a:cubicBezTo>
                <a:cubicBezTo>
                  <a:pt x="11593" y="1071"/>
                  <a:pt x="11121" y="1169"/>
                  <a:pt x="11121" y="1169"/>
                </a:cubicBezTo>
                <a:cubicBezTo>
                  <a:pt x="11121" y="1169"/>
                  <a:pt x="10760" y="859"/>
                  <a:pt x="10680" y="740"/>
                </a:cubicBezTo>
                <a:cubicBezTo>
                  <a:pt x="10569" y="592"/>
                  <a:pt x="10007" y="0"/>
                  <a:pt x="10007" y="0"/>
                </a:cubicBezTo>
                <a:cubicBezTo>
                  <a:pt x="10007" y="0"/>
                  <a:pt x="9043" y="416"/>
                  <a:pt x="9043" y="416"/>
                </a:cubicBezTo>
                <a:cubicBezTo>
                  <a:pt x="9043" y="416"/>
                  <a:pt x="9616" y="1169"/>
                  <a:pt x="9706" y="1275"/>
                </a:cubicBezTo>
                <a:cubicBezTo>
                  <a:pt x="9836" y="1409"/>
                  <a:pt x="9917" y="1571"/>
                  <a:pt x="9917" y="1571"/>
                </a:cubicBezTo>
                <a:cubicBezTo>
                  <a:pt x="9917" y="1571"/>
                  <a:pt x="9254" y="1973"/>
                  <a:pt x="8923" y="2184"/>
                </a:cubicBezTo>
                <a:cubicBezTo>
                  <a:pt x="8662" y="2346"/>
                  <a:pt x="8501" y="2564"/>
                  <a:pt x="8241" y="2895"/>
                </a:cubicBezTo>
                <a:cubicBezTo>
                  <a:pt x="7939" y="3269"/>
                  <a:pt x="7628" y="3699"/>
                  <a:pt x="7548" y="3847"/>
                </a:cubicBezTo>
                <a:cubicBezTo>
                  <a:pt x="7297" y="4262"/>
                  <a:pt x="7006" y="4671"/>
                  <a:pt x="6715" y="5086"/>
                </a:cubicBezTo>
                <a:cubicBezTo>
                  <a:pt x="6484" y="5411"/>
                  <a:pt x="6233" y="5735"/>
                  <a:pt x="5992" y="6052"/>
                </a:cubicBezTo>
                <a:cubicBezTo>
                  <a:pt x="5741" y="6390"/>
                  <a:pt x="5490" y="6735"/>
                  <a:pt x="5229" y="7073"/>
                </a:cubicBezTo>
                <a:cubicBezTo>
                  <a:pt x="5079" y="7270"/>
                  <a:pt x="4768" y="7651"/>
                  <a:pt x="4768" y="7651"/>
                </a:cubicBezTo>
                <a:cubicBezTo>
                  <a:pt x="4768" y="7651"/>
                  <a:pt x="2690" y="6524"/>
                  <a:pt x="2690" y="6524"/>
                </a:cubicBezTo>
                <a:cubicBezTo>
                  <a:pt x="2690" y="6524"/>
                  <a:pt x="743" y="5523"/>
                  <a:pt x="743" y="5523"/>
                </a:cubicBezTo>
                <a:cubicBezTo>
                  <a:pt x="743" y="5523"/>
                  <a:pt x="0" y="6038"/>
                  <a:pt x="0" y="6038"/>
                </a:cubicBezTo>
                <a:cubicBezTo>
                  <a:pt x="0" y="6038"/>
                  <a:pt x="2499" y="7609"/>
                  <a:pt x="3112" y="7996"/>
                </a:cubicBezTo>
                <a:cubicBezTo>
                  <a:pt x="3473" y="8222"/>
                  <a:pt x="3874" y="8440"/>
                  <a:pt x="4236" y="8651"/>
                </a:cubicBezTo>
                <a:cubicBezTo>
                  <a:pt x="4406" y="8736"/>
                  <a:pt x="4728" y="8813"/>
                  <a:pt x="4728" y="8813"/>
                </a:cubicBezTo>
                <a:cubicBezTo>
                  <a:pt x="4728" y="8813"/>
                  <a:pt x="5801" y="8278"/>
                  <a:pt x="6544" y="7771"/>
                </a:cubicBezTo>
                <a:cubicBezTo>
                  <a:pt x="7247" y="7313"/>
                  <a:pt x="8923" y="6038"/>
                  <a:pt x="8923" y="6038"/>
                </a:cubicBezTo>
                <a:cubicBezTo>
                  <a:pt x="8923" y="6038"/>
                  <a:pt x="9043" y="6193"/>
                  <a:pt x="9154" y="6369"/>
                </a:cubicBezTo>
                <a:cubicBezTo>
                  <a:pt x="9294" y="6594"/>
                  <a:pt x="9666" y="6749"/>
                  <a:pt x="9937" y="6834"/>
                </a:cubicBezTo>
                <a:cubicBezTo>
                  <a:pt x="10298" y="6939"/>
                  <a:pt x="10720" y="6939"/>
                  <a:pt x="10951" y="6925"/>
                </a:cubicBezTo>
                <a:cubicBezTo>
                  <a:pt x="11121" y="6911"/>
                  <a:pt x="11362" y="6855"/>
                  <a:pt x="11362" y="6855"/>
                </a:cubicBezTo>
                <a:cubicBezTo>
                  <a:pt x="11362" y="6855"/>
                  <a:pt x="11372" y="7151"/>
                  <a:pt x="11593" y="7425"/>
                </a:cubicBezTo>
                <a:cubicBezTo>
                  <a:pt x="11653" y="7524"/>
                  <a:pt x="11844" y="7742"/>
                  <a:pt x="12075" y="7940"/>
                </a:cubicBezTo>
                <a:cubicBezTo>
                  <a:pt x="12476" y="8292"/>
                  <a:pt x="13008" y="8651"/>
                  <a:pt x="13008" y="8651"/>
                </a:cubicBezTo>
                <a:cubicBezTo>
                  <a:pt x="13008" y="8651"/>
                  <a:pt x="12286" y="8961"/>
                  <a:pt x="11884" y="9123"/>
                </a:cubicBezTo>
                <a:cubicBezTo>
                  <a:pt x="11141" y="9426"/>
                  <a:pt x="10549" y="9912"/>
                  <a:pt x="9937" y="10349"/>
                </a:cubicBezTo>
                <a:cubicBezTo>
                  <a:pt x="9274" y="10800"/>
                  <a:pt x="8662" y="11300"/>
                  <a:pt x="8010" y="11786"/>
                </a:cubicBezTo>
                <a:cubicBezTo>
                  <a:pt x="7267" y="12357"/>
                  <a:pt x="6614" y="12963"/>
                  <a:pt x="5952" y="13555"/>
                </a:cubicBezTo>
                <a:cubicBezTo>
                  <a:pt x="5470" y="14020"/>
                  <a:pt x="4978" y="14485"/>
                  <a:pt x="4346" y="15119"/>
                </a:cubicBezTo>
                <a:cubicBezTo>
                  <a:pt x="3874" y="15577"/>
                  <a:pt x="3453" y="16041"/>
                  <a:pt x="3011" y="16563"/>
                </a:cubicBezTo>
                <a:cubicBezTo>
                  <a:pt x="2539" y="17098"/>
                  <a:pt x="2148" y="17676"/>
                  <a:pt x="1847" y="18275"/>
                </a:cubicBezTo>
                <a:cubicBezTo>
                  <a:pt x="1435" y="19092"/>
                  <a:pt x="913" y="20804"/>
                  <a:pt x="913" y="2080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46440" y="4503600"/>
            <a:ext cx="36720" cy="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956" y="1728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43160" y="2822400"/>
            <a:ext cx="2782800" cy="106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0" y="15526"/>
                </a:moveTo>
                <a:cubicBezTo>
                  <a:pt x="1370" y="15526"/>
                  <a:pt x="797" y="15250"/>
                  <a:pt x="573" y="14865"/>
                </a:cubicBezTo>
                <a:cubicBezTo>
                  <a:pt x="314" y="14388"/>
                  <a:pt x="175" y="13544"/>
                  <a:pt x="105" y="12773"/>
                </a:cubicBezTo>
                <a:cubicBezTo>
                  <a:pt x="28" y="12039"/>
                  <a:pt x="0" y="11231"/>
                  <a:pt x="42" y="10479"/>
                </a:cubicBezTo>
                <a:cubicBezTo>
                  <a:pt x="91" y="9781"/>
                  <a:pt x="196" y="9102"/>
                  <a:pt x="349" y="8552"/>
                </a:cubicBezTo>
                <a:cubicBezTo>
                  <a:pt x="559" y="7891"/>
                  <a:pt x="839" y="7359"/>
                  <a:pt x="1181" y="7194"/>
                </a:cubicBezTo>
                <a:cubicBezTo>
                  <a:pt x="1370" y="7120"/>
                  <a:pt x="1572" y="7194"/>
                  <a:pt x="1782" y="7231"/>
                </a:cubicBezTo>
                <a:cubicBezTo>
                  <a:pt x="1978" y="7231"/>
                  <a:pt x="2187" y="7194"/>
                  <a:pt x="2341" y="6919"/>
                </a:cubicBezTo>
                <a:cubicBezTo>
                  <a:pt x="2579" y="6533"/>
                  <a:pt x="2739" y="5909"/>
                  <a:pt x="2907" y="5340"/>
                </a:cubicBezTo>
                <a:cubicBezTo>
                  <a:pt x="3096" y="4680"/>
                  <a:pt x="3214" y="3891"/>
                  <a:pt x="3403" y="3248"/>
                </a:cubicBezTo>
                <a:cubicBezTo>
                  <a:pt x="3543" y="2808"/>
                  <a:pt x="3683" y="2276"/>
                  <a:pt x="3892" y="2129"/>
                </a:cubicBezTo>
                <a:cubicBezTo>
                  <a:pt x="4116" y="1927"/>
                  <a:pt x="4368" y="2129"/>
                  <a:pt x="4591" y="2276"/>
                </a:cubicBezTo>
                <a:cubicBezTo>
                  <a:pt x="4955" y="2533"/>
                  <a:pt x="5276" y="3212"/>
                  <a:pt x="5653" y="3395"/>
                </a:cubicBezTo>
                <a:cubicBezTo>
                  <a:pt x="5961" y="3560"/>
                  <a:pt x="6282" y="3560"/>
                  <a:pt x="6576" y="3285"/>
                </a:cubicBezTo>
                <a:cubicBezTo>
                  <a:pt x="6925" y="2936"/>
                  <a:pt x="7212" y="2166"/>
                  <a:pt x="7540" y="1670"/>
                </a:cubicBezTo>
                <a:cubicBezTo>
                  <a:pt x="7862" y="1138"/>
                  <a:pt x="8176" y="459"/>
                  <a:pt x="8539" y="275"/>
                </a:cubicBezTo>
                <a:cubicBezTo>
                  <a:pt x="9098" y="0"/>
                  <a:pt x="9706" y="495"/>
                  <a:pt x="10251" y="991"/>
                </a:cubicBezTo>
                <a:cubicBezTo>
                  <a:pt x="10615" y="1358"/>
                  <a:pt x="10908" y="2074"/>
                  <a:pt x="11237" y="2661"/>
                </a:cubicBezTo>
                <a:cubicBezTo>
                  <a:pt x="11579" y="3248"/>
                  <a:pt x="11887" y="4056"/>
                  <a:pt x="12264" y="4478"/>
                </a:cubicBezTo>
                <a:cubicBezTo>
                  <a:pt x="12578" y="4827"/>
                  <a:pt x="12914" y="4918"/>
                  <a:pt x="13256" y="4753"/>
                </a:cubicBezTo>
                <a:cubicBezTo>
                  <a:pt x="13599" y="4570"/>
                  <a:pt x="13906" y="4147"/>
                  <a:pt x="14221" y="3744"/>
                </a:cubicBezTo>
                <a:cubicBezTo>
                  <a:pt x="14633" y="3212"/>
                  <a:pt x="14996" y="2477"/>
                  <a:pt x="15409" y="1964"/>
                </a:cubicBezTo>
                <a:cubicBezTo>
                  <a:pt x="15751" y="1542"/>
                  <a:pt x="16121" y="1138"/>
                  <a:pt x="16485" y="918"/>
                </a:cubicBezTo>
                <a:cubicBezTo>
                  <a:pt x="16778" y="771"/>
                  <a:pt x="17079" y="642"/>
                  <a:pt x="17372" y="642"/>
                </a:cubicBezTo>
                <a:cubicBezTo>
                  <a:pt x="17666" y="642"/>
                  <a:pt x="17959" y="771"/>
                  <a:pt x="18253" y="918"/>
                </a:cubicBezTo>
                <a:cubicBezTo>
                  <a:pt x="18630" y="1138"/>
                  <a:pt x="19007" y="1450"/>
                  <a:pt x="19336" y="1964"/>
                </a:cubicBezTo>
                <a:cubicBezTo>
                  <a:pt x="19539" y="2276"/>
                  <a:pt x="19727" y="2789"/>
                  <a:pt x="19923" y="3156"/>
                </a:cubicBezTo>
                <a:cubicBezTo>
                  <a:pt x="20146" y="3597"/>
                  <a:pt x="20335" y="4147"/>
                  <a:pt x="20573" y="4423"/>
                </a:cubicBezTo>
                <a:cubicBezTo>
                  <a:pt x="20894" y="4790"/>
                  <a:pt x="21600" y="5028"/>
                  <a:pt x="21600" y="5028"/>
                </a:cubicBezTo>
                <a:cubicBezTo>
                  <a:pt x="21600" y="5028"/>
                  <a:pt x="20601" y="5340"/>
                  <a:pt x="20146" y="4955"/>
                </a:cubicBezTo>
                <a:cubicBezTo>
                  <a:pt x="19455" y="4368"/>
                  <a:pt x="18966" y="2661"/>
                  <a:pt x="18155" y="1927"/>
                </a:cubicBezTo>
                <a:cubicBezTo>
                  <a:pt x="17687" y="1505"/>
                  <a:pt x="17121" y="1505"/>
                  <a:pt x="16576" y="1688"/>
                </a:cubicBezTo>
                <a:cubicBezTo>
                  <a:pt x="16324" y="1762"/>
                  <a:pt x="16072" y="2000"/>
                  <a:pt x="15933" y="2533"/>
                </a:cubicBezTo>
                <a:cubicBezTo>
                  <a:pt x="15765" y="3120"/>
                  <a:pt x="16058" y="4111"/>
                  <a:pt x="15933" y="4716"/>
                </a:cubicBezTo>
                <a:cubicBezTo>
                  <a:pt x="15779" y="5414"/>
                  <a:pt x="15437" y="5762"/>
                  <a:pt x="15164" y="6038"/>
                </a:cubicBezTo>
                <a:cubicBezTo>
                  <a:pt x="14584" y="6625"/>
                  <a:pt x="13997" y="7157"/>
                  <a:pt x="13389" y="7267"/>
                </a:cubicBezTo>
                <a:cubicBezTo>
                  <a:pt x="12949" y="7359"/>
                  <a:pt x="12502" y="6992"/>
                  <a:pt x="12075" y="6680"/>
                </a:cubicBezTo>
                <a:cubicBezTo>
                  <a:pt x="11817" y="6497"/>
                  <a:pt x="11544" y="6221"/>
                  <a:pt x="11356" y="5726"/>
                </a:cubicBezTo>
                <a:cubicBezTo>
                  <a:pt x="11090" y="4973"/>
                  <a:pt x="10943" y="4019"/>
                  <a:pt x="10601" y="3982"/>
                </a:cubicBezTo>
                <a:cubicBezTo>
                  <a:pt x="10279" y="3927"/>
                  <a:pt x="9979" y="4753"/>
                  <a:pt x="9790" y="5450"/>
                </a:cubicBezTo>
                <a:cubicBezTo>
                  <a:pt x="9630" y="6038"/>
                  <a:pt x="9448" y="6919"/>
                  <a:pt x="9602" y="7506"/>
                </a:cubicBezTo>
                <a:cubicBezTo>
                  <a:pt x="9804" y="8277"/>
                  <a:pt x="10203" y="8662"/>
                  <a:pt x="10601" y="8589"/>
                </a:cubicBezTo>
                <a:cubicBezTo>
                  <a:pt x="11048" y="8515"/>
                  <a:pt x="11474" y="7891"/>
                  <a:pt x="11936" y="7983"/>
                </a:cubicBezTo>
                <a:cubicBezTo>
                  <a:pt x="12243" y="8038"/>
                  <a:pt x="12488" y="8662"/>
                  <a:pt x="12474" y="9433"/>
                </a:cubicBezTo>
                <a:cubicBezTo>
                  <a:pt x="12467" y="10057"/>
                  <a:pt x="12194" y="10479"/>
                  <a:pt x="11970" y="10644"/>
                </a:cubicBezTo>
                <a:cubicBezTo>
                  <a:pt x="11523" y="10993"/>
                  <a:pt x="11013" y="11066"/>
                  <a:pt x="10531" y="10919"/>
                </a:cubicBezTo>
                <a:cubicBezTo>
                  <a:pt x="10133" y="10791"/>
                  <a:pt x="9776" y="10204"/>
                  <a:pt x="9413" y="9837"/>
                </a:cubicBezTo>
                <a:cubicBezTo>
                  <a:pt x="9189" y="9598"/>
                  <a:pt x="8980" y="8937"/>
                  <a:pt x="8763" y="9121"/>
                </a:cubicBezTo>
                <a:cubicBezTo>
                  <a:pt x="8525" y="9323"/>
                  <a:pt x="8288" y="10057"/>
                  <a:pt x="8379" y="10754"/>
                </a:cubicBezTo>
                <a:cubicBezTo>
                  <a:pt x="8435" y="11268"/>
                  <a:pt x="8700" y="11378"/>
                  <a:pt x="8882" y="11598"/>
                </a:cubicBezTo>
                <a:cubicBezTo>
                  <a:pt x="9154" y="11965"/>
                  <a:pt x="9483" y="12039"/>
                  <a:pt x="9734" y="12461"/>
                </a:cubicBezTo>
                <a:cubicBezTo>
                  <a:pt x="10321" y="13470"/>
                  <a:pt x="11076" y="14204"/>
                  <a:pt x="11418" y="15838"/>
                </a:cubicBezTo>
                <a:cubicBezTo>
                  <a:pt x="11663" y="16994"/>
                  <a:pt x="11544" y="18499"/>
                  <a:pt x="11915" y="19251"/>
                </a:cubicBezTo>
                <a:cubicBezTo>
                  <a:pt x="12404" y="20205"/>
                  <a:pt x="13054" y="20481"/>
                  <a:pt x="13690" y="20444"/>
                </a:cubicBezTo>
                <a:cubicBezTo>
                  <a:pt x="14409" y="20389"/>
                  <a:pt x="15870" y="19673"/>
                  <a:pt x="15870" y="19673"/>
                </a:cubicBezTo>
                <a:cubicBezTo>
                  <a:pt x="15870" y="19673"/>
                  <a:pt x="15723" y="20370"/>
                  <a:pt x="15618" y="20609"/>
                </a:cubicBezTo>
                <a:cubicBezTo>
                  <a:pt x="15297" y="21288"/>
                  <a:pt x="14808" y="21380"/>
                  <a:pt x="14360" y="21472"/>
                </a:cubicBezTo>
                <a:cubicBezTo>
                  <a:pt x="13948" y="21600"/>
                  <a:pt x="13515" y="21527"/>
                  <a:pt x="13082" y="21288"/>
                </a:cubicBezTo>
                <a:cubicBezTo>
                  <a:pt x="12795" y="21141"/>
                  <a:pt x="12523" y="20829"/>
                  <a:pt x="12257" y="20481"/>
                </a:cubicBezTo>
                <a:cubicBezTo>
                  <a:pt x="11873" y="19985"/>
                  <a:pt x="11502" y="19361"/>
                  <a:pt x="11132" y="18737"/>
                </a:cubicBezTo>
                <a:cubicBezTo>
                  <a:pt x="10929" y="18278"/>
                  <a:pt x="10706" y="17820"/>
                  <a:pt x="10482" y="17416"/>
                </a:cubicBezTo>
                <a:cubicBezTo>
                  <a:pt x="10342" y="17141"/>
                  <a:pt x="10189" y="16773"/>
                  <a:pt x="10014" y="16737"/>
                </a:cubicBezTo>
                <a:cubicBezTo>
                  <a:pt x="9643" y="16682"/>
                  <a:pt x="9273" y="17141"/>
                  <a:pt x="8910" y="17232"/>
                </a:cubicBezTo>
                <a:cubicBezTo>
                  <a:pt x="8553" y="17269"/>
                  <a:pt x="8197" y="17232"/>
                  <a:pt x="7862" y="17067"/>
                </a:cubicBezTo>
                <a:cubicBezTo>
                  <a:pt x="7540" y="16920"/>
                  <a:pt x="7212" y="16682"/>
                  <a:pt x="6918" y="16260"/>
                </a:cubicBezTo>
                <a:cubicBezTo>
                  <a:pt x="6736" y="15984"/>
                  <a:pt x="6618" y="15526"/>
                  <a:pt x="6478" y="15140"/>
                </a:cubicBezTo>
                <a:cubicBezTo>
                  <a:pt x="6373" y="14865"/>
                  <a:pt x="6149" y="14351"/>
                  <a:pt x="6149" y="14351"/>
                </a:cubicBezTo>
                <a:cubicBezTo>
                  <a:pt x="6149" y="14351"/>
                  <a:pt x="5842" y="14975"/>
                  <a:pt x="5674" y="15140"/>
                </a:cubicBezTo>
                <a:cubicBezTo>
                  <a:pt x="5451" y="15379"/>
                  <a:pt x="5192" y="15415"/>
                  <a:pt x="4955" y="15415"/>
                </a:cubicBezTo>
                <a:cubicBezTo>
                  <a:pt x="4647" y="15415"/>
                  <a:pt x="4354" y="15379"/>
                  <a:pt x="4095" y="15140"/>
                </a:cubicBezTo>
                <a:cubicBezTo>
                  <a:pt x="3850" y="14902"/>
                  <a:pt x="3389" y="14314"/>
                  <a:pt x="3012" y="13507"/>
                </a:cubicBezTo>
                <a:cubicBezTo>
                  <a:pt x="2872" y="13232"/>
                  <a:pt x="2753" y="12846"/>
                  <a:pt x="2614" y="12626"/>
                </a:cubicBezTo>
                <a:cubicBezTo>
                  <a:pt x="2446" y="12351"/>
                  <a:pt x="2257" y="12186"/>
                  <a:pt x="2082" y="12222"/>
                </a:cubicBezTo>
                <a:cubicBezTo>
                  <a:pt x="1859" y="12277"/>
                  <a:pt x="1635" y="12498"/>
                  <a:pt x="1488" y="12938"/>
                </a:cubicBezTo>
                <a:cubicBezTo>
                  <a:pt x="1370" y="13268"/>
                  <a:pt x="1314" y="13782"/>
                  <a:pt x="1314" y="14296"/>
                </a:cubicBezTo>
                <a:cubicBezTo>
                  <a:pt x="1314" y="14590"/>
                  <a:pt x="1370" y="15526"/>
                  <a:pt x="1370" y="15526"/>
                </a:cubicBezTo>
              </a:path>
            </a:pathLst>
          </a:custGeom>
          <a:solidFill>
            <a:srgbClr val="ffee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165480" y="2836800"/>
            <a:ext cx="1320840" cy="760320"/>
            <a:chOff x="3165480" y="2836800"/>
            <a:chExt cx="1320840" cy="760320"/>
          </a:xfrm>
        </p:grpSpPr>
        <p:sp>
          <p:nvSpPr>
            <p:cNvPr id="65" name=""/>
            <p:cNvSpPr/>
            <p:nvPr/>
          </p:nvSpPr>
          <p:spPr>
            <a:xfrm>
              <a:off x="3319560" y="3186000"/>
              <a:ext cx="77760" cy="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6781" y="0"/>
                    <a:pt x="14065" y="10800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05040" y="2940120"/>
              <a:ext cx="63720" cy="5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6085" y="13239"/>
                    <a:pt x="12473" y="2787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40000" y="3565440"/>
              <a:ext cx="103320" cy="3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21600" y="21600"/>
                    <a:pt x="6010" y="12960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79880" y="3463920"/>
              <a:ext cx="60120" cy="10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9672" y="16674"/>
                    <a:pt x="3224" y="7958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65480" y="3351240"/>
              <a:ext cx="14400" cy="11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7200" y="14688"/>
                    <a:pt x="0" y="7085"/>
                    <a:pt x="864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71960" y="3255840"/>
              <a:ext cx="39600" cy="9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3436" y="13783"/>
                    <a:pt x="10800" y="6171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1560" y="3189240"/>
              <a:ext cx="108000" cy="6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5400" y="11232"/>
                    <a:pt x="12780" y="2592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97320" y="3176640"/>
              <a:ext cx="69840" cy="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7382" y="21600"/>
                    <a:pt x="15585" y="17788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67160" y="3097080"/>
              <a:ext cx="73080" cy="7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9067" y="16386"/>
                    <a:pt x="15467" y="7945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40240" y="2995560"/>
              <a:ext cx="64800" cy="10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8214" y="14910"/>
                    <a:pt x="13386" y="6690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68760" y="2930400"/>
              <a:ext cx="88920" cy="1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000"/>
                  </a:moveTo>
                  <a:cubicBezTo>
                    <a:pt x="6982" y="0"/>
                    <a:pt x="14618" y="12000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57680" y="2948040"/>
              <a:ext cx="136440" cy="5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532" y="5226"/>
                    <a:pt x="13926" y="17768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94120" y="2997360"/>
              <a:ext cx="119160" cy="1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640"/>
                  </a:moveTo>
                  <a:cubicBezTo>
                    <a:pt x="7200" y="21600"/>
                    <a:pt x="14727" y="21600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13280" y="2917800"/>
              <a:ext cx="123840" cy="7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8139" y="16989"/>
                    <a:pt x="14243" y="6796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37120" y="2849400"/>
              <a:ext cx="128520" cy="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6948" y="13642"/>
                    <a:pt x="13745" y="3126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5640" y="2836800"/>
              <a:ext cx="220680" cy="4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600"/>
                  </a:moveTo>
                  <a:cubicBezTo>
                    <a:pt x="7053" y="0"/>
                    <a:pt x="14723" y="10800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a32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86320" y="2868480"/>
            <a:ext cx="1461960" cy="214560"/>
            <a:chOff x="4486320" y="2868480"/>
            <a:chExt cx="1461960" cy="214560"/>
          </a:xfrm>
        </p:grpSpPr>
        <p:sp>
          <p:nvSpPr>
            <p:cNvPr id="82" name=""/>
            <p:cNvSpPr/>
            <p:nvPr/>
          </p:nvSpPr>
          <p:spPr>
            <a:xfrm>
              <a:off x="5403960" y="2868480"/>
              <a:ext cx="114120" cy="1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143" y="0"/>
                    <a:pt x="14287" y="10080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86320" y="2886120"/>
              <a:ext cx="128520" cy="8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8062" y="4510"/>
                    <a:pt x="14451" y="14004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14840" y="2967120"/>
              <a:ext cx="131760" cy="88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053" y="6982"/>
                    <a:pt x="13518" y="16582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46600" y="3056040"/>
              <a:ext cx="127080" cy="2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6894" y="17100"/>
                    <a:pt x="14247" y="21600"/>
                    <a:pt x="21600" y="135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3680" y="3021120"/>
              <a:ext cx="123840" cy="4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7670" y="17280"/>
                    <a:pt x="14557" y="8640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97520" y="2933640"/>
              <a:ext cx="154080" cy="8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7453" y="14920"/>
                    <a:pt x="14147" y="6235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51600" y="2881440"/>
              <a:ext cx="137880" cy="52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6873" y="12884"/>
                    <a:pt x="14166" y="4547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9480" y="2868480"/>
              <a:ext cx="114480" cy="1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7200" y="10080"/>
                    <a:pt x="14400" y="0"/>
                    <a:pt x="2160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18080" y="2881440"/>
              <a:ext cx="138240" cy="52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434" y="4547"/>
                    <a:pt x="15008" y="10989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56320" y="2933640"/>
              <a:ext cx="76320" cy="5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369" y="5317"/>
                    <a:pt x="14739" y="14954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32640" y="2990880"/>
              <a:ext cx="83880" cy="6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432" y="7624"/>
                    <a:pt x="13703" y="17153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16520" y="3052800"/>
              <a:ext cx="131760" cy="30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6612" y="13745"/>
                    <a:pt x="21600" y="21600"/>
                    <a:pt x="2160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178600" y="3800520"/>
            <a:ext cx="31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9000" y="16518"/>
                  <a:pt x="0" y="21600"/>
                </a:cubicBezTo>
              </a:path>
            </a:pathLst>
          </a:custGeom>
          <a:solidFill>
            <a:srgbClr val="ffcc00"/>
          </a:solidFill>
          <a:ln w="7200">
            <a:solidFill>
              <a:srgbClr val="cc9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546360" y="3494160"/>
            <a:ext cx="1632240" cy="401400"/>
            <a:chOff x="3546360" y="3494160"/>
            <a:chExt cx="1632240" cy="401400"/>
          </a:xfrm>
        </p:grpSpPr>
        <p:sp>
          <p:nvSpPr>
            <p:cNvPr id="96" name=""/>
            <p:cNvSpPr/>
            <p:nvPr/>
          </p:nvSpPr>
          <p:spPr>
            <a:xfrm>
              <a:off x="4516560" y="3691080"/>
              <a:ext cx="838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865" y="13994"/>
                    <a:pt x="7432" y="6389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00680" y="3579840"/>
              <a:ext cx="56880" cy="5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3029" y="16560"/>
                    <a:pt x="7200" y="7200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5200" y="3579840"/>
              <a:ext cx="92160" cy="1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889" y="17280"/>
                    <a:pt x="6920" y="21600"/>
                    <a:pt x="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3846600"/>
              <a:ext cx="162000" cy="4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049" y="17100"/>
                    <a:pt x="7723" y="18900"/>
                    <a:pt x="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1360" y="3881520"/>
              <a:ext cx="165240" cy="1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2706"/>
                  </a:moveTo>
                  <a:cubicBezTo>
                    <a:pt x="14674" y="21600"/>
                    <a:pt x="7278" y="15247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45160" y="3841920"/>
              <a:ext cx="106200" cy="3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278" y="17673"/>
                    <a:pt x="6956" y="9327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00440" y="3754440"/>
              <a:ext cx="144720" cy="8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310" y="15300"/>
                    <a:pt x="7020" y="7650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56080" y="3656160"/>
              <a:ext cx="60480" cy="3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929" y="13074"/>
                    <a:pt x="8259" y="1705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13160" y="3654360"/>
              <a:ext cx="142920" cy="27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40"/>
                  </a:moveTo>
                  <a:cubicBezTo>
                    <a:pt x="14491" y="0"/>
                    <a:pt x="7109" y="18000"/>
                    <a:pt x="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8160" y="3673440"/>
              <a:ext cx="135000" cy="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673"/>
                  </a:moveTo>
                  <a:cubicBezTo>
                    <a:pt x="14256" y="21600"/>
                    <a:pt x="7056" y="17673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57560" y="3633840"/>
              <a:ext cx="120600" cy="3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240" y="17760"/>
                    <a:pt x="6720" y="11520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57480" y="3540240"/>
              <a:ext cx="43200" cy="3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706" y="14065"/>
                    <a:pt x="0" y="0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97360" y="3540240"/>
              <a:ext cx="60120" cy="3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1600" y="0"/>
                    <a:pt x="7415" y="17079"/>
                    <a:pt x="0" y="2160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93960" y="3579840"/>
              <a:ext cx="111240" cy="1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3698" y="21600"/>
                    <a:pt x="6322" y="17280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46360" y="3494160"/>
              <a:ext cx="147600" cy="8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356" y="15688"/>
                    <a:pt x="7112" y="10004"/>
                    <a:pt x="0" y="0"/>
                  </a:cubicBezTo>
                </a:path>
              </a:pathLst>
            </a:custGeom>
            <a:solidFill>
              <a:srgbClr val="ffcc00"/>
            </a:solidFill>
            <a:ln w="7200">
              <a:solidFill>
                <a:srgbClr val="cc99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2080" y="3456000"/>
            <a:ext cx="52200" cy="4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021" y="14850"/>
                  <a:pt x="7958" y="5400"/>
                  <a:pt x="0" y="0"/>
                </a:cubicBezTo>
              </a:path>
            </a:pathLst>
          </a:custGeom>
          <a:solidFill>
            <a:srgbClr val="ffcc00"/>
          </a:solidFill>
          <a:ln w="7200">
            <a:solidFill>
              <a:srgbClr val="cc9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4160" y="3338640"/>
            <a:ext cx="104760" cy="193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0"/>
                </a:moveTo>
                <a:cubicBezTo>
                  <a:pt x="1315" y="2624"/>
                  <a:pt x="0" y="4946"/>
                  <a:pt x="0" y="7368"/>
                </a:cubicBezTo>
                <a:cubicBezTo>
                  <a:pt x="563" y="11103"/>
                  <a:pt x="2817" y="15140"/>
                  <a:pt x="7701" y="17966"/>
                </a:cubicBezTo>
                <a:cubicBezTo>
                  <a:pt x="11270" y="20086"/>
                  <a:pt x="16529" y="20893"/>
                  <a:pt x="21600" y="21600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82840" y="3255840"/>
            <a:ext cx="7632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49" y="0"/>
                </a:moveTo>
                <a:cubicBezTo>
                  <a:pt x="16577" y="579"/>
                  <a:pt x="11553" y="1254"/>
                  <a:pt x="8540" y="2604"/>
                </a:cubicBezTo>
                <a:cubicBezTo>
                  <a:pt x="3767" y="4629"/>
                  <a:pt x="1758" y="7521"/>
                  <a:pt x="502" y="10318"/>
                </a:cubicBezTo>
                <a:cubicBezTo>
                  <a:pt x="0" y="12632"/>
                  <a:pt x="1005" y="15043"/>
                  <a:pt x="4772" y="16875"/>
                </a:cubicBezTo>
                <a:cubicBezTo>
                  <a:pt x="10549" y="19961"/>
                  <a:pt x="20847" y="21600"/>
                  <a:pt x="21600" y="21407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79680" y="3127320"/>
            <a:ext cx="1068480" cy="19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664"/>
                </a:moveTo>
                <a:cubicBezTo>
                  <a:pt x="255" y="16049"/>
                  <a:pt x="527" y="14333"/>
                  <a:pt x="836" y="13424"/>
                </a:cubicBezTo>
                <a:cubicBezTo>
                  <a:pt x="1236" y="12415"/>
                  <a:pt x="1764" y="12617"/>
                  <a:pt x="2309" y="12819"/>
                </a:cubicBezTo>
                <a:cubicBezTo>
                  <a:pt x="3145" y="13021"/>
                  <a:pt x="3982" y="13222"/>
                  <a:pt x="4764" y="15140"/>
                </a:cubicBezTo>
                <a:cubicBezTo>
                  <a:pt x="5291" y="16351"/>
                  <a:pt x="5709" y="19178"/>
                  <a:pt x="6255" y="20288"/>
                </a:cubicBezTo>
                <a:cubicBezTo>
                  <a:pt x="6818" y="21600"/>
                  <a:pt x="7509" y="20893"/>
                  <a:pt x="8164" y="20591"/>
                </a:cubicBezTo>
                <a:cubicBezTo>
                  <a:pt x="8964" y="20490"/>
                  <a:pt x="9782" y="21297"/>
                  <a:pt x="10545" y="20893"/>
                </a:cubicBezTo>
                <a:cubicBezTo>
                  <a:pt x="11164" y="20490"/>
                  <a:pt x="11691" y="19379"/>
                  <a:pt x="12236" y="18067"/>
                </a:cubicBezTo>
                <a:cubicBezTo>
                  <a:pt x="12800" y="16654"/>
                  <a:pt x="13345" y="14636"/>
                  <a:pt x="13800" y="12415"/>
                </a:cubicBezTo>
                <a:cubicBezTo>
                  <a:pt x="14382" y="9387"/>
                  <a:pt x="14909" y="5753"/>
                  <a:pt x="15618" y="3634"/>
                </a:cubicBezTo>
                <a:cubicBezTo>
                  <a:pt x="16236" y="1716"/>
                  <a:pt x="16964" y="908"/>
                  <a:pt x="17636" y="505"/>
                </a:cubicBezTo>
                <a:cubicBezTo>
                  <a:pt x="18218" y="0"/>
                  <a:pt x="18836" y="0"/>
                  <a:pt x="19455" y="0"/>
                </a:cubicBezTo>
                <a:cubicBezTo>
                  <a:pt x="20182" y="202"/>
                  <a:pt x="20891" y="707"/>
                  <a:pt x="21600" y="1009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9160" y="3319560"/>
            <a:ext cx="58896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166"/>
                </a:moveTo>
                <a:cubicBezTo>
                  <a:pt x="661" y="8786"/>
                  <a:pt x="1387" y="6407"/>
                  <a:pt x="2048" y="4576"/>
                </a:cubicBezTo>
                <a:cubicBezTo>
                  <a:pt x="3105" y="1831"/>
                  <a:pt x="4228" y="0"/>
                  <a:pt x="5350" y="366"/>
                </a:cubicBezTo>
                <a:cubicBezTo>
                  <a:pt x="6804" y="732"/>
                  <a:pt x="8290" y="3112"/>
                  <a:pt x="9578" y="7139"/>
                </a:cubicBezTo>
                <a:cubicBezTo>
                  <a:pt x="10503" y="9885"/>
                  <a:pt x="11361" y="14278"/>
                  <a:pt x="12319" y="16475"/>
                </a:cubicBezTo>
                <a:cubicBezTo>
                  <a:pt x="13574" y="19586"/>
                  <a:pt x="15028" y="20685"/>
                  <a:pt x="16415" y="21051"/>
                </a:cubicBezTo>
                <a:cubicBezTo>
                  <a:pt x="17967" y="21600"/>
                  <a:pt x="19486" y="21051"/>
                  <a:pt x="21039" y="21051"/>
                </a:cubicBezTo>
                <a:cubicBezTo>
                  <a:pt x="21237" y="21051"/>
                  <a:pt x="21435" y="21051"/>
                  <a:pt x="21600" y="21051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7560" y="3330720"/>
            <a:ext cx="882360" cy="16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723"/>
                </a:moveTo>
                <a:cubicBezTo>
                  <a:pt x="705" y="7964"/>
                  <a:pt x="1455" y="7964"/>
                  <a:pt x="2050" y="9412"/>
                </a:cubicBezTo>
                <a:cubicBezTo>
                  <a:pt x="2799" y="11222"/>
                  <a:pt x="3394" y="14239"/>
                  <a:pt x="4100" y="16291"/>
                </a:cubicBezTo>
                <a:cubicBezTo>
                  <a:pt x="4915" y="18583"/>
                  <a:pt x="5775" y="19911"/>
                  <a:pt x="6612" y="20635"/>
                </a:cubicBezTo>
                <a:cubicBezTo>
                  <a:pt x="7185" y="21117"/>
                  <a:pt x="7780" y="21359"/>
                  <a:pt x="8331" y="21359"/>
                </a:cubicBezTo>
                <a:cubicBezTo>
                  <a:pt x="9191" y="21359"/>
                  <a:pt x="10051" y="21600"/>
                  <a:pt x="10866" y="20152"/>
                </a:cubicBezTo>
                <a:cubicBezTo>
                  <a:pt x="11219" y="19549"/>
                  <a:pt x="11505" y="18101"/>
                  <a:pt x="11792" y="16894"/>
                </a:cubicBezTo>
                <a:cubicBezTo>
                  <a:pt x="12563" y="13032"/>
                  <a:pt x="13269" y="8326"/>
                  <a:pt x="14150" y="5672"/>
                </a:cubicBezTo>
                <a:cubicBezTo>
                  <a:pt x="14878" y="3258"/>
                  <a:pt x="15649" y="1569"/>
                  <a:pt x="16398" y="845"/>
                </a:cubicBezTo>
                <a:cubicBezTo>
                  <a:pt x="16949" y="241"/>
                  <a:pt x="17500" y="0"/>
                  <a:pt x="17963" y="0"/>
                </a:cubicBezTo>
                <a:cubicBezTo>
                  <a:pt x="18624" y="0"/>
                  <a:pt x="19308" y="241"/>
                  <a:pt x="19859" y="1207"/>
                </a:cubicBezTo>
                <a:cubicBezTo>
                  <a:pt x="20851" y="3017"/>
                  <a:pt x="21225" y="4827"/>
                  <a:pt x="21600" y="6396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6040" y="3411360"/>
            <a:ext cx="55080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42" y="19543"/>
                  <a:pt x="1555" y="17280"/>
                  <a:pt x="2156" y="14194"/>
                </a:cubicBezTo>
                <a:cubicBezTo>
                  <a:pt x="2757" y="10697"/>
                  <a:pt x="3358" y="6994"/>
                  <a:pt x="4065" y="4731"/>
                </a:cubicBezTo>
                <a:cubicBezTo>
                  <a:pt x="5373" y="411"/>
                  <a:pt x="7035" y="0"/>
                  <a:pt x="8591" y="411"/>
                </a:cubicBezTo>
                <a:cubicBezTo>
                  <a:pt x="9863" y="823"/>
                  <a:pt x="11207" y="2057"/>
                  <a:pt x="12409" y="5143"/>
                </a:cubicBezTo>
                <a:cubicBezTo>
                  <a:pt x="13504" y="8229"/>
                  <a:pt x="14494" y="13577"/>
                  <a:pt x="15696" y="14194"/>
                </a:cubicBezTo>
                <a:cubicBezTo>
                  <a:pt x="16651" y="15223"/>
                  <a:pt x="17676" y="10080"/>
                  <a:pt x="18666" y="11726"/>
                </a:cubicBezTo>
                <a:cubicBezTo>
                  <a:pt x="19019" y="12549"/>
                  <a:pt x="19161" y="14606"/>
                  <a:pt x="19408" y="15223"/>
                </a:cubicBezTo>
                <a:cubicBezTo>
                  <a:pt x="20151" y="16869"/>
                  <a:pt x="20893" y="13577"/>
                  <a:pt x="21600" y="10491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11480" y="3484440"/>
            <a:ext cx="73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85" y="1651"/>
                  <a:pt x="1422" y="3039"/>
                  <a:pt x="2081" y="4426"/>
                </a:cubicBezTo>
                <a:cubicBezTo>
                  <a:pt x="2634" y="5549"/>
                  <a:pt x="3240" y="6672"/>
                  <a:pt x="3951" y="7002"/>
                </a:cubicBezTo>
                <a:cubicBezTo>
                  <a:pt x="5189" y="7530"/>
                  <a:pt x="6348" y="7530"/>
                  <a:pt x="7507" y="7398"/>
                </a:cubicBezTo>
                <a:cubicBezTo>
                  <a:pt x="8456" y="7200"/>
                  <a:pt x="9351" y="7002"/>
                  <a:pt x="10220" y="6870"/>
                </a:cubicBezTo>
                <a:cubicBezTo>
                  <a:pt x="11300" y="6672"/>
                  <a:pt x="12354" y="6407"/>
                  <a:pt x="13408" y="7002"/>
                </a:cubicBezTo>
                <a:cubicBezTo>
                  <a:pt x="14093" y="7200"/>
                  <a:pt x="14751" y="8191"/>
                  <a:pt x="15304" y="9314"/>
                </a:cubicBezTo>
                <a:cubicBezTo>
                  <a:pt x="16253" y="11163"/>
                  <a:pt x="17069" y="13541"/>
                  <a:pt x="18044" y="15457"/>
                </a:cubicBezTo>
                <a:cubicBezTo>
                  <a:pt x="18702" y="16976"/>
                  <a:pt x="19519" y="18561"/>
                  <a:pt x="20309" y="19817"/>
                </a:cubicBezTo>
                <a:cubicBezTo>
                  <a:pt x="20704" y="20345"/>
                  <a:pt x="21152" y="21006"/>
                  <a:pt x="21600" y="21600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48240" y="3209760"/>
            <a:ext cx="1128600" cy="1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264"/>
                </a:moveTo>
                <a:cubicBezTo>
                  <a:pt x="637" y="21155"/>
                  <a:pt x="878" y="21155"/>
                  <a:pt x="1499" y="21377"/>
                </a:cubicBezTo>
                <a:cubicBezTo>
                  <a:pt x="2291" y="21600"/>
                  <a:pt x="3100" y="20932"/>
                  <a:pt x="3893" y="20041"/>
                </a:cubicBezTo>
                <a:cubicBezTo>
                  <a:pt x="4478" y="19262"/>
                  <a:pt x="5064" y="18148"/>
                  <a:pt x="5598" y="16478"/>
                </a:cubicBezTo>
                <a:cubicBezTo>
                  <a:pt x="6011" y="15365"/>
                  <a:pt x="6442" y="13695"/>
                  <a:pt x="6873" y="12025"/>
                </a:cubicBezTo>
                <a:cubicBezTo>
                  <a:pt x="7389" y="10132"/>
                  <a:pt x="7906" y="7460"/>
                  <a:pt x="8406" y="5678"/>
                </a:cubicBezTo>
                <a:cubicBezTo>
                  <a:pt x="9026" y="3340"/>
                  <a:pt x="9749" y="1447"/>
                  <a:pt x="10490" y="668"/>
                </a:cubicBezTo>
                <a:cubicBezTo>
                  <a:pt x="11248" y="0"/>
                  <a:pt x="12006" y="891"/>
                  <a:pt x="12660" y="2338"/>
                </a:cubicBezTo>
                <a:cubicBezTo>
                  <a:pt x="13022" y="3340"/>
                  <a:pt x="13332" y="5233"/>
                  <a:pt x="13711" y="6792"/>
                </a:cubicBezTo>
                <a:cubicBezTo>
                  <a:pt x="14262" y="9353"/>
                  <a:pt x="14796" y="12025"/>
                  <a:pt x="15416" y="13472"/>
                </a:cubicBezTo>
                <a:cubicBezTo>
                  <a:pt x="15916" y="14586"/>
                  <a:pt x="16467" y="15365"/>
                  <a:pt x="16949" y="15588"/>
                </a:cubicBezTo>
                <a:cubicBezTo>
                  <a:pt x="17466" y="15699"/>
                  <a:pt x="18000" y="15031"/>
                  <a:pt x="18500" y="14029"/>
                </a:cubicBezTo>
                <a:cubicBezTo>
                  <a:pt x="18982" y="13138"/>
                  <a:pt x="19464" y="11802"/>
                  <a:pt x="19895" y="10355"/>
                </a:cubicBezTo>
                <a:cubicBezTo>
                  <a:pt x="20480" y="8239"/>
                  <a:pt x="21066" y="5790"/>
                  <a:pt x="21600" y="3563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2080" y="3195720"/>
            <a:ext cx="380880" cy="7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63"/>
                </a:moveTo>
                <a:cubicBezTo>
                  <a:pt x="1177" y="7766"/>
                  <a:pt x="2355" y="2427"/>
                  <a:pt x="3788" y="1699"/>
                </a:cubicBezTo>
                <a:cubicBezTo>
                  <a:pt x="5528" y="0"/>
                  <a:pt x="7319" y="3640"/>
                  <a:pt x="9060" y="6067"/>
                </a:cubicBezTo>
                <a:cubicBezTo>
                  <a:pt x="10902" y="8737"/>
                  <a:pt x="12745" y="10679"/>
                  <a:pt x="14588" y="13834"/>
                </a:cubicBezTo>
                <a:cubicBezTo>
                  <a:pt x="15560" y="15533"/>
                  <a:pt x="16482" y="17960"/>
                  <a:pt x="17505" y="18930"/>
                </a:cubicBezTo>
                <a:cubicBezTo>
                  <a:pt x="18785" y="20387"/>
                  <a:pt x="20218" y="20872"/>
                  <a:pt x="21600" y="21600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8520" y="3081240"/>
            <a:ext cx="433440" cy="12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" y="21600"/>
                </a:moveTo>
                <a:cubicBezTo>
                  <a:pt x="179" y="19350"/>
                  <a:pt x="0" y="16500"/>
                  <a:pt x="268" y="13650"/>
                </a:cubicBezTo>
                <a:cubicBezTo>
                  <a:pt x="537" y="10500"/>
                  <a:pt x="1520" y="7350"/>
                  <a:pt x="2549" y="5850"/>
                </a:cubicBezTo>
                <a:cubicBezTo>
                  <a:pt x="3488" y="4200"/>
                  <a:pt x="4606" y="3900"/>
                  <a:pt x="5635" y="4500"/>
                </a:cubicBezTo>
                <a:cubicBezTo>
                  <a:pt x="7647" y="5400"/>
                  <a:pt x="9525" y="8400"/>
                  <a:pt x="11404" y="10500"/>
                </a:cubicBezTo>
                <a:cubicBezTo>
                  <a:pt x="12432" y="11700"/>
                  <a:pt x="13595" y="12750"/>
                  <a:pt x="14713" y="12750"/>
                </a:cubicBezTo>
                <a:cubicBezTo>
                  <a:pt x="15384" y="12750"/>
                  <a:pt x="16502" y="12750"/>
                  <a:pt x="17441" y="11250"/>
                </a:cubicBezTo>
                <a:cubicBezTo>
                  <a:pt x="18380" y="9600"/>
                  <a:pt x="19319" y="7050"/>
                  <a:pt x="20214" y="4500"/>
                </a:cubicBezTo>
                <a:cubicBezTo>
                  <a:pt x="20750" y="2850"/>
                  <a:pt x="21332" y="1050"/>
                  <a:pt x="21600" y="0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71920" y="2982960"/>
            <a:ext cx="97956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37" y="18968"/>
                  <a:pt x="694" y="16064"/>
                  <a:pt x="972" y="13613"/>
                </a:cubicBezTo>
                <a:cubicBezTo>
                  <a:pt x="1269" y="10891"/>
                  <a:pt x="1369" y="7805"/>
                  <a:pt x="1805" y="5536"/>
                </a:cubicBezTo>
                <a:cubicBezTo>
                  <a:pt x="2102" y="3993"/>
                  <a:pt x="2539" y="3176"/>
                  <a:pt x="3015" y="3086"/>
                </a:cubicBezTo>
                <a:cubicBezTo>
                  <a:pt x="3709" y="2632"/>
                  <a:pt x="4483" y="3630"/>
                  <a:pt x="5117" y="4538"/>
                </a:cubicBezTo>
                <a:cubicBezTo>
                  <a:pt x="5514" y="5173"/>
                  <a:pt x="5950" y="6262"/>
                  <a:pt x="6327" y="7442"/>
                </a:cubicBezTo>
                <a:cubicBezTo>
                  <a:pt x="6823" y="8803"/>
                  <a:pt x="7319" y="10074"/>
                  <a:pt x="7855" y="10709"/>
                </a:cubicBezTo>
                <a:cubicBezTo>
                  <a:pt x="8628" y="11435"/>
                  <a:pt x="9362" y="11163"/>
                  <a:pt x="10136" y="10709"/>
                </a:cubicBezTo>
                <a:cubicBezTo>
                  <a:pt x="10770" y="10346"/>
                  <a:pt x="11385" y="9348"/>
                  <a:pt x="11980" y="7805"/>
                </a:cubicBezTo>
                <a:cubicBezTo>
                  <a:pt x="12714" y="5899"/>
                  <a:pt x="13269" y="2269"/>
                  <a:pt x="14102" y="908"/>
                </a:cubicBezTo>
                <a:cubicBezTo>
                  <a:pt x="14678" y="0"/>
                  <a:pt x="15451" y="0"/>
                  <a:pt x="16165" y="182"/>
                </a:cubicBezTo>
                <a:cubicBezTo>
                  <a:pt x="16740" y="363"/>
                  <a:pt x="17395" y="726"/>
                  <a:pt x="18030" y="1724"/>
                </a:cubicBezTo>
                <a:cubicBezTo>
                  <a:pt x="18625" y="2450"/>
                  <a:pt x="19160" y="3993"/>
                  <a:pt x="19676" y="5536"/>
                </a:cubicBezTo>
                <a:cubicBezTo>
                  <a:pt x="20311" y="7261"/>
                  <a:pt x="20965" y="9166"/>
                  <a:pt x="21600" y="11163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24240" y="2917800"/>
            <a:ext cx="104472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413"/>
                </a:moveTo>
                <a:cubicBezTo>
                  <a:pt x="0" y="5231"/>
                  <a:pt x="130" y="3966"/>
                  <a:pt x="260" y="2784"/>
                </a:cubicBezTo>
                <a:cubicBezTo>
                  <a:pt x="837" y="1603"/>
                  <a:pt x="1414" y="338"/>
                  <a:pt x="2102" y="169"/>
                </a:cubicBezTo>
                <a:cubicBezTo>
                  <a:pt x="2995" y="0"/>
                  <a:pt x="3926" y="675"/>
                  <a:pt x="4763" y="2363"/>
                </a:cubicBezTo>
                <a:cubicBezTo>
                  <a:pt x="5470" y="3797"/>
                  <a:pt x="6065" y="6075"/>
                  <a:pt x="6623" y="8184"/>
                </a:cubicBezTo>
                <a:cubicBezTo>
                  <a:pt x="7405" y="11475"/>
                  <a:pt x="8186" y="14597"/>
                  <a:pt x="9079" y="16875"/>
                </a:cubicBezTo>
                <a:cubicBezTo>
                  <a:pt x="10028" y="19406"/>
                  <a:pt x="11163" y="20672"/>
                  <a:pt x="12279" y="21178"/>
                </a:cubicBezTo>
                <a:cubicBezTo>
                  <a:pt x="13209" y="21600"/>
                  <a:pt x="14233" y="21178"/>
                  <a:pt x="15219" y="20334"/>
                </a:cubicBezTo>
                <a:cubicBezTo>
                  <a:pt x="16167" y="19406"/>
                  <a:pt x="17172" y="17803"/>
                  <a:pt x="18084" y="15694"/>
                </a:cubicBezTo>
                <a:cubicBezTo>
                  <a:pt x="18679" y="14259"/>
                  <a:pt x="19181" y="12488"/>
                  <a:pt x="19721" y="11222"/>
                </a:cubicBezTo>
                <a:cubicBezTo>
                  <a:pt x="20633" y="9197"/>
                  <a:pt x="21600" y="8353"/>
                  <a:pt x="21600" y="8522"/>
                </a:cubicBezTo>
              </a:path>
            </a:pathLst>
          </a:custGeom>
          <a:noFill/>
          <a:ln w="7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8240" y="3830760"/>
            <a:ext cx="36036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549"/>
                </a:moveTo>
                <a:cubicBezTo>
                  <a:pt x="862" y="4366"/>
                  <a:pt x="1939" y="2413"/>
                  <a:pt x="3070" y="1723"/>
                </a:cubicBezTo>
                <a:cubicBezTo>
                  <a:pt x="5871" y="0"/>
                  <a:pt x="8780" y="574"/>
                  <a:pt x="11473" y="1953"/>
                </a:cubicBezTo>
                <a:cubicBezTo>
                  <a:pt x="13412" y="2872"/>
                  <a:pt x="15352" y="6549"/>
                  <a:pt x="16806" y="9421"/>
                </a:cubicBezTo>
                <a:cubicBezTo>
                  <a:pt x="18530" y="13098"/>
                  <a:pt x="20146" y="17234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816360"/>
            <a:ext cx="69516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19" y="17612"/>
                  <a:pt x="615" y="13375"/>
                  <a:pt x="1425" y="9886"/>
                </a:cubicBezTo>
                <a:cubicBezTo>
                  <a:pt x="2180" y="6314"/>
                  <a:pt x="3493" y="3738"/>
                  <a:pt x="4052" y="3074"/>
                </a:cubicBezTo>
                <a:cubicBezTo>
                  <a:pt x="5561" y="1080"/>
                  <a:pt x="7265" y="665"/>
                  <a:pt x="8914" y="415"/>
                </a:cubicBezTo>
                <a:cubicBezTo>
                  <a:pt x="10283" y="0"/>
                  <a:pt x="11792" y="0"/>
                  <a:pt x="13161" y="582"/>
                </a:cubicBezTo>
                <a:cubicBezTo>
                  <a:pt x="14558" y="1080"/>
                  <a:pt x="15983" y="1828"/>
                  <a:pt x="17213" y="3489"/>
                </a:cubicBezTo>
                <a:cubicBezTo>
                  <a:pt x="18107" y="4569"/>
                  <a:pt x="18862" y="6314"/>
                  <a:pt x="19644" y="8058"/>
                </a:cubicBezTo>
                <a:cubicBezTo>
                  <a:pt x="20398" y="9886"/>
                  <a:pt x="21069" y="11963"/>
                  <a:pt x="21600" y="14372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36880" y="3798720"/>
            <a:ext cx="239760" cy="22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1" y="21600"/>
                  <a:pt x="325" y="21514"/>
                  <a:pt x="325" y="21342"/>
                </a:cubicBezTo>
                <a:cubicBezTo>
                  <a:pt x="1299" y="18158"/>
                  <a:pt x="1868" y="14974"/>
                  <a:pt x="3411" y="12220"/>
                </a:cubicBezTo>
                <a:cubicBezTo>
                  <a:pt x="4791" y="9724"/>
                  <a:pt x="6983" y="7659"/>
                  <a:pt x="9014" y="5680"/>
                </a:cubicBezTo>
                <a:cubicBezTo>
                  <a:pt x="10638" y="4389"/>
                  <a:pt x="12262" y="2926"/>
                  <a:pt x="14211" y="2065"/>
                </a:cubicBezTo>
                <a:cubicBezTo>
                  <a:pt x="16403" y="947"/>
                  <a:pt x="19164" y="602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93680" y="3798720"/>
            <a:ext cx="155520" cy="31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14" y="3808"/>
                </a:moveTo>
                <a:cubicBezTo>
                  <a:pt x="1862" y="5931"/>
                  <a:pt x="1862" y="7803"/>
                  <a:pt x="1862" y="9926"/>
                </a:cubicBezTo>
                <a:cubicBezTo>
                  <a:pt x="2110" y="12798"/>
                  <a:pt x="2483" y="14234"/>
                  <a:pt x="3228" y="17043"/>
                </a:cubicBezTo>
                <a:cubicBezTo>
                  <a:pt x="3228" y="17417"/>
                  <a:pt x="3724" y="19665"/>
                  <a:pt x="3724" y="19665"/>
                </a:cubicBezTo>
                <a:cubicBezTo>
                  <a:pt x="3724" y="19665"/>
                  <a:pt x="1862" y="19914"/>
                  <a:pt x="621" y="20289"/>
                </a:cubicBezTo>
                <a:cubicBezTo>
                  <a:pt x="0" y="20414"/>
                  <a:pt x="372" y="21350"/>
                  <a:pt x="372" y="21350"/>
                </a:cubicBezTo>
                <a:cubicBezTo>
                  <a:pt x="372" y="21350"/>
                  <a:pt x="7448" y="21600"/>
                  <a:pt x="10676" y="21600"/>
                </a:cubicBezTo>
                <a:cubicBezTo>
                  <a:pt x="14028" y="21600"/>
                  <a:pt x="21352" y="21475"/>
                  <a:pt x="21352" y="21475"/>
                </a:cubicBezTo>
                <a:cubicBezTo>
                  <a:pt x="21352" y="21475"/>
                  <a:pt x="21600" y="20414"/>
                  <a:pt x="21103" y="20227"/>
                </a:cubicBezTo>
                <a:cubicBezTo>
                  <a:pt x="20483" y="20039"/>
                  <a:pt x="18993" y="20039"/>
                  <a:pt x="18993" y="20039"/>
                </a:cubicBezTo>
                <a:cubicBezTo>
                  <a:pt x="18993" y="20039"/>
                  <a:pt x="18993" y="17292"/>
                  <a:pt x="18993" y="16231"/>
                </a:cubicBezTo>
                <a:cubicBezTo>
                  <a:pt x="18993" y="14421"/>
                  <a:pt x="18993" y="12548"/>
                  <a:pt x="18993" y="10738"/>
                </a:cubicBezTo>
                <a:cubicBezTo>
                  <a:pt x="18993" y="8740"/>
                  <a:pt x="18993" y="6742"/>
                  <a:pt x="18621" y="4745"/>
                </a:cubicBezTo>
                <a:cubicBezTo>
                  <a:pt x="18372" y="3184"/>
                  <a:pt x="18993" y="1623"/>
                  <a:pt x="18621" y="125"/>
                </a:cubicBezTo>
                <a:cubicBezTo>
                  <a:pt x="11048" y="0"/>
                  <a:pt x="1614" y="562"/>
                  <a:pt x="1614" y="562"/>
                </a:cubicBezTo>
                <a:cubicBezTo>
                  <a:pt x="1614" y="562"/>
                  <a:pt x="1614" y="2934"/>
                  <a:pt x="1614" y="3808"/>
                </a:cubicBezTo>
              </a:path>
            </a:pathLst>
          </a:custGeom>
          <a:solidFill>
            <a:srgbClr val="ccb8a3"/>
          </a:solidFill>
          <a:ln w="72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86040" y="3817800"/>
            <a:ext cx="17280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63" y="3808"/>
                </a:moveTo>
                <a:cubicBezTo>
                  <a:pt x="1913" y="5868"/>
                  <a:pt x="1913" y="7741"/>
                  <a:pt x="1913" y="9864"/>
                </a:cubicBezTo>
                <a:cubicBezTo>
                  <a:pt x="2025" y="12735"/>
                  <a:pt x="2363" y="14234"/>
                  <a:pt x="3038" y="16980"/>
                </a:cubicBezTo>
                <a:cubicBezTo>
                  <a:pt x="3038" y="17355"/>
                  <a:pt x="3713" y="19602"/>
                  <a:pt x="3713" y="19602"/>
                </a:cubicBezTo>
                <a:cubicBezTo>
                  <a:pt x="3713" y="19602"/>
                  <a:pt x="1913" y="19852"/>
                  <a:pt x="450" y="20227"/>
                </a:cubicBezTo>
                <a:cubicBezTo>
                  <a:pt x="0" y="20414"/>
                  <a:pt x="225" y="21288"/>
                  <a:pt x="225" y="21288"/>
                </a:cubicBezTo>
                <a:cubicBezTo>
                  <a:pt x="225" y="21288"/>
                  <a:pt x="7313" y="21600"/>
                  <a:pt x="10350" y="21600"/>
                </a:cubicBezTo>
                <a:cubicBezTo>
                  <a:pt x="13950" y="21600"/>
                  <a:pt x="21375" y="21475"/>
                  <a:pt x="21375" y="21475"/>
                </a:cubicBezTo>
                <a:cubicBezTo>
                  <a:pt x="21375" y="21475"/>
                  <a:pt x="21600" y="20414"/>
                  <a:pt x="20813" y="20102"/>
                </a:cubicBezTo>
                <a:cubicBezTo>
                  <a:pt x="20588" y="19977"/>
                  <a:pt x="18900" y="19977"/>
                  <a:pt x="18900" y="19977"/>
                </a:cubicBezTo>
                <a:cubicBezTo>
                  <a:pt x="18900" y="19977"/>
                  <a:pt x="18900" y="17230"/>
                  <a:pt x="18900" y="16169"/>
                </a:cubicBezTo>
                <a:cubicBezTo>
                  <a:pt x="18900" y="14296"/>
                  <a:pt x="18900" y="12486"/>
                  <a:pt x="18900" y="10613"/>
                </a:cubicBezTo>
                <a:cubicBezTo>
                  <a:pt x="18900" y="8677"/>
                  <a:pt x="18900" y="6742"/>
                  <a:pt x="18788" y="4745"/>
                </a:cubicBezTo>
                <a:cubicBezTo>
                  <a:pt x="18563" y="3121"/>
                  <a:pt x="18900" y="1561"/>
                  <a:pt x="18788" y="125"/>
                </a:cubicBezTo>
                <a:cubicBezTo>
                  <a:pt x="11138" y="0"/>
                  <a:pt x="1463" y="499"/>
                  <a:pt x="1463" y="499"/>
                </a:cubicBezTo>
                <a:cubicBezTo>
                  <a:pt x="1463" y="499"/>
                  <a:pt x="1463" y="2872"/>
                  <a:pt x="1463" y="3808"/>
                </a:cubicBezTo>
              </a:path>
            </a:pathLst>
          </a:custGeom>
          <a:solidFill>
            <a:srgbClr val="ccb8a3"/>
          </a:solidFill>
          <a:ln w="72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387600"/>
            <a:ext cx="1796760" cy="45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0350"/>
                </a:moveTo>
                <a:cubicBezTo>
                  <a:pt x="18516" y="20522"/>
                  <a:pt x="14241" y="20738"/>
                  <a:pt x="12380" y="20824"/>
                </a:cubicBezTo>
                <a:cubicBezTo>
                  <a:pt x="10129" y="20867"/>
                  <a:pt x="7802" y="20824"/>
                  <a:pt x="5584" y="21255"/>
                </a:cubicBezTo>
                <a:cubicBezTo>
                  <a:pt x="3744" y="21600"/>
                  <a:pt x="1915" y="21255"/>
                  <a:pt x="87" y="21600"/>
                </a:cubicBezTo>
                <a:cubicBezTo>
                  <a:pt x="65" y="17806"/>
                  <a:pt x="22" y="13883"/>
                  <a:pt x="0" y="10046"/>
                </a:cubicBezTo>
                <a:cubicBezTo>
                  <a:pt x="0" y="7329"/>
                  <a:pt x="0" y="4613"/>
                  <a:pt x="0" y="1897"/>
                </a:cubicBezTo>
                <a:cubicBezTo>
                  <a:pt x="822" y="1681"/>
                  <a:pt x="1591" y="1466"/>
                  <a:pt x="2413" y="1337"/>
                </a:cubicBezTo>
                <a:cubicBezTo>
                  <a:pt x="4697" y="1164"/>
                  <a:pt x="7012" y="1164"/>
                  <a:pt x="9296" y="1078"/>
                </a:cubicBezTo>
                <a:cubicBezTo>
                  <a:pt x="10573" y="949"/>
                  <a:pt x="11871" y="819"/>
                  <a:pt x="13148" y="733"/>
                </a:cubicBezTo>
                <a:cubicBezTo>
                  <a:pt x="14036" y="604"/>
                  <a:pt x="14956" y="431"/>
                  <a:pt x="15865" y="345"/>
                </a:cubicBezTo>
                <a:cubicBezTo>
                  <a:pt x="16784" y="216"/>
                  <a:pt x="17693" y="345"/>
                  <a:pt x="18602" y="216"/>
                </a:cubicBezTo>
                <a:cubicBezTo>
                  <a:pt x="19154" y="172"/>
                  <a:pt x="20464" y="86"/>
                  <a:pt x="21416" y="0"/>
                </a:cubicBezTo>
                <a:cubicBezTo>
                  <a:pt x="21438" y="3406"/>
                  <a:pt x="21438" y="6984"/>
                  <a:pt x="21470" y="10434"/>
                </a:cubicBezTo>
                <a:cubicBezTo>
                  <a:pt x="21492" y="13710"/>
                  <a:pt x="21578" y="17073"/>
                  <a:pt x="21600" y="20350"/>
                </a:cubicBezTo>
              </a:path>
            </a:pathLst>
          </a:custGeom>
          <a:solidFill>
            <a:srgbClr val="ccb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52520" y="3467160"/>
            <a:ext cx="10332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6" y="0"/>
                </a:moveTo>
                <a:cubicBezTo>
                  <a:pt x="376" y="0"/>
                  <a:pt x="0" y="21600"/>
                  <a:pt x="0" y="21600"/>
                </a:cubicBezTo>
                <a:cubicBezTo>
                  <a:pt x="0" y="21600"/>
                  <a:pt x="21600" y="21240"/>
                  <a:pt x="21600" y="21240"/>
                </a:cubicBezTo>
                <a:cubicBezTo>
                  <a:pt x="21600" y="21240"/>
                  <a:pt x="21412" y="0"/>
                  <a:pt x="21412" y="0"/>
                </a:cubicBezTo>
                <a:cubicBezTo>
                  <a:pt x="21412" y="0"/>
                  <a:pt x="376" y="0"/>
                  <a:pt x="376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68600"/>
            <a:ext cx="106560" cy="10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54" y="0"/>
                </a:moveTo>
                <a:cubicBezTo>
                  <a:pt x="554" y="0"/>
                  <a:pt x="0" y="21600"/>
                  <a:pt x="0" y="21600"/>
                </a:cubicBezTo>
                <a:cubicBezTo>
                  <a:pt x="0" y="21600"/>
                  <a:pt x="21600" y="21064"/>
                  <a:pt x="21600" y="21064"/>
                </a:cubicBezTo>
                <a:cubicBezTo>
                  <a:pt x="21600" y="21064"/>
                  <a:pt x="21231" y="0"/>
                  <a:pt x="21231" y="0"/>
                </a:cubicBezTo>
                <a:cubicBezTo>
                  <a:pt x="21231" y="0"/>
                  <a:pt x="554" y="0"/>
                  <a:pt x="554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3478320"/>
            <a:ext cx="104760" cy="11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2" y="697"/>
                </a:moveTo>
                <a:cubicBezTo>
                  <a:pt x="372" y="697"/>
                  <a:pt x="0" y="21600"/>
                  <a:pt x="0" y="21600"/>
                </a:cubicBezTo>
                <a:cubicBezTo>
                  <a:pt x="0" y="21600"/>
                  <a:pt x="21600" y="21252"/>
                  <a:pt x="21600" y="21252"/>
                </a:cubicBezTo>
                <a:cubicBezTo>
                  <a:pt x="21600" y="21252"/>
                  <a:pt x="20855" y="0"/>
                  <a:pt x="20855" y="0"/>
                </a:cubicBezTo>
                <a:cubicBezTo>
                  <a:pt x="20855" y="0"/>
                  <a:pt x="372" y="697"/>
                  <a:pt x="372" y="697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3646440"/>
            <a:ext cx="123840" cy="12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39" y="3546"/>
                </a:moveTo>
                <a:cubicBezTo>
                  <a:pt x="0" y="7899"/>
                  <a:pt x="3130" y="20794"/>
                  <a:pt x="3130" y="20794"/>
                </a:cubicBezTo>
                <a:cubicBezTo>
                  <a:pt x="3130" y="20794"/>
                  <a:pt x="18783" y="21600"/>
                  <a:pt x="18783" y="21600"/>
                </a:cubicBezTo>
                <a:cubicBezTo>
                  <a:pt x="18783" y="21600"/>
                  <a:pt x="21600" y="9349"/>
                  <a:pt x="17687" y="5158"/>
                </a:cubicBezTo>
                <a:cubicBezTo>
                  <a:pt x="16122" y="3063"/>
                  <a:pt x="13148" y="0"/>
                  <a:pt x="10800" y="0"/>
                </a:cubicBezTo>
                <a:cubicBezTo>
                  <a:pt x="8452" y="0"/>
                  <a:pt x="6261" y="1773"/>
                  <a:pt x="4539" y="3546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09840" y="3654360"/>
            <a:ext cx="12996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00" y="6063"/>
                </a:moveTo>
                <a:cubicBezTo>
                  <a:pt x="0" y="11179"/>
                  <a:pt x="1950" y="21600"/>
                  <a:pt x="1950" y="21600"/>
                </a:cubicBezTo>
                <a:cubicBezTo>
                  <a:pt x="1950" y="21600"/>
                  <a:pt x="21600" y="21600"/>
                  <a:pt x="21600" y="21600"/>
                </a:cubicBezTo>
                <a:cubicBezTo>
                  <a:pt x="21600" y="21600"/>
                  <a:pt x="21600" y="6063"/>
                  <a:pt x="17400" y="1895"/>
                </a:cubicBezTo>
                <a:cubicBezTo>
                  <a:pt x="15600" y="0"/>
                  <a:pt x="12300" y="379"/>
                  <a:pt x="9750" y="1516"/>
                </a:cubicBezTo>
                <a:cubicBezTo>
                  <a:pt x="7950" y="2463"/>
                  <a:pt x="6000" y="3979"/>
                  <a:pt x="4500" y="6063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09640" y="3662280"/>
            <a:ext cx="9360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891"/>
                </a:moveTo>
                <a:cubicBezTo>
                  <a:pt x="0" y="4891"/>
                  <a:pt x="0" y="21600"/>
                  <a:pt x="0" y="21600"/>
                </a:cubicBezTo>
                <a:cubicBezTo>
                  <a:pt x="0" y="21600"/>
                  <a:pt x="19713" y="20989"/>
                  <a:pt x="19713" y="20989"/>
                </a:cubicBezTo>
                <a:cubicBezTo>
                  <a:pt x="19713" y="20989"/>
                  <a:pt x="21600" y="8966"/>
                  <a:pt x="18035" y="4483"/>
                </a:cubicBezTo>
                <a:cubicBezTo>
                  <a:pt x="15938" y="1426"/>
                  <a:pt x="12373" y="0"/>
                  <a:pt x="7759" y="408"/>
                </a:cubicBezTo>
                <a:cubicBezTo>
                  <a:pt x="5243" y="1019"/>
                  <a:pt x="0" y="4891"/>
                  <a:pt x="0" y="4891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14480" y="3444840"/>
            <a:ext cx="46080" cy="6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92" y="0"/>
                </a:moveTo>
                <a:cubicBezTo>
                  <a:pt x="2592" y="0"/>
                  <a:pt x="0" y="21600"/>
                  <a:pt x="0" y="21600"/>
                </a:cubicBezTo>
                <a:cubicBezTo>
                  <a:pt x="0" y="21600"/>
                  <a:pt x="19440" y="20100"/>
                  <a:pt x="19440" y="20100"/>
                </a:cubicBezTo>
                <a:cubicBezTo>
                  <a:pt x="19440" y="20100"/>
                  <a:pt x="21600" y="3000"/>
                  <a:pt x="21600" y="3000"/>
                </a:cubicBezTo>
                <a:cubicBezTo>
                  <a:pt x="21600" y="3000"/>
                  <a:pt x="2592" y="0"/>
                  <a:pt x="2592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3438360"/>
            <a:ext cx="77760" cy="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59" y="3900"/>
                </a:moveTo>
                <a:cubicBezTo>
                  <a:pt x="2234" y="7500"/>
                  <a:pt x="0" y="21600"/>
                  <a:pt x="0" y="21600"/>
                </a:cubicBezTo>
                <a:cubicBezTo>
                  <a:pt x="0" y="21600"/>
                  <a:pt x="11669" y="20400"/>
                  <a:pt x="11669" y="20400"/>
                </a:cubicBezTo>
                <a:cubicBezTo>
                  <a:pt x="11669" y="20400"/>
                  <a:pt x="21600" y="900"/>
                  <a:pt x="21600" y="900"/>
                </a:cubicBezTo>
                <a:cubicBezTo>
                  <a:pt x="21600" y="900"/>
                  <a:pt x="10179" y="0"/>
                  <a:pt x="5959" y="390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19320" y="3430440"/>
            <a:ext cx="76320" cy="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20" y="1283"/>
                </a:moveTo>
                <a:cubicBezTo>
                  <a:pt x="4320" y="1283"/>
                  <a:pt x="0" y="19675"/>
                  <a:pt x="8132" y="21172"/>
                </a:cubicBezTo>
                <a:cubicBezTo>
                  <a:pt x="11181" y="21600"/>
                  <a:pt x="14231" y="14329"/>
                  <a:pt x="14231" y="14329"/>
                </a:cubicBezTo>
                <a:cubicBezTo>
                  <a:pt x="14231" y="14329"/>
                  <a:pt x="21600" y="7057"/>
                  <a:pt x="19313" y="3422"/>
                </a:cubicBezTo>
                <a:cubicBezTo>
                  <a:pt x="17280" y="0"/>
                  <a:pt x="4320" y="1283"/>
                  <a:pt x="4320" y="1283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8240" y="3444840"/>
            <a:ext cx="6984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15" y="0"/>
                </a:moveTo>
                <a:cubicBezTo>
                  <a:pt x="9415" y="0"/>
                  <a:pt x="0" y="14936"/>
                  <a:pt x="5538" y="18843"/>
                </a:cubicBezTo>
                <a:cubicBezTo>
                  <a:pt x="9692" y="21600"/>
                  <a:pt x="21600" y="14477"/>
                  <a:pt x="21600" y="14477"/>
                </a:cubicBezTo>
                <a:cubicBezTo>
                  <a:pt x="21600" y="14477"/>
                  <a:pt x="21600" y="1838"/>
                  <a:pt x="21600" y="1838"/>
                </a:cubicBezTo>
                <a:cubicBezTo>
                  <a:pt x="21600" y="1838"/>
                  <a:pt x="9415" y="0"/>
                  <a:pt x="9415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19480" y="3443400"/>
            <a:ext cx="6336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1" y="2512"/>
                </a:moveTo>
                <a:cubicBezTo>
                  <a:pt x="1851" y="2512"/>
                  <a:pt x="0" y="19842"/>
                  <a:pt x="0" y="19842"/>
                </a:cubicBezTo>
                <a:cubicBezTo>
                  <a:pt x="0" y="19842"/>
                  <a:pt x="9566" y="21600"/>
                  <a:pt x="9566" y="21600"/>
                </a:cubicBezTo>
                <a:cubicBezTo>
                  <a:pt x="9566" y="21600"/>
                  <a:pt x="21600" y="8037"/>
                  <a:pt x="16971" y="3014"/>
                </a:cubicBezTo>
                <a:cubicBezTo>
                  <a:pt x="14194" y="0"/>
                  <a:pt x="1851" y="2512"/>
                  <a:pt x="1851" y="251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436920"/>
            <a:ext cx="6372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172" y="4510"/>
                </a:moveTo>
                <a:cubicBezTo>
                  <a:pt x="5172" y="4510"/>
                  <a:pt x="0" y="15666"/>
                  <a:pt x="3651" y="19701"/>
                </a:cubicBezTo>
                <a:cubicBezTo>
                  <a:pt x="5780" y="21600"/>
                  <a:pt x="11256" y="21600"/>
                  <a:pt x="11256" y="21600"/>
                </a:cubicBezTo>
                <a:cubicBezTo>
                  <a:pt x="11256" y="21600"/>
                  <a:pt x="21600" y="5934"/>
                  <a:pt x="16428" y="2136"/>
                </a:cubicBezTo>
                <a:cubicBezTo>
                  <a:pt x="13994" y="0"/>
                  <a:pt x="5172" y="4510"/>
                  <a:pt x="5172" y="451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3586320"/>
            <a:ext cx="50760" cy="6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26" y="2842"/>
                </a:moveTo>
                <a:cubicBezTo>
                  <a:pt x="0" y="6537"/>
                  <a:pt x="2653" y="17337"/>
                  <a:pt x="2653" y="17337"/>
                </a:cubicBezTo>
                <a:cubicBezTo>
                  <a:pt x="2653" y="17337"/>
                  <a:pt x="10232" y="21600"/>
                  <a:pt x="13642" y="20463"/>
                </a:cubicBezTo>
                <a:cubicBezTo>
                  <a:pt x="21600" y="16768"/>
                  <a:pt x="21600" y="0"/>
                  <a:pt x="21600" y="0"/>
                </a:cubicBezTo>
                <a:cubicBezTo>
                  <a:pt x="21600" y="0"/>
                  <a:pt x="8716" y="0"/>
                  <a:pt x="4926" y="284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41720" y="3581280"/>
            <a:ext cx="5364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11" y="800"/>
                </a:moveTo>
                <a:cubicBezTo>
                  <a:pt x="5311" y="800"/>
                  <a:pt x="0" y="12000"/>
                  <a:pt x="3895" y="16533"/>
                </a:cubicBezTo>
                <a:cubicBezTo>
                  <a:pt x="6728" y="19733"/>
                  <a:pt x="18767" y="21600"/>
                  <a:pt x="18767" y="21600"/>
                </a:cubicBezTo>
                <a:cubicBezTo>
                  <a:pt x="18767" y="21600"/>
                  <a:pt x="21600" y="0"/>
                  <a:pt x="21600" y="0"/>
                </a:cubicBezTo>
                <a:cubicBezTo>
                  <a:pt x="21600" y="0"/>
                  <a:pt x="5311" y="800"/>
                  <a:pt x="5311" y="80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6240" y="3565440"/>
            <a:ext cx="5256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53" y="2427"/>
                </a:moveTo>
                <a:cubicBezTo>
                  <a:pt x="6224" y="7281"/>
                  <a:pt x="0" y="16261"/>
                  <a:pt x="0" y="16261"/>
                </a:cubicBezTo>
                <a:cubicBezTo>
                  <a:pt x="0" y="16261"/>
                  <a:pt x="10251" y="21600"/>
                  <a:pt x="10251" y="21600"/>
                </a:cubicBezTo>
                <a:cubicBezTo>
                  <a:pt x="10251" y="21600"/>
                  <a:pt x="21600" y="0"/>
                  <a:pt x="21600" y="0"/>
                </a:cubicBezTo>
                <a:cubicBezTo>
                  <a:pt x="21600" y="0"/>
                  <a:pt x="13180" y="1942"/>
                  <a:pt x="9153" y="2427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14480" y="3564000"/>
            <a:ext cx="6840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28" y="0"/>
                </a:moveTo>
                <a:cubicBezTo>
                  <a:pt x="8928" y="0"/>
                  <a:pt x="0" y="14791"/>
                  <a:pt x="5184" y="18783"/>
                </a:cubicBezTo>
                <a:cubicBezTo>
                  <a:pt x="8928" y="21600"/>
                  <a:pt x="20736" y="15730"/>
                  <a:pt x="20736" y="15730"/>
                </a:cubicBezTo>
                <a:cubicBezTo>
                  <a:pt x="20736" y="15730"/>
                  <a:pt x="21600" y="2348"/>
                  <a:pt x="21600" y="2348"/>
                </a:cubicBezTo>
                <a:cubicBezTo>
                  <a:pt x="21600" y="2348"/>
                  <a:pt x="8928" y="0"/>
                  <a:pt x="8928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33560" y="3697200"/>
            <a:ext cx="46080" cy="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908" y="0"/>
                </a:moveTo>
                <a:cubicBezTo>
                  <a:pt x="2908" y="0"/>
                  <a:pt x="0" y="21600"/>
                  <a:pt x="0" y="21600"/>
                </a:cubicBezTo>
                <a:cubicBezTo>
                  <a:pt x="0" y="21600"/>
                  <a:pt x="19523" y="20383"/>
                  <a:pt x="19523" y="20383"/>
                </a:cubicBezTo>
                <a:cubicBezTo>
                  <a:pt x="19523" y="20383"/>
                  <a:pt x="21600" y="0"/>
                  <a:pt x="21600" y="0"/>
                </a:cubicBezTo>
                <a:cubicBezTo>
                  <a:pt x="21600" y="0"/>
                  <a:pt x="2908" y="0"/>
                  <a:pt x="2908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43000" y="3708360"/>
            <a:ext cx="5868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63" y="0"/>
                </a:moveTo>
                <a:cubicBezTo>
                  <a:pt x="2363" y="0"/>
                  <a:pt x="0" y="21600"/>
                  <a:pt x="0" y="21600"/>
                </a:cubicBezTo>
                <a:cubicBezTo>
                  <a:pt x="0" y="21600"/>
                  <a:pt x="15863" y="20100"/>
                  <a:pt x="15863" y="20100"/>
                </a:cubicBezTo>
                <a:cubicBezTo>
                  <a:pt x="15863" y="20100"/>
                  <a:pt x="21600" y="7500"/>
                  <a:pt x="17213" y="3000"/>
                </a:cubicBezTo>
                <a:cubicBezTo>
                  <a:pt x="13500" y="0"/>
                  <a:pt x="2363" y="0"/>
                  <a:pt x="2363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49560" y="3710160"/>
            <a:ext cx="58680" cy="6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75" y="5684"/>
                </a:moveTo>
                <a:cubicBezTo>
                  <a:pt x="0" y="10232"/>
                  <a:pt x="5738" y="21600"/>
                  <a:pt x="5738" y="21600"/>
                </a:cubicBezTo>
                <a:cubicBezTo>
                  <a:pt x="5738" y="21600"/>
                  <a:pt x="21600" y="20463"/>
                  <a:pt x="21600" y="20463"/>
                </a:cubicBezTo>
                <a:cubicBezTo>
                  <a:pt x="21600" y="20463"/>
                  <a:pt x="19238" y="0"/>
                  <a:pt x="19238" y="0"/>
                </a:cubicBezTo>
                <a:cubicBezTo>
                  <a:pt x="19238" y="0"/>
                  <a:pt x="6413" y="1421"/>
                  <a:pt x="3375" y="5684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2240" y="3713040"/>
            <a:ext cx="39600" cy="5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64" y="1742"/>
                </a:moveTo>
                <a:cubicBezTo>
                  <a:pt x="0" y="6271"/>
                  <a:pt x="2945" y="21600"/>
                  <a:pt x="2945" y="21600"/>
                </a:cubicBezTo>
                <a:cubicBezTo>
                  <a:pt x="2945" y="21600"/>
                  <a:pt x="21600" y="16374"/>
                  <a:pt x="21600" y="16374"/>
                </a:cubicBezTo>
                <a:cubicBezTo>
                  <a:pt x="21600" y="16374"/>
                  <a:pt x="19636" y="3484"/>
                  <a:pt x="19636" y="3484"/>
                </a:cubicBezTo>
                <a:cubicBezTo>
                  <a:pt x="19636" y="3484"/>
                  <a:pt x="9818" y="0"/>
                  <a:pt x="7364" y="174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55840" y="3699000"/>
            <a:ext cx="3636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114" y="0"/>
                </a:moveTo>
                <a:cubicBezTo>
                  <a:pt x="4114" y="0"/>
                  <a:pt x="0" y="21600"/>
                  <a:pt x="0" y="21600"/>
                </a:cubicBezTo>
                <a:cubicBezTo>
                  <a:pt x="0" y="21600"/>
                  <a:pt x="16457" y="21600"/>
                  <a:pt x="16457" y="21600"/>
                </a:cubicBezTo>
                <a:cubicBezTo>
                  <a:pt x="16457" y="21600"/>
                  <a:pt x="21600" y="758"/>
                  <a:pt x="21600" y="758"/>
                </a:cubicBezTo>
                <a:cubicBezTo>
                  <a:pt x="21600" y="758"/>
                  <a:pt x="4114" y="0"/>
                  <a:pt x="4114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3160" y="3440160"/>
            <a:ext cx="6516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700" y="3909"/>
                </a:moveTo>
                <a:cubicBezTo>
                  <a:pt x="5700" y="3909"/>
                  <a:pt x="0" y="17691"/>
                  <a:pt x="5100" y="20160"/>
                </a:cubicBezTo>
                <a:cubicBezTo>
                  <a:pt x="7500" y="21600"/>
                  <a:pt x="14100" y="13783"/>
                  <a:pt x="14100" y="13783"/>
                </a:cubicBezTo>
                <a:cubicBezTo>
                  <a:pt x="14100" y="13783"/>
                  <a:pt x="21600" y="4114"/>
                  <a:pt x="17100" y="1646"/>
                </a:cubicBezTo>
                <a:cubicBezTo>
                  <a:pt x="14700" y="0"/>
                  <a:pt x="5700" y="3909"/>
                  <a:pt x="5700" y="3909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7400" y="3444840"/>
            <a:ext cx="58680" cy="8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85" y="3340"/>
                </a:moveTo>
                <a:cubicBezTo>
                  <a:pt x="0" y="6012"/>
                  <a:pt x="4320" y="21600"/>
                  <a:pt x="4320" y="21600"/>
                </a:cubicBezTo>
                <a:cubicBezTo>
                  <a:pt x="4320" y="21600"/>
                  <a:pt x="14622" y="13138"/>
                  <a:pt x="14622" y="13138"/>
                </a:cubicBezTo>
                <a:cubicBezTo>
                  <a:pt x="14622" y="13138"/>
                  <a:pt x="21600" y="5122"/>
                  <a:pt x="18277" y="1781"/>
                </a:cubicBezTo>
                <a:cubicBezTo>
                  <a:pt x="15951" y="0"/>
                  <a:pt x="10634" y="223"/>
                  <a:pt x="4985" y="334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5160" y="3448080"/>
            <a:ext cx="61920" cy="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246" y="7855"/>
                </a:moveTo>
                <a:cubicBezTo>
                  <a:pt x="5246" y="7855"/>
                  <a:pt x="0" y="19636"/>
                  <a:pt x="9874" y="21164"/>
                </a:cubicBezTo>
                <a:cubicBezTo>
                  <a:pt x="13886" y="21600"/>
                  <a:pt x="21600" y="11127"/>
                  <a:pt x="21600" y="11127"/>
                </a:cubicBezTo>
                <a:cubicBezTo>
                  <a:pt x="21600" y="11127"/>
                  <a:pt x="21600" y="7418"/>
                  <a:pt x="19131" y="3709"/>
                </a:cubicBezTo>
                <a:cubicBezTo>
                  <a:pt x="16354" y="0"/>
                  <a:pt x="5246" y="7855"/>
                  <a:pt x="5246" y="7855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55520" y="3443400"/>
            <a:ext cx="7632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44" y="0"/>
                </a:moveTo>
                <a:cubicBezTo>
                  <a:pt x="11944" y="0"/>
                  <a:pt x="0" y="13563"/>
                  <a:pt x="5591" y="17833"/>
                </a:cubicBezTo>
                <a:cubicBezTo>
                  <a:pt x="9402" y="21098"/>
                  <a:pt x="14485" y="21600"/>
                  <a:pt x="17788" y="18586"/>
                </a:cubicBezTo>
                <a:cubicBezTo>
                  <a:pt x="21600" y="14819"/>
                  <a:pt x="19313" y="10047"/>
                  <a:pt x="17280" y="2009"/>
                </a:cubicBezTo>
                <a:cubicBezTo>
                  <a:pt x="16772" y="502"/>
                  <a:pt x="11944" y="0"/>
                  <a:pt x="11944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9080" y="3460680"/>
            <a:ext cx="6012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43"/>
                </a:moveTo>
                <a:cubicBezTo>
                  <a:pt x="0" y="2043"/>
                  <a:pt x="1588" y="21600"/>
                  <a:pt x="1588" y="21600"/>
                </a:cubicBezTo>
                <a:cubicBezTo>
                  <a:pt x="1588" y="21600"/>
                  <a:pt x="21600" y="9341"/>
                  <a:pt x="16835" y="3795"/>
                </a:cubicBezTo>
                <a:cubicBezTo>
                  <a:pt x="13976" y="0"/>
                  <a:pt x="0" y="2043"/>
                  <a:pt x="0" y="2043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79360" y="3597120"/>
            <a:ext cx="5580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11" y="800"/>
                </a:moveTo>
                <a:cubicBezTo>
                  <a:pt x="5311" y="800"/>
                  <a:pt x="0" y="12000"/>
                  <a:pt x="3541" y="16533"/>
                </a:cubicBezTo>
                <a:cubicBezTo>
                  <a:pt x="6728" y="19733"/>
                  <a:pt x="18413" y="21600"/>
                  <a:pt x="18413" y="21600"/>
                </a:cubicBezTo>
                <a:cubicBezTo>
                  <a:pt x="18413" y="21600"/>
                  <a:pt x="21600" y="0"/>
                  <a:pt x="21600" y="0"/>
                </a:cubicBezTo>
                <a:cubicBezTo>
                  <a:pt x="21600" y="0"/>
                  <a:pt x="5311" y="800"/>
                  <a:pt x="5311" y="80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71720" y="3573360"/>
            <a:ext cx="52200" cy="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53" y="2427"/>
                </a:moveTo>
                <a:cubicBezTo>
                  <a:pt x="6224" y="7281"/>
                  <a:pt x="0" y="16261"/>
                  <a:pt x="0" y="16261"/>
                </a:cubicBezTo>
                <a:cubicBezTo>
                  <a:pt x="0" y="16261"/>
                  <a:pt x="10251" y="21600"/>
                  <a:pt x="10251" y="21600"/>
                </a:cubicBezTo>
                <a:cubicBezTo>
                  <a:pt x="10251" y="21600"/>
                  <a:pt x="21600" y="0"/>
                  <a:pt x="21600" y="0"/>
                </a:cubicBezTo>
                <a:cubicBezTo>
                  <a:pt x="21600" y="0"/>
                  <a:pt x="13546" y="1942"/>
                  <a:pt x="9153" y="2427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6480" y="3708360"/>
            <a:ext cx="79200" cy="6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09" y="2191"/>
                </a:moveTo>
                <a:cubicBezTo>
                  <a:pt x="0" y="6887"/>
                  <a:pt x="982" y="12522"/>
                  <a:pt x="5645" y="17843"/>
                </a:cubicBezTo>
                <a:cubicBezTo>
                  <a:pt x="8836" y="21600"/>
                  <a:pt x="19636" y="18470"/>
                  <a:pt x="19636" y="18470"/>
                </a:cubicBezTo>
                <a:cubicBezTo>
                  <a:pt x="19636" y="18470"/>
                  <a:pt x="21600" y="10017"/>
                  <a:pt x="18655" y="5322"/>
                </a:cubicBezTo>
                <a:cubicBezTo>
                  <a:pt x="15955" y="2191"/>
                  <a:pt x="11291" y="0"/>
                  <a:pt x="7609" y="2191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8200" y="3697200"/>
            <a:ext cx="69840" cy="7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88" y="2512"/>
                </a:moveTo>
                <a:cubicBezTo>
                  <a:pt x="0" y="5526"/>
                  <a:pt x="0" y="15321"/>
                  <a:pt x="3927" y="19088"/>
                </a:cubicBezTo>
                <a:cubicBezTo>
                  <a:pt x="7574" y="21600"/>
                  <a:pt x="15709" y="19842"/>
                  <a:pt x="18795" y="16828"/>
                </a:cubicBezTo>
                <a:cubicBezTo>
                  <a:pt x="21600" y="14065"/>
                  <a:pt x="21600" y="7786"/>
                  <a:pt x="18795" y="5023"/>
                </a:cubicBezTo>
                <a:cubicBezTo>
                  <a:pt x="15709" y="2009"/>
                  <a:pt x="8135" y="0"/>
                  <a:pt x="4488" y="251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27080" y="3714840"/>
            <a:ext cx="5076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56" y="288"/>
                </a:moveTo>
                <a:cubicBezTo>
                  <a:pt x="2356" y="288"/>
                  <a:pt x="0" y="21312"/>
                  <a:pt x="0" y="21312"/>
                </a:cubicBezTo>
                <a:cubicBezTo>
                  <a:pt x="0" y="21312"/>
                  <a:pt x="14924" y="21600"/>
                  <a:pt x="14924" y="21600"/>
                </a:cubicBezTo>
                <a:cubicBezTo>
                  <a:pt x="14924" y="21600"/>
                  <a:pt x="21600" y="7200"/>
                  <a:pt x="16495" y="2880"/>
                </a:cubicBezTo>
                <a:cubicBezTo>
                  <a:pt x="12175" y="0"/>
                  <a:pt x="2356" y="288"/>
                  <a:pt x="2356" y="288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3710160"/>
            <a:ext cx="55440" cy="6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29" y="4500"/>
                </a:moveTo>
                <a:cubicBezTo>
                  <a:pt x="0" y="9600"/>
                  <a:pt x="5829" y="21600"/>
                  <a:pt x="5829" y="21600"/>
                </a:cubicBezTo>
                <a:cubicBezTo>
                  <a:pt x="5829" y="21600"/>
                  <a:pt x="21600" y="20100"/>
                  <a:pt x="21600" y="20100"/>
                </a:cubicBezTo>
                <a:cubicBezTo>
                  <a:pt x="21600" y="20100"/>
                  <a:pt x="19543" y="2400"/>
                  <a:pt x="19543" y="2400"/>
                </a:cubicBezTo>
                <a:cubicBezTo>
                  <a:pt x="19543" y="2400"/>
                  <a:pt x="6514" y="0"/>
                  <a:pt x="3429" y="450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5840" y="3710160"/>
            <a:ext cx="60480" cy="7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13" y="5742"/>
                </a:moveTo>
                <a:cubicBezTo>
                  <a:pt x="0" y="9296"/>
                  <a:pt x="1612" y="21600"/>
                  <a:pt x="1612" y="21600"/>
                </a:cubicBezTo>
                <a:cubicBezTo>
                  <a:pt x="1612" y="21600"/>
                  <a:pt x="14185" y="17499"/>
                  <a:pt x="14185" y="17499"/>
                </a:cubicBezTo>
                <a:cubicBezTo>
                  <a:pt x="14185" y="17499"/>
                  <a:pt x="21600" y="0"/>
                  <a:pt x="21600" y="0"/>
                </a:cubicBezTo>
                <a:cubicBezTo>
                  <a:pt x="21600" y="0"/>
                  <a:pt x="6448" y="4101"/>
                  <a:pt x="4513" y="574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3560" y="3813120"/>
            <a:ext cx="1784520" cy="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21" y="21600"/>
                  <a:pt x="1330" y="16518"/>
                  <a:pt x="1929" y="16518"/>
                </a:cubicBezTo>
                <a:cubicBezTo>
                  <a:pt x="3313" y="15247"/>
                  <a:pt x="4599" y="15247"/>
                  <a:pt x="5972" y="12071"/>
                </a:cubicBezTo>
                <a:cubicBezTo>
                  <a:pt x="7498" y="9529"/>
                  <a:pt x="8991" y="12071"/>
                  <a:pt x="10462" y="10800"/>
                </a:cubicBezTo>
                <a:cubicBezTo>
                  <a:pt x="11890" y="9529"/>
                  <a:pt x="13307" y="4447"/>
                  <a:pt x="14723" y="5718"/>
                </a:cubicBezTo>
                <a:cubicBezTo>
                  <a:pt x="15748" y="6988"/>
                  <a:pt x="16718" y="5718"/>
                  <a:pt x="17688" y="4447"/>
                </a:cubicBezTo>
                <a:cubicBezTo>
                  <a:pt x="18516" y="4447"/>
                  <a:pt x="19355" y="4447"/>
                  <a:pt x="20183" y="2541"/>
                </a:cubicBezTo>
                <a:cubicBezTo>
                  <a:pt x="20903" y="1271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8240" y="3387600"/>
            <a:ext cx="176220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23" y="20057"/>
                  <a:pt x="2835" y="18000"/>
                  <a:pt x="4236" y="17486"/>
                </a:cubicBezTo>
                <a:cubicBezTo>
                  <a:pt x="5560" y="15943"/>
                  <a:pt x="6895" y="13886"/>
                  <a:pt x="8197" y="13886"/>
                </a:cubicBezTo>
                <a:cubicBezTo>
                  <a:pt x="9730" y="12857"/>
                  <a:pt x="11263" y="11314"/>
                  <a:pt x="12708" y="10286"/>
                </a:cubicBezTo>
                <a:cubicBezTo>
                  <a:pt x="14132" y="9771"/>
                  <a:pt x="15555" y="8743"/>
                  <a:pt x="16901" y="6171"/>
                </a:cubicBezTo>
                <a:cubicBezTo>
                  <a:pt x="17761" y="5143"/>
                  <a:pt x="18644" y="1029"/>
                  <a:pt x="19361" y="2057"/>
                </a:cubicBezTo>
                <a:cubicBezTo>
                  <a:pt x="20111" y="2571"/>
                  <a:pt x="20883" y="257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44920" y="3516480"/>
            <a:ext cx="2077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48" y="0"/>
                </a:moveTo>
                <a:cubicBezTo>
                  <a:pt x="20948" y="0"/>
                  <a:pt x="12197" y="559"/>
                  <a:pt x="8845" y="3538"/>
                </a:cubicBezTo>
                <a:cubicBezTo>
                  <a:pt x="5493" y="6517"/>
                  <a:pt x="0" y="13686"/>
                  <a:pt x="0" y="13686"/>
                </a:cubicBezTo>
                <a:cubicBezTo>
                  <a:pt x="0" y="13686"/>
                  <a:pt x="7634" y="10241"/>
                  <a:pt x="9031" y="13221"/>
                </a:cubicBezTo>
                <a:cubicBezTo>
                  <a:pt x="10428" y="16107"/>
                  <a:pt x="6238" y="21600"/>
                  <a:pt x="6238" y="21600"/>
                </a:cubicBezTo>
                <a:cubicBezTo>
                  <a:pt x="6238" y="21600"/>
                  <a:pt x="15362" y="15734"/>
                  <a:pt x="17690" y="12941"/>
                </a:cubicBezTo>
                <a:cubicBezTo>
                  <a:pt x="21600" y="8193"/>
                  <a:pt x="20948" y="0"/>
                  <a:pt x="20948" y="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3120" y="3535200"/>
            <a:ext cx="11592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15286" y="1060"/>
                  <a:pt x="12295" y="2253"/>
                </a:cubicBezTo>
                <a:cubicBezTo>
                  <a:pt x="8640" y="3313"/>
                  <a:pt x="5483" y="5301"/>
                  <a:pt x="2991" y="7818"/>
                </a:cubicBezTo>
                <a:cubicBezTo>
                  <a:pt x="1662" y="9144"/>
                  <a:pt x="498" y="11131"/>
                  <a:pt x="332" y="13119"/>
                </a:cubicBezTo>
                <a:cubicBezTo>
                  <a:pt x="0" y="16034"/>
                  <a:pt x="997" y="21600"/>
                  <a:pt x="997" y="21600"/>
                </a:cubicBezTo>
                <a:cubicBezTo>
                  <a:pt x="997" y="21600"/>
                  <a:pt x="6148" y="18420"/>
                  <a:pt x="8640" y="17094"/>
                </a:cubicBezTo>
                <a:cubicBezTo>
                  <a:pt x="11797" y="15637"/>
                  <a:pt x="14289" y="14312"/>
                  <a:pt x="17114" y="12059"/>
                </a:cubicBezTo>
                <a:cubicBezTo>
                  <a:pt x="18775" y="10601"/>
                  <a:pt x="21600" y="0"/>
                  <a:pt x="21600" y="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00360" y="3822840"/>
            <a:ext cx="127080" cy="10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45"/>
                </a:moveTo>
                <a:cubicBezTo>
                  <a:pt x="21600" y="545"/>
                  <a:pt x="16200" y="0"/>
                  <a:pt x="13577" y="908"/>
                </a:cubicBezTo>
                <a:cubicBezTo>
                  <a:pt x="10491" y="1271"/>
                  <a:pt x="7560" y="2723"/>
                  <a:pt x="4937" y="5264"/>
                </a:cubicBezTo>
                <a:cubicBezTo>
                  <a:pt x="3240" y="6716"/>
                  <a:pt x="2314" y="8531"/>
                  <a:pt x="1697" y="10709"/>
                </a:cubicBezTo>
                <a:cubicBezTo>
                  <a:pt x="617" y="14339"/>
                  <a:pt x="0" y="21600"/>
                  <a:pt x="0" y="21600"/>
                </a:cubicBezTo>
                <a:cubicBezTo>
                  <a:pt x="0" y="21600"/>
                  <a:pt x="4937" y="19240"/>
                  <a:pt x="7097" y="18696"/>
                </a:cubicBezTo>
                <a:cubicBezTo>
                  <a:pt x="10183" y="17425"/>
                  <a:pt x="12343" y="16155"/>
                  <a:pt x="14966" y="14339"/>
                </a:cubicBezTo>
                <a:cubicBezTo>
                  <a:pt x="16663" y="13250"/>
                  <a:pt x="21600" y="545"/>
                  <a:pt x="21600" y="545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78000" y="2986200"/>
            <a:ext cx="9072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15120" y="1062"/>
                  <a:pt x="12312" y="2302"/>
                </a:cubicBezTo>
                <a:cubicBezTo>
                  <a:pt x="8856" y="3364"/>
                  <a:pt x="5832" y="5489"/>
                  <a:pt x="3240" y="7967"/>
                </a:cubicBezTo>
                <a:cubicBezTo>
                  <a:pt x="1944" y="9384"/>
                  <a:pt x="864" y="11154"/>
                  <a:pt x="432" y="13102"/>
                </a:cubicBezTo>
                <a:cubicBezTo>
                  <a:pt x="0" y="15934"/>
                  <a:pt x="864" y="21600"/>
                  <a:pt x="864" y="21600"/>
                </a:cubicBezTo>
                <a:cubicBezTo>
                  <a:pt x="864" y="21600"/>
                  <a:pt x="6264" y="18590"/>
                  <a:pt x="8856" y="17174"/>
                </a:cubicBezTo>
                <a:cubicBezTo>
                  <a:pt x="11880" y="15757"/>
                  <a:pt x="14256" y="14164"/>
                  <a:pt x="17280" y="12039"/>
                </a:cubicBezTo>
                <a:cubicBezTo>
                  <a:pt x="18792" y="10800"/>
                  <a:pt x="21600" y="0"/>
                  <a:pt x="21600" y="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5440" y="2960640"/>
            <a:ext cx="2080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41" y="0"/>
                </a:moveTo>
                <a:cubicBezTo>
                  <a:pt x="21041" y="0"/>
                  <a:pt x="12197" y="649"/>
                  <a:pt x="8845" y="3615"/>
                </a:cubicBezTo>
                <a:cubicBezTo>
                  <a:pt x="5493" y="6582"/>
                  <a:pt x="0" y="13720"/>
                  <a:pt x="0" y="13720"/>
                </a:cubicBezTo>
                <a:cubicBezTo>
                  <a:pt x="0" y="13720"/>
                  <a:pt x="7634" y="10197"/>
                  <a:pt x="9031" y="13164"/>
                </a:cubicBezTo>
                <a:cubicBezTo>
                  <a:pt x="10428" y="16130"/>
                  <a:pt x="6238" y="21600"/>
                  <a:pt x="6238" y="21600"/>
                </a:cubicBezTo>
                <a:cubicBezTo>
                  <a:pt x="6238" y="21600"/>
                  <a:pt x="15362" y="15667"/>
                  <a:pt x="17690" y="12979"/>
                </a:cubicBezTo>
                <a:cubicBezTo>
                  <a:pt x="21600" y="8251"/>
                  <a:pt x="21041" y="0"/>
                  <a:pt x="21041" y="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5280" y="2719440"/>
            <a:ext cx="187200" cy="16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77" y="0"/>
                </a:moveTo>
                <a:cubicBezTo>
                  <a:pt x="20877" y="0"/>
                  <a:pt x="12195" y="840"/>
                  <a:pt x="8681" y="3600"/>
                </a:cubicBezTo>
                <a:cubicBezTo>
                  <a:pt x="5374" y="6480"/>
                  <a:pt x="0" y="13800"/>
                  <a:pt x="0" y="13800"/>
                </a:cubicBezTo>
                <a:cubicBezTo>
                  <a:pt x="0" y="13800"/>
                  <a:pt x="7648" y="10200"/>
                  <a:pt x="8888" y="13200"/>
                </a:cubicBezTo>
                <a:cubicBezTo>
                  <a:pt x="10438" y="16200"/>
                  <a:pt x="6304" y="21600"/>
                  <a:pt x="6304" y="21600"/>
                </a:cubicBezTo>
                <a:cubicBezTo>
                  <a:pt x="6304" y="21600"/>
                  <a:pt x="15296" y="15840"/>
                  <a:pt x="17569" y="12960"/>
                </a:cubicBezTo>
                <a:cubicBezTo>
                  <a:pt x="21600" y="8160"/>
                  <a:pt x="20877" y="0"/>
                  <a:pt x="20877" y="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13080" y="2316240"/>
            <a:ext cx="187200" cy="18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77" y="0"/>
                </a:moveTo>
                <a:cubicBezTo>
                  <a:pt x="20877" y="0"/>
                  <a:pt x="12195" y="626"/>
                  <a:pt x="8681" y="3548"/>
                </a:cubicBezTo>
                <a:cubicBezTo>
                  <a:pt x="5374" y="6365"/>
                  <a:pt x="0" y="13670"/>
                  <a:pt x="0" y="13670"/>
                </a:cubicBezTo>
                <a:cubicBezTo>
                  <a:pt x="0" y="13670"/>
                  <a:pt x="7648" y="10122"/>
                  <a:pt x="8888" y="13252"/>
                </a:cubicBezTo>
                <a:cubicBezTo>
                  <a:pt x="10438" y="16070"/>
                  <a:pt x="6304" y="21600"/>
                  <a:pt x="6304" y="21600"/>
                </a:cubicBezTo>
                <a:cubicBezTo>
                  <a:pt x="6304" y="21600"/>
                  <a:pt x="15192" y="15652"/>
                  <a:pt x="17673" y="12939"/>
                </a:cubicBezTo>
                <a:cubicBezTo>
                  <a:pt x="21600" y="8139"/>
                  <a:pt x="20877" y="0"/>
                  <a:pt x="20877" y="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9440" y="2263680"/>
            <a:ext cx="228600" cy="18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809"/>
                </a:moveTo>
                <a:cubicBezTo>
                  <a:pt x="21600" y="1809"/>
                  <a:pt x="13745" y="0"/>
                  <a:pt x="10074" y="2234"/>
                </a:cubicBezTo>
                <a:cubicBezTo>
                  <a:pt x="6489" y="4682"/>
                  <a:pt x="0" y="11172"/>
                  <a:pt x="0" y="11172"/>
                </a:cubicBezTo>
                <a:cubicBezTo>
                  <a:pt x="0" y="11172"/>
                  <a:pt x="7598" y="9364"/>
                  <a:pt x="8111" y="12981"/>
                </a:cubicBezTo>
                <a:cubicBezTo>
                  <a:pt x="8623" y="16599"/>
                  <a:pt x="3757" y="21600"/>
                  <a:pt x="3757" y="21600"/>
                </a:cubicBezTo>
                <a:cubicBezTo>
                  <a:pt x="3757" y="21600"/>
                  <a:pt x="13148" y="17450"/>
                  <a:pt x="15880" y="15322"/>
                </a:cubicBezTo>
                <a:cubicBezTo>
                  <a:pt x="20405" y="10960"/>
                  <a:pt x="21600" y="1809"/>
                  <a:pt x="21600" y="1809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13200" y="2062080"/>
            <a:ext cx="1969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623"/>
                </a:moveTo>
                <a:cubicBezTo>
                  <a:pt x="21600" y="1623"/>
                  <a:pt x="13710" y="0"/>
                  <a:pt x="10159" y="2372"/>
                </a:cubicBezTo>
                <a:cubicBezTo>
                  <a:pt x="6411" y="4495"/>
                  <a:pt x="0" y="10738"/>
                  <a:pt x="0" y="10738"/>
                </a:cubicBezTo>
                <a:cubicBezTo>
                  <a:pt x="0" y="10738"/>
                  <a:pt x="7595" y="9239"/>
                  <a:pt x="8088" y="13235"/>
                </a:cubicBezTo>
                <a:cubicBezTo>
                  <a:pt x="8778" y="16855"/>
                  <a:pt x="3748" y="21600"/>
                  <a:pt x="3748" y="21600"/>
                </a:cubicBezTo>
                <a:cubicBezTo>
                  <a:pt x="3748" y="21600"/>
                  <a:pt x="13118" y="17729"/>
                  <a:pt x="15781" y="15357"/>
                </a:cubicBezTo>
                <a:cubicBezTo>
                  <a:pt x="20416" y="11112"/>
                  <a:pt x="21600" y="1623"/>
                  <a:pt x="21600" y="1623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32240" y="1795320"/>
            <a:ext cx="216000" cy="1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506"/>
                </a:moveTo>
                <a:cubicBezTo>
                  <a:pt x="21600" y="2506"/>
                  <a:pt x="14040" y="0"/>
                  <a:pt x="10440" y="2267"/>
                </a:cubicBezTo>
                <a:cubicBezTo>
                  <a:pt x="6660" y="4296"/>
                  <a:pt x="0" y="10263"/>
                  <a:pt x="0" y="10263"/>
                </a:cubicBezTo>
                <a:cubicBezTo>
                  <a:pt x="0" y="10263"/>
                  <a:pt x="7650" y="9070"/>
                  <a:pt x="8010" y="13127"/>
                </a:cubicBezTo>
                <a:cubicBezTo>
                  <a:pt x="8100" y="16827"/>
                  <a:pt x="3240" y="21600"/>
                  <a:pt x="3240" y="21600"/>
                </a:cubicBezTo>
                <a:cubicBezTo>
                  <a:pt x="3240" y="21600"/>
                  <a:pt x="12510" y="18139"/>
                  <a:pt x="15210" y="15872"/>
                </a:cubicBezTo>
                <a:cubicBezTo>
                  <a:pt x="19980" y="12053"/>
                  <a:pt x="21600" y="2506"/>
                  <a:pt x="21600" y="2506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13160" y="2087640"/>
            <a:ext cx="189000" cy="18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77" y="0"/>
                </a:moveTo>
                <a:cubicBezTo>
                  <a:pt x="20877" y="0"/>
                  <a:pt x="12195" y="723"/>
                  <a:pt x="8888" y="3514"/>
                </a:cubicBezTo>
                <a:cubicBezTo>
                  <a:pt x="5374" y="6614"/>
                  <a:pt x="0" y="13745"/>
                  <a:pt x="0" y="13745"/>
                </a:cubicBezTo>
                <a:cubicBezTo>
                  <a:pt x="0" y="13745"/>
                  <a:pt x="7648" y="10335"/>
                  <a:pt x="8888" y="13229"/>
                </a:cubicBezTo>
                <a:cubicBezTo>
                  <a:pt x="10438" y="16226"/>
                  <a:pt x="6304" y="21600"/>
                  <a:pt x="6304" y="21600"/>
                </a:cubicBezTo>
                <a:cubicBezTo>
                  <a:pt x="6304" y="21600"/>
                  <a:pt x="15296" y="15812"/>
                  <a:pt x="17673" y="12919"/>
                </a:cubicBezTo>
                <a:cubicBezTo>
                  <a:pt x="21600" y="8371"/>
                  <a:pt x="20877" y="0"/>
                  <a:pt x="20877" y="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1960" y="2401920"/>
            <a:ext cx="20628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66" y="21600"/>
                </a:moveTo>
                <a:cubicBezTo>
                  <a:pt x="566" y="21600"/>
                  <a:pt x="9527" y="20925"/>
                  <a:pt x="12734" y="18032"/>
                </a:cubicBezTo>
                <a:cubicBezTo>
                  <a:pt x="16035" y="15139"/>
                  <a:pt x="21600" y="7811"/>
                  <a:pt x="21600" y="7811"/>
                </a:cubicBezTo>
                <a:cubicBezTo>
                  <a:pt x="21600" y="7811"/>
                  <a:pt x="13960" y="11379"/>
                  <a:pt x="12545" y="8582"/>
                </a:cubicBezTo>
                <a:cubicBezTo>
                  <a:pt x="11319" y="5496"/>
                  <a:pt x="15563" y="0"/>
                  <a:pt x="15563" y="0"/>
                </a:cubicBezTo>
                <a:cubicBezTo>
                  <a:pt x="15563" y="0"/>
                  <a:pt x="6320" y="5882"/>
                  <a:pt x="3962" y="8775"/>
                </a:cubicBezTo>
                <a:cubicBezTo>
                  <a:pt x="0" y="13500"/>
                  <a:pt x="566" y="21600"/>
                  <a:pt x="566" y="2160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9920" y="2543040"/>
            <a:ext cx="209520" cy="20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51" y="0"/>
                </a:moveTo>
                <a:cubicBezTo>
                  <a:pt x="20951" y="0"/>
                  <a:pt x="12144" y="468"/>
                  <a:pt x="8900" y="3460"/>
                </a:cubicBezTo>
                <a:cubicBezTo>
                  <a:pt x="5470" y="6452"/>
                  <a:pt x="0" y="13745"/>
                  <a:pt x="0" y="13745"/>
                </a:cubicBezTo>
                <a:cubicBezTo>
                  <a:pt x="0" y="13745"/>
                  <a:pt x="7694" y="10192"/>
                  <a:pt x="9085" y="13091"/>
                </a:cubicBezTo>
                <a:cubicBezTo>
                  <a:pt x="10476" y="16083"/>
                  <a:pt x="6304" y="21600"/>
                  <a:pt x="6304" y="21600"/>
                </a:cubicBezTo>
                <a:cubicBezTo>
                  <a:pt x="6304" y="21600"/>
                  <a:pt x="15296" y="15709"/>
                  <a:pt x="17614" y="12904"/>
                </a:cubicBezTo>
                <a:cubicBezTo>
                  <a:pt x="21600" y="8229"/>
                  <a:pt x="20951" y="0"/>
                  <a:pt x="20951" y="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46840" y="2473200"/>
            <a:ext cx="209520" cy="20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48" y="0"/>
                </a:moveTo>
                <a:cubicBezTo>
                  <a:pt x="20948" y="0"/>
                  <a:pt x="12197" y="468"/>
                  <a:pt x="8752" y="3460"/>
                </a:cubicBezTo>
                <a:cubicBezTo>
                  <a:pt x="5493" y="6452"/>
                  <a:pt x="0" y="13745"/>
                  <a:pt x="0" y="13745"/>
                </a:cubicBezTo>
                <a:cubicBezTo>
                  <a:pt x="0" y="13745"/>
                  <a:pt x="7634" y="10192"/>
                  <a:pt x="9031" y="13091"/>
                </a:cubicBezTo>
                <a:cubicBezTo>
                  <a:pt x="10334" y="16083"/>
                  <a:pt x="6238" y="21600"/>
                  <a:pt x="6238" y="21600"/>
                </a:cubicBezTo>
                <a:cubicBezTo>
                  <a:pt x="6238" y="21600"/>
                  <a:pt x="15362" y="15709"/>
                  <a:pt x="17690" y="12904"/>
                </a:cubicBezTo>
                <a:cubicBezTo>
                  <a:pt x="21600" y="8229"/>
                  <a:pt x="20948" y="0"/>
                  <a:pt x="20948" y="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89440" y="1908000"/>
            <a:ext cx="193680" cy="16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965"/>
                </a:moveTo>
                <a:cubicBezTo>
                  <a:pt x="21600" y="965"/>
                  <a:pt x="13300" y="0"/>
                  <a:pt x="9900" y="2172"/>
                </a:cubicBezTo>
                <a:cubicBezTo>
                  <a:pt x="6400" y="4465"/>
                  <a:pt x="0" y="11343"/>
                  <a:pt x="0" y="11343"/>
                </a:cubicBezTo>
                <a:cubicBezTo>
                  <a:pt x="0" y="11343"/>
                  <a:pt x="7600" y="9292"/>
                  <a:pt x="8200" y="12791"/>
                </a:cubicBezTo>
                <a:cubicBezTo>
                  <a:pt x="9100" y="16411"/>
                  <a:pt x="4200" y="21600"/>
                  <a:pt x="4200" y="21600"/>
                </a:cubicBezTo>
                <a:cubicBezTo>
                  <a:pt x="4200" y="21600"/>
                  <a:pt x="13500" y="16894"/>
                  <a:pt x="16200" y="14480"/>
                </a:cubicBezTo>
                <a:cubicBezTo>
                  <a:pt x="20700" y="10136"/>
                  <a:pt x="21600" y="965"/>
                  <a:pt x="21600" y="965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0880" y="1650960"/>
            <a:ext cx="208080" cy="20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39" y="0"/>
                </a:moveTo>
                <a:cubicBezTo>
                  <a:pt x="21039" y="0"/>
                  <a:pt x="12156" y="468"/>
                  <a:pt x="8790" y="3460"/>
                </a:cubicBezTo>
                <a:cubicBezTo>
                  <a:pt x="5517" y="6452"/>
                  <a:pt x="0" y="13745"/>
                  <a:pt x="0" y="13745"/>
                </a:cubicBezTo>
                <a:cubicBezTo>
                  <a:pt x="0" y="13745"/>
                  <a:pt x="7574" y="10192"/>
                  <a:pt x="8977" y="13091"/>
                </a:cubicBezTo>
                <a:cubicBezTo>
                  <a:pt x="10379" y="16083"/>
                  <a:pt x="6265" y="21600"/>
                  <a:pt x="6265" y="21600"/>
                </a:cubicBezTo>
                <a:cubicBezTo>
                  <a:pt x="6265" y="21600"/>
                  <a:pt x="15335" y="15709"/>
                  <a:pt x="17673" y="12904"/>
                </a:cubicBezTo>
                <a:cubicBezTo>
                  <a:pt x="21600" y="8229"/>
                  <a:pt x="21039" y="0"/>
                  <a:pt x="21039" y="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00360" y="2357280"/>
            <a:ext cx="169920" cy="10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338"/>
                </a:moveTo>
                <a:cubicBezTo>
                  <a:pt x="21600" y="1338"/>
                  <a:pt x="16800" y="0"/>
                  <a:pt x="14171" y="0"/>
                </a:cubicBezTo>
                <a:cubicBezTo>
                  <a:pt x="11314" y="0"/>
                  <a:pt x="8457" y="1338"/>
                  <a:pt x="5714" y="3632"/>
                </a:cubicBezTo>
                <a:cubicBezTo>
                  <a:pt x="4229" y="4970"/>
                  <a:pt x="3086" y="6881"/>
                  <a:pt x="2057" y="9749"/>
                </a:cubicBezTo>
                <a:cubicBezTo>
                  <a:pt x="1143" y="13381"/>
                  <a:pt x="0" y="21600"/>
                  <a:pt x="0" y="21600"/>
                </a:cubicBezTo>
                <a:cubicBezTo>
                  <a:pt x="0" y="21600"/>
                  <a:pt x="4800" y="19880"/>
                  <a:pt x="6971" y="19115"/>
                </a:cubicBezTo>
                <a:cubicBezTo>
                  <a:pt x="9829" y="18350"/>
                  <a:pt x="12000" y="17395"/>
                  <a:pt x="14629" y="15865"/>
                </a:cubicBezTo>
                <a:cubicBezTo>
                  <a:pt x="16114" y="14527"/>
                  <a:pt x="21600" y="1338"/>
                  <a:pt x="21600" y="1338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11760" y="1897200"/>
            <a:ext cx="185760" cy="8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574"/>
                </a:moveTo>
                <a:cubicBezTo>
                  <a:pt x="21600" y="5574"/>
                  <a:pt x="17217" y="2090"/>
                  <a:pt x="14922" y="1626"/>
                </a:cubicBezTo>
                <a:cubicBezTo>
                  <a:pt x="12313" y="0"/>
                  <a:pt x="9704" y="1161"/>
                  <a:pt x="6991" y="2787"/>
                </a:cubicBezTo>
                <a:cubicBezTo>
                  <a:pt x="5426" y="3484"/>
                  <a:pt x="4174" y="6039"/>
                  <a:pt x="3339" y="8594"/>
                </a:cubicBezTo>
                <a:cubicBezTo>
                  <a:pt x="1983" y="12542"/>
                  <a:pt x="0" y="21600"/>
                  <a:pt x="0" y="21600"/>
                </a:cubicBezTo>
                <a:cubicBezTo>
                  <a:pt x="0" y="21600"/>
                  <a:pt x="4383" y="21600"/>
                  <a:pt x="6574" y="21600"/>
                </a:cubicBezTo>
                <a:cubicBezTo>
                  <a:pt x="8974" y="21600"/>
                  <a:pt x="11270" y="21600"/>
                  <a:pt x="13878" y="20671"/>
                </a:cubicBezTo>
                <a:cubicBezTo>
                  <a:pt x="15443" y="19742"/>
                  <a:pt x="21600" y="5574"/>
                  <a:pt x="21600" y="5574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34000" y="2303640"/>
            <a:ext cx="162000" cy="11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46"/>
                </a:moveTo>
                <a:cubicBezTo>
                  <a:pt x="21600" y="346"/>
                  <a:pt x="16532" y="0"/>
                  <a:pt x="13636" y="346"/>
                </a:cubicBezTo>
                <a:cubicBezTo>
                  <a:pt x="10860" y="864"/>
                  <a:pt x="7723" y="2592"/>
                  <a:pt x="5309" y="4666"/>
                </a:cubicBezTo>
                <a:cubicBezTo>
                  <a:pt x="3741" y="6221"/>
                  <a:pt x="2413" y="8122"/>
                  <a:pt x="1689" y="10541"/>
                </a:cubicBezTo>
                <a:cubicBezTo>
                  <a:pt x="603" y="13997"/>
                  <a:pt x="0" y="21600"/>
                  <a:pt x="0" y="21600"/>
                </a:cubicBezTo>
                <a:cubicBezTo>
                  <a:pt x="0" y="21600"/>
                  <a:pt x="5068" y="19354"/>
                  <a:pt x="7361" y="18662"/>
                </a:cubicBezTo>
                <a:cubicBezTo>
                  <a:pt x="10136" y="17453"/>
                  <a:pt x="12429" y="16416"/>
                  <a:pt x="15204" y="14688"/>
                </a:cubicBezTo>
                <a:cubicBezTo>
                  <a:pt x="16653" y="13133"/>
                  <a:pt x="21600" y="346"/>
                  <a:pt x="21600" y="346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08600" y="2324160"/>
            <a:ext cx="182520" cy="8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4500"/>
                </a:moveTo>
                <a:cubicBezTo>
                  <a:pt x="21600" y="4500"/>
                  <a:pt x="17323" y="1125"/>
                  <a:pt x="14863" y="675"/>
                </a:cubicBezTo>
                <a:cubicBezTo>
                  <a:pt x="12083" y="0"/>
                  <a:pt x="9410" y="675"/>
                  <a:pt x="6737" y="2700"/>
                </a:cubicBezTo>
                <a:cubicBezTo>
                  <a:pt x="5347" y="3825"/>
                  <a:pt x="3956" y="5625"/>
                  <a:pt x="2887" y="8325"/>
                </a:cubicBezTo>
                <a:cubicBezTo>
                  <a:pt x="1604" y="12150"/>
                  <a:pt x="0" y="21600"/>
                  <a:pt x="0" y="21600"/>
                </a:cubicBezTo>
                <a:cubicBezTo>
                  <a:pt x="0" y="21600"/>
                  <a:pt x="4491" y="21150"/>
                  <a:pt x="6523" y="20925"/>
                </a:cubicBezTo>
                <a:cubicBezTo>
                  <a:pt x="9196" y="20925"/>
                  <a:pt x="11228" y="20925"/>
                  <a:pt x="13901" y="19350"/>
                </a:cubicBezTo>
                <a:cubicBezTo>
                  <a:pt x="15505" y="18225"/>
                  <a:pt x="21600" y="4500"/>
                  <a:pt x="21600" y="450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1720" y="2041560"/>
            <a:ext cx="209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9" y="21600"/>
                </a:moveTo>
                <a:cubicBezTo>
                  <a:pt x="649" y="21600"/>
                  <a:pt x="9456" y="21041"/>
                  <a:pt x="12700" y="18155"/>
                </a:cubicBezTo>
                <a:cubicBezTo>
                  <a:pt x="16130" y="15176"/>
                  <a:pt x="21600" y="7821"/>
                  <a:pt x="21600" y="7821"/>
                </a:cubicBezTo>
                <a:cubicBezTo>
                  <a:pt x="21600" y="7821"/>
                  <a:pt x="13906" y="11359"/>
                  <a:pt x="12515" y="8472"/>
                </a:cubicBezTo>
                <a:cubicBezTo>
                  <a:pt x="11124" y="5493"/>
                  <a:pt x="15296" y="0"/>
                  <a:pt x="15296" y="0"/>
                </a:cubicBezTo>
                <a:cubicBezTo>
                  <a:pt x="15296" y="0"/>
                  <a:pt x="6304" y="5866"/>
                  <a:pt x="3894" y="8566"/>
                </a:cubicBezTo>
                <a:cubicBezTo>
                  <a:pt x="0" y="13407"/>
                  <a:pt x="649" y="21600"/>
                  <a:pt x="649" y="21600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49960" y="2271600"/>
            <a:ext cx="164880" cy="11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74"/>
                </a:moveTo>
                <a:cubicBezTo>
                  <a:pt x="21600" y="174"/>
                  <a:pt x="16378" y="0"/>
                  <a:pt x="13530" y="174"/>
                </a:cubicBezTo>
                <a:cubicBezTo>
                  <a:pt x="10800" y="523"/>
                  <a:pt x="7833" y="2090"/>
                  <a:pt x="5341" y="4703"/>
                </a:cubicBezTo>
                <a:cubicBezTo>
                  <a:pt x="3798" y="5748"/>
                  <a:pt x="2611" y="7839"/>
                  <a:pt x="1780" y="10452"/>
                </a:cubicBezTo>
                <a:cubicBezTo>
                  <a:pt x="831" y="13761"/>
                  <a:pt x="0" y="21600"/>
                  <a:pt x="0" y="21600"/>
                </a:cubicBezTo>
                <a:cubicBezTo>
                  <a:pt x="0" y="21600"/>
                  <a:pt x="4985" y="19335"/>
                  <a:pt x="7358" y="18639"/>
                </a:cubicBezTo>
                <a:cubicBezTo>
                  <a:pt x="9969" y="17594"/>
                  <a:pt x="12343" y="16374"/>
                  <a:pt x="15073" y="14632"/>
                </a:cubicBezTo>
                <a:cubicBezTo>
                  <a:pt x="16615" y="13065"/>
                  <a:pt x="21600" y="174"/>
                  <a:pt x="21600" y="174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3720" y="1677960"/>
            <a:ext cx="16344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48"/>
                </a:moveTo>
                <a:cubicBezTo>
                  <a:pt x="21600" y="348"/>
                  <a:pt x="16349" y="0"/>
                  <a:pt x="13604" y="348"/>
                </a:cubicBezTo>
                <a:cubicBezTo>
                  <a:pt x="10740" y="697"/>
                  <a:pt x="7757" y="2265"/>
                  <a:pt x="5251" y="4703"/>
                </a:cubicBezTo>
                <a:cubicBezTo>
                  <a:pt x="3699" y="5748"/>
                  <a:pt x="2506" y="8187"/>
                  <a:pt x="1671" y="10626"/>
                </a:cubicBezTo>
                <a:cubicBezTo>
                  <a:pt x="716" y="13935"/>
                  <a:pt x="0" y="21600"/>
                  <a:pt x="0" y="21600"/>
                </a:cubicBezTo>
                <a:cubicBezTo>
                  <a:pt x="0" y="21600"/>
                  <a:pt x="5012" y="19335"/>
                  <a:pt x="7280" y="18639"/>
                </a:cubicBezTo>
                <a:cubicBezTo>
                  <a:pt x="10144" y="17594"/>
                  <a:pt x="12292" y="16374"/>
                  <a:pt x="15156" y="14632"/>
                </a:cubicBezTo>
                <a:cubicBezTo>
                  <a:pt x="16588" y="13239"/>
                  <a:pt x="21600" y="348"/>
                  <a:pt x="21600" y="348"/>
                </a:cubicBezTo>
              </a:path>
            </a:pathLst>
          </a:custGeom>
          <a:solidFill>
            <a:srgbClr val="ffebeb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2760" y="2054160"/>
            <a:ext cx="358920" cy="23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0204"/>
                </a:moveTo>
                <a:cubicBezTo>
                  <a:pt x="21600" y="20204"/>
                  <a:pt x="19918" y="17001"/>
                  <a:pt x="18778" y="16262"/>
                </a:cubicBezTo>
                <a:cubicBezTo>
                  <a:pt x="16716" y="15030"/>
                  <a:pt x="12808" y="18151"/>
                  <a:pt x="9389" y="16097"/>
                </a:cubicBezTo>
                <a:cubicBezTo>
                  <a:pt x="8575" y="15605"/>
                  <a:pt x="7218" y="14537"/>
                  <a:pt x="6024" y="13141"/>
                </a:cubicBezTo>
                <a:cubicBezTo>
                  <a:pt x="4939" y="11744"/>
                  <a:pt x="3582" y="10348"/>
                  <a:pt x="2985" y="8295"/>
                </a:cubicBezTo>
                <a:cubicBezTo>
                  <a:pt x="2551" y="6735"/>
                  <a:pt x="2279" y="4681"/>
                  <a:pt x="2171" y="2628"/>
                </a:cubicBezTo>
                <a:cubicBezTo>
                  <a:pt x="2171" y="1643"/>
                  <a:pt x="2062" y="0"/>
                  <a:pt x="2062" y="0"/>
                </a:cubicBezTo>
                <a:cubicBezTo>
                  <a:pt x="2062" y="0"/>
                  <a:pt x="923" y="2217"/>
                  <a:pt x="651" y="3449"/>
                </a:cubicBezTo>
                <a:cubicBezTo>
                  <a:pt x="0" y="6899"/>
                  <a:pt x="1140" y="10348"/>
                  <a:pt x="2388" y="13798"/>
                </a:cubicBezTo>
                <a:cubicBezTo>
                  <a:pt x="2985" y="15194"/>
                  <a:pt x="3636" y="16754"/>
                  <a:pt x="4450" y="17986"/>
                </a:cubicBezTo>
                <a:cubicBezTo>
                  <a:pt x="5156" y="19218"/>
                  <a:pt x="6187" y="20040"/>
                  <a:pt x="7652" y="20779"/>
                </a:cubicBezTo>
                <a:cubicBezTo>
                  <a:pt x="9172" y="21436"/>
                  <a:pt x="10909" y="21600"/>
                  <a:pt x="11560" y="21436"/>
                </a:cubicBezTo>
                <a:cubicBezTo>
                  <a:pt x="13296" y="20943"/>
                  <a:pt x="14762" y="19383"/>
                  <a:pt x="16390" y="19054"/>
                </a:cubicBezTo>
                <a:cubicBezTo>
                  <a:pt x="18127" y="18725"/>
                  <a:pt x="21600" y="20204"/>
                  <a:pt x="21600" y="20204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62080" y="1995480"/>
            <a:ext cx="11124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70" y="322"/>
                </a:moveTo>
                <a:cubicBezTo>
                  <a:pt x="9738" y="0"/>
                  <a:pt x="6020" y="537"/>
                  <a:pt x="4072" y="1612"/>
                </a:cubicBezTo>
                <a:cubicBezTo>
                  <a:pt x="2125" y="2687"/>
                  <a:pt x="1593" y="4513"/>
                  <a:pt x="708" y="6340"/>
                </a:cubicBezTo>
                <a:cubicBezTo>
                  <a:pt x="354" y="7952"/>
                  <a:pt x="0" y="9779"/>
                  <a:pt x="354" y="11606"/>
                </a:cubicBezTo>
                <a:cubicBezTo>
                  <a:pt x="708" y="13218"/>
                  <a:pt x="1948" y="15045"/>
                  <a:pt x="3364" y="16334"/>
                </a:cubicBezTo>
                <a:cubicBezTo>
                  <a:pt x="4603" y="17516"/>
                  <a:pt x="6020" y="18484"/>
                  <a:pt x="7790" y="19343"/>
                </a:cubicBezTo>
                <a:cubicBezTo>
                  <a:pt x="9738" y="20203"/>
                  <a:pt x="11508" y="20633"/>
                  <a:pt x="13456" y="21385"/>
                </a:cubicBezTo>
                <a:cubicBezTo>
                  <a:pt x="13810" y="21600"/>
                  <a:pt x="15049" y="21600"/>
                  <a:pt x="15049" y="21600"/>
                </a:cubicBezTo>
                <a:cubicBezTo>
                  <a:pt x="15049" y="21600"/>
                  <a:pt x="14164" y="19558"/>
                  <a:pt x="13810" y="18591"/>
                </a:cubicBezTo>
                <a:cubicBezTo>
                  <a:pt x="13456" y="17516"/>
                  <a:pt x="12925" y="16119"/>
                  <a:pt x="12570" y="15045"/>
                </a:cubicBezTo>
                <a:cubicBezTo>
                  <a:pt x="12393" y="13433"/>
                  <a:pt x="12393" y="11821"/>
                  <a:pt x="12925" y="10531"/>
                </a:cubicBezTo>
                <a:cubicBezTo>
                  <a:pt x="13456" y="9564"/>
                  <a:pt x="14164" y="8167"/>
                  <a:pt x="15580" y="7522"/>
                </a:cubicBezTo>
                <a:cubicBezTo>
                  <a:pt x="17882" y="6340"/>
                  <a:pt x="21600" y="4513"/>
                  <a:pt x="21600" y="4513"/>
                </a:cubicBezTo>
                <a:cubicBezTo>
                  <a:pt x="21600" y="4513"/>
                  <a:pt x="14518" y="537"/>
                  <a:pt x="12570" y="322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4240" y="2108160"/>
            <a:ext cx="8712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0" y="7671"/>
                  <a:pt x="891" y="11103"/>
                </a:cubicBezTo>
                <a:cubicBezTo>
                  <a:pt x="2004" y="14131"/>
                  <a:pt x="4676" y="16150"/>
                  <a:pt x="6903" y="17966"/>
                </a:cubicBezTo>
                <a:cubicBezTo>
                  <a:pt x="9575" y="19178"/>
                  <a:pt x="12247" y="20994"/>
                  <a:pt x="14474" y="21398"/>
                </a:cubicBezTo>
                <a:cubicBezTo>
                  <a:pt x="17369" y="21600"/>
                  <a:pt x="21600" y="19581"/>
                  <a:pt x="21600" y="19581"/>
                </a:cubicBezTo>
                <a:cubicBezTo>
                  <a:pt x="21600" y="19581"/>
                  <a:pt x="18260" y="16957"/>
                  <a:pt x="17369" y="14535"/>
                </a:cubicBezTo>
                <a:cubicBezTo>
                  <a:pt x="16478" y="12516"/>
                  <a:pt x="18928" y="10093"/>
                  <a:pt x="18260" y="8075"/>
                </a:cubicBezTo>
                <a:cubicBezTo>
                  <a:pt x="17814" y="6056"/>
                  <a:pt x="14029" y="5450"/>
                  <a:pt x="11802" y="4239"/>
                </a:cubicBezTo>
                <a:cubicBezTo>
                  <a:pt x="10021" y="3432"/>
                  <a:pt x="8462" y="1615"/>
                  <a:pt x="6680" y="807"/>
                </a:cubicBezTo>
                <a:cubicBezTo>
                  <a:pt x="4676" y="0"/>
                  <a:pt x="0" y="0"/>
                  <a:pt x="0" y="0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5480" y="2422440"/>
            <a:ext cx="468360" cy="18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520"/>
                </a:moveTo>
                <a:cubicBezTo>
                  <a:pt x="0" y="13206"/>
                  <a:pt x="914" y="17300"/>
                  <a:pt x="2118" y="19245"/>
                </a:cubicBezTo>
                <a:cubicBezTo>
                  <a:pt x="3572" y="21600"/>
                  <a:pt x="5608" y="20986"/>
                  <a:pt x="7352" y="20986"/>
                </a:cubicBezTo>
                <a:cubicBezTo>
                  <a:pt x="8266" y="20986"/>
                  <a:pt x="9138" y="19860"/>
                  <a:pt x="9886" y="19041"/>
                </a:cubicBezTo>
                <a:cubicBezTo>
                  <a:pt x="11215" y="17505"/>
                  <a:pt x="12462" y="15151"/>
                  <a:pt x="13874" y="14025"/>
                </a:cubicBezTo>
                <a:cubicBezTo>
                  <a:pt x="14746" y="13410"/>
                  <a:pt x="15702" y="13820"/>
                  <a:pt x="16615" y="13820"/>
                </a:cubicBezTo>
                <a:cubicBezTo>
                  <a:pt x="17280" y="13820"/>
                  <a:pt x="17986" y="14741"/>
                  <a:pt x="18692" y="14536"/>
                </a:cubicBezTo>
                <a:cubicBezTo>
                  <a:pt x="19274" y="14229"/>
                  <a:pt x="20105" y="14025"/>
                  <a:pt x="20520" y="13001"/>
                </a:cubicBezTo>
                <a:cubicBezTo>
                  <a:pt x="20977" y="11977"/>
                  <a:pt x="21600" y="9316"/>
                  <a:pt x="21018" y="8701"/>
                </a:cubicBezTo>
                <a:cubicBezTo>
                  <a:pt x="20188" y="7575"/>
                  <a:pt x="19108" y="10646"/>
                  <a:pt x="18235" y="9930"/>
                </a:cubicBezTo>
                <a:cubicBezTo>
                  <a:pt x="17654" y="9520"/>
                  <a:pt x="17654" y="7166"/>
                  <a:pt x="17197" y="6040"/>
                </a:cubicBezTo>
                <a:cubicBezTo>
                  <a:pt x="16615" y="4504"/>
                  <a:pt x="16034" y="2662"/>
                  <a:pt x="15286" y="1740"/>
                </a:cubicBezTo>
                <a:cubicBezTo>
                  <a:pt x="14497" y="921"/>
                  <a:pt x="13500" y="1126"/>
                  <a:pt x="12628" y="1331"/>
                </a:cubicBezTo>
                <a:cubicBezTo>
                  <a:pt x="11049" y="1740"/>
                  <a:pt x="9471" y="2969"/>
                  <a:pt x="7892" y="3276"/>
                </a:cubicBezTo>
                <a:cubicBezTo>
                  <a:pt x="7020" y="3276"/>
                  <a:pt x="6023" y="2457"/>
                  <a:pt x="5192" y="2150"/>
                </a:cubicBezTo>
                <a:cubicBezTo>
                  <a:pt x="4154" y="1740"/>
                  <a:pt x="2908" y="0"/>
                  <a:pt x="2035" y="1331"/>
                </a:cubicBezTo>
                <a:cubicBezTo>
                  <a:pt x="914" y="2866"/>
                  <a:pt x="0" y="6245"/>
                  <a:pt x="0" y="9520"/>
                </a:cubicBezTo>
              </a:path>
            </a:pathLst>
          </a:custGeom>
          <a:solidFill>
            <a:srgbClr val="f2f2f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25560" y="2505240"/>
            <a:ext cx="44136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9" y="9209"/>
                </a:moveTo>
                <a:cubicBezTo>
                  <a:pt x="0" y="10884"/>
                  <a:pt x="441" y="12893"/>
                  <a:pt x="1058" y="14316"/>
                </a:cubicBezTo>
                <a:cubicBezTo>
                  <a:pt x="1851" y="16828"/>
                  <a:pt x="2909" y="19423"/>
                  <a:pt x="4408" y="20512"/>
                </a:cubicBezTo>
                <a:cubicBezTo>
                  <a:pt x="5775" y="21600"/>
                  <a:pt x="7362" y="20847"/>
                  <a:pt x="8772" y="20093"/>
                </a:cubicBezTo>
                <a:cubicBezTo>
                  <a:pt x="9698" y="19674"/>
                  <a:pt x="10271" y="17833"/>
                  <a:pt x="11064" y="16995"/>
                </a:cubicBezTo>
                <a:cubicBezTo>
                  <a:pt x="11814" y="16242"/>
                  <a:pt x="12475" y="15153"/>
                  <a:pt x="13313" y="15153"/>
                </a:cubicBezTo>
                <a:cubicBezTo>
                  <a:pt x="14062" y="15153"/>
                  <a:pt x="14635" y="16995"/>
                  <a:pt x="15384" y="17247"/>
                </a:cubicBezTo>
                <a:cubicBezTo>
                  <a:pt x="15825" y="17498"/>
                  <a:pt x="16310" y="17498"/>
                  <a:pt x="16663" y="16995"/>
                </a:cubicBezTo>
                <a:cubicBezTo>
                  <a:pt x="17324" y="16074"/>
                  <a:pt x="17633" y="14484"/>
                  <a:pt x="18250" y="13563"/>
                </a:cubicBezTo>
                <a:cubicBezTo>
                  <a:pt x="19087" y="12307"/>
                  <a:pt x="20101" y="11470"/>
                  <a:pt x="21027" y="10465"/>
                </a:cubicBezTo>
                <a:cubicBezTo>
                  <a:pt x="21203" y="10214"/>
                  <a:pt x="21600" y="10047"/>
                  <a:pt x="21512" y="9879"/>
                </a:cubicBezTo>
                <a:cubicBezTo>
                  <a:pt x="21027" y="9209"/>
                  <a:pt x="20454" y="8372"/>
                  <a:pt x="19925" y="8456"/>
                </a:cubicBezTo>
                <a:cubicBezTo>
                  <a:pt x="18602" y="8791"/>
                  <a:pt x="17500" y="10465"/>
                  <a:pt x="16310" y="11135"/>
                </a:cubicBezTo>
                <a:cubicBezTo>
                  <a:pt x="15473" y="11637"/>
                  <a:pt x="14503" y="12307"/>
                  <a:pt x="13753" y="11888"/>
                </a:cubicBezTo>
                <a:cubicBezTo>
                  <a:pt x="12872" y="11135"/>
                  <a:pt x="12387" y="9042"/>
                  <a:pt x="11726" y="7619"/>
                </a:cubicBezTo>
                <a:cubicBezTo>
                  <a:pt x="11064" y="6195"/>
                  <a:pt x="10712" y="4437"/>
                  <a:pt x="9962" y="3181"/>
                </a:cubicBezTo>
                <a:cubicBezTo>
                  <a:pt x="9301" y="2009"/>
                  <a:pt x="8464" y="921"/>
                  <a:pt x="7582" y="586"/>
                </a:cubicBezTo>
                <a:cubicBezTo>
                  <a:pt x="6260" y="0"/>
                  <a:pt x="4937" y="586"/>
                  <a:pt x="3791" y="2009"/>
                </a:cubicBezTo>
                <a:cubicBezTo>
                  <a:pt x="3350" y="2428"/>
                  <a:pt x="2998" y="3516"/>
                  <a:pt x="2601" y="4270"/>
                </a:cubicBezTo>
                <a:cubicBezTo>
                  <a:pt x="1763" y="5860"/>
                  <a:pt x="661" y="7200"/>
                  <a:pt x="309" y="9209"/>
                </a:cubicBezTo>
              </a:path>
            </a:pathLst>
          </a:custGeom>
          <a:solidFill>
            <a:srgbClr val="f2f2f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01680" y="2558880"/>
            <a:ext cx="119160" cy="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27" y="11715"/>
                </a:moveTo>
                <a:cubicBezTo>
                  <a:pt x="0" y="16108"/>
                  <a:pt x="2291" y="21600"/>
                  <a:pt x="4418" y="21600"/>
                </a:cubicBezTo>
                <a:cubicBezTo>
                  <a:pt x="7200" y="21600"/>
                  <a:pt x="8836" y="13180"/>
                  <a:pt x="11618" y="10617"/>
                </a:cubicBezTo>
                <a:cubicBezTo>
                  <a:pt x="14400" y="8786"/>
                  <a:pt x="17836" y="12447"/>
                  <a:pt x="20618" y="9519"/>
                </a:cubicBezTo>
                <a:cubicBezTo>
                  <a:pt x="21600" y="7688"/>
                  <a:pt x="19964" y="3295"/>
                  <a:pt x="18818" y="2563"/>
                </a:cubicBezTo>
                <a:cubicBezTo>
                  <a:pt x="16527" y="0"/>
                  <a:pt x="13745" y="732"/>
                  <a:pt x="10964" y="1464"/>
                </a:cubicBezTo>
                <a:cubicBezTo>
                  <a:pt x="8836" y="2563"/>
                  <a:pt x="7200" y="4393"/>
                  <a:pt x="5400" y="6224"/>
                </a:cubicBezTo>
                <a:cubicBezTo>
                  <a:pt x="3600" y="7688"/>
                  <a:pt x="491" y="7688"/>
                  <a:pt x="327" y="1171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43120" y="2135160"/>
            <a:ext cx="25884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17395"/>
                </a:moveTo>
                <a:cubicBezTo>
                  <a:pt x="675" y="20453"/>
                  <a:pt x="2775" y="20835"/>
                  <a:pt x="4050" y="21218"/>
                </a:cubicBezTo>
                <a:cubicBezTo>
                  <a:pt x="5700" y="21600"/>
                  <a:pt x="7500" y="20071"/>
                  <a:pt x="9225" y="17586"/>
                </a:cubicBezTo>
                <a:cubicBezTo>
                  <a:pt x="10650" y="15674"/>
                  <a:pt x="12225" y="12807"/>
                  <a:pt x="13800" y="11278"/>
                </a:cubicBezTo>
                <a:cubicBezTo>
                  <a:pt x="14925" y="10322"/>
                  <a:pt x="16050" y="10896"/>
                  <a:pt x="17100" y="10896"/>
                </a:cubicBezTo>
                <a:cubicBezTo>
                  <a:pt x="18375" y="10322"/>
                  <a:pt x="19950" y="11851"/>
                  <a:pt x="20775" y="9940"/>
                </a:cubicBezTo>
                <a:cubicBezTo>
                  <a:pt x="21600" y="8028"/>
                  <a:pt x="21000" y="4779"/>
                  <a:pt x="19875" y="3250"/>
                </a:cubicBezTo>
                <a:cubicBezTo>
                  <a:pt x="17925" y="382"/>
                  <a:pt x="15450" y="0"/>
                  <a:pt x="13050" y="0"/>
                </a:cubicBezTo>
                <a:cubicBezTo>
                  <a:pt x="11925" y="0"/>
                  <a:pt x="10500" y="0"/>
                  <a:pt x="9525" y="956"/>
                </a:cubicBezTo>
                <a:cubicBezTo>
                  <a:pt x="8475" y="2867"/>
                  <a:pt x="7950" y="6117"/>
                  <a:pt x="6825" y="7073"/>
                </a:cubicBezTo>
                <a:cubicBezTo>
                  <a:pt x="6075" y="8411"/>
                  <a:pt x="4950" y="9175"/>
                  <a:pt x="3825" y="9940"/>
                </a:cubicBezTo>
                <a:cubicBezTo>
                  <a:pt x="2100" y="11660"/>
                  <a:pt x="0" y="14145"/>
                  <a:pt x="375" y="17395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70120" y="2341440"/>
            <a:ext cx="220320" cy="1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03" y="1669"/>
                </a:moveTo>
                <a:cubicBezTo>
                  <a:pt x="2380" y="2553"/>
                  <a:pt x="1675" y="4222"/>
                  <a:pt x="1058" y="5695"/>
                </a:cubicBezTo>
                <a:cubicBezTo>
                  <a:pt x="529" y="7265"/>
                  <a:pt x="0" y="8935"/>
                  <a:pt x="176" y="10604"/>
                </a:cubicBezTo>
                <a:cubicBezTo>
                  <a:pt x="529" y="13058"/>
                  <a:pt x="1499" y="15807"/>
                  <a:pt x="2998" y="17476"/>
                </a:cubicBezTo>
                <a:cubicBezTo>
                  <a:pt x="4320" y="19047"/>
                  <a:pt x="6260" y="20225"/>
                  <a:pt x="8376" y="21011"/>
                </a:cubicBezTo>
                <a:cubicBezTo>
                  <a:pt x="10403" y="21207"/>
                  <a:pt x="12431" y="21600"/>
                  <a:pt x="14900" y="21011"/>
                </a:cubicBezTo>
                <a:cubicBezTo>
                  <a:pt x="16927" y="20422"/>
                  <a:pt x="18779" y="18556"/>
                  <a:pt x="19925" y="16396"/>
                </a:cubicBezTo>
                <a:cubicBezTo>
                  <a:pt x="20983" y="14433"/>
                  <a:pt x="21600" y="11880"/>
                  <a:pt x="21159" y="9622"/>
                </a:cubicBezTo>
                <a:cubicBezTo>
                  <a:pt x="20807" y="7167"/>
                  <a:pt x="19660" y="4615"/>
                  <a:pt x="17809" y="2945"/>
                </a:cubicBezTo>
                <a:cubicBezTo>
                  <a:pt x="15958" y="1276"/>
                  <a:pt x="13753" y="491"/>
                  <a:pt x="11285" y="196"/>
                </a:cubicBezTo>
                <a:cubicBezTo>
                  <a:pt x="8464" y="0"/>
                  <a:pt x="5819" y="0"/>
                  <a:pt x="3703" y="1669"/>
                </a:cubicBezTo>
              </a:path>
            </a:pathLst>
          </a:custGeom>
          <a:solidFill>
            <a:srgbClr val="f2f2f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87520" y="2008080"/>
            <a:ext cx="30960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4" y="2776"/>
                </a:moveTo>
                <a:cubicBezTo>
                  <a:pt x="314" y="2776"/>
                  <a:pt x="188" y="2776"/>
                  <a:pt x="188" y="2776"/>
                </a:cubicBezTo>
                <a:cubicBezTo>
                  <a:pt x="0" y="6159"/>
                  <a:pt x="0" y="9716"/>
                  <a:pt x="565" y="13012"/>
                </a:cubicBezTo>
                <a:cubicBezTo>
                  <a:pt x="942" y="15788"/>
                  <a:pt x="2009" y="18477"/>
                  <a:pt x="3579" y="19952"/>
                </a:cubicBezTo>
                <a:cubicBezTo>
                  <a:pt x="4960" y="21253"/>
                  <a:pt x="6656" y="21600"/>
                  <a:pt x="8351" y="21600"/>
                </a:cubicBezTo>
                <a:cubicBezTo>
                  <a:pt x="10109" y="21600"/>
                  <a:pt x="11993" y="21080"/>
                  <a:pt x="13563" y="20646"/>
                </a:cubicBezTo>
                <a:cubicBezTo>
                  <a:pt x="15133" y="20212"/>
                  <a:pt x="17770" y="19952"/>
                  <a:pt x="17895" y="17696"/>
                </a:cubicBezTo>
                <a:cubicBezTo>
                  <a:pt x="17895" y="17610"/>
                  <a:pt x="17581" y="16829"/>
                  <a:pt x="17581" y="16829"/>
                </a:cubicBezTo>
                <a:cubicBezTo>
                  <a:pt x="17581" y="16829"/>
                  <a:pt x="18712" y="15788"/>
                  <a:pt x="19277" y="15354"/>
                </a:cubicBezTo>
                <a:cubicBezTo>
                  <a:pt x="20344" y="14834"/>
                  <a:pt x="21600" y="13359"/>
                  <a:pt x="21600" y="13359"/>
                </a:cubicBezTo>
                <a:cubicBezTo>
                  <a:pt x="21600" y="13359"/>
                  <a:pt x="20344" y="10583"/>
                  <a:pt x="19277" y="10236"/>
                </a:cubicBezTo>
                <a:cubicBezTo>
                  <a:pt x="18586" y="10063"/>
                  <a:pt x="17895" y="10410"/>
                  <a:pt x="17581" y="10063"/>
                </a:cubicBezTo>
                <a:cubicBezTo>
                  <a:pt x="16702" y="9369"/>
                  <a:pt x="17016" y="7373"/>
                  <a:pt x="16326" y="5465"/>
                </a:cubicBezTo>
                <a:cubicBezTo>
                  <a:pt x="15698" y="3643"/>
                  <a:pt x="13940" y="2949"/>
                  <a:pt x="12809" y="1822"/>
                </a:cubicBezTo>
                <a:cubicBezTo>
                  <a:pt x="11302" y="781"/>
                  <a:pt x="9607" y="0"/>
                  <a:pt x="8037" y="173"/>
                </a:cubicBezTo>
                <a:cubicBezTo>
                  <a:pt x="5400" y="347"/>
                  <a:pt x="2826" y="1822"/>
                  <a:pt x="314" y="2776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81200" y="1824120"/>
            <a:ext cx="33984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488"/>
                </a:moveTo>
                <a:cubicBezTo>
                  <a:pt x="1314" y="13163"/>
                  <a:pt x="2800" y="13922"/>
                  <a:pt x="4114" y="14428"/>
                </a:cubicBezTo>
                <a:cubicBezTo>
                  <a:pt x="5086" y="14766"/>
                  <a:pt x="6057" y="14766"/>
                  <a:pt x="7029" y="15356"/>
                </a:cubicBezTo>
                <a:cubicBezTo>
                  <a:pt x="8571" y="16200"/>
                  <a:pt x="9886" y="17466"/>
                  <a:pt x="11371" y="18563"/>
                </a:cubicBezTo>
                <a:cubicBezTo>
                  <a:pt x="11829" y="18900"/>
                  <a:pt x="13486" y="21600"/>
                  <a:pt x="14743" y="20166"/>
                </a:cubicBezTo>
                <a:cubicBezTo>
                  <a:pt x="15029" y="19744"/>
                  <a:pt x="14457" y="18731"/>
                  <a:pt x="14857" y="18056"/>
                </a:cubicBezTo>
                <a:cubicBezTo>
                  <a:pt x="15029" y="17466"/>
                  <a:pt x="15543" y="17634"/>
                  <a:pt x="15886" y="17466"/>
                </a:cubicBezTo>
                <a:cubicBezTo>
                  <a:pt x="16971" y="16875"/>
                  <a:pt x="17943" y="15863"/>
                  <a:pt x="18457" y="14597"/>
                </a:cubicBezTo>
                <a:cubicBezTo>
                  <a:pt x="18971" y="13584"/>
                  <a:pt x="18800" y="11475"/>
                  <a:pt x="18800" y="11475"/>
                </a:cubicBezTo>
                <a:cubicBezTo>
                  <a:pt x="18800" y="11475"/>
                  <a:pt x="20971" y="10884"/>
                  <a:pt x="21371" y="9619"/>
                </a:cubicBezTo>
                <a:cubicBezTo>
                  <a:pt x="21600" y="8606"/>
                  <a:pt x="20743" y="7678"/>
                  <a:pt x="19943" y="6750"/>
                </a:cubicBezTo>
                <a:cubicBezTo>
                  <a:pt x="18114" y="5063"/>
                  <a:pt x="16286" y="3628"/>
                  <a:pt x="14457" y="2109"/>
                </a:cubicBezTo>
                <a:cubicBezTo>
                  <a:pt x="13600" y="1434"/>
                  <a:pt x="12629" y="675"/>
                  <a:pt x="11657" y="422"/>
                </a:cubicBezTo>
                <a:cubicBezTo>
                  <a:pt x="10400" y="0"/>
                  <a:pt x="8914" y="0"/>
                  <a:pt x="7486" y="253"/>
                </a:cubicBezTo>
                <a:cubicBezTo>
                  <a:pt x="6343" y="422"/>
                  <a:pt x="5314" y="675"/>
                  <a:pt x="4343" y="1434"/>
                </a:cubicBezTo>
                <a:cubicBezTo>
                  <a:pt x="2971" y="2363"/>
                  <a:pt x="1829" y="3966"/>
                  <a:pt x="971" y="5738"/>
                </a:cubicBezTo>
                <a:cubicBezTo>
                  <a:pt x="0" y="7931"/>
                  <a:pt x="0" y="10209"/>
                  <a:pt x="0" y="12488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90800" y="1803240"/>
            <a:ext cx="16488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87" y="19864"/>
                </a:moveTo>
                <a:cubicBezTo>
                  <a:pt x="7865" y="21214"/>
                  <a:pt x="10683" y="21600"/>
                  <a:pt x="11857" y="18707"/>
                </a:cubicBezTo>
                <a:cubicBezTo>
                  <a:pt x="12913" y="16393"/>
                  <a:pt x="12443" y="12150"/>
                  <a:pt x="13852" y="10607"/>
                </a:cubicBezTo>
                <a:cubicBezTo>
                  <a:pt x="14791" y="9257"/>
                  <a:pt x="16435" y="9257"/>
                  <a:pt x="17609" y="8871"/>
                </a:cubicBezTo>
                <a:cubicBezTo>
                  <a:pt x="20074" y="8293"/>
                  <a:pt x="21600" y="5593"/>
                  <a:pt x="20778" y="4050"/>
                </a:cubicBezTo>
                <a:cubicBezTo>
                  <a:pt x="19017" y="0"/>
                  <a:pt x="15613" y="1736"/>
                  <a:pt x="12091" y="4050"/>
                </a:cubicBezTo>
                <a:cubicBezTo>
                  <a:pt x="9861" y="5593"/>
                  <a:pt x="7865" y="8871"/>
                  <a:pt x="5517" y="10221"/>
                </a:cubicBezTo>
                <a:cubicBezTo>
                  <a:pt x="3991" y="11186"/>
                  <a:pt x="1761" y="9257"/>
                  <a:pt x="939" y="11379"/>
                </a:cubicBezTo>
                <a:cubicBezTo>
                  <a:pt x="0" y="14657"/>
                  <a:pt x="3170" y="18321"/>
                  <a:pt x="5987" y="19864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1360" y="1614600"/>
            <a:ext cx="436680" cy="13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532"/>
                </a:moveTo>
                <a:cubicBezTo>
                  <a:pt x="0" y="17532"/>
                  <a:pt x="1022" y="8556"/>
                  <a:pt x="2178" y="5049"/>
                </a:cubicBezTo>
                <a:cubicBezTo>
                  <a:pt x="2800" y="2945"/>
                  <a:pt x="3733" y="1262"/>
                  <a:pt x="4667" y="561"/>
                </a:cubicBezTo>
                <a:cubicBezTo>
                  <a:pt x="6089" y="0"/>
                  <a:pt x="7600" y="982"/>
                  <a:pt x="9022" y="2384"/>
                </a:cubicBezTo>
                <a:cubicBezTo>
                  <a:pt x="10044" y="3647"/>
                  <a:pt x="11156" y="4769"/>
                  <a:pt x="12178" y="5751"/>
                </a:cubicBezTo>
                <a:cubicBezTo>
                  <a:pt x="13600" y="6873"/>
                  <a:pt x="15022" y="7434"/>
                  <a:pt x="16311" y="7434"/>
                </a:cubicBezTo>
                <a:cubicBezTo>
                  <a:pt x="17644" y="7434"/>
                  <a:pt x="18978" y="6873"/>
                  <a:pt x="19956" y="5049"/>
                </a:cubicBezTo>
                <a:cubicBezTo>
                  <a:pt x="20711" y="3647"/>
                  <a:pt x="21600" y="1823"/>
                  <a:pt x="21600" y="1823"/>
                </a:cubicBezTo>
                <a:cubicBezTo>
                  <a:pt x="21600" y="1823"/>
                  <a:pt x="21600" y="6452"/>
                  <a:pt x="20844" y="9257"/>
                </a:cubicBezTo>
                <a:cubicBezTo>
                  <a:pt x="19600" y="13605"/>
                  <a:pt x="18000" y="17532"/>
                  <a:pt x="16133" y="18655"/>
                </a:cubicBezTo>
                <a:cubicBezTo>
                  <a:pt x="15378" y="19216"/>
                  <a:pt x="14622" y="18655"/>
                  <a:pt x="13867" y="18094"/>
                </a:cubicBezTo>
                <a:cubicBezTo>
                  <a:pt x="12756" y="17112"/>
                  <a:pt x="11644" y="16410"/>
                  <a:pt x="10489" y="14447"/>
                </a:cubicBezTo>
                <a:cubicBezTo>
                  <a:pt x="9733" y="13325"/>
                  <a:pt x="9022" y="11642"/>
                  <a:pt x="8178" y="10660"/>
                </a:cubicBezTo>
                <a:cubicBezTo>
                  <a:pt x="7511" y="10099"/>
                  <a:pt x="6667" y="9818"/>
                  <a:pt x="6000" y="10379"/>
                </a:cubicBezTo>
                <a:cubicBezTo>
                  <a:pt x="5244" y="10940"/>
                  <a:pt x="4489" y="12343"/>
                  <a:pt x="3911" y="14306"/>
                </a:cubicBezTo>
                <a:cubicBezTo>
                  <a:pt x="3156" y="16410"/>
                  <a:pt x="2044" y="21600"/>
                  <a:pt x="2044" y="21600"/>
                </a:cubicBezTo>
                <a:cubicBezTo>
                  <a:pt x="2044" y="21600"/>
                  <a:pt x="0" y="17532"/>
                  <a:pt x="0" y="17532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97040" y="1706400"/>
            <a:ext cx="12240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1" y="14185"/>
                </a:moveTo>
                <a:cubicBezTo>
                  <a:pt x="0" y="9994"/>
                  <a:pt x="2365" y="3869"/>
                  <a:pt x="4257" y="1934"/>
                </a:cubicBezTo>
                <a:cubicBezTo>
                  <a:pt x="6307" y="0"/>
                  <a:pt x="9302" y="322"/>
                  <a:pt x="11667" y="967"/>
                </a:cubicBezTo>
                <a:cubicBezTo>
                  <a:pt x="14820" y="2579"/>
                  <a:pt x="20969" y="2579"/>
                  <a:pt x="21285" y="9994"/>
                </a:cubicBezTo>
                <a:cubicBezTo>
                  <a:pt x="21600" y="13540"/>
                  <a:pt x="18289" y="17409"/>
                  <a:pt x="17028" y="19021"/>
                </a:cubicBezTo>
                <a:cubicBezTo>
                  <a:pt x="14663" y="20955"/>
                  <a:pt x="11982" y="21600"/>
                  <a:pt x="9618" y="21600"/>
                </a:cubicBezTo>
                <a:cubicBezTo>
                  <a:pt x="6622" y="21600"/>
                  <a:pt x="1577" y="19988"/>
                  <a:pt x="631" y="14185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76200" y="1434960"/>
            <a:ext cx="38916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00" y="20661"/>
                </a:moveTo>
                <a:cubicBezTo>
                  <a:pt x="0" y="19252"/>
                  <a:pt x="100" y="15831"/>
                  <a:pt x="200" y="13282"/>
                </a:cubicBezTo>
                <a:cubicBezTo>
                  <a:pt x="250" y="10465"/>
                  <a:pt x="1250" y="7781"/>
                  <a:pt x="2100" y="5098"/>
                </a:cubicBezTo>
                <a:cubicBezTo>
                  <a:pt x="3150" y="3354"/>
                  <a:pt x="4300" y="1543"/>
                  <a:pt x="5900" y="671"/>
                </a:cubicBezTo>
                <a:cubicBezTo>
                  <a:pt x="6950" y="134"/>
                  <a:pt x="8300" y="0"/>
                  <a:pt x="9700" y="201"/>
                </a:cubicBezTo>
                <a:cubicBezTo>
                  <a:pt x="10950" y="537"/>
                  <a:pt x="12100" y="1342"/>
                  <a:pt x="13050" y="2348"/>
                </a:cubicBezTo>
                <a:cubicBezTo>
                  <a:pt x="13700" y="2952"/>
                  <a:pt x="14100" y="3958"/>
                  <a:pt x="14450" y="4763"/>
                </a:cubicBezTo>
                <a:cubicBezTo>
                  <a:pt x="15050" y="6306"/>
                  <a:pt x="15500" y="7446"/>
                  <a:pt x="16200" y="8050"/>
                </a:cubicBezTo>
                <a:cubicBezTo>
                  <a:pt x="16850" y="8586"/>
                  <a:pt x="17700" y="8720"/>
                  <a:pt x="18550" y="8586"/>
                </a:cubicBezTo>
                <a:cubicBezTo>
                  <a:pt x="19150" y="8452"/>
                  <a:pt x="19900" y="8184"/>
                  <a:pt x="20550" y="7781"/>
                </a:cubicBezTo>
                <a:cubicBezTo>
                  <a:pt x="21100" y="7446"/>
                  <a:pt x="21600" y="7312"/>
                  <a:pt x="21600" y="7312"/>
                </a:cubicBezTo>
                <a:cubicBezTo>
                  <a:pt x="21600" y="7312"/>
                  <a:pt x="21200" y="10196"/>
                  <a:pt x="20450" y="10599"/>
                </a:cubicBezTo>
                <a:cubicBezTo>
                  <a:pt x="19600" y="11202"/>
                  <a:pt x="18450" y="10062"/>
                  <a:pt x="17400" y="9928"/>
                </a:cubicBezTo>
                <a:cubicBezTo>
                  <a:pt x="16000" y="9593"/>
                  <a:pt x="14500" y="8922"/>
                  <a:pt x="13150" y="9190"/>
                </a:cubicBezTo>
                <a:cubicBezTo>
                  <a:pt x="11550" y="9458"/>
                  <a:pt x="10100" y="10599"/>
                  <a:pt x="8850" y="11873"/>
                </a:cubicBezTo>
                <a:cubicBezTo>
                  <a:pt x="8200" y="12544"/>
                  <a:pt x="7450" y="13416"/>
                  <a:pt x="7250" y="14422"/>
                </a:cubicBezTo>
                <a:cubicBezTo>
                  <a:pt x="6850" y="16368"/>
                  <a:pt x="6100" y="20124"/>
                  <a:pt x="6100" y="20124"/>
                </a:cubicBezTo>
                <a:cubicBezTo>
                  <a:pt x="6100" y="20124"/>
                  <a:pt x="2950" y="21600"/>
                  <a:pt x="1700" y="20661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15960" y="1582560"/>
            <a:ext cx="10188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485" y="3224"/>
                </a:moveTo>
                <a:cubicBezTo>
                  <a:pt x="0" y="7093"/>
                  <a:pt x="2867" y="14830"/>
                  <a:pt x="6499" y="17409"/>
                </a:cubicBezTo>
                <a:cubicBezTo>
                  <a:pt x="11851" y="21600"/>
                  <a:pt x="20644" y="21600"/>
                  <a:pt x="21027" y="13540"/>
                </a:cubicBezTo>
                <a:cubicBezTo>
                  <a:pt x="21600" y="8060"/>
                  <a:pt x="17012" y="6448"/>
                  <a:pt x="12616" y="4513"/>
                </a:cubicBezTo>
                <a:cubicBezTo>
                  <a:pt x="8602" y="2579"/>
                  <a:pt x="4588" y="0"/>
                  <a:pt x="2485" y="3224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62040" y="1481040"/>
            <a:ext cx="68400" cy="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05" y="5298"/>
                </a:moveTo>
                <a:cubicBezTo>
                  <a:pt x="0" y="7743"/>
                  <a:pt x="1137" y="12226"/>
                  <a:pt x="4832" y="16709"/>
                </a:cubicBezTo>
                <a:cubicBezTo>
                  <a:pt x="7105" y="19155"/>
                  <a:pt x="10800" y="20785"/>
                  <a:pt x="13642" y="21600"/>
                </a:cubicBezTo>
                <a:cubicBezTo>
                  <a:pt x="16768" y="21600"/>
                  <a:pt x="20463" y="21600"/>
                  <a:pt x="21032" y="19155"/>
                </a:cubicBezTo>
                <a:cubicBezTo>
                  <a:pt x="21600" y="16709"/>
                  <a:pt x="19895" y="13042"/>
                  <a:pt x="17905" y="11004"/>
                </a:cubicBezTo>
                <a:cubicBezTo>
                  <a:pt x="13358" y="6113"/>
                  <a:pt x="5400" y="0"/>
                  <a:pt x="1705" y="5298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85680" y="1611360"/>
            <a:ext cx="25560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099" y="19340"/>
                </a:moveTo>
                <a:cubicBezTo>
                  <a:pt x="17128" y="21002"/>
                  <a:pt x="14324" y="21600"/>
                  <a:pt x="11672" y="21600"/>
                </a:cubicBezTo>
                <a:cubicBezTo>
                  <a:pt x="8943" y="21600"/>
                  <a:pt x="6442" y="20337"/>
                  <a:pt x="4396" y="18543"/>
                </a:cubicBezTo>
                <a:cubicBezTo>
                  <a:pt x="2425" y="16815"/>
                  <a:pt x="985" y="14887"/>
                  <a:pt x="531" y="12628"/>
                </a:cubicBezTo>
                <a:cubicBezTo>
                  <a:pt x="0" y="10634"/>
                  <a:pt x="834" y="8574"/>
                  <a:pt x="1971" y="6713"/>
                </a:cubicBezTo>
                <a:cubicBezTo>
                  <a:pt x="2577" y="5915"/>
                  <a:pt x="3562" y="5184"/>
                  <a:pt x="4396" y="4652"/>
                </a:cubicBezTo>
                <a:cubicBezTo>
                  <a:pt x="5305" y="3921"/>
                  <a:pt x="6442" y="3124"/>
                  <a:pt x="7048" y="2127"/>
                </a:cubicBezTo>
                <a:cubicBezTo>
                  <a:pt x="7806" y="1130"/>
                  <a:pt x="9625" y="0"/>
                  <a:pt x="9625" y="0"/>
                </a:cubicBezTo>
                <a:cubicBezTo>
                  <a:pt x="9625" y="0"/>
                  <a:pt x="10383" y="2193"/>
                  <a:pt x="10232" y="3190"/>
                </a:cubicBezTo>
                <a:cubicBezTo>
                  <a:pt x="10080" y="4187"/>
                  <a:pt x="9474" y="5184"/>
                  <a:pt x="9474" y="6048"/>
                </a:cubicBezTo>
                <a:cubicBezTo>
                  <a:pt x="9474" y="8108"/>
                  <a:pt x="10383" y="10368"/>
                  <a:pt x="12354" y="11764"/>
                </a:cubicBezTo>
                <a:cubicBezTo>
                  <a:pt x="13187" y="12295"/>
                  <a:pt x="14324" y="12894"/>
                  <a:pt x="15385" y="13026"/>
                </a:cubicBezTo>
                <a:cubicBezTo>
                  <a:pt x="17507" y="13159"/>
                  <a:pt x="19402" y="13026"/>
                  <a:pt x="20312" y="14156"/>
                </a:cubicBezTo>
                <a:cubicBezTo>
                  <a:pt x="21600" y="15685"/>
                  <a:pt x="20842" y="18011"/>
                  <a:pt x="19099" y="19340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7440" y="1671480"/>
            <a:ext cx="125640" cy="10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98" y="2842"/>
                </a:moveTo>
                <a:cubicBezTo>
                  <a:pt x="0" y="5684"/>
                  <a:pt x="3217" y="10800"/>
                  <a:pt x="5209" y="13642"/>
                </a:cubicBezTo>
                <a:cubicBezTo>
                  <a:pt x="7813" y="17242"/>
                  <a:pt x="11796" y="20842"/>
                  <a:pt x="15626" y="21411"/>
                </a:cubicBezTo>
                <a:cubicBezTo>
                  <a:pt x="17770" y="21600"/>
                  <a:pt x="21600" y="18568"/>
                  <a:pt x="20987" y="15726"/>
                </a:cubicBezTo>
                <a:cubicBezTo>
                  <a:pt x="19762" y="10800"/>
                  <a:pt x="14860" y="8905"/>
                  <a:pt x="11336" y="6442"/>
                </a:cubicBezTo>
                <a:cubicBezTo>
                  <a:pt x="8426" y="4547"/>
                  <a:pt x="4596" y="0"/>
                  <a:pt x="2298" y="2842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3840" y="1467000"/>
            <a:ext cx="11772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56" y="0"/>
                </a:moveTo>
                <a:cubicBezTo>
                  <a:pt x="19456" y="0"/>
                  <a:pt x="15499" y="4398"/>
                  <a:pt x="12696" y="6079"/>
                </a:cubicBezTo>
                <a:cubicBezTo>
                  <a:pt x="9893" y="7631"/>
                  <a:pt x="6595" y="7890"/>
                  <a:pt x="4452" y="9830"/>
                </a:cubicBezTo>
                <a:cubicBezTo>
                  <a:pt x="0" y="13969"/>
                  <a:pt x="4452" y="21600"/>
                  <a:pt x="4452" y="21600"/>
                </a:cubicBezTo>
                <a:cubicBezTo>
                  <a:pt x="4452" y="21600"/>
                  <a:pt x="9893" y="17849"/>
                  <a:pt x="12696" y="16168"/>
                </a:cubicBezTo>
                <a:cubicBezTo>
                  <a:pt x="14840" y="15133"/>
                  <a:pt x="16983" y="13969"/>
                  <a:pt x="18302" y="12934"/>
                </a:cubicBezTo>
                <a:cubicBezTo>
                  <a:pt x="20776" y="10477"/>
                  <a:pt x="21600" y="6596"/>
                  <a:pt x="21600" y="3363"/>
                </a:cubicBezTo>
                <a:cubicBezTo>
                  <a:pt x="21600" y="1681"/>
                  <a:pt x="19456" y="0"/>
                  <a:pt x="19456" y="0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57560" y="1927080"/>
            <a:ext cx="75060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190" y="1779"/>
                </a:moveTo>
                <a:cubicBezTo>
                  <a:pt x="5594" y="1271"/>
                  <a:pt x="5050" y="0"/>
                  <a:pt x="4403" y="191"/>
                </a:cubicBezTo>
                <a:cubicBezTo>
                  <a:pt x="3289" y="445"/>
                  <a:pt x="2046" y="1080"/>
                  <a:pt x="1269" y="3113"/>
                </a:cubicBezTo>
                <a:cubicBezTo>
                  <a:pt x="518" y="5146"/>
                  <a:pt x="0" y="8195"/>
                  <a:pt x="181" y="11054"/>
                </a:cubicBezTo>
                <a:cubicBezTo>
                  <a:pt x="285" y="13595"/>
                  <a:pt x="1165" y="15819"/>
                  <a:pt x="1968" y="17471"/>
                </a:cubicBezTo>
                <a:cubicBezTo>
                  <a:pt x="2538" y="18551"/>
                  <a:pt x="3289" y="18614"/>
                  <a:pt x="4014" y="18805"/>
                </a:cubicBezTo>
                <a:cubicBezTo>
                  <a:pt x="4532" y="18932"/>
                  <a:pt x="5102" y="17725"/>
                  <a:pt x="5594" y="18296"/>
                </a:cubicBezTo>
                <a:cubicBezTo>
                  <a:pt x="5931" y="18551"/>
                  <a:pt x="5594" y="20266"/>
                  <a:pt x="5931" y="20647"/>
                </a:cubicBezTo>
                <a:cubicBezTo>
                  <a:pt x="6578" y="21473"/>
                  <a:pt x="7381" y="21600"/>
                  <a:pt x="8106" y="21219"/>
                </a:cubicBezTo>
                <a:cubicBezTo>
                  <a:pt x="8909" y="20647"/>
                  <a:pt x="9686" y="19504"/>
                  <a:pt x="10334" y="18106"/>
                </a:cubicBezTo>
                <a:cubicBezTo>
                  <a:pt x="10826" y="17026"/>
                  <a:pt x="10878" y="14802"/>
                  <a:pt x="11499" y="13913"/>
                </a:cubicBezTo>
                <a:cubicBezTo>
                  <a:pt x="12354" y="12642"/>
                  <a:pt x="13442" y="12325"/>
                  <a:pt x="14452" y="12071"/>
                </a:cubicBezTo>
                <a:cubicBezTo>
                  <a:pt x="15151" y="11816"/>
                  <a:pt x="15799" y="12071"/>
                  <a:pt x="16524" y="12325"/>
                </a:cubicBezTo>
                <a:cubicBezTo>
                  <a:pt x="16938" y="12515"/>
                  <a:pt x="17378" y="13405"/>
                  <a:pt x="17819" y="13278"/>
                </a:cubicBezTo>
                <a:cubicBezTo>
                  <a:pt x="18440" y="13151"/>
                  <a:pt x="18984" y="12515"/>
                  <a:pt x="19528" y="11689"/>
                </a:cubicBezTo>
                <a:cubicBezTo>
                  <a:pt x="20020" y="11054"/>
                  <a:pt x="20435" y="9974"/>
                  <a:pt x="20823" y="8894"/>
                </a:cubicBezTo>
                <a:cubicBezTo>
                  <a:pt x="21056" y="8195"/>
                  <a:pt x="21600" y="6416"/>
                  <a:pt x="21212" y="6289"/>
                </a:cubicBezTo>
                <a:cubicBezTo>
                  <a:pt x="20435" y="6099"/>
                  <a:pt x="19787" y="7687"/>
                  <a:pt x="19088" y="8322"/>
                </a:cubicBezTo>
                <a:cubicBezTo>
                  <a:pt x="18440" y="8894"/>
                  <a:pt x="17819" y="10101"/>
                  <a:pt x="17119" y="10101"/>
                </a:cubicBezTo>
                <a:cubicBezTo>
                  <a:pt x="16291" y="10101"/>
                  <a:pt x="15643" y="8767"/>
                  <a:pt x="14892" y="8068"/>
                </a:cubicBezTo>
                <a:cubicBezTo>
                  <a:pt x="14322" y="7687"/>
                  <a:pt x="13804" y="7242"/>
                  <a:pt x="13286" y="6734"/>
                </a:cubicBezTo>
                <a:cubicBezTo>
                  <a:pt x="13235" y="6734"/>
                  <a:pt x="13442" y="6416"/>
                  <a:pt x="13416" y="6416"/>
                </a:cubicBezTo>
                <a:cubicBezTo>
                  <a:pt x="12924" y="6099"/>
                  <a:pt x="12406" y="5527"/>
                  <a:pt x="11914" y="5654"/>
                </a:cubicBezTo>
                <a:cubicBezTo>
                  <a:pt x="11318" y="5908"/>
                  <a:pt x="10826" y="6861"/>
                  <a:pt x="10308" y="7496"/>
                </a:cubicBezTo>
                <a:cubicBezTo>
                  <a:pt x="10075" y="7814"/>
                  <a:pt x="9945" y="6861"/>
                  <a:pt x="9790" y="6289"/>
                </a:cubicBezTo>
                <a:cubicBezTo>
                  <a:pt x="9427" y="4828"/>
                  <a:pt x="8780" y="3621"/>
                  <a:pt x="8158" y="2541"/>
                </a:cubicBezTo>
                <a:cubicBezTo>
                  <a:pt x="8029" y="2478"/>
                  <a:pt x="7899" y="2859"/>
                  <a:pt x="7770" y="2859"/>
                </a:cubicBezTo>
                <a:cubicBezTo>
                  <a:pt x="7226" y="2541"/>
                  <a:pt x="6734" y="2160"/>
                  <a:pt x="6190" y="1779"/>
                </a:cubicBezTo>
              </a:path>
            </a:pathLst>
          </a:custGeom>
          <a:solidFill>
            <a:srgbClr val="f2f2f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3800" y="1946160"/>
            <a:ext cx="84240" cy="6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574" y="2504"/>
                </a:moveTo>
                <a:cubicBezTo>
                  <a:pt x="2323" y="5948"/>
                  <a:pt x="0" y="13774"/>
                  <a:pt x="2323" y="17530"/>
                </a:cubicBezTo>
                <a:cubicBezTo>
                  <a:pt x="4877" y="21600"/>
                  <a:pt x="9755" y="16278"/>
                  <a:pt x="13239" y="15026"/>
                </a:cubicBezTo>
                <a:cubicBezTo>
                  <a:pt x="16258" y="14400"/>
                  <a:pt x="21600" y="15652"/>
                  <a:pt x="21600" y="11583"/>
                </a:cubicBezTo>
                <a:cubicBezTo>
                  <a:pt x="21600" y="7826"/>
                  <a:pt x="16490" y="6887"/>
                  <a:pt x="13703" y="5948"/>
                </a:cubicBezTo>
                <a:cubicBezTo>
                  <a:pt x="11381" y="4383"/>
                  <a:pt x="7897" y="0"/>
                  <a:pt x="5574" y="250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43360" y="1519200"/>
            <a:ext cx="482400" cy="1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86" y="13563"/>
                </a:moveTo>
                <a:cubicBezTo>
                  <a:pt x="1453" y="16577"/>
                  <a:pt x="3149" y="12056"/>
                  <a:pt x="4360" y="12307"/>
                </a:cubicBezTo>
                <a:cubicBezTo>
                  <a:pt x="4966" y="12307"/>
                  <a:pt x="5652" y="13312"/>
                  <a:pt x="6137" y="14442"/>
                </a:cubicBezTo>
                <a:cubicBezTo>
                  <a:pt x="6904" y="15949"/>
                  <a:pt x="7510" y="18712"/>
                  <a:pt x="8357" y="19716"/>
                </a:cubicBezTo>
                <a:cubicBezTo>
                  <a:pt x="9286" y="20972"/>
                  <a:pt x="10295" y="21600"/>
                  <a:pt x="11345" y="21600"/>
                </a:cubicBezTo>
                <a:cubicBezTo>
                  <a:pt x="12193" y="21600"/>
                  <a:pt x="12960" y="20721"/>
                  <a:pt x="13767" y="19716"/>
                </a:cubicBezTo>
                <a:cubicBezTo>
                  <a:pt x="14858" y="18084"/>
                  <a:pt x="15786" y="15949"/>
                  <a:pt x="16715" y="13814"/>
                </a:cubicBezTo>
                <a:cubicBezTo>
                  <a:pt x="17320" y="12558"/>
                  <a:pt x="17643" y="10423"/>
                  <a:pt x="18249" y="9167"/>
                </a:cubicBezTo>
                <a:cubicBezTo>
                  <a:pt x="18935" y="7409"/>
                  <a:pt x="19622" y="6405"/>
                  <a:pt x="20389" y="5149"/>
                </a:cubicBezTo>
                <a:cubicBezTo>
                  <a:pt x="20712" y="4521"/>
                  <a:pt x="21398" y="4898"/>
                  <a:pt x="21479" y="3516"/>
                </a:cubicBezTo>
                <a:cubicBezTo>
                  <a:pt x="21600" y="2135"/>
                  <a:pt x="21116" y="879"/>
                  <a:pt x="20712" y="628"/>
                </a:cubicBezTo>
                <a:cubicBezTo>
                  <a:pt x="19945" y="0"/>
                  <a:pt x="19218" y="879"/>
                  <a:pt x="18532" y="1758"/>
                </a:cubicBezTo>
                <a:cubicBezTo>
                  <a:pt x="17482" y="3014"/>
                  <a:pt x="16553" y="5149"/>
                  <a:pt x="15625" y="7033"/>
                </a:cubicBezTo>
                <a:cubicBezTo>
                  <a:pt x="14858" y="8288"/>
                  <a:pt x="14171" y="10172"/>
                  <a:pt x="13283" y="11051"/>
                </a:cubicBezTo>
                <a:cubicBezTo>
                  <a:pt x="12556" y="11679"/>
                  <a:pt x="11668" y="11428"/>
                  <a:pt x="10901" y="11177"/>
                </a:cubicBezTo>
                <a:cubicBezTo>
                  <a:pt x="9972" y="11051"/>
                  <a:pt x="9124" y="9293"/>
                  <a:pt x="8196" y="8916"/>
                </a:cubicBezTo>
                <a:cubicBezTo>
                  <a:pt x="7106" y="8037"/>
                  <a:pt x="5975" y="7409"/>
                  <a:pt x="4845" y="7284"/>
                </a:cubicBezTo>
                <a:cubicBezTo>
                  <a:pt x="4159" y="7033"/>
                  <a:pt x="3513" y="6153"/>
                  <a:pt x="2907" y="7033"/>
                </a:cubicBezTo>
                <a:cubicBezTo>
                  <a:pt x="1978" y="8288"/>
                  <a:pt x="0" y="11177"/>
                  <a:pt x="686" y="13563"/>
                </a:cubicBezTo>
              </a:path>
            </a:pathLst>
          </a:custGeom>
          <a:solidFill>
            <a:srgbClr val="f2f2f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6440" y="1409760"/>
            <a:ext cx="41904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" y="9224"/>
                </a:moveTo>
                <a:cubicBezTo>
                  <a:pt x="371" y="6538"/>
                  <a:pt x="973" y="3853"/>
                  <a:pt x="1854" y="2102"/>
                </a:cubicBezTo>
                <a:cubicBezTo>
                  <a:pt x="2503" y="584"/>
                  <a:pt x="3615" y="350"/>
                  <a:pt x="4496" y="117"/>
                </a:cubicBezTo>
                <a:cubicBezTo>
                  <a:pt x="5377" y="0"/>
                  <a:pt x="6489" y="0"/>
                  <a:pt x="7231" y="934"/>
                </a:cubicBezTo>
                <a:cubicBezTo>
                  <a:pt x="8297" y="2335"/>
                  <a:pt x="8807" y="6071"/>
                  <a:pt x="9873" y="7472"/>
                </a:cubicBezTo>
                <a:cubicBezTo>
                  <a:pt x="10754" y="8757"/>
                  <a:pt x="11959" y="8990"/>
                  <a:pt x="12886" y="8757"/>
                </a:cubicBezTo>
                <a:cubicBezTo>
                  <a:pt x="13488" y="8523"/>
                  <a:pt x="14091" y="7239"/>
                  <a:pt x="14462" y="6305"/>
                </a:cubicBezTo>
                <a:cubicBezTo>
                  <a:pt x="14786" y="5488"/>
                  <a:pt x="14555" y="3503"/>
                  <a:pt x="14879" y="3853"/>
                </a:cubicBezTo>
                <a:cubicBezTo>
                  <a:pt x="16316" y="5254"/>
                  <a:pt x="17614" y="7823"/>
                  <a:pt x="18680" y="10742"/>
                </a:cubicBezTo>
                <a:cubicBezTo>
                  <a:pt x="19143" y="12026"/>
                  <a:pt x="18773" y="14361"/>
                  <a:pt x="19143" y="15879"/>
                </a:cubicBezTo>
                <a:cubicBezTo>
                  <a:pt x="19653" y="17630"/>
                  <a:pt x="21600" y="18331"/>
                  <a:pt x="21044" y="19849"/>
                </a:cubicBezTo>
                <a:cubicBezTo>
                  <a:pt x="20256" y="21600"/>
                  <a:pt x="19004" y="19265"/>
                  <a:pt x="17985" y="18681"/>
                </a:cubicBezTo>
                <a:cubicBezTo>
                  <a:pt x="16826" y="17864"/>
                  <a:pt x="15713" y="17163"/>
                  <a:pt x="14694" y="15879"/>
                </a:cubicBezTo>
                <a:cubicBezTo>
                  <a:pt x="14091" y="15178"/>
                  <a:pt x="13767" y="12726"/>
                  <a:pt x="13118" y="12726"/>
                </a:cubicBezTo>
                <a:cubicBezTo>
                  <a:pt x="12330" y="12726"/>
                  <a:pt x="11959" y="16346"/>
                  <a:pt x="11171" y="15879"/>
                </a:cubicBezTo>
                <a:cubicBezTo>
                  <a:pt x="9780" y="14945"/>
                  <a:pt x="9224" y="10742"/>
                  <a:pt x="7926" y="8990"/>
                </a:cubicBezTo>
                <a:cubicBezTo>
                  <a:pt x="7138" y="7823"/>
                  <a:pt x="6165" y="7005"/>
                  <a:pt x="5145" y="7239"/>
                </a:cubicBezTo>
                <a:cubicBezTo>
                  <a:pt x="4311" y="7472"/>
                  <a:pt x="3615" y="9224"/>
                  <a:pt x="2967" y="10742"/>
                </a:cubicBezTo>
                <a:cubicBezTo>
                  <a:pt x="2364" y="12259"/>
                  <a:pt x="2364" y="14945"/>
                  <a:pt x="1576" y="15762"/>
                </a:cubicBezTo>
                <a:cubicBezTo>
                  <a:pt x="1159" y="16112"/>
                  <a:pt x="1066" y="13777"/>
                  <a:pt x="881" y="12726"/>
                </a:cubicBezTo>
                <a:cubicBezTo>
                  <a:pt x="556" y="11442"/>
                  <a:pt x="0" y="10508"/>
                  <a:pt x="93" y="9224"/>
                </a:cubicBezTo>
              </a:path>
            </a:pathLst>
          </a:custGeom>
          <a:solidFill>
            <a:srgbClr val="f2f2f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58880" y="1481040"/>
            <a:ext cx="45108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91" y="16792"/>
                </a:moveTo>
                <a:cubicBezTo>
                  <a:pt x="1291" y="16928"/>
                  <a:pt x="1377" y="16928"/>
                  <a:pt x="1463" y="16928"/>
                </a:cubicBezTo>
                <a:cubicBezTo>
                  <a:pt x="2539" y="18011"/>
                  <a:pt x="3528" y="19636"/>
                  <a:pt x="4776" y="20313"/>
                </a:cubicBezTo>
                <a:cubicBezTo>
                  <a:pt x="6368" y="20991"/>
                  <a:pt x="8046" y="21600"/>
                  <a:pt x="9638" y="20991"/>
                </a:cubicBezTo>
                <a:cubicBezTo>
                  <a:pt x="10972" y="20584"/>
                  <a:pt x="11962" y="18892"/>
                  <a:pt x="13080" y="17605"/>
                </a:cubicBezTo>
                <a:cubicBezTo>
                  <a:pt x="13898" y="16589"/>
                  <a:pt x="14802" y="15777"/>
                  <a:pt x="15447" y="14490"/>
                </a:cubicBezTo>
                <a:cubicBezTo>
                  <a:pt x="16178" y="13001"/>
                  <a:pt x="16523" y="11308"/>
                  <a:pt x="17254" y="9886"/>
                </a:cubicBezTo>
                <a:cubicBezTo>
                  <a:pt x="17900" y="8599"/>
                  <a:pt x="18803" y="7787"/>
                  <a:pt x="19535" y="6771"/>
                </a:cubicBezTo>
                <a:cubicBezTo>
                  <a:pt x="19965" y="6026"/>
                  <a:pt x="21600" y="4875"/>
                  <a:pt x="20955" y="4740"/>
                </a:cubicBezTo>
                <a:cubicBezTo>
                  <a:pt x="20180" y="4469"/>
                  <a:pt x="19449" y="6026"/>
                  <a:pt x="18631" y="6500"/>
                </a:cubicBezTo>
                <a:cubicBezTo>
                  <a:pt x="18416" y="6500"/>
                  <a:pt x="18330" y="6162"/>
                  <a:pt x="18287" y="6026"/>
                </a:cubicBezTo>
                <a:cubicBezTo>
                  <a:pt x="17900" y="5485"/>
                  <a:pt x="17641" y="4740"/>
                  <a:pt x="17254" y="4130"/>
                </a:cubicBezTo>
                <a:cubicBezTo>
                  <a:pt x="16695" y="3182"/>
                  <a:pt x="16437" y="1761"/>
                  <a:pt x="15705" y="1151"/>
                </a:cubicBezTo>
                <a:cubicBezTo>
                  <a:pt x="14888" y="609"/>
                  <a:pt x="13984" y="880"/>
                  <a:pt x="13167" y="1287"/>
                </a:cubicBezTo>
                <a:cubicBezTo>
                  <a:pt x="12607" y="1625"/>
                  <a:pt x="12263" y="2302"/>
                  <a:pt x="11962" y="2979"/>
                </a:cubicBezTo>
                <a:cubicBezTo>
                  <a:pt x="11618" y="3792"/>
                  <a:pt x="11747" y="4875"/>
                  <a:pt x="11316" y="5620"/>
                </a:cubicBezTo>
                <a:cubicBezTo>
                  <a:pt x="10972" y="6297"/>
                  <a:pt x="10585" y="7651"/>
                  <a:pt x="10069" y="7313"/>
                </a:cubicBezTo>
                <a:cubicBezTo>
                  <a:pt x="9509" y="7042"/>
                  <a:pt x="9982" y="5282"/>
                  <a:pt x="9638" y="4604"/>
                </a:cubicBezTo>
                <a:cubicBezTo>
                  <a:pt x="8993" y="3182"/>
                  <a:pt x="8347" y="1490"/>
                  <a:pt x="7315" y="745"/>
                </a:cubicBezTo>
                <a:cubicBezTo>
                  <a:pt x="6239" y="0"/>
                  <a:pt x="4991" y="0"/>
                  <a:pt x="3829" y="474"/>
                </a:cubicBezTo>
                <a:cubicBezTo>
                  <a:pt x="2754" y="880"/>
                  <a:pt x="1635" y="1625"/>
                  <a:pt x="990" y="2979"/>
                </a:cubicBezTo>
                <a:cubicBezTo>
                  <a:pt x="258" y="4740"/>
                  <a:pt x="0" y="7042"/>
                  <a:pt x="215" y="9006"/>
                </a:cubicBezTo>
                <a:cubicBezTo>
                  <a:pt x="344" y="10631"/>
                  <a:pt x="1807" y="11443"/>
                  <a:pt x="2108" y="13001"/>
                </a:cubicBezTo>
                <a:cubicBezTo>
                  <a:pt x="2237" y="14287"/>
                  <a:pt x="1463" y="15438"/>
                  <a:pt x="1291" y="16792"/>
                </a:cubicBezTo>
              </a:path>
            </a:pathLst>
          </a:custGeom>
          <a:solidFill>
            <a:srgbClr val="f2f2f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36800" y="1673280"/>
            <a:ext cx="149040" cy="17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26"/>
                </a:moveTo>
                <a:cubicBezTo>
                  <a:pt x="388" y="226"/>
                  <a:pt x="647" y="0"/>
                  <a:pt x="647" y="226"/>
                </a:cubicBezTo>
                <a:cubicBezTo>
                  <a:pt x="1293" y="3845"/>
                  <a:pt x="388" y="7577"/>
                  <a:pt x="1811" y="10857"/>
                </a:cubicBezTo>
                <a:cubicBezTo>
                  <a:pt x="3234" y="14249"/>
                  <a:pt x="6079" y="16850"/>
                  <a:pt x="9830" y="18547"/>
                </a:cubicBezTo>
                <a:cubicBezTo>
                  <a:pt x="13322" y="20243"/>
                  <a:pt x="17461" y="21148"/>
                  <a:pt x="21600" y="21600"/>
                </a:cubicBezTo>
              </a:path>
            </a:pathLst>
          </a:custGeom>
          <a:solidFill>
            <a:srgbClr val="ffe6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3040" y="1494000"/>
            <a:ext cx="166680" cy="18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18" y="21600"/>
                </a:moveTo>
                <a:cubicBezTo>
                  <a:pt x="701" y="19046"/>
                  <a:pt x="0" y="16386"/>
                  <a:pt x="0" y="13726"/>
                </a:cubicBezTo>
                <a:cubicBezTo>
                  <a:pt x="0" y="10960"/>
                  <a:pt x="1284" y="8300"/>
                  <a:pt x="2452" y="5852"/>
                </a:cubicBezTo>
                <a:cubicBezTo>
                  <a:pt x="3853" y="4256"/>
                  <a:pt x="5488" y="2447"/>
                  <a:pt x="7239" y="1490"/>
                </a:cubicBezTo>
                <a:cubicBezTo>
                  <a:pt x="8640" y="638"/>
                  <a:pt x="10625" y="426"/>
                  <a:pt x="12376" y="213"/>
                </a:cubicBezTo>
                <a:cubicBezTo>
                  <a:pt x="13544" y="213"/>
                  <a:pt x="14711" y="0"/>
                  <a:pt x="15996" y="213"/>
                </a:cubicBezTo>
                <a:cubicBezTo>
                  <a:pt x="17981" y="426"/>
                  <a:pt x="19965" y="1170"/>
                  <a:pt x="21600" y="149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04960" y="1865160"/>
            <a:ext cx="27324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348"/>
                </a:moveTo>
                <a:cubicBezTo>
                  <a:pt x="1430" y="11407"/>
                  <a:pt x="2718" y="9222"/>
                  <a:pt x="3934" y="6553"/>
                </a:cubicBezTo>
                <a:cubicBezTo>
                  <a:pt x="5007" y="4369"/>
                  <a:pt x="6223" y="1942"/>
                  <a:pt x="7224" y="971"/>
                </a:cubicBezTo>
                <a:cubicBezTo>
                  <a:pt x="8654" y="0"/>
                  <a:pt x="10156" y="0"/>
                  <a:pt x="11301" y="1942"/>
                </a:cubicBezTo>
                <a:cubicBezTo>
                  <a:pt x="12517" y="4126"/>
                  <a:pt x="13589" y="6553"/>
                  <a:pt x="14376" y="10193"/>
                </a:cubicBezTo>
                <a:cubicBezTo>
                  <a:pt x="15091" y="13348"/>
                  <a:pt x="15664" y="18445"/>
                  <a:pt x="16736" y="19901"/>
                </a:cubicBezTo>
                <a:cubicBezTo>
                  <a:pt x="17738" y="21600"/>
                  <a:pt x="18882" y="19416"/>
                  <a:pt x="19883" y="19901"/>
                </a:cubicBezTo>
                <a:cubicBezTo>
                  <a:pt x="20384" y="19901"/>
                  <a:pt x="20956" y="20872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0400" y="1952640"/>
            <a:ext cx="17964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617"/>
                </a:moveTo>
                <a:cubicBezTo>
                  <a:pt x="0" y="10617"/>
                  <a:pt x="218" y="10617"/>
                  <a:pt x="218" y="10617"/>
                </a:cubicBezTo>
                <a:cubicBezTo>
                  <a:pt x="1855" y="7688"/>
                  <a:pt x="3382" y="4027"/>
                  <a:pt x="5018" y="2197"/>
                </a:cubicBezTo>
                <a:cubicBezTo>
                  <a:pt x="6873" y="732"/>
                  <a:pt x="8727" y="0"/>
                  <a:pt x="10473" y="732"/>
                </a:cubicBezTo>
                <a:cubicBezTo>
                  <a:pt x="12109" y="1464"/>
                  <a:pt x="13964" y="3295"/>
                  <a:pt x="15382" y="6224"/>
                </a:cubicBezTo>
                <a:cubicBezTo>
                  <a:pt x="16255" y="7688"/>
                  <a:pt x="17018" y="11349"/>
                  <a:pt x="17891" y="13912"/>
                </a:cubicBezTo>
                <a:cubicBezTo>
                  <a:pt x="18764" y="16841"/>
                  <a:pt x="20291" y="19403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90840" y="2025720"/>
            <a:ext cx="14112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137" y="0"/>
                  <a:pt x="137" y="0"/>
                </a:cubicBezTo>
                <a:cubicBezTo>
                  <a:pt x="1367" y="4877"/>
                  <a:pt x="2461" y="9755"/>
                  <a:pt x="4238" y="13239"/>
                </a:cubicBezTo>
                <a:cubicBezTo>
                  <a:pt x="6289" y="17187"/>
                  <a:pt x="8886" y="19974"/>
                  <a:pt x="12167" y="21135"/>
                </a:cubicBezTo>
                <a:cubicBezTo>
                  <a:pt x="13808" y="21600"/>
                  <a:pt x="15858" y="21600"/>
                  <a:pt x="17909" y="21135"/>
                </a:cubicBezTo>
                <a:cubicBezTo>
                  <a:pt x="19003" y="20671"/>
                  <a:pt x="20506" y="19974"/>
                  <a:pt x="21600" y="1904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7360" y="2025720"/>
            <a:ext cx="19044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341"/>
                </a:moveTo>
                <a:cubicBezTo>
                  <a:pt x="20064" y="21341"/>
                  <a:pt x="17300" y="21600"/>
                  <a:pt x="15765" y="21600"/>
                </a:cubicBezTo>
                <a:cubicBezTo>
                  <a:pt x="13820" y="21341"/>
                  <a:pt x="11568" y="20695"/>
                  <a:pt x="9725" y="19660"/>
                </a:cubicBezTo>
                <a:cubicBezTo>
                  <a:pt x="7985" y="18884"/>
                  <a:pt x="6245" y="17202"/>
                  <a:pt x="5221" y="15521"/>
                </a:cubicBezTo>
                <a:cubicBezTo>
                  <a:pt x="3685" y="13322"/>
                  <a:pt x="2969" y="11123"/>
                  <a:pt x="2355" y="8925"/>
                </a:cubicBezTo>
                <a:cubicBezTo>
                  <a:pt x="1536" y="6079"/>
                  <a:pt x="717" y="2975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2080" y="2417760"/>
            <a:ext cx="10476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6" y="18263"/>
                </a:moveTo>
                <a:cubicBezTo>
                  <a:pt x="1676" y="14751"/>
                  <a:pt x="0" y="11415"/>
                  <a:pt x="372" y="8429"/>
                </a:cubicBezTo>
                <a:cubicBezTo>
                  <a:pt x="1303" y="5268"/>
                  <a:pt x="4469" y="2283"/>
                  <a:pt x="7821" y="702"/>
                </a:cubicBezTo>
                <a:cubicBezTo>
                  <a:pt x="10614" y="0"/>
                  <a:pt x="14152" y="351"/>
                  <a:pt x="16945" y="1756"/>
                </a:cubicBezTo>
                <a:cubicBezTo>
                  <a:pt x="19179" y="3161"/>
                  <a:pt x="20483" y="5795"/>
                  <a:pt x="21228" y="8429"/>
                </a:cubicBezTo>
                <a:cubicBezTo>
                  <a:pt x="21600" y="10888"/>
                  <a:pt x="21600" y="13346"/>
                  <a:pt x="20855" y="15980"/>
                </a:cubicBezTo>
                <a:cubicBezTo>
                  <a:pt x="20483" y="17737"/>
                  <a:pt x="19552" y="19668"/>
                  <a:pt x="18807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60640" y="1646280"/>
            <a:ext cx="347400" cy="45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712" y="12519"/>
                </a:moveTo>
                <a:cubicBezTo>
                  <a:pt x="9209" y="10651"/>
                  <a:pt x="9153" y="8657"/>
                  <a:pt x="10270" y="6365"/>
                </a:cubicBezTo>
                <a:cubicBezTo>
                  <a:pt x="11330" y="4286"/>
                  <a:pt x="15070" y="637"/>
                  <a:pt x="15070" y="637"/>
                </a:cubicBezTo>
                <a:cubicBezTo>
                  <a:pt x="15070" y="637"/>
                  <a:pt x="12167" y="0"/>
                  <a:pt x="9600" y="339"/>
                </a:cubicBezTo>
                <a:cubicBezTo>
                  <a:pt x="7814" y="637"/>
                  <a:pt x="6530" y="1146"/>
                  <a:pt x="5470" y="1782"/>
                </a:cubicBezTo>
                <a:cubicBezTo>
                  <a:pt x="4074" y="2716"/>
                  <a:pt x="3014" y="3777"/>
                  <a:pt x="2177" y="4923"/>
                </a:cubicBezTo>
                <a:cubicBezTo>
                  <a:pt x="781" y="7002"/>
                  <a:pt x="0" y="9209"/>
                  <a:pt x="167" y="11670"/>
                </a:cubicBezTo>
                <a:cubicBezTo>
                  <a:pt x="279" y="13792"/>
                  <a:pt x="1228" y="15956"/>
                  <a:pt x="2623" y="17526"/>
                </a:cubicBezTo>
                <a:cubicBezTo>
                  <a:pt x="3795" y="18799"/>
                  <a:pt x="6028" y="20030"/>
                  <a:pt x="8372" y="20666"/>
                </a:cubicBezTo>
                <a:cubicBezTo>
                  <a:pt x="11609" y="21473"/>
                  <a:pt x="15014" y="21600"/>
                  <a:pt x="16186" y="21473"/>
                </a:cubicBezTo>
                <a:cubicBezTo>
                  <a:pt x="19033" y="21388"/>
                  <a:pt x="21600" y="20157"/>
                  <a:pt x="21600" y="20157"/>
                </a:cubicBezTo>
                <a:cubicBezTo>
                  <a:pt x="21600" y="20157"/>
                  <a:pt x="15460" y="20030"/>
                  <a:pt x="13451" y="18163"/>
                </a:cubicBezTo>
                <a:cubicBezTo>
                  <a:pt x="11219" y="16295"/>
                  <a:pt x="10158" y="14428"/>
                  <a:pt x="9712" y="12519"/>
                </a:cubicBezTo>
              </a:path>
            </a:pathLst>
          </a:custGeom>
          <a:solidFill>
            <a:srgbClr val="ffcc9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63600" y="1652760"/>
            <a:ext cx="347760" cy="41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625" y="12577"/>
                </a:moveTo>
                <a:cubicBezTo>
                  <a:pt x="9177" y="10706"/>
                  <a:pt x="9065" y="8743"/>
                  <a:pt x="10296" y="6358"/>
                </a:cubicBezTo>
                <a:cubicBezTo>
                  <a:pt x="11304" y="4208"/>
                  <a:pt x="15109" y="701"/>
                  <a:pt x="15109" y="701"/>
                </a:cubicBezTo>
                <a:cubicBezTo>
                  <a:pt x="15109" y="701"/>
                  <a:pt x="12143" y="0"/>
                  <a:pt x="9513" y="374"/>
                </a:cubicBezTo>
                <a:cubicBezTo>
                  <a:pt x="7778" y="701"/>
                  <a:pt x="6099" y="1169"/>
                  <a:pt x="4812" y="2057"/>
                </a:cubicBezTo>
                <a:cubicBezTo>
                  <a:pt x="3749" y="2805"/>
                  <a:pt x="2798" y="3834"/>
                  <a:pt x="2070" y="4862"/>
                </a:cubicBezTo>
                <a:cubicBezTo>
                  <a:pt x="839" y="6873"/>
                  <a:pt x="0" y="9210"/>
                  <a:pt x="112" y="11642"/>
                </a:cubicBezTo>
                <a:cubicBezTo>
                  <a:pt x="224" y="13699"/>
                  <a:pt x="951" y="15849"/>
                  <a:pt x="2574" y="17626"/>
                </a:cubicBezTo>
                <a:cubicBezTo>
                  <a:pt x="3861" y="18888"/>
                  <a:pt x="6044" y="20010"/>
                  <a:pt x="8394" y="20571"/>
                </a:cubicBezTo>
                <a:cubicBezTo>
                  <a:pt x="11527" y="21366"/>
                  <a:pt x="14997" y="21600"/>
                  <a:pt x="16172" y="21506"/>
                </a:cubicBezTo>
                <a:cubicBezTo>
                  <a:pt x="18970" y="21366"/>
                  <a:pt x="21600" y="20104"/>
                  <a:pt x="21600" y="20104"/>
                </a:cubicBezTo>
                <a:cubicBezTo>
                  <a:pt x="21600" y="20104"/>
                  <a:pt x="15445" y="20010"/>
                  <a:pt x="13430" y="18187"/>
                </a:cubicBezTo>
                <a:cubicBezTo>
                  <a:pt x="11192" y="16364"/>
                  <a:pt x="10128" y="14400"/>
                  <a:pt x="9625" y="12577"/>
                </a:cubicBezTo>
              </a:path>
            </a:pathLst>
          </a:custGeom>
          <a:solidFill>
            <a:srgbClr val="ffcc9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68360" y="1660680"/>
            <a:ext cx="360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830" y="201"/>
                </a:moveTo>
                <a:cubicBezTo>
                  <a:pt x="5940" y="603"/>
                  <a:pt x="4104" y="1607"/>
                  <a:pt x="2862" y="2964"/>
                </a:cubicBezTo>
                <a:cubicBezTo>
                  <a:pt x="1566" y="4320"/>
                  <a:pt x="756" y="6279"/>
                  <a:pt x="324" y="8037"/>
                </a:cubicBezTo>
                <a:cubicBezTo>
                  <a:pt x="0" y="9745"/>
                  <a:pt x="0" y="11453"/>
                  <a:pt x="432" y="13111"/>
                </a:cubicBezTo>
                <a:cubicBezTo>
                  <a:pt x="1026" y="15070"/>
                  <a:pt x="2106" y="16878"/>
                  <a:pt x="3726" y="18134"/>
                </a:cubicBezTo>
                <a:cubicBezTo>
                  <a:pt x="5292" y="19490"/>
                  <a:pt x="7398" y="20595"/>
                  <a:pt x="10206" y="21198"/>
                </a:cubicBezTo>
                <a:cubicBezTo>
                  <a:pt x="11286" y="21399"/>
                  <a:pt x="12960" y="21600"/>
                  <a:pt x="14688" y="21299"/>
                </a:cubicBezTo>
                <a:cubicBezTo>
                  <a:pt x="16038" y="21098"/>
                  <a:pt x="17766" y="20445"/>
                  <a:pt x="18900" y="19390"/>
                </a:cubicBezTo>
                <a:cubicBezTo>
                  <a:pt x="19494" y="18887"/>
                  <a:pt x="20412" y="18033"/>
                  <a:pt x="20844" y="17029"/>
                </a:cubicBezTo>
                <a:cubicBezTo>
                  <a:pt x="21438" y="15924"/>
                  <a:pt x="21600" y="14517"/>
                  <a:pt x="21600" y="13111"/>
                </a:cubicBezTo>
                <a:cubicBezTo>
                  <a:pt x="21600" y="11654"/>
                  <a:pt x="21438" y="10147"/>
                  <a:pt x="21060" y="8791"/>
                </a:cubicBezTo>
                <a:cubicBezTo>
                  <a:pt x="20682" y="7284"/>
                  <a:pt x="20034" y="5827"/>
                  <a:pt x="19116" y="4672"/>
                </a:cubicBezTo>
                <a:cubicBezTo>
                  <a:pt x="18144" y="3315"/>
                  <a:pt x="16848" y="2110"/>
                  <a:pt x="15390" y="1356"/>
                </a:cubicBezTo>
                <a:cubicBezTo>
                  <a:pt x="14310" y="854"/>
                  <a:pt x="11826" y="402"/>
                  <a:pt x="11826" y="402"/>
                </a:cubicBezTo>
                <a:cubicBezTo>
                  <a:pt x="11826" y="402"/>
                  <a:pt x="9126" y="0"/>
                  <a:pt x="7830" y="201"/>
                </a:cubicBezTo>
              </a:path>
            </a:pathLst>
          </a:custGeom>
          <a:solidFill>
            <a:srgbClr val="ffcc9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1758960"/>
            <a:ext cx="204840" cy="25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302"/>
                </a:moveTo>
                <a:cubicBezTo>
                  <a:pt x="2368" y="21066"/>
                  <a:pt x="5021" y="21600"/>
                  <a:pt x="7389" y="21600"/>
                </a:cubicBezTo>
                <a:cubicBezTo>
                  <a:pt x="10042" y="21600"/>
                  <a:pt x="12600" y="20913"/>
                  <a:pt x="14684" y="19768"/>
                </a:cubicBezTo>
                <a:cubicBezTo>
                  <a:pt x="17242" y="18394"/>
                  <a:pt x="19989" y="16181"/>
                  <a:pt x="21032" y="13510"/>
                </a:cubicBezTo>
                <a:cubicBezTo>
                  <a:pt x="21600" y="11907"/>
                  <a:pt x="21600" y="9999"/>
                  <a:pt x="21221" y="8167"/>
                </a:cubicBezTo>
                <a:cubicBezTo>
                  <a:pt x="20842" y="6411"/>
                  <a:pt x="19989" y="4656"/>
                  <a:pt x="18663" y="3206"/>
                </a:cubicBezTo>
                <a:cubicBezTo>
                  <a:pt x="17905" y="2366"/>
                  <a:pt x="16768" y="1374"/>
                  <a:pt x="15632" y="916"/>
                </a:cubicBezTo>
                <a:cubicBezTo>
                  <a:pt x="14684" y="458"/>
                  <a:pt x="13453" y="229"/>
                  <a:pt x="12316" y="76"/>
                </a:cubicBezTo>
                <a:cubicBezTo>
                  <a:pt x="10042" y="0"/>
                  <a:pt x="7863" y="229"/>
                  <a:pt x="6063" y="1374"/>
                </a:cubicBezTo>
                <a:cubicBezTo>
                  <a:pt x="4453" y="2366"/>
                  <a:pt x="3221" y="3816"/>
                  <a:pt x="2842" y="5648"/>
                </a:cubicBezTo>
                <a:cubicBezTo>
                  <a:pt x="2558" y="6717"/>
                  <a:pt x="2842" y="7861"/>
                  <a:pt x="3221" y="8854"/>
                </a:cubicBezTo>
                <a:cubicBezTo>
                  <a:pt x="3695" y="9617"/>
                  <a:pt x="4642" y="10304"/>
                  <a:pt x="5589" y="10609"/>
                </a:cubicBezTo>
                <a:cubicBezTo>
                  <a:pt x="7011" y="10914"/>
                  <a:pt x="8621" y="10914"/>
                  <a:pt x="10042" y="10762"/>
                </a:cubicBezTo>
              </a:path>
            </a:pathLst>
          </a:custGeom>
          <a:solidFill>
            <a:srgbClr val="ffcc9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3600" y="2136600"/>
            <a:ext cx="81000" cy="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080" y="17432"/>
                  <a:pt x="17520" y="3789"/>
                  <a:pt x="2160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344680" y="1978200"/>
            <a:ext cx="271440" cy="16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91" y="8592"/>
                </a:moveTo>
                <a:cubicBezTo>
                  <a:pt x="15234" y="6325"/>
                  <a:pt x="15664" y="4057"/>
                  <a:pt x="14948" y="2267"/>
                </a:cubicBezTo>
                <a:cubicBezTo>
                  <a:pt x="14019" y="239"/>
                  <a:pt x="12016" y="0"/>
                  <a:pt x="10514" y="0"/>
                </a:cubicBezTo>
                <a:cubicBezTo>
                  <a:pt x="8583" y="0"/>
                  <a:pt x="6723" y="1313"/>
                  <a:pt x="4935" y="2506"/>
                </a:cubicBezTo>
                <a:cubicBezTo>
                  <a:pt x="3433" y="3461"/>
                  <a:pt x="1788" y="4893"/>
                  <a:pt x="858" y="7041"/>
                </a:cubicBezTo>
                <a:cubicBezTo>
                  <a:pt x="143" y="8831"/>
                  <a:pt x="0" y="11098"/>
                  <a:pt x="358" y="13127"/>
                </a:cubicBezTo>
                <a:cubicBezTo>
                  <a:pt x="858" y="14917"/>
                  <a:pt x="1931" y="16110"/>
                  <a:pt x="3004" y="16349"/>
                </a:cubicBezTo>
                <a:cubicBezTo>
                  <a:pt x="4792" y="16588"/>
                  <a:pt x="6652" y="13962"/>
                  <a:pt x="8440" y="14559"/>
                </a:cubicBezTo>
                <a:cubicBezTo>
                  <a:pt x="10514" y="15394"/>
                  <a:pt x="11444" y="19929"/>
                  <a:pt x="12803" y="20645"/>
                </a:cubicBezTo>
                <a:cubicBezTo>
                  <a:pt x="14591" y="21600"/>
                  <a:pt x="16879" y="21361"/>
                  <a:pt x="18525" y="19929"/>
                </a:cubicBezTo>
                <a:cubicBezTo>
                  <a:pt x="19883" y="18617"/>
                  <a:pt x="20742" y="16110"/>
                  <a:pt x="21242" y="13604"/>
                </a:cubicBezTo>
                <a:cubicBezTo>
                  <a:pt x="21600" y="11576"/>
                  <a:pt x="21242" y="9547"/>
                  <a:pt x="20742" y="728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58960" y="1535040"/>
            <a:ext cx="103320" cy="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1407"/>
                </a:moveTo>
                <a:cubicBezTo>
                  <a:pt x="21600" y="11407"/>
                  <a:pt x="21224" y="11407"/>
                  <a:pt x="21224" y="11407"/>
                </a:cubicBezTo>
                <a:cubicBezTo>
                  <a:pt x="20285" y="13834"/>
                  <a:pt x="20285" y="17231"/>
                  <a:pt x="19158" y="19173"/>
                </a:cubicBezTo>
                <a:cubicBezTo>
                  <a:pt x="18031" y="21115"/>
                  <a:pt x="15214" y="21600"/>
                  <a:pt x="12772" y="21600"/>
                </a:cubicBezTo>
                <a:cubicBezTo>
                  <a:pt x="10518" y="21115"/>
                  <a:pt x="8077" y="20629"/>
                  <a:pt x="5635" y="19173"/>
                </a:cubicBezTo>
                <a:cubicBezTo>
                  <a:pt x="3193" y="17474"/>
                  <a:pt x="1690" y="14319"/>
                  <a:pt x="939" y="10921"/>
                </a:cubicBezTo>
                <a:cubicBezTo>
                  <a:pt x="0" y="7281"/>
                  <a:pt x="563" y="3640"/>
                  <a:pt x="563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03520" y="1549440"/>
            <a:ext cx="32400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698"/>
                </a:moveTo>
                <a:cubicBezTo>
                  <a:pt x="660" y="16326"/>
                  <a:pt x="1320" y="16451"/>
                  <a:pt x="1680" y="17330"/>
                </a:cubicBezTo>
                <a:cubicBezTo>
                  <a:pt x="2160" y="18084"/>
                  <a:pt x="2580" y="19465"/>
                  <a:pt x="3180" y="19967"/>
                </a:cubicBezTo>
                <a:cubicBezTo>
                  <a:pt x="4200" y="20972"/>
                  <a:pt x="5460" y="21600"/>
                  <a:pt x="6600" y="21223"/>
                </a:cubicBezTo>
                <a:cubicBezTo>
                  <a:pt x="7920" y="20972"/>
                  <a:pt x="9240" y="20093"/>
                  <a:pt x="10560" y="19465"/>
                </a:cubicBezTo>
                <a:cubicBezTo>
                  <a:pt x="11760" y="18586"/>
                  <a:pt x="13200" y="17581"/>
                  <a:pt x="14220" y="16326"/>
                </a:cubicBezTo>
                <a:cubicBezTo>
                  <a:pt x="15240" y="14819"/>
                  <a:pt x="16140" y="13060"/>
                  <a:pt x="16920" y="11177"/>
                </a:cubicBezTo>
                <a:cubicBezTo>
                  <a:pt x="17400" y="9544"/>
                  <a:pt x="18000" y="8037"/>
                  <a:pt x="18660" y="6405"/>
                </a:cubicBezTo>
                <a:cubicBezTo>
                  <a:pt x="19020" y="5651"/>
                  <a:pt x="19440" y="4647"/>
                  <a:pt x="19800" y="3516"/>
                </a:cubicBezTo>
                <a:cubicBezTo>
                  <a:pt x="19920" y="3014"/>
                  <a:pt x="20160" y="2512"/>
                  <a:pt x="20280" y="1884"/>
                </a:cubicBezTo>
                <a:cubicBezTo>
                  <a:pt x="20580" y="1130"/>
                  <a:pt x="21180" y="628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73080" y="2567160"/>
            <a:ext cx="23364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084" y="5308"/>
                  <a:pt x="1918" y="10434"/>
                  <a:pt x="3753" y="14095"/>
                </a:cubicBezTo>
                <a:cubicBezTo>
                  <a:pt x="5171" y="17207"/>
                  <a:pt x="6839" y="19220"/>
                  <a:pt x="8840" y="20319"/>
                </a:cubicBezTo>
                <a:cubicBezTo>
                  <a:pt x="10758" y="21600"/>
                  <a:pt x="12843" y="21234"/>
                  <a:pt x="14845" y="19953"/>
                </a:cubicBezTo>
                <a:cubicBezTo>
                  <a:pt x="17263" y="18854"/>
                  <a:pt x="19515" y="16658"/>
                  <a:pt x="21600" y="13912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0720" y="1268280"/>
            <a:ext cx="5398920" cy="671364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5440" y="3629160"/>
            <a:ext cx="1936800" cy="272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675" y="21600"/>
                </a:moveTo>
                <a:cubicBezTo>
                  <a:pt x="6675" y="21600"/>
                  <a:pt x="6675" y="21600"/>
                  <a:pt x="6675" y="21600"/>
                </a:cubicBezTo>
                <a:cubicBezTo>
                  <a:pt x="6675" y="21600"/>
                  <a:pt x="10037" y="20224"/>
                  <a:pt x="11613" y="19446"/>
                </a:cubicBezTo>
                <a:cubicBezTo>
                  <a:pt x="12667" y="18919"/>
                  <a:pt x="13661" y="18327"/>
                  <a:pt x="14644" y="17728"/>
                </a:cubicBezTo>
                <a:cubicBezTo>
                  <a:pt x="15658" y="17093"/>
                  <a:pt x="16692" y="16466"/>
                  <a:pt x="17555" y="15710"/>
                </a:cubicBezTo>
                <a:cubicBezTo>
                  <a:pt x="18268" y="15104"/>
                  <a:pt x="18860" y="14419"/>
                  <a:pt x="19231" y="13720"/>
                </a:cubicBezTo>
                <a:cubicBezTo>
                  <a:pt x="19593" y="13071"/>
                  <a:pt x="19793" y="12401"/>
                  <a:pt x="19894" y="11845"/>
                </a:cubicBezTo>
                <a:cubicBezTo>
                  <a:pt x="19974" y="11388"/>
                  <a:pt x="19974" y="10932"/>
                  <a:pt x="19894" y="10490"/>
                </a:cubicBezTo>
                <a:cubicBezTo>
                  <a:pt x="19793" y="9962"/>
                  <a:pt x="19593" y="9420"/>
                  <a:pt x="19171" y="8985"/>
                </a:cubicBezTo>
                <a:cubicBezTo>
                  <a:pt x="18940" y="8743"/>
                  <a:pt x="18579" y="8564"/>
                  <a:pt x="18288" y="8350"/>
                </a:cubicBezTo>
                <a:cubicBezTo>
                  <a:pt x="17896" y="8058"/>
                  <a:pt x="17505" y="7780"/>
                  <a:pt x="17164" y="7480"/>
                </a:cubicBezTo>
                <a:cubicBezTo>
                  <a:pt x="16862" y="7217"/>
                  <a:pt x="16612" y="6939"/>
                  <a:pt x="16441" y="6618"/>
                </a:cubicBezTo>
                <a:cubicBezTo>
                  <a:pt x="16270" y="6304"/>
                  <a:pt x="16180" y="5954"/>
                  <a:pt x="16170" y="5626"/>
                </a:cubicBezTo>
                <a:cubicBezTo>
                  <a:pt x="16150" y="5291"/>
                  <a:pt x="16180" y="4963"/>
                  <a:pt x="16250" y="4628"/>
                </a:cubicBezTo>
                <a:cubicBezTo>
                  <a:pt x="16290" y="4357"/>
                  <a:pt x="16481" y="3801"/>
                  <a:pt x="16481" y="3801"/>
                </a:cubicBezTo>
                <a:cubicBezTo>
                  <a:pt x="16481" y="3801"/>
                  <a:pt x="17284" y="4058"/>
                  <a:pt x="17686" y="4200"/>
                </a:cubicBezTo>
                <a:cubicBezTo>
                  <a:pt x="18007" y="4300"/>
                  <a:pt x="18348" y="4393"/>
                  <a:pt x="18639" y="4500"/>
                </a:cubicBezTo>
                <a:cubicBezTo>
                  <a:pt x="19131" y="4664"/>
                  <a:pt x="20165" y="4992"/>
                  <a:pt x="20165" y="4992"/>
                </a:cubicBezTo>
                <a:cubicBezTo>
                  <a:pt x="20165" y="4992"/>
                  <a:pt x="19843" y="5748"/>
                  <a:pt x="19673" y="6111"/>
                </a:cubicBezTo>
                <a:cubicBezTo>
                  <a:pt x="19452" y="6589"/>
                  <a:pt x="19131" y="7060"/>
                  <a:pt x="18860" y="7552"/>
                </a:cubicBezTo>
                <a:cubicBezTo>
                  <a:pt x="18729" y="7794"/>
                  <a:pt x="18599" y="8144"/>
                  <a:pt x="18599" y="8144"/>
                </a:cubicBezTo>
                <a:cubicBezTo>
                  <a:pt x="18599" y="8144"/>
                  <a:pt x="19572" y="8422"/>
                  <a:pt x="19572" y="8422"/>
                </a:cubicBezTo>
                <a:cubicBezTo>
                  <a:pt x="19572" y="8422"/>
                  <a:pt x="20396" y="7445"/>
                  <a:pt x="20636" y="7160"/>
                </a:cubicBezTo>
                <a:cubicBezTo>
                  <a:pt x="20998" y="6710"/>
                  <a:pt x="21249" y="6254"/>
                  <a:pt x="21329" y="6076"/>
                </a:cubicBezTo>
                <a:cubicBezTo>
                  <a:pt x="21600" y="5448"/>
                  <a:pt x="21570" y="4735"/>
                  <a:pt x="21480" y="4607"/>
                </a:cubicBezTo>
                <a:cubicBezTo>
                  <a:pt x="21229" y="4150"/>
                  <a:pt x="20616" y="3837"/>
                  <a:pt x="20084" y="3516"/>
                </a:cubicBezTo>
                <a:cubicBezTo>
                  <a:pt x="19342" y="3081"/>
                  <a:pt x="18559" y="2660"/>
                  <a:pt x="17726" y="2296"/>
                </a:cubicBezTo>
                <a:cubicBezTo>
                  <a:pt x="17113" y="2025"/>
                  <a:pt x="16461" y="1783"/>
                  <a:pt x="15809" y="1590"/>
                </a:cubicBezTo>
                <a:cubicBezTo>
                  <a:pt x="15317" y="1440"/>
                  <a:pt x="14825" y="1305"/>
                  <a:pt x="14323" y="1212"/>
                </a:cubicBezTo>
                <a:cubicBezTo>
                  <a:pt x="13831" y="1120"/>
                  <a:pt x="13319" y="1048"/>
                  <a:pt x="12838" y="1020"/>
                </a:cubicBezTo>
                <a:cubicBezTo>
                  <a:pt x="12496" y="998"/>
                  <a:pt x="12135" y="998"/>
                  <a:pt x="11804" y="1048"/>
                </a:cubicBezTo>
                <a:cubicBezTo>
                  <a:pt x="11593" y="1084"/>
                  <a:pt x="11121" y="1184"/>
                  <a:pt x="11121" y="1184"/>
                </a:cubicBezTo>
                <a:cubicBezTo>
                  <a:pt x="11121" y="1184"/>
                  <a:pt x="10760" y="870"/>
                  <a:pt x="10680" y="749"/>
                </a:cubicBezTo>
                <a:cubicBezTo>
                  <a:pt x="10569" y="599"/>
                  <a:pt x="10007" y="0"/>
                  <a:pt x="10007" y="0"/>
                </a:cubicBezTo>
                <a:cubicBezTo>
                  <a:pt x="10007" y="0"/>
                  <a:pt x="9043" y="421"/>
                  <a:pt x="9043" y="421"/>
                </a:cubicBezTo>
                <a:cubicBezTo>
                  <a:pt x="9043" y="421"/>
                  <a:pt x="9616" y="1184"/>
                  <a:pt x="9706" y="1291"/>
                </a:cubicBezTo>
                <a:cubicBezTo>
                  <a:pt x="9836" y="1426"/>
                  <a:pt x="9917" y="1590"/>
                  <a:pt x="9917" y="1590"/>
                </a:cubicBezTo>
                <a:cubicBezTo>
                  <a:pt x="9917" y="1590"/>
                  <a:pt x="9254" y="1997"/>
                  <a:pt x="8923" y="2211"/>
                </a:cubicBezTo>
                <a:cubicBezTo>
                  <a:pt x="8662" y="2375"/>
                  <a:pt x="8501" y="2596"/>
                  <a:pt x="8241" y="2931"/>
                </a:cubicBezTo>
                <a:cubicBezTo>
                  <a:pt x="7939" y="3309"/>
                  <a:pt x="7628" y="3744"/>
                  <a:pt x="7548" y="3894"/>
                </a:cubicBezTo>
                <a:cubicBezTo>
                  <a:pt x="7297" y="4314"/>
                  <a:pt x="7006" y="4728"/>
                  <a:pt x="6715" y="5149"/>
                </a:cubicBezTo>
                <a:cubicBezTo>
                  <a:pt x="6484" y="5477"/>
                  <a:pt x="6233" y="5805"/>
                  <a:pt x="5992" y="6126"/>
                </a:cubicBezTo>
                <a:cubicBezTo>
                  <a:pt x="5741" y="6468"/>
                  <a:pt x="5490" y="6817"/>
                  <a:pt x="5229" y="7160"/>
                </a:cubicBezTo>
                <a:cubicBezTo>
                  <a:pt x="5079" y="7359"/>
                  <a:pt x="4768" y="7744"/>
                  <a:pt x="4768" y="7744"/>
                </a:cubicBezTo>
                <a:cubicBezTo>
                  <a:pt x="4768" y="7744"/>
                  <a:pt x="2690" y="6603"/>
                  <a:pt x="2690" y="6603"/>
                </a:cubicBezTo>
                <a:cubicBezTo>
                  <a:pt x="2690" y="6603"/>
                  <a:pt x="743" y="5591"/>
                  <a:pt x="743" y="5591"/>
                </a:cubicBezTo>
                <a:cubicBezTo>
                  <a:pt x="743" y="5591"/>
                  <a:pt x="0" y="6111"/>
                  <a:pt x="0" y="6111"/>
                </a:cubicBezTo>
                <a:cubicBezTo>
                  <a:pt x="0" y="6111"/>
                  <a:pt x="2499" y="7702"/>
                  <a:pt x="3112" y="8094"/>
                </a:cubicBezTo>
                <a:cubicBezTo>
                  <a:pt x="3473" y="8322"/>
                  <a:pt x="3874" y="8543"/>
                  <a:pt x="4236" y="8757"/>
                </a:cubicBezTo>
                <a:cubicBezTo>
                  <a:pt x="4406" y="8843"/>
                  <a:pt x="4728" y="8921"/>
                  <a:pt x="4728" y="8921"/>
                </a:cubicBezTo>
                <a:cubicBezTo>
                  <a:pt x="4728" y="8921"/>
                  <a:pt x="5801" y="8379"/>
                  <a:pt x="6544" y="7866"/>
                </a:cubicBezTo>
                <a:cubicBezTo>
                  <a:pt x="7247" y="7402"/>
                  <a:pt x="8923" y="6111"/>
                  <a:pt x="8923" y="6111"/>
                </a:cubicBezTo>
                <a:cubicBezTo>
                  <a:pt x="8923" y="6111"/>
                  <a:pt x="9043" y="6268"/>
                  <a:pt x="9154" y="6446"/>
                </a:cubicBezTo>
                <a:cubicBezTo>
                  <a:pt x="9294" y="6675"/>
                  <a:pt x="9666" y="6832"/>
                  <a:pt x="9937" y="6917"/>
                </a:cubicBezTo>
                <a:cubicBezTo>
                  <a:pt x="10298" y="7024"/>
                  <a:pt x="10720" y="7024"/>
                  <a:pt x="10951" y="7010"/>
                </a:cubicBezTo>
                <a:cubicBezTo>
                  <a:pt x="11121" y="6996"/>
                  <a:pt x="11362" y="6939"/>
                  <a:pt x="11362" y="6939"/>
                </a:cubicBezTo>
                <a:cubicBezTo>
                  <a:pt x="11362" y="6939"/>
                  <a:pt x="11372" y="7238"/>
                  <a:pt x="11593" y="7516"/>
                </a:cubicBezTo>
                <a:cubicBezTo>
                  <a:pt x="11653" y="7616"/>
                  <a:pt x="11844" y="7837"/>
                  <a:pt x="12075" y="8037"/>
                </a:cubicBezTo>
                <a:cubicBezTo>
                  <a:pt x="12476" y="8393"/>
                  <a:pt x="13008" y="8757"/>
                  <a:pt x="13008" y="8757"/>
                </a:cubicBezTo>
                <a:cubicBezTo>
                  <a:pt x="13008" y="8757"/>
                  <a:pt x="12286" y="9071"/>
                  <a:pt x="11884" y="9235"/>
                </a:cubicBezTo>
                <a:cubicBezTo>
                  <a:pt x="11141" y="9541"/>
                  <a:pt x="10549" y="10033"/>
                  <a:pt x="9937" y="10476"/>
                </a:cubicBezTo>
                <a:cubicBezTo>
                  <a:pt x="9274" y="10932"/>
                  <a:pt x="8662" y="11438"/>
                  <a:pt x="8010" y="11930"/>
                </a:cubicBezTo>
                <a:cubicBezTo>
                  <a:pt x="7267" y="12508"/>
                  <a:pt x="6614" y="13121"/>
                  <a:pt x="5952" y="13720"/>
                </a:cubicBezTo>
                <a:cubicBezTo>
                  <a:pt x="5470" y="14191"/>
                  <a:pt x="4978" y="14661"/>
                  <a:pt x="4346" y="15303"/>
                </a:cubicBezTo>
                <a:cubicBezTo>
                  <a:pt x="3874" y="15767"/>
                  <a:pt x="3453" y="16237"/>
                  <a:pt x="3011" y="16765"/>
                </a:cubicBezTo>
                <a:cubicBezTo>
                  <a:pt x="2539" y="17307"/>
                  <a:pt x="2148" y="17892"/>
                  <a:pt x="1847" y="18498"/>
                </a:cubicBezTo>
                <a:cubicBezTo>
                  <a:pt x="1435" y="19325"/>
                  <a:pt x="913" y="21058"/>
                  <a:pt x="913" y="21058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25680" y="3422520"/>
            <a:ext cx="274680" cy="29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95" y="13758"/>
                </a:moveTo>
                <a:cubicBezTo>
                  <a:pt x="1918" y="16482"/>
                  <a:pt x="3979" y="18676"/>
                  <a:pt x="5045" y="19407"/>
                </a:cubicBezTo>
                <a:cubicBezTo>
                  <a:pt x="5826" y="19938"/>
                  <a:pt x="8171" y="21401"/>
                  <a:pt x="10800" y="21534"/>
                </a:cubicBezTo>
                <a:cubicBezTo>
                  <a:pt x="12718" y="21600"/>
                  <a:pt x="14779" y="21401"/>
                  <a:pt x="16342" y="20802"/>
                </a:cubicBezTo>
                <a:cubicBezTo>
                  <a:pt x="17976" y="20071"/>
                  <a:pt x="19611" y="18676"/>
                  <a:pt x="20534" y="17147"/>
                </a:cubicBezTo>
                <a:cubicBezTo>
                  <a:pt x="21600" y="15353"/>
                  <a:pt x="21387" y="12761"/>
                  <a:pt x="20676" y="10634"/>
                </a:cubicBezTo>
                <a:cubicBezTo>
                  <a:pt x="20037" y="9172"/>
                  <a:pt x="18616" y="5383"/>
                  <a:pt x="15418" y="3390"/>
                </a:cubicBezTo>
                <a:cubicBezTo>
                  <a:pt x="13571" y="2260"/>
                  <a:pt x="12576" y="1462"/>
                  <a:pt x="9734" y="731"/>
                </a:cubicBezTo>
                <a:cubicBezTo>
                  <a:pt x="6892" y="0"/>
                  <a:pt x="4334" y="465"/>
                  <a:pt x="2558" y="1994"/>
                </a:cubicBezTo>
                <a:cubicBezTo>
                  <a:pt x="1492" y="2791"/>
                  <a:pt x="853" y="4386"/>
                  <a:pt x="426" y="6580"/>
                </a:cubicBezTo>
                <a:cubicBezTo>
                  <a:pt x="0" y="9438"/>
                  <a:pt x="426" y="12229"/>
                  <a:pt x="995" y="1375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1160" y="5133960"/>
            <a:ext cx="922680" cy="129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81" y="798"/>
                  <a:pt x="18584" y="1626"/>
                  <a:pt x="17149" y="2514"/>
                </a:cubicBezTo>
                <a:cubicBezTo>
                  <a:pt x="15462" y="3522"/>
                  <a:pt x="13859" y="4621"/>
                  <a:pt x="12255" y="5690"/>
                </a:cubicBezTo>
                <a:cubicBezTo>
                  <a:pt x="11138" y="6442"/>
                  <a:pt x="10125" y="7315"/>
                  <a:pt x="9091" y="8173"/>
                </a:cubicBezTo>
                <a:cubicBezTo>
                  <a:pt x="7973" y="9092"/>
                  <a:pt x="5759" y="11380"/>
                  <a:pt x="5759" y="11380"/>
                </a:cubicBezTo>
                <a:cubicBezTo>
                  <a:pt x="5759" y="11380"/>
                  <a:pt x="3038" y="14525"/>
                  <a:pt x="1540" y="17160"/>
                </a:cubicBezTo>
                <a:cubicBezTo>
                  <a:pt x="1118" y="17897"/>
                  <a:pt x="759" y="18680"/>
                  <a:pt x="548" y="19478"/>
                </a:cubicBezTo>
                <a:cubicBezTo>
                  <a:pt x="316" y="20185"/>
                  <a:pt x="148" y="20908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83160" y="4309920"/>
            <a:ext cx="380880" cy="193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21" y="20700"/>
                  <a:pt x="2145" y="19600"/>
                  <a:pt x="2911" y="18400"/>
                </a:cubicBezTo>
                <a:cubicBezTo>
                  <a:pt x="3523" y="17300"/>
                  <a:pt x="4187" y="16200"/>
                  <a:pt x="4596" y="15000"/>
                </a:cubicBezTo>
                <a:cubicBezTo>
                  <a:pt x="5055" y="13900"/>
                  <a:pt x="5566" y="12200"/>
                  <a:pt x="5923" y="10800"/>
                </a:cubicBezTo>
                <a:cubicBezTo>
                  <a:pt x="6332" y="9100"/>
                  <a:pt x="6536" y="7400"/>
                  <a:pt x="6638" y="6300"/>
                </a:cubicBezTo>
                <a:cubicBezTo>
                  <a:pt x="6894" y="4200"/>
                  <a:pt x="6894" y="0"/>
                  <a:pt x="6894" y="0"/>
                </a:cubicBezTo>
                <a:cubicBezTo>
                  <a:pt x="6894" y="0"/>
                  <a:pt x="7302" y="4900"/>
                  <a:pt x="7813" y="7000"/>
                </a:cubicBezTo>
                <a:cubicBezTo>
                  <a:pt x="8374" y="8800"/>
                  <a:pt x="9549" y="11200"/>
                  <a:pt x="10826" y="12500"/>
                </a:cubicBezTo>
                <a:cubicBezTo>
                  <a:pt x="11796" y="13500"/>
                  <a:pt x="13072" y="13900"/>
                  <a:pt x="14094" y="13900"/>
                </a:cubicBezTo>
                <a:cubicBezTo>
                  <a:pt x="15574" y="13900"/>
                  <a:pt x="17106" y="13500"/>
                  <a:pt x="18281" y="12200"/>
                </a:cubicBezTo>
                <a:cubicBezTo>
                  <a:pt x="18689" y="11800"/>
                  <a:pt x="19813" y="11000"/>
                  <a:pt x="20477" y="9300"/>
                </a:cubicBezTo>
                <a:cubicBezTo>
                  <a:pt x="21089" y="7600"/>
                  <a:pt x="21345" y="6300"/>
                  <a:pt x="21447" y="5100"/>
                </a:cubicBezTo>
                <a:cubicBezTo>
                  <a:pt x="21498" y="3400"/>
                  <a:pt x="21600" y="170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2T00:06:01Z</dcterms:created>
  <dc:creator>OfficeHamada</dc:creator>
  <dc:description/>
  <dc:language>en-US</dc:language>
  <cp:lastModifiedBy>OfficeHamada</cp:lastModifiedBy>
  <cp:lastPrinted>2016-03-02T08:11:41Z</cp:lastPrinted>
  <dcterms:modified xsi:type="dcterms:W3CDTF">2016-03-18T13:48:45Z</dcterms:modified>
  <cp:revision>36</cp:revision>
  <dc:subject/>
  <dc:title/>
</cp:coreProperties>
</file>