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127160"/>
            <a:ext cx="5398920" cy="699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2384280" y="1760400"/>
            <a:ext cx="37353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27"/>
                </a:moveTo>
                <a:cubicBezTo>
                  <a:pt x="21600" y="527"/>
                  <a:pt x="21600" y="21574"/>
                  <a:pt x="21600" y="21574"/>
                </a:cubicBezTo>
                <a:cubicBezTo>
                  <a:pt x="21413" y="21508"/>
                  <a:pt x="21225" y="21481"/>
                  <a:pt x="21095" y="21455"/>
                </a:cubicBezTo>
                <a:cubicBezTo>
                  <a:pt x="20898" y="21429"/>
                  <a:pt x="20700" y="21402"/>
                  <a:pt x="20512" y="21376"/>
                </a:cubicBezTo>
                <a:cubicBezTo>
                  <a:pt x="20195" y="21350"/>
                  <a:pt x="19872" y="21402"/>
                  <a:pt x="19565" y="21402"/>
                </a:cubicBezTo>
                <a:cubicBezTo>
                  <a:pt x="19061" y="21429"/>
                  <a:pt x="18556" y="21455"/>
                  <a:pt x="18051" y="21455"/>
                </a:cubicBezTo>
                <a:cubicBezTo>
                  <a:pt x="17500" y="21455"/>
                  <a:pt x="16953" y="21455"/>
                  <a:pt x="16412" y="21455"/>
                </a:cubicBezTo>
                <a:cubicBezTo>
                  <a:pt x="15564" y="21455"/>
                  <a:pt x="14705" y="21429"/>
                  <a:pt x="13862" y="21429"/>
                </a:cubicBezTo>
                <a:cubicBezTo>
                  <a:pt x="12827" y="21455"/>
                  <a:pt x="11796" y="21481"/>
                  <a:pt x="10761" y="21481"/>
                </a:cubicBezTo>
                <a:cubicBezTo>
                  <a:pt x="9085" y="21481"/>
                  <a:pt x="7420" y="21402"/>
                  <a:pt x="5760" y="21455"/>
                </a:cubicBezTo>
                <a:cubicBezTo>
                  <a:pt x="4772" y="21481"/>
                  <a:pt x="3767" y="21574"/>
                  <a:pt x="2779" y="21600"/>
                </a:cubicBezTo>
                <a:cubicBezTo>
                  <a:pt x="2534" y="19927"/>
                  <a:pt x="2253" y="18400"/>
                  <a:pt x="1790" y="17201"/>
                </a:cubicBezTo>
                <a:cubicBezTo>
                  <a:pt x="1910" y="16529"/>
                  <a:pt x="1946" y="15805"/>
                  <a:pt x="1832" y="15067"/>
                </a:cubicBezTo>
                <a:cubicBezTo>
                  <a:pt x="1561" y="13131"/>
                  <a:pt x="859" y="12183"/>
                  <a:pt x="0" y="11577"/>
                </a:cubicBezTo>
                <a:cubicBezTo>
                  <a:pt x="104" y="11406"/>
                  <a:pt x="208" y="11248"/>
                  <a:pt x="281" y="11142"/>
                </a:cubicBezTo>
                <a:cubicBezTo>
                  <a:pt x="385" y="11406"/>
                  <a:pt x="474" y="11669"/>
                  <a:pt x="604" y="11775"/>
                </a:cubicBezTo>
                <a:cubicBezTo>
                  <a:pt x="859" y="11999"/>
                  <a:pt x="1150" y="11801"/>
                  <a:pt x="1421" y="11603"/>
                </a:cubicBezTo>
                <a:cubicBezTo>
                  <a:pt x="1525" y="11524"/>
                  <a:pt x="1712" y="11142"/>
                  <a:pt x="1712" y="11142"/>
                </a:cubicBezTo>
                <a:cubicBezTo>
                  <a:pt x="1712" y="11142"/>
                  <a:pt x="1910" y="11551"/>
                  <a:pt x="2035" y="11577"/>
                </a:cubicBezTo>
                <a:cubicBezTo>
                  <a:pt x="2305" y="11630"/>
                  <a:pt x="2597" y="11274"/>
                  <a:pt x="2831" y="10945"/>
                </a:cubicBezTo>
                <a:cubicBezTo>
                  <a:pt x="2956" y="10774"/>
                  <a:pt x="3075" y="10523"/>
                  <a:pt x="3185" y="10273"/>
                </a:cubicBezTo>
                <a:cubicBezTo>
                  <a:pt x="3273" y="10102"/>
                  <a:pt x="3419" y="9654"/>
                  <a:pt x="3419" y="9654"/>
                </a:cubicBezTo>
                <a:cubicBezTo>
                  <a:pt x="3419" y="9654"/>
                  <a:pt x="3648" y="9944"/>
                  <a:pt x="3778" y="9970"/>
                </a:cubicBezTo>
                <a:cubicBezTo>
                  <a:pt x="3991" y="10023"/>
                  <a:pt x="4210" y="9970"/>
                  <a:pt x="4402" y="9773"/>
                </a:cubicBezTo>
                <a:cubicBezTo>
                  <a:pt x="4616" y="9575"/>
                  <a:pt x="4787" y="9101"/>
                  <a:pt x="4990" y="8719"/>
                </a:cubicBezTo>
                <a:cubicBezTo>
                  <a:pt x="5053" y="8587"/>
                  <a:pt x="5209" y="8232"/>
                  <a:pt x="5209" y="8232"/>
                </a:cubicBezTo>
                <a:cubicBezTo>
                  <a:pt x="5209" y="8232"/>
                  <a:pt x="5505" y="8693"/>
                  <a:pt x="5672" y="8719"/>
                </a:cubicBezTo>
                <a:cubicBezTo>
                  <a:pt x="5911" y="8745"/>
                  <a:pt x="6166" y="8495"/>
                  <a:pt x="6385" y="8166"/>
                </a:cubicBezTo>
                <a:cubicBezTo>
                  <a:pt x="6515" y="7942"/>
                  <a:pt x="6728" y="7428"/>
                  <a:pt x="6822" y="7125"/>
                </a:cubicBezTo>
                <a:cubicBezTo>
                  <a:pt x="6890" y="7204"/>
                  <a:pt x="6957" y="7297"/>
                  <a:pt x="7035" y="7349"/>
                </a:cubicBezTo>
                <a:cubicBezTo>
                  <a:pt x="7217" y="7455"/>
                  <a:pt x="7420" y="7494"/>
                  <a:pt x="7618" y="7494"/>
                </a:cubicBezTo>
                <a:cubicBezTo>
                  <a:pt x="7816" y="7455"/>
                  <a:pt x="8024" y="7323"/>
                  <a:pt x="8232" y="7191"/>
                </a:cubicBezTo>
                <a:cubicBezTo>
                  <a:pt x="8768" y="6822"/>
                  <a:pt x="9309" y="6348"/>
                  <a:pt x="9824" y="5795"/>
                </a:cubicBezTo>
                <a:cubicBezTo>
                  <a:pt x="9918" y="5703"/>
                  <a:pt x="10012" y="5545"/>
                  <a:pt x="10111" y="5598"/>
                </a:cubicBezTo>
                <a:cubicBezTo>
                  <a:pt x="10287" y="5677"/>
                  <a:pt x="10386" y="6230"/>
                  <a:pt x="10558" y="6348"/>
                </a:cubicBezTo>
                <a:cubicBezTo>
                  <a:pt x="10813" y="6480"/>
                  <a:pt x="11104" y="6322"/>
                  <a:pt x="11339" y="6032"/>
                </a:cubicBezTo>
                <a:cubicBezTo>
                  <a:pt x="11505" y="5848"/>
                  <a:pt x="11640" y="5598"/>
                  <a:pt x="11786" y="5229"/>
                </a:cubicBezTo>
                <a:cubicBezTo>
                  <a:pt x="11901" y="4926"/>
                  <a:pt x="12015" y="4452"/>
                  <a:pt x="12114" y="3951"/>
                </a:cubicBezTo>
                <a:cubicBezTo>
                  <a:pt x="12348" y="4149"/>
                  <a:pt x="12587" y="4241"/>
                  <a:pt x="12837" y="4175"/>
                </a:cubicBezTo>
                <a:cubicBezTo>
                  <a:pt x="13051" y="4122"/>
                  <a:pt x="13373" y="3925"/>
                  <a:pt x="13654" y="3503"/>
                </a:cubicBezTo>
                <a:cubicBezTo>
                  <a:pt x="13795" y="3280"/>
                  <a:pt x="13894" y="2766"/>
                  <a:pt x="14070" y="2621"/>
                </a:cubicBezTo>
                <a:cubicBezTo>
                  <a:pt x="14190" y="2502"/>
                  <a:pt x="14346" y="2792"/>
                  <a:pt x="14487" y="2766"/>
                </a:cubicBezTo>
                <a:cubicBezTo>
                  <a:pt x="14674" y="2700"/>
                  <a:pt x="14872" y="2529"/>
                  <a:pt x="15038" y="2265"/>
                </a:cubicBezTo>
                <a:cubicBezTo>
                  <a:pt x="15090" y="2173"/>
                  <a:pt x="15127" y="2041"/>
                  <a:pt x="15168" y="1897"/>
                </a:cubicBezTo>
                <a:cubicBezTo>
                  <a:pt x="15241" y="1976"/>
                  <a:pt x="15314" y="2068"/>
                  <a:pt x="15392" y="2120"/>
                </a:cubicBezTo>
                <a:cubicBezTo>
                  <a:pt x="15512" y="2200"/>
                  <a:pt x="15642" y="2173"/>
                  <a:pt x="15777" y="2200"/>
                </a:cubicBezTo>
                <a:cubicBezTo>
                  <a:pt x="15928" y="2239"/>
                  <a:pt x="16095" y="2239"/>
                  <a:pt x="16251" y="2173"/>
                </a:cubicBezTo>
                <a:cubicBezTo>
                  <a:pt x="16412" y="2081"/>
                  <a:pt x="16620" y="2068"/>
                  <a:pt x="16709" y="1699"/>
                </a:cubicBezTo>
                <a:cubicBezTo>
                  <a:pt x="16740" y="1594"/>
                  <a:pt x="16729" y="1488"/>
                  <a:pt x="16729" y="1343"/>
                </a:cubicBezTo>
                <a:cubicBezTo>
                  <a:pt x="16818" y="1304"/>
                  <a:pt x="16906" y="1291"/>
                  <a:pt x="16995" y="1264"/>
                </a:cubicBezTo>
                <a:cubicBezTo>
                  <a:pt x="17135" y="1199"/>
                  <a:pt x="17291" y="1172"/>
                  <a:pt x="17432" y="1067"/>
                </a:cubicBezTo>
                <a:cubicBezTo>
                  <a:pt x="17583" y="948"/>
                  <a:pt x="17734" y="751"/>
                  <a:pt x="17874" y="553"/>
                </a:cubicBezTo>
                <a:cubicBezTo>
                  <a:pt x="17952" y="448"/>
                  <a:pt x="18030" y="303"/>
                  <a:pt x="18103" y="171"/>
                </a:cubicBezTo>
                <a:cubicBezTo>
                  <a:pt x="18134" y="105"/>
                  <a:pt x="18192" y="66"/>
                  <a:pt x="18223" y="0"/>
                </a:cubicBezTo>
                <a:cubicBezTo>
                  <a:pt x="18291" y="171"/>
                  <a:pt x="18348" y="303"/>
                  <a:pt x="18410" y="448"/>
                </a:cubicBezTo>
                <a:cubicBezTo>
                  <a:pt x="18519" y="685"/>
                  <a:pt x="18655" y="869"/>
                  <a:pt x="18795" y="975"/>
                </a:cubicBezTo>
                <a:cubicBezTo>
                  <a:pt x="18910" y="1067"/>
                  <a:pt x="19014" y="1120"/>
                  <a:pt x="19128" y="1146"/>
                </a:cubicBezTo>
                <a:cubicBezTo>
                  <a:pt x="19258" y="1172"/>
                  <a:pt x="19399" y="1199"/>
                  <a:pt x="19534" y="1172"/>
                </a:cubicBezTo>
                <a:cubicBezTo>
                  <a:pt x="19706" y="1146"/>
                  <a:pt x="19883" y="1067"/>
                  <a:pt x="20065" y="1014"/>
                </a:cubicBezTo>
                <a:cubicBezTo>
                  <a:pt x="20127" y="975"/>
                  <a:pt x="20205" y="948"/>
                  <a:pt x="20283" y="869"/>
                </a:cubicBezTo>
                <a:cubicBezTo>
                  <a:pt x="20325" y="817"/>
                  <a:pt x="20372" y="724"/>
                  <a:pt x="20414" y="685"/>
                </a:cubicBezTo>
                <a:cubicBezTo>
                  <a:pt x="20471" y="619"/>
                  <a:pt x="20549" y="395"/>
                  <a:pt x="20601" y="487"/>
                </a:cubicBezTo>
                <a:cubicBezTo>
                  <a:pt x="20653" y="553"/>
                  <a:pt x="20591" y="896"/>
                  <a:pt x="20653" y="1040"/>
                </a:cubicBezTo>
                <a:cubicBezTo>
                  <a:pt x="20731" y="1199"/>
                  <a:pt x="20861" y="1172"/>
                  <a:pt x="20976" y="1172"/>
                </a:cubicBezTo>
                <a:cubicBezTo>
                  <a:pt x="21048" y="1172"/>
                  <a:pt x="21137" y="1120"/>
                  <a:pt x="21225" y="1040"/>
                </a:cubicBezTo>
                <a:cubicBezTo>
                  <a:pt x="21303" y="948"/>
                  <a:pt x="21371" y="817"/>
                  <a:pt x="21444" y="698"/>
                </a:cubicBezTo>
                <a:cubicBezTo>
                  <a:pt x="21501" y="645"/>
                  <a:pt x="21548" y="593"/>
                  <a:pt x="21600" y="527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2160" y="2550960"/>
            <a:ext cx="1998720" cy="94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" y="8553"/>
                </a:moveTo>
                <a:cubicBezTo>
                  <a:pt x="477" y="8718"/>
                  <a:pt x="963" y="8595"/>
                  <a:pt x="1371" y="8244"/>
                </a:cubicBezTo>
                <a:cubicBezTo>
                  <a:pt x="1507" y="8141"/>
                  <a:pt x="1702" y="7626"/>
                  <a:pt x="1702" y="7626"/>
                </a:cubicBezTo>
                <a:cubicBezTo>
                  <a:pt x="1702" y="7626"/>
                  <a:pt x="2110" y="8615"/>
                  <a:pt x="2422" y="8904"/>
                </a:cubicBezTo>
                <a:cubicBezTo>
                  <a:pt x="2801" y="9192"/>
                  <a:pt x="3229" y="9234"/>
                  <a:pt x="3618" y="9069"/>
                </a:cubicBezTo>
                <a:cubicBezTo>
                  <a:pt x="4046" y="8842"/>
                  <a:pt x="4435" y="8306"/>
                  <a:pt x="4785" y="7750"/>
                </a:cubicBezTo>
                <a:cubicBezTo>
                  <a:pt x="5116" y="7234"/>
                  <a:pt x="5310" y="6266"/>
                  <a:pt x="5670" y="5915"/>
                </a:cubicBezTo>
                <a:cubicBezTo>
                  <a:pt x="5942" y="5709"/>
                  <a:pt x="6244" y="5833"/>
                  <a:pt x="6535" y="5833"/>
                </a:cubicBezTo>
                <a:cubicBezTo>
                  <a:pt x="6847" y="5833"/>
                  <a:pt x="7177" y="6060"/>
                  <a:pt x="7498" y="6060"/>
                </a:cubicBezTo>
                <a:cubicBezTo>
                  <a:pt x="7790" y="6060"/>
                  <a:pt x="8111" y="5977"/>
                  <a:pt x="8403" y="5709"/>
                </a:cubicBezTo>
                <a:cubicBezTo>
                  <a:pt x="8879" y="5276"/>
                  <a:pt x="9083" y="4885"/>
                  <a:pt x="9541" y="4349"/>
                </a:cubicBezTo>
                <a:cubicBezTo>
                  <a:pt x="9764" y="4102"/>
                  <a:pt x="10406" y="3009"/>
                  <a:pt x="10406" y="3009"/>
                </a:cubicBezTo>
                <a:cubicBezTo>
                  <a:pt x="10406" y="3009"/>
                  <a:pt x="11262" y="3834"/>
                  <a:pt x="11729" y="4040"/>
                </a:cubicBezTo>
                <a:cubicBezTo>
                  <a:pt x="12273" y="4308"/>
                  <a:pt x="12867" y="4534"/>
                  <a:pt x="13440" y="4493"/>
                </a:cubicBezTo>
                <a:cubicBezTo>
                  <a:pt x="14034" y="4452"/>
                  <a:pt x="14646" y="4143"/>
                  <a:pt x="15191" y="3648"/>
                </a:cubicBezTo>
                <a:cubicBezTo>
                  <a:pt x="15658" y="3236"/>
                  <a:pt x="16076" y="2535"/>
                  <a:pt x="16484" y="1834"/>
                </a:cubicBezTo>
                <a:cubicBezTo>
                  <a:pt x="16562" y="1669"/>
                  <a:pt x="16650" y="1443"/>
                  <a:pt x="16728" y="1216"/>
                </a:cubicBezTo>
                <a:cubicBezTo>
                  <a:pt x="16767" y="1092"/>
                  <a:pt x="16815" y="907"/>
                  <a:pt x="16844" y="742"/>
                </a:cubicBezTo>
                <a:cubicBezTo>
                  <a:pt x="17029" y="701"/>
                  <a:pt x="17175" y="701"/>
                  <a:pt x="17301" y="598"/>
                </a:cubicBezTo>
                <a:cubicBezTo>
                  <a:pt x="17467" y="536"/>
                  <a:pt x="17710" y="247"/>
                  <a:pt x="17943" y="0"/>
                </a:cubicBezTo>
                <a:cubicBezTo>
                  <a:pt x="19538" y="948"/>
                  <a:pt x="20880" y="2432"/>
                  <a:pt x="21386" y="5462"/>
                </a:cubicBezTo>
                <a:cubicBezTo>
                  <a:pt x="21600" y="6616"/>
                  <a:pt x="21551" y="7750"/>
                  <a:pt x="21328" y="8801"/>
                </a:cubicBezTo>
                <a:cubicBezTo>
                  <a:pt x="21289" y="8656"/>
                  <a:pt x="21221" y="8553"/>
                  <a:pt x="21162" y="8450"/>
                </a:cubicBezTo>
                <a:cubicBezTo>
                  <a:pt x="20696" y="7482"/>
                  <a:pt x="19898" y="9357"/>
                  <a:pt x="19237" y="9419"/>
                </a:cubicBezTo>
                <a:cubicBezTo>
                  <a:pt x="16562" y="9522"/>
                  <a:pt x="13868" y="8141"/>
                  <a:pt x="11223" y="8924"/>
                </a:cubicBezTo>
                <a:cubicBezTo>
                  <a:pt x="9327" y="9502"/>
                  <a:pt x="7537" y="11356"/>
                  <a:pt x="5884" y="13315"/>
                </a:cubicBezTo>
                <a:cubicBezTo>
                  <a:pt x="3822" y="15767"/>
                  <a:pt x="1896" y="18632"/>
                  <a:pt x="0" y="21600"/>
                </a:cubicBezTo>
                <a:cubicBezTo>
                  <a:pt x="0" y="21600"/>
                  <a:pt x="49" y="8553"/>
                  <a:pt x="49" y="855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0720" y="2878200"/>
            <a:ext cx="2625840" cy="24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113"/>
                </a:moveTo>
                <a:cubicBezTo>
                  <a:pt x="0" y="17113"/>
                  <a:pt x="0" y="5332"/>
                  <a:pt x="0" y="5332"/>
                </a:cubicBezTo>
                <a:cubicBezTo>
                  <a:pt x="1436" y="4214"/>
                  <a:pt x="2924" y="3143"/>
                  <a:pt x="4493" y="2212"/>
                </a:cubicBezTo>
                <a:cubicBezTo>
                  <a:pt x="5752" y="1470"/>
                  <a:pt x="7114" y="766"/>
                  <a:pt x="8557" y="547"/>
                </a:cubicBezTo>
                <a:cubicBezTo>
                  <a:pt x="10571" y="250"/>
                  <a:pt x="12621" y="774"/>
                  <a:pt x="14657" y="735"/>
                </a:cubicBezTo>
                <a:cubicBezTo>
                  <a:pt x="15160" y="711"/>
                  <a:pt x="15767" y="0"/>
                  <a:pt x="16122" y="367"/>
                </a:cubicBezTo>
                <a:cubicBezTo>
                  <a:pt x="16167" y="407"/>
                  <a:pt x="16204" y="446"/>
                  <a:pt x="16233" y="500"/>
                </a:cubicBezTo>
                <a:cubicBezTo>
                  <a:pt x="16892" y="1212"/>
                  <a:pt x="17292" y="2134"/>
                  <a:pt x="17640" y="3119"/>
                </a:cubicBezTo>
                <a:cubicBezTo>
                  <a:pt x="18950" y="3111"/>
                  <a:pt x="20282" y="3041"/>
                  <a:pt x="21600" y="3025"/>
                </a:cubicBezTo>
                <a:cubicBezTo>
                  <a:pt x="21445" y="3190"/>
                  <a:pt x="21297" y="3354"/>
                  <a:pt x="21148" y="3518"/>
                </a:cubicBezTo>
                <a:cubicBezTo>
                  <a:pt x="20608" y="4096"/>
                  <a:pt x="20149" y="4730"/>
                  <a:pt x="19675" y="5371"/>
                </a:cubicBezTo>
                <a:cubicBezTo>
                  <a:pt x="18950" y="6348"/>
                  <a:pt x="18091" y="7239"/>
                  <a:pt x="17595" y="8365"/>
                </a:cubicBezTo>
                <a:cubicBezTo>
                  <a:pt x="17314" y="8982"/>
                  <a:pt x="17403" y="9749"/>
                  <a:pt x="17418" y="10444"/>
                </a:cubicBezTo>
                <a:cubicBezTo>
                  <a:pt x="17440" y="11578"/>
                  <a:pt x="18469" y="13055"/>
                  <a:pt x="17706" y="13845"/>
                </a:cubicBezTo>
                <a:cubicBezTo>
                  <a:pt x="16840" y="14736"/>
                  <a:pt x="15138" y="13266"/>
                  <a:pt x="14087" y="13907"/>
                </a:cubicBezTo>
                <a:cubicBezTo>
                  <a:pt x="10904" y="15862"/>
                  <a:pt x="9164" y="20810"/>
                  <a:pt x="5500" y="21311"/>
                </a:cubicBezTo>
                <a:cubicBezTo>
                  <a:pt x="3235" y="21600"/>
                  <a:pt x="1688" y="19059"/>
                  <a:pt x="0" y="17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153040" y="2048040"/>
            <a:ext cx="968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69" y="16567"/>
                  <a:pt x="7530" y="19083"/>
                </a:cubicBezTo>
                <a:cubicBezTo>
                  <a:pt x="10899" y="20761"/>
                  <a:pt x="18033" y="21600"/>
                  <a:pt x="19222" y="16567"/>
                </a:cubicBezTo>
                <a:cubicBezTo>
                  <a:pt x="21600" y="12373"/>
                  <a:pt x="17042" y="2517"/>
                  <a:pt x="10899" y="629"/>
                </a:cubicBezTo>
                <a:cubicBezTo>
                  <a:pt x="6341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638680" y="188748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69" y="16615"/>
                  <a:pt x="7332" y="18900"/>
                </a:cubicBezTo>
                <a:cubicBezTo>
                  <a:pt x="10701" y="20562"/>
                  <a:pt x="18033" y="21600"/>
                  <a:pt x="19222" y="16615"/>
                </a:cubicBezTo>
                <a:cubicBezTo>
                  <a:pt x="21600" y="12462"/>
                  <a:pt x="17042" y="2700"/>
                  <a:pt x="10701" y="831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32640" y="20113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887"/>
                  <a:pt x="20633" y="11389"/>
                </a:cubicBezTo>
                <a:cubicBezTo>
                  <a:pt x="20633" y="5891"/>
                  <a:pt x="11606" y="0"/>
                  <a:pt x="6125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8320" y="19447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8840" y="19782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353" y="2749"/>
                </a:cubicBezTo>
                <a:cubicBezTo>
                  <a:pt x="1906" y="5105"/>
                  <a:pt x="0" y="14531"/>
                  <a:pt x="2541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88080" y="2251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00"/>
                  <a:pt x="21600" y="16800"/>
                  <a:pt x="19988" y="11600"/>
                </a:cubicBezTo>
                <a:cubicBezTo>
                  <a:pt x="19988" y="6000"/>
                  <a:pt x="11284" y="0"/>
                  <a:pt x="5803" y="24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07200" y="2103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29"/>
                  <a:pt x="21600" y="16586"/>
                  <a:pt x="20633" y="11571"/>
                </a:cubicBezTo>
                <a:cubicBezTo>
                  <a:pt x="20633" y="5786"/>
                  <a:pt x="11284" y="0"/>
                  <a:pt x="6125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59360" y="19000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389"/>
                </a:cubicBezTo>
                <a:cubicBezTo>
                  <a:pt x="20329" y="5891"/>
                  <a:pt x="11753" y="0"/>
                  <a:pt x="6353" y="2356"/>
                </a:cubicBezTo>
                <a:cubicBezTo>
                  <a:pt x="2224" y="4713"/>
                  <a:pt x="0" y="13745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64120" y="19843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356"/>
                </a:cubicBezTo>
                <a:cubicBezTo>
                  <a:pt x="1934" y="5105"/>
                  <a:pt x="0" y="13745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4880" y="187020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00"/>
                  <a:pt x="21600" y="16800"/>
                  <a:pt x="19988" y="11600"/>
                </a:cubicBezTo>
                <a:cubicBezTo>
                  <a:pt x="19988" y="6000"/>
                  <a:pt x="11284" y="0"/>
                  <a:pt x="5803" y="28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92880" y="181116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1160" y="1946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192096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389"/>
                </a:cubicBezTo>
                <a:cubicBezTo>
                  <a:pt x="20310" y="5498"/>
                  <a:pt x="11284" y="0"/>
                  <a:pt x="6125" y="2356"/>
                </a:cubicBezTo>
                <a:cubicBezTo>
                  <a:pt x="1934" y="4713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91120" y="19350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12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8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64040" y="20509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0066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22"/>
                  <a:pt x="21600" y="16495"/>
                  <a:pt x="20633" y="11782"/>
                </a:cubicBezTo>
                <a:cubicBezTo>
                  <a:pt x="20633" y="5891"/>
                  <a:pt x="11284" y="0"/>
                  <a:pt x="6125" y="2356"/>
                </a:cubicBezTo>
                <a:cubicBezTo>
                  <a:pt x="1934" y="5105"/>
                  <a:pt x="0" y="13745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4880" y="21034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29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400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00520" y="20430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0240" y="21463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64080" y="21654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8680" y="2216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388" y="21600"/>
                </a:cubicBezTo>
                <a:cubicBezTo>
                  <a:pt x="15565" y="21207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89480" y="230832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29"/>
                  <a:pt x="21600" y="16971"/>
                  <a:pt x="20329" y="11571"/>
                </a:cubicBezTo>
                <a:cubicBezTo>
                  <a:pt x="20329" y="5786"/>
                  <a:pt x="11753" y="0"/>
                  <a:pt x="6353" y="2700"/>
                </a:cubicBezTo>
                <a:cubicBezTo>
                  <a:pt x="2224" y="5400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7040" y="22017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900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29"/>
                  <a:pt x="21600" y="16200"/>
                  <a:pt x="20035" y="11571"/>
                </a:cubicBezTo>
                <a:cubicBezTo>
                  <a:pt x="20035" y="5786"/>
                  <a:pt x="11583" y="0"/>
                  <a:pt x="6261" y="2700"/>
                </a:cubicBezTo>
                <a:cubicBezTo>
                  <a:pt x="2191" y="5014"/>
                  <a:pt x="0" y="14271"/>
                  <a:pt x="2817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83200" y="24303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887"/>
                  <a:pt x="19988" y="11389"/>
                </a:cubicBezTo>
                <a:cubicBezTo>
                  <a:pt x="19988" y="5498"/>
                  <a:pt x="11284" y="0"/>
                  <a:pt x="5803" y="2356"/>
                </a:cubicBezTo>
                <a:cubicBezTo>
                  <a:pt x="1612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54400" y="22813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33880" y="2297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200"/>
                  <a:pt x="20329" y="11186"/>
                </a:cubicBezTo>
                <a:cubicBezTo>
                  <a:pt x="20329" y="5786"/>
                  <a:pt x="11753" y="0"/>
                  <a:pt x="6353" y="2700"/>
                </a:cubicBezTo>
                <a:cubicBezTo>
                  <a:pt x="2224" y="4629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07040" y="236232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851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15"/>
                  <a:pt x="21600" y="16887"/>
                  <a:pt x="20035" y="11389"/>
                </a:cubicBezTo>
                <a:cubicBezTo>
                  <a:pt x="20035" y="5498"/>
                  <a:pt x="11583" y="0"/>
                  <a:pt x="6261" y="2356"/>
                </a:cubicBezTo>
                <a:cubicBezTo>
                  <a:pt x="2191" y="5105"/>
                  <a:pt x="0" y="14138"/>
                  <a:pt x="2817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35640" y="229860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1207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2560" y="21366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1200"/>
                  <a:pt x="21600" y="16800"/>
                  <a:pt x="20633" y="11600"/>
                </a:cubicBezTo>
                <a:cubicBezTo>
                  <a:pt x="20633" y="5600"/>
                  <a:pt x="11284" y="0"/>
                  <a:pt x="6125" y="2400"/>
                </a:cubicBezTo>
                <a:cubicBezTo>
                  <a:pt x="1934" y="4800"/>
                  <a:pt x="0" y="144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7840" y="22017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29"/>
                  <a:pt x="21600" y="16200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612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2560" y="19335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29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20970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541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59480" y="203364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606" y="0"/>
                  <a:pt x="5803" y="2000"/>
                </a:cubicBezTo>
                <a:cubicBezTo>
                  <a:pt x="1934" y="4800"/>
                  <a:pt x="0" y="140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1080" y="1887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56160" y="191772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29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1880" y="3189240"/>
            <a:ext cx="1000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800" y="20761"/>
                  <a:pt x="17869" y="21600"/>
                  <a:pt x="19047" y="16777"/>
                </a:cubicBezTo>
                <a:cubicBezTo>
                  <a:pt x="21600" y="12373"/>
                  <a:pt x="17084" y="2517"/>
                  <a:pt x="10800" y="83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52840" y="2806560"/>
            <a:ext cx="98280" cy="9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615"/>
                  <a:pt x="7265" y="18900"/>
                </a:cubicBezTo>
                <a:cubicBezTo>
                  <a:pt x="10604" y="20769"/>
                  <a:pt x="17673" y="21600"/>
                  <a:pt x="18851" y="16615"/>
                </a:cubicBezTo>
                <a:cubicBezTo>
                  <a:pt x="21600" y="12254"/>
                  <a:pt x="16887" y="2700"/>
                  <a:pt x="10604" y="831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9040" y="265896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604" y="20769"/>
                  <a:pt x="17869" y="21600"/>
                  <a:pt x="19047" y="16823"/>
                </a:cubicBezTo>
                <a:cubicBezTo>
                  <a:pt x="21600" y="12254"/>
                  <a:pt x="16887" y="2700"/>
                  <a:pt x="10604" y="1038"/>
                </a:cubicBezTo>
                <a:cubicBezTo>
                  <a:pt x="6284" y="0"/>
                  <a:pt x="0" y="5815"/>
                  <a:pt x="0" y="1163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66920" y="275112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69" y="16615"/>
                  <a:pt x="7530" y="18692"/>
                </a:cubicBezTo>
                <a:cubicBezTo>
                  <a:pt x="10899" y="20562"/>
                  <a:pt x="18033" y="21600"/>
                  <a:pt x="19222" y="16615"/>
                </a:cubicBezTo>
                <a:cubicBezTo>
                  <a:pt x="21600" y="12462"/>
                  <a:pt x="17240" y="2700"/>
                  <a:pt x="10899" y="831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82840" y="2960640"/>
            <a:ext cx="982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823"/>
                  <a:pt x="7265" y="18900"/>
                </a:cubicBezTo>
                <a:cubicBezTo>
                  <a:pt x="10604" y="20562"/>
                  <a:pt x="17673" y="21600"/>
                  <a:pt x="18851" y="16823"/>
                </a:cubicBezTo>
                <a:cubicBezTo>
                  <a:pt x="21600" y="12254"/>
                  <a:pt x="16887" y="2700"/>
                  <a:pt x="10604" y="1038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39760" y="3121200"/>
            <a:ext cx="100080" cy="9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800" y="20761"/>
                  <a:pt x="17869" y="21600"/>
                  <a:pt x="19047" y="16777"/>
                </a:cubicBezTo>
                <a:cubicBezTo>
                  <a:pt x="21600" y="12373"/>
                  <a:pt x="16887" y="2517"/>
                  <a:pt x="10800" y="839"/>
                </a:cubicBezTo>
                <a:cubicBezTo>
                  <a:pt x="6284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4640" y="2921040"/>
            <a:ext cx="96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69" y="16986"/>
                  <a:pt x="7332" y="19083"/>
                </a:cubicBezTo>
                <a:cubicBezTo>
                  <a:pt x="10701" y="20761"/>
                  <a:pt x="18033" y="21600"/>
                  <a:pt x="19024" y="16986"/>
                </a:cubicBezTo>
                <a:cubicBezTo>
                  <a:pt x="21600" y="12373"/>
                  <a:pt x="17042" y="2726"/>
                  <a:pt x="10701" y="1049"/>
                </a:cubicBezTo>
                <a:cubicBezTo>
                  <a:pt x="6341" y="0"/>
                  <a:pt x="0" y="5662"/>
                  <a:pt x="0" y="1153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4080" y="2809800"/>
            <a:ext cx="982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171" y="16823"/>
                  <a:pt x="7332" y="18900"/>
                </a:cubicBezTo>
                <a:cubicBezTo>
                  <a:pt x="10701" y="20769"/>
                  <a:pt x="17835" y="21600"/>
                  <a:pt x="19024" y="16823"/>
                </a:cubicBezTo>
                <a:cubicBezTo>
                  <a:pt x="21600" y="12254"/>
                  <a:pt x="17042" y="2700"/>
                  <a:pt x="10701" y="1038"/>
                </a:cubicBezTo>
                <a:cubicBezTo>
                  <a:pt x="6143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27400" y="242424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08" y="16777"/>
                  <a:pt x="7589" y="19083"/>
                </a:cubicBezTo>
                <a:cubicBezTo>
                  <a:pt x="10897" y="20761"/>
                  <a:pt x="17708" y="21600"/>
                  <a:pt x="19070" y="16777"/>
                </a:cubicBezTo>
                <a:cubicBezTo>
                  <a:pt x="21600" y="12373"/>
                  <a:pt x="16930" y="2517"/>
                  <a:pt x="10897" y="839"/>
                </a:cubicBezTo>
                <a:cubicBezTo>
                  <a:pt x="6227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6920" y="274320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69" y="16823"/>
                  <a:pt x="7530" y="18900"/>
                </a:cubicBezTo>
                <a:cubicBezTo>
                  <a:pt x="10899" y="20562"/>
                  <a:pt x="18033" y="21600"/>
                  <a:pt x="19222" y="16823"/>
                </a:cubicBezTo>
                <a:cubicBezTo>
                  <a:pt x="21600" y="12462"/>
                  <a:pt x="17240" y="2700"/>
                  <a:pt x="10899" y="1038"/>
                </a:cubicBezTo>
                <a:cubicBezTo>
                  <a:pt x="6341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48160" y="23954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6160" y="24415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851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3745"/>
                  <a:pt x="2541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35160" y="2508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3745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8200" y="26067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3240" y="26272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8851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422"/>
                  <a:pt x="21600" y="16495"/>
                  <a:pt x="20035" y="11782"/>
                </a:cubicBezTo>
                <a:cubicBezTo>
                  <a:pt x="20035" y="5891"/>
                  <a:pt x="11583" y="0"/>
                  <a:pt x="6261" y="2356"/>
                </a:cubicBezTo>
                <a:cubicBezTo>
                  <a:pt x="2191" y="5105"/>
                  <a:pt x="0" y="13745"/>
                  <a:pt x="2817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51080" y="26114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448" y="24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26938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753" y="0"/>
                  <a:pt x="6353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68560" y="28670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35360" y="28749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43"/>
                  <a:pt x="21600" y="16586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33760" y="26845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389"/>
                </a:cubicBezTo>
                <a:cubicBezTo>
                  <a:pt x="20329" y="5498"/>
                  <a:pt x="11753" y="0"/>
                  <a:pt x="6353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1560" y="27352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753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00400" y="26416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89320" y="25844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46240" y="29797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22"/>
                  <a:pt x="21600" y="16495"/>
                  <a:pt x="20310" y="11389"/>
                </a:cubicBezTo>
                <a:cubicBezTo>
                  <a:pt x="20310" y="5891"/>
                  <a:pt x="11284" y="0"/>
                  <a:pt x="6125" y="2356"/>
                </a:cubicBezTo>
                <a:cubicBezTo>
                  <a:pt x="1612" y="4713"/>
                  <a:pt x="0" y="13745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4880" y="279252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443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934" y="5400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9360" y="27813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389"/>
                </a:cubicBezTo>
                <a:cubicBezTo>
                  <a:pt x="20633" y="5498"/>
                  <a:pt x="11928" y="0"/>
                  <a:pt x="6448" y="2356"/>
                </a:cubicBezTo>
                <a:cubicBezTo>
                  <a:pt x="2257" y="4713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6040" y="2801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851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541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28760" y="28386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606" y="0"/>
                  <a:pt x="6125" y="2749"/>
                </a:cubicBezTo>
                <a:cubicBezTo>
                  <a:pt x="2257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08240" y="293220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1200"/>
                  <a:pt x="21600" y="16800"/>
                  <a:pt x="20310" y="11600"/>
                </a:cubicBezTo>
                <a:cubicBezTo>
                  <a:pt x="20310" y="5600"/>
                  <a:pt x="11606" y="0"/>
                  <a:pt x="6125" y="2400"/>
                </a:cubicBezTo>
                <a:cubicBezTo>
                  <a:pt x="1934" y="4800"/>
                  <a:pt x="0" y="144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4920" y="2859120"/>
            <a:ext cx="982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38" y="16567"/>
                  <a:pt x="7462" y="19083"/>
                </a:cubicBezTo>
                <a:cubicBezTo>
                  <a:pt x="10604" y="20761"/>
                  <a:pt x="17869" y="21600"/>
                  <a:pt x="19047" y="16567"/>
                </a:cubicBezTo>
                <a:cubicBezTo>
                  <a:pt x="21600" y="12373"/>
                  <a:pt x="16887" y="2517"/>
                  <a:pt x="10604" y="62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17720" y="3270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6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400"/>
                </a:cubicBezTo>
                <a:cubicBezTo>
                  <a:pt x="1906" y="4800"/>
                  <a:pt x="0" y="14400"/>
                  <a:pt x="2541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31760" y="334332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7920" y="3348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4160" y="31748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1480" y="3056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6560" y="296712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29"/>
                  <a:pt x="21600" y="16586"/>
                  <a:pt x="20633" y="11571"/>
                </a:cubicBezTo>
                <a:cubicBezTo>
                  <a:pt x="20633" y="5786"/>
                  <a:pt x="11606" y="0"/>
                  <a:pt x="6125" y="2700"/>
                </a:cubicBezTo>
                <a:cubicBezTo>
                  <a:pt x="1934" y="5400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61960" y="28479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29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86000" y="309420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01760" y="333360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3232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284" y="0"/>
                  <a:pt x="5803" y="20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38320" y="3263760"/>
            <a:ext cx="619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2224" y="4800"/>
                  <a:pt x="0" y="14000"/>
                  <a:pt x="2541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35449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35798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44"/>
                </a:moveTo>
                <a:cubicBezTo>
                  <a:pt x="4383" y="21600"/>
                  <a:pt x="8452" y="21600"/>
                  <a:pt x="12209" y="21600"/>
                </a:cubicBezTo>
                <a:cubicBezTo>
                  <a:pt x="15339" y="20422"/>
                  <a:pt x="21600" y="16495"/>
                  <a:pt x="20035" y="11782"/>
                </a:cubicBezTo>
                <a:cubicBezTo>
                  <a:pt x="20035" y="5891"/>
                  <a:pt x="11583" y="0"/>
                  <a:pt x="6261" y="2749"/>
                </a:cubicBezTo>
                <a:cubicBezTo>
                  <a:pt x="2191" y="5105"/>
                  <a:pt x="0" y="14138"/>
                  <a:pt x="2817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1560" y="36957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887"/>
                  <a:pt x="20633" y="11389"/>
                </a:cubicBezTo>
                <a:cubicBezTo>
                  <a:pt x="20633" y="5498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" y="36846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43"/>
                  <a:pt x="21600" y="16200"/>
                  <a:pt x="20633" y="11571"/>
                </a:cubicBezTo>
                <a:cubicBezTo>
                  <a:pt x="20633" y="5786"/>
                  <a:pt x="11606" y="0"/>
                  <a:pt x="6448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9160" y="37749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586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400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7040" y="3930480"/>
            <a:ext cx="619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600"/>
                </a:moveTo>
                <a:cubicBezTo>
                  <a:pt x="4070" y="21600"/>
                  <a:pt x="8139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5600"/>
                  <a:pt x="11583" y="0"/>
                  <a:pt x="6261" y="2400"/>
                </a:cubicBezTo>
                <a:cubicBezTo>
                  <a:pt x="2191" y="4800"/>
                  <a:pt x="0" y="14400"/>
                  <a:pt x="2817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000" y="37879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00"/>
                  <a:pt x="21600" y="16800"/>
                  <a:pt x="19988" y="11600"/>
                </a:cubicBezTo>
                <a:cubicBezTo>
                  <a:pt x="19988" y="5600"/>
                  <a:pt x="11284" y="0"/>
                  <a:pt x="5803" y="2000"/>
                </a:cubicBezTo>
                <a:cubicBezTo>
                  <a:pt x="1612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7280" y="400356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08" y="16615"/>
                  <a:pt x="7589" y="18692"/>
                </a:cubicBezTo>
                <a:cubicBezTo>
                  <a:pt x="10897" y="20562"/>
                  <a:pt x="17708" y="21600"/>
                  <a:pt x="19070" y="16615"/>
                </a:cubicBezTo>
                <a:cubicBezTo>
                  <a:pt x="21600" y="12462"/>
                  <a:pt x="17124" y="2700"/>
                  <a:pt x="10897" y="831"/>
                </a:cubicBezTo>
                <a:cubicBezTo>
                  <a:pt x="6227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2520" y="399888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6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400"/>
                  <a:pt x="2817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96760" y="398448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6960" y="4116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498"/>
                  <a:pt x="11284" y="0"/>
                  <a:pt x="5803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6760" y="4253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12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8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8200" y="43624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887"/>
                  <a:pt x="19988" y="11782"/>
                </a:cubicBezTo>
                <a:cubicBezTo>
                  <a:pt x="19988" y="5891"/>
                  <a:pt x="11284" y="0"/>
                  <a:pt x="5803" y="2356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2080" y="43545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4720" y="48038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1207"/>
                  <a:pt x="21600" y="16495"/>
                  <a:pt x="20633" y="11782"/>
                </a:cubicBezTo>
                <a:cubicBezTo>
                  <a:pt x="20633" y="5891"/>
                  <a:pt x="11928" y="0"/>
                  <a:pt x="6448" y="2749"/>
                </a:cubicBezTo>
                <a:cubicBezTo>
                  <a:pt x="2257" y="5105"/>
                  <a:pt x="0" y="14531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2640" y="4676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753" y="0"/>
                  <a:pt x="6353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6520" y="4246560"/>
            <a:ext cx="9828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38" y="16567"/>
                  <a:pt x="7462" y="19083"/>
                </a:cubicBezTo>
                <a:cubicBezTo>
                  <a:pt x="10800" y="20761"/>
                  <a:pt x="17673" y="21600"/>
                  <a:pt x="19047" y="16567"/>
                </a:cubicBezTo>
                <a:cubicBezTo>
                  <a:pt x="21600" y="12373"/>
                  <a:pt x="16887" y="2517"/>
                  <a:pt x="10800" y="629"/>
                </a:cubicBezTo>
                <a:cubicBezTo>
                  <a:pt x="6087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81000" y="4614840"/>
            <a:ext cx="986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744"/>
                </a:moveTo>
                <a:cubicBezTo>
                  <a:pt x="0" y="13841"/>
                  <a:pt x="3369" y="16986"/>
                  <a:pt x="7332" y="19083"/>
                </a:cubicBezTo>
                <a:cubicBezTo>
                  <a:pt x="10701" y="20971"/>
                  <a:pt x="18033" y="21600"/>
                  <a:pt x="19024" y="16986"/>
                </a:cubicBezTo>
                <a:cubicBezTo>
                  <a:pt x="21600" y="12373"/>
                  <a:pt x="17042" y="2517"/>
                  <a:pt x="10701" y="839"/>
                </a:cubicBezTo>
                <a:cubicBezTo>
                  <a:pt x="6341" y="0"/>
                  <a:pt x="0" y="5662"/>
                  <a:pt x="0" y="117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71440" y="513540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66960" y="51069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00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5600"/>
                  <a:pt x="11284" y="0"/>
                  <a:pt x="5803" y="2000"/>
                </a:cubicBezTo>
                <a:cubicBezTo>
                  <a:pt x="1934" y="4800"/>
                  <a:pt x="0" y="14000"/>
                  <a:pt x="2579" y="188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11120" y="4842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829"/>
                  <a:pt x="21600" y="16200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4840" y="50054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1207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749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61960" y="46846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46320" y="4583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753" y="0"/>
                  <a:pt x="6353" y="2749"/>
                </a:cubicBezTo>
                <a:cubicBezTo>
                  <a:pt x="2224" y="5105"/>
                  <a:pt x="0" y="14138"/>
                  <a:pt x="2541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3545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75040" y="42386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612" y="4713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8560" y="3668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6800" y="431496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448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0520" y="4029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6960" y="419112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09800" y="436104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800" y="20562"/>
                  <a:pt x="17869" y="21600"/>
                  <a:pt x="19047" y="16823"/>
                </a:cubicBezTo>
                <a:cubicBezTo>
                  <a:pt x="21600" y="12254"/>
                  <a:pt x="16887" y="2700"/>
                  <a:pt x="10800" y="1038"/>
                </a:cubicBezTo>
                <a:cubicBezTo>
                  <a:pt x="6087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6200" y="432900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443"/>
                  <a:pt x="21600" y="16586"/>
                  <a:pt x="20329" y="11186"/>
                </a:cubicBezTo>
                <a:cubicBezTo>
                  <a:pt x="20329" y="5786"/>
                  <a:pt x="11753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4560" y="4414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403560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012" y="11389"/>
                </a:cubicBezTo>
                <a:cubicBezTo>
                  <a:pt x="20012" y="5498"/>
                  <a:pt x="11435" y="0"/>
                  <a:pt x="6035" y="2356"/>
                </a:cubicBezTo>
                <a:cubicBezTo>
                  <a:pt x="1906" y="4713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82840" y="37926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29"/>
                  <a:pt x="21600" y="16586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4520" y="40892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73080" y="402912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324"/>
                </a:moveTo>
                <a:cubicBezTo>
                  <a:pt x="0" y="13631"/>
                  <a:pt x="3369" y="16777"/>
                  <a:pt x="7332" y="19083"/>
                </a:cubicBezTo>
                <a:cubicBezTo>
                  <a:pt x="10701" y="20761"/>
                  <a:pt x="18033" y="21600"/>
                  <a:pt x="19024" y="16777"/>
                </a:cubicBezTo>
                <a:cubicBezTo>
                  <a:pt x="21600" y="12373"/>
                  <a:pt x="17042" y="2517"/>
                  <a:pt x="10701" y="629"/>
                </a:cubicBezTo>
                <a:cubicBezTo>
                  <a:pt x="6143" y="0"/>
                  <a:pt x="0" y="5662"/>
                  <a:pt x="0" y="1132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2640" y="3819600"/>
            <a:ext cx="96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744"/>
                </a:moveTo>
                <a:cubicBezTo>
                  <a:pt x="0" y="13841"/>
                  <a:pt x="3369" y="16986"/>
                  <a:pt x="7530" y="19083"/>
                </a:cubicBezTo>
                <a:cubicBezTo>
                  <a:pt x="10899" y="20971"/>
                  <a:pt x="18033" y="21600"/>
                  <a:pt x="19222" y="16986"/>
                </a:cubicBezTo>
                <a:cubicBezTo>
                  <a:pt x="21600" y="12373"/>
                  <a:pt x="17240" y="2726"/>
                  <a:pt x="10899" y="839"/>
                </a:cubicBezTo>
                <a:cubicBezTo>
                  <a:pt x="6341" y="0"/>
                  <a:pt x="0" y="5662"/>
                  <a:pt x="0" y="117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30360" y="3782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9244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541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93760" y="37972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22"/>
                  <a:pt x="21600" y="16495"/>
                  <a:pt x="20633" y="11389"/>
                </a:cubicBezTo>
                <a:cubicBezTo>
                  <a:pt x="20633" y="5891"/>
                  <a:pt x="11606" y="0"/>
                  <a:pt x="6125" y="2356"/>
                </a:cubicBezTo>
                <a:cubicBezTo>
                  <a:pt x="2257" y="4713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23840" y="3622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1906" y="4800"/>
                  <a:pt x="0" y="14000"/>
                  <a:pt x="285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1600" y="3541680"/>
            <a:ext cx="9864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631"/>
                  <a:pt x="3369" y="16777"/>
                  <a:pt x="7530" y="19083"/>
                </a:cubicBezTo>
                <a:cubicBezTo>
                  <a:pt x="10899" y="20761"/>
                  <a:pt x="18033" y="21600"/>
                  <a:pt x="19222" y="16777"/>
                </a:cubicBezTo>
                <a:cubicBezTo>
                  <a:pt x="21600" y="12373"/>
                  <a:pt x="17042" y="2517"/>
                  <a:pt x="10899" y="839"/>
                </a:cubicBezTo>
                <a:cubicBezTo>
                  <a:pt x="6341" y="0"/>
                  <a:pt x="0" y="5662"/>
                  <a:pt x="0" y="1153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0760" y="34894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8080" y="35290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4240" y="323532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753" y="0"/>
                  <a:pt x="6353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5240" y="29973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1207"/>
                  <a:pt x="21600" y="16887"/>
                  <a:pt x="19988" y="11782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934" y="5105"/>
                  <a:pt x="0" y="14531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50880" y="308448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321480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1207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" y="327960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43"/>
                  <a:pt x="21600" y="16200"/>
                  <a:pt x="20310" y="11571"/>
                </a:cubicBezTo>
                <a:cubicBezTo>
                  <a:pt x="20310" y="5786"/>
                  <a:pt x="11284" y="0"/>
                  <a:pt x="5803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1720" y="336708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5600"/>
                  <a:pt x="11606" y="0"/>
                  <a:pt x="6125" y="2000"/>
                </a:cubicBezTo>
                <a:cubicBezTo>
                  <a:pt x="2257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9920" y="297036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389"/>
                </a:cubicBezTo>
                <a:cubicBezTo>
                  <a:pt x="20012" y="5498"/>
                  <a:pt x="11435" y="0"/>
                  <a:pt x="6035" y="2356"/>
                </a:cubicBezTo>
                <a:cubicBezTo>
                  <a:pt x="1906" y="4713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77920" y="30272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960" y="34322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749"/>
                </a:cubicBezTo>
                <a:cubicBezTo>
                  <a:pt x="1934" y="5105"/>
                  <a:pt x="0" y="14531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5337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2224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2880" y="47703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4160" y="46958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389"/>
                </a:cubicBezTo>
                <a:cubicBezTo>
                  <a:pt x="20310" y="5891"/>
                  <a:pt x="11606" y="0"/>
                  <a:pt x="6125" y="2749"/>
                </a:cubicBezTo>
                <a:cubicBezTo>
                  <a:pt x="1934" y="4713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9400" y="418788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606" y="0"/>
                  <a:pt x="6125" y="2356"/>
                </a:cubicBezTo>
                <a:cubicBezTo>
                  <a:pt x="1934" y="5105"/>
                  <a:pt x="0" y="13745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0440" y="40449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900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247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400"/>
                  <a:pt x="0" y="13886"/>
                  <a:pt x="2541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1480" y="38433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3745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68560" y="40035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887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04840" y="3668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443"/>
                  <a:pt x="21600" y="16586"/>
                  <a:pt x="20633" y="11571"/>
                </a:cubicBezTo>
                <a:cubicBezTo>
                  <a:pt x="20633" y="5786"/>
                  <a:pt x="11606" y="0"/>
                  <a:pt x="6448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30400" y="347832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68560" y="337032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8680" y="344160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19988" y="11389"/>
                </a:cubicBezTo>
                <a:cubicBezTo>
                  <a:pt x="19988" y="5498"/>
                  <a:pt x="11284" y="0"/>
                  <a:pt x="5803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51080" y="344664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2320" y="3338640"/>
            <a:ext cx="619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435" y="0"/>
                  <a:pt x="6035" y="24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9880" y="3462480"/>
            <a:ext cx="10008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23"/>
                </a:moveTo>
                <a:cubicBezTo>
                  <a:pt x="0" y="13500"/>
                  <a:pt x="3338" y="16615"/>
                  <a:pt x="7658" y="18900"/>
                </a:cubicBezTo>
                <a:cubicBezTo>
                  <a:pt x="10996" y="20562"/>
                  <a:pt x="17869" y="21600"/>
                  <a:pt x="19244" y="16615"/>
                </a:cubicBezTo>
                <a:cubicBezTo>
                  <a:pt x="21600" y="12254"/>
                  <a:pt x="17280" y="2700"/>
                  <a:pt x="10996" y="831"/>
                </a:cubicBezTo>
                <a:cubicBezTo>
                  <a:pt x="6284" y="0"/>
                  <a:pt x="0" y="5815"/>
                  <a:pt x="0" y="11423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1480" y="31924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19988" y="11782"/>
                </a:cubicBezTo>
                <a:cubicBezTo>
                  <a:pt x="19988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02256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15"/>
                  <a:pt x="21600" y="16495"/>
                  <a:pt x="19988" y="11389"/>
                </a:cubicBezTo>
                <a:cubicBezTo>
                  <a:pt x="19988" y="5891"/>
                  <a:pt x="11284" y="0"/>
                  <a:pt x="5803" y="2749"/>
                </a:cubicBezTo>
                <a:cubicBezTo>
                  <a:pt x="1612" y="4713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49320" y="306072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247" y="20800"/>
                  <a:pt x="21600" y="16800"/>
                  <a:pt x="20012" y="11600"/>
                </a:cubicBezTo>
                <a:cubicBezTo>
                  <a:pt x="20012" y="5600"/>
                  <a:pt x="11435" y="0"/>
                  <a:pt x="6035" y="2000"/>
                </a:cubicBezTo>
                <a:cubicBezTo>
                  <a:pt x="1906" y="4800"/>
                  <a:pt x="0" y="14000"/>
                  <a:pt x="2859" y="188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288612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06720" y="3084480"/>
            <a:ext cx="601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00"/>
                  <a:pt x="21600" y="16800"/>
                  <a:pt x="20012" y="11600"/>
                </a:cubicBezTo>
                <a:cubicBezTo>
                  <a:pt x="20012" y="6000"/>
                  <a:pt x="11435" y="0"/>
                  <a:pt x="6035" y="2400"/>
                </a:cubicBezTo>
                <a:cubicBezTo>
                  <a:pt x="2224" y="4800"/>
                  <a:pt x="0" y="14000"/>
                  <a:pt x="285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5160" y="315900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49640" y="319716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586"/>
                  <a:pt x="20310" y="11571"/>
                </a:cubicBezTo>
                <a:cubicBezTo>
                  <a:pt x="20310" y="5786"/>
                  <a:pt x="11284" y="0"/>
                  <a:pt x="6125" y="2700"/>
                </a:cubicBezTo>
                <a:cubicBezTo>
                  <a:pt x="1934" y="5014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2655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41" y="18900"/>
                </a:moveTo>
                <a:cubicBezTo>
                  <a:pt x="4129" y="21600"/>
                  <a:pt x="7941" y="21600"/>
                  <a:pt x="12071" y="21600"/>
                </a:cubicBezTo>
                <a:cubicBezTo>
                  <a:pt x="15565" y="20829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541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97240" y="32097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887"/>
                  <a:pt x="20310" y="11782"/>
                </a:cubicBezTo>
                <a:cubicBezTo>
                  <a:pt x="20310" y="5891"/>
                  <a:pt x="11284" y="0"/>
                  <a:pt x="6125" y="2356"/>
                </a:cubicBezTo>
                <a:cubicBezTo>
                  <a:pt x="1612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9160" y="334476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6600" y="3565440"/>
            <a:ext cx="986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38" y="16986"/>
                  <a:pt x="7462" y="19083"/>
                </a:cubicBezTo>
                <a:cubicBezTo>
                  <a:pt x="10604" y="20761"/>
                  <a:pt x="17869" y="21600"/>
                  <a:pt x="19244" y="16986"/>
                </a:cubicBezTo>
                <a:cubicBezTo>
                  <a:pt x="21600" y="12373"/>
                  <a:pt x="16887" y="2726"/>
                  <a:pt x="10604" y="1049"/>
                </a:cubicBezTo>
                <a:cubicBezTo>
                  <a:pt x="6284" y="0"/>
                  <a:pt x="0" y="5662"/>
                  <a:pt x="0" y="1153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3920" y="3481560"/>
            <a:ext cx="100080" cy="9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534"/>
                </a:moveTo>
                <a:cubicBezTo>
                  <a:pt x="0" y="13841"/>
                  <a:pt x="3338" y="16777"/>
                  <a:pt x="7462" y="19083"/>
                </a:cubicBezTo>
                <a:cubicBezTo>
                  <a:pt x="10996" y="20971"/>
                  <a:pt x="17869" y="21600"/>
                  <a:pt x="19244" y="16777"/>
                </a:cubicBezTo>
                <a:cubicBezTo>
                  <a:pt x="21600" y="12373"/>
                  <a:pt x="17084" y="2517"/>
                  <a:pt x="10996" y="839"/>
                </a:cubicBezTo>
                <a:cubicBezTo>
                  <a:pt x="6284" y="0"/>
                  <a:pt x="0" y="5662"/>
                  <a:pt x="0" y="1153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1600" y="29894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7440" y="307800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443"/>
                  <a:pt x="21600" y="16200"/>
                  <a:pt x="20633" y="11571"/>
                </a:cubicBezTo>
                <a:cubicBezTo>
                  <a:pt x="20633" y="5786"/>
                  <a:pt x="11606" y="0"/>
                  <a:pt x="6125" y="2700"/>
                </a:cubicBezTo>
                <a:cubicBezTo>
                  <a:pt x="2257" y="5014"/>
                  <a:pt x="0" y="13886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25640" y="29894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612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14440" y="31845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152" y="20829"/>
                  <a:pt x="21600" y="16586"/>
                  <a:pt x="19988" y="11571"/>
                </a:cubicBezTo>
                <a:cubicBezTo>
                  <a:pt x="19988" y="5786"/>
                  <a:pt x="11284" y="0"/>
                  <a:pt x="5803" y="2700"/>
                </a:cubicBezTo>
                <a:cubicBezTo>
                  <a:pt x="1612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4160" y="3255840"/>
            <a:ext cx="6012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1200"/>
                  <a:pt x="21600" y="16800"/>
                  <a:pt x="20310" y="11600"/>
                </a:cubicBezTo>
                <a:cubicBezTo>
                  <a:pt x="20310" y="5600"/>
                  <a:pt x="11606" y="0"/>
                  <a:pt x="6125" y="2400"/>
                </a:cubicBezTo>
                <a:cubicBezTo>
                  <a:pt x="1934" y="4800"/>
                  <a:pt x="0" y="144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52560" y="342432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15"/>
                  <a:pt x="21600" y="16495"/>
                  <a:pt x="20633" y="11782"/>
                </a:cubicBezTo>
                <a:cubicBezTo>
                  <a:pt x="20633" y="5891"/>
                  <a:pt x="11284" y="0"/>
                  <a:pt x="6125" y="2356"/>
                </a:cubicBezTo>
                <a:cubicBezTo>
                  <a:pt x="1934" y="5105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4880" y="3494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389"/>
                </a:cubicBezTo>
                <a:cubicBezTo>
                  <a:pt x="20329" y="5498"/>
                  <a:pt x="11435" y="0"/>
                  <a:pt x="6035" y="2356"/>
                </a:cubicBezTo>
                <a:cubicBezTo>
                  <a:pt x="2224" y="4713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4840" y="378612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782"/>
                </a:cubicBezTo>
                <a:cubicBezTo>
                  <a:pt x="20310" y="5891"/>
                  <a:pt x="11606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39840" y="375768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383" y="21600"/>
                  <a:pt x="8452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5600"/>
                  <a:pt x="11583" y="0"/>
                  <a:pt x="6261" y="20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44760" y="27860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06600" y="26906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531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38560" y="292104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565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749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06560" y="310500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797" y="20815"/>
                  <a:pt x="21600" y="16495"/>
                  <a:pt x="20633" y="11389"/>
                </a:cubicBezTo>
                <a:cubicBezTo>
                  <a:pt x="20633" y="5498"/>
                  <a:pt x="11606" y="0"/>
                  <a:pt x="6125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68520" y="3056040"/>
            <a:ext cx="6048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44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422"/>
                  <a:pt x="21600" y="16495"/>
                  <a:pt x="20310" y="11782"/>
                </a:cubicBezTo>
                <a:cubicBezTo>
                  <a:pt x="20310" y="5891"/>
                  <a:pt x="11284" y="0"/>
                  <a:pt x="5803" y="2356"/>
                </a:cubicBezTo>
                <a:cubicBezTo>
                  <a:pt x="1934" y="5105"/>
                  <a:pt x="0" y="14138"/>
                  <a:pt x="257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0800" y="306216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443"/>
                  <a:pt x="21600" y="16586"/>
                  <a:pt x="20012" y="11571"/>
                </a:cubicBezTo>
                <a:cubicBezTo>
                  <a:pt x="20012" y="5786"/>
                  <a:pt x="11435" y="0"/>
                  <a:pt x="6035" y="2700"/>
                </a:cubicBezTo>
                <a:cubicBezTo>
                  <a:pt x="1906" y="5014"/>
                  <a:pt x="0" y="13886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57600" y="327168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422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4713"/>
                  <a:pt x="0" y="13745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7600" y="3071880"/>
            <a:ext cx="601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3812" y="21600"/>
                  <a:pt x="7941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82760" y="337032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00"/>
                  <a:pt x="21600" y="16800"/>
                  <a:pt x="20310" y="11600"/>
                </a:cubicBezTo>
                <a:cubicBezTo>
                  <a:pt x="20310" y="6000"/>
                  <a:pt x="11606" y="0"/>
                  <a:pt x="6125" y="2400"/>
                </a:cubicBezTo>
                <a:cubicBezTo>
                  <a:pt x="1934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3370320"/>
            <a:ext cx="6192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19200"/>
                </a:moveTo>
                <a:cubicBezTo>
                  <a:pt x="4070" y="21600"/>
                  <a:pt x="7826" y="21600"/>
                  <a:pt x="12209" y="21600"/>
                </a:cubicBezTo>
                <a:cubicBezTo>
                  <a:pt x="15339" y="20800"/>
                  <a:pt x="21600" y="16800"/>
                  <a:pt x="20035" y="11600"/>
                </a:cubicBezTo>
                <a:cubicBezTo>
                  <a:pt x="20035" y="6000"/>
                  <a:pt x="11583" y="0"/>
                  <a:pt x="6261" y="2400"/>
                </a:cubicBezTo>
                <a:cubicBezTo>
                  <a:pt x="2191" y="4800"/>
                  <a:pt x="0" y="14000"/>
                  <a:pt x="2817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0960" y="3695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389"/>
                </a:cubicBezTo>
                <a:cubicBezTo>
                  <a:pt x="20329" y="5498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79800" y="3041640"/>
            <a:ext cx="619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3812" y="21600"/>
                  <a:pt x="8259" y="21600"/>
                  <a:pt x="12071" y="21600"/>
                </a:cubicBezTo>
                <a:cubicBezTo>
                  <a:pt x="15247" y="20815"/>
                  <a:pt x="21600" y="16495"/>
                  <a:pt x="20012" y="11782"/>
                </a:cubicBezTo>
                <a:cubicBezTo>
                  <a:pt x="20012" y="5891"/>
                  <a:pt x="11435" y="0"/>
                  <a:pt x="6035" y="2356"/>
                </a:cubicBezTo>
                <a:cubicBezTo>
                  <a:pt x="1906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7560" y="28814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600"/>
                </a:moveTo>
                <a:cubicBezTo>
                  <a:pt x="4447" y="21600"/>
                  <a:pt x="8259" y="21600"/>
                  <a:pt x="12388" y="21600"/>
                </a:cubicBezTo>
                <a:cubicBezTo>
                  <a:pt x="15565" y="20800"/>
                  <a:pt x="21600" y="16800"/>
                  <a:pt x="20329" y="11600"/>
                </a:cubicBezTo>
                <a:cubicBezTo>
                  <a:pt x="20329" y="6000"/>
                  <a:pt x="11435" y="0"/>
                  <a:pt x="6035" y="2400"/>
                </a:cubicBezTo>
                <a:cubicBezTo>
                  <a:pt x="2224" y="4800"/>
                  <a:pt x="0" y="14400"/>
                  <a:pt x="285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38560" y="3003480"/>
            <a:ext cx="6192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851"/>
                </a:moveTo>
                <a:cubicBezTo>
                  <a:pt x="4129" y="21600"/>
                  <a:pt x="8259" y="21600"/>
                  <a:pt x="12071" y="21600"/>
                </a:cubicBezTo>
                <a:cubicBezTo>
                  <a:pt x="15565" y="20815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38640" y="2523960"/>
            <a:ext cx="6012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8900"/>
                </a:moveTo>
                <a:cubicBezTo>
                  <a:pt x="4129" y="21600"/>
                  <a:pt x="7941" y="21600"/>
                  <a:pt x="12388" y="21600"/>
                </a:cubicBezTo>
                <a:cubicBezTo>
                  <a:pt x="15565" y="20829"/>
                  <a:pt x="21600" y="16200"/>
                  <a:pt x="20329" y="11571"/>
                </a:cubicBezTo>
                <a:cubicBezTo>
                  <a:pt x="20329" y="5786"/>
                  <a:pt x="11435" y="0"/>
                  <a:pt x="6035" y="2700"/>
                </a:cubicBezTo>
                <a:cubicBezTo>
                  <a:pt x="2224" y="5014"/>
                  <a:pt x="0" y="14271"/>
                  <a:pt x="285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44840" y="2714760"/>
            <a:ext cx="6048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495"/>
                  <a:pt x="20329" y="11389"/>
                </a:cubicBezTo>
                <a:cubicBezTo>
                  <a:pt x="20329" y="5498"/>
                  <a:pt x="11753" y="0"/>
                  <a:pt x="6353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76440" y="258588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815"/>
                  <a:pt x="21600" y="16887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5105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73560" y="2417760"/>
            <a:ext cx="99720" cy="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462" y="18900"/>
                </a:cubicBezTo>
                <a:cubicBezTo>
                  <a:pt x="10996" y="20769"/>
                  <a:pt x="17869" y="21600"/>
                  <a:pt x="19244" y="16823"/>
                </a:cubicBezTo>
                <a:cubicBezTo>
                  <a:pt x="21600" y="12254"/>
                  <a:pt x="17084" y="2700"/>
                  <a:pt x="10996" y="1038"/>
                </a:cubicBezTo>
                <a:cubicBezTo>
                  <a:pt x="6284" y="0"/>
                  <a:pt x="0" y="5608"/>
                  <a:pt x="0" y="1163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14680" y="2523960"/>
            <a:ext cx="60480" cy="5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9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29"/>
                  <a:pt x="21600" y="16200"/>
                  <a:pt x="20310" y="11571"/>
                </a:cubicBezTo>
                <a:cubicBezTo>
                  <a:pt x="20310" y="5786"/>
                  <a:pt x="11606" y="0"/>
                  <a:pt x="6125" y="2700"/>
                </a:cubicBezTo>
                <a:cubicBezTo>
                  <a:pt x="1934" y="5014"/>
                  <a:pt x="0" y="14271"/>
                  <a:pt x="2579" y="189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11440" y="2597040"/>
            <a:ext cx="6048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9" y="19244"/>
                </a:moveTo>
                <a:cubicBezTo>
                  <a:pt x="4129" y="21600"/>
                  <a:pt x="8259" y="21600"/>
                  <a:pt x="12388" y="21600"/>
                </a:cubicBezTo>
                <a:cubicBezTo>
                  <a:pt x="15565" y="20422"/>
                  <a:pt x="21600" y="16495"/>
                  <a:pt x="20329" y="11782"/>
                </a:cubicBezTo>
                <a:cubicBezTo>
                  <a:pt x="20329" y="5891"/>
                  <a:pt x="11435" y="0"/>
                  <a:pt x="6035" y="2356"/>
                </a:cubicBezTo>
                <a:cubicBezTo>
                  <a:pt x="2224" y="4713"/>
                  <a:pt x="0" y="14138"/>
                  <a:pt x="2859" y="19244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5520" y="2544840"/>
            <a:ext cx="604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6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310" y="11600"/>
                </a:cubicBezTo>
                <a:cubicBezTo>
                  <a:pt x="20310" y="6000"/>
                  <a:pt x="11284" y="0"/>
                  <a:pt x="6125" y="2400"/>
                </a:cubicBezTo>
                <a:cubicBezTo>
                  <a:pt x="1612" y="4800"/>
                  <a:pt x="0" y="14000"/>
                  <a:pt x="2579" y="196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7080" y="2641680"/>
            <a:ext cx="60120" cy="4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9200"/>
                </a:moveTo>
                <a:cubicBezTo>
                  <a:pt x="3869" y="21600"/>
                  <a:pt x="8060" y="21600"/>
                  <a:pt x="11928" y="21600"/>
                </a:cubicBezTo>
                <a:cubicBezTo>
                  <a:pt x="15797" y="20800"/>
                  <a:pt x="21600" y="16800"/>
                  <a:pt x="20633" y="11600"/>
                </a:cubicBezTo>
                <a:cubicBezTo>
                  <a:pt x="20633" y="6000"/>
                  <a:pt x="11606" y="0"/>
                  <a:pt x="6125" y="2400"/>
                </a:cubicBezTo>
                <a:cubicBezTo>
                  <a:pt x="2257" y="4800"/>
                  <a:pt x="0" y="14000"/>
                  <a:pt x="2579" y="1920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2160" y="2511360"/>
            <a:ext cx="60120" cy="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79" y="18851"/>
                </a:moveTo>
                <a:cubicBezTo>
                  <a:pt x="4191" y="21600"/>
                  <a:pt x="8060" y="21600"/>
                  <a:pt x="12251" y="21600"/>
                </a:cubicBezTo>
                <a:cubicBezTo>
                  <a:pt x="15475" y="20815"/>
                  <a:pt x="21600" y="16495"/>
                  <a:pt x="20310" y="11389"/>
                </a:cubicBezTo>
                <a:cubicBezTo>
                  <a:pt x="20310" y="5498"/>
                  <a:pt x="11606" y="0"/>
                  <a:pt x="6125" y="2356"/>
                </a:cubicBezTo>
                <a:cubicBezTo>
                  <a:pt x="1934" y="4713"/>
                  <a:pt x="0" y="14138"/>
                  <a:pt x="2579" y="1885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4317840"/>
            <a:ext cx="100080" cy="9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631"/>
                </a:moveTo>
                <a:cubicBezTo>
                  <a:pt x="0" y="13708"/>
                  <a:pt x="3338" y="16823"/>
                  <a:pt x="7658" y="18900"/>
                </a:cubicBezTo>
                <a:cubicBezTo>
                  <a:pt x="10996" y="20769"/>
                  <a:pt x="17869" y="21600"/>
                  <a:pt x="19244" y="16823"/>
                </a:cubicBezTo>
                <a:cubicBezTo>
                  <a:pt x="21600" y="12462"/>
                  <a:pt x="17084" y="2700"/>
                  <a:pt x="10996" y="1038"/>
                </a:cubicBezTo>
                <a:cubicBezTo>
                  <a:pt x="6284" y="0"/>
                  <a:pt x="0" y="5815"/>
                  <a:pt x="0" y="11631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7240" y="2419200"/>
            <a:ext cx="4636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64" y="9401"/>
                </a:moveTo>
                <a:cubicBezTo>
                  <a:pt x="20760" y="5128"/>
                  <a:pt x="17356" y="3652"/>
                  <a:pt x="15086" y="2176"/>
                </a:cubicBezTo>
                <a:cubicBezTo>
                  <a:pt x="13405" y="1165"/>
                  <a:pt x="11598" y="0"/>
                  <a:pt x="9918" y="544"/>
                </a:cubicBezTo>
                <a:cubicBezTo>
                  <a:pt x="8321" y="1010"/>
                  <a:pt x="6892" y="3108"/>
                  <a:pt x="5757" y="4817"/>
                </a:cubicBezTo>
                <a:cubicBezTo>
                  <a:pt x="4539" y="6449"/>
                  <a:pt x="3404" y="8780"/>
                  <a:pt x="2479" y="10878"/>
                </a:cubicBezTo>
                <a:cubicBezTo>
                  <a:pt x="1765" y="12276"/>
                  <a:pt x="0" y="13442"/>
                  <a:pt x="336" y="15617"/>
                </a:cubicBezTo>
                <a:cubicBezTo>
                  <a:pt x="840" y="18958"/>
                  <a:pt x="3824" y="18414"/>
                  <a:pt x="5589" y="19580"/>
                </a:cubicBezTo>
                <a:cubicBezTo>
                  <a:pt x="6514" y="20279"/>
                  <a:pt x="7606" y="21600"/>
                  <a:pt x="8657" y="20901"/>
                </a:cubicBezTo>
                <a:cubicBezTo>
                  <a:pt x="9707" y="20279"/>
                  <a:pt x="9623" y="16938"/>
                  <a:pt x="10884" y="16083"/>
                </a:cubicBezTo>
                <a:cubicBezTo>
                  <a:pt x="11514" y="15617"/>
                  <a:pt x="12229" y="17249"/>
                  <a:pt x="13027" y="17793"/>
                </a:cubicBezTo>
                <a:cubicBezTo>
                  <a:pt x="14036" y="18259"/>
                  <a:pt x="15086" y="18570"/>
                  <a:pt x="16011" y="18570"/>
                </a:cubicBezTo>
                <a:cubicBezTo>
                  <a:pt x="17146" y="18570"/>
                  <a:pt x="18196" y="17637"/>
                  <a:pt x="19121" y="16239"/>
                </a:cubicBezTo>
                <a:cubicBezTo>
                  <a:pt x="20129" y="14607"/>
                  <a:pt x="21600" y="12043"/>
                  <a:pt x="21264" y="9401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46800" y="2354400"/>
            <a:ext cx="672840" cy="420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637240" y="2419200"/>
            <a:ext cx="463680" cy="2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264" y="9401"/>
                </a:moveTo>
                <a:cubicBezTo>
                  <a:pt x="20760" y="5128"/>
                  <a:pt x="17356" y="3652"/>
                  <a:pt x="15086" y="2176"/>
                </a:cubicBezTo>
                <a:cubicBezTo>
                  <a:pt x="13405" y="1165"/>
                  <a:pt x="11598" y="0"/>
                  <a:pt x="9918" y="544"/>
                </a:cubicBezTo>
                <a:cubicBezTo>
                  <a:pt x="8321" y="1010"/>
                  <a:pt x="6892" y="3108"/>
                  <a:pt x="5757" y="4817"/>
                </a:cubicBezTo>
                <a:cubicBezTo>
                  <a:pt x="4539" y="6449"/>
                  <a:pt x="3404" y="8780"/>
                  <a:pt x="2479" y="10878"/>
                </a:cubicBezTo>
                <a:cubicBezTo>
                  <a:pt x="1765" y="12276"/>
                  <a:pt x="0" y="13442"/>
                  <a:pt x="336" y="15617"/>
                </a:cubicBezTo>
                <a:cubicBezTo>
                  <a:pt x="840" y="18958"/>
                  <a:pt x="3824" y="18414"/>
                  <a:pt x="5589" y="19580"/>
                </a:cubicBezTo>
                <a:cubicBezTo>
                  <a:pt x="6514" y="20279"/>
                  <a:pt x="7606" y="21600"/>
                  <a:pt x="8657" y="20901"/>
                </a:cubicBezTo>
                <a:cubicBezTo>
                  <a:pt x="9707" y="20279"/>
                  <a:pt x="9623" y="16938"/>
                  <a:pt x="10884" y="16083"/>
                </a:cubicBezTo>
                <a:cubicBezTo>
                  <a:pt x="11514" y="15617"/>
                  <a:pt x="12229" y="17249"/>
                  <a:pt x="13027" y="17793"/>
                </a:cubicBezTo>
                <a:cubicBezTo>
                  <a:pt x="14036" y="18259"/>
                  <a:pt x="15086" y="18570"/>
                  <a:pt x="16011" y="18570"/>
                </a:cubicBezTo>
                <a:cubicBezTo>
                  <a:pt x="17146" y="18570"/>
                  <a:pt x="18196" y="17637"/>
                  <a:pt x="19121" y="16239"/>
                </a:cubicBezTo>
                <a:cubicBezTo>
                  <a:pt x="20129" y="14607"/>
                  <a:pt x="21600" y="12043"/>
                  <a:pt x="21264" y="9401"/>
                </a:cubicBezTo>
              </a:path>
            </a:pathLst>
          </a:custGeom>
          <a:noFill/>
          <a:ln w="3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65600" y="2797200"/>
            <a:ext cx="3254040" cy="439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473280" y="2741760"/>
            <a:ext cx="819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" y="20256"/>
                </a:moveTo>
                <a:cubicBezTo>
                  <a:pt x="807" y="21600"/>
                  <a:pt x="1756" y="20704"/>
                  <a:pt x="2516" y="18553"/>
                </a:cubicBezTo>
                <a:cubicBezTo>
                  <a:pt x="2920" y="17477"/>
                  <a:pt x="3109" y="14430"/>
                  <a:pt x="3679" y="14251"/>
                </a:cubicBezTo>
                <a:cubicBezTo>
                  <a:pt x="4415" y="13892"/>
                  <a:pt x="4913" y="18553"/>
                  <a:pt x="5673" y="18732"/>
                </a:cubicBezTo>
                <a:cubicBezTo>
                  <a:pt x="6076" y="19001"/>
                  <a:pt x="6361" y="17119"/>
                  <a:pt x="6836" y="16760"/>
                </a:cubicBezTo>
                <a:cubicBezTo>
                  <a:pt x="8521" y="15237"/>
                  <a:pt x="10396" y="16491"/>
                  <a:pt x="12200" y="16491"/>
                </a:cubicBezTo>
                <a:cubicBezTo>
                  <a:pt x="12841" y="16491"/>
                  <a:pt x="13553" y="16133"/>
                  <a:pt x="14242" y="15954"/>
                </a:cubicBezTo>
                <a:cubicBezTo>
                  <a:pt x="15001" y="15595"/>
                  <a:pt x="15808" y="15237"/>
                  <a:pt x="16568" y="14430"/>
                </a:cubicBezTo>
                <a:cubicBezTo>
                  <a:pt x="17161" y="13892"/>
                  <a:pt x="17802" y="12906"/>
                  <a:pt x="18443" y="11741"/>
                </a:cubicBezTo>
                <a:cubicBezTo>
                  <a:pt x="19155" y="10576"/>
                  <a:pt x="19915" y="9500"/>
                  <a:pt x="20556" y="7798"/>
                </a:cubicBezTo>
                <a:cubicBezTo>
                  <a:pt x="20912" y="7080"/>
                  <a:pt x="21600" y="6095"/>
                  <a:pt x="21481" y="4571"/>
                </a:cubicBezTo>
                <a:cubicBezTo>
                  <a:pt x="21315" y="2868"/>
                  <a:pt x="20556" y="4212"/>
                  <a:pt x="20128" y="3675"/>
                </a:cubicBezTo>
                <a:cubicBezTo>
                  <a:pt x="19606" y="3047"/>
                  <a:pt x="19013" y="0"/>
                  <a:pt x="18514" y="1165"/>
                </a:cubicBezTo>
                <a:cubicBezTo>
                  <a:pt x="18158" y="1972"/>
                  <a:pt x="18609" y="5019"/>
                  <a:pt x="18253" y="5736"/>
                </a:cubicBezTo>
                <a:cubicBezTo>
                  <a:pt x="17612" y="7260"/>
                  <a:pt x="16710" y="4392"/>
                  <a:pt x="15880" y="3764"/>
                </a:cubicBezTo>
                <a:cubicBezTo>
                  <a:pt x="15167" y="3316"/>
                  <a:pt x="14360" y="1793"/>
                  <a:pt x="13553" y="2151"/>
                </a:cubicBezTo>
                <a:cubicBezTo>
                  <a:pt x="12604" y="2689"/>
                  <a:pt x="11726" y="5109"/>
                  <a:pt x="10895" y="7260"/>
                </a:cubicBezTo>
                <a:cubicBezTo>
                  <a:pt x="10230" y="8783"/>
                  <a:pt x="9684" y="10576"/>
                  <a:pt x="8972" y="11741"/>
                </a:cubicBezTo>
                <a:cubicBezTo>
                  <a:pt x="8521" y="12548"/>
                  <a:pt x="8070" y="14071"/>
                  <a:pt x="7643" y="13623"/>
                </a:cubicBezTo>
                <a:cubicBezTo>
                  <a:pt x="7240" y="13265"/>
                  <a:pt x="7073" y="11203"/>
                  <a:pt x="6717" y="10307"/>
                </a:cubicBezTo>
                <a:cubicBezTo>
                  <a:pt x="6314" y="8963"/>
                  <a:pt x="5839" y="7618"/>
                  <a:pt x="5317" y="6632"/>
                </a:cubicBezTo>
                <a:cubicBezTo>
                  <a:pt x="4724" y="5557"/>
                  <a:pt x="4011" y="3316"/>
                  <a:pt x="3371" y="4212"/>
                </a:cubicBezTo>
                <a:cubicBezTo>
                  <a:pt x="2611" y="5288"/>
                  <a:pt x="2706" y="10128"/>
                  <a:pt x="2160" y="12548"/>
                </a:cubicBezTo>
                <a:cubicBezTo>
                  <a:pt x="1305" y="16133"/>
                  <a:pt x="0" y="18463"/>
                  <a:pt x="451" y="20256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73280" y="2741760"/>
            <a:ext cx="819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" y="20256"/>
                </a:moveTo>
                <a:cubicBezTo>
                  <a:pt x="807" y="21600"/>
                  <a:pt x="1756" y="20704"/>
                  <a:pt x="2516" y="18553"/>
                </a:cubicBezTo>
                <a:cubicBezTo>
                  <a:pt x="2920" y="17477"/>
                  <a:pt x="3109" y="14430"/>
                  <a:pt x="3679" y="14251"/>
                </a:cubicBezTo>
                <a:cubicBezTo>
                  <a:pt x="4415" y="13892"/>
                  <a:pt x="4913" y="18553"/>
                  <a:pt x="5673" y="18732"/>
                </a:cubicBezTo>
                <a:cubicBezTo>
                  <a:pt x="6076" y="19001"/>
                  <a:pt x="6361" y="17119"/>
                  <a:pt x="6836" y="16760"/>
                </a:cubicBezTo>
                <a:cubicBezTo>
                  <a:pt x="8521" y="15237"/>
                  <a:pt x="10396" y="16491"/>
                  <a:pt x="12200" y="16491"/>
                </a:cubicBezTo>
                <a:cubicBezTo>
                  <a:pt x="12841" y="16491"/>
                  <a:pt x="13553" y="16133"/>
                  <a:pt x="14242" y="15954"/>
                </a:cubicBezTo>
                <a:cubicBezTo>
                  <a:pt x="15001" y="15595"/>
                  <a:pt x="15808" y="15237"/>
                  <a:pt x="16568" y="14430"/>
                </a:cubicBezTo>
                <a:cubicBezTo>
                  <a:pt x="17161" y="13892"/>
                  <a:pt x="17802" y="12906"/>
                  <a:pt x="18443" y="11741"/>
                </a:cubicBezTo>
                <a:cubicBezTo>
                  <a:pt x="19155" y="10576"/>
                  <a:pt x="19915" y="9500"/>
                  <a:pt x="20556" y="7798"/>
                </a:cubicBezTo>
                <a:cubicBezTo>
                  <a:pt x="20912" y="7080"/>
                  <a:pt x="21600" y="6095"/>
                  <a:pt x="21481" y="4571"/>
                </a:cubicBezTo>
                <a:cubicBezTo>
                  <a:pt x="21315" y="2868"/>
                  <a:pt x="20556" y="4212"/>
                  <a:pt x="20128" y="3675"/>
                </a:cubicBezTo>
                <a:cubicBezTo>
                  <a:pt x="19606" y="3047"/>
                  <a:pt x="19013" y="0"/>
                  <a:pt x="18514" y="1165"/>
                </a:cubicBezTo>
                <a:cubicBezTo>
                  <a:pt x="18158" y="1972"/>
                  <a:pt x="18609" y="5019"/>
                  <a:pt x="18253" y="5736"/>
                </a:cubicBezTo>
                <a:cubicBezTo>
                  <a:pt x="17612" y="7260"/>
                  <a:pt x="16710" y="4392"/>
                  <a:pt x="15880" y="3764"/>
                </a:cubicBezTo>
                <a:cubicBezTo>
                  <a:pt x="15167" y="3316"/>
                  <a:pt x="14360" y="1793"/>
                  <a:pt x="13553" y="2151"/>
                </a:cubicBezTo>
                <a:cubicBezTo>
                  <a:pt x="12604" y="2689"/>
                  <a:pt x="11726" y="5109"/>
                  <a:pt x="10895" y="7260"/>
                </a:cubicBezTo>
                <a:cubicBezTo>
                  <a:pt x="10230" y="8783"/>
                  <a:pt x="9684" y="10576"/>
                  <a:pt x="8972" y="11741"/>
                </a:cubicBezTo>
                <a:cubicBezTo>
                  <a:pt x="8521" y="12548"/>
                  <a:pt x="8070" y="14071"/>
                  <a:pt x="7643" y="13623"/>
                </a:cubicBezTo>
                <a:cubicBezTo>
                  <a:pt x="7240" y="13265"/>
                  <a:pt x="7073" y="11203"/>
                  <a:pt x="6717" y="10307"/>
                </a:cubicBezTo>
                <a:cubicBezTo>
                  <a:pt x="6314" y="8963"/>
                  <a:pt x="5839" y="7618"/>
                  <a:pt x="5317" y="6632"/>
                </a:cubicBezTo>
                <a:cubicBezTo>
                  <a:pt x="4724" y="5557"/>
                  <a:pt x="4011" y="3316"/>
                  <a:pt x="3371" y="4212"/>
                </a:cubicBezTo>
                <a:cubicBezTo>
                  <a:pt x="2611" y="5288"/>
                  <a:pt x="2706" y="10128"/>
                  <a:pt x="2160" y="12548"/>
                </a:cubicBezTo>
                <a:cubicBezTo>
                  <a:pt x="1305" y="16133"/>
                  <a:pt x="0" y="18463"/>
                  <a:pt x="451" y="2025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14960" y="2762280"/>
            <a:ext cx="745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0" y="14026"/>
                </a:moveTo>
                <a:cubicBezTo>
                  <a:pt x="0" y="17673"/>
                  <a:pt x="6059" y="18795"/>
                  <a:pt x="9483" y="20758"/>
                </a:cubicBezTo>
                <a:cubicBezTo>
                  <a:pt x="11854" y="21600"/>
                  <a:pt x="13961" y="21600"/>
                  <a:pt x="16332" y="20758"/>
                </a:cubicBezTo>
                <a:cubicBezTo>
                  <a:pt x="17912" y="19356"/>
                  <a:pt x="19493" y="16551"/>
                  <a:pt x="20283" y="14026"/>
                </a:cubicBezTo>
                <a:cubicBezTo>
                  <a:pt x="20546" y="11221"/>
                  <a:pt x="21600" y="7574"/>
                  <a:pt x="20283" y="5049"/>
                </a:cubicBezTo>
                <a:cubicBezTo>
                  <a:pt x="18439" y="2805"/>
                  <a:pt x="13171" y="0"/>
                  <a:pt x="11063" y="2244"/>
                </a:cubicBezTo>
                <a:cubicBezTo>
                  <a:pt x="8693" y="4769"/>
                  <a:pt x="12380" y="8977"/>
                  <a:pt x="10537" y="11221"/>
                </a:cubicBezTo>
                <a:cubicBezTo>
                  <a:pt x="8429" y="14026"/>
                  <a:pt x="1054" y="10660"/>
                  <a:pt x="790" y="1402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4960" y="2762280"/>
            <a:ext cx="7452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0" y="14026"/>
                </a:moveTo>
                <a:cubicBezTo>
                  <a:pt x="0" y="17673"/>
                  <a:pt x="6059" y="18795"/>
                  <a:pt x="9483" y="20758"/>
                </a:cubicBezTo>
                <a:cubicBezTo>
                  <a:pt x="11854" y="21600"/>
                  <a:pt x="13961" y="21600"/>
                  <a:pt x="16332" y="20758"/>
                </a:cubicBezTo>
                <a:cubicBezTo>
                  <a:pt x="17912" y="19356"/>
                  <a:pt x="19493" y="16551"/>
                  <a:pt x="20283" y="14026"/>
                </a:cubicBezTo>
                <a:cubicBezTo>
                  <a:pt x="20546" y="11221"/>
                  <a:pt x="21600" y="7574"/>
                  <a:pt x="20283" y="5049"/>
                </a:cubicBezTo>
                <a:cubicBezTo>
                  <a:pt x="18439" y="2805"/>
                  <a:pt x="13171" y="0"/>
                  <a:pt x="11063" y="2244"/>
                </a:cubicBezTo>
                <a:cubicBezTo>
                  <a:pt x="8693" y="4769"/>
                  <a:pt x="12380" y="8977"/>
                  <a:pt x="10537" y="11221"/>
                </a:cubicBezTo>
                <a:cubicBezTo>
                  <a:pt x="8429" y="14026"/>
                  <a:pt x="1054" y="10660"/>
                  <a:pt x="790" y="14026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4000" y="2552760"/>
            <a:ext cx="158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105" y="20722"/>
                </a:moveTo>
                <a:cubicBezTo>
                  <a:pt x="13302" y="20195"/>
                  <a:pt x="14400" y="14224"/>
                  <a:pt x="16841" y="13873"/>
                </a:cubicBezTo>
                <a:cubicBezTo>
                  <a:pt x="17817" y="13346"/>
                  <a:pt x="19037" y="17210"/>
                  <a:pt x="19892" y="15980"/>
                </a:cubicBezTo>
                <a:cubicBezTo>
                  <a:pt x="21600" y="12995"/>
                  <a:pt x="17207" y="8605"/>
                  <a:pt x="15132" y="5620"/>
                </a:cubicBezTo>
                <a:cubicBezTo>
                  <a:pt x="13912" y="3863"/>
                  <a:pt x="12081" y="0"/>
                  <a:pt x="10251" y="878"/>
                </a:cubicBezTo>
                <a:cubicBezTo>
                  <a:pt x="8786" y="1580"/>
                  <a:pt x="9763" y="5971"/>
                  <a:pt x="8542" y="7376"/>
                </a:cubicBezTo>
                <a:cubicBezTo>
                  <a:pt x="7200" y="8956"/>
                  <a:pt x="4881" y="5971"/>
                  <a:pt x="3661" y="7376"/>
                </a:cubicBezTo>
                <a:cubicBezTo>
                  <a:pt x="1220" y="10010"/>
                  <a:pt x="0" y="16332"/>
                  <a:pt x="1831" y="19844"/>
                </a:cubicBezTo>
                <a:cubicBezTo>
                  <a:pt x="2807" y="21600"/>
                  <a:pt x="5125" y="18966"/>
                  <a:pt x="6712" y="19317"/>
                </a:cubicBezTo>
                <a:cubicBezTo>
                  <a:pt x="7932" y="19844"/>
                  <a:pt x="9519" y="21600"/>
                  <a:pt x="11105" y="2072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94000" y="2552760"/>
            <a:ext cx="158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105" y="20722"/>
                </a:moveTo>
                <a:cubicBezTo>
                  <a:pt x="13302" y="20195"/>
                  <a:pt x="14400" y="14224"/>
                  <a:pt x="16841" y="13873"/>
                </a:cubicBezTo>
                <a:cubicBezTo>
                  <a:pt x="17817" y="13346"/>
                  <a:pt x="19037" y="17210"/>
                  <a:pt x="19892" y="15980"/>
                </a:cubicBezTo>
                <a:cubicBezTo>
                  <a:pt x="21600" y="12995"/>
                  <a:pt x="17207" y="8605"/>
                  <a:pt x="15132" y="5620"/>
                </a:cubicBezTo>
                <a:cubicBezTo>
                  <a:pt x="13912" y="3863"/>
                  <a:pt x="12081" y="0"/>
                  <a:pt x="10251" y="878"/>
                </a:cubicBezTo>
                <a:cubicBezTo>
                  <a:pt x="8786" y="1580"/>
                  <a:pt x="9763" y="5971"/>
                  <a:pt x="8542" y="7376"/>
                </a:cubicBezTo>
                <a:cubicBezTo>
                  <a:pt x="7200" y="8956"/>
                  <a:pt x="4881" y="5971"/>
                  <a:pt x="3661" y="7376"/>
                </a:cubicBezTo>
                <a:cubicBezTo>
                  <a:pt x="1220" y="10010"/>
                  <a:pt x="0" y="16332"/>
                  <a:pt x="1831" y="19844"/>
                </a:cubicBezTo>
                <a:cubicBezTo>
                  <a:pt x="2807" y="21600"/>
                  <a:pt x="5125" y="18966"/>
                  <a:pt x="6712" y="19317"/>
                </a:cubicBezTo>
                <a:cubicBezTo>
                  <a:pt x="7932" y="19844"/>
                  <a:pt x="9519" y="21600"/>
                  <a:pt x="11105" y="20722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67240" y="2384280"/>
            <a:ext cx="160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5" y="315"/>
                </a:moveTo>
                <a:cubicBezTo>
                  <a:pt x="2548" y="473"/>
                  <a:pt x="1578" y="4888"/>
                  <a:pt x="1092" y="7568"/>
                </a:cubicBezTo>
                <a:cubicBezTo>
                  <a:pt x="0" y="12298"/>
                  <a:pt x="1578" y="17185"/>
                  <a:pt x="4369" y="19550"/>
                </a:cubicBezTo>
                <a:cubicBezTo>
                  <a:pt x="7038" y="21600"/>
                  <a:pt x="9222" y="19235"/>
                  <a:pt x="12135" y="17501"/>
                </a:cubicBezTo>
                <a:cubicBezTo>
                  <a:pt x="13834" y="16555"/>
                  <a:pt x="16382" y="17028"/>
                  <a:pt x="17717" y="15136"/>
                </a:cubicBezTo>
                <a:cubicBezTo>
                  <a:pt x="18688" y="13559"/>
                  <a:pt x="17960" y="10564"/>
                  <a:pt x="18688" y="8514"/>
                </a:cubicBezTo>
                <a:cubicBezTo>
                  <a:pt x="19294" y="7253"/>
                  <a:pt x="21600" y="6622"/>
                  <a:pt x="21357" y="4888"/>
                </a:cubicBezTo>
                <a:cubicBezTo>
                  <a:pt x="20751" y="2207"/>
                  <a:pt x="17717" y="788"/>
                  <a:pt x="15654" y="788"/>
                </a:cubicBezTo>
                <a:cubicBezTo>
                  <a:pt x="13106" y="788"/>
                  <a:pt x="11285" y="5203"/>
                  <a:pt x="8737" y="4888"/>
                </a:cubicBezTo>
                <a:cubicBezTo>
                  <a:pt x="7160" y="4572"/>
                  <a:pt x="6674" y="0"/>
                  <a:pt x="4975" y="31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2384280"/>
            <a:ext cx="1602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75" y="315"/>
                </a:moveTo>
                <a:cubicBezTo>
                  <a:pt x="2548" y="473"/>
                  <a:pt x="1578" y="4888"/>
                  <a:pt x="1092" y="7568"/>
                </a:cubicBezTo>
                <a:cubicBezTo>
                  <a:pt x="0" y="12298"/>
                  <a:pt x="1578" y="17185"/>
                  <a:pt x="4369" y="19550"/>
                </a:cubicBezTo>
                <a:cubicBezTo>
                  <a:pt x="7038" y="21600"/>
                  <a:pt x="9222" y="19235"/>
                  <a:pt x="12135" y="17501"/>
                </a:cubicBezTo>
                <a:cubicBezTo>
                  <a:pt x="13834" y="16555"/>
                  <a:pt x="16382" y="17028"/>
                  <a:pt x="17717" y="15136"/>
                </a:cubicBezTo>
                <a:cubicBezTo>
                  <a:pt x="18688" y="13559"/>
                  <a:pt x="17960" y="10564"/>
                  <a:pt x="18688" y="8514"/>
                </a:cubicBezTo>
                <a:cubicBezTo>
                  <a:pt x="19294" y="7253"/>
                  <a:pt x="21600" y="6622"/>
                  <a:pt x="21357" y="4888"/>
                </a:cubicBezTo>
                <a:cubicBezTo>
                  <a:pt x="20751" y="2207"/>
                  <a:pt x="17717" y="788"/>
                  <a:pt x="15654" y="788"/>
                </a:cubicBezTo>
                <a:cubicBezTo>
                  <a:pt x="13106" y="788"/>
                  <a:pt x="11285" y="5203"/>
                  <a:pt x="8737" y="4888"/>
                </a:cubicBezTo>
                <a:cubicBezTo>
                  <a:pt x="7160" y="4572"/>
                  <a:pt x="6674" y="0"/>
                  <a:pt x="4975" y="315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3760" y="2244600"/>
            <a:ext cx="13176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19" y="3538"/>
                </a:moveTo>
                <a:cubicBezTo>
                  <a:pt x="1184" y="9124"/>
                  <a:pt x="0" y="19179"/>
                  <a:pt x="5030" y="21041"/>
                </a:cubicBezTo>
                <a:cubicBezTo>
                  <a:pt x="7545" y="21600"/>
                  <a:pt x="8433" y="15083"/>
                  <a:pt x="11244" y="15083"/>
                </a:cubicBezTo>
                <a:cubicBezTo>
                  <a:pt x="15978" y="14524"/>
                  <a:pt x="19677" y="21228"/>
                  <a:pt x="21008" y="16014"/>
                </a:cubicBezTo>
                <a:cubicBezTo>
                  <a:pt x="21600" y="12848"/>
                  <a:pt x="19677" y="1490"/>
                  <a:pt x="16570" y="931"/>
                </a:cubicBezTo>
                <a:cubicBezTo>
                  <a:pt x="14203" y="0"/>
                  <a:pt x="13167" y="4097"/>
                  <a:pt x="10652" y="4655"/>
                </a:cubicBezTo>
                <a:cubicBezTo>
                  <a:pt x="6510" y="5959"/>
                  <a:pt x="2811" y="0"/>
                  <a:pt x="2219" y="3538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3760" y="2244600"/>
            <a:ext cx="13176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19" y="3538"/>
                </a:moveTo>
                <a:cubicBezTo>
                  <a:pt x="1184" y="9124"/>
                  <a:pt x="0" y="19179"/>
                  <a:pt x="5030" y="21041"/>
                </a:cubicBezTo>
                <a:cubicBezTo>
                  <a:pt x="7545" y="21600"/>
                  <a:pt x="8433" y="15083"/>
                  <a:pt x="11244" y="15083"/>
                </a:cubicBezTo>
                <a:cubicBezTo>
                  <a:pt x="15978" y="14524"/>
                  <a:pt x="19677" y="21228"/>
                  <a:pt x="21008" y="16014"/>
                </a:cubicBezTo>
                <a:cubicBezTo>
                  <a:pt x="21600" y="12848"/>
                  <a:pt x="19677" y="1490"/>
                  <a:pt x="16570" y="931"/>
                </a:cubicBezTo>
                <a:cubicBezTo>
                  <a:pt x="14203" y="0"/>
                  <a:pt x="13167" y="4097"/>
                  <a:pt x="10652" y="4655"/>
                </a:cubicBezTo>
                <a:cubicBezTo>
                  <a:pt x="6510" y="5959"/>
                  <a:pt x="2811" y="0"/>
                  <a:pt x="2219" y="3538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3480" y="2244600"/>
            <a:ext cx="23832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36" y="18396"/>
                </a:moveTo>
                <a:cubicBezTo>
                  <a:pt x="9327" y="16615"/>
                  <a:pt x="9327" y="12224"/>
                  <a:pt x="11045" y="11275"/>
                </a:cubicBezTo>
                <a:cubicBezTo>
                  <a:pt x="12764" y="10207"/>
                  <a:pt x="14727" y="15310"/>
                  <a:pt x="16609" y="14004"/>
                </a:cubicBezTo>
                <a:cubicBezTo>
                  <a:pt x="17182" y="13767"/>
                  <a:pt x="16936" y="12224"/>
                  <a:pt x="17264" y="11275"/>
                </a:cubicBezTo>
                <a:cubicBezTo>
                  <a:pt x="18000" y="9613"/>
                  <a:pt x="20045" y="8545"/>
                  <a:pt x="20782" y="6290"/>
                </a:cubicBezTo>
                <a:cubicBezTo>
                  <a:pt x="21027" y="4747"/>
                  <a:pt x="21600" y="2255"/>
                  <a:pt x="20782" y="1543"/>
                </a:cubicBezTo>
                <a:cubicBezTo>
                  <a:pt x="19227" y="0"/>
                  <a:pt x="17264" y="4510"/>
                  <a:pt x="15382" y="4510"/>
                </a:cubicBezTo>
                <a:cubicBezTo>
                  <a:pt x="14155" y="4510"/>
                  <a:pt x="13336" y="1780"/>
                  <a:pt x="12109" y="1780"/>
                </a:cubicBezTo>
                <a:cubicBezTo>
                  <a:pt x="10391" y="1780"/>
                  <a:pt x="9164" y="4510"/>
                  <a:pt x="7936" y="6290"/>
                </a:cubicBezTo>
                <a:cubicBezTo>
                  <a:pt x="7282" y="7240"/>
                  <a:pt x="6709" y="8782"/>
                  <a:pt x="6218" y="9969"/>
                </a:cubicBezTo>
                <a:cubicBezTo>
                  <a:pt x="5891" y="10800"/>
                  <a:pt x="5727" y="12580"/>
                  <a:pt x="4991" y="12580"/>
                </a:cubicBezTo>
                <a:cubicBezTo>
                  <a:pt x="3682" y="12224"/>
                  <a:pt x="4909" y="6527"/>
                  <a:pt x="3273" y="6527"/>
                </a:cubicBezTo>
                <a:cubicBezTo>
                  <a:pt x="1391" y="6290"/>
                  <a:pt x="0" y="11275"/>
                  <a:pt x="327" y="14004"/>
                </a:cubicBezTo>
                <a:cubicBezTo>
                  <a:pt x="491" y="15310"/>
                  <a:pt x="1718" y="15785"/>
                  <a:pt x="2455" y="16615"/>
                </a:cubicBezTo>
                <a:cubicBezTo>
                  <a:pt x="3273" y="17565"/>
                  <a:pt x="3518" y="20057"/>
                  <a:pt x="4500" y="20769"/>
                </a:cubicBezTo>
                <a:cubicBezTo>
                  <a:pt x="5727" y="21600"/>
                  <a:pt x="6955" y="19582"/>
                  <a:pt x="7936" y="1839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3480" y="2244600"/>
            <a:ext cx="23832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36" y="18396"/>
                </a:moveTo>
                <a:cubicBezTo>
                  <a:pt x="9327" y="16615"/>
                  <a:pt x="9327" y="12224"/>
                  <a:pt x="11045" y="11275"/>
                </a:cubicBezTo>
                <a:cubicBezTo>
                  <a:pt x="12764" y="10207"/>
                  <a:pt x="14727" y="15310"/>
                  <a:pt x="16609" y="14004"/>
                </a:cubicBezTo>
                <a:cubicBezTo>
                  <a:pt x="17182" y="13767"/>
                  <a:pt x="16936" y="12224"/>
                  <a:pt x="17264" y="11275"/>
                </a:cubicBezTo>
                <a:cubicBezTo>
                  <a:pt x="18000" y="9613"/>
                  <a:pt x="20045" y="8545"/>
                  <a:pt x="20782" y="6290"/>
                </a:cubicBezTo>
                <a:cubicBezTo>
                  <a:pt x="21027" y="4747"/>
                  <a:pt x="21600" y="2255"/>
                  <a:pt x="20782" y="1543"/>
                </a:cubicBezTo>
                <a:cubicBezTo>
                  <a:pt x="19227" y="0"/>
                  <a:pt x="17264" y="4510"/>
                  <a:pt x="15382" y="4510"/>
                </a:cubicBezTo>
                <a:cubicBezTo>
                  <a:pt x="14155" y="4510"/>
                  <a:pt x="13336" y="1780"/>
                  <a:pt x="12109" y="1780"/>
                </a:cubicBezTo>
                <a:cubicBezTo>
                  <a:pt x="10391" y="1780"/>
                  <a:pt x="9164" y="4510"/>
                  <a:pt x="7936" y="6290"/>
                </a:cubicBezTo>
                <a:cubicBezTo>
                  <a:pt x="7282" y="7240"/>
                  <a:pt x="6709" y="8782"/>
                  <a:pt x="6218" y="9969"/>
                </a:cubicBezTo>
                <a:cubicBezTo>
                  <a:pt x="5891" y="10800"/>
                  <a:pt x="5727" y="12580"/>
                  <a:pt x="4991" y="12580"/>
                </a:cubicBezTo>
                <a:cubicBezTo>
                  <a:pt x="3682" y="12224"/>
                  <a:pt x="4909" y="6527"/>
                  <a:pt x="3273" y="6527"/>
                </a:cubicBezTo>
                <a:cubicBezTo>
                  <a:pt x="1391" y="6290"/>
                  <a:pt x="0" y="11275"/>
                  <a:pt x="327" y="14004"/>
                </a:cubicBezTo>
                <a:cubicBezTo>
                  <a:pt x="491" y="15310"/>
                  <a:pt x="1718" y="15785"/>
                  <a:pt x="2455" y="16615"/>
                </a:cubicBezTo>
                <a:cubicBezTo>
                  <a:pt x="3273" y="17565"/>
                  <a:pt x="3518" y="20057"/>
                  <a:pt x="4500" y="20769"/>
                </a:cubicBezTo>
                <a:cubicBezTo>
                  <a:pt x="5727" y="21600"/>
                  <a:pt x="6955" y="19582"/>
                  <a:pt x="7936" y="18396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64080" y="2130480"/>
            <a:ext cx="23508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76" y="9282"/>
                </a:moveTo>
                <a:cubicBezTo>
                  <a:pt x="3476" y="7981"/>
                  <a:pt x="6041" y="9108"/>
                  <a:pt x="7117" y="9629"/>
                </a:cubicBezTo>
                <a:cubicBezTo>
                  <a:pt x="7779" y="10063"/>
                  <a:pt x="7945" y="11711"/>
                  <a:pt x="8690" y="11537"/>
                </a:cubicBezTo>
                <a:cubicBezTo>
                  <a:pt x="10014" y="11104"/>
                  <a:pt x="10014" y="8588"/>
                  <a:pt x="10428" y="7027"/>
                </a:cubicBezTo>
                <a:cubicBezTo>
                  <a:pt x="10759" y="5812"/>
                  <a:pt x="10014" y="3990"/>
                  <a:pt x="11007" y="3036"/>
                </a:cubicBezTo>
                <a:cubicBezTo>
                  <a:pt x="11255" y="2689"/>
                  <a:pt x="12000" y="2342"/>
                  <a:pt x="12497" y="2342"/>
                </a:cubicBezTo>
                <a:cubicBezTo>
                  <a:pt x="13903" y="2342"/>
                  <a:pt x="14979" y="4511"/>
                  <a:pt x="16221" y="3990"/>
                </a:cubicBezTo>
                <a:cubicBezTo>
                  <a:pt x="17462" y="3383"/>
                  <a:pt x="16055" y="434"/>
                  <a:pt x="17297" y="87"/>
                </a:cubicBezTo>
                <a:cubicBezTo>
                  <a:pt x="17959" y="0"/>
                  <a:pt x="18455" y="1388"/>
                  <a:pt x="19117" y="2169"/>
                </a:cubicBezTo>
                <a:cubicBezTo>
                  <a:pt x="19862" y="2689"/>
                  <a:pt x="21103" y="3036"/>
                  <a:pt x="21186" y="3990"/>
                </a:cubicBezTo>
                <a:cubicBezTo>
                  <a:pt x="21600" y="5378"/>
                  <a:pt x="19366" y="6333"/>
                  <a:pt x="18952" y="7894"/>
                </a:cubicBezTo>
                <a:cubicBezTo>
                  <a:pt x="18703" y="9282"/>
                  <a:pt x="19366" y="10757"/>
                  <a:pt x="18952" y="12231"/>
                </a:cubicBezTo>
                <a:cubicBezTo>
                  <a:pt x="18455" y="14053"/>
                  <a:pt x="17048" y="15528"/>
                  <a:pt x="16303" y="17523"/>
                </a:cubicBezTo>
                <a:cubicBezTo>
                  <a:pt x="16055" y="18390"/>
                  <a:pt x="16552" y="19605"/>
                  <a:pt x="15890" y="20299"/>
                </a:cubicBezTo>
                <a:cubicBezTo>
                  <a:pt x="14814" y="21600"/>
                  <a:pt x="12497" y="21340"/>
                  <a:pt x="11007" y="21340"/>
                </a:cubicBezTo>
                <a:cubicBezTo>
                  <a:pt x="10179" y="21340"/>
                  <a:pt x="9352" y="20993"/>
                  <a:pt x="8690" y="20646"/>
                </a:cubicBezTo>
                <a:cubicBezTo>
                  <a:pt x="7779" y="20299"/>
                  <a:pt x="7283" y="19345"/>
                  <a:pt x="6290" y="18998"/>
                </a:cubicBezTo>
                <a:cubicBezTo>
                  <a:pt x="5545" y="18824"/>
                  <a:pt x="4883" y="18824"/>
                  <a:pt x="4138" y="18564"/>
                </a:cubicBezTo>
                <a:cubicBezTo>
                  <a:pt x="2400" y="17870"/>
                  <a:pt x="662" y="16655"/>
                  <a:pt x="248" y="14920"/>
                </a:cubicBezTo>
                <a:cubicBezTo>
                  <a:pt x="0" y="13446"/>
                  <a:pt x="2400" y="13880"/>
                  <a:pt x="3476" y="12405"/>
                </a:cubicBezTo>
                <a:cubicBezTo>
                  <a:pt x="3890" y="11711"/>
                  <a:pt x="2731" y="10063"/>
                  <a:pt x="3476" y="928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64080" y="2130480"/>
            <a:ext cx="23508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28" y="9282"/>
                </a:moveTo>
                <a:cubicBezTo>
                  <a:pt x="3228" y="9282"/>
                  <a:pt x="3476" y="9282"/>
                  <a:pt x="3476" y="9282"/>
                </a:cubicBezTo>
                <a:cubicBezTo>
                  <a:pt x="3476" y="7981"/>
                  <a:pt x="6041" y="9108"/>
                  <a:pt x="7117" y="9629"/>
                </a:cubicBezTo>
                <a:cubicBezTo>
                  <a:pt x="7779" y="10063"/>
                  <a:pt x="7945" y="11711"/>
                  <a:pt x="8690" y="11537"/>
                </a:cubicBezTo>
                <a:cubicBezTo>
                  <a:pt x="10014" y="11104"/>
                  <a:pt x="10014" y="8588"/>
                  <a:pt x="10428" y="7027"/>
                </a:cubicBezTo>
                <a:cubicBezTo>
                  <a:pt x="10759" y="5812"/>
                  <a:pt x="10014" y="3990"/>
                  <a:pt x="11007" y="3036"/>
                </a:cubicBezTo>
                <a:cubicBezTo>
                  <a:pt x="11255" y="2689"/>
                  <a:pt x="12000" y="2342"/>
                  <a:pt x="12497" y="2342"/>
                </a:cubicBezTo>
                <a:cubicBezTo>
                  <a:pt x="13903" y="2342"/>
                  <a:pt x="14979" y="4511"/>
                  <a:pt x="16221" y="3990"/>
                </a:cubicBezTo>
                <a:cubicBezTo>
                  <a:pt x="17462" y="3383"/>
                  <a:pt x="16055" y="434"/>
                  <a:pt x="17297" y="87"/>
                </a:cubicBezTo>
                <a:cubicBezTo>
                  <a:pt x="17959" y="0"/>
                  <a:pt x="18455" y="1388"/>
                  <a:pt x="19117" y="2169"/>
                </a:cubicBezTo>
                <a:cubicBezTo>
                  <a:pt x="19862" y="2689"/>
                  <a:pt x="21103" y="3036"/>
                  <a:pt x="21186" y="3990"/>
                </a:cubicBezTo>
                <a:cubicBezTo>
                  <a:pt x="21600" y="5378"/>
                  <a:pt x="19366" y="6333"/>
                  <a:pt x="18952" y="7894"/>
                </a:cubicBezTo>
                <a:cubicBezTo>
                  <a:pt x="18703" y="9282"/>
                  <a:pt x="19366" y="10757"/>
                  <a:pt x="18952" y="12231"/>
                </a:cubicBezTo>
                <a:cubicBezTo>
                  <a:pt x="18455" y="14053"/>
                  <a:pt x="17048" y="15528"/>
                  <a:pt x="16303" y="17523"/>
                </a:cubicBezTo>
                <a:cubicBezTo>
                  <a:pt x="16055" y="18390"/>
                  <a:pt x="16552" y="19605"/>
                  <a:pt x="15890" y="20299"/>
                </a:cubicBezTo>
                <a:cubicBezTo>
                  <a:pt x="14814" y="21600"/>
                  <a:pt x="12497" y="21340"/>
                  <a:pt x="11007" y="21340"/>
                </a:cubicBezTo>
                <a:cubicBezTo>
                  <a:pt x="10179" y="21340"/>
                  <a:pt x="9352" y="20993"/>
                  <a:pt x="8690" y="20646"/>
                </a:cubicBezTo>
                <a:cubicBezTo>
                  <a:pt x="7779" y="20299"/>
                  <a:pt x="7283" y="19345"/>
                  <a:pt x="6290" y="18998"/>
                </a:cubicBezTo>
                <a:cubicBezTo>
                  <a:pt x="5545" y="18824"/>
                  <a:pt x="4883" y="18824"/>
                  <a:pt x="4138" y="18564"/>
                </a:cubicBezTo>
                <a:cubicBezTo>
                  <a:pt x="2400" y="17870"/>
                  <a:pt x="662" y="16655"/>
                  <a:pt x="248" y="14920"/>
                </a:cubicBezTo>
                <a:cubicBezTo>
                  <a:pt x="0" y="13446"/>
                  <a:pt x="2400" y="13880"/>
                  <a:pt x="3476" y="12405"/>
                </a:cubicBezTo>
                <a:cubicBezTo>
                  <a:pt x="3890" y="11711"/>
                  <a:pt x="2566" y="10063"/>
                  <a:pt x="3228" y="9282"/>
                </a:cubicBezTo>
              </a:path>
            </a:pathLst>
          </a:custGeom>
          <a:solidFill>
            <a:srgbClr val="7f7f7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521240" y="2376360"/>
            <a:ext cx="100332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516560" y="2370240"/>
            <a:ext cx="1011240" cy="51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55" y="20535"/>
                </a:moveTo>
                <a:cubicBezTo>
                  <a:pt x="404" y="20459"/>
                  <a:pt x="212" y="19813"/>
                  <a:pt x="116" y="19356"/>
                </a:cubicBezTo>
                <a:cubicBezTo>
                  <a:pt x="0" y="18292"/>
                  <a:pt x="116" y="16999"/>
                  <a:pt x="443" y="16200"/>
                </a:cubicBezTo>
                <a:cubicBezTo>
                  <a:pt x="732" y="15477"/>
                  <a:pt x="1386" y="15477"/>
                  <a:pt x="1713" y="14831"/>
                </a:cubicBezTo>
                <a:cubicBezTo>
                  <a:pt x="2002" y="14299"/>
                  <a:pt x="2195" y="13462"/>
                  <a:pt x="2329" y="12739"/>
                </a:cubicBezTo>
                <a:cubicBezTo>
                  <a:pt x="2426" y="11789"/>
                  <a:pt x="2522" y="10838"/>
                  <a:pt x="2618" y="9849"/>
                </a:cubicBezTo>
                <a:cubicBezTo>
                  <a:pt x="3138" y="9545"/>
                  <a:pt x="3658" y="9241"/>
                  <a:pt x="4178" y="8899"/>
                </a:cubicBezTo>
                <a:cubicBezTo>
                  <a:pt x="4717" y="8785"/>
                  <a:pt x="5256" y="8670"/>
                  <a:pt x="5775" y="8594"/>
                </a:cubicBezTo>
                <a:cubicBezTo>
                  <a:pt x="5891" y="8138"/>
                  <a:pt x="5987" y="7530"/>
                  <a:pt x="6218" y="7187"/>
                </a:cubicBezTo>
                <a:cubicBezTo>
                  <a:pt x="6584" y="6731"/>
                  <a:pt x="7123" y="7035"/>
                  <a:pt x="7450" y="6541"/>
                </a:cubicBezTo>
                <a:cubicBezTo>
                  <a:pt x="7720" y="6161"/>
                  <a:pt x="8143" y="4868"/>
                  <a:pt x="8143" y="4868"/>
                </a:cubicBezTo>
                <a:cubicBezTo>
                  <a:pt x="8143" y="4868"/>
                  <a:pt x="8432" y="5134"/>
                  <a:pt x="8548" y="5210"/>
                </a:cubicBezTo>
                <a:cubicBezTo>
                  <a:pt x="9356" y="5514"/>
                  <a:pt x="10203" y="6008"/>
                  <a:pt x="11050" y="5704"/>
                </a:cubicBezTo>
                <a:cubicBezTo>
                  <a:pt x="11628" y="5438"/>
                  <a:pt x="12128" y="4639"/>
                  <a:pt x="12648" y="4221"/>
                </a:cubicBezTo>
                <a:cubicBezTo>
                  <a:pt x="13264" y="3727"/>
                  <a:pt x="13938" y="3537"/>
                  <a:pt x="14496" y="2700"/>
                </a:cubicBezTo>
                <a:cubicBezTo>
                  <a:pt x="14881" y="1977"/>
                  <a:pt x="15170" y="1331"/>
                  <a:pt x="15536" y="1103"/>
                </a:cubicBezTo>
                <a:cubicBezTo>
                  <a:pt x="16056" y="761"/>
                  <a:pt x="16710" y="380"/>
                  <a:pt x="17288" y="723"/>
                </a:cubicBezTo>
                <a:cubicBezTo>
                  <a:pt x="17692" y="951"/>
                  <a:pt x="17981" y="1825"/>
                  <a:pt x="18424" y="1977"/>
                </a:cubicBezTo>
                <a:cubicBezTo>
                  <a:pt x="18943" y="2130"/>
                  <a:pt x="19328" y="0"/>
                  <a:pt x="19983" y="304"/>
                </a:cubicBezTo>
                <a:cubicBezTo>
                  <a:pt x="20464" y="532"/>
                  <a:pt x="19983" y="2966"/>
                  <a:pt x="20464" y="3270"/>
                </a:cubicBezTo>
                <a:cubicBezTo>
                  <a:pt x="21157" y="3651"/>
                  <a:pt x="21600" y="1483"/>
                  <a:pt x="21504" y="2700"/>
                </a:cubicBezTo>
                <a:cubicBezTo>
                  <a:pt x="21446" y="3917"/>
                  <a:pt x="21350" y="6237"/>
                  <a:pt x="20618" y="7530"/>
                </a:cubicBezTo>
                <a:cubicBezTo>
                  <a:pt x="20426" y="7834"/>
                  <a:pt x="20098" y="7834"/>
                  <a:pt x="19810" y="8024"/>
                </a:cubicBezTo>
                <a:cubicBezTo>
                  <a:pt x="19521" y="8100"/>
                  <a:pt x="19194" y="8252"/>
                  <a:pt x="18847" y="8328"/>
                </a:cubicBezTo>
                <a:cubicBezTo>
                  <a:pt x="18558" y="8404"/>
                  <a:pt x="18135" y="8252"/>
                  <a:pt x="17942" y="8708"/>
                </a:cubicBezTo>
                <a:cubicBezTo>
                  <a:pt x="17615" y="9545"/>
                  <a:pt x="18058" y="11066"/>
                  <a:pt x="17769" y="12055"/>
                </a:cubicBezTo>
                <a:cubicBezTo>
                  <a:pt x="17384" y="13310"/>
                  <a:pt x="16441" y="13652"/>
                  <a:pt x="15959" y="15401"/>
                </a:cubicBezTo>
                <a:cubicBezTo>
                  <a:pt x="15786" y="16048"/>
                  <a:pt x="16056" y="16923"/>
                  <a:pt x="15959" y="17759"/>
                </a:cubicBezTo>
                <a:cubicBezTo>
                  <a:pt x="15786" y="18786"/>
                  <a:pt x="15343" y="19546"/>
                  <a:pt x="14554" y="20003"/>
                </a:cubicBezTo>
                <a:cubicBezTo>
                  <a:pt x="14207" y="20117"/>
                  <a:pt x="13341" y="20117"/>
                  <a:pt x="12975" y="19014"/>
                </a:cubicBezTo>
                <a:cubicBezTo>
                  <a:pt x="12802" y="18444"/>
                  <a:pt x="13226" y="17493"/>
                  <a:pt x="13014" y="16999"/>
                </a:cubicBezTo>
                <a:cubicBezTo>
                  <a:pt x="12783" y="16466"/>
                  <a:pt x="12244" y="16124"/>
                  <a:pt x="11917" y="16542"/>
                </a:cubicBezTo>
                <a:cubicBezTo>
                  <a:pt x="11551" y="16923"/>
                  <a:pt x="11763" y="18215"/>
                  <a:pt x="11551" y="18938"/>
                </a:cubicBezTo>
                <a:cubicBezTo>
                  <a:pt x="11435" y="19356"/>
                  <a:pt x="11320" y="19889"/>
                  <a:pt x="11050" y="20079"/>
                </a:cubicBezTo>
                <a:cubicBezTo>
                  <a:pt x="10704" y="20383"/>
                  <a:pt x="10203" y="19508"/>
                  <a:pt x="9799" y="19737"/>
                </a:cubicBezTo>
                <a:cubicBezTo>
                  <a:pt x="9318" y="20003"/>
                  <a:pt x="8586" y="21600"/>
                  <a:pt x="8586" y="21600"/>
                </a:cubicBezTo>
                <a:cubicBezTo>
                  <a:pt x="8586" y="21600"/>
                  <a:pt x="8779" y="19546"/>
                  <a:pt x="8548" y="18862"/>
                </a:cubicBezTo>
                <a:cubicBezTo>
                  <a:pt x="8451" y="18596"/>
                  <a:pt x="8259" y="18596"/>
                  <a:pt x="8143" y="18520"/>
                </a:cubicBezTo>
                <a:cubicBezTo>
                  <a:pt x="7643" y="18406"/>
                  <a:pt x="7123" y="18596"/>
                  <a:pt x="6584" y="18444"/>
                </a:cubicBezTo>
                <a:cubicBezTo>
                  <a:pt x="6026" y="18215"/>
                  <a:pt x="5544" y="16923"/>
                  <a:pt x="4928" y="17189"/>
                </a:cubicBezTo>
                <a:cubicBezTo>
                  <a:pt x="4505" y="17303"/>
                  <a:pt x="4312" y="18786"/>
                  <a:pt x="3850" y="18862"/>
                </a:cubicBezTo>
                <a:cubicBezTo>
                  <a:pt x="3504" y="18938"/>
                  <a:pt x="3253" y="17949"/>
                  <a:pt x="2888" y="17873"/>
                </a:cubicBezTo>
                <a:cubicBezTo>
                  <a:pt x="2618" y="17835"/>
                  <a:pt x="2272" y="18215"/>
                  <a:pt x="2002" y="18520"/>
                </a:cubicBezTo>
                <a:cubicBezTo>
                  <a:pt x="1521" y="19090"/>
                  <a:pt x="1194" y="20687"/>
                  <a:pt x="655" y="20535"/>
                </a:cubicBezTo>
              </a:path>
            </a:pathLst>
          </a:custGeom>
          <a:solidFill>
            <a:srgbClr val="b2b2b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46800" y="2349360"/>
            <a:ext cx="672840" cy="4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780"/>
                </a:moveTo>
                <a:cubicBezTo>
                  <a:pt x="21225" y="2552"/>
                  <a:pt x="20820" y="2324"/>
                  <a:pt x="20387" y="2233"/>
                </a:cubicBezTo>
                <a:cubicBezTo>
                  <a:pt x="19839" y="2142"/>
                  <a:pt x="19232" y="2552"/>
                  <a:pt x="18683" y="2415"/>
                </a:cubicBezTo>
                <a:cubicBezTo>
                  <a:pt x="17759" y="2324"/>
                  <a:pt x="16893" y="1549"/>
                  <a:pt x="15998" y="1094"/>
                </a:cubicBezTo>
                <a:cubicBezTo>
                  <a:pt x="15334" y="775"/>
                  <a:pt x="14641" y="0"/>
                  <a:pt x="13976" y="228"/>
                </a:cubicBezTo>
                <a:cubicBezTo>
                  <a:pt x="13312" y="410"/>
                  <a:pt x="12879" y="1641"/>
                  <a:pt x="12215" y="2005"/>
                </a:cubicBezTo>
                <a:cubicBezTo>
                  <a:pt x="11522" y="2415"/>
                  <a:pt x="10742" y="2324"/>
                  <a:pt x="10020" y="2552"/>
                </a:cubicBezTo>
                <a:cubicBezTo>
                  <a:pt x="9587" y="2597"/>
                  <a:pt x="9039" y="2415"/>
                  <a:pt x="8663" y="2780"/>
                </a:cubicBezTo>
                <a:cubicBezTo>
                  <a:pt x="8057" y="3463"/>
                  <a:pt x="8230" y="5787"/>
                  <a:pt x="7450" y="6152"/>
                </a:cubicBezTo>
                <a:cubicBezTo>
                  <a:pt x="7017" y="6380"/>
                  <a:pt x="6468" y="5696"/>
                  <a:pt x="6035" y="5332"/>
                </a:cubicBezTo>
                <a:cubicBezTo>
                  <a:pt x="5804" y="5104"/>
                  <a:pt x="5544" y="4557"/>
                  <a:pt x="5313" y="4238"/>
                </a:cubicBezTo>
                <a:cubicBezTo>
                  <a:pt x="4938" y="3782"/>
                  <a:pt x="4476" y="2597"/>
                  <a:pt x="3985" y="2916"/>
                </a:cubicBezTo>
                <a:cubicBezTo>
                  <a:pt x="3610" y="3099"/>
                  <a:pt x="3783" y="4147"/>
                  <a:pt x="3783" y="4830"/>
                </a:cubicBezTo>
                <a:cubicBezTo>
                  <a:pt x="3783" y="5787"/>
                  <a:pt x="3985" y="6835"/>
                  <a:pt x="4043" y="7838"/>
                </a:cubicBezTo>
                <a:cubicBezTo>
                  <a:pt x="4043" y="8203"/>
                  <a:pt x="4072" y="8749"/>
                  <a:pt x="3985" y="9159"/>
                </a:cubicBezTo>
                <a:cubicBezTo>
                  <a:pt x="3610" y="10208"/>
                  <a:pt x="2801" y="10709"/>
                  <a:pt x="2137" y="11301"/>
                </a:cubicBezTo>
                <a:cubicBezTo>
                  <a:pt x="1588" y="11757"/>
                  <a:pt x="664" y="11666"/>
                  <a:pt x="318" y="12623"/>
                </a:cubicBezTo>
                <a:cubicBezTo>
                  <a:pt x="144" y="12987"/>
                  <a:pt x="318" y="13580"/>
                  <a:pt x="433" y="14172"/>
                </a:cubicBezTo>
                <a:cubicBezTo>
                  <a:pt x="491" y="14765"/>
                  <a:pt x="664" y="15448"/>
                  <a:pt x="606" y="15995"/>
                </a:cubicBezTo>
                <a:cubicBezTo>
                  <a:pt x="578" y="16861"/>
                  <a:pt x="0" y="17590"/>
                  <a:pt x="0" y="18501"/>
                </a:cubicBezTo>
                <a:cubicBezTo>
                  <a:pt x="0" y="18957"/>
                  <a:pt x="173" y="19641"/>
                  <a:pt x="433" y="20142"/>
                </a:cubicBezTo>
                <a:cubicBezTo>
                  <a:pt x="664" y="20597"/>
                  <a:pt x="982" y="21372"/>
                  <a:pt x="1473" y="21509"/>
                </a:cubicBezTo>
                <a:cubicBezTo>
                  <a:pt x="2195" y="21600"/>
                  <a:pt x="3350" y="19641"/>
                  <a:pt x="3350" y="19641"/>
                </a:cubicBezTo>
                <a:cubicBezTo>
                  <a:pt x="3350" y="19641"/>
                  <a:pt x="2195" y="19048"/>
                  <a:pt x="2079" y="18273"/>
                </a:cubicBezTo>
                <a:cubicBezTo>
                  <a:pt x="2021" y="17727"/>
                  <a:pt x="2426" y="17225"/>
                  <a:pt x="2686" y="16861"/>
                </a:cubicBezTo>
                <a:cubicBezTo>
                  <a:pt x="3292" y="15995"/>
                  <a:pt x="4129" y="14856"/>
                  <a:pt x="4938" y="15220"/>
                </a:cubicBezTo>
                <a:cubicBezTo>
                  <a:pt x="5429" y="15448"/>
                  <a:pt x="5313" y="17043"/>
                  <a:pt x="5804" y="17225"/>
                </a:cubicBezTo>
                <a:cubicBezTo>
                  <a:pt x="6411" y="17544"/>
                  <a:pt x="7017" y="15813"/>
                  <a:pt x="7739" y="15995"/>
                </a:cubicBezTo>
                <a:cubicBezTo>
                  <a:pt x="8317" y="16086"/>
                  <a:pt x="8750" y="16861"/>
                  <a:pt x="9039" y="17544"/>
                </a:cubicBezTo>
                <a:cubicBezTo>
                  <a:pt x="9472" y="18365"/>
                  <a:pt x="9587" y="20825"/>
                  <a:pt x="9587" y="20825"/>
                </a:cubicBezTo>
                <a:cubicBezTo>
                  <a:pt x="9587" y="20825"/>
                  <a:pt x="10944" y="20051"/>
                  <a:pt x="11580" y="19823"/>
                </a:cubicBezTo>
                <a:cubicBezTo>
                  <a:pt x="12561" y="19641"/>
                  <a:pt x="13717" y="20506"/>
                  <a:pt x="14583" y="19732"/>
                </a:cubicBezTo>
                <a:cubicBezTo>
                  <a:pt x="15132" y="19276"/>
                  <a:pt x="15565" y="16952"/>
                  <a:pt x="15565" y="16952"/>
                </a:cubicBezTo>
                <a:cubicBezTo>
                  <a:pt x="15565" y="16952"/>
                  <a:pt x="16402" y="20051"/>
                  <a:pt x="17268" y="20734"/>
                </a:cubicBezTo>
                <a:cubicBezTo>
                  <a:pt x="17557" y="21008"/>
                  <a:pt x="18048" y="21099"/>
                  <a:pt x="18424" y="20916"/>
                </a:cubicBezTo>
                <a:cubicBezTo>
                  <a:pt x="19463" y="20324"/>
                  <a:pt x="19521" y="17453"/>
                  <a:pt x="20503" y="16770"/>
                </a:cubicBezTo>
                <a:cubicBezTo>
                  <a:pt x="20878" y="16451"/>
                  <a:pt x="21225" y="16451"/>
                  <a:pt x="21600" y="1645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2478240"/>
            <a:ext cx="536760" cy="32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" y="13250"/>
                </a:moveTo>
                <a:cubicBezTo>
                  <a:pt x="145" y="15671"/>
                  <a:pt x="2936" y="15187"/>
                  <a:pt x="3624" y="17244"/>
                </a:cubicBezTo>
                <a:cubicBezTo>
                  <a:pt x="4059" y="18635"/>
                  <a:pt x="3697" y="20269"/>
                  <a:pt x="4349" y="21116"/>
                </a:cubicBezTo>
                <a:cubicBezTo>
                  <a:pt x="4893" y="21600"/>
                  <a:pt x="5690" y="20571"/>
                  <a:pt x="6052" y="19785"/>
                </a:cubicBezTo>
                <a:cubicBezTo>
                  <a:pt x="6668" y="18514"/>
                  <a:pt x="6487" y="16336"/>
                  <a:pt x="7212" y="15308"/>
                </a:cubicBezTo>
                <a:cubicBezTo>
                  <a:pt x="7828" y="14461"/>
                  <a:pt x="8879" y="14461"/>
                  <a:pt x="9749" y="14703"/>
                </a:cubicBezTo>
                <a:cubicBezTo>
                  <a:pt x="10401" y="14945"/>
                  <a:pt x="10945" y="16215"/>
                  <a:pt x="11742" y="16578"/>
                </a:cubicBezTo>
                <a:cubicBezTo>
                  <a:pt x="12177" y="16820"/>
                  <a:pt x="12721" y="17365"/>
                  <a:pt x="13192" y="17123"/>
                </a:cubicBezTo>
                <a:cubicBezTo>
                  <a:pt x="13881" y="16699"/>
                  <a:pt x="14569" y="15671"/>
                  <a:pt x="14787" y="14461"/>
                </a:cubicBezTo>
                <a:cubicBezTo>
                  <a:pt x="15040" y="13129"/>
                  <a:pt x="14497" y="11738"/>
                  <a:pt x="14714" y="10467"/>
                </a:cubicBezTo>
                <a:cubicBezTo>
                  <a:pt x="15113" y="8531"/>
                  <a:pt x="16635" y="7926"/>
                  <a:pt x="17613" y="6595"/>
                </a:cubicBezTo>
                <a:cubicBezTo>
                  <a:pt x="18773" y="5082"/>
                  <a:pt x="21600" y="4175"/>
                  <a:pt x="21165" y="1815"/>
                </a:cubicBezTo>
                <a:cubicBezTo>
                  <a:pt x="20839" y="0"/>
                  <a:pt x="18954" y="484"/>
                  <a:pt x="17795" y="1029"/>
                </a:cubicBezTo>
                <a:cubicBezTo>
                  <a:pt x="16454" y="1513"/>
                  <a:pt x="15765" y="4477"/>
                  <a:pt x="14497" y="5082"/>
                </a:cubicBezTo>
                <a:cubicBezTo>
                  <a:pt x="12467" y="5990"/>
                  <a:pt x="10329" y="4356"/>
                  <a:pt x="8372" y="5082"/>
                </a:cubicBezTo>
                <a:cubicBezTo>
                  <a:pt x="7466" y="5506"/>
                  <a:pt x="6668" y="6413"/>
                  <a:pt x="5835" y="7261"/>
                </a:cubicBezTo>
                <a:cubicBezTo>
                  <a:pt x="4856" y="8289"/>
                  <a:pt x="3987" y="9681"/>
                  <a:pt x="3081" y="10709"/>
                </a:cubicBezTo>
                <a:cubicBezTo>
                  <a:pt x="2138" y="11738"/>
                  <a:pt x="0" y="11375"/>
                  <a:pt x="72" y="1325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2478240"/>
            <a:ext cx="536760" cy="32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" y="13250"/>
                </a:moveTo>
                <a:cubicBezTo>
                  <a:pt x="145" y="15671"/>
                  <a:pt x="2936" y="15187"/>
                  <a:pt x="3624" y="17244"/>
                </a:cubicBezTo>
                <a:cubicBezTo>
                  <a:pt x="4059" y="18635"/>
                  <a:pt x="3697" y="20269"/>
                  <a:pt x="4349" y="21116"/>
                </a:cubicBezTo>
                <a:cubicBezTo>
                  <a:pt x="4893" y="21600"/>
                  <a:pt x="5690" y="20571"/>
                  <a:pt x="6052" y="19785"/>
                </a:cubicBezTo>
                <a:cubicBezTo>
                  <a:pt x="6668" y="18514"/>
                  <a:pt x="6487" y="16336"/>
                  <a:pt x="7212" y="15308"/>
                </a:cubicBezTo>
                <a:cubicBezTo>
                  <a:pt x="7828" y="14461"/>
                  <a:pt x="8879" y="14461"/>
                  <a:pt x="9749" y="14703"/>
                </a:cubicBezTo>
                <a:cubicBezTo>
                  <a:pt x="10401" y="14945"/>
                  <a:pt x="10945" y="16215"/>
                  <a:pt x="11742" y="16578"/>
                </a:cubicBezTo>
                <a:cubicBezTo>
                  <a:pt x="12177" y="16820"/>
                  <a:pt x="12721" y="17365"/>
                  <a:pt x="13192" y="17123"/>
                </a:cubicBezTo>
                <a:cubicBezTo>
                  <a:pt x="13881" y="16699"/>
                  <a:pt x="14569" y="15671"/>
                  <a:pt x="14787" y="14461"/>
                </a:cubicBezTo>
                <a:cubicBezTo>
                  <a:pt x="15040" y="13129"/>
                  <a:pt x="14497" y="11738"/>
                  <a:pt x="14714" y="10467"/>
                </a:cubicBezTo>
                <a:cubicBezTo>
                  <a:pt x="15113" y="8531"/>
                  <a:pt x="16635" y="7926"/>
                  <a:pt x="17613" y="6595"/>
                </a:cubicBezTo>
                <a:cubicBezTo>
                  <a:pt x="18773" y="5082"/>
                  <a:pt x="21600" y="4175"/>
                  <a:pt x="21165" y="1815"/>
                </a:cubicBezTo>
                <a:cubicBezTo>
                  <a:pt x="20839" y="0"/>
                  <a:pt x="18954" y="484"/>
                  <a:pt x="17795" y="1029"/>
                </a:cubicBezTo>
                <a:cubicBezTo>
                  <a:pt x="16454" y="1513"/>
                  <a:pt x="15765" y="4477"/>
                  <a:pt x="14497" y="5082"/>
                </a:cubicBezTo>
                <a:cubicBezTo>
                  <a:pt x="12467" y="5990"/>
                  <a:pt x="10329" y="4356"/>
                  <a:pt x="8372" y="5082"/>
                </a:cubicBezTo>
                <a:cubicBezTo>
                  <a:pt x="7466" y="5506"/>
                  <a:pt x="6668" y="6413"/>
                  <a:pt x="5835" y="7261"/>
                </a:cubicBezTo>
                <a:cubicBezTo>
                  <a:pt x="4856" y="8289"/>
                  <a:pt x="3987" y="9681"/>
                  <a:pt x="3081" y="10709"/>
                </a:cubicBezTo>
                <a:cubicBezTo>
                  <a:pt x="2138" y="11738"/>
                  <a:pt x="0" y="11375"/>
                  <a:pt x="72" y="13250"/>
                </a:cubicBezTo>
              </a:path>
            </a:pathLst>
          </a:custGeom>
          <a:solidFill>
            <a:srgbClr val="7f7f7f"/>
          </a:solidFill>
          <a:ln w="3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240" y="2590920"/>
            <a:ext cx="14436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343" y="6333"/>
                </a:moveTo>
                <a:cubicBezTo>
                  <a:pt x="8989" y="8255"/>
                  <a:pt x="3354" y="8369"/>
                  <a:pt x="1476" y="11535"/>
                </a:cubicBezTo>
                <a:cubicBezTo>
                  <a:pt x="0" y="13910"/>
                  <a:pt x="268" y="17981"/>
                  <a:pt x="2817" y="19677"/>
                </a:cubicBezTo>
                <a:cubicBezTo>
                  <a:pt x="5366" y="21600"/>
                  <a:pt x="10062" y="21148"/>
                  <a:pt x="13282" y="19904"/>
                </a:cubicBezTo>
                <a:cubicBezTo>
                  <a:pt x="15294" y="19112"/>
                  <a:pt x="17039" y="17529"/>
                  <a:pt x="17843" y="15832"/>
                </a:cubicBezTo>
                <a:cubicBezTo>
                  <a:pt x="19319" y="13005"/>
                  <a:pt x="19588" y="9386"/>
                  <a:pt x="20124" y="6333"/>
                </a:cubicBezTo>
                <a:cubicBezTo>
                  <a:pt x="20393" y="4637"/>
                  <a:pt x="21600" y="1470"/>
                  <a:pt x="19588" y="1018"/>
                </a:cubicBezTo>
                <a:cubicBezTo>
                  <a:pt x="16636" y="0"/>
                  <a:pt x="15026" y="4863"/>
                  <a:pt x="12343" y="6333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240" y="2590920"/>
            <a:ext cx="144360" cy="1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343" y="6333"/>
                </a:moveTo>
                <a:cubicBezTo>
                  <a:pt x="8989" y="8255"/>
                  <a:pt x="3354" y="8369"/>
                  <a:pt x="1476" y="11535"/>
                </a:cubicBezTo>
                <a:cubicBezTo>
                  <a:pt x="0" y="13910"/>
                  <a:pt x="268" y="17981"/>
                  <a:pt x="2817" y="19677"/>
                </a:cubicBezTo>
                <a:cubicBezTo>
                  <a:pt x="5366" y="21600"/>
                  <a:pt x="10062" y="21148"/>
                  <a:pt x="13282" y="19904"/>
                </a:cubicBezTo>
                <a:cubicBezTo>
                  <a:pt x="15294" y="19112"/>
                  <a:pt x="17039" y="17529"/>
                  <a:pt x="17843" y="15832"/>
                </a:cubicBezTo>
                <a:cubicBezTo>
                  <a:pt x="19319" y="13005"/>
                  <a:pt x="19588" y="9386"/>
                  <a:pt x="20124" y="6333"/>
                </a:cubicBezTo>
                <a:cubicBezTo>
                  <a:pt x="20393" y="4637"/>
                  <a:pt x="21600" y="1470"/>
                  <a:pt x="19588" y="1018"/>
                </a:cubicBezTo>
                <a:cubicBezTo>
                  <a:pt x="16636" y="0"/>
                  <a:pt x="15026" y="4863"/>
                  <a:pt x="12343" y="6333"/>
                </a:cubicBezTo>
              </a:path>
            </a:pathLst>
          </a:custGeom>
          <a:solidFill>
            <a:srgbClr val="7f7f7f"/>
          </a:solidFill>
          <a:ln w="3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3087720"/>
            <a:ext cx="54468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23"/>
                </a:moveTo>
                <a:cubicBezTo>
                  <a:pt x="1035" y="15508"/>
                  <a:pt x="2071" y="9969"/>
                  <a:pt x="3677" y="6646"/>
                </a:cubicBezTo>
                <a:cubicBezTo>
                  <a:pt x="5070" y="3877"/>
                  <a:pt x="6891" y="4292"/>
                  <a:pt x="8497" y="4569"/>
                </a:cubicBezTo>
                <a:cubicBezTo>
                  <a:pt x="9818" y="4985"/>
                  <a:pt x="11246" y="9000"/>
                  <a:pt x="12639" y="7892"/>
                </a:cubicBezTo>
                <a:cubicBezTo>
                  <a:pt x="13531" y="6923"/>
                  <a:pt x="13960" y="831"/>
                  <a:pt x="15031" y="554"/>
                </a:cubicBezTo>
                <a:cubicBezTo>
                  <a:pt x="16673" y="0"/>
                  <a:pt x="18280" y="5262"/>
                  <a:pt x="19565" y="9969"/>
                </a:cubicBezTo>
                <a:cubicBezTo>
                  <a:pt x="20386" y="13154"/>
                  <a:pt x="21064" y="17169"/>
                  <a:pt x="21600" y="21600"/>
                </a:cubicBezTo>
                <a:cubicBezTo>
                  <a:pt x="21386" y="21600"/>
                  <a:pt x="21064" y="21323"/>
                  <a:pt x="20850" y="21323"/>
                </a:cubicBezTo>
                <a:cubicBezTo>
                  <a:pt x="19494" y="21046"/>
                  <a:pt x="18137" y="20769"/>
                  <a:pt x="16852" y="20492"/>
                </a:cubicBezTo>
                <a:cubicBezTo>
                  <a:pt x="14674" y="20215"/>
                  <a:pt x="12460" y="20769"/>
                  <a:pt x="10354" y="20769"/>
                </a:cubicBezTo>
                <a:cubicBezTo>
                  <a:pt x="6891" y="21046"/>
                  <a:pt x="3499" y="21323"/>
                  <a:pt x="0" y="21323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6920" y="3087720"/>
            <a:ext cx="544680" cy="14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323"/>
                </a:moveTo>
                <a:cubicBezTo>
                  <a:pt x="1035" y="15508"/>
                  <a:pt x="2071" y="9969"/>
                  <a:pt x="3677" y="6646"/>
                </a:cubicBezTo>
                <a:cubicBezTo>
                  <a:pt x="5070" y="3877"/>
                  <a:pt x="6891" y="4292"/>
                  <a:pt x="8497" y="4569"/>
                </a:cubicBezTo>
                <a:cubicBezTo>
                  <a:pt x="9818" y="4985"/>
                  <a:pt x="11246" y="9000"/>
                  <a:pt x="12639" y="7892"/>
                </a:cubicBezTo>
                <a:cubicBezTo>
                  <a:pt x="13531" y="6923"/>
                  <a:pt x="13960" y="831"/>
                  <a:pt x="15031" y="554"/>
                </a:cubicBezTo>
                <a:cubicBezTo>
                  <a:pt x="16673" y="0"/>
                  <a:pt x="18280" y="5262"/>
                  <a:pt x="19565" y="9969"/>
                </a:cubicBezTo>
                <a:cubicBezTo>
                  <a:pt x="20386" y="13154"/>
                  <a:pt x="21064" y="17169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3720" y="2982960"/>
            <a:ext cx="62856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8" y="8151"/>
                </a:moveTo>
                <a:cubicBezTo>
                  <a:pt x="1174" y="9211"/>
                  <a:pt x="0" y="11411"/>
                  <a:pt x="340" y="13612"/>
                </a:cubicBezTo>
                <a:cubicBezTo>
                  <a:pt x="1607" y="21600"/>
                  <a:pt x="6736" y="16465"/>
                  <a:pt x="9888" y="14835"/>
                </a:cubicBezTo>
                <a:cubicBezTo>
                  <a:pt x="11032" y="14346"/>
                  <a:pt x="12082" y="11411"/>
                  <a:pt x="13257" y="11085"/>
                </a:cubicBezTo>
                <a:cubicBezTo>
                  <a:pt x="14122" y="10841"/>
                  <a:pt x="15049" y="11574"/>
                  <a:pt x="15821" y="12634"/>
                </a:cubicBezTo>
                <a:cubicBezTo>
                  <a:pt x="16532" y="13612"/>
                  <a:pt x="16872" y="17280"/>
                  <a:pt x="17706" y="17280"/>
                </a:cubicBezTo>
                <a:cubicBezTo>
                  <a:pt x="19221" y="17280"/>
                  <a:pt x="21600" y="12960"/>
                  <a:pt x="21167" y="9048"/>
                </a:cubicBezTo>
                <a:cubicBezTo>
                  <a:pt x="20827" y="5869"/>
                  <a:pt x="18633" y="8803"/>
                  <a:pt x="17428" y="7417"/>
                </a:cubicBezTo>
                <a:cubicBezTo>
                  <a:pt x="16409" y="6276"/>
                  <a:pt x="15667" y="2608"/>
                  <a:pt x="14585" y="1630"/>
                </a:cubicBezTo>
                <a:cubicBezTo>
                  <a:pt x="13597" y="734"/>
                  <a:pt x="12422" y="0"/>
                  <a:pt x="11372" y="734"/>
                </a:cubicBezTo>
                <a:cubicBezTo>
                  <a:pt x="10661" y="1223"/>
                  <a:pt x="10352" y="3994"/>
                  <a:pt x="9610" y="4646"/>
                </a:cubicBezTo>
                <a:cubicBezTo>
                  <a:pt x="8591" y="5787"/>
                  <a:pt x="7324" y="4238"/>
                  <a:pt x="6149" y="4565"/>
                </a:cubicBezTo>
                <a:cubicBezTo>
                  <a:pt x="5624" y="4646"/>
                  <a:pt x="5037" y="5380"/>
                  <a:pt x="4450" y="5869"/>
                </a:cubicBezTo>
                <a:cubicBezTo>
                  <a:pt x="3677" y="6439"/>
                  <a:pt x="1854" y="6032"/>
                  <a:pt x="1978" y="815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03720" y="2982960"/>
            <a:ext cx="628560" cy="23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1" y="7825"/>
                </a:moveTo>
                <a:cubicBezTo>
                  <a:pt x="2101" y="7825"/>
                  <a:pt x="1978" y="8151"/>
                  <a:pt x="1978" y="8151"/>
                </a:cubicBezTo>
                <a:cubicBezTo>
                  <a:pt x="1174" y="9211"/>
                  <a:pt x="0" y="11411"/>
                  <a:pt x="340" y="13612"/>
                </a:cubicBezTo>
                <a:cubicBezTo>
                  <a:pt x="1607" y="21600"/>
                  <a:pt x="6736" y="16465"/>
                  <a:pt x="9888" y="14835"/>
                </a:cubicBezTo>
                <a:cubicBezTo>
                  <a:pt x="11032" y="14346"/>
                  <a:pt x="12082" y="11411"/>
                  <a:pt x="13257" y="11085"/>
                </a:cubicBezTo>
                <a:cubicBezTo>
                  <a:pt x="14122" y="10841"/>
                  <a:pt x="15049" y="11574"/>
                  <a:pt x="15821" y="12634"/>
                </a:cubicBezTo>
                <a:cubicBezTo>
                  <a:pt x="16532" y="13612"/>
                  <a:pt x="16872" y="17280"/>
                  <a:pt x="17706" y="17280"/>
                </a:cubicBezTo>
                <a:cubicBezTo>
                  <a:pt x="19221" y="17280"/>
                  <a:pt x="21600" y="12960"/>
                  <a:pt x="21167" y="9048"/>
                </a:cubicBezTo>
                <a:cubicBezTo>
                  <a:pt x="20827" y="5869"/>
                  <a:pt x="18633" y="8803"/>
                  <a:pt x="17428" y="7417"/>
                </a:cubicBezTo>
                <a:cubicBezTo>
                  <a:pt x="16409" y="6276"/>
                  <a:pt x="15667" y="2608"/>
                  <a:pt x="14585" y="1630"/>
                </a:cubicBezTo>
                <a:cubicBezTo>
                  <a:pt x="13597" y="734"/>
                  <a:pt x="12422" y="0"/>
                  <a:pt x="11372" y="734"/>
                </a:cubicBezTo>
                <a:cubicBezTo>
                  <a:pt x="10661" y="1223"/>
                  <a:pt x="10352" y="3994"/>
                  <a:pt x="9610" y="4646"/>
                </a:cubicBezTo>
                <a:cubicBezTo>
                  <a:pt x="8591" y="5787"/>
                  <a:pt x="7324" y="4238"/>
                  <a:pt x="6149" y="4565"/>
                </a:cubicBezTo>
                <a:cubicBezTo>
                  <a:pt x="5624" y="4646"/>
                  <a:pt x="5037" y="5380"/>
                  <a:pt x="4450" y="5869"/>
                </a:cubicBezTo>
                <a:cubicBezTo>
                  <a:pt x="3677" y="6439"/>
                  <a:pt x="1978" y="5787"/>
                  <a:pt x="2101" y="782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03920" y="2895480"/>
            <a:ext cx="100800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" y="13412"/>
                </a:moveTo>
                <a:cubicBezTo>
                  <a:pt x="0" y="15812"/>
                  <a:pt x="1273" y="15459"/>
                  <a:pt x="1871" y="16659"/>
                </a:cubicBezTo>
                <a:cubicBezTo>
                  <a:pt x="2314" y="17576"/>
                  <a:pt x="2681" y="19341"/>
                  <a:pt x="3221" y="20118"/>
                </a:cubicBezTo>
                <a:cubicBezTo>
                  <a:pt x="3954" y="21176"/>
                  <a:pt x="4764" y="21600"/>
                  <a:pt x="5535" y="21388"/>
                </a:cubicBezTo>
                <a:cubicBezTo>
                  <a:pt x="7001" y="21176"/>
                  <a:pt x="8389" y="17224"/>
                  <a:pt x="9855" y="17153"/>
                </a:cubicBezTo>
                <a:cubicBezTo>
                  <a:pt x="10549" y="17153"/>
                  <a:pt x="11321" y="20259"/>
                  <a:pt x="12034" y="19200"/>
                </a:cubicBezTo>
                <a:cubicBezTo>
                  <a:pt x="12381" y="18776"/>
                  <a:pt x="12343" y="16165"/>
                  <a:pt x="12671" y="15318"/>
                </a:cubicBezTo>
                <a:cubicBezTo>
                  <a:pt x="13442" y="13059"/>
                  <a:pt x="14541" y="12635"/>
                  <a:pt x="15564" y="12212"/>
                </a:cubicBezTo>
                <a:cubicBezTo>
                  <a:pt x="16412" y="11859"/>
                  <a:pt x="17357" y="13553"/>
                  <a:pt x="18206" y="12847"/>
                </a:cubicBezTo>
                <a:cubicBezTo>
                  <a:pt x="18900" y="12212"/>
                  <a:pt x="19440" y="9953"/>
                  <a:pt x="20038" y="8471"/>
                </a:cubicBezTo>
                <a:cubicBezTo>
                  <a:pt x="20481" y="7271"/>
                  <a:pt x="21600" y="6565"/>
                  <a:pt x="21388" y="4729"/>
                </a:cubicBezTo>
                <a:cubicBezTo>
                  <a:pt x="20809" y="0"/>
                  <a:pt x="18630" y="7694"/>
                  <a:pt x="17145" y="8188"/>
                </a:cubicBezTo>
                <a:cubicBezTo>
                  <a:pt x="15930" y="8471"/>
                  <a:pt x="14657" y="7624"/>
                  <a:pt x="13404" y="7129"/>
                </a:cubicBezTo>
                <a:cubicBezTo>
                  <a:pt x="12343" y="6635"/>
                  <a:pt x="11186" y="4024"/>
                  <a:pt x="10144" y="5365"/>
                </a:cubicBezTo>
                <a:cubicBezTo>
                  <a:pt x="9296" y="6565"/>
                  <a:pt x="9045" y="11153"/>
                  <a:pt x="8274" y="12918"/>
                </a:cubicBezTo>
                <a:cubicBezTo>
                  <a:pt x="7329" y="15176"/>
                  <a:pt x="6152" y="16659"/>
                  <a:pt x="5053" y="16518"/>
                </a:cubicBezTo>
                <a:cubicBezTo>
                  <a:pt x="4204" y="16518"/>
                  <a:pt x="3375" y="14400"/>
                  <a:pt x="2507" y="13200"/>
                </a:cubicBezTo>
                <a:cubicBezTo>
                  <a:pt x="2237" y="12847"/>
                  <a:pt x="1986" y="12000"/>
                  <a:pt x="1659" y="11859"/>
                </a:cubicBezTo>
                <a:cubicBezTo>
                  <a:pt x="1138" y="11788"/>
                  <a:pt x="174" y="11435"/>
                  <a:pt x="77" y="13412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03920" y="2895480"/>
            <a:ext cx="1008000" cy="27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" y="13412"/>
                </a:moveTo>
                <a:cubicBezTo>
                  <a:pt x="0" y="15812"/>
                  <a:pt x="1273" y="15459"/>
                  <a:pt x="1871" y="16659"/>
                </a:cubicBezTo>
                <a:cubicBezTo>
                  <a:pt x="2314" y="17576"/>
                  <a:pt x="2681" y="19341"/>
                  <a:pt x="3221" y="20118"/>
                </a:cubicBezTo>
                <a:cubicBezTo>
                  <a:pt x="3954" y="21176"/>
                  <a:pt x="4764" y="21600"/>
                  <a:pt x="5535" y="21388"/>
                </a:cubicBezTo>
                <a:cubicBezTo>
                  <a:pt x="7001" y="21176"/>
                  <a:pt x="8389" y="17224"/>
                  <a:pt x="9855" y="17153"/>
                </a:cubicBezTo>
                <a:cubicBezTo>
                  <a:pt x="10549" y="17153"/>
                  <a:pt x="11321" y="20259"/>
                  <a:pt x="12034" y="19200"/>
                </a:cubicBezTo>
                <a:cubicBezTo>
                  <a:pt x="12381" y="18776"/>
                  <a:pt x="12343" y="16165"/>
                  <a:pt x="12671" y="15318"/>
                </a:cubicBezTo>
                <a:cubicBezTo>
                  <a:pt x="13442" y="13059"/>
                  <a:pt x="14541" y="12635"/>
                  <a:pt x="15564" y="12212"/>
                </a:cubicBezTo>
                <a:cubicBezTo>
                  <a:pt x="16412" y="11859"/>
                  <a:pt x="17357" y="13553"/>
                  <a:pt x="18206" y="12847"/>
                </a:cubicBezTo>
                <a:cubicBezTo>
                  <a:pt x="18900" y="12212"/>
                  <a:pt x="19440" y="9953"/>
                  <a:pt x="20038" y="8471"/>
                </a:cubicBezTo>
                <a:cubicBezTo>
                  <a:pt x="20481" y="7271"/>
                  <a:pt x="21600" y="6565"/>
                  <a:pt x="21388" y="4729"/>
                </a:cubicBezTo>
                <a:cubicBezTo>
                  <a:pt x="20809" y="0"/>
                  <a:pt x="18630" y="7694"/>
                  <a:pt x="17145" y="8188"/>
                </a:cubicBezTo>
                <a:cubicBezTo>
                  <a:pt x="15930" y="8471"/>
                  <a:pt x="14657" y="7624"/>
                  <a:pt x="13404" y="7129"/>
                </a:cubicBezTo>
                <a:cubicBezTo>
                  <a:pt x="12343" y="6635"/>
                  <a:pt x="11186" y="4024"/>
                  <a:pt x="10144" y="5365"/>
                </a:cubicBezTo>
                <a:cubicBezTo>
                  <a:pt x="9296" y="6565"/>
                  <a:pt x="9045" y="11153"/>
                  <a:pt x="8274" y="12918"/>
                </a:cubicBezTo>
                <a:cubicBezTo>
                  <a:pt x="7329" y="15176"/>
                  <a:pt x="6152" y="16659"/>
                  <a:pt x="5053" y="16518"/>
                </a:cubicBezTo>
                <a:cubicBezTo>
                  <a:pt x="4204" y="16518"/>
                  <a:pt x="3375" y="14400"/>
                  <a:pt x="2507" y="13200"/>
                </a:cubicBezTo>
                <a:cubicBezTo>
                  <a:pt x="2237" y="12847"/>
                  <a:pt x="1986" y="12000"/>
                  <a:pt x="1659" y="11859"/>
                </a:cubicBezTo>
                <a:cubicBezTo>
                  <a:pt x="1138" y="11788"/>
                  <a:pt x="174" y="11435"/>
                  <a:pt x="77" y="13412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65480" y="3114720"/>
            <a:ext cx="1004760" cy="1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45" y="17044"/>
                  <a:pt x="948" y="12994"/>
                  <a:pt x="1566" y="10969"/>
                </a:cubicBezTo>
                <a:cubicBezTo>
                  <a:pt x="2533" y="7763"/>
                  <a:pt x="3674" y="12488"/>
                  <a:pt x="4738" y="11306"/>
                </a:cubicBezTo>
                <a:cubicBezTo>
                  <a:pt x="5627" y="10125"/>
                  <a:pt x="6536" y="5906"/>
                  <a:pt x="7522" y="5906"/>
                </a:cubicBezTo>
                <a:cubicBezTo>
                  <a:pt x="9031" y="5906"/>
                  <a:pt x="10462" y="15188"/>
                  <a:pt x="11970" y="15188"/>
                </a:cubicBezTo>
                <a:cubicBezTo>
                  <a:pt x="13362" y="15188"/>
                  <a:pt x="14658" y="9281"/>
                  <a:pt x="16011" y="5906"/>
                </a:cubicBezTo>
                <a:cubicBezTo>
                  <a:pt x="16592" y="4556"/>
                  <a:pt x="17210" y="2025"/>
                  <a:pt x="17771" y="1350"/>
                </a:cubicBezTo>
                <a:cubicBezTo>
                  <a:pt x="19028" y="0"/>
                  <a:pt x="21600" y="1013"/>
                  <a:pt x="21600" y="1013"/>
                </a:cubicBezTo>
                <a:cubicBezTo>
                  <a:pt x="21600" y="1013"/>
                  <a:pt x="18835" y="5906"/>
                  <a:pt x="17887" y="13838"/>
                </a:cubicBezTo>
                <a:cubicBezTo>
                  <a:pt x="17655" y="15525"/>
                  <a:pt x="17500" y="18056"/>
                  <a:pt x="17365" y="20925"/>
                </a:cubicBezTo>
                <a:cubicBezTo>
                  <a:pt x="13111" y="20588"/>
                  <a:pt x="8857" y="20588"/>
                  <a:pt x="4622" y="20925"/>
                </a:cubicBezTo>
                <a:cubicBezTo>
                  <a:pt x="3055" y="21263"/>
                  <a:pt x="1566" y="21263"/>
                  <a:pt x="0" y="21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65480" y="3114720"/>
            <a:ext cx="1004760" cy="1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45" y="17044"/>
                  <a:pt x="948" y="12994"/>
                  <a:pt x="1566" y="10969"/>
                </a:cubicBezTo>
                <a:cubicBezTo>
                  <a:pt x="2533" y="7763"/>
                  <a:pt x="3674" y="12488"/>
                  <a:pt x="4738" y="11306"/>
                </a:cubicBezTo>
                <a:cubicBezTo>
                  <a:pt x="5627" y="10125"/>
                  <a:pt x="6536" y="5906"/>
                  <a:pt x="7522" y="5906"/>
                </a:cubicBezTo>
                <a:cubicBezTo>
                  <a:pt x="9031" y="5906"/>
                  <a:pt x="10462" y="15188"/>
                  <a:pt x="11970" y="15188"/>
                </a:cubicBezTo>
                <a:cubicBezTo>
                  <a:pt x="13362" y="15188"/>
                  <a:pt x="14658" y="9281"/>
                  <a:pt x="16011" y="5906"/>
                </a:cubicBezTo>
                <a:cubicBezTo>
                  <a:pt x="16592" y="4556"/>
                  <a:pt x="17210" y="2025"/>
                  <a:pt x="17771" y="1350"/>
                </a:cubicBezTo>
                <a:cubicBezTo>
                  <a:pt x="19028" y="0"/>
                  <a:pt x="21600" y="1013"/>
                  <a:pt x="21600" y="1013"/>
                </a:cubicBezTo>
                <a:cubicBezTo>
                  <a:pt x="21600" y="1013"/>
                  <a:pt x="18835" y="5906"/>
                  <a:pt x="17887" y="13838"/>
                </a:cubicBezTo>
                <a:cubicBezTo>
                  <a:pt x="17655" y="15525"/>
                  <a:pt x="17500" y="18056"/>
                  <a:pt x="17365" y="20925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30520" y="3219480"/>
            <a:ext cx="3489120" cy="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543" y="17280"/>
                  <a:pt x="3092" y="10368"/>
                  <a:pt x="4641" y="6912"/>
                </a:cubicBezTo>
                <a:cubicBezTo>
                  <a:pt x="6418" y="3456"/>
                  <a:pt x="8201" y="8640"/>
                  <a:pt x="9995" y="8640"/>
                </a:cubicBezTo>
                <a:cubicBezTo>
                  <a:pt x="11104" y="8640"/>
                  <a:pt x="12207" y="6912"/>
                  <a:pt x="13315" y="5184"/>
                </a:cubicBezTo>
                <a:cubicBezTo>
                  <a:pt x="14218" y="5184"/>
                  <a:pt x="15137" y="6912"/>
                  <a:pt x="16045" y="6912"/>
                </a:cubicBezTo>
                <a:cubicBezTo>
                  <a:pt x="16625" y="6912"/>
                  <a:pt x="17210" y="6912"/>
                  <a:pt x="17800" y="6912"/>
                </a:cubicBezTo>
                <a:cubicBezTo>
                  <a:pt x="18341" y="6912"/>
                  <a:pt x="18881" y="5184"/>
                  <a:pt x="19422" y="3456"/>
                </a:cubicBezTo>
                <a:cubicBezTo>
                  <a:pt x="19750" y="3456"/>
                  <a:pt x="20096" y="0"/>
                  <a:pt x="20436" y="1728"/>
                </a:cubicBezTo>
                <a:cubicBezTo>
                  <a:pt x="20636" y="3456"/>
                  <a:pt x="20848" y="5184"/>
                  <a:pt x="21060" y="6912"/>
                </a:cubicBezTo>
                <a:cubicBezTo>
                  <a:pt x="21199" y="8640"/>
                  <a:pt x="21399" y="10368"/>
                  <a:pt x="21600" y="14688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60560" y="2792520"/>
            <a:ext cx="325908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62" y="20900"/>
                  <a:pt x="513" y="20070"/>
                  <a:pt x="763" y="19239"/>
                </a:cubicBezTo>
                <a:cubicBezTo>
                  <a:pt x="912" y="18670"/>
                  <a:pt x="1067" y="17840"/>
                  <a:pt x="1228" y="17577"/>
                </a:cubicBezTo>
                <a:cubicBezTo>
                  <a:pt x="1378" y="17271"/>
                  <a:pt x="1539" y="17752"/>
                  <a:pt x="1682" y="17402"/>
                </a:cubicBezTo>
                <a:cubicBezTo>
                  <a:pt x="1819" y="17009"/>
                  <a:pt x="1890" y="15697"/>
                  <a:pt x="2034" y="15260"/>
                </a:cubicBezTo>
                <a:cubicBezTo>
                  <a:pt x="2183" y="14691"/>
                  <a:pt x="2373" y="14691"/>
                  <a:pt x="2535" y="14604"/>
                </a:cubicBezTo>
                <a:cubicBezTo>
                  <a:pt x="2701" y="14517"/>
                  <a:pt x="2874" y="14691"/>
                  <a:pt x="3053" y="14604"/>
                </a:cubicBezTo>
                <a:cubicBezTo>
                  <a:pt x="3196" y="14517"/>
                  <a:pt x="3357" y="14342"/>
                  <a:pt x="3483" y="13861"/>
                </a:cubicBezTo>
                <a:cubicBezTo>
                  <a:pt x="3608" y="13511"/>
                  <a:pt x="3721" y="12680"/>
                  <a:pt x="3846" y="12243"/>
                </a:cubicBezTo>
                <a:cubicBezTo>
                  <a:pt x="3972" y="11718"/>
                  <a:pt x="4091" y="10931"/>
                  <a:pt x="4222" y="10931"/>
                </a:cubicBezTo>
                <a:cubicBezTo>
                  <a:pt x="4413" y="11019"/>
                  <a:pt x="4574" y="12374"/>
                  <a:pt x="4735" y="13205"/>
                </a:cubicBezTo>
                <a:cubicBezTo>
                  <a:pt x="4884" y="14167"/>
                  <a:pt x="4986" y="15566"/>
                  <a:pt x="5147" y="16309"/>
                </a:cubicBezTo>
                <a:cubicBezTo>
                  <a:pt x="5236" y="16659"/>
                  <a:pt x="5361" y="16921"/>
                  <a:pt x="5457" y="17009"/>
                </a:cubicBezTo>
                <a:cubicBezTo>
                  <a:pt x="5647" y="17184"/>
                  <a:pt x="5850" y="16921"/>
                  <a:pt x="6041" y="16659"/>
                </a:cubicBezTo>
                <a:cubicBezTo>
                  <a:pt x="6405" y="16091"/>
                  <a:pt x="6733" y="14254"/>
                  <a:pt x="7109" y="13686"/>
                </a:cubicBezTo>
                <a:cubicBezTo>
                  <a:pt x="7240" y="13511"/>
                  <a:pt x="7377" y="13686"/>
                  <a:pt x="7502" y="13686"/>
                </a:cubicBezTo>
                <a:cubicBezTo>
                  <a:pt x="7639" y="13686"/>
                  <a:pt x="7788" y="13773"/>
                  <a:pt x="7943" y="13861"/>
                </a:cubicBezTo>
                <a:cubicBezTo>
                  <a:pt x="8122" y="13948"/>
                  <a:pt x="8295" y="13861"/>
                  <a:pt x="8462" y="13423"/>
                </a:cubicBezTo>
                <a:cubicBezTo>
                  <a:pt x="8623" y="12986"/>
                  <a:pt x="8749" y="11674"/>
                  <a:pt x="8927" y="11106"/>
                </a:cubicBezTo>
                <a:cubicBezTo>
                  <a:pt x="9047" y="10713"/>
                  <a:pt x="9214" y="11019"/>
                  <a:pt x="9339" y="10625"/>
                </a:cubicBezTo>
                <a:cubicBezTo>
                  <a:pt x="9488" y="10188"/>
                  <a:pt x="9619" y="9007"/>
                  <a:pt x="9780" y="8614"/>
                </a:cubicBezTo>
                <a:cubicBezTo>
                  <a:pt x="9959" y="8264"/>
                  <a:pt x="10198" y="8876"/>
                  <a:pt x="10377" y="8133"/>
                </a:cubicBezTo>
                <a:cubicBezTo>
                  <a:pt x="10627" y="7171"/>
                  <a:pt x="10752" y="5028"/>
                  <a:pt x="11015" y="4810"/>
                </a:cubicBezTo>
                <a:cubicBezTo>
                  <a:pt x="11277" y="4635"/>
                  <a:pt x="11510" y="6034"/>
                  <a:pt x="11730" y="7302"/>
                </a:cubicBezTo>
                <a:cubicBezTo>
                  <a:pt x="11909" y="8264"/>
                  <a:pt x="12088" y="9445"/>
                  <a:pt x="12291" y="10275"/>
                </a:cubicBezTo>
                <a:cubicBezTo>
                  <a:pt x="12392" y="10625"/>
                  <a:pt x="12494" y="11194"/>
                  <a:pt x="12607" y="11281"/>
                </a:cubicBezTo>
                <a:cubicBezTo>
                  <a:pt x="12696" y="11368"/>
                  <a:pt x="12792" y="11019"/>
                  <a:pt x="12893" y="10844"/>
                </a:cubicBezTo>
                <a:cubicBezTo>
                  <a:pt x="13018" y="10625"/>
                  <a:pt x="13150" y="10363"/>
                  <a:pt x="13269" y="10188"/>
                </a:cubicBezTo>
                <a:cubicBezTo>
                  <a:pt x="13370" y="10100"/>
                  <a:pt x="13490" y="9882"/>
                  <a:pt x="13597" y="9794"/>
                </a:cubicBezTo>
                <a:cubicBezTo>
                  <a:pt x="13764" y="9751"/>
                  <a:pt x="13943" y="9882"/>
                  <a:pt x="14104" y="9969"/>
                </a:cubicBezTo>
                <a:cubicBezTo>
                  <a:pt x="14354" y="10188"/>
                  <a:pt x="14623" y="11106"/>
                  <a:pt x="14873" y="11019"/>
                </a:cubicBezTo>
                <a:cubicBezTo>
                  <a:pt x="15058" y="10931"/>
                  <a:pt x="15237" y="10188"/>
                  <a:pt x="15398" y="9532"/>
                </a:cubicBezTo>
                <a:cubicBezTo>
                  <a:pt x="15642" y="8614"/>
                  <a:pt x="15833" y="7171"/>
                  <a:pt x="16054" y="6209"/>
                </a:cubicBezTo>
                <a:cubicBezTo>
                  <a:pt x="16203" y="5553"/>
                  <a:pt x="16436" y="5028"/>
                  <a:pt x="16626" y="4066"/>
                </a:cubicBezTo>
                <a:cubicBezTo>
                  <a:pt x="16728" y="3542"/>
                  <a:pt x="16817" y="2580"/>
                  <a:pt x="16913" y="2055"/>
                </a:cubicBezTo>
                <a:cubicBezTo>
                  <a:pt x="17026" y="1399"/>
                  <a:pt x="17139" y="481"/>
                  <a:pt x="17276" y="219"/>
                </a:cubicBezTo>
                <a:cubicBezTo>
                  <a:pt x="17420" y="0"/>
                  <a:pt x="17569" y="481"/>
                  <a:pt x="17694" y="1049"/>
                </a:cubicBezTo>
                <a:cubicBezTo>
                  <a:pt x="17759" y="1312"/>
                  <a:pt x="17795" y="1880"/>
                  <a:pt x="17861" y="2055"/>
                </a:cubicBezTo>
                <a:cubicBezTo>
                  <a:pt x="17962" y="2317"/>
                  <a:pt x="18111" y="1880"/>
                  <a:pt x="18213" y="2143"/>
                </a:cubicBezTo>
                <a:cubicBezTo>
                  <a:pt x="18362" y="2536"/>
                  <a:pt x="18463" y="3804"/>
                  <a:pt x="18606" y="4547"/>
                </a:cubicBezTo>
                <a:cubicBezTo>
                  <a:pt x="18726" y="5291"/>
                  <a:pt x="18857" y="5903"/>
                  <a:pt x="18994" y="6034"/>
                </a:cubicBezTo>
                <a:cubicBezTo>
                  <a:pt x="19197" y="6121"/>
                  <a:pt x="19382" y="4941"/>
                  <a:pt x="19572" y="4547"/>
                </a:cubicBezTo>
                <a:cubicBezTo>
                  <a:pt x="19751" y="4285"/>
                  <a:pt x="19924" y="4154"/>
                  <a:pt x="20103" y="3979"/>
                </a:cubicBezTo>
                <a:cubicBezTo>
                  <a:pt x="20425" y="3717"/>
                  <a:pt x="20753" y="3323"/>
                  <a:pt x="21087" y="2973"/>
                </a:cubicBezTo>
                <a:cubicBezTo>
                  <a:pt x="21260" y="2798"/>
                  <a:pt x="21421" y="2536"/>
                  <a:pt x="21600" y="223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0720" y="2637000"/>
            <a:ext cx="1560600" cy="37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13"/>
                </a:moveTo>
                <a:cubicBezTo>
                  <a:pt x="25" y="19713"/>
                  <a:pt x="62" y="19870"/>
                  <a:pt x="87" y="19870"/>
                </a:cubicBezTo>
                <a:cubicBezTo>
                  <a:pt x="635" y="20289"/>
                  <a:pt x="1258" y="19975"/>
                  <a:pt x="1781" y="19083"/>
                </a:cubicBezTo>
                <a:cubicBezTo>
                  <a:pt x="1956" y="18821"/>
                  <a:pt x="2205" y="17511"/>
                  <a:pt x="2205" y="17511"/>
                </a:cubicBezTo>
                <a:cubicBezTo>
                  <a:pt x="2205" y="17511"/>
                  <a:pt x="2728" y="20027"/>
                  <a:pt x="3127" y="20761"/>
                </a:cubicBezTo>
                <a:cubicBezTo>
                  <a:pt x="3612" y="21495"/>
                  <a:pt x="4161" y="21600"/>
                  <a:pt x="4659" y="21181"/>
                </a:cubicBezTo>
                <a:cubicBezTo>
                  <a:pt x="5207" y="20604"/>
                  <a:pt x="5705" y="19241"/>
                  <a:pt x="6154" y="17825"/>
                </a:cubicBezTo>
                <a:cubicBezTo>
                  <a:pt x="6577" y="16515"/>
                  <a:pt x="6826" y="14050"/>
                  <a:pt x="7287" y="13159"/>
                </a:cubicBezTo>
                <a:cubicBezTo>
                  <a:pt x="7636" y="12635"/>
                  <a:pt x="8022" y="12950"/>
                  <a:pt x="8396" y="12950"/>
                </a:cubicBezTo>
                <a:cubicBezTo>
                  <a:pt x="8794" y="12950"/>
                  <a:pt x="9218" y="13526"/>
                  <a:pt x="9629" y="13526"/>
                </a:cubicBezTo>
                <a:cubicBezTo>
                  <a:pt x="10003" y="13526"/>
                  <a:pt x="10414" y="13317"/>
                  <a:pt x="10788" y="12635"/>
                </a:cubicBezTo>
                <a:cubicBezTo>
                  <a:pt x="11398" y="11534"/>
                  <a:pt x="11660" y="10538"/>
                  <a:pt x="12245" y="9175"/>
                </a:cubicBezTo>
                <a:cubicBezTo>
                  <a:pt x="12531" y="8546"/>
                  <a:pt x="13354" y="5767"/>
                  <a:pt x="13354" y="5767"/>
                </a:cubicBezTo>
                <a:cubicBezTo>
                  <a:pt x="13354" y="5767"/>
                  <a:pt x="14450" y="7864"/>
                  <a:pt x="15048" y="8441"/>
                </a:cubicBezTo>
                <a:cubicBezTo>
                  <a:pt x="15745" y="9070"/>
                  <a:pt x="16505" y="9647"/>
                  <a:pt x="17240" y="9542"/>
                </a:cubicBezTo>
                <a:cubicBezTo>
                  <a:pt x="18000" y="9437"/>
                  <a:pt x="18785" y="8650"/>
                  <a:pt x="19482" y="7445"/>
                </a:cubicBezTo>
                <a:cubicBezTo>
                  <a:pt x="20080" y="6344"/>
                  <a:pt x="20616" y="4561"/>
                  <a:pt x="21139" y="2779"/>
                </a:cubicBezTo>
                <a:cubicBezTo>
                  <a:pt x="21239" y="2359"/>
                  <a:pt x="21351" y="1783"/>
                  <a:pt x="21451" y="1206"/>
                </a:cubicBezTo>
                <a:cubicBezTo>
                  <a:pt x="21500" y="891"/>
                  <a:pt x="21563" y="41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0720" y="2711520"/>
            <a:ext cx="5446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327"/>
                </a:moveTo>
                <a:cubicBezTo>
                  <a:pt x="1428" y="13255"/>
                  <a:pt x="2963" y="16936"/>
                  <a:pt x="4677" y="18655"/>
                </a:cubicBezTo>
                <a:cubicBezTo>
                  <a:pt x="7390" y="21600"/>
                  <a:pt x="10461" y="21355"/>
                  <a:pt x="13353" y="19759"/>
                </a:cubicBezTo>
                <a:cubicBezTo>
                  <a:pt x="14495" y="19268"/>
                  <a:pt x="15602" y="17182"/>
                  <a:pt x="16602" y="15586"/>
                </a:cubicBezTo>
                <a:cubicBezTo>
                  <a:pt x="17423" y="14359"/>
                  <a:pt x="18173" y="13009"/>
                  <a:pt x="18851" y="11045"/>
                </a:cubicBezTo>
                <a:cubicBezTo>
                  <a:pt x="19922" y="7855"/>
                  <a:pt x="20743" y="3927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27240" y="2511360"/>
            <a:ext cx="80316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584"/>
                </a:moveTo>
                <a:cubicBezTo>
                  <a:pt x="460" y="20376"/>
                  <a:pt x="993" y="20808"/>
                  <a:pt x="1526" y="21168"/>
                </a:cubicBezTo>
                <a:cubicBezTo>
                  <a:pt x="2712" y="21600"/>
                  <a:pt x="3947" y="21168"/>
                  <a:pt x="5061" y="20376"/>
                </a:cubicBezTo>
                <a:cubicBezTo>
                  <a:pt x="5981" y="19800"/>
                  <a:pt x="6877" y="18360"/>
                  <a:pt x="7773" y="17136"/>
                </a:cubicBezTo>
                <a:cubicBezTo>
                  <a:pt x="8500" y="16272"/>
                  <a:pt x="9323" y="15336"/>
                  <a:pt x="10025" y="13968"/>
                </a:cubicBezTo>
                <a:cubicBezTo>
                  <a:pt x="10509" y="13032"/>
                  <a:pt x="11236" y="10008"/>
                  <a:pt x="11236" y="10008"/>
                </a:cubicBezTo>
                <a:cubicBezTo>
                  <a:pt x="11236" y="10008"/>
                  <a:pt x="12011" y="12024"/>
                  <a:pt x="12495" y="12456"/>
                </a:cubicBezTo>
                <a:cubicBezTo>
                  <a:pt x="13246" y="13248"/>
                  <a:pt x="14166" y="13536"/>
                  <a:pt x="15038" y="13032"/>
                </a:cubicBezTo>
                <a:cubicBezTo>
                  <a:pt x="16006" y="12672"/>
                  <a:pt x="16999" y="11088"/>
                  <a:pt x="17895" y="9720"/>
                </a:cubicBezTo>
                <a:cubicBezTo>
                  <a:pt x="18670" y="8496"/>
                  <a:pt x="19445" y="6840"/>
                  <a:pt x="20171" y="4896"/>
                </a:cubicBezTo>
                <a:cubicBezTo>
                  <a:pt x="20680" y="3456"/>
                  <a:pt x="21116" y="1656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95480" y="2295360"/>
            <a:ext cx="1236600" cy="34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102"/>
                </a:moveTo>
                <a:cubicBezTo>
                  <a:pt x="283" y="17448"/>
                  <a:pt x="598" y="18570"/>
                  <a:pt x="1023" y="19412"/>
                </a:cubicBezTo>
                <a:cubicBezTo>
                  <a:pt x="1825" y="20983"/>
                  <a:pt x="2250" y="20983"/>
                  <a:pt x="3146" y="21319"/>
                </a:cubicBezTo>
                <a:cubicBezTo>
                  <a:pt x="3776" y="21600"/>
                  <a:pt x="5081" y="21600"/>
                  <a:pt x="5711" y="20983"/>
                </a:cubicBezTo>
                <a:cubicBezTo>
                  <a:pt x="6214" y="20534"/>
                  <a:pt x="6702" y="19412"/>
                  <a:pt x="7174" y="18458"/>
                </a:cubicBezTo>
                <a:cubicBezTo>
                  <a:pt x="7567" y="17617"/>
                  <a:pt x="7976" y="16607"/>
                  <a:pt x="8338" y="15653"/>
                </a:cubicBezTo>
                <a:cubicBezTo>
                  <a:pt x="8668" y="14811"/>
                  <a:pt x="9030" y="14138"/>
                  <a:pt x="9329" y="13184"/>
                </a:cubicBezTo>
                <a:cubicBezTo>
                  <a:pt x="9644" y="12343"/>
                  <a:pt x="10163" y="10043"/>
                  <a:pt x="10163" y="10043"/>
                </a:cubicBezTo>
                <a:cubicBezTo>
                  <a:pt x="10163" y="10043"/>
                  <a:pt x="10430" y="11109"/>
                  <a:pt x="10619" y="11501"/>
                </a:cubicBezTo>
                <a:cubicBezTo>
                  <a:pt x="10965" y="12231"/>
                  <a:pt x="11327" y="13072"/>
                  <a:pt x="11736" y="13072"/>
                </a:cubicBezTo>
                <a:cubicBezTo>
                  <a:pt x="12428" y="12904"/>
                  <a:pt x="13010" y="11501"/>
                  <a:pt x="13624" y="10155"/>
                </a:cubicBezTo>
                <a:cubicBezTo>
                  <a:pt x="14017" y="9369"/>
                  <a:pt x="14316" y="7686"/>
                  <a:pt x="14788" y="6732"/>
                </a:cubicBezTo>
                <a:cubicBezTo>
                  <a:pt x="14977" y="6396"/>
                  <a:pt x="15213" y="5891"/>
                  <a:pt x="15449" y="5891"/>
                </a:cubicBezTo>
                <a:cubicBezTo>
                  <a:pt x="15921" y="5891"/>
                  <a:pt x="16314" y="7237"/>
                  <a:pt x="16770" y="7350"/>
                </a:cubicBezTo>
                <a:cubicBezTo>
                  <a:pt x="17462" y="7574"/>
                  <a:pt x="18202" y="7237"/>
                  <a:pt x="18878" y="6564"/>
                </a:cubicBezTo>
                <a:cubicBezTo>
                  <a:pt x="19539" y="5779"/>
                  <a:pt x="20168" y="4264"/>
                  <a:pt x="20735" y="2861"/>
                </a:cubicBezTo>
                <a:cubicBezTo>
                  <a:pt x="21065" y="2020"/>
                  <a:pt x="21333" y="954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2160" y="2200320"/>
            <a:ext cx="11952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87"/>
                </a:moveTo>
                <a:cubicBezTo>
                  <a:pt x="325" y="19583"/>
                  <a:pt x="602" y="20480"/>
                  <a:pt x="1008" y="20838"/>
                </a:cubicBezTo>
                <a:cubicBezTo>
                  <a:pt x="1805" y="21600"/>
                  <a:pt x="2716" y="20928"/>
                  <a:pt x="3562" y="20256"/>
                </a:cubicBezTo>
                <a:cubicBezTo>
                  <a:pt x="3887" y="19987"/>
                  <a:pt x="4473" y="18687"/>
                  <a:pt x="4473" y="18687"/>
                </a:cubicBezTo>
                <a:cubicBezTo>
                  <a:pt x="4473" y="18687"/>
                  <a:pt x="5091" y="20076"/>
                  <a:pt x="5481" y="20166"/>
                </a:cubicBezTo>
                <a:cubicBezTo>
                  <a:pt x="6327" y="20345"/>
                  <a:pt x="7238" y="19135"/>
                  <a:pt x="7970" y="18015"/>
                </a:cubicBezTo>
                <a:cubicBezTo>
                  <a:pt x="8360" y="17432"/>
                  <a:pt x="8734" y="16581"/>
                  <a:pt x="9076" y="15729"/>
                </a:cubicBezTo>
                <a:cubicBezTo>
                  <a:pt x="9352" y="15192"/>
                  <a:pt x="9808" y="13623"/>
                  <a:pt x="9808" y="13623"/>
                </a:cubicBezTo>
                <a:cubicBezTo>
                  <a:pt x="9808" y="13623"/>
                  <a:pt x="10523" y="14609"/>
                  <a:pt x="10930" y="14699"/>
                </a:cubicBezTo>
                <a:cubicBezTo>
                  <a:pt x="11597" y="14878"/>
                  <a:pt x="12280" y="14699"/>
                  <a:pt x="12882" y="14071"/>
                </a:cubicBezTo>
                <a:cubicBezTo>
                  <a:pt x="13549" y="13399"/>
                  <a:pt x="14086" y="11741"/>
                  <a:pt x="14720" y="10441"/>
                </a:cubicBezTo>
                <a:cubicBezTo>
                  <a:pt x="14915" y="9993"/>
                  <a:pt x="15403" y="8828"/>
                  <a:pt x="15403" y="8828"/>
                </a:cubicBezTo>
                <a:cubicBezTo>
                  <a:pt x="15403" y="8828"/>
                  <a:pt x="16330" y="10352"/>
                  <a:pt x="16851" y="10441"/>
                </a:cubicBezTo>
                <a:cubicBezTo>
                  <a:pt x="17599" y="10531"/>
                  <a:pt x="18396" y="9680"/>
                  <a:pt x="19079" y="8559"/>
                </a:cubicBezTo>
                <a:cubicBezTo>
                  <a:pt x="19486" y="7798"/>
                  <a:pt x="19908" y="6901"/>
                  <a:pt x="20201" y="5915"/>
                </a:cubicBezTo>
                <a:cubicBezTo>
                  <a:pt x="20770" y="4168"/>
                  <a:pt x="21145" y="1972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00360" y="2041560"/>
            <a:ext cx="800280" cy="2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75"/>
                </a:moveTo>
                <a:cubicBezTo>
                  <a:pt x="510" y="19606"/>
                  <a:pt x="972" y="20686"/>
                  <a:pt x="1482" y="21018"/>
                </a:cubicBezTo>
                <a:cubicBezTo>
                  <a:pt x="2405" y="21600"/>
                  <a:pt x="3377" y="21268"/>
                  <a:pt x="4252" y="20354"/>
                </a:cubicBezTo>
                <a:cubicBezTo>
                  <a:pt x="5637" y="19191"/>
                  <a:pt x="6827" y="15702"/>
                  <a:pt x="8091" y="13458"/>
                </a:cubicBezTo>
                <a:cubicBezTo>
                  <a:pt x="8455" y="13043"/>
                  <a:pt x="8868" y="12295"/>
                  <a:pt x="9281" y="11963"/>
                </a:cubicBezTo>
                <a:cubicBezTo>
                  <a:pt x="10156" y="11049"/>
                  <a:pt x="11031" y="9969"/>
                  <a:pt x="11906" y="10385"/>
                </a:cubicBezTo>
                <a:cubicBezTo>
                  <a:pt x="13096" y="10883"/>
                  <a:pt x="14117" y="13874"/>
                  <a:pt x="15307" y="14455"/>
                </a:cubicBezTo>
                <a:cubicBezTo>
                  <a:pt x="16109" y="14705"/>
                  <a:pt x="17032" y="14455"/>
                  <a:pt x="17858" y="13292"/>
                </a:cubicBezTo>
                <a:cubicBezTo>
                  <a:pt x="18271" y="12794"/>
                  <a:pt x="18636" y="11631"/>
                  <a:pt x="19025" y="10385"/>
                </a:cubicBezTo>
                <a:cubicBezTo>
                  <a:pt x="19486" y="9138"/>
                  <a:pt x="19899" y="7394"/>
                  <a:pt x="20312" y="5982"/>
                </a:cubicBezTo>
                <a:cubicBezTo>
                  <a:pt x="20798" y="4237"/>
                  <a:pt x="21187" y="2077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2200" y="2084400"/>
            <a:ext cx="91764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43"/>
                </a:moveTo>
                <a:cubicBezTo>
                  <a:pt x="297" y="19907"/>
                  <a:pt x="594" y="20391"/>
                  <a:pt x="911" y="20713"/>
                </a:cubicBezTo>
                <a:cubicBezTo>
                  <a:pt x="1653" y="21358"/>
                  <a:pt x="2480" y="21600"/>
                  <a:pt x="3286" y="21600"/>
                </a:cubicBezTo>
                <a:cubicBezTo>
                  <a:pt x="4091" y="21358"/>
                  <a:pt x="4939" y="20552"/>
                  <a:pt x="5787" y="19746"/>
                </a:cubicBezTo>
                <a:cubicBezTo>
                  <a:pt x="7970" y="17490"/>
                  <a:pt x="10175" y="14588"/>
                  <a:pt x="12273" y="11203"/>
                </a:cubicBezTo>
                <a:cubicBezTo>
                  <a:pt x="12655" y="10639"/>
                  <a:pt x="13036" y="9672"/>
                  <a:pt x="13439" y="9994"/>
                </a:cubicBezTo>
                <a:cubicBezTo>
                  <a:pt x="14160" y="10478"/>
                  <a:pt x="14563" y="13863"/>
                  <a:pt x="15262" y="14588"/>
                </a:cubicBezTo>
                <a:cubicBezTo>
                  <a:pt x="16301" y="15475"/>
                  <a:pt x="17488" y="14427"/>
                  <a:pt x="18442" y="12734"/>
                </a:cubicBezTo>
                <a:cubicBezTo>
                  <a:pt x="19120" y="11525"/>
                  <a:pt x="19671" y="9994"/>
                  <a:pt x="20265" y="7818"/>
                </a:cubicBezTo>
                <a:cubicBezTo>
                  <a:pt x="20731" y="5884"/>
                  <a:pt x="21197" y="2982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99120" y="1703520"/>
            <a:ext cx="17143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55"/>
                </a:moveTo>
                <a:cubicBezTo>
                  <a:pt x="79" y="12280"/>
                  <a:pt x="170" y="13106"/>
                  <a:pt x="283" y="13834"/>
                </a:cubicBezTo>
                <a:cubicBezTo>
                  <a:pt x="431" y="14756"/>
                  <a:pt x="589" y="15727"/>
                  <a:pt x="782" y="16406"/>
                </a:cubicBezTo>
                <a:cubicBezTo>
                  <a:pt x="1088" y="17523"/>
                  <a:pt x="1417" y="18736"/>
                  <a:pt x="1757" y="19561"/>
                </a:cubicBezTo>
                <a:cubicBezTo>
                  <a:pt x="2369" y="21018"/>
                  <a:pt x="3116" y="21600"/>
                  <a:pt x="3853" y="21357"/>
                </a:cubicBezTo>
                <a:cubicBezTo>
                  <a:pt x="4318" y="21115"/>
                  <a:pt x="5020" y="20387"/>
                  <a:pt x="5632" y="18833"/>
                </a:cubicBezTo>
                <a:cubicBezTo>
                  <a:pt x="5938" y="18008"/>
                  <a:pt x="6154" y="16115"/>
                  <a:pt x="6539" y="15581"/>
                </a:cubicBezTo>
                <a:cubicBezTo>
                  <a:pt x="6800" y="15144"/>
                  <a:pt x="7140" y="16212"/>
                  <a:pt x="7446" y="16115"/>
                </a:cubicBezTo>
                <a:cubicBezTo>
                  <a:pt x="7854" y="15872"/>
                  <a:pt x="8284" y="15290"/>
                  <a:pt x="8647" y="14271"/>
                </a:cubicBezTo>
                <a:cubicBezTo>
                  <a:pt x="8839" y="13737"/>
                  <a:pt x="8953" y="12717"/>
                  <a:pt x="9089" y="11892"/>
                </a:cubicBezTo>
                <a:cubicBezTo>
                  <a:pt x="9338" y="10582"/>
                  <a:pt x="9553" y="8689"/>
                  <a:pt x="9939" y="8009"/>
                </a:cubicBezTo>
                <a:cubicBezTo>
                  <a:pt x="10347" y="7184"/>
                  <a:pt x="10868" y="8446"/>
                  <a:pt x="11321" y="8203"/>
                </a:cubicBezTo>
                <a:cubicBezTo>
                  <a:pt x="11877" y="8009"/>
                  <a:pt x="12432" y="7281"/>
                  <a:pt x="12987" y="6553"/>
                </a:cubicBezTo>
                <a:cubicBezTo>
                  <a:pt x="13429" y="5970"/>
                  <a:pt x="13905" y="5339"/>
                  <a:pt x="14347" y="4174"/>
                </a:cubicBezTo>
                <a:cubicBezTo>
                  <a:pt x="14494" y="3883"/>
                  <a:pt x="14608" y="3301"/>
                  <a:pt x="14744" y="2767"/>
                </a:cubicBezTo>
                <a:cubicBezTo>
                  <a:pt x="14891" y="2378"/>
                  <a:pt x="15038" y="1311"/>
                  <a:pt x="15208" y="1408"/>
                </a:cubicBezTo>
                <a:cubicBezTo>
                  <a:pt x="15356" y="1553"/>
                  <a:pt x="15412" y="2476"/>
                  <a:pt x="15548" y="2767"/>
                </a:cubicBezTo>
                <a:cubicBezTo>
                  <a:pt x="15945" y="3883"/>
                  <a:pt x="16387" y="5097"/>
                  <a:pt x="16886" y="5728"/>
                </a:cubicBezTo>
                <a:cubicBezTo>
                  <a:pt x="17430" y="6456"/>
                  <a:pt x="18053" y="6553"/>
                  <a:pt x="18620" y="6456"/>
                </a:cubicBezTo>
                <a:cubicBezTo>
                  <a:pt x="19107" y="6359"/>
                  <a:pt x="19628" y="5970"/>
                  <a:pt x="20093" y="5242"/>
                </a:cubicBezTo>
                <a:cubicBezTo>
                  <a:pt x="20421" y="4708"/>
                  <a:pt x="20784" y="4029"/>
                  <a:pt x="21045" y="2961"/>
                </a:cubicBezTo>
                <a:cubicBezTo>
                  <a:pt x="21260" y="2233"/>
                  <a:pt x="21407" y="101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5440" y="1905120"/>
            <a:ext cx="27468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1"/>
                </a:moveTo>
                <a:cubicBezTo>
                  <a:pt x="1066" y="15565"/>
                  <a:pt x="2132" y="17471"/>
                  <a:pt x="3197" y="18741"/>
                </a:cubicBezTo>
                <a:cubicBezTo>
                  <a:pt x="4832" y="20965"/>
                  <a:pt x="6608" y="20012"/>
                  <a:pt x="8455" y="20965"/>
                </a:cubicBezTo>
                <a:cubicBezTo>
                  <a:pt x="10516" y="21600"/>
                  <a:pt x="12789" y="21600"/>
                  <a:pt x="14921" y="20012"/>
                </a:cubicBezTo>
                <a:cubicBezTo>
                  <a:pt x="17124" y="18106"/>
                  <a:pt x="19966" y="17471"/>
                  <a:pt x="21174" y="8576"/>
                </a:cubicBezTo>
                <a:cubicBezTo>
                  <a:pt x="21600" y="6035"/>
                  <a:pt x="21458" y="3494"/>
                  <a:pt x="21458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51520" y="1779480"/>
            <a:ext cx="520560" cy="1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38"/>
                </a:moveTo>
                <a:cubicBezTo>
                  <a:pt x="709" y="17805"/>
                  <a:pt x="1567" y="19119"/>
                  <a:pt x="2201" y="19849"/>
                </a:cubicBezTo>
                <a:cubicBezTo>
                  <a:pt x="2910" y="20870"/>
                  <a:pt x="3619" y="20578"/>
                  <a:pt x="4290" y="20870"/>
                </a:cubicBezTo>
                <a:cubicBezTo>
                  <a:pt x="5409" y="21162"/>
                  <a:pt x="6528" y="21600"/>
                  <a:pt x="7648" y="21162"/>
                </a:cubicBezTo>
                <a:cubicBezTo>
                  <a:pt x="8804" y="20870"/>
                  <a:pt x="10073" y="19849"/>
                  <a:pt x="11266" y="19411"/>
                </a:cubicBezTo>
                <a:cubicBezTo>
                  <a:pt x="12274" y="18681"/>
                  <a:pt x="13393" y="18389"/>
                  <a:pt x="14400" y="17222"/>
                </a:cubicBezTo>
                <a:cubicBezTo>
                  <a:pt x="15482" y="15908"/>
                  <a:pt x="16564" y="13719"/>
                  <a:pt x="17571" y="11676"/>
                </a:cubicBezTo>
                <a:cubicBezTo>
                  <a:pt x="18131" y="10508"/>
                  <a:pt x="18690" y="8903"/>
                  <a:pt x="19212" y="7297"/>
                </a:cubicBezTo>
                <a:cubicBezTo>
                  <a:pt x="19623" y="6422"/>
                  <a:pt x="20070" y="5546"/>
                  <a:pt x="20406" y="4524"/>
                </a:cubicBezTo>
                <a:cubicBezTo>
                  <a:pt x="20555" y="3941"/>
                  <a:pt x="21413" y="438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33920" y="181116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6039"/>
                  <a:pt x="1261" y="8594"/>
                </a:cubicBezTo>
                <a:cubicBezTo>
                  <a:pt x="1958" y="12542"/>
                  <a:pt x="2820" y="15794"/>
                  <a:pt x="3716" y="17652"/>
                </a:cubicBezTo>
                <a:cubicBezTo>
                  <a:pt x="4446" y="19277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277"/>
                  <a:pt x="11812" y="18348"/>
                </a:cubicBezTo>
                <a:cubicBezTo>
                  <a:pt x="12210" y="17652"/>
                  <a:pt x="12708" y="17187"/>
                  <a:pt x="13206" y="15794"/>
                </a:cubicBezTo>
                <a:cubicBezTo>
                  <a:pt x="13471" y="14865"/>
                  <a:pt x="13770" y="13239"/>
                  <a:pt x="14035" y="12542"/>
                </a:cubicBezTo>
                <a:cubicBezTo>
                  <a:pt x="14400" y="11381"/>
                  <a:pt x="14898" y="7432"/>
                  <a:pt x="15229" y="9058"/>
                </a:cubicBezTo>
                <a:cubicBezTo>
                  <a:pt x="15561" y="10452"/>
                  <a:pt x="15163" y="16490"/>
                  <a:pt x="15561" y="18813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813"/>
                </a:cubicBezTo>
                <a:cubicBezTo>
                  <a:pt x="19709" y="17187"/>
                  <a:pt x="20140" y="14865"/>
                  <a:pt x="20605" y="13006"/>
                </a:cubicBezTo>
                <a:cubicBezTo>
                  <a:pt x="20970" y="11845"/>
                  <a:pt x="21268" y="10916"/>
                  <a:pt x="21600" y="9755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0720" y="2495520"/>
            <a:ext cx="12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271"/>
                </a:moveTo>
                <a:cubicBezTo>
                  <a:pt x="422" y="15879"/>
                  <a:pt x="797" y="17357"/>
                  <a:pt x="1297" y="18450"/>
                </a:cubicBezTo>
                <a:cubicBezTo>
                  <a:pt x="1844" y="19800"/>
                  <a:pt x="2548" y="20764"/>
                  <a:pt x="3235" y="21214"/>
                </a:cubicBezTo>
                <a:cubicBezTo>
                  <a:pt x="4032" y="21600"/>
                  <a:pt x="4892" y="21214"/>
                  <a:pt x="5642" y="20121"/>
                </a:cubicBezTo>
                <a:cubicBezTo>
                  <a:pt x="6299" y="19286"/>
                  <a:pt x="6830" y="17100"/>
                  <a:pt x="7502" y="15750"/>
                </a:cubicBezTo>
                <a:cubicBezTo>
                  <a:pt x="7721" y="15364"/>
                  <a:pt x="7955" y="14657"/>
                  <a:pt x="8221" y="14464"/>
                </a:cubicBezTo>
                <a:cubicBezTo>
                  <a:pt x="8784" y="14271"/>
                  <a:pt x="9346" y="15879"/>
                  <a:pt x="9909" y="15750"/>
                </a:cubicBezTo>
                <a:cubicBezTo>
                  <a:pt x="10566" y="15557"/>
                  <a:pt x="11222" y="14464"/>
                  <a:pt x="11832" y="13436"/>
                </a:cubicBezTo>
                <a:cubicBezTo>
                  <a:pt x="12457" y="12214"/>
                  <a:pt x="13019" y="10350"/>
                  <a:pt x="13598" y="8807"/>
                </a:cubicBezTo>
                <a:cubicBezTo>
                  <a:pt x="13957" y="7971"/>
                  <a:pt x="14301" y="6493"/>
                  <a:pt x="14692" y="6236"/>
                </a:cubicBezTo>
                <a:cubicBezTo>
                  <a:pt x="15145" y="5914"/>
                  <a:pt x="15614" y="7329"/>
                  <a:pt x="16067" y="7457"/>
                </a:cubicBezTo>
                <a:cubicBezTo>
                  <a:pt x="16880" y="7714"/>
                  <a:pt x="17708" y="7329"/>
                  <a:pt x="18521" y="6750"/>
                </a:cubicBezTo>
                <a:cubicBezTo>
                  <a:pt x="19021" y="6364"/>
                  <a:pt x="19584" y="5786"/>
                  <a:pt x="20068" y="5014"/>
                </a:cubicBezTo>
                <a:cubicBezTo>
                  <a:pt x="20365" y="4500"/>
                  <a:pt x="21366" y="836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0720" y="2367000"/>
            <a:ext cx="70344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316"/>
                </a:moveTo>
                <a:cubicBezTo>
                  <a:pt x="994" y="17280"/>
                  <a:pt x="2099" y="19322"/>
                  <a:pt x="3259" y="20265"/>
                </a:cubicBezTo>
                <a:cubicBezTo>
                  <a:pt x="4972" y="21600"/>
                  <a:pt x="6767" y="21600"/>
                  <a:pt x="8507" y="21286"/>
                </a:cubicBezTo>
                <a:cubicBezTo>
                  <a:pt x="10386" y="20893"/>
                  <a:pt x="12236" y="19951"/>
                  <a:pt x="14004" y="18223"/>
                </a:cubicBezTo>
                <a:cubicBezTo>
                  <a:pt x="15164" y="17044"/>
                  <a:pt x="16380" y="15631"/>
                  <a:pt x="17402" y="13588"/>
                </a:cubicBezTo>
                <a:cubicBezTo>
                  <a:pt x="18672" y="11153"/>
                  <a:pt x="19887" y="7933"/>
                  <a:pt x="20771" y="4477"/>
                </a:cubicBezTo>
                <a:cubicBezTo>
                  <a:pt x="21130" y="3142"/>
                  <a:pt x="21351" y="1728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71720" y="2036880"/>
            <a:ext cx="2082600" cy="61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63"/>
                </a:moveTo>
                <a:cubicBezTo>
                  <a:pt x="93" y="20274"/>
                  <a:pt x="196" y="20621"/>
                  <a:pt x="336" y="20811"/>
                </a:cubicBezTo>
                <a:cubicBezTo>
                  <a:pt x="905" y="21600"/>
                  <a:pt x="1596" y="20684"/>
                  <a:pt x="2184" y="19989"/>
                </a:cubicBezTo>
                <a:cubicBezTo>
                  <a:pt x="2502" y="19674"/>
                  <a:pt x="2819" y="18979"/>
                  <a:pt x="3099" y="18411"/>
                </a:cubicBezTo>
                <a:cubicBezTo>
                  <a:pt x="3351" y="17811"/>
                  <a:pt x="4042" y="16011"/>
                  <a:pt x="4107" y="15726"/>
                </a:cubicBezTo>
                <a:cubicBezTo>
                  <a:pt x="4201" y="15316"/>
                  <a:pt x="4313" y="14337"/>
                  <a:pt x="4313" y="14337"/>
                </a:cubicBezTo>
                <a:cubicBezTo>
                  <a:pt x="4313" y="14337"/>
                  <a:pt x="4546" y="15663"/>
                  <a:pt x="4733" y="16011"/>
                </a:cubicBezTo>
                <a:cubicBezTo>
                  <a:pt x="5265" y="16958"/>
                  <a:pt x="5937" y="17274"/>
                  <a:pt x="6543" y="16863"/>
                </a:cubicBezTo>
                <a:cubicBezTo>
                  <a:pt x="6908" y="16579"/>
                  <a:pt x="7216" y="15726"/>
                  <a:pt x="7505" y="15000"/>
                </a:cubicBezTo>
                <a:cubicBezTo>
                  <a:pt x="7729" y="14463"/>
                  <a:pt x="8149" y="13200"/>
                  <a:pt x="8149" y="13200"/>
                </a:cubicBezTo>
                <a:cubicBezTo>
                  <a:pt x="8149" y="13200"/>
                  <a:pt x="8382" y="14242"/>
                  <a:pt x="8513" y="14684"/>
                </a:cubicBezTo>
                <a:cubicBezTo>
                  <a:pt x="8634" y="15000"/>
                  <a:pt x="8746" y="15411"/>
                  <a:pt x="8886" y="15663"/>
                </a:cubicBezTo>
                <a:cubicBezTo>
                  <a:pt x="9129" y="16074"/>
                  <a:pt x="9428" y="16200"/>
                  <a:pt x="9708" y="16484"/>
                </a:cubicBezTo>
                <a:cubicBezTo>
                  <a:pt x="10119" y="16863"/>
                  <a:pt x="10529" y="17747"/>
                  <a:pt x="10987" y="17811"/>
                </a:cubicBezTo>
                <a:cubicBezTo>
                  <a:pt x="11472" y="17874"/>
                  <a:pt x="12004" y="17274"/>
                  <a:pt x="12508" y="16737"/>
                </a:cubicBezTo>
                <a:cubicBezTo>
                  <a:pt x="12919" y="16263"/>
                  <a:pt x="13330" y="15537"/>
                  <a:pt x="13703" y="14874"/>
                </a:cubicBezTo>
                <a:cubicBezTo>
                  <a:pt x="14076" y="14211"/>
                  <a:pt x="14459" y="13326"/>
                  <a:pt x="14804" y="12537"/>
                </a:cubicBezTo>
                <a:cubicBezTo>
                  <a:pt x="15010" y="12063"/>
                  <a:pt x="15197" y="11400"/>
                  <a:pt x="15439" y="10989"/>
                </a:cubicBezTo>
                <a:cubicBezTo>
                  <a:pt x="15654" y="10579"/>
                  <a:pt x="15906" y="10263"/>
                  <a:pt x="16186" y="10200"/>
                </a:cubicBezTo>
                <a:cubicBezTo>
                  <a:pt x="16625" y="10042"/>
                  <a:pt x="17054" y="10989"/>
                  <a:pt x="17493" y="10895"/>
                </a:cubicBezTo>
                <a:cubicBezTo>
                  <a:pt x="17969" y="10737"/>
                  <a:pt x="18436" y="9884"/>
                  <a:pt x="18893" y="9189"/>
                </a:cubicBezTo>
                <a:cubicBezTo>
                  <a:pt x="19266" y="8653"/>
                  <a:pt x="19668" y="8053"/>
                  <a:pt x="19994" y="7200"/>
                </a:cubicBezTo>
                <a:cubicBezTo>
                  <a:pt x="20275" y="6537"/>
                  <a:pt x="20508" y="5589"/>
                  <a:pt x="20723" y="4674"/>
                </a:cubicBezTo>
                <a:cubicBezTo>
                  <a:pt x="20928" y="3853"/>
                  <a:pt x="21096" y="3126"/>
                  <a:pt x="21255" y="2274"/>
                </a:cubicBezTo>
                <a:cubicBezTo>
                  <a:pt x="21376" y="1516"/>
                  <a:pt x="21488" y="78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720" y="2127240"/>
            <a:ext cx="77472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455"/>
                </a:moveTo>
                <a:cubicBezTo>
                  <a:pt x="1002" y="13328"/>
                  <a:pt x="2080" y="16545"/>
                  <a:pt x="3207" y="18498"/>
                </a:cubicBezTo>
                <a:cubicBezTo>
                  <a:pt x="4235" y="20106"/>
                  <a:pt x="5362" y="20681"/>
                  <a:pt x="6415" y="21140"/>
                </a:cubicBezTo>
                <a:cubicBezTo>
                  <a:pt x="7994" y="21600"/>
                  <a:pt x="9597" y="20911"/>
                  <a:pt x="11151" y="20106"/>
                </a:cubicBezTo>
                <a:cubicBezTo>
                  <a:pt x="12454" y="19647"/>
                  <a:pt x="13757" y="18728"/>
                  <a:pt x="14985" y="16774"/>
                </a:cubicBezTo>
                <a:cubicBezTo>
                  <a:pt x="16087" y="15051"/>
                  <a:pt x="17115" y="12638"/>
                  <a:pt x="18167" y="10226"/>
                </a:cubicBezTo>
                <a:cubicBezTo>
                  <a:pt x="18969" y="8502"/>
                  <a:pt x="19896" y="6779"/>
                  <a:pt x="20648" y="4136"/>
                </a:cubicBezTo>
                <a:cubicBezTo>
                  <a:pt x="20948" y="2872"/>
                  <a:pt x="21274" y="1494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46080" y="2171880"/>
            <a:ext cx="8254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150"/>
                </a:moveTo>
                <a:cubicBezTo>
                  <a:pt x="212" y="13140"/>
                  <a:pt x="448" y="14040"/>
                  <a:pt x="707" y="14850"/>
                </a:cubicBezTo>
                <a:cubicBezTo>
                  <a:pt x="1343" y="16920"/>
                  <a:pt x="2191" y="18450"/>
                  <a:pt x="2991" y="19350"/>
                </a:cubicBezTo>
                <a:cubicBezTo>
                  <a:pt x="4240" y="20880"/>
                  <a:pt x="5630" y="21060"/>
                  <a:pt x="6996" y="21510"/>
                </a:cubicBezTo>
                <a:cubicBezTo>
                  <a:pt x="7679" y="21600"/>
                  <a:pt x="8409" y="21510"/>
                  <a:pt x="9163" y="21060"/>
                </a:cubicBezTo>
                <a:cubicBezTo>
                  <a:pt x="10953" y="20250"/>
                  <a:pt x="12790" y="19980"/>
                  <a:pt x="14533" y="17820"/>
                </a:cubicBezTo>
                <a:cubicBezTo>
                  <a:pt x="15688" y="16290"/>
                  <a:pt x="16889" y="14220"/>
                  <a:pt x="17925" y="11610"/>
                </a:cubicBezTo>
                <a:cubicBezTo>
                  <a:pt x="19221" y="8280"/>
                  <a:pt x="20375" y="3780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25560" y="1995480"/>
            <a:ext cx="57924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833"/>
                </a:moveTo>
                <a:cubicBezTo>
                  <a:pt x="837" y="19547"/>
                  <a:pt x="1674" y="20886"/>
                  <a:pt x="2679" y="21064"/>
                </a:cubicBezTo>
                <a:cubicBezTo>
                  <a:pt x="4688" y="21600"/>
                  <a:pt x="6698" y="20172"/>
                  <a:pt x="8774" y="18922"/>
                </a:cubicBezTo>
                <a:cubicBezTo>
                  <a:pt x="10616" y="17851"/>
                  <a:pt x="12458" y="16155"/>
                  <a:pt x="14233" y="14281"/>
                </a:cubicBezTo>
                <a:cubicBezTo>
                  <a:pt x="15271" y="13121"/>
                  <a:pt x="16409" y="11603"/>
                  <a:pt x="17548" y="9907"/>
                </a:cubicBezTo>
                <a:cubicBezTo>
                  <a:pt x="18318" y="8836"/>
                  <a:pt x="19323" y="7676"/>
                  <a:pt x="20026" y="5712"/>
                </a:cubicBezTo>
                <a:cubicBezTo>
                  <a:pt x="20662" y="4106"/>
                  <a:pt x="21098" y="1964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85880" y="2075040"/>
            <a:ext cx="58104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711"/>
                </a:moveTo>
                <a:cubicBezTo>
                  <a:pt x="938" y="18400"/>
                  <a:pt x="1942" y="20089"/>
                  <a:pt x="2980" y="20800"/>
                </a:cubicBezTo>
                <a:cubicBezTo>
                  <a:pt x="3985" y="21600"/>
                  <a:pt x="5157" y="21422"/>
                  <a:pt x="6296" y="21244"/>
                </a:cubicBezTo>
                <a:cubicBezTo>
                  <a:pt x="7937" y="21067"/>
                  <a:pt x="9712" y="21067"/>
                  <a:pt x="11319" y="19556"/>
                </a:cubicBezTo>
                <a:cubicBezTo>
                  <a:pt x="12893" y="18044"/>
                  <a:pt x="14233" y="14844"/>
                  <a:pt x="15639" y="12356"/>
                </a:cubicBezTo>
                <a:cubicBezTo>
                  <a:pt x="17012" y="9956"/>
                  <a:pt x="18486" y="7467"/>
                  <a:pt x="19758" y="4711"/>
                </a:cubicBezTo>
                <a:cubicBezTo>
                  <a:pt x="20394" y="3200"/>
                  <a:pt x="20964" y="168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2254320"/>
            <a:ext cx="56808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701"/>
                </a:moveTo>
                <a:cubicBezTo>
                  <a:pt x="410" y="6226"/>
                  <a:pt x="889" y="7496"/>
                  <a:pt x="1333" y="9021"/>
                </a:cubicBezTo>
                <a:cubicBezTo>
                  <a:pt x="2597" y="12706"/>
                  <a:pt x="4101" y="15882"/>
                  <a:pt x="5708" y="17788"/>
                </a:cubicBezTo>
                <a:cubicBezTo>
                  <a:pt x="7895" y="20202"/>
                  <a:pt x="10253" y="21600"/>
                  <a:pt x="12509" y="20202"/>
                </a:cubicBezTo>
                <a:cubicBezTo>
                  <a:pt x="13944" y="19440"/>
                  <a:pt x="15380" y="16264"/>
                  <a:pt x="16781" y="13722"/>
                </a:cubicBezTo>
                <a:cubicBezTo>
                  <a:pt x="17977" y="11562"/>
                  <a:pt x="19378" y="10038"/>
                  <a:pt x="20301" y="6480"/>
                </a:cubicBezTo>
                <a:cubicBezTo>
                  <a:pt x="20814" y="4701"/>
                  <a:pt x="21156" y="2541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27160" y="2017800"/>
            <a:ext cx="443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82"/>
                </a:moveTo>
                <a:cubicBezTo>
                  <a:pt x="659" y="19636"/>
                  <a:pt x="1317" y="20218"/>
                  <a:pt x="2063" y="20582"/>
                </a:cubicBezTo>
                <a:cubicBezTo>
                  <a:pt x="4961" y="21600"/>
                  <a:pt x="8298" y="20364"/>
                  <a:pt x="11151" y="18545"/>
                </a:cubicBezTo>
                <a:cubicBezTo>
                  <a:pt x="12732" y="17673"/>
                  <a:pt x="14137" y="15709"/>
                  <a:pt x="15454" y="13600"/>
                </a:cubicBezTo>
                <a:cubicBezTo>
                  <a:pt x="17078" y="11200"/>
                  <a:pt x="18659" y="8436"/>
                  <a:pt x="19888" y="5382"/>
                </a:cubicBezTo>
                <a:cubicBezTo>
                  <a:pt x="20502" y="3709"/>
                  <a:pt x="21073" y="1818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32080" y="2001960"/>
            <a:ext cx="5554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069"/>
                </a:moveTo>
                <a:cubicBezTo>
                  <a:pt x="736" y="17489"/>
                  <a:pt x="1543" y="18760"/>
                  <a:pt x="2525" y="19582"/>
                </a:cubicBezTo>
                <a:cubicBezTo>
                  <a:pt x="4769" y="21301"/>
                  <a:pt x="7469" y="21600"/>
                  <a:pt x="9923" y="20554"/>
                </a:cubicBezTo>
                <a:cubicBezTo>
                  <a:pt x="11852" y="19657"/>
                  <a:pt x="13745" y="18162"/>
                  <a:pt x="15534" y="16293"/>
                </a:cubicBezTo>
                <a:cubicBezTo>
                  <a:pt x="16831" y="14799"/>
                  <a:pt x="18199" y="13229"/>
                  <a:pt x="19251" y="10987"/>
                </a:cubicBezTo>
                <a:cubicBezTo>
                  <a:pt x="19987" y="9492"/>
                  <a:pt x="20548" y="7250"/>
                  <a:pt x="21039" y="5082"/>
                </a:cubicBezTo>
                <a:cubicBezTo>
                  <a:pt x="21319" y="3438"/>
                  <a:pt x="21495" y="171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68760" y="2021040"/>
            <a:ext cx="307800" cy="16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77"/>
                </a:moveTo>
                <a:cubicBezTo>
                  <a:pt x="1394" y="20911"/>
                  <a:pt x="2850" y="21600"/>
                  <a:pt x="4307" y="21600"/>
                </a:cubicBezTo>
                <a:cubicBezTo>
                  <a:pt x="7284" y="21600"/>
                  <a:pt x="10072" y="19302"/>
                  <a:pt x="12732" y="17234"/>
                </a:cubicBezTo>
                <a:cubicBezTo>
                  <a:pt x="14506" y="15740"/>
                  <a:pt x="16216" y="13557"/>
                  <a:pt x="17736" y="11145"/>
                </a:cubicBezTo>
                <a:cubicBezTo>
                  <a:pt x="18750" y="9191"/>
                  <a:pt x="20777" y="2413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36960" y="2103480"/>
            <a:ext cx="57636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48"/>
                </a:moveTo>
                <a:cubicBezTo>
                  <a:pt x="879" y="12656"/>
                  <a:pt x="1656" y="14368"/>
                  <a:pt x="2501" y="15796"/>
                </a:cubicBezTo>
                <a:cubicBezTo>
                  <a:pt x="3313" y="17128"/>
                  <a:pt x="4225" y="18270"/>
                  <a:pt x="5239" y="18841"/>
                </a:cubicBezTo>
                <a:cubicBezTo>
                  <a:pt x="7301" y="20268"/>
                  <a:pt x="9566" y="21600"/>
                  <a:pt x="11797" y="20839"/>
                </a:cubicBezTo>
                <a:cubicBezTo>
                  <a:pt x="13927" y="20078"/>
                  <a:pt x="16158" y="18270"/>
                  <a:pt x="17949" y="14368"/>
                </a:cubicBezTo>
                <a:cubicBezTo>
                  <a:pt x="18930" y="12275"/>
                  <a:pt x="19944" y="9611"/>
                  <a:pt x="20654" y="6185"/>
                </a:cubicBezTo>
                <a:cubicBezTo>
                  <a:pt x="21093" y="4187"/>
                  <a:pt x="21363" y="2189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91000" y="1989000"/>
            <a:ext cx="750960" cy="1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72"/>
                </a:moveTo>
                <a:cubicBezTo>
                  <a:pt x="621" y="20623"/>
                  <a:pt x="1268" y="21057"/>
                  <a:pt x="1863" y="21274"/>
                </a:cubicBezTo>
                <a:cubicBezTo>
                  <a:pt x="3182" y="21600"/>
                  <a:pt x="4553" y="19755"/>
                  <a:pt x="5794" y="17910"/>
                </a:cubicBezTo>
                <a:cubicBezTo>
                  <a:pt x="6933" y="16064"/>
                  <a:pt x="7993" y="12808"/>
                  <a:pt x="9080" y="10094"/>
                </a:cubicBezTo>
                <a:cubicBezTo>
                  <a:pt x="10166" y="7164"/>
                  <a:pt x="11253" y="2062"/>
                  <a:pt x="12572" y="1845"/>
                </a:cubicBezTo>
                <a:cubicBezTo>
                  <a:pt x="13063" y="1845"/>
                  <a:pt x="13451" y="3908"/>
                  <a:pt x="13891" y="4993"/>
                </a:cubicBezTo>
                <a:cubicBezTo>
                  <a:pt x="14305" y="6187"/>
                  <a:pt x="14745" y="8032"/>
                  <a:pt x="15262" y="8466"/>
                </a:cubicBezTo>
                <a:cubicBezTo>
                  <a:pt x="16142" y="9335"/>
                  <a:pt x="17047" y="8032"/>
                  <a:pt x="17978" y="7164"/>
                </a:cubicBezTo>
                <a:cubicBezTo>
                  <a:pt x="18754" y="6404"/>
                  <a:pt x="19582" y="4776"/>
                  <a:pt x="20332" y="3148"/>
                </a:cubicBezTo>
                <a:cubicBezTo>
                  <a:pt x="20772" y="2279"/>
                  <a:pt x="21160" y="1085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90960" y="1932120"/>
            <a:ext cx="77760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920"/>
                </a:moveTo>
                <a:cubicBezTo>
                  <a:pt x="799" y="18432"/>
                  <a:pt x="1598" y="19944"/>
                  <a:pt x="2497" y="20520"/>
                </a:cubicBezTo>
                <a:cubicBezTo>
                  <a:pt x="3746" y="21456"/>
                  <a:pt x="5144" y="21600"/>
                  <a:pt x="6443" y="21024"/>
                </a:cubicBezTo>
                <a:cubicBezTo>
                  <a:pt x="7766" y="20376"/>
                  <a:pt x="9139" y="19296"/>
                  <a:pt x="10238" y="17352"/>
                </a:cubicBezTo>
                <a:cubicBezTo>
                  <a:pt x="10738" y="16488"/>
                  <a:pt x="11162" y="15264"/>
                  <a:pt x="11512" y="13824"/>
                </a:cubicBezTo>
                <a:cubicBezTo>
                  <a:pt x="11662" y="13248"/>
                  <a:pt x="12086" y="11736"/>
                  <a:pt x="12086" y="11736"/>
                </a:cubicBezTo>
                <a:cubicBezTo>
                  <a:pt x="12086" y="11736"/>
                  <a:pt x="12885" y="13248"/>
                  <a:pt x="13360" y="13608"/>
                </a:cubicBezTo>
                <a:cubicBezTo>
                  <a:pt x="14358" y="14040"/>
                  <a:pt x="15407" y="13464"/>
                  <a:pt x="16431" y="12528"/>
                </a:cubicBezTo>
                <a:cubicBezTo>
                  <a:pt x="17055" y="11880"/>
                  <a:pt x="17804" y="11160"/>
                  <a:pt x="18429" y="10080"/>
                </a:cubicBezTo>
                <a:cubicBezTo>
                  <a:pt x="19153" y="8856"/>
                  <a:pt x="19902" y="7200"/>
                  <a:pt x="20501" y="5256"/>
                </a:cubicBezTo>
                <a:cubicBezTo>
                  <a:pt x="20926" y="3672"/>
                  <a:pt x="21275" y="1872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8640" y="1833480"/>
            <a:ext cx="371520" cy="1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11"/>
                </a:moveTo>
                <a:cubicBezTo>
                  <a:pt x="785" y="20107"/>
                  <a:pt x="1569" y="20605"/>
                  <a:pt x="2458" y="21003"/>
                </a:cubicBezTo>
                <a:cubicBezTo>
                  <a:pt x="3452" y="21401"/>
                  <a:pt x="4498" y="21600"/>
                  <a:pt x="5544" y="21401"/>
                </a:cubicBezTo>
                <a:cubicBezTo>
                  <a:pt x="7636" y="21202"/>
                  <a:pt x="9623" y="19908"/>
                  <a:pt x="11454" y="18216"/>
                </a:cubicBezTo>
                <a:cubicBezTo>
                  <a:pt x="13912" y="15926"/>
                  <a:pt x="16475" y="13040"/>
                  <a:pt x="18357" y="8859"/>
                </a:cubicBezTo>
                <a:cubicBezTo>
                  <a:pt x="19560" y="6271"/>
                  <a:pt x="20554" y="3185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5320" y="1843200"/>
            <a:ext cx="6271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746"/>
                </a:moveTo>
                <a:cubicBezTo>
                  <a:pt x="186" y="13232"/>
                  <a:pt x="403" y="13622"/>
                  <a:pt x="589" y="14011"/>
                </a:cubicBezTo>
                <a:cubicBezTo>
                  <a:pt x="1457" y="15665"/>
                  <a:pt x="2293" y="17708"/>
                  <a:pt x="3223" y="18681"/>
                </a:cubicBezTo>
                <a:cubicBezTo>
                  <a:pt x="5113" y="20822"/>
                  <a:pt x="7345" y="21600"/>
                  <a:pt x="9421" y="21114"/>
                </a:cubicBezTo>
                <a:cubicBezTo>
                  <a:pt x="10413" y="21016"/>
                  <a:pt x="11311" y="19557"/>
                  <a:pt x="12303" y="18486"/>
                </a:cubicBezTo>
                <a:cubicBezTo>
                  <a:pt x="13295" y="17514"/>
                  <a:pt x="14410" y="16054"/>
                  <a:pt x="15402" y="14400"/>
                </a:cubicBezTo>
                <a:cubicBezTo>
                  <a:pt x="16642" y="12357"/>
                  <a:pt x="17943" y="10314"/>
                  <a:pt x="19059" y="7686"/>
                </a:cubicBezTo>
                <a:cubicBezTo>
                  <a:pt x="19989" y="5351"/>
                  <a:pt x="20763" y="2724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02040" y="1785960"/>
            <a:ext cx="46512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13"/>
                </a:moveTo>
                <a:cubicBezTo>
                  <a:pt x="709" y="19417"/>
                  <a:pt x="1418" y="20336"/>
                  <a:pt x="2210" y="20566"/>
                </a:cubicBezTo>
                <a:cubicBezTo>
                  <a:pt x="4337" y="21600"/>
                  <a:pt x="6463" y="20911"/>
                  <a:pt x="8548" y="19647"/>
                </a:cubicBezTo>
                <a:cubicBezTo>
                  <a:pt x="10341" y="18613"/>
                  <a:pt x="12009" y="16545"/>
                  <a:pt x="13761" y="14591"/>
                </a:cubicBezTo>
                <a:cubicBezTo>
                  <a:pt x="15095" y="13098"/>
                  <a:pt x="16596" y="11489"/>
                  <a:pt x="17889" y="8962"/>
                </a:cubicBezTo>
                <a:cubicBezTo>
                  <a:pt x="19181" y="6549"/>
                  <a:pt x="20349" y="3102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0720" y="1468440"/>
            <a:ext cx="4889520" cy="62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92"/>
                </a:moveTo>
                <a:cubicBezTo>
                  <a:pt x="99" y="18664"/>
                  <a:pt x="211" y="19468"/>
                  <a:pt x="334" y="19993"/>
                </a:cubicBezTo>
                <a:cubicBezTo>
                  <a:pt x="529" y="20766"/>
                  <a:pt x="747" y="21353"/>
                  <a:pt x="966" y="21476"/>
                </a:cubicBezTo>
                <a:cubicBezTo>
                  <a:pt x="1284" y="21600"/>
                  <a:pt x="1594" y="20827"/>
                  <a:pt x="1896" y="20086"/>
                </a:cubicBezTo>
                <a:cubicBezTo>
                  <a:pt x="2015" y="19839"/>
                  <a:pt x="2413" y="18263"/>
                  <a:pt x="2484" y="17892"/>
                </a:cubicBezTo>
                <a:cubicBezTo>
                  <a:pt x="2572" y="17428"/>
                  <a:pt x="2715" y="16285"/>
                  <a:pt x="2715" y="16285"/>
                </a:cubicBezTo>
                <a:cubicBezTo>
                  <a:pt x="2715" y="16285"/>
                  <a:pt x="2890" y="16656"/>
                  <a:pt x="2981" y="16841"/>
                </a:cubicBezTo>
                <a:cubicBezTo>
                  <a:pt x="3208" y="17305"/>
                  <a:pt x="3434" y="18263"/>
                  <a:pt x="3669" y="18263"/>
                </a:cubicBezTo>
                <a:cubicBezTo>
                  <a:pt x="3911" y="18263"/>
                  <a:pt x="4154" y="17428"/>
                  <a:pt x="4392" y="16718"/>
                </a:cubicBezTo>
                <a:cubicBezTo>
                  <a:pt x="4543" y="16285"/>
                  <a:pt x="4671" y="15389"/>
                  <a:pt x="4822" y="14833"/>
                </a:cubicBezTo>
                <a:cubicBezTo>
                  <a:pt x="4921" y="14431"/>
                  <a:pt x="5012" y="13782"/>
                  <a:pt x="5124" y="13782"/>
                </a:cubicBezTo>
                <a:cubicBezTo>
                  <a:pt x="5299" y="13720"/>
                  <a:pt x="5466" y="14771"/>
                  <a:pt x="5637" y="15142"/>
                </a:cubicBezTo>
                <a:cubicBezTo>
                  <a:pt x="5760" y="15451"/>
                  <a:pt x="5895" y="15821"/>
                  <a:pt x="6022" y="15914"/>
                </a:cubicBezTo>
                <a:cubicBezTo>
                  <a:pt x="6233" y="16130"/>
                  <a:pt x="6459" y="16130"/>
                  <a:pt x="6658" y="15821"/>
                </a:cubicBezTo>
                <a:cubicBezTo>
                  <a:pt x="6833" y="15543"/>
                  <a:pt x="7183" y="14091"/>
                  <a:pt x="7183" y="14091"/>
                </a:cubicBezTo>
                <a:cubicBezTo>
                  <a:pt x="7183" y="14091"/>
                  <a:pt x="7366" y="14431"/>
                  <a:pt x="7457" y="14555"/>
                </a:cubicBezTo>
                <a:cubicBezTo>
                  <a:pt x="7600" y="14833"/>
                  <a:pt x="7743" y="15296"/>
                  <a:pt x="7886" y="15358"/>
                </a:cubicBezTo>
                <a:cubicBezTo>
                  <a:pt x="8153" y="15451"/>
                  <a:pt x="8439" y="15080"/>
                  <a:pt x="8709" y="14493"/>
                </a:cubicBezTo>
                <a:cubicBezTo>
                  <a:pt x="8852" y="14153"/>
                  <a:pt x="8964" y="13195"/>
                  <a:pt x="9111" y="13009"/>
                </a:cubicBezTo>
                <a:cubicBezTo>
                  <a:pt x="9206" y="12855"/>
                  <a:pt x="9305" y="13257"/>
                  <a:pt x="9397" y="13473"/>
                </a:cubicBezTo>
                <a:cubicBezTo>
                  <a:pt x="9512" y="13720"/>
                  <a:pt x="9631" y="14307"/>
                  <a:pt x="9759" y="14493"/>
                </a:cubicBezTo>
                <a:cubicBezTo>
                  <a:pt x="9949" y="14771"/>
                  <a:pt x="10156" y="14555"/>
                  <a:pt x="10347" y="14369"/>
                </a:cubicBezTo>
                <a:cubicBezTo>
                  <a:pt x="10526" y="14245"/>
                  <a:pt x="10701" y="13844"/>
                  <a:pt x="10876" y="13473"/>
                </a:cubicBezTo>
                <a:cubicBezTo>
                  <a:pt x="11019" y="13102"/>
                  <a:pt x="11170" y="12793"/>
                  <a:pt x="11301" y="12422"/>
                </a:cubicBezTo>
                <a:cubicBezTo>
                  <a:pt x="11496" y="11804"/>
                  <a:pt x="11651" y="10290"/>
                  <a:pt x="11857" y="10259"/>
                </a:cubicBezTo>
                <a:cubicBezTo>
                  <a:pt x="12052" y="10197"/>
                  <a:pt x="12219" y="11495"/>
                  <a:pt x="12402" y="12021"/>
                </a:cubicBezTo>
                <a:cubicBezTo>
                  <a:pt x="12581" y="12484"/>
                  <a:pt x="12756" y="13318"/>
                  <a:pt x="12931" y="13195"/>
                </a:cubicBezTo>
                <a:cubicBezTo>
                  <a:pt x="13157" y="13071"/>
                  <a:pt x="13360" y="11804"/>
                  <a:pt x="13571" y="11032"/>
                </a:cubicBezTo>
                <a:cubicBezTo>
                  <a:pt x="13674" y="10661"/>
                  <a:pt x="13773" y="9919"/>
                  <a:pt x="13889" y="9858"/>
                </a:cubicBezTo>
                <a:cubicBezTo>
                  <a:pt x="13948" y="9796"/>
                  <a:pt x="14016" y="10259"/>
                  <a:pt x="14075" y="10383"/>
                </a:cubicBezTo>
                <a:cubicBezTo>
                  <a:pt x="14242" y="10815"/>
                  <a:pt x="14417" y="11279"/>
                  <a:pt x="14604" y="11341"/>
                </a:cubicBezTo>
                <a:cubicBezTo>
                  <a:pt x="14815" y="11433"/>
                  <a:pt x="15041" y="11186"/>
                  <a:pt x="15240" y="10568"/>
                </a:cubicBezTo>
                <a:cubicBezTo>
                  <a:pt x="15375" y="10197"/>
                  <a:pt x="15502" y="9394"/>
                  <a:pt x="15630" y="8838"/>
                </a:cubicBezTo>
                <a:cubicBezTo>
                  <a:pt x="15713" y="8436"/>
                  <a:pt x="15777" y="7633"/>
                  <a:pt x="15880" y="7571"/>
                </a:cubicBezTo>
                <a:cubicBezTo>
                  <a:pt x="15999" y="7509"/>
                  <a:pt x="16099" y="8621"/>
                  <a:pt x="16218" y="8900"/>
                </a:cubicBezTo>
                <a:cubicBezTo>
                  <a:pt x="16421" y="9270"/>
                  <a:pt x="16655" y="9363"/>
                  <a:pt x="16854" y="8992"/>
                </a:cubicBezTo>
                <a:cubicBezTo>
                  <a:pt x="17073" y="8621"/>
                  <a:pt x="17283" y="7633"/>
                  <a:pt x="17478" y="6644"/>
                </a:cubicBezTo>
                <a:cubicBezTo>
                  <a:pt x="17577" y="6118"/>
                  <a:pt x="17669" y="5222"/>
                  <a:pt x="17760" y="4573"/>
                </a:cubicBezTo>
                <a:cubicBezTo>
                  <a:pt x="17860" y="3832"/>
                  <a:pt x="17939" y="2812"/>
                  <a:pt x="18062" y="2534"/>
                </a:cubicBezTo>
                <a:cubicBezTo>
                  <a:pt x="18189" y="2287"/>
                  <a:pt x="18325" y="2812"/>
                  <a:pt x="18452" y="3059"/>
                </a:cubicBezTo>
                <a:cubicBezTo>
                  <a:pt x="18686" y="3523"/>
                  <a:pt x="18905" y="4759"/>
                  <a:pt x="19139" y="4821"/>
                </a:cubicBezTo>
                <a:cubicBezTo>
                  <a:pt x="19322" y="4882"/>
                  <a:pt x="19501" y="4450"/>
                  <a:pt x="19668" y="3832"/>
                </a:cubicBezTo>
                <a:cubicBezTo>
                  <a:pt x="19851" y="3276"/>
                  <a:pt x="20010" y="2225"/>
                  <a:pt x="20185" y="1298"/>
                </a:cubicBezTo>
                <a:cubicBezTo>
                  <a:pt x="20245" y="989"/>
                  <a:pt x="20304" y="525"/>
                  <a:pt x="20380" y="340"/>
                </a:cubicBezTo>
                <a:cubicBezTo>
                  <a:pt x="20459" y="185"/>
                  <a:pt x="20535" y="340"/>
                  <a:pt x="20606" y="464"/>
                </a:cubicBezTo>
                <a:cubicBezTo>
                  <a:pt x="20741" y="711"/>
                  <a:pt x="20849" y="1638"/>
                  <a:pt x="20988" y="1638"/>
                </a:cubicBezTo>
                <a:cubicBezTo>
                  <a:pt x="21199" y="1700"/>
                  <a:pt x="21397" y="525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95440" y="1892160"/>
            <a:ext cx="1512720" cy="2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140"/>
                </a:moveTo>
                <a:cubicBezTo>
                  <a:pt x="771" y="20754"/>
                  <a:pt x="1568" y="21600"/>
                  <a:pt x="2326" y="20985"/>
                </a:cubicBezTo>
                <a:cubicBezTo>
                  <a:pt x="3238" y="20140"/>
                  <a:pt x="4099" y="17526"/>
                  <a:pt x="4883" y="14912"/>
                </a:cubicBezTo>
                <a:cubicBezTo>
                  <a:pt x="5268" y="13606"/>
                  <a:pt x="5641" y="11838"/>
                  <a:pt x="5975" y="10147"/>
                </a:cubicBezTo>
                <a:cubicBezTo>
                  <a:pt x="6052" y="9609"/>
                  <a:pt x="6104" y="8456"/>
                  <a:pt x="6245" y="8302"/>
                </a:cubicBezTo>
                <a:cubicBezTo>
                  <a:pt x="6553" y="8148"/>
                  <a:pt x="6682" y="11069"/>
                  <a:pt x="6952" y="11838"/>
                </a:cubicBezTo>
                <a:cubicBezTo>
                  <a:pt x="7376" y="13375"/>
                  <a:pt x="7851" y="14298"/>
                  <a:pt x="8326" y="14912"/>
                </a:cubicBezTo>
                <a:cubicBezTo>
                  <a:pt x="8905" y="15835"/>
                  <a:pt x="9470" y="16604"/>
                  <a:pt x="10035" y="16450"/>
                </a:cubicBezTo>
                <a:cubicBezTo>
                  <a:pt x="10729" y="16219"/>
                  <a:pt x="11423" y="14912"/>
                  <a:pt x="12143" y="13990"/>
                </a:cubicBezTo>
                <a:cubicBezTo>
                  <a:pt x="12400" y="13606"/>
                  <a:pt x="12682" y="12991"/>
                  <a:pt x="12939" y="12376"/>
                </a:cubicBezTo>
                <a:cubicBezTo>
                  <a:pt x="13119" y="12068"/>
                  <a:pt x="13274" y="10915"/>
                  <a:pt x="13492" y="10762"/>
                </a:cubicBezTo>
                <a:cubicBezTo>
                  <a:pt x="13955" y="10223"/>
                  <a:pt x="14443" y="11838"/>
                  <a:pt x="14931" y="12376"/>
                </a:cubicBezTo>
                <a:cubicBezTo>
                  <a:pt x="15612" y="12991"/>
                  <a:pt x="16319" y="13990"/>
                  <a:pt x="17013" y="13759"/>
                </a:cubicBezTo>
                <a:cubicBezTo>
                  <a:pt x="17809" y="13606"/>
                  <a:pt x="18593" y="12376"/>
                  <a:pt x="19351" y="10762"/>
                </a:cubicBezTo>
                <a:cubicBezTo>
                  <a:pt x="19763" y="9916"/>
                  <a:pt x="20148" y="8609"/>
                  <a:pt x="20521" y="7302"/>
                </a:cubicBezTo>
                <a:cubicBezTo>
                  <a:pt x="20829" y="6380"/>
                  <a:pt x="21253" y="5688"/>
                  <a:pt x="21446" y="3920"/>
                </a:cubicBezTo>
                <a:cubicBezTo>
                  <a:pt x="21561" y="2767"/>
                  <a:pt x="21600" y="1460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0720" y="1368360"/>
            <a:ext cx="4432320" cy="55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157"/>
                </a:moveTo>
                <a:cubicBezTo>
                  <a:pt x="175" y="19995"/>
                  <a:pt x="364" y="20797"/>
                  <a:pt x="557" y="21181"/>
                </a:cubicBezTo>
                <a:cubicBezTo>
                  <a:pt x="789" y="21600"/>
                  <a:pt x="1048" y="21286"/>
                  <a:pt x="1294" y="21111"/>
                </a:cubicBezTo>
                <a:cubicBezTo>
                  <a:pt x="1491" y="20867"/>
                  <a:pt x="1684" y="20065"/>
                  <a:pt x="1899" y="19820"/>
                </a:cubicBezTo>
                <a:cubicBezTo>
                  <a:pt x="2140" y="19646"/>
                  <a:pt x="2390" y="19995"/>
                  <a:pt x="2631" y="19925"/>
                </a:cubicBezTo>
                <a:cubicBezTo>
                  <a:pt x="2750" y="19820"/>
                  <a:pt x="2873" y="19925"/>
                  <a:pt x="2995" y="19681"/>
                </a:cubicBezTo>
                <a:cubicBezTo>
                  <a:pt x="3259" y="19227"/>
                  <a:pt x="3531" y="18599"/>
                  <a:pt x="3781" y="17692"/>
                </a:cubicBezTo>
                <a:cubicBezTo>
                  <a:pt x="4031" y="16819"/>
                  <a:pt x="4237" y="15284"/>
                  <a:pt x="4474" y="14237"/>
                </a:cubicBezTo>
                <a:cubicBezTo>
                  <a:pt x="4605" y="13714"/>
                  <a:pt x="4745" y="12911"/>
                  <a:pt x="4895" y="12841"/>
                </a:cubicBezTo>
                <a:cubicBezTo>
                  <a:pt x="5096" y="12702"/>
                  <a:pt x="5294" y="13714"/>
                  <a:pt x="5495" y="13993"/>
                </a:cubicBezTo>
                <a:cubicBezTo>
                  <a:pt x="5680" y="14237"/>
                  <a:pt x="5877" y="14691"/>
                  <a:pt x="6061" y="14447"/>
                </a:cubicBezTo>
                <a:cubicBezTo>
                  <a:pt x="6289" y="14167"/>
                  <a:pt x="6495" y="12702"/>
                  <a:pt x="6710" y="11934"/>
                </a:cubicBezTo>
                <a:cubicBezTo>
                  <a:pt x="6820" y="11585"/>
                  <a:pt x="6921" y="10713"/>
                  <a:pt x="7044" y="10713"/>
                </a:cubicBezTo>
                <a:cubicBezTo>
                  <a:pt x="7118" y="10713"/>
                  <a:pt x="7180" y="11132"/>
                  <a:pt x="7258" y="11341"/>
                </a:cubicBezTo>
                <a:cubicBezTo>
                  <a:pt x="7517" y="12039"/>
                  <a:pt x="7776" y="13051"/>
                  <a:pt x="8052" y="13051"/>
                </a:cubicBezTo>
                <a:cubicBezTo>
                  <a:pt x="8324" y="13051"/>
                  <a:pt x="8583" y="12109"/>
                  <a:pt x="8833" y="11341"/>
                </a:cubicBezTo>
                <a:cubicBezTo>
                  <a:pt x="8951" y="10992"/>
                  <a:pt x="9061" y="10468"/>
                  <a:pt x="9188" y="10329"/>
                </a:cubicBezTo>
                <a:cubicBezTo>
                  <a:pt x="9307" y="10189"/>
                  <a:pt x="9425" y="10468"/>
                  <a:pt x="9535" y="10713"/>
                </a:cubicBezTo>
                <a:cubicBezTo>
                  <a:pt x="9824" y="11271"/>
                  <a:pt x="10092" y="12632"/>
                  <a:pt x="10377" y="13051"/>
                </a:cubicBezTo>
                <a:cubicBezTo>
                  <a:pt x="10758" y="13644"/>
                  <a:pt x="11162" y="13818"/>
                  <a:pt x="11552" y="13574"/>
                </a:cubicBezTo>
                <a:cubicBezTo>
                  <a:pt x="11916" y="13365"/>
                  <a:pt x="12276" y="12702"/>
                  <a:pt x="12618" y="11934"/>
                </a:cubicBezTo>
                <a:cubicBezTo>
                  <a:pt x="12951" y="11271"/>
                  <a:pt x="13276" y="10224"/>
                  <a:pt x="13600" y="9282"/>
                </a:cubicBezTo>
                <a:cubicBezTo>
                  <a:pt x="13785" y="8759"/>
                  <a:pt x="13973" y="7816"/>
                  <a:pt x="14179" y="7468"/>
                </a:cubicBezTo>
                <a:cubicBezTo>
                  <a:pt x="14399" y="7119"/>
                  <a:pt x="14640" y="6700"/>
                  <a:pt x="14850" y="7153"/>
                </a:cubicBezTo>
                <a:cubicBezTo>
                  <a:pt x="14938" y="7293"/>
                  <a:pt x="15013" y="7886"/>
                  <a:pt x="15096" y="8270"/>
                </a:cubicBezTo>
                <a:cubicBezTo>
                  <a:pt x="15162" y="8584"/>
                  <a:pt x="15227" y="9073"/>
                  <a:pt x="15298" y="9212"/>
                </a:cubicBezTo>
                <a:cubicBezTo>
                  <a:pt x="15434" y="9526"/>
                  <a:pt x="15596" y="9212"/>
                  <a:pt x="15745" y="8933"/>
                </a:cubicBezTo>
                <a:cubicBezTo>
                  <a:pt x="15846" y="8759"/>
                  <a:pt x="15929" y="8061"/>
                  <a:pt x="16039" y="7991"/>
                </a:cubicBezTo>
                <a:cubicBezTo>
                  <a:pt x="16289" y="7747"/>
                  <a:pt x="16530" y="8689"/>
                  <a:pt x="16789" y="8759"/>
                </a:cubicBezTo>
                <a:cubicBezTo>
                  <a:pt x="17061" y="8863"/>
                  <a:pt x="17337" y="8340"/>
                  <a:pt x="17578" y="7468"/>
                </a:cubicBezTo>
                <a:cubicBezTo>
                  <a:pt x="17806" y="6630"/>
                  <a:pt x="17955" y="4432"/>
                  <a:pt x="18197" y="3769"/>
                </a:cubicBezTo>
                <a:cubicBezTo>
                  <a:pt x="18376" y="3350"/>
                  <a:pt x="18578" y="3699"/>
                  <a:pt x="18762" y="3769"/>
                </a:cubicBezTo>
                <a:cubicBezTo>
                  <a:pt x="18863" y="3838"/>
                  <a:pt x="18969" y="4048"/>
                  <a:pt x="19069" y="4048"/>
                </a:cubicBezTo>
                <a:cubicBezTo>
                  <a:pt x="19219" y="4048"/>
                  <a:pt x="19381" y="4222"/>
                  <a:pt x="19530" y="3769"/>
                </a:cubicBezTo>
                <a:cubicBezTo>
                  <a:pt x="19618" y="3524"/>
                  <a:pt x="19670" y="2896"/>
                  <a:pt x="19736" y="2443"/>
                </a:cubicBezTo>
                <a:cubicBezTo>
                  <a:pt x="19833" y="1780"/>
                  <a:pt x="19894" y="663"/>
                  <a:pt x="20017" y="454"/>
                </a:cubicBezTo>
                <a:cubicBezTo>
                  <a:pt x="20188" y="70"/>
                  <a:pt x="20372" y="1117"/>
                  <a:pt x="20552" y="1361"/>
                </a:cubicBezTo>
                <a:cubicBezTo>
                  <a:pt x="20749" y="1570"/>
                  <a:pt x="20951" y="2059"/>
                  <a:pt x="21153" y="1780"/>
                </a:cubicBezTo>
                <a:cubicBezTo>
                  <a:pt x="21319" y="1570"/>
                  <a:pt x="21451" y="593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0720" y="1282680"/>
            <a:ext cx="5398920" cy="46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337"/>
                </a:moveTo>
                <a:cubicBezTo>
                  <a:pt x="220" y="17768"/>
                  <a:pt x="443" y="19411"/>
                  <a:pt x="691" y="20042"/>
                </a:cubicBezTo>
                <a:cubicBezTo>
                  <a:pt x="1292" y="21600"/>
                  <a:pt x="1930" y="21011"/>
                  <a:pt x="2542" y="20126"/>
                </a:cubicBezTo>
                <a:cubicBezTo>
                  <a:pt x="2693" y="19832"/>
                  <a:pt x="2851" y="19242"/>
                  <a:pt x="3002" y="18611"/>
                </a:cubicBezTo>
                <a:cubicBezTo>
                  <a:pt x="3143" y="17979"/>
                  <a:pt x="3287" y="17263"/>
                  <a:pt x="3431" y="16463"/>
                </a:cubicBezTo>
                <a:cubicBezTo>
                  <a:pt x="3604" y="15495"/>
                  <a:pt x="3773" y="13726"/>
                  <a:pt x="3964" y="13179"/>
                </a:cubicBezTo>
                <a:cubicBezTo>
                  <a:pt x="4223" y="12463"/>
                  <a:pt x="4504" y="13516"/>
                  <a:pt x="4770" y="13179"/>
                </a:cubicBezTo>
                <a:cubicBezTo>
                  <a:pt x="5029" y="12800"/>
                  <a:pt x="5270" y="11242"/>
                  <a:pt x="5537" y="10863"/>
                </a:cubicBezTo>
                <a:cubicBezTo>
                  <a:pt x="5872" y="10400"/>
                  <a:pt x="6206" y="11747"/>
                  <a:pt x="6541" y="11326"/>
                </a:cubicBezTo>
                <a:cubicBezTo>
                  <a:pt x="6746" y="11032"/>
                  <a:pt x="6930" y="9432"/>
                  <a:pt x="7142" y="9432"/>
                </a:cubicBezTo>
                <a:cubicBezTo>
                  <a:pt x="7373" y="9432"/>
                  <a:pt x="7560" y="11747"/>
                  <a:pt x="7790" y="12295"/>
                </a:cubicBezTo>
                <a:cubicBezTo>
                  <a:pt x="8258" y="13347"/>
                  <a:pt x="8755" y="12926"/>
                  <a:pt x="9241" y="12716"/>
                </a:cubicBezTo>
                <a:cubicBezTo>
                  <a:pt x="9630" y="12589"/>
                  <a:pt x="10019" y="11747"/>
                  <a:pt x="10404" y="11326"/>
                </a:cubicBezTo>
                <a:cubicBezTo>
                  <a:pt x="10631" y="11032"/>
                  <a:pt x="10868" y="11242"/>
                  <a:pt x="11092" y="10316"/>
                </a:cubicBezTo>
                <a:cubicBezTo>
                  <a:pt x="11232" y="9811"/>
                  <a:pt x="11340" y="7916"/>
                  <a:pt x="11491" y="7537"/>
                </a:cubicBezTo>
                <a:cubicBezTo>
                  <a:pt x="11873" y="6695"/>
                  <a:pt x="12269" y="8884"/>
                  <a:pt x="12658" y="8968"/>
                </a:cubicBezTo>
                <a:cubicBezTo>
                  <a:pt x="13014" y="9095"/>
                  <a:pt x="13378" y="8632"/>
                  <a:pt x="13745" y="8042"/>
                </a:cubicBezTo>
                <a:cubicBezTo>
                  <a:pt x="14065" y="7495"/>
                  <a:pt x="14393" y="6947"/>
                  <a:pt x="14710" y="6147"/>
                </a:cubicBezTo>
                <a:cubicBezTo>
                  <a:pt x="14908" y="5642"/>
                  <a:pt x="15113" y="4716"/>
                  <a:pt x="15318" y="4295"/>
                </a:cubicBezTo>
                <a:cubicBezTo>
                  <a:pt x="15538" y="3747"/>
                  <a:pt x="15797" y="4379"/>
                  <a:pt x="15988" y="3032"/>
                </a:cubicBezTo>
                <a:cubicBezTo>
                  <a:pt x="16031" y="2779"/>
                  <a:pt x="16042" y="1853"/>
                  <a:pt x="16085" y="1600"/>
                </a:cubicBezTo>
                <a:cubicBezTo>
                  <a:pt x="16261" y="632"/>
                  <a:pt x="16492" y="1516"/>
                  <a:pt x="16686" y="1600"/>
                </a:cubicBezTo>
                <a:cubicBezTo>
                  <a:pt x="16837" y="1726"/>
                  <a:pt x="16988" y="2316"/>
                  <a:pt x="17143" y="2316"/>
                </a:cubicBezTo>
                <a:cubicBezTo>
                  <a:pt x="17388" y="2232"/>
                  <a:pt x="17622" y="1011"/>
                  <a:pt x="17867" y="632"/>
                </a:cubicBezTo>
                <a:cubicBezTo>
                  <a:pt x="18032" y="379"/>
                  <a:pt x="18202" y="0"/>
                  <a:pt x="18367" y="84"/>
                </a:cubicBezTo>
                <a:cubicBezTo>
                  <a:pt x="18529" y="168"/>
                  <a:pt x="18695" y="800"/>
                  <a:pt x="18864" y="1347"/>
                </a:cubicBezTo>
                <a:cubicBezTo>
                  <a:pt x="19098" y="2147"/>
                  <a:pt x="19303" y="3832"/>
                  <a:pt x="19548" y="4421"/>
                </a:cubicBezTo>
                <a:cubicBezTo>
                  <a:pt x="19699" y="4800"/>
                  <a:pt x="19865" y="4000"/>
                  <a:pt x="20005" y="4716"/>
                </a:cubicBezTo>
                <a:cubicBezTo>
                  <a:pt x="20117" y="5263"/>
                  <a:pt x="20178" y="6947"/>
                  <a:pt x="20290" y="7663"/>
                </a:cubicBezTo>
                <a:cubicBezTo>
                  <a:pt x="20369" y="8126"/>
                  <a:pt x="20466" y="8632"/>
                  <a:pt x="20556" y="8547"/>
                </a:cubicBezTo>
                <a:cubicBezTo>
                  <a:pt x="20740" y="8379"/>
                  <a:pt x="20909" y="7200"/>
                  <a:pt x="21078" y="6147"/>
                </a:cubicBezTo>
                <a:cubicBezTo>
                  <a:pt x="21190" y="5432"/>
                  <a:pt x="21305" y="4421"/>
                  <a:pt x="21413" y="3495"/>
                </a:cubicBezTo>
                <a:cubicBezTo>
                  <a:pt x="21478" y="2863"/>
                  <a:pt x="21539" y="2147"/>
                  <a:pt x="21600" y="1347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0720" y="1249200"/>
            <a:ext cx="5398920" cy="4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469"/>
                </a:moveTo>
                <a:cubicBezTo>
                  <a:pt x="108" y="16837"/>
                  <a:pt x="212" y="18110"/>
                  <a:pt x="356" y="18346"/>
                </a:cubicBezTo>
                <a:cubicBezTo>
                  <a:pt x="576" y="18676"/>
                  <a:pt x="738" y="14243"/>
                  <a:pt x="958" y="14384"/>
                </a:cubicBezTo>
                <a:cubicBezTo>
                  <a:pt x="1033" y="14384"/>
                  <a:pt x="1105" y="15186"/>
                  <a:pt x="1163" y="15893"/>
                </a:cubicBezTo>
                <a:cubicBezTo>
                  <a:pt x="1292" y="17308"/>
                  <a:pt x="1318" y="20657"/>
                  <a:pt x="1483" y="21223"/>
                </a:cubicBezTo>
                <a:cubicBezTo>
                  <a:pt x="1584" y="21600"/>
                  <a:pt x="1688" y="20044"/>
                  <a:pt x="1789" y="19525"/>
                </a:cubicBezTo>
                <a:cubicBezTo>
                  <a:pt x="1886" y="19053"/>
                  <a:pt x="1984" y="18440"/>
                  <a:pt x="2092" y="18346"/>
                </a:cubicBezTo>
                <a:cubicBezTo>
                  <a:pt x="2268" y="18110"/>
                  <a:pt x="2441" y="19242"/>
                  <a:pt x="2617" y="19053"/>
                </a:cubicBezTo>
                <a:cubicBezTo>
                  <a:pt x="2768" y="18817"/>
                  <a:pt x="2920" y="18110"/>
                  <a:pt x="3064" y="17308"/>
                </a:cubicBezTo>
                <a:cubicBezTo>
                  <a:pt x="3247" y="16459"/>
                  <a:pt x="3424" y="15092"/>
                  <a:pt x="3596" y="13818"/>
                </a:cubicBezTo>
                <a:cubicBezTo>
                  <a:pt x="3701" y="13158"/>
                  <a:pt x="3805" y="12073"/>
                  <a:pt x="3917" y="11649"/>
                </a:cubicBezTo>
                <a:cubicBezTo>
                  <a:pt x="4122" y="11036"/>
                  <a:pt x="4345" y="11838"/>
                  <a:pt x="4558" y="11838"/>
                </a:cubicBezTo>
                <a:cubicBezTo>
                  <a:pt x="4763" y="11838"/>
                  <a:pt x="4975" y="11743"/>
                  <a:pt x="5180" y="11366"/>
                </a:cubicBezTo>
                <a:cubicBezTo>
                  <a:pt x="5353" y="11036"/>
                  <a:pt x="5522" y="9762"/>
                  <a:pt x="5702" y="9857"/>
                </a:cubicBezTo>
                <a:cubicBezTo>
                  <a:pt x="5872" y="9998"/>
                  <a:pt x="6023" y="11460"/>
                  <a:pt x="6199" y="11649"/>
                </a:cubicBezTo>
                <a:cubicBezTo>
                  <a:pt x="6358" y="11838"/>
                  <a:pt x="6534" y="11649"/>
                  <a:pt x="6685" y="10894"/>
                </a:cubicBezTo>
                <a:cubicBezTo>
                  <a:pt x="6746" y="10564"/>
                  <a:pt x="6790" y="9668"/>
                  <a:pt x="6862" y="9385"/>
                </a:cubicBezTo>
                <a:cubicBezTo>
                  <a:pt x="7045" y="8489"/>
                  <a:pt x="7268" y="8678"/>
                  <a:pt x="7463" y="9197"/>
                </a:cubicBezTo>
                <a:cubicBezTo>
                  <a:pt x="7628" y="9668"/>
                  <a:pt x="7758" y="11649"/>
                  <a:pt x="7931" y="12356"/>
                </a:cubicBezTo>
                <a:cubicBezTo>
                  <a:pt x="8179" y="13347"/>
                  <a:pt x="8435" y="14384"/>
                  <a:pt x="8687" y="13818"/>
                </a:cubicBezTo>
                <a:cubicBezTo>
                  <a:pt x="8860" y="13583"/>
                  <a:pt x="9022" y="12073"/>
                  <a:pt x="9173" y="10894"/>
                </a:cubicBezTo>
                <a:cubicBezTo>
                  <a:pt x="9205" y="10564"/>
                  <a:pt x="9234" y="9857"/>
                  <a:pt x="9270" y="9857"/>
                </a:cubicBezTo>
                <a:cubicBezTo>
                  <a:pt x="9400" y="9857"/>
                  <a:pt x="9472" y="12639"/>
                  <a:pt x="9605" y="12875"/>
                </a:cubicBezTo>
                <a:cubicBezTo>
                  <a:pt x="9702" y="12969"/>
                  <a:pt x="9788" y="11460"/>
                  <a:pt x="9896" y="11177"/>
                </a:cubicBezTo>
                <a:cubicBezTo>
                  <a:pt x="9994" y="10894"/>
                  <a:pt x="10091" y="11649"/>
                  <a:pt x="10192" y="11366"/>
                </a:cubicBezTo>
                <a:cubicBezTo>
                  <a:pt x="10307" y="10941"/>
                  <a:pt x="10375" y="8866"/>
                  <a:pt x="10498" y="8678"/>
                </a:cubicBezTo>
                <a:cubicBezTo>
                  <a:pt x="10595" y="8583"/>
                  <a:pt x="10678" y="10234"/>
                  <a:pt x="10775" y="10187"/>
                </a:cubicBezTo>
                <a:cubicBezTo>
                  <a:pt x="10915" y="9998"/>
                  <a:pt x="10998" y="7782"/>
                  <a:pt x="11135" y="6980"/>
                </a:cubicBezTo>
                <a:cubicBezTo>
                  <a:pt x="11261" y="6272"/>
                  <a:pt x="11419" y="5707"/>
                  <a:pt x="11552" y="5707"/>
                </a:cubicBezTo>
                <a:cubicBezTo>
                  <a:pt x="11682" y="5707"/>
                  <a:pt x="11819" y="6697"/>
                  <a:pt x="11948" y="6980"/>
                </a:cubicBezTo>
                <a:cubicBezTo>
                  <a:pt x="12146" y="7452"/>
                  <a:pt x="12352" y="7876"/>
                  <a:pt x="12550" y="8112"/>
                </a:cubicBezTo>
                <a:cubicBezTo>
                  <a:pt x="12762" y="8253"/>
                  <a:pt x="12985" y="8112"/>
                  <a:pt x="13198" y="7876"/>
                </a:cubicBezTo>
                <a:cubicBezTo>
                  <a:pt x="13475" y="7687"/>
                  <a:pt x="13774" y="7687"/>
                  <a:pt x="14058" y="6886"/>
                </a:cubicBezTo>
                <a:cubicBezTo>
                  <a:pt x="14238" y="6367"/>
                  <a:pt x="14404" y="5282"/>
                  <a:pt x="14580" y="4763"/>
                </a:cubicBezTo>
                <a:cubicBezTo>
                  <a:pt x="14749" y="4292"/>
                  <a:pt x="14922" y="3962"/>
                  <a:pt x="15095" y="3820"/>
                </a:cubicBezTo>
                <a:cubicBezTo>
                  <a:pt x="15264" y="3584"/>
                  <a:pt x="15430" y="3726"/>
                  <a:pt x="15599" y="3396"/>
                </a:cubicBezTo>
                <a:cubicBezTo>
                  <a:pt x="15696" y="3160"/>
                  <a:pt x="15797" y="2783"/>
                  <a:pt x="15898" y="2500"/>
                </a:cubicBezTo>
                <a:cubicBezTo>
                  <a:pt x="16016" y="2122"/>
                  <a:pt x="16139" y="1085"/>
                  <a:pt x="16279" y="943"/>
                </a:cubicBezTo>
                <a:cubicBezTo>
                  <a:pt x="16474" y="613"/>
                  <a:pt x="16672" y="1509"/>
                  <a:pt x="16870" y="1745"/>
                </a:cubicBezTo>
                <a:cubicBezTo>
                  <a:pt x="16960" y="1792"/>
                  <a:pt x="17060" y="1792"/>
                  <a:pt x="17150" y="1745"/>
                </a:cubicBezTo>
                <a:cubicBezTo>
                  <a:pt x="17316" y="1509"/>
                  <a:pt x="17492" y="472"/>
                  <a:pt x="17662" y="330"/>
                </a:cubicBezTo>
                <a:cubicBezTo>
                  <a:pt x="17791" y="236"/>
                  <a:pt x="17928" y="707"/>
                  <a:pt x="18065" y="707"/>
                </a:cubicBezTo>
                <a:cubicBezTo>
                  <a:pt x="18191" y="707"/>
                  <a:pt x="18331" y="377"/>
                  <a:pt x="18457" y="330"/>
                </a:cubicBezTo>
                <a:cubicBezTo>
                  <a:pt x="18695" y="236"/>
                  <a:pt x="18929" y="0"/>
                  <a:pt x="19166" y="330"/>
                </a:cubicBezTo>
                <a:cubicBezTo>
                  <a:pt x="19343" y="472"/>
                  <a:pt x="19523" y="1085"/>
                  <a:pt x="19699" y="1745"/>
                </a:cubicBezTo>
                <a:cubicBezTo>
                  <a:pt x="19865" y="2311"/>
                  <a:pt x="20034" y="3301"/>
                  <a:pt x="20200" y="3962"/>
                </a:cubicBezTo>
                <a:cubicBezTo>
                  <a:pt x="20322" y="4528"/>
                  <a:pt x="20452" y="5188"/>
                  <a:pt x="20581" y="5282"/>
                </a:cubicBezTo>
                <a:cubicBezTo>
                  <a:pt x="20765" y="5376"/>
                  <a:pt x="20963" y="5093"/>
                  <a:pt x="21143" y="4197"/>
                </a:cubicBezTo>
                <a:cubicBezTo>
                  <a:pt x="21305" y="3396"/>
                  <a:pt x="21456" y="1886"/>
                  <a:pt x="21600" y="472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38520" y="1798560"/>
            <a:ext cx="425520" cy="1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43"/>
                </a:moveTo>
                <a:cubicBezTo>
                  <a:pt x="959" y="19671"/>
                  <a:pt x="1827" y="20186"/>
                  <a:pt x="2831" y="20700"/>
                </a:cubicBezTo>
                <a:cubicBezTo>
                  <a:pt x="4612" y="21600"/>
                  <a:pt x="6530" y="21214"/>
                  <a:pt x="8448" y="20700"/>
                </a:cubicBezTo>
                <a:cubicBezTo>
                  <a:pt x="10138" y="20186"/>
                  <a:pt x="11964" y="19029"/>
                  <a:pt x="13608" y="17486"/>
                </a:cubicBezTo>
                <a:cubicBezTo>
                  <a:pt x="14841" y="16457"/>
                  <a:pt x="15983" y="14529"/>
                  <a:pt x="17079" y="12600"/>
                </a:cubicBezTo>
                <a:cubicBezTo>
                  <a:pt x="18129" y="10671"/>
                  <a:pt x="19088" y="8486"/>
                  <a:pt x="20002" y="6043"/>
                </a:cubicBezTo>
                <a:cubicBezTo>
                  <a:pt x="20550" y="4114"/>
                  <a:pt x="21143" y="2314"/>
                  <a:pt x="21600" y="0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0960" y="1592280"/>
            <a:ext cx="2128680" cy="3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480"/>
                </a:moveTo>
                <a:cubicBezTo>
                  <a:pt x="91" y="18037"/>
                  <a:pt x="210" y="18482"/>
                  <a:pt x="320" y="18872"/>
                </a:cubicBezTo>
                <a:cubicBezTo>
                  <a:pt x="630" y="19930"/>
                  <a:pt x="986" y="20487"/>
                  <a:pt x="1351" y="20932"/>
                </a:cubicBezTo>
                <a:cubicBezTo>
                  <a:pt x="1771" y="21600"/>
                  <a:pt x="2200" y="21600"/>
                  <a:pt x="2629" y="21043"/>
                </a:cubicBezTo>
                <a:cubicBezTo>
                  <a:pt x="2949" y="20765"/>
                  <a:pt x="3277" y="19819"/>
                  <a:pt x="3588" y="18984"/>
                </a:cubicBezTo>
                <a:cubicBezTo>
                  <a:pt x="3862" y="18260"/>
                  <a:pt x="4126" y="16812"/>
                  <a:pt x="4419" y="16812"/>
                </a:cubicBezTo>
                <a:cubicBezTo>
                  <a:pt x="4647" y="16812"/>
                  <a:pt x="4857" y="17926"/>
                  <a:pt x="5076" y="18482"/>
                </a:cubicBezTo>
                <a:cubicBezTo>
                  <a:pt x="5441" y="19429"/>
                  <a:pt x="5788" y="20487"/>
                  <a:pt x="6171" y="20932"/>
                </a:cubicBezTo>
                <a:cubicBezTo>
                  <a:pt x="6692" y="21600"/>
                  <a:pt x="7230" y="21600"/>
                  <a:pt x="7751" y="21043"/>
                </a:cubicBezTo>
                <a:cubicBezTo>
                  <a:pt x="8152" y="20765"/>
                  <a:pt x="8582" y="19986"/>
                  <a:pt x="8947" y="18872"/>
                </a:cubicBezTo>
                <a:cubicBezTo>
                  <a:pt x="9257" y="17926"/>
                  <a:pt x="9568" y="16645"/>
                  <a:pt x="9814" y="15198"/>
                </a:cubicBezTo>
                <a:cubicBezTo>
                  <a:pt x="10033" y="14029"/>
                  <a:pt x="10179" y="12581"/>
                  <a:pt x="10353" y="11301"/>
                </a:cubicBezTo>
                <a:cubicBezTo>
                  <a:pt x="10471" y="10522"/>
                  <a:pt x="10554" y="8963"/>
                  <a:pt x="10718" y="8740"/>
                </a:cubicBezTo>
                <a:cubicBezTo>
                  <a:pt x="10955" y="8351"/>
                  <a:pt x="11202" y="9798"/>
                  <a:pt x="11512" y="10243"/>
                </a:cubicBezTo>
                <a:cubicBezTo>
                  <a:pt x="11859" y="10800"/>
                  <a:pt x="12242" y="10800"/>
                  <a:pt x="12617" y="10355"/>
                </a:cubicBezTo>
                <a:cubicBezTo>
                  <a:pt x="12955" y="9909"/>
                  <a:pt x="13311" y="9186"/>
                  <a:pt x="13594" y="8016"/>
                </a:cubicBezTo>
                <a:cubicBezTo>
                  <a:pt x="13813" y="7237"/>
                  <a:pt x="14004" y="6291"/>
                  <a:pt x="14196" y="5177"/>
                </a:cubicBezTo>
                <a:cubicBezTo>
                  <a:pt x="14324" y="4342"/>
                  <a:pt x="14461" y="3285"/>
                  <a:pt x="14634" y="2449"/>
                </a:cubicBezTo>
                <a:cubicBezTo>
                  <a:pt x="14817" y="1670"/>
                  <a:pt x="14981" y="278"/>
                  <a:pt x="15219" y="111"/>
                </a:cubicBezTo>
                <a:cubicBezTo>
                  <a:pt x="15520" y="0"/>
                  <a:pt x="15775" y="1893"/>
                  <a:pt x="16058" y="2839"/>
                </a:cubicBezTo>
                <a:cubicBezTo>
                  <a:pt x="16195" y="3285"/>
                  <a:pt x="16351" y="4064"/>
                  <a:pt x="16506" y="4342"/>
                </a:cubicBezTo>
                <a:cubicBezTo>
                  <a:pt x="16798" y="5066"/>
                  <a:pt x="17127" y="5567"/>
                  <a:pt x="17428" y="5790"/>
                </a:cubicBezTo>
                <a:cubicBezTo>
                  <a:pt x="17784" y="6012"/>
                  <a:pt x="18122" y="5567"/>
                  <a:pt x="18478" y="5066"/>
                </a:cubicBezTo>
                <a:cubicBezTo>
                  <a:pt x="18788" y="4732"/>
                  <a:pt x="19089" y="3897"/>
                  <a:pt x="19400" y="3118"/>
                </a:cubicBezTo>
                <a:cubicBezTo>
                  <a:pt x="19674" y="2394"/>
                  <a:pt x="19920" y="835"/>
                  <a:pt x="20212" y="501"/>
                </a:cubicBezTo>
                <a:cubicBezTo>
                  <a:pt x="20459" y="111"/>
                  <a:pt x="20714" y="946"/>
                  <a:pt x="20970" y="946"/>
                </a:cubicBezTo>
                <a:cubicBezTo>
                  <a:pt x="21171" y="946"/>
                  <a:pt x="21390" y="835"/>
                  <a:pt x="21600" y="612"/>
                </a:cubicBezTo>
              </a:path>
            </a:pathLst>
          </a:custGeom>
          <a:noFill/>
          <a:ln w="21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0720" y="1127160"/>
            <a:ext cx="539892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221"/>
                </a:moveTo>
                <a:cubicBezTo>
                  <a:pt x="108" y="17452"/>
                  <a:pt x="212" y="18561"/>
                  <a:pt x="356" y="18767"/>
                </a:cubicBezTo>
                <a:cubicBezTo>
                  <a:pt x="576" y="19013"/>
                  <a:pt x="738" y="15153"/>
                  <a:pt x="958" y="15276"/>
                </a:cubicBezTo>
                <a:cubicBezTo>
                  <a:pt x="1033" y="15276"/>
                  <a:pt x="1105" y="15974"/>
                  <a:pt x="1163" y="16549"/>
                </a:cubicBezTo>
                <a:cubicBezTo>
                  <a:pt x="1292" y="17863"/>
                  <a:pt x="1318" y="20738"/>
                  <a:pt x="1483" y="21230"/>
                </a:cubicBezTo>
                <a:cubicBezTo>
                  <a:pt x="1584" y="21600"/>
                  <a:pt x="1688" y="20204"/>
                  <a:pt x="1789" y="19793"/>
                </a:cubicBezTo>
                <a:cubicBezTo>
                  <a:pt x="1886" y="19383"/>
                  <a:pt x="1984" y="18808"/>
                  <a:pt x="2092" y="18767"/>
                </a:cubicBezTo>
                <a:cubicBezTo>
                  <a:pt x="2268" y="18561"/>
                  <a:pt x="2441" y="19506"/>
                  <a:pt x="2617" y="19383"/>
                </a:cubicBezTo>
                <a:cubicBezTo>
                  <a:pt x="2768" y="19177"/>
                  <a:pt x="2920" y="18561"/>
                  <a:pt x="3064" y="17863"/>
                </a:cubicBezTo>
                <a:cubicBezTo>
                  <a:pt x="3247" y="17083"/>
                  <a:pt x="3424" y="15851"/>
                  <a:pt x="3596" y="14824"/>
                </a:cubicBezTo>
                <a:cubicBezTo>
                  <a:pt x="3701" y="14249"/>
                  <a:pt x="3805" y="13264"/>
                  <a:pt x="3917" y="12935"/>
                </a:cubicBezTo>
                <a:cubicBezTo>
                  <a:pt x="4122" y="12402"/>
                  <a:pt x="4345" y="13100"/>
                  <a:pt x="4558" y="13100"/>
                </a:cubicBezTo>
                <a:cubicBezTo>
                  <a:pt x="4763" y="13100"/>
                  <a:pt x="4975" y="13017"/>
                  <a:pt x="5180" y="12648"/>
                </a:cubicBezTo>
                <a:cubicBezTo>
                  <a:pt x="5353" y="12402"/>
                  <a:pt x="5522" y="11293"/>
                  <a:pt x="5702" y="11375"/>
                </a:cubicBezTo>
                <a:cubicBezTo>
                  <a:pt x="5872" y="11416"/>
                  <a:pt x="6023" y="12730"/>
                  <a:pt x="6199" y="12935"/>
                </a:cubicBezTo>
                <a:cubicBezTo>
                  <a:pt x="6358" y="13100"/>
                  <a:pt x="6534" y="12935"/>
                  <a:pt x="6685" y="12237"/>
                </a:cubicBezTo>
                <a:cubicBezTo>
                  <a:pt x="6746" y="11991"/>
                  <a:pt x="6790" y="11211"/>
                  <a:pt x="6862" y="10923"/>
                </a:cubicBezTo>
                <a:cubicBezTo>
                  <a:pt x="7045" y="10143"/>
                  <a:pt x="7268" y="10307"/>
                  <a:pt x="7463" y="10759"/>
                </a:cubicBezTo>
                <a:cubicBezTo>
                  <a:pt x="7628" y="11211"/>
                  <a:pt x="7758" y="12935"/>
                  <a:pt x="7931" y="13551"/>
                </a:cubicBezTo>
                <a:cubicBezTo>
                  <a:pt x="8179" y="14414"/>
                  <a:pt x="8435" y="15276"/>
                  <a:pt x="8687" y="14824"/>
                </a:cubicBezTo>
                <a:cubicBezTo>
                  <a:pt x="8860" y="14578"/>
                  <a:pt x="9022" y="13264"/>
                  <a:pt x="9173" y="12237"/>
                </a:cubicBezTo>
                <a:cubicBezTo>
                  <a:pt x="9205" y="11991"/>
                  <a:pt x="9234" y="11375"/>
                  <a:pt x="9270" y="11375"/>
                </a:cubicBezTo>
                <a:cubicBezTo>
                  <a:pt x="9400" y="11375"/>
                  <a:pt x="9472" y="13798"/>
                  <a:pt x="9605" y="13962"/>
                </a:cubicBezTo>
                <a:cubicBezTo>
                  <a:pt x="9702" y="14044"/>
                  <a:pt x="9788" y="12730"/>
                  <a:pt x="9896" y="12525"/>
                </a:cubicBezTo>
                <a:cubicBezTo>
                  <a:pt x="9994" y="12237"/>
                  <a:pt x="10091" y="12935"/>
                  <a:pt x="10192" y="12648"/>
                </a:cubicBezTo>
                <a:cubicBezTo>
                  <a:pt x="10307" y="12319"/>
                  <a:pt x="10375" y="10513"/>
                  <a:pt x="10498" y="10307"/>
                </a:cubicBezTo>
                <a:cubicBezTo>
                  <a:pt x="10595" y="10225"/>
                  <a:pt x="10678" y="11703"/>
                  <a:pt x="10775" y="11621"/>
                </a:cubicBezTo>
                <a:cubicBezTo>
                  <a:pt x="10915" y="11416"/>
                  <a:pt x="10998" y="9527"/>
                  <a:pt x="11135" y="8870"/>
                </a:cubicBezTo>
                <a:cubicBezTo>
                  <a:pt x="11261" y="8254"/>
                  <a:pt x="11419" y="7720"/>
                  <a:pt x="11552" y="7720"/>
                </a:cubicBezTo>
                <a:cubicBezTo>
                  <a:pt x="11682" y="7720"/>
                  <a:pt x="11819" y="8583"/>
                  <a:pt x="11948" y="8870"/>
                </a:cubicBezTo>
                <a:cubicBezTo>
                  <a:pt x="12146" y="9281"/>
                  <a:pt x="12352" y="9609"/>
                  <a:pt x="12550" y="9814"/>
                </a:cubicBezTo>
                <a:cubicBezTo>
                  <a:pt x="12762" y="9979"/>
                  <a:pt x="12985" y="9814"/>
                  <a:pt x="13198" y="9609"/>
                </a:cubicBezTo>
                <a:cubicBezTo>
                  <a:pt x="13475" y="9486"/>
                  <a:pt x="13774" y="9486"/>
                  <a:pt x="14058" y="8788"/>
                </a:cubicBezTo>
                <a:cubicBezTo>
                  <a:pt x="14238" y="8295"/>
                  <a:pt x="14404" y="7392"/>
                  <a:pt x="14580" y="6940"/>
                </a:cubicBezTo>
                <a:cubicBezTo>
                  <a:pt x="14749" y="6488"/>
                  <a:pt x="14922" y="6242"/>
                  <a:pt x="15095" y="6078"/>
                </a:cubicBezTo>
                <a:cubicBezTo>
                  <a:pt x="15264" y="5872"/>
                  <a:pt x="15430" y="5954"/>
                  <a:pt x="15599" y="5749"/>
                </a:cubicBezTo>
                <a:cubicBezTo>
                  <a:pt x="15696" y="5544"/>
                  <a:pt x="15797" y="5215"/>
                  <a:pt x="15898" y="4928"/>
                </a:cubicBezTo>
                <a:cubicBezTo>
                  <a:pt x="16016" y="4599"/>
                  <a:pt x="16139" y="3737"/>
                  <a:pt x="16279" y="3532"/>
                </a:cubicBezTo>
                <a:cubicBezTo>
                  <a:pt x="16474" y="3326"/>
                  <a:pt x="16672" y="4065"/>
                  <a:pt x="16870" y="4230"/>
                </a:cubicBezTo>
                <a:cubicBezTo>
                  <a:pt x="16960" y="4353"/>
                  <a:pt x="17060" y="4353"/>
                  <a:pt x="17150" y="4230"/>
                </a:cubicBezTo>
                <a:cubicBezTo>
                  <a:pt x="17316" y="4065"/>
                  <a:pt x="17492" y="3203"/>
                  <a:pt x="17662" y="3039"/>
                </a:cubicBezTo>
                <a:cubicBezTo>
                  <a:pt x="17791" y="2957"/>
                  <a:pt x="17928" y="3367"/>
                  <a:pt x="18065" y="3367"/>
                </a:cubicBezTo>
                <a:cubicBezTo>
                  <a:pt x="18191" y="3367"/>
                  <a:pt x="18331" y="3121"/>
                  <a:pt x="18457" y="3039"/>
                </a:cubicBezTo>
                <a:cubicBezTo>
                  <a:pt x="18695" y="2957"/>
                  <a:pt x="18929" y="2751"/>
                  <a:pt x="19166" y="3039"/>
                </a:cubicBezTo>
                <a:cubicBezTo>
                  <a:pt x="19343" y="3203"/>
                  <a:pt x="19523" y="3737"/>
                  <a:pt x="19699" y="4230"/>
                </a:cubicBezTo>
                <a:cubicBezTo>
                  <a:pt x="19865" y="4763"/>
                  <a:pt x="20034" y="5626"/>
                  <a:pt x="20200" y="6242"/>
                </a:cubicBezTo>
                <a:cubicBezTo>
                  <a:pt x="20322" y="6694"/>
                  <a:pt x="20452" y="7268"/>
                  <a:pt x="20581" y="7392"/>
                </a:cubicBezTo>
                <a:cubicBezTo>
                  <a:pt x="20765" y="7474"/>
                  <a:pt x="20963" y="7186"/>
                  <a:pt x="21143" y="6447"/>
                </a:cubicBezTo>
                <a:cubicBezTo>
                  <a:pt x="21305" y="5749"/>
                  <a:pt x="21456" y="4435"/>
                  <a:pt x="21600" y="3203"/>
                </a:cubicBezTo>
                <a:cubicBezTo>
                  <a:pt x="21600" y="3203"/>
                  <a:pt x="21600" y="0"/>
                  <a:pt x="21600" y="0"/>
                </a:cubicBezTo>
                <a:cubicBezTo>
                  <a:pt x="21600" y="0"/>
                  <a:pt x="0" y="0"/>
                  <a:pt x="0" y="0"/>
                </a:cubicBezTo>
                <a:cubicBezTo>
                  <a:pt x="0" y="0"/>
                  <a:pt x="0" y="16221"/>
                  <a:pt x="0" y="16221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0720" y="2576520"/>
            <a:ext cx="1560600" cy="37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65"/>
                </a:moveTo>
                <a:cubicBezTo>
                  <a:pt x="25" y="19665"/>
                  <a:pt x="62" y="19822"/>
                  <a:pt x="87" y="19822"/>
                </a:cubicBezTo>
                <a:cubicBezTo>
                  <a:pt x="635" y="20292"/>
                  <a:pt x="1258" y="19926"/>
                  <a:pt x="1781" y="19037"/>
                </a:cubicBezTo>
                <a:cubicBezTo>
                  <a:pt x="1956" y="18828"/>
                  <a:pt x="2205" y="17468"/>
                  <a:pt x="2205" y="17468"/>
                </a:cubicBezTo>
                <a:cubicBezTo>
                  <a:pt x="2205" y="17468"/>
                  <a:pt x="2728" y="20031"/>
                  <a:pt x="3127" y="20711"/>
                </a:cubicBezTo>
                <a:cubicBezTo>
                  <a:pt x="3612" y="21443"/>
                  <a:pt x="4161" y="21600"/>
                  <a:pt x="4659" y="21182"/>
                </a:cubicBezTo>
                <a:cubicBezTo>
                  <a:pt x="5207" y="20554"/>
                  <a:pt x="5705" y="19246"/>
                  <a:pt x="6154" y="17834"/>
                </a:cubicBezTo>
                <a:cubicBezTo>
                  <a:pt x="6577" y="16475"/>
                  <a:pt x="6826" y="14069"/>
                  <a:pt x="7287" y="13180"/>
                </a:cubicBezTo>
                <a:cubicBezTo>
                  <a:pt x="7636" y="12604"/>
                  <a:pt x="8022" y="12970"/>
                  <a:pt x="8396" y="12970"/>
                </a:cubicBezTo>
                <a:cubicBezTo>
                  <a:pt x="8794" y="12970"/>
                  <a:pt x="9218" y="13493"/>
                  <a:pt x="9629" y="13493"/>
                </a:cubicBezTo>
                <a:cubicBezTo>
                  <a:pt x="10003" y="13493"/>
                  <a:pt x="10414" y="13337"/>
                  <a:pt x="10788" y="12604"/>
                </a:cubicBezTo>
                <a:cubicBezTo>
                  <a:pt x="11398" y="11558"/>
                  <a:pt x="11660" y="10512"/>
                  <a:pt x="12245" y="9205"/>
                </a:cubicBezTo>
                <a:cubicBezTo>
                  <a:pt x="12531" y="8577"/>
                  <a:pt x="13354" y="5753"/>
                  <a:pt x="13354" y="5753"/>
                </a:cubicBezTo>
                <a:cubicBezTo>
                  <a:pt x="13354" y="5753"/>
                  <a:pt x="14450" y="7845"/>
                  <a:pt x="15048" y="8420"/>
                </a:cubicBezTo>
                <a:cubicBezTo>
                  <a:pt x="15745" y="9100"/>
                  <a:pt x="16505" y="9623"/>
                  <a:pt x="17240" y="9519"/>
                </a:cubicBezTo>
                <a:cubicBezTo>
                  <a:pt x="18000" y="9414"/>
                  <a:pt x="18785" y="8630"/>
                  <a:pt x="19482" y="7427"/>
                </a:cubicBezTo>
                <a:cubicBezTo>
                  <a:pt x="20080" y="6328"/>
                  <a:pt x="20616" y="4602"/>
                  <a:pt x="21139" y="2824"/>
                </a:cubicBezTo>
                <a:cubicBezTo>
                  <a:pt x="21239" y="2354"/>
                  <a:pt x="21351" y="1778"/>
                  <a:pt x="21451" y="1255"/>
                </a:cubicBezTo>
                <a:cubicBezTo>
                  <a:pt x="21500" y="889"/>
                  <a:pt x="21563" y="4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0720" y="2651040"/>
            <a:ext cx="544680" cy="1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381"/>
                </a:moveTo>
                <a:cubicBezTo>
                  <a:pt x="1428" y="13330"/>
                  <a:pt x="2963" y="17033"/>
                  <a:pt x="4677" y="18761"/>
                </a:cubicBezTo>
                <a:cubicBezTo>
                  <a:pt x="7390" y="21600"/>
                  <a:pt x="10461" y="21353"/>
                  <a:pt x="13353" y="19749"/>
                </a:cubicBezTo>
                <a:cubicBezTo>
                  <a:pt x="14495" y="19378"/>
                  <a:pt x="15602" y="17280"/>
                  <a:pt x="16602" y="15675"/>
                </a:cubicBezTo>
                <a:cubicBezTo>
                  <a:pt x="17423" y="14318"/>
                  <a:pt x="18173" y="13083"/>
                  <a:pt x="18851" y="10985"/>
                </a:cubicBezTo>
                <a:cubicBezTo>
                  <a:pt x="19922" y="7899"/>
                  <a:pt x="20743" y="395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27240" y="2451240"/>
            <a:ext cx="80316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56"/>
                </a:moveTo>
                <a:cubicBezTo>
                  <a:pt x="460" y="20376"/>
                  <a:pt x="993" y="20808"/>
                  <a:pt x="1526" y="21168"/>
                </a:cubicBezTo>
                <a:cubicBezTo>
                  <a:pt x="2712" y="21600"/>
                  <a:pt x="3947" y="21168"/>
                  <a:pt x="5061" y="20376"/>
                </a:cubicBezTo>
                <a:cubicBezTo>
                  <a:pt x="5981" y="19728"/>
                  <a:pt x="6877" y="18432"/>
                  <a:pt x="7773" y="17208"/>
                </a:cubicBezTo>
                <a:cubicBezTo>
                  <a:pt x="8500" y="16344"/>
                  <a:pt x="9323" y="15408"/>
                  <a:pt x="10025" y="14040"/>
                </a:cubicBezTo>
                <a:cubicBezTo>
                  <a:pt x="10509" y="13104"/>
                  <a:pt x="11236" y="10008"/>
                  <a:pt x="11236" y="10008"/>
                </a:cubicBezTo>
                <a:cubicBezTo>
                  <a:pt x="11236" y="10008"/>
                  <a:pt x="12011" y="12024"/>
                  <a:pt x="12495" y="12456"/>
                </a:cubicBezTo>
                <a:cubicBezTo>
                  <a:pt x="13246" y="13248"/>
                  <a:pt x="14166" y="13536"/>
                  <a:pt x="15038" y="13104"/>
                </a:cubicBezTo>
                <a:cubicBezTo>
                  <a:pt x="16006" y="12600"/>
                  <a:pt x="16999" y="11088"/>
                  <a:pt x="17895" y="9792"/>
                </a:cubicBezTo>
                <a:cubicBezTo>
                  <a:pt x="18670" y="8568"/>
                  <a:pt x="19445" y="6840"/>
                  <a:pt x="20171" y="4896"/>
                </a:cubicBezTo>
                <a:cubicBezTo>
                  <a:pt x="20680" y="3528"/>
                  <a:pt x="21116" y="165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95480" y="2235240"/>
            <a:ext cx="123660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144"/>
                </a:moveTo>
                <a:cubicBezTo>
                  <a:pt x="283" y="17438"/>
                  <a:pt x="598" y="18619"/>
                  <a:pt x="1023" y="19463"/>
                </a:cubicBezTo>
                <a:cubicBezTo>
                  <a:pt x="1825" y="20981"/>
                  <a:pt x="2250" y="20981"/>
                  <a:pt x="3146" y="21319"/>
                </a:cubicBezTo>
                <a:cubicBezTo>
                  <a:pt x="3776" y="21600"/>
                  <a:pt x="5081" y="21600"/>
                  <a:pt x="5711" y="20981"/>
                </a:cubicBezTo>
                <a:cubicBezTo>
                  <a:pt x="6214" y="20475"/>
                  <a:pt x="6702" y="19463"/>
                  <a:pt x="7174" y="18506"/>
                </a:cubicBezTo>
                <a:cubicBezTo>
                  <a:pt x="7567" y="17663"/>
                  <a:pt x="7976" y="16594"/>
                  <a:pt x="8338" y="15638"/>
                </a:cubicBezTo>
                <a:cubicBezTo>
                  <a:pt x="8668" y="14794"/>
                  <a:pt x="9030" y="14119"/>
                  <a:pt x="9329" y="13163"/>
                </a:cubicBezTo>
                <a:cubicBezTo>
                  <a:pt x="9644" y="12319"/>
                  <a:pt x="10163" y="10069"/>
                  <a:pt x="10163" y="10069"/>
                </a:cubicBezTo>
                <a:cubicBezTo>
                  <a:pt x="10163" y="10069"/>
                  <a:pt x="10430" y="11138"/>
                  <a:pt x="10619" y="11475"/>
                </a:cubicBezTo>
                <a:cubicBezTo>
                  <a:pt x="10965" y="12206"/>
                  <a:pt x="11327" y="12994"/>
                  <a:pt x="11736" y="12994"/>
                </a:cubicBezTo>
                <a:cubicBezTo>
                  <a:pt x="12428" y="12938"/>
                  <a:pt x="13010" y="11475"/>
                  <a:pt x="13624" y="10181"/>
                </a:cubicBezTo>
                <a:cubicBezTo>
                  <a:pt x="14017" y="9394"/>
                  <a:pt x="14316" y="7706"/>
                  <a:pt x="14788" y="6750"/>
                </a:cubicBezTo>
                <a:cubicBezTo>
                  <a:pt x="14977" y="6356"/>
                  <a:pt x="15213" y="5906"/>
                  <a:pt x="15449" y="5906"/>
                </a:cubicBezTo>
                <a:cubicBezTo>
                  <a:pt x="15921" y="5906"/>
                  <a:pt x="16314" y="7200"/>
                  <a:pt x="16770" y="7313"/>
                </a:cubicBezTo>
                <a:cubicBezTo>
                  <a:pt x="17462" y="7594"/>
                  <a:pt x="18202" y="7200"/>
                  <a:pt x="18878" y="6469"/>
                </a:cubicBezTo>
                <a:cubicBezTo>
                  <a:pt x="19539" y="5794"/>
                  <a:pt x="20168" y="4275"/>
                  <a:pt x="20735" y="2813"/>
                </a:cubicBezTo>
                <a:cubicBezTo>
                  <a:pt x="21065" y="1969"/>
                  <a:pt x="21333" y="95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32160" y="2139840"/>
            <a:ext cx="11952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42"/>
                </a:moveTo>
                <a:cubicBezTo>
                  <a:pt x="325" y="19583"/>
                  <a:pt x="602" y="20435"/>
                  <a:pt x="1008" y="20838"/>
                </a:cubicBezTo>
                <a:cubicBezTo>
                  <a:pt x="1805" y="21600"/>
                  <a:pt x="2716" y="20928"/>
                  <a:pt x="3562" y="20256"/>
                </a:cubicBezTo>
                <a:cubicBezTo>
                  <a:pt x="3887" y="19942"/>
                  <a:pt x="4473" y="18642"/>
                  <a:pt x="4473" y="18642"/>
                </a:cubicBezTo>
                <a:cubicBezTo>
                  <a:pt x="4473" y="18642"/>
                  <a:pt x="5091" y="20076"/>
                  <a:pt x="5481" y="20166"/>
                </a:cubicBezTo>
                <a:cubicBezTo>
                  <a:pt x="6327" y="20345"/>
                  <a:pt x="7238" y="19090"/>
                  <a:pt x="7970" y="17970"/>
                </a:cubicBezTo>
                <a:cubicBezTo>
                  <a:pt x="8360" y="17432"/>
                  <a:pt x="8734" y="16536"/>
                  <a:pt x="9076" y="15729"/>
                </a:cubicBezTo>
                <a:cubicBezTo>
                  <a:pt x="9352" y="15102"/>
                  <a:pt x="9808" y="13623"/>
                  <a:pt x="9808" y="13623"/>
                </a:cubicBezTo>
                <a:cubicBezTo>
                  <a:pt x="9808" y="13623"/>
                  <a:pt x="10523" y="14564"/>
                  <a:pt x="10930" y="14654"/>
                </a:cubicBezTo>
                <a:cubicBezTo>
                  <a:pt x="11597" y="14878"/>
                  <a:pt x="12280" y="14654"/>
                  <a:pt x="12882" y="13982"/>
                </a:cubicBezTo>
                <a:cubicBezTo>
                  <a:pt x="13549" y="13354"/>
                  <a:pt x="14086" y="11696"/>
                  <a:pt x="14720" y="10397"/>
                </a:cubicBezTo>
                <a:cubicBezTo>
                  <a:pt x="14915" y="9904"/>
                  <a:pt x="15403" y="8783"/>
                  <a:pt x="15403" y="8783"/>
                </a:cubicBezTo>
                <a:cubicBezTo>
                  <a:pt x="15403" y="8783"/>
                  <a:pt x="16330" y="10352"/>
                  <a:pt x="16851" y="10397"/>
                </a:cubicBezTo>
                <a:cubicBezTo>
                  <a:pt x="17599" y="10486"/>
                  <a:pt x="18396" y="9680"/>
                  <a:pt x="19079" y="8515"/>
                </a:cubicBezTo>
                <a:cubicBezTo>
                  <a:pt x="19486" y="7753"/>
                  <a:pt x="19908" y="6901"/>
                  <a:pt x="20201" y="5871"/>
                </a:cubicBezTo>
                <a:cubicBezTo>
                  <a:pt x="20770" y="4168"/>
                  <a:pt x="21145" y="197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0360" y="1981080"/>
            <a:ext cx="800280" cy="2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848"/>
                </a:moveTo>
                <a:cubicBezTo>
                  <a:pt x="510" y="19682"/>
                  <a:pt x="972" y="20766"/>
                  <a:pt x="1482" y="21100"/>
                </a:cubicBezTo>
                <a:cubicBezTo>
                  <a:pt x="2405" y="21600"/>
                  <a:pt x="3377" y="21350"/>
                  <a:pt x="4252" y="20349"/>
                </a:cubicBezTo>
                <a:cubicBezTo>
                  <a:pt x="5637" y="19098"/>
                  <a:pt x="6827" y="15595"/>
                  <a:pt x="8091" y="13510"/>
                </a:cubicBezTo>
                <a:cubicBezTo>
                  <a:pt x="8455" y="13010"/>
                  <a:pt x="8868" y="12343"/>
                  <a:pt x="9281" y="11926"/>
                </a:cubicBezTo>
                <a:cubicBezTo>
                  <a:pt x="10156" y="11092"/>
                  <a:pt x="11031" y="10008"/>
                  <a:pt x="11906" y="10341"/>
                </a:cubicBezTo>
                <a:cubicBezTo>
                  <a:pt x="13096" y="10925"/>
                  <a:pt x="14117" y="13844"/>
                  <a:pt x="15307" y="14428"/>
                </a:cubicBezTo>
                <a:cubicBezTo>
                  <a:pt x="16109" y="14761"/>
                  <a:pt x="17032" y="14428"/>
                  <a:pt x="17858" y="13344"/>
                </a:cubicBezTo>
                <a:cubicBezTo>
                  <a:pt x="18271" y="12760"/>
                  <a:pt x="18636" y="11592"/>
                  <a:pt x="19025" y="10341"/>
                </a:cubicBezTo>
                <a:cubicBezTo>
                  <a:pt x="19486" y="9090"/>
                  <a:pt x="19899" y="7339"/>
                  <a:pt x="20312" y="5921"/>
                </a:cubicBezTo>
                <a:cubicBezTo>
                  <a:pt x="20798" y="4170"/>
                  <a:pt x="21187" y="20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2200" y="2022480"/>
            <a:ext cx="91764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271"/>
                </a:moveTo>
                <a:cubicBezTo>
                  <a:pt x="297" y="19833"/>
                  <a:pt x="594" y="20396"/>
                  <a:pt x="911" y="20636"/>
                </a:cubicBezTo>
                <a:cubicBezTo>
                  <a:pt x="1653" y="21359"/>
                  <a:pt x="2480" y="21600"/>
                  <a:pt x="3286" y="21600"/>
                </a:cubicBezTo>
                <a:cubicBezTo>
                  <a:pt x="4091" y="21359"/>
                  <a:pt x="4939" y="20476"/>
                  <a:pt x="5787" y="19673"/>
                </a:cubicBezTo>
                <a:cubicBezTo>
                  <a:pt x="7970" y="17505"/>
                  <a:pt x="10175" y="14534"/>
                  <a:pt x="12273" y="11161"/>
                </a:cubicBezTo>
                <a:cubicBezTo>
                  <a:pt x="12655" y="10680"/>
                  <a:pt x="13036" y="9636"/>
                  <a:pt x="13439" y="9957"/>
                </a:cubicBezTo>
                <a:cubicBezTo>
                  <a:pt x="14160" y="10519"/>
                  <a:pt x="14563" y="13891"/>
                  <a:pt x="15262" y="14534"/>
                </a:cubicBezTo>
                <a:cubicBezTo>
                  <a:pt x="16301" y="15417"/>
                  <a:pt x="17488" y="14454"/>
                  <a:pt x="18442" y="12687"/>
                </a:cubicBezTo>
                <a:cubicBezTo>
                  <a:pt x="19120" y="11563"/>
                  <a:pt x="19671" y="9957"/>
                  <a:pt x="20265" y="7789"/>
                </a:cubicBezTo>
                <a:cubicBezTo>
                  <a:pt x="20731" y="5942"/>
                  <a:pt x="21197" y="305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99120" y="1643040"/>
            <a:ext cx="17143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55"/>
                </a:moveTo>
                <a:cubicBezTo>
                  <a:pt x="79" y="12280"/>
                  <a:pt x="170" y="13106"/>
                  <a:pt x="283" y="13834"/>
                </a:cubicBezTo>
                <a:cubicBezTo>
                  <a:pt x="431" y="14707"/>
                  <a:pt x="589" y="15630"/>
                  <a:pt x="782" y="16358"/>
                </a:cubicBezTo>
                <a:cubicBezTo>
                  <a:pt x="1088" y="17523"/>
                  <a:pt x="1417" y="18736"/>
                  <a:pt x="1757" y="19561"/>
                </a:cubicBezTo>
                <a:cubicBezTo>
                  <a:pt x="2369" y="21018"/>
                  <a:pt x="3116" y="21600"/>
                  <a:pt x="3853" y="21260"/>
                </a:cubicBezTo>
                <a:cubicBezTo>
                  <a:pt x="4318" y="21115"/>
                  <a:pt x="5020" y="20387"/>
                  <a:pt x="5632" y="18833"/>
                </a:cubicBezTo>
                <a:cubicBezTo>
                  <a:pt x="5938" y="18008"/>
                  <a:pt x="6154" y="16115"/>
                  <a:pt x="6539" y="15533"/>
                </a:cubicBezTo>
                <a:cubicBezTo>
                  <a:pt x="6800" y="15144"/>
                  <a:pt x="7140" y="16164"/>
                  <a:pt x="7446" y="16115"/>
                </a:cubicBezTo>
                <a:cubicBezTo>
                  <a:pt x="7854" y="15872"/>
                  <a:pt x="8284" y="15241"/>
                  <a:pt x="8647" y="14222"/>
                </a:cubicBezTo>
                <a:cubicBezTo>
                  <a:pt x="8839" y="13737"/>
                  <a:pt x="8953" y="12669"/>
                  <a:pt x="9089" y="11844"/>
                </a:cubicBezTo>
                <a:cubicBezTo>
                  <a:pt x="9338" y="10533"/>
                  <a:pt x="9553" y="8689"/>
                  <a:pt x="9939" y="7960"/>
                </a:cubicBezTo>
                <a:cubicBezTo>
                  <a:pt x="10347" y="7135"/>
                  <a:pt x="10868" y="8349"/>
                  <a:pt x="11321" y="8155"/>
                </a:cubicBezTo>
                <a:cubicBezTo>
                  <a:pt x="11877" y="7960"/>
                  <a:pt x="12432" y="7281"/>
                  <a:pt x="12987" y="6553"/>
                </a:cubicBezTo>
                <a:cubicBezTo>
                  <a:pt x="13429" y="5922"/>
                  <a:pt x="13905" y="5291"/>
                  <a:pt x="14347" y="4174"/>
                </a:cubicBezTo>
                <a:cubicBezTo>
                  <a:pt x="14494" y="3835"/>
                  <a:pt x="14608" y="3252"/>
                  <a:pt x="14744" y="2767"/>
                </a:cubicBezTo>
                <a:cubicBezTo>
                  <a:pt x="14891" y="2330"/>
                  <a:pt x="15038" y="1311"/>
                  <a:pt x="15208" y="1408"/>
                </a:cubicBezTo>
                <a:cubicBezTo>
                  <a:pt x="15356" y="1553"/>
                  <a:pt x="15412" y="2427"/>
                  <a:pt x="15548" y="2767"/>
                </a:cubicBezTo>
                <a:cubicBezTo>
                  <a:pt x="15945" y="3835"/>
                  <a:pt x="16387" y="5097"/>
                  <a:pt x="16886" y="5728"/>
                </a:cubicBezTo>
                <a:cubicBezTo>
                  <a:pt x="17430" y="6456"/>
                  <a:pt x="18053" y="6553"/>
                  <a:pt x="18620" y="6456"/>
                </a:cubicBezTo>
                <a:cubicBezTo>
                  <a:pt x="19107" y="6310"/>
                  <a:pt x="19628" y="5922"/>
                  <a:pt x="20093" y="5242"/>
                </a:cubicBezTo>
                <a:cubicBezTo>
                  <a:pt x="20421" y="4660"/>
                  <a:pt x="20784" y="3980"/>
                  <a:pt x="21045" y="2961"/>
                </a:cubicBezTo>
                <a:cubicBezTo>
                  <a:pt x="21260" y="2233"/>
                  <a:pt x="21407" y="9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05440" y="1844640"/>
            <a:ext cx="2746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540"/>
                </a:moveTo>
                <a:cubicBezTo>
                  <a:pt x="1066" y="15475"/>
                  <a:pt x="2132" y="17409"/>
                  <a:pt x="3197" y="19021"/>
                </a:cubicBezTo>
                <a:cubicBezTo>
                  <a:pt x="4832" y="20633"/>
                  <a:pt x="6608" y="20310"/>
                  <a:pt x="8455" y="20633"/>
                </a:cubicBezTo>
                <a:cubicBezTo>
                  <a:pt x="10516" y="21600"/>
                  <a:pt x="12789" y="21600"/>
                  <a:pt x="14921" y="20310"/>
                </a:cubicBezTo>
                <a:cubicBezTo>
                  <a:pt x="17124" y="18054"/>
                  <a:pt x="19966" y="17409"/>
                  <a:pt x="21174" y="8704"/>
                </a:cubicBezTo>
                <a:cubicBezTo>
                  <a:pt x="21600" y="6125"/>
                  <a:pt x="21458" y="3224"/>
                  <a:pt x="21458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51520" y="1719360"/>
            <a:ext cx="52056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38"/>
                </a:moveTo>
                <a:cubicBezTo>
                  <a:pt x="709" y="17951"/>
                  <a:pt x="1567" y="19119"/>
                  <a:pt x="2201" y="19995"/>
                </a:cubicBezTo>
                <a:cubicBezTo>
                  <a:pt x="2910" y="21016"/>
                  <a:pt x="3619" y="20724"/>
                  <a:pt x="4290" y="21016"/>
                </a:cubicBezTo>
                <a:cubicBezTo>
                  <a:pt x="5409" y="21162"/>
                  <a:pt x="6528" y="21600"/>
                  <a:pt x="7648" y="21162"/>
                </a:cubicBezTo>
                <a:cubicBezTo>
                  <a:pt x="8804" y="21016"/>
                  <a:pt x="10073" y="19995"/>
                  <a:pt x="11266" y="19411"/>
                </a:cubicBezTo>
                <a:cubicBezTo>
                  <a:pt x="12274" y="18827"/>
                  <a:pt x="13393" y="18535"/>
                  <a:pt x="14400" y="17222"/>
                </a:cubicBezTo>
                <a:cubicBezTo>
                  <a:pt x="15482" y="16054"/>
                  <a:pt x="16564" y="13865"/>
                  <a:pt x="17571" y="11676"/>
                </a:cubicBezTo>
                <a:cubicBezTo>
                  <a:pt x="18131" y="10362"/>
                  <a:pt x="18690" y="8903"/>
                  <a:pt x="19212" y="7443"/>
                </a:cubicBezTo>
                <a:cubicBezTo>
                  <a:pt x="19623" y="6422"/>
                  <a:pt x="20070" y="5546"/>
                  <a:pt x="20406" y="4670"/>
                </a:cubicBezTo>
                <a:cubicBezTo>
                  <a:pt x="20555" y="3941"/>
                  <a:pt x="21413" y="58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33920" y="175104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5806"/>
                  <a:pt x="1261" y="8129"/>
                </a:cubicBezTo>
                <a:cubicBezTo>
                  <a:pt x="1958" y="12077"/>
                  <a:pt x="2820" y="15561"/>
                  <a:pt x="3716" y="17652"/>
                </a:cubicBezTo>
                <a:cubicBezTo>
                  <a:pt x="4446" y="19045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045"/>
                  <a:pt x="11812" y="18116"/>
                </a:cubicBezTo>
                <a:cubicBezTo>
                  <a:pt x="12210" y="17652"/>
                  <a:pt x="12708" y="17187"/>
                  <a:pt x="13206" y="15561"/>
                </a:cubicBezTo>
                <a:cubicBezTo>
                  <a:pt x="13471" y="14632"/>
                  <a:pt x="13770" y="13239"/>
                  <a:pt x="14035" y="12077"/>
                </a:cubicBezTo>
                <a:cubicBezTo>
                  <a:pt x="14400" y="11148"/>
                  <a:pt x="14898" y="7432"/>
                  <a:pt x="15229" y="8826"/>
                </a:cubicBezTo>
                <a:cubicBezTo>
                  <a:pt x="15561" y="10219"/>
                  <a:pt x="15163" y="16258"/>
                  <a:pt x="15561" y="18581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581"/>
                </a:cubicBezTo>
                <a:cubicBezTo>
                  <a:pt x="19709" y="17187"/>
                  <a:pt x="20140" y="14632"/>
                  <a:pt x="20605" y="12774"/>
                </a:cubicBezTo>
                <a:cubicBezTo>
                  <a:pt x="20970" y="11613"/>
                  <a:pt x="21268" y="10916"/>
                  <a:pt x="21600" y="975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0720" y="2433600"/>
            <a:ext cx="12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271"/>
                </a:moveTo>
                <a:cubicBezTo>
                  <a:pt x="422" y="15943"/>
                  <a:pt x="797" y="17421"/>
                  <a:pt x="1297" y="18514"/>
                </a:cubicBezTo>
                <a:cubicBezTo>
                  <a:pt x="1844" y="19800"/>
                  <a:pt x="2548" y="20764"/>
                  <a:pt x="3235" y="21214"/>
                </a:cubicBezTo>
                <a:cubicBezTo>
                  <a:pt x="4032" y="21600"/>
                  <a:pt x="4892" y="21214"/>
                  <a:pt x="5642" y="20121"/>
                </a:cubicBezTo>
                <a:cubicBezTo>
                  <a:pt x="6299" y="19286"/>
                  <a:pt x="6830" y="17100"/>
                  <a:pt x="7502" y="15814"/>
                </a:cubicBezTo>
                <a:cubicBezTo>
                  <a:pt x="7721" y="15364"/>
                  <a:pt x="7955" y="14721"/>
                  <a:pt x="8221" y="14529"/>
                </a:cubicBezTo>
                <a:cubicBezTo>
                  <a:pt x="8784" y="14271"/>
                  <a:pt x="9346" y="15943"/>
                  <a:pt x="9909" y="15814"/>
                </a:cubicBezTo>
                <a:cubicBezTo>
                  <a:pt x="10566" y="15621"/>
                  <a:pt x="11222" y="14529"/>
                  <a:pt x="11832" y="13436"/>
                </a:cubicBezTo>
                <a:cubicBezTo>
                  <a:pt x="12457" y="12214"/>
                  <a:pt x="13019" y="10286"/>
                  <a:pt x="13598" y="8871"/>
                </a:cubicBezTo>
                <a:cubicBezTo>
                  <a:pt x="13957" y="8036"/>
                  <a:pt x="14301" y="6493"/>
                  <a:pt x="14692" y="6300"/>
                </a:cubicBezTo>
                <a:cubicBezTo>
                  <a:pt x="15145" y="5979"/>
                  <a:pt x="15614" y="7329"/>
                  <a:pt x="16067" y="7457"/>
                </a:cubicBezTo>
                <a:cubicBezTo>
                  <a:pt x="16880" y="7779"/>
                  <a:pt x="17708" y="7329"/>
                  <a:pt x="18521" y="6814"/>
                </a:cubicBezTo>
                <a:cubicBezTo>
                  <a:pt x="19021" y="6364"/>
                  <a:pt x="19584" y="5850"/>
                  <a:pt x="20068" y="5079"/>
                </a:cubicBezTo>
                <a:cubicBezTo>
                  <a:pt x="20365" y="4500"/>
                  <a:pt x="21366" y="83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0720" y="2306520"/>
            <a:ext cx="70344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372"/>
                </a:moveTo>
                <a:cubicBezTo>
                  <a:pt x="994" y="17343"/>
                  <a:pt x="2099" y="19314"/>
                  <a:pt x="3259" y="20260"/>
                </a:cubicBezTo>
                <a:cubicBezTo>
                  <a:pt x="4972" y="21600"/>
                  <a:pt x="6767" y="21600"/>
                  <a:pt x="8507" y="21285"/>
                </a:cubicBezTo>
                <a:cubicBezTo>
                  <a:pt x="10386" y="20969"/>
                  <a:pt x="12236" y="20023"/>
                  <a:pt x="14004" y="18289"/>
                </a:cubicBezTo>
                <a:cubicBezTo>
                  <a:pt x="15164" y="17107"/>
                  <a:pt x="16380" y="15609"/>
                  <a:pt x="17402" y="13638"/>
                </a:cubicBezTo>
                <a:cubicBezTo>
                  <a:pt x="18672" y="11115"/>
                  <a:pt x="19887" y="7962"/>
                  <a:pt x="20771" y="4493"/>
                </a:cubicBezTo>
                <a:cubicBezTo>
                  <a:pt x="21130" y="3153"/>
                  <a:pt x="21351" y="165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1720" y="1974960"/>
            <a:ext cx="2082600" cy="61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95"/>
                </a:moveTo>
                <a:cubicBezTo>
                  <a:pt x="93" y="20274"/>
                  <a:pt x="196" y="20589"/>
                  <a:pt x="336" y="20811"/>
                </a:cubicBezTo>
                <a:cubicBezTo>
                  <a:pt x="905" y="21600"/>
                  <a:pt x="1596" y="20684"/>
                  <a:pt x="2184" y="20021"/>
                </a:cubicBezTo>
                <a:cubicBezTo>
                  <a:pt x="2502" y="19674"/>
                  <a:pt x="2819" y="19011"/>
                  <a:pt x="3099" y="18411"/>
                </a:cubicBezTo>
                <a:cubicBezTo>
                  <a:pt x="3351" y="17811"/>
                  <a:pt x="4042" y="16011"/>
                  <a:pt x="4107" y="15758"/>
                </a:cubicBezTo>
                <a:cubicBezTo>
                  <a:pt x="4201" y="15347"/>
                  <a:pt x="4313" y="14368"/>
                  <a:pt x="4313" y="14368"/>
                </a:cubicBezTo>
                <a:cubicBezTo>
                  <a:pt x="4313" y="14368"/>
                  <a:pt x="4546" y="15695"/>
                  <a:pt x="4733" y="16011"/>
                </a:cubicBezTo>
                <a:cubicBezTo>
                  <a:pt x="5265" y="16926"/>
                  <a:pt x="5937" y="17305"/>
                  <a:pt x="6543" y="16863"/>
                </a:cubicBezTo>
                <a:cubicBezTo>
                  <a:pt x="6908" y="16611"/>
                  <a:pt x="7216" y="15758"/>
                  <a:pt x="7505" y="15000"/>
                </a:cubicBezTo>
                <a:cubicBezTo>
                  <a:pt x="7729" y="14463"/>
                  <a:pt x="8149" y="13200"/>
                  <a:pt x="8149" y="13200"/>
                </a:cubicBezTo>
                <a:cubicBezTo>
                  <a:pt x="8149" y="13200"/>
                  <a:pt x="8382" y="14274"/>
                  <a:pt x="8513" y="14684"/>
                </a:cubicBezTo>
                <a:cubicBezTo>
                  <a:pt x="8634" y="15000"/>
                  <a:pt x="8746" y="15411"/>
                  <a:pt x="8886" y="15695"/>
                </a:cubicBezTo>
                <a:cubicBezTo>
                  <a:pt x="9129" y="16074"/>
                  <a:pt x="9428" y="16232"/>
                  <a:pt x="9708" y="16484"/>
                </a:cubicBezTo>
                <a:cubicBezTo>
                  <a:pt x="10119" y="16863"/>
                  <a:pt x="10529" y="17779"/>
                  <a:pt x="10987" y="17811"/>
                </a:cubicBezTo>
                <a:cubicBezTo>
                  <a:pt x="11472" y="17874"/>
                  <a:pt x="12004" y="17305"/>
                  <a:pt x="12508" y="16768"/>
                </a:cubicBezTo>
                <a:cubicBezTo>
                  <a:pt x="12919" y="16295"/>
                  <a:pt x="13330" y="15537"/>
                  <a:pt x="13703" y="14905"/>
                </a:cubicBezTo>
                <a:cubicBezTo>
                  <a:pt x="14076" y="14211"/>
                  <a:pt x="14459" y="13358"/>
                  <a:pt x="14804" y="12568"/>
                </a:cubicBezTo>
                <a:cubicBezTo>
                  <a:pt x="15010" y="12095"/>
                  <a:pt x="15197" y="11400"/>
                  <a:pt x="15439" y="11021"/>
                </a:cubicBezTo>
                <a:cubicBezTo>
                  <a:pt x="15654" y="10611"/>
                  <a:pt x="15906" y="10263"/>
                  <a:pt x="16186" y="10200"/>
                </a:cubicBezTo>
                <a:cubicBezTo>
                  <a:pt x="16625" y="10074"/>
                  <a:pt x="17054" y="11021"/>
                  <a:pt x="17493" y="10863"/>
                </a:cubicBezTo>
                <a:cubicBezTo>
                  <a:pt x="17969" y="10737"/>
                  <a:pt x="18436" y="9884"/>
                  <a:pt x="18893" y="9221"/>
                </a:cubicBezTo>
                <a:cubicBezTo>
                  <a:pt x="19266" y="8684"/>
                  <a:pt x="19668" y="8084"/>
                  <a:pt x="19994" y="7200"/>
                </a:cubicBezTo>
                <a:cubicBezTo>
                  <a:pt x="20275" y="6537"/>
                  <a:pt x="20508" y="5589"/>
                  <a:pt x="20723" y="4674"/>
                </a:cubicBezTo>
                <a:cubicBezTo>
                  <a:pt x="20928" y="3884"/>
                  <a:pt x="21096" y="3126"/>
                  <a:pt x="21255" y="2274"/>
                </a:cubicBezTo>
                <a:cubicBezTo>
                  <a:pt x="21376" y="1547"/>
                  <a:pt x="21488" y="78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0720" y="2066760"/>
            <a:ext cx="77472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400"/>
                </a:moveTo>
                <a:cubicBezTo>
                  <a:pt x="1002" y="13371"/>
                  <a:pt x="2080" y="16457"/>
                  <a:pt x="3207" y="18514"/>
                </a:cubicBezTo>
                <a:cubicBezTo>
                  <a:pt x="4235" y="20114"/>
                  <a:pt x="5362" y="20571"/>
                  <a:pt x="6415" y="21029"/>
                </a:cubicBezTo>
                <a:cubicBezTo>
                  <a:pt x="7994" y="21600"/>
                  <a:pt x="9597" y="20800"/>
                  <a:pt x="11151" y="20114"/>
                </a:cubicBezTo>
                <a:cubicBezTo>
                  <a:pt x="12454" y="19657"/>
                  <a:pt x="13757" y="18629"/>
                  <a:pt x="14985" y="16800"/>
                </a:cubicBezTo>
                <a:cubicBezTo>
                  <a:pt x="16087" y="15086"/>
                  <a:pt x="17115" y="12571"/>
                  <a:pt x="18167" y="10171"/>
                </a:cubicBezTo>
                <a:cubicBezTo>
                  <a:pt x="18969" y="8457"/>
                  <a:pt x="19896" y="6743"/>
                  <a:pt x="20648" y="4229"/>
                </a:cubicBezTo>
                <a:cubicBezTo>
                  <a:pt x="20948" y="2971"/>
                  <a:pt x="21274" y="148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46080" y="2109960"/>
            <a:ext cx="825480" cy="2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100"/>
                </a:moveTo>
                <a:cubicBezTo>
                  <a:pt x="212" y="13085"/>
                  <a:pt x="448" y="14071"/>
                  <a:pt x="707" y="14788"/>
                </a:cubicBezTo>
                <a:cubicBezTo>
                  <a:pt x="1343" y="16850"/>
                  <a:pt x="2191" y="18373"/>
                  <a:pt x="2991" y="19359"/>
                </a:cubicBezTo>
                <a:cubicBezTo>
                  <a:pt x="4240" y="20883"/>
                  <a:pt x="5630" y="20973"/>
                  <a:pt x="6996" y="21421"/>
                </a:cubicBezTo>
                <a:cubicBezTo>
                  <a:pt x="7679" y="21600"/>
                  <a:pt x="8409" y="21421"/>
                  <a:pt x="9163" y="20973"/>
                </a:cubicBezTo>
                <a:cubicBezTo>
                  <a:pt x="10953" y="20256"/>
                  <a:pt x="12790" y="19897"/>
                  <a:pt x="14533" y="17836"/>
                </a:cubicBezTo>
                <a:cubicBezTo>
                  <a:pt x="15688" y="16312"/>
                  <a:pt x="16889" y="14161"/>
                  <a:pt x="17925" y="11562"/>
                </a:cubicBezTo>
                <a:cubicBezTo>
                  <a:pt x="19221" y="8335"/>
                  <a:pt x="20375" y="376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25560" y="1933560"/>
            <a:ext cx="57924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67"/>
                </a:moveTo>
                <a:cubicBezTo>
                  <a:pt x="837" y="19475"/>
                  <a:pt x="1674" y="20803"/>
                  <a:pt x="2679" y="20980"/>
                </a:cubicBezTo>
                <a:cubicBezTo>
                  <a:pt x="4688" y="21600"/>
                  <a:pt x="6698" y="20095"/>
                  <a:pt x="8774" y="18944"/>
                </a:cubicBezTo>
                <a:cubicBezTo>
                  <a:pt x="10616" y="17882"/>
                  <a:pt x="12458" y="16111"/>
                  <a:pt x="14233" y="14252"/>
                </a:cubicBezTo>
                <a:cubicBezTo>
                  <a:pt x="15271" y="13102"/>
                  <a:pt x="16409" y="11597"/>
                  <a:pt x="17548" y="10003"/>
                </a:cubicBezTo>
                <a:cubicBezTo>
                  <a:pt x="18318" y="8852"/>
                  <a:pt x="19323" y="7702"/>
                  <a:pt x="20026" y="5843"/>
                </a:cubicBezTo>
                <a:cubicBezTo>
                  <a:pt x="20662" y="4161"/>
                  <a:pt x="21098" y="2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85880" y="2013120"/>
            <a:ext cx="58104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00"/>
                </a:moveTo>
                <a:cubicBezTo>
                  <a:pt x="938" y="18400"/>
                  <a:pt x="1942" y="20089"/>
                  <a:pt x="2980" y="20889"/>
                </a:cubicBezTo>
                <a:cubicBezTo>
                  <a:pt x="3985" y="21600"/>
                  <a:pt x="5157" y="21422"/>
                  <a:pt x="6296" y="21244"/>
                </a:cubicBezTo>
                <a:cubicBezTo>
                  <a:pt x="7937" y="21067"/>
                  <a:pt x="9712" y="21067"/>
                  <a:pt x="11319" y="19644"/>
                </a:cubicBezTo>
                <a:cubicBezTo>
                  <a:pt x="12893" y="18044"/>
                  <a:pt x="14233" y="14844"/>
                  <a:pt x="15639" y="12444"/>
                </a:cubicBezTo>
                <a:cubicBezTo>
                  <a:pt x="17012" y="10044"/>
                  <a:pt x="18486" y="7556"/>
                  <a:pt x="19758" y="4711"/>
                </a:cubicBezTo>
                <a:cubicBezTo>
                  <a:pt x="20394" y="3200"/>
                  <a:pt x="20964" y="168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2193840"/>
            <a:ext cx="56808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574"/>
                </a:moveTo>
                <a:cubicBezTo>
                  <a:pt x="410" y="6226"/>
                  <a:pt x="889" y="7496"/>
                  <a:pt x="1333" y="8894"/>
                </a:cubicBezTo>
                <a:cubicBezTo>
                  <a:pt x="2597" y="12579"/>
                  <a:pt x="4101" y="15882"/>
                  <a:pt x="5708" y="17788"/>
                </a:cubicBezTo>
                <a:cubicBezTo>
                  <a:pt x="7895" y="20075"/>
                  <a:pt x="10253" y="21600"/>
                  <a:pt x="12509" y="20075"/>
                </a:cubicBezTo>
                <a:cubicBezTo>
                  <a:pt x="13944" y="19313"/>
                  <a:pt x="15380" y="16009"/>
                  <a:pt x="16781" y="13722"/>
                </a:cubicBezTo>
                <a:cubicBezTo>
                  <a:pt x="17977" y="11562"/>
                  <a:pt x="19378" y="10038"/>
                  <a:pt x="20301" y="6353"/>
                </a:cubicBezTo>
                <a:cubicBezTo>
                  <a:pt x="20814" y="4574"/>
                  <a:pt x="21156" y="254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27160" y="1957320"/>
            <a:ext cx="4431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91"/>
                </a:moveTo>
                <a:cubicBezTo>
                  <a:pt x="659" y="19570"/>
                  <a:pt x="1317" y="20223"/>
                  <a:pt x="2063" y="20585"/>
                </a:cubicBezTo>
                <a:cubicBezTo>
                  <a:pt x="4961" y="21600"/>
                  <a:pt x="8298" y="20368"/>
                  <a:pt x="11151" y="18483"/>
                </a:cubicBezTo>
                <a:cubicBezTo>
                  <a:pt x="12732" y="17613"/>
                  <a:pt x="14137" y="15584"/>
                  <a:pt x="15454" y="13627"/>
                </a:cubicBezTo>
                <a:cubicBezTo>
                  <a:pt x="17078" y="11162"/>
                  <a:pt x="18659" y="8408"/>
                  <a:pt x="19888" y="5364"/>
                </a:cubicBezTo>
                <a:cubicBezTo>
                  <a:pt x="20502" y="3697"/>
                  <a:pt x="21073" y="18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32080" y="1941480"/>
            <a:ext cx="5554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050"/>
                </a:moveTo>
                <a:cubicBezTo>
                  <a:pt x="736" y="17550"/>
                  <a:pt x="1543" y="18825"/>
                  <a:pt x="2525" y="19575"/>
                </a:cubicBezTo>
                <a:cubicBezTo>
                  <a:pt x="4769" y="21375"/>
                  <a:pt x="7469" y="21600"/>
                  <a:pt x="9923" y="20475"/>
                </a:cubicBezTo>
                <a:cubicBezTo>
                  <a:pt x="11852" y="19725"/>
                  <a:pt x="13745" y="18150"/>
                  <a:pt x="15534" y="16275"/>
                </a:cubicBezTo>
                <a:cubicBezTo>
                  <a:pt x="16831" y="14775"/>
                  <a:pt x="18199" y="13275"/>
                  <a:pt x="19251" y="11025"/>
                </a:cubicBezTo>
                <a:cubicBezTo>
                  <a:pt x="19987" y="9450"/>
                  <a:pt x="20548" y="7200"/>
                  <a:pt x="21039" y="5025"/>
                </a:cubicBezTo>
                <a:cubicBezTo>
                  <a:pt x="21319" y="3450"/>
                  <a:pt x="21495" y="165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68760" y="1960560"/>
            <a:ext cx="30780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886"/>
                </a:moveTo>
                <a:cubicBezTo>
                  <a:pt x="1394" y="20800"/>
                  <a:pt x="2850" y="21600"/>
                  <a:pt x="4307" y="21600"/>
                </a:cubicBezTo>
                <a:cubicBezTo>
                  <a:pt x="7284" y="21600"/>
                  <a:pt x="10072" y="19314"/>
                  <a:pt x="12732" y="17143"/>
                </a:cubicBezTo>
                <a:cubicBezTo>
                  <a:pt x="14506" y="15771"/>
                  <a:pt x="16216" y="13486"/>
                  <a:pt x="17736" y="11200"/>
                </a:cubicBezTo>
                <a:cubicBezTo>
                  <a:pt x="18750" y="9257"/>
                  <a:pt x="20777" y="251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36960" y="2041560"/>
            <a:ext cx="576360" cy="20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879" y="12600"/>
                  <a:pt x="1656" y="14400"/>
                  <a:pt x="2501" y="15821"/>
                </a:cubicBezTo>
                <a:cubicBezTo>
                  <a:pt x="3313" y="16958"/>
                  <a:pt x="4225" y="18189"/>
                  <a:pt x="5239" y="18853"/>
                </a:cubicBezTo>
                <a:cubicBezTo>
                  <a:pt x="7301" y="20274"/>
                  <a:pt x="9566" y="21600"/>
                  <a:pt x="11797" y="20747"/>
                </a:cubicBezTo>
                <a:cubicBezTo>
                  <a:pt x="13927" y="19989"/>
                  <a:pt x="16158" y="18189"/>
                  <a:pt x="17949" y="14400"/>
                </a:cubicBezTo>
                <a:cubicBezTo>
                  <a:pt x="18930" y="12221"/>
                  <a:pt x="19944" y="9568"/>
                  <a:pt x="20654" y="6253"/>
                </a:cubicBezTo>
                <a:cubicBezTo>
                  <a:pt x="21093" y="4168"/>
                  <a:pt x="21363" y="2274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91000" y="1928880"/>
            <a:ext cx="750960" cy="1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64"/>
                </a:moveTo>
                <a:cubicBezTo>
                  <a:pt x="621" y="20727"/>
                  <a:pt x="1268" y="21164"/>
                  <a:pt x="1863" y="21273"/>
                </a:cubicBezTo>
                <a:cubicBezTo>
                  <a:pt x="3182" y="21600"/>
                  <a:pt x="4553" y="19745"/>
                  <a:pt x="5794" y="18000"/>
                </a:cubicBezTo>
                <a:cubicBezTo>
                  <a:pt x="6933" y="16036"/>
                  <a:pt x="7993" y="12873"/>
                  <a:pt x="9080" y="10036"/>
                </a:cubicBezTo>
                <a:cubicBezTo>
                  <a:pt x="10166" y="7091"/>
                  <a:pt x="11253" y="1964"/>
                  <a:pt x="12572" y="1745"/>
                </a:cubicBezTo>
                <a:cubicBezTo>
                  <a:pt x="13063" y="1745"/>
                  <a:pt x="13451" y="3818"/>
                  <a:pt x="13891" y="5018"/>
                </a:cubicBezTo>
                <a:cubicBezTo>
                  <a:pt x="14305" y="6218"/>
                  <a:pt x="14745" y="8073"/>
                  <a:pt x="15262" y="8400"/>
                </a:cubicBezTo>
                <a:cubicBezTo>
                  <a:pt x="16142" y="9382"/>
                  <a:pt x="17047" y="8073"/>
                  <a:pt x="17978" y="7091"/>
                </a:cubicBezTo>
                <a:cubicBezTo>
                  <a:pt x="18754" y="6436"/>
                  <a:pt x="19582" y="4800"/>
                  <a:pt x="20332" y="3164"/>
                </a:cubicBezTo>
                <a:cubicBezTo>
                  <a:pt x="20772" y="2182"/>
                  <a:pt x="21160" y="109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90960" y="1871640"/>
            <a:ext cx="777600" cy="27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48"/>
                </a:moveTo>
                <a:cubicBezTo>
                  <a:pt x="799" y="18432"/>
                  <a:pt x="1598" y="19872"/>
                  <a:pt x="2497" y="20520"/>
                </a:cubicBezTo>
                <a:cubicBezTo>
                  <a:pt x="3746" y="21456"/>
                  <a:pt x="5144" y="21600"/>
                  <a:pt x="6443" y="20952"/>
                </a:cubicBezTo>
                <a:cubicBezTo>
                  <a:pt x="7766" y="20376"/>
                  <a:pt x="9139" y="19296"/>
                  <a:pt x="10238" y="17352"/>
                </a:cubicBezTo>
                <a:cubicBezTo>
                  <a:pt x="10738" y="16488"/>
                  <a:pt x="11162" y="15192"/>
                  <a:pt x="11512" y="13824"/>
                </a:cubicBezTo>
                <a:cubicBezTo>
                  <a:pt x="11662" y="13248"/>
                  <a:pt x="12086" y="11736"/>
                  <a:pt x="12086" y="11736"/>
                </a:cubicBezTo>
                <a:cubicBezTo>
                  <a:pt x="12086" y="11736"/>
                  <a:pt x="12885" y="13248"/>
                  <a:pt x="13360" y="13536"/>
                </a:cubicBezTo>
                <a:cubicBezTo>
                  <a:pt x="14358" y="13968"/>
                  <a:pt x="15407" y="13320"/>
                  <a:pt x="16431" y="12456"/>
                </a:cubicBezTo>
                <a:cubicBezTo>
                  <a:pt x="17055" y="11880"/>
                  <a:pt x="17804" y="11160"/>
                  <a:pt x="18429" y="10080"/>
                </a:cubicBezTo>
                <a:cubicBezTo>
                  <a:pt x="19153" y="8856"/>
                  <a:pt x="19902" y="7128"/>
                  <a:pt x="20501" y="5184"/>
                </a:cubicBezTo>
                <a:cubicBezTo>
                  <a:pt x="20926" y="3600"/>
                  <a:pt x="21275" y="18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8640" y="1771560"/>
            <a:ext cx="37152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222"/>
                </a:moveTo>
                <a:cubicBezTo>
                  <a:pt x="785" y="20114"/>
                  <a:pt x="1569" y="20510"/>
                  <a:pt x="2458" y="20906"/>
                </a:cubicBezTo>
                <a:cubicBezTo>
                  <a:pt x="3452" y="21402"/>
                  <a:pt x="4498" y="21600"/>
                  <a:pt x="5544" y="21402"/>
                </a:cubicBezTo>
                <a:cubicBezTo>
                  <a:pt x="7636" y="21204"/>
                  <a:pt x="9623" y="19916"/>
                  <a:pt x="11454" y="18231"/>
                </a:cubicBezTo>
                <a:cubicBezTo>
                  <a:pt x="13912" y="15853"/>
                  <a:pt x="16475" y="12980"/>
                  <a:pt x="18357" y="8818"/>
                </a:cubicBezTo>
                <a:cubicBezTo>
                  <a:pt x="19560" y="6341"/>
                  <a:pt x="20554" y="31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65320" y="1781280"/>
            <a:ext cx="6271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786"/>
                </a:moveTo>
                <a:cubicBezTo>
                  <a:pt x="186" y="13076"/>
                  <a:pt x="403" y="13561"/>
                  <a:pt x="589" y="13948"/>
                </a:cubicBezTo>
                <a:cubicBezTo>
                  <a:pt x="1457" y="15595"/>
                  <a:pt x="2293" y="17629"/>
                  <a:pt x="3223" y="18694"/>
                </a:cubicBezTo>
                <a:cubicBezTo>
                  <a:pt x="5113" y="20728"/>
                  <a:pt x="7345" y="21600"/>
                  <a:pt x="9421" y="21116"/>
                </a:cubicBezTo>
                <a:cubicBezTo>
                  <a:pt x="10413" y="20922"/>
                  <a:pt x="11311" y="19469"/>
                  <a:pt x="12303" y="18500"/>
                </a:cubicBezTo>
                <a:cubicBezTo>
                  <a:pt x="13295" y="17435"/>
                  <a:pt x="14410" y="15982"/>
                  <a:pt x="15402" y="14432"/>
                </a:cubicBezTo>
                <a:cubicBezTo>
                  <a:pt x="16642" y="12301"/>
                  <a:pt x="17943" y="10267"/>
                  <a:pt x="19059" y="7652"/>
                </a:cubicBezTo>
                <a:cubicBezTo>
                  <a:pt x="19989" y="5424"/>
                  <a:pt x="20763" y="280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02040" y="1725480"/>
            <a:ext cx="465120" cy="16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712"/>
                </a:moveTo>
                <a:cubicBezTo>
                  <a:pt x="709" y="19405"/>
                  <a:pt x="1418" y="20445"/>
                  <a:pt x="2210" y="20676"/>
                </a:cubicBezTo>
                <a:cubicBezTo>
                  <a:pt x="4337" y="21600"/>
                  <a:pt x="6463" y="20907"/>
                  <a:pt x="8548" y="19636"/>
                </a:cubicBezTo>
                <a:cubicBezTo>
                  <a:pt x="10341" y="18712"/>
                  <a:pt x="12009" y="16518"/>
                  <a:pt x="13761" y="14554"/>
                </a:cubicBezTo>
                <a:cubicBezTo>
                  <a:pt x="15095" y="13052"/>
                  <a:pt x="16596" y="11435"/>
                  <a:pt x="17889" y="8894"/>
                </a:cubicBezTo>
                <a:cubicBezTo>
                  <a:pt x="19181" y="6468"/>
                  <a:pt x="20349" y="31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20720" y="1406520"/>
            <a:ext cx="488952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97"/>
                </a:moveTo>
                <a:cubicBezTo>
                  <a:pt x="99" y="18669"/>
                  <a:pt x="211" y="19440"/>
                  <a:pt x="334" y="19965"/>
                </a:cubicBezTo>
                <a:cubicBezTo>
                  <a:pt x="529" y="20736"/>
                  <a:pt x="747" y="21322"/>
                  <a:pt x="966" y="21477"/>
                </a:cubicBezTo>
                <a:cubicBezTo>
                  <a:pt x="1284" y="21600"/>
                  <a:pt x="1594" y="20798"/>
                  <a:pt x="1896" y="20088"/>
                </a:cubicBezTo>
                <a:cubicBezTo>
                  <a:pt x="2015" y="19810"/>
                  <a:pt x="2413" y="18267"/>
                  <a:pt x="2484" y="17897"/>
                </a:cubicBezTo>
                <a:cubicBezTo>
                  <a:pt x="2572" y="17434"/>
                  <a:pt x="2715" y="16231"/>
                  <a:pt x="2715" y="16231"/>
                </a:cubicBezTo>
                <a:cubicBezTo>
                  <a:pt x="2715" y="16231"/>
                  <a:pt x="2890" y="16632"/>
                  <a:pt x="2981" y="16848"/>
                </a:cubicBezTo>
                <a:cubicBezTo>
                  <a:pt x="3208" y="17280"/>
                  <a:pt x="3434" y="18267"/>
                  <a:pt x="3669" y="18267"/>
                </a:cubicBezTo>
                <a:cubicBezTo>
                  <a:pt x="3911" y="18267"/>
                  <a:pt x="4154" y="17434"/>
                  <a:pt x="4392" y="16694"/>
                </a:cubicBezTo>
                <a:cubicBezTo>
                  <a:pt x="4543" y="16231"/>
                  <a:pt x="4671" y="15398"/>
                  <a:pt x="4822" y="14811"/>
                </a:cubicBezTo>
                <a:cubicBezTo>
                  <a:pt x="4921" y="14410"/>
                  <a:pt x="5012" y="13762"/>
                  <a:pt x="5124" y="13762"/>
                </a:cubicBezTo>
                <a:cubicBezTo>
                  <a:pt x="5299" y="13731"/>
                  <a:pt x="5466" y="14750"/>
                  <a:pt x="5637" y="15151"/>
                </a:cubicBezTo>
                <a:cubicBezTo>
                  <a:pt x="5760" y="15459"/>
                  <a:pt x="5895" y="15799"/>
                  <a:pt x="6022" y="15922"/>
                </a:cubicBezTo>
                <a:cubicBezTo>
                  <a:pt x="6233" y="16107"/>
                  <a:pt x="6459" y="16107"/>
                  <a:pt x="6658" y="15799"/>
                </a:cubicBezTo>
                <a:cubicBezTo>
                  <a:pt x="6833" y="15552"/>
                  <a:pt x="7183" y="14102"/>
                  <a:pt x="7183" y="14102"/>
                </a:cubicBezTo>
                <a:cubicBezTo>
                  <a:pt x="7183" y="14102"/>
                  <a:pt x="7366" y="14410"/>
                  <a:pt x="7457" y="14565"/>
                </a:cubicBezTo>
                <a:cubicBezTo>
                  <a:pt x="7600" y="14811"/>
                  <a:pt x="7743" y="15274"/>
                  <a:pt x="7886" y="15336"/>
                </a:cubicBezTo>
                <a:cubicBezTo>
                  <a:pt x="8153" y="15459"/>
                  <a:pt x="8439" y="15089"/>
                  <a:pt x="8709" y="14503"/>
                </a:cubicBezTo>
                <a:cubicBezTo>
                  <a:pt x="8852" y="14163"/>
                  <a:pt x="8964" y="13176"/>
                  <a:pt x="9111" y="12991"/>
                </a:cubicBezTo>
                <a:cubicBezTo>
                  <a:pt x="9206" y="12837"/>
                  <a:pt x="9305" y="13269"/>
                  <a:pt x="9397" y="13423"/>
                </a:cubicBezTo>
                <a:cubicBezTo>
                  <a:pt x="9512" y="13731"/>
                  <a:pt x="9631" y="14287"/>
                  <a:pt x="9759" y="14503"/>
                </a:cubicBezTo>
                <a:cubicBezTo>
                  <a:pt x="9949" y="14750"/>
                  <a:pt x="10156" y="14565"/>
                  <a:pt x="10347" y="14349"/>
                </a:cubicBezTo>
                <a:cubicBezTo>
                  <a:pt x="10526" y="14225"/>
                  <a:pt x="10701" y="13824"/>
                  <a:pt x="10876" y="13423"/>
                </a:cubicBezTo>
                <a:cubicBezTo>
                  <a:pt x="11019" y="13114"/>
                  <a:pt x="11170" y="12806"/>
                  <a:pt x="11301" y="12374"/>
                </a:cubicBezTo>
                <a:cubicBezTo>
                  <a:pt x="11496" y="11818"/>
                  <a:pt x="11651" y="10306"/>
                  <a:pt x="11857" y="10245"/>
                </a:cubicBezTo>
                <a:cubicBezTo>
                  <a:pt x="12052" y="10183"/>
                  <a:pt x="12219" y="11479"/>
                  <a:pt x="12402" y="12003"/>
                </a:cubicBezTo>
                <a:cubicBezTo>
                  <a:pt x="12581" y="12466"/>
                  <a:pt x="12756" y="13299"/>
                  <a:pt x="12931" y="13176"/>
                </a:cubicBezTo>
                <a:cubicBezTo>
                  <a:pt x="13157" y="13053"/>
                  <a:pt x="13360" y="11818"/>
                  <a:pt x="13571" y="11016"/>
                </a:cubicBezTo>
                <a:cubicBezTo>
                  <a:pt x="13674" y="10646"/>
                  <a:pt x="13773" y="9936"/>
                  <a:pt x="13889" y="9874"/>
                </a:cubicBezTo>
                <a:cubicBezTo>
                  <a:pt x="13948" y="9782"/>
                  <a:pt x="14016" y="10245"/>
                  <a:pt x="14075" y="10399"/>
                </a:cubicBezTo>
                <a:cubicBezTo>
                  <a:pt x="14242" y="10831"/>
                  <a:pt x="14417" y="11294"/>
                  <a:pt x="14604" y="11355"/>
                </a:cubicBezTo>
                <a:cubicBezTo>
                  <a:pt x="14815" y="11448"/>
                  <a:pt x="15041" y="11170"/>
                  <a:pt x="15240" y="10553"/>
                </a:cubicBezTo>
                <a:cubicBezTo>
                  <a:pt x="15375" y="10183"/>
                  <a:pt x="15502" y="9411"/>
                  <a:pt x="15630" y="8794"/>
                </a:cubicBezTo>
                <a:cubicBezTo>
                  <a:pt x="15713" y="8424"/>
                  <a:pt x="15777" y="7653"/>
                  <a:pt x="15880" y="7591"/>
                </a:cubicBezTo>
                <a:cubicBezTo>
                  <a:pt x="15999" y="7498"/>
                  <a:pt x="16099" y="8640"/>
                  <a:pt x="16218" y="8887"/>
                </a:cubicBezTo>
                <a:cubicBezTo>
                  <a:pt x="16421" y="9257"/>
                  <a:pt x="16655" y="9350"/>
                  <a:pt x="16854" y="9010"/>
                </a:cubicBezTo>
                <a:cubicBezTo>
                  <a:pt x="17073" y="8640"/>
                  <a:pt x="17283" y="7653"/>
                  <a:pt x="17478" y="6665"/>
                </a:cubicBezTo>
                <a:cubicBezTo>
                  <a:pt x="17577" y="6141"/>
                  <a:pt x="17669" y="5246"/>
                  <a:pt x="17760" y="4567"/>
                </a:cubicBezTo>
                <a:cubicBezTo>
                  <a:pt x="17860" y="3857"/>
                  <a:pt x="17939" y="2808"/>
                  <a:pt x="18062" y="2561"/>
                </a:cubicBezTo>
                <a:cubicBezTo>
                  <a:pt x="18189" y="2283"/>
                  <a:pt x="18325" y="2808"/>
                  <a:pt x="18452" y="3086"/>
                </a:cubicBezTo>
                <a:cubicBezTo>
                  <a:pt x="18686" y="3549"/>
                  <a:pt x="18905" y="4783"/>
                  <a:pt x="19139" y="4845"/>
                </a:cubicBezTo>
                <a:cubicBezTo>
                  <a:pt x="19322" y="4906"/>
                  <a:pt x="19501" y="4474"/>
                  <a:pt x="19668" y="3857"/>
                </a:cubicBezTo>
                <a:cubicBezTo>
                  <a:pt x="19851" y="3271"/>
                  <a:pt x="20010" y="2222"/>
                  <a:pt x="20185" y="1296"/>
                </a:cubicBezTo>
                <a:cubicBezTo>
                  <a:pt x="20245" y="987"/>
                  <a:pt x="20304" y="525"/>
                  <a:pt x="20380" y="370"/>
                </a:cubicBezTo>
                <a:cubicBezTo>
                  <a:pt x="20459" y="216"/>
                  <a:pt x="20535" y="370"/>
                  <a:pt x="20606" y="463"/>
                </a:cubicBezTo>
                <a:cubicBezTo>
                  <a:pt x="20741" y="741"/>
                  <a:pt x="20849" y="1666"/>
                  <a:pt x="20988" y="1666"/>
                </a:cubicBezTo>
                <a:cubicBezTo>
                  <a:pt x="21199" y="1728"/>
                  <a:pt x="21397" y="5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95440" y="1832040"/>
            <a:ext cx="151272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063"/>
                </a:moveTo>
                <a:cubicBezTo>
                  <a:pt x="771" y="20754"/>
                  <a:pt x="1568" y="21600"/>
                  <a:pt x="2326" y="20985"/>
                </a:cubicBezTo>
                <a:cubicBezTo>
                  <a:pt x="3238" y="20063"/>
                  <a:pt x="4099" y="17526"/>
                  <a:pt x="4883" y="14912"/>
                </a:cubicBezTo>
                <a:cubicBezTo>
                  <a:pt x="5268" y="13606"/>
                  <a:pt x="5641" y="11838"/>
                  <a:pt x="5975" y="10070"/>
                </a:cubicBezTo>
                <a:cubicBezTo>
                  <a:pt x="6052" y="9532"/>
                  <a:pt x="6104" y="8379"/>
                  <a:pt x="6245" y="8302"/>
                </a:cubicBezTo>
                <a:cubicBezTo>
                  <a:pt x="6553" y="8071"/>
                  <a:pt x="6682" y="10992"/>
                  <a:pt x="6952" y="11838"/>
                </a:cubicBezTo>
                <a:cubicBezTo>
                  <a:pt x="7376" y="13298"/>
                  <a:pt x="7851" y="14221"/>
                  <a:pt x="8326" y="14912"/>
                </a:cubicBezTo>
                <a:cubicBezTo>
                  <a:pt x="8905" y="15681"/>
                  <a:pt x="9470" y="16527"/>
                  <a:pt x="10035" y="16373"/>
                </a:cubicBezTo>
                <a:cubicBezTo>
                  <a:pt x="10729" y="16219"/>
                  <a:pt x="11423" y="14912"/>
                  <a:pt x="12143" y="13990"/>
                </a:cubicBezTo>
                <a:cubicBezTo>
                  <a:pt x="12400" y="13606"/>
                  <a:pt x="12682" y="12991"/>
                  <a:pt x="12939" y="12299"/>
                </a:cubicBezTo>
                <a:cubicBezTo>
                  <a:pt x="13119" y="11991"/>
                  <a:pt x="13274" y="10838"/>
                  <a:pt x="13492" y="10685"/>
                </a:cubicBezTo>
                <a:cubicBezTo>
                  <a:pt x="13955" y="10223"/>
                  <a:pt x="14443" y="11838"/>
                  <a:pt x="14931" y="12299"/>
                </a:cubicBezTo>
                <a:cubicBezTo>
                  <a:pt x="15612" y="12991"/>
                  <a:pt x="16319" y="13990"/>
                  <a:pt x="17013" y="13759"/>
                </a:cubicBezTo>
                <a:cubicBezTo>
                  <a:pt x="17809" y="13606"/>
                  <a:pt x="18593" y="12299"/>
                  <a:pt x="19351" y="10685"/>
                </a:cubicBezTo>
                <a:cubicBezTo>
                  <a:pt x="19763" y="9839"/>
                  <a:pt x="20148" y="8532"/>
                  <a:pt x="20521" y="7226"/>
                </a:cubicBezTo>
                <a:cubicBezTo>
                  <a:pt x="20829" y="6303"/>
                  <a:pt x="21253" y="5688"/>
                  <a:pt x="21446" y="3843"/>
                </a:cubicBezTo>
                <a:cubicBezTo>
                  <a:pt x="21561" y="2690"/>
                  <a:pt x="21600" y="146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0720" y="1308240"/>
            <a:ext cx="4432320" cy="55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188"/>
                </a:moveTo>
                <a:cubicBezTo>
                  <a:pt x="175" y="19992"/>
                  <a:pt x="364" y="20831"/>
                  <a:pt x="557" y="21181"/>
                </a:cubicBezTo>
                <a:cubicBezTo>
                  <a:pt x="789" y="21600"/>
                  <a:pt x="1048" y="21320"/>
                  <a:pt x="1294" y="21111"/>
                </a:cubicBezTo>
                <a:cubicBezTo>
                  <a:pt x="1491" y="20901"/>
                  <a:pt x="1684" y="20062"/>
                  <a:pt x="1899" y="19852"/>
                </a:cubicBezTo>
                <a:cubicBezTo>
                  <a:pt x="2140" y="19643"/>
                  <a:pt x="2390" y="19992"/>
                  <a:pt x="2631" y="19922"/>
                </a:cubicBezTo>
                <a:cubicBezTo>
                  <a:pt x="2750" y="19852"/>
                  <a:pt x="2873" y="19922"/>
                  <a:pt x="2995" y="19713"/>
                </a:cubicBezTo>
                <a:cubicBezTo>
                  <a:pt x="3259" y="19258"/>
                  <a:pt x="3531" y="18594"/>
                  <a:pt x="3781" y="17720"/>
                </a:cubicBezTo>
                <a:cubicBezTo>
                  <a:pt x="4031" y="16812"/>
                  <a:pt x="4237" y="15274"/>
                  <a:pt x="4474" y="14225"/>
                </a:cubicBezTo>
                <a:cubicBezTo>
                  <a:pt x="4605" y="13701"/>
                  <a:pt x="4745" y="12897"/>
                  <a:pt x="4895" y="12827"/>
                </a:cubicBezTo>
                <a:cubicBezTo>
                  <a:pt x="5096" y="12687"/>
                  <a:pt x="5294" y="13701"/>
                  <a:pt x="5495" y="14016"/>
                </a:cubicBezTo>
                <a:cubicBezTo>
                  <a:pt x="5680" y="14225"/>
                  <a:pt x="5877" y="14680"/>
                  <a:pt x="6061" y="14470"/>
                </a:cubicBezTo>
                <a:cubicBezTo>
                  <a:pt x="6289" y="14155"/>
                  <a:pt x="6495" y="12687"/>
                  <a:pt x="6710" y="11953"/>
                </a:cubicBezTo>
                <a:cubicBezTo>
                  <a:pt x="6820" y="11569"/>
                  <a:pt x="6921" y="10695"/>
                  <a:pt x="7044" y="10695"/>
                </a:cubicBezTo>
                <a:cubicBezTo>
                  <a:pt x="7118" y="10695"/>
                  <a:pt x="7180" y="11115"/>
                  <a:pt x="7258" y="11359"/>
                </a:cubicBezTo>
                <a:cubicBezTo>
                  <a:pt x="7517" y="12023"/>
                  <a:pt x="7776" y="13072"/>
                  <a:pt x="8052" y="13072"/>
                </a:cubicBezTo>
                <a:cubicBezTo>
                  <a:pt x="8324" y="13072"/>
                  <a:pt x="8583" y="12093"/>
                  <a:pt x="8833" y="11359"/>
                </a:cubicBezTo>
                <a:cubicBezTo>
                  <a:pt x="8951" y="11010"/>
                  <a:pt x="9061" y="10485"/>
                  <a:pt x="9188" y="10346"/>
                </a:cubicBezTo>
                <a:cubicBezTo>
                  <a:pt x="9307" y="10171"/>
                  <a:pt x="9425" y="10485"/>
                  <a:pt x="9535" y="10695"/>
                </a:cubicBezTo>
                <a:cubicBezTo>
                  <a:pt x="9824" y="11289"/>
                  <a:pt x="10092" y="12583"/>
                  <a:pt x="10377" y="13072"/>
                </a:cubicBezTo>
                <a:cubicBezTo>
                  <a:pt x="10758" y="13631"/>
                  <a:pt x="11162" y="13771"/>
                  <a:pt x="11552" y="13596"/>
                </a:cubicBezTo>
                <a:cubicBezTo>
                  <a:pt x="11916" y="13351"/>
                  <a:pt x="12276" y="12687"/>
                  <a:pt x="12618" y="11953"/>
                </a:cubicBezTo>
                <a:cubicBezTo>
                  <a:pt x="12951" y="11289"/>
                  <a:pt x="13276" y="10241"/>
                  <a:pt x="13600" y="9297"/>
                </a:cubicBezTo>
                <a:cubicBezTo>
                  <a:pt x="13785" y="8773"/>
                  <a:pt x="13973" y="7829"/>
                  <a:pt x="14179" y="7445"/>
                </a:cubicBezTo>
                <a:cubicBezTo>
                  <a:pt x="14399" y="7060"/>
                  <a:pt x="14640" y="6711"/>
                  <a:pt x="14850" y="7165"/>
                </a:cubicBezTo>
                <a:cubicBezTo>
                  <a:pt x="14938" y="7305"/>
                  <a:pt x="15013" y="7899"/>
                  <a:pt x="15096" y="8249"/>
                </a:cubicBezTo>
                <a:cubicBezTo>
                  <a:pt x="15162" y="8528"/>
                  <a:pt x="15227" y="9052"/>
                  <a:pt x="15298" y="9227"/>
                </a:cubicBezTo>
                <a:cubicBezTo>
                  <a:pt x="15434" y="9507"/>
                  <a:pt x="15596" y="9227"/>
                  <a:pt x="15745" y="8948"/>
                </a:cubicBezTo>
                <a:cubicBezTo>
                  <a:pt x="15846" y="8773"/>
                  <a:pt x="15929" y="8039"/>
                  <a:pt x="16039" y="7934"/>
                </a:cubicBezTo>
                <a:cubicBezTo>
                  <a:pt x="16289" y="7759"/>
                  <a:pt x="16530" y="8703"/>
                  <a:pt x="16789" y="8773"/>
                </a:cubicBezTo>
                <a:cubicBezTo>
                  <a:pt x="17061" y="8878"/>
                  <a:pt x="17337" y="8353"/>
                  <a:pt x="17578" y="7445"/>
                </a:cubicBezTo>
                <a:cubicBezTo>
                  <a:pt x="17806" y="6641"/>
                  <a:pt x="17955" y="4404"/>
                  <a:pt x="18197" y="3740"/>
                </a:cubicBezTo>
                <a:cubicBezTo>
                  <a:pt x="18376" y="3285"/>
                  <a:pt x="18578" y="3705"/>
                  <a:pt x="18762" y="3740"/>
                </a:cubicBezTo>
                <a:cubicBezTo>
                  <a:pt x="18863" y="3810"/>
                  <a:pt x="18969" y="4054"/>
                  <a:pt x="19069" y="4054"/>
                </a:cubicBezTo>
                <a:cubicBezTo>
                  <a:pt x="19219" y="4054"/>
                  <a:pt x="19381" y="4229"/>
                  <a:pt x="19530" y="3740"/>
                </a:cubicBezTo>
                <a:cubicBezTo>
                  <a:pt x="19618" y="3530"/>
                  <a:pt x="19670" y="2866"/>
                  <a:pt x="19736" y="2412"/>
                </a:cubicBezTo>
                <a:cubicBezTo>
                  <a:pt x="19833" y="1748"/>
                  <a:pt x="19894" y="629"/>
                  <a:pt x="20017" y="454"/>
                </a:cubicBezTo>
                <a:cubicBezTo>
                  <a:pt x="20188" y="35"/>
                  <a:pt x="20372" y="1083"/>
                  <a:pt x="20552" y="1328"/>
                </a:cubicBezTo>
                <a:cubicBezTo>
                  <a:pt x="20749" y="1538"/>
                  <a:pt x="20951" y="2062"/>
                  <a:pt x="21153" y="1748"/>
                </a:cubicBezTo>
                <a:cubicBezTo>
                  <a:pt x="21319" y="1538"/>
                  <a:pt x="21451" y="55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0720" y="1222200"/>
            <a:ext cx="5398920" cy="4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337"/>
                </a:moveTo>
                <a:cubicBezTo>
                  <a:pt x="220" y="17768"/>
                  <a:pt x="443" y="19368"/>
                  <a:pt x="691" y="20000"/>
                </a:cubicBezTo>
                <a:cubicBezTo>
                  <a:pt x="1292" y="21600"/>
                  <a:pt x="1930" y="21011"/>
                  <a:pt x="2542" y="20084"/>
                </a:cubicBezTo>
                <a:cubicBezTo>
                  <a:pt x="2693" y="19789"/>
                  <a:pt x="2851" y="19158"/>
                  <a:pt x="3002" y="18568"/>
                </a:cubicBezTo>
                <a:cubicBezTo>
                  <a:pt x="3143" y="17937"/>
                  <a:pt x="3287" y="17263"/>
                  <a:pt x="3431" y="16463"/>
                </a:cubicBezTo>
                <a:cubicBezTo>
                  <a:pt x="3604" y="15453"/>
                  <a:pt x="3773" y="13684"/>
                  <a:pt x="3964" y="13137"/>
                </a:cubicBezTo>
                <a:cubicBezTo>
                  <a:pt x="4223" y="12421"/>
                  <a:pt x="4504" y="13516"/>
                  <a:pt x="4770" y="13137"/>
                </a:cubicBezTo>
                <a:cubicBezTo>
                  <a:pt x="5029" y="12800"/>
                  <a:pt x="5270" y="11200"/>
                  <a:pt x="5537" y="10863"/>
                </a:cubicBezTo>
                <a:cubicBezTo>
                  <a:pt x="5872" y="10358"/>
                  <a:pt x="6206" y="11705"/>
                  <a:pt x="6541" y="11284"/>
                </a:cubicBezTo>
                <a:cubicBezTo>
                  <a:pt x="6746" y="10989"/>
                  <a:pt x="6930" y="9432"/>
                  <a:pt x="7142" y="9432"/>
                </a:cubicBezTo>
                <a:cubicBezTo>
                  <a:pt x="7373" y="9432"/>
                  <a:pt x="7560" y="11705"/>
                  <a:pt x="7790" y="12253"/>
                </a:cubicBezTo>
                <a:cubicBezTo>
                  <a:pt x="8258" y="13347"/>
                  <a:pt x="8755" y="12884"/>
                  <a:pt x="9241" y="12716"/>
                </a:cubicBezTo>
                <a:cubicBezTo>
                  <a:pt x="9630" y="12505"/>
                  <a:pt x="10019" y="11705"/>
                  <a:pt x="10404" y="11284"/>
                </a:cubicBezTo>
                <a:cubicBezTo>
                  <a:pt x="10631" y="10989"/>
                  <a:pt x="10868" y="11200"/>
                  <a:pt x="11092" y="10316"/>
                </a:cubicBezTo>
                <a:cubicBezTo>
                  <a:pt x="11232" y="9768"/>
                  <a:pt x="11340" y="7874"/>
                  <a:pt x="11491" y="7537"/>
                </a:cubicBezTo>
                <a:cubicBezTo>
                  <a:pt x="11873" y="6653"/>
                  <a:pt x="12269" y="8884"/>
                  <a:pt x="12658" y="8968"/>
                </a:cubicBezTo>
                <a:cubicBezTo>
                  <a:pt x="13014" y="9095"/>
                  <a:pt x="13378" y="8589"/>
                  <a:pt x="13745" y="7958"/>
                </a:cubicBezTo>
                <a:cubicBezTo>
                  <a:pt x="14065" y="7453"/>
                  <a:pt x="14393" y="6905"/>
                  <a:pt x="14710" y="6105"/>
                </a:cubicBezTo>
                <a:cubicBezTo>
                  <a:pt x="14908" y="5600"/>
                  <a:pt x="15113" y="4674"/>
                  <a:pt x="15318" y="4253"/>
                </a:cubicBezTo>
                <a:cubicBezTo>
                  <a:pt x="15538" y="3705"/>
                  <a:pt x="15797" y="4337"/>
                  <a:pt x="15988" y="2989"/>
                </a:cubicBezTo>
                <a:cubicBezTo>
                  <a:pt x="16031" y="2779"/>
                  <a:pt x="16042" y="1853"/>
                  <a:pt x="16085" y="1558"/>
                </a:cubicBezTo>
                <a:cubicBezTo>
                  <a:pt x="16261" y="589"/>
                  <a:pt x="16492" y="1516"/>
                  <a:pt x="16686" y="1558"/>
                </a:cubicBezTo>
                <a:cubicBezTo>
                  <a:pt x="16837" y="1642"/>
                  <a:pt x="16988" y="2274"/>
                  <a:pt x="17143" y="2274"/>
                </a:cubicBezTo>
                <a:cubicBezTo>
                  <a:pt x="17388" y="2189"/>
                  <a:pt x="17622" y="926"/>
                  <a:pt x="17867" y="589"/>
                </a:cubicBezTo>
                <a:cubicBezTo>
                  <a:pt x="18032" y="337"/>
                  <a:pt x="18202" y="0"/>
                  <a:pt x="18367" y="84"/>
                </a:cubicBezTo>
                <a:cubicBezTo>
                  <a:pt x="18529" y="168"/>
                  <a:pt x="18695" y="800"/>
                  <a:pt x="18864" y="1305"/>
                </a:cubicBezTo>
                <a:cubicBezTo>
                  <a:pt x="19098" y="2147"/>
                  <a:pt x="19303" y="3832"/>
                  <a:pt x="19548" y="4421"/>
                </a:cubicBezTo>
                <a:cubicBezTo>
                  <a:pt x="19699" y="4758"/>
                  <a:pt x="19865" y="4000"/>
                  <a:pt x="20005" y="4674"/>
                </a:cubicBezTo>
                <a:cubicBezTo>
                  <a:pt x="20117" y="5263"/>
                  <a:pt x="20178" y="6905"/>
                  <a:pt x="20290" y="7621"/>
                </a:cubicBezTo>
                <a:cubicBezTo>
                  <a:pt x="20369" y="8084"/>
                  <a:pt x="20466" y="8589"/>
                  <a:pt x="20556" y="8505"/>
                </a:cubicBezTo>
                <a:cubicBezTo>
                  <a:pt x="20740" y="8379"/>
                  <a:pt x="20909" y="7200"/>
                  <a:pt x="21078" y="6105"/>
                </a:cubicBezTo>
                <a:cubicBezTo>
                  <a:pt x="21190" y="5389"/>
                  <a:pt x="21305" y="4421"/>
                  <a:pt x="21413" y="3453"/>
                </a:cubicBezTo>
                <a:cubicBezTo>
                  <a:pt x="21478" y="2821"/>
                  <a:pt x="21539" y="2147"/>
                  <a:pt x="21600" y="130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0720" y="1187280"/>
            <a:ext cx="539892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435"/>
                </a:moveTo>
                <a:cubicBezTo>
                  <a:pt x="108" y="16847"/>
                  <a:pt x="212" y="18118"/>
                  <a:pt x="356" y="18353"/>
                </a:cubicBezTo>
                <a:cubicBezTo>
                  <a:pt x="576" y="18635"/>
                  <a:pt x="738" y="14212"/>
                  <a:pt x="958" y="14353"/>
                </a:cubicBezTo>
                <a:cubicBezTo>
                  <a:pt x="1033" y="14353"/>
                  <a:pt x="1105" y="15153"/>
                  <a:pt x="1163" y="15812"/>
                </a:cubicBezTo>
                <a:cubicBezTo>
                  <a:pt x="1292" y="17318"/>
                  <a:pt x="1318" y="20612"/>
                  <a:pt x="1483" y="21176"/>
                </a:cubicBezTo>
                <a:cubicBezTo>
                  <a:pt x="1584" y="21600"/>
                  <a:pt x="1688" y="20000"/>
                  <a:pt x="1789" y="19529"/>
                </a:cubicBezTo>
                <a:cubicBezTo>
                  <a:pt x="1886" y="19059"/>
                  <a:pt x="1984" y="18400"/>
                  <a:pt x="2092" y="18353"/>
                </a:cubicBezTo>
                <a:cubicBezTo>
                  <a:pt x="2268" y="18118"/>
                  <a:pt x="2441" y="19200"/>
                  <a:pt x="2617" y="19059"/>
                </a:cubicBezTo>
                <a:cubicBezTo>
                  <a:pt x="2768" y="18824"/>
                  <a:pt x="2920" y="18118"/>
                  <a:pt x="3064" y="17318"/>
                </a:cubicBezTo>
                <a:cubicBezTo>
                  <a:pt x="3247" y="16424"/>
                  <a:pt x="3424" y="15012"/>
                  <a:pt x="3596" y="13835"/>
                </a:cubicBezTo>
                <a:cubicBezTo>
                  <a:pt x="3701" y="13176"/>
                  <a:pt x="3805" y="12047"/>
                  <a:pt x="3917" y="11671"/>
                </a:cubicBezTo>
                <a:cubicBezTo>
                  <a:pt x="4122" y="11059"/>
                  <a:pt x="4345" y="11859"/>
                  <a:pt x="4558" y="11859"/>
                </a:cubicBezTo>
                <a:cubicBezTo>
                  <a:pt x="4763" y="11859"/>
                  <a:pt x="4975" y="11765"/>
                  <a:pt x="5180" y="11341"/>
                </a:cubicBezTo>
                <a:cubicBezTo>
                  <a:pt x="5353" y="11059"/>
                  <a:pt x="5522" y="9788"/>
                  <a:pt x="5702" y="9882"/>
                </a:cubicBezTo>
                <a:cubicBezTo>
                  <a:pt x="5872" y="9929"/>
                  <a:pt x="6023" y="11435"/>
                  <a:pt x="6199" y="11671"/>
                </a:cubicBezTo>
                <a:cubicBezTo>
                  <a:pt x="6358" y="11859"/>
                  <a:pt x="6534" y="11671"/>
                  <a:pt x="6685" y="10871"/>
                </a:cubicBezTo>
                <a:cubicBezTo>
                  <a:pt x="6746" y="10588"/>
                  <a:pt x="6790" y="9694"/>
                  <a:pt x="6862" y="9365"/>
                </a:cubicBezTo>
                <a:cubicBezTo>
                  <a:pt x="7045" y="8471"/>
                  <a:pt x="7268" y="8659"/>
                  <a:pt x="7463" y="9176"/>
                </a:cubicBezTo>
                <a:cubicBezTo>
                  <a:pt x="7628" y="9694"/>
                  <a:pt x="7758" y="11671"/>
                  <a:pt x="7931" y="12376"/>
                </a:cubicBezTo>
                <a:cubicBezTo>
                  <a:pt x="8179" y="13365"/>
                  <a:pt x="8435" y="14353"/>
                  <a:pt x="8687" y="13835"/>
                </a:cubicBezTo>
                <a:cubicBezTo>
                  <a:pt x="8860" y="13553"/>
                  <a:pt x="9022" y="12047"/>
                  <a:pt x="9173" y="10871"/>
                </a:cubicBezTo>
                <a:cubicBezTo>
                  <a:pt x="9205" y="10588"/>
                  <a:pt x="9234" y="9882"/>
                  <a:pt x="9270" y="9882"/>
                </a:cubicBezTo>
                <a:cubicBezTo>
                  <a:pt x="9400" y="9882"/>
                  <a:pt x="9472" y="12659"/>
                  <a:pt x="9605" y="12847"/>
                </a:cubicBezTo>
                <a:cubicBezTo>
                  <a:pt x="9702" y="12941"/>
                  <a:pt x="9788" y="11435"/>
                  <a:pt x="9896" y="11200"/>
                </a:cubicBezTo>
                <a:cubicBezTo>
                  <a:pt x="9994" y="10871"/>
                  <a:pt x="10091" y="11671"/>
                  <a:pt x="10192" y="11341"/>
                </a:cubicBezTo>
                <a:cubicBezTo>
                  <a:pt x="10307" y="10965"/>
                  <a:pt x="10375" y="8894"/>
                  <a:pt x="10498" y="8659"/>
                </a:cubicBezTo>
                <a:cubicBezTo>
                  <a:pt x="10595" y="8565"/>
                  <a:pt x="10678" y="10259"/>
                  <a:pt x="10775" y="10165"/>
                </a:cubicBezTo>
                <a:cubicBezTo>
                  <a:pt x="10915" y="9929"/>
                  <a:pt x="10998" y="7765"/>
                  <a:pt x="11135" y="7012"/>
                </a:cubicBezTo>
                <a:cubicBezTo>
                  <a:pt x="11261" y="6306"/>
                  <a:pt x="11419" y="5694"/>
                  <a:pt x="11552" y="5694"/>
                </a:cubicBezTo>
                <a:cubicBezTo>
                  <a:pt x="11682" y="5694"/>
                  <a:pt x="11819" y="6682"/>
                  <a:pt x="11948" y="7012"/>
                </a:cubicBezTo>
                <a:cubicBezTo>
                  <a:pt x="12146" y="7482"/>
                  <a:pt x="12352" y="7859"/>
                  <a:pt x="12550" y="8094"/>
                </a:cubicBezTo>
                <a:cubicBezTo>
                  <a:pt x="12762" y="8282"/>
                  <a:pt x="12985" y="8094"/>
                  <a:pt x="13198" y="7859"/>
                </a:cubicBezTo>
                <a:cubicBezTo>
                  <a:pt x="13475" y="7718"/>
                  <a:pt x="13774" y="7718"/>
                  <a:pt x="14058" y="6918"/>
                </a:cubicBezTo>
                <a:cubicBezTo>
                  <a:pt x="14238" y="6353"/>
                  <a:pt x="14404" y="5318"/>
                  <a:pt x="14580" y="4800"/>
                </a:cubicBezTo>
                <a:cubicBezTo>
                  <a:pt x="14749" y="4282"/>
                  <a:pt x="14922" y="4000"/>
                  <a:pt x="15095" y="3812"/>
                </a:cubicBezTo>
                <a:cubicBezTo>
                  <a:pt x="15264" y="3576"/>
                  <a:pt x="15430" y="3671"/>
                  <a:pt x="15599" y="3435"/>
                </a:cubicBezTo>
                <a:cubicBezTo>
                  <a:pt x="15696" y="3200"/>
                  <a:pt x="15797" y="2824"/>
                  <a:pt x="15898" y="2494"/>
                </a:cubicBezTo>
                <a:cubicBezTo>
                  <a:pt x="16016" y="2118"/>
                  <a:pt x="16139" y="1129"/>
                  <a:pt x="16279" y="894"/>
                </a:cubicBezTo>
                <a:cubicBezTo>
                  <a:pt x="16474" y="659"/>
                  <a:pt x="16672" y="1506"/>
                  <a:pt x="16870" y="1694"/>
                </a:cubicBezTo>
                <a:cubicBezTo>
                  <a:pt x="16960" y="1835"/>
                  <a:pt x="17060" y="1835"/>
                  <a:pt x="17150" y="1694"/>
                </a:cubicBezTo>
                <a:cubicBezTo>
                  <a:pt x="17316" y="1506"/>
                  <a:pt x="17492" y="518"/>
                  <a:pt x="17662" y="329"/>
                </a:cubicBezTo>
                <a:cubicBezTo>
                  <a:pt x="17791" y="235"/>
                  <a:pt x="17928" y="706"/>
                  <a:pt x="18065" y="706"/>
                </a:cubicBezTo>
                <a:cubicBezTo>
                  <a:pt x="18191" y="706"/>
                  <a:pt x="18331" y="424"/>
                  <a:pt x="18457" y="329"/>
                </a:cubicBezTo>
                <a:cubicBezTo>
                  <a:pt x="18695" y="235"/>
                  <a:pt x="18929" y="0"/>
                  <a:pt x="19166" y="329"/>
                </a:cubicBezTo>
                <a:cubicBezTo>
                  <a:pt x="19343" y="518"/>
                  <a:pt x="19523" y="1129"/>
                  <a:pt x="19699" y="1694"/>
                </a:cubicBezTo>
                <a:cubicBezTo>
                  <a:pt x="19865" y="2306"/>
                  <a:pt x="20034" y="3294"/>
                  <a:pt x="20200" y="4000"/>
                </a:cubicBezTo>
                <a:cubicBezTo>
                  <a:pt x="20322" y="4518"/>
                  <a:pt x="20452" y="5176"/>
                  <a:pt x="20581" y="5318"/>
                </a:cubicBezTo>
                <a:cubicBezTo>
                  <a:pt x="20765" y="5412"/>
                  <a:pt x="20963" y="5082"/>
                  <a:pt x="21143" y="4235"/>
                </a:cubicBezTo>
                <a:cubicBezTo>
                  <a:pt x="21305" y="3435"/>
                  <a:pt x="21456" y="1929"/>
                  <a:pt x="21600" y="51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38520" y="1738440"/>
            <a:ext cx="4255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625"/>
                </a:moveTo>
                <a:cubicBezTo>
                  <a:pt x="959" y="19789"/>
                  <a:pt x="1827" y="20177"/>
                  <a:pt x="2831" y="20824"/>
                </a:cubicBezTo>
                <a:cubicBezTo>
                  <a:pt x="4612" y="21600"/>
                  <a:pt x="6530" y="21341"/>
                  <a:pt x="8448" y="20824"/>
                </a:cubicBezTo>
                <a:cubicBezTo>
                  <a:pt x="10138" y="20177"/>
                  <a:pt x="11964" y="19143"/>
                  <a:pt x="13608" y="17590"/>
                </a:cubicBezTo>
                <a:cubicBezTo>
                  <a:pt x="14841" y="16426"/>
                  <a:pt x="15983" y="14486"/>
                  <a:pt x="17079" y="12546"/>
                </a:cubicBezTo>
                <a:cubicBezTo>
                  <a:pt x="18129" y="10606"/>
                  <a:pt x="19088" y="8407"/>
                  <a:pt x="20002" y="6079"/>
                </a:cubicBezTo>
                <a:cubicBezTo>
                  <a:pt x="20550" y="4139"/>
                  <a:pt x="21143" y="2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0960" y="1531800"/>
            <a:ext cx="212868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15"/>
                </a:moveTo>
                <a:cubicBezTo>
                  <a:pt x="91" y="18075"/>
                  <a:pt x="210" y="18578"/>
                  <a:pt x="320" y="18914"/>
                </a:cubicBezTo>
                <a:cubicBezTo>
                  <a:pt x="630" y="19977"/>
                  <a:pt x="986" y="20537"/>
                  <a:pt x="1351" y="21040"/>
                </a:cubicBezTo>
                <a:cubicBezTo>
                  <a:pt x="1771" y="21600"/>
                  <a:pt x="2200" y="21600"/>
                  <a:pt x="2629" y="21152"/>
                </a:cubicBezTo>
                <a:cubicBezTo>
                  <a:pt x="2949" y="20817"/>
                  <a:pt x="3277" y="19865"/>
                  <a:pt x="3588" y="19026"/>
                </a:cubicBezTo>
                <a:cubicBezTo>
                  <a:pt x="3862" y="18298"/>
                  <a:pt x="4126" y="16899"/>
                  <a:pt x="4419" y="16899"/>
                </a:cubicBezTo>
                <a:cubicBezTo>
                  <a:pt x="4647" y="16899"/>
                  <a:pt x="4857" y="17963"/>
                  <a:pt x="5076" y="18578"/>
                </a:cubicBezTo>
                <a:cubicBezTo>
                  <a:pt x="5441" y="19530"/>
                  <a:pt x="5788" y="20537"/>
                  <a:pt x="6171" y="21040"/>
                </a:cubicBezTo>
                <a:cubicBezTo>
                  <a:pt x="6692" y="21600"/>
                  <a:pt x="7230" y="21600"/>
                  <a:pt x="7751" y="21152"/>
                </a:cubicBezTo>
                <a:cubicBezTo>
                  <a:pt x="8152" y="20817"/>
                  <a:pt x="8582" y="20089"/>
                  <a:pt x="8947" y="18914"/>
                </a:cubicBezTo>
                <a:cubicBezTo>
                  <a:pt x="9257" y="17963"/>
                  <a:pt x="9568" y="16676"/>
                  <a:pt x="9814" y="15277"/>
                </a:cubicBezTo>
                <a:cubicBezTo>
                  <a:pt x="10033" y="14046"/>
                  <a:pt x="10179" y="12647"/>
                  <a:pt x="10353" y="11304"/>
                </a:cubicBezTo>
                <a:cubicBezTo>
                  <a:pt x="10471" y="10520"/>
                  <a:pt x="10554" y="8953"/>
                  <a:pt x="10718" y="8730"/>
                </a:cubicBezTo>
                <a:cubicBezTo>
                  <a:pt x="10955" y="8394"/>
                  <a:pt x="11202" y="9793"/>
                  <a:pt x="11512" y="10296"/>
                </a:cubicBezTo>
                <a:cubicBezTo>
                  <a:pt x="11859" y="10856"/>
                  <a:pt x="12242" y="10856"/>
                  <a:pt x="12617" y="10408"/>
                </a:cubicBezTo>
                <a:cubicBezTo>
                  <a:pt x="12955" y="9905"/>
                  <a:pt x="13311" y="9233"/>
                  <a:pt x="13594" y="8002"/>
                </a:cubicBezTo>
                <a:cubicBezTo>
                  <a:pt x="13813" y="7163"/>
                  <a:pt x="14004" y="6211"/>
                  <a:pt x="14196" y="5204"/>
                </a:cubicBezTo>
                <a:cubicBezTo>
                  <a:pt x="14324" y="4365"/>
                  <a:pt x="14461" y="3302"/>
                  <a:pt x="14634" y="2462"/>
                </a:cubicBezTo>
                <a:cubicBezTo>
                  <a:pt x="14817" y="1679"/>
                  <a:pt x="14981" y="280"/>
                  <a:pt x="15219" y="112"/>
                </a:cubicBezTo>
                <a:cubicBezTo>
                  <a:pt x="15520" y="0"/>
                  <a:pt x="15775" y="1903"/>
                  <a:pt x="16058" y="2854"/>
                </a:cubicBezTo>
                <a:cubicBezTo>
                  <a:pt x="16195" y="3302"/>
                  <a:pt x="16351" y="4029"/>
                  <a:pt x="16506" y="4365"/>
                </a:cubicBezTo>
                <a:cubicBezTo>
                  <a:pt x="16798" y="5092"/>
                  <a:pt x="17127" y="5540"/>
                  <a:pt x="17428" y="5764"/>
                </a:cubicBezTo>
                <a:cubicBezTo>
                  <a:pt x="17784" y="6044"/>
                  <a:pt x="18122" y="5540"/>
                  <a:pt x="18478" y="5092"/>
                </a:cubicBezTo>
                <a:cubicBezTo>
                  <a:pt x="18788" y="4701"/>
                  <a:pt x="19089" y="3861"/>
                  <a:pt x="19400" y="3078"/>
                </a:cubicBezTo>
                <a:cubicBezTo>
                  <a:pt x="19674" y="2350"/>
                  <a:pt x="19920" y="839"/>
                  <a:pt x="20212" y="448"/>
                </a:cubicBezTo>
                <a:cubicBezTo>
                  <a:pt x="20459" y="112"/>
                  <a:pt x="20714" y="951"/>
                  <a:pt x="20970" y="951"/>
                </a:cubicBezTo>
                <a:cubicBezTo>
                  <a:pt x="21171" y="951"/>
                  <a:pt x="21390" y="839"/>
                  <a:pt x="21600" y="56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0720" y="2584440"/>
            <a:ext cx="1560600" cy="36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713"/>
                </a:moveTo>
                <a:cubicBezTo>
                  <a:pt x="25" y="19713"/>
                  <a:pt x="62" y="19870"/>
                  <a:pt x="87" y="19870"/>
                </a:cubicBezTo>
                <a:cubicBezTo>
                  <a:pt x="635" y="20289"/>
                  <a:pt x="1258" y="19975"/>
                  <a:pt x="1781" y="19083"/>
                </a:cubicBezTo>
                <a:cubicBezTo>
                  <a:pt x="1956" y="18821"/>
                  <a:pt x="2205" y="17511"/>
                  <a:pt x="2205" y="17511"/>
                </a:cubicBezTo>
                <a:cubicBezTo>
                  <a:pt x="2205" y="17511"/>
                  <a:pt x="2728" y="20027"/>
                  <a:pt x="3127" y="20761"/>
                </a:cubicBezTo>
                <a:cubicBezTo>
                  <a:pt x="3612" y="21495"/>
                  <a:pt x="4161" y="21600"/>
                  <a:pt x="4659" y="21181"/>
                </a:cubicBezTo>
                <a:cubicBezTo>
                  <a:pt x="5207" y="20604"/>
                  <a:pt x="5705" y="19241"/>
                  <a:pt x="6154" y="17825"/>
                </a:cubicBezTo>
                <a:cubicBezTo>
                  <a:pt x="6577" y="16515"/>
                  <a:pt x="6826" y="14050"/>
                  <a:pt x="7287" y="13159"/>
                </a:cubicBezTo>
                <a:cubicBezTo>
                  <a:pt x="7636" y="12635"/>
                  <a:pt x="8022" y="12950"/>
                  <a:pt x="8396" y="12950"/>
                </a:cubicBezTo>
                <a:cubicBezTo>
                  <a:pt x="8794" y="12950"/>
                  <a:pt x="9218" y="13526"/>
                  <a:pt x="9629" y="13526"/>
                </a:cubicBezTo>
                <a:cubicBezTo>
                  <a:pt x="10003" y="13526"/>
                  <a:pt x="10414" y="13317"/>
                  <a:pt x="10788" y="12635"/>
                </a:cubicBezTo>
                <a:cubicBezTo>
                  <a:pt x="11398" y="11534"/>
                  <a:pt x="11660" y="10538"/>
                  <a:pt x="12245" y="9175"/>
                </a:cubicBezTo>
                <a:cubicBezTo>
                  <a:pt x="12531" y="8546"/>
                  <a:pt x="13354" y="5767"/>
                  <a:pt x="13354" y="5767"/>
                </a:cubicBezTo>
                <a:cubicBezTo>
                  <a:pt x="13354" y="5767"/>
                  <a:pt x="14450" y="7864"/>
                  <a:pt x="15048" y="8388"/>
                </a:cubicBezTo>
                <a:cubicBezTo>
                  <a:pt x="15745" y="9070"/>
                  <a:pt x="16505" y="9647"/>
                  <a:pt x="17240" y="9542"/>
                </a:cubicBezTo>
                <a:cubicBezTo>
                  <a:pt x="18000" y="9437"/>
                  <a:pt x="18785" y="8650"/>
                  <a:pt x="19482" y="7392"/>
                </a:cubicBezTo>
                <a:cubicBezTo>
                  <a:pt x="20080" y="6344"/>
                  <a:pt x="20616" y="4561"/>
                  <a:pt x="21139" y="2779"/>
                </a:cubicBezTo>
                <a:cubicBezTo>
                  <a:pt x="21239" y="2359"/>
                  <a:pt x="21351" y="1783"/>
                  <a:pt x="21451" y="1206"/>
                </a:cubicBezTo>
                <a:cubicBezTo>
                  <a:pt x="21500" y="891"/>
                  <a:pt x="21563" y="4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79520" y="2522520"/>
            <a:ext cx="15264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87" y="20992"/>
                  <a:pt x="4447" y="20383"/>
                  <a:pt x="6099" y="18862"/>
                </a:cubicBezTo>
                <a:cubicBezTo>
                  <a:pt x="10165" y="16428"/>
                  <a:pt x="17915" y="486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2160" y="2247840"/>
            <a:ext cx="1131840" cy="33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805"/>
                </a:moveTo>
                <a:cubicBezTo>
                  <a:pt x="344" y="18973"/>
                  <a:pt x="636" y="20141"/>
                  <a:pt x="1065" y="20608"/>
                </a:cubicBezTo>
                <a:cubicBezTo>
                  <a:pt x="1907" y="21600"/>
                  <a:pt x="2870" y="20724"/>
                  <a:pt x="3763" y="19849"/>
                </a:cubicBezTo>
                <a:cubicBezTo>
                  <a:pt x="4107" y="19498"/>
                  <a:pt x="4726" y="17805"/>
                  <a:pt x="4726" y="17805"/>
                </a:cubicBezTo>
                <a:cubicBezTo>
                  <a:pt x="4726" y="17805"/>
                  <a:pt x="5379" y="19615"/>
                  <a:pt x="5791" y="19732"/>
                </a:cubicBezTo>
                <a:cubicBezTo>
                  <a:pt x="6684" y="19965"/>
                  <a:pt x="7647" y="18389"/>
                  <a:pt x="8420" y="16930"/>
                </a:cubicBezTo>
                <a:cubicBezTo>
                  <a:pt x="8832" y="16171"/>
                  <a:pt x="9228" y="15062"/>
                  <a:pt x="9589" y="13952"/>
                </a:cubicBezTo>
                <a:cubicBezTo>
                  <a:pt x="9881" y="13194"/>
                  <a:pt x="10362" y="11209"/>
                  <a:pt x="10362" y="11209"/>
                </a:cubicBezTo>
                <a:cubicBezTo>
                  <a:pt x="10362" y="11209"/>
                  <a:pt x="11118" y="12493"/>
                  <a:pt x="11547" y="12610"/>
                </a:cubicBezTo>
                <a:cubicBezTo>
                  <a:pt x="12252" y="12843"/>
                  <a:pt x="12974" y="12610"/>
                  <a:pt x="13610" y="11734"/>
                </a:cubicBezTo>
                <a:cubicBezTo>
                  <a:pt x="14314" y="10858"/>
                  <a:pt x="14881" y="8757"/>
                  <a:pt x="15551" y="7064"/>
                </a:cubicBezTo>
                <a:cubicBezTo>
                  <a:pt x="15758" y="6480"/>
                  <a:pt x="16273" y="4904"/>
                  <a:pt x="16273" y="4904"/>
                </a:cubicBezTo>
                <a:cubicBezTo>
                  <a:pt x="16273" y="4904"/>
                  <a:pt x="17253" y="6947"/>
                  <a:pt x="17802" y="7064"/>
                </a:cubicBezTo>
                <a:cubicBezTo>
                  <a:pt x="18593" y="7181"/>
                  <a:pt x="19435" y="6071"/>
                  <a:pt x="20157" y="4612"/>
                </a:cubicBezTo>
                <a:cubicBezTo>
                  <a:pt x="20586" y="3619"/>
                  <a:pt x="21291" y="1343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62200" y="2030400"/>
            <a:ext cx="91764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352"/>
                </a:moveTo>
                <a:cubicBezTo>
                  <a:pt x="297" y="19833"/>
                  <a:pt x="594" y="20396"/>
                  <a:pt x="911" y="20717"/>
                </a:cubicBezTo>
                <a:cubicBezTo>
                  <a:pt x="1653" y="21359"/>
                  <a:pt x="2480" y="21600"/>
                  <a:pt x="3286" y="21600"/>
                </a:cubicBezTo>
                <a:cubicBezTo>
                  <a:pt x="4091" y="21359"/>
                  <a:pt x="4939" y="20556"/>
                  <a:pt x="5787" y="19753"/>
                </a:cubicBezTo>
                <a:cubicBezTo>
                  <a:pt x="7970" y="17505"/>
                  <a:pt x="10175" y="14614"/>
                  <a:pt x="12273" y="11242"/>
                </a:cubicBezTo>
                <a:cubicBezTo>
                  <a:pt x="12655" y="10680"/>
                  <a:pt x="13036" y="9716"/>
                  <a:pt x="13439" y="10037"/>
                </a:cubicBezTo>
                <a:cubicBezTo>
                  <a:pt x="14160" y="10519"/>
                  <a:pt x="14563" y="13891"/>
                  <a:pt x="15262" y="14614"/>
                </a:cubicBezTo>
                <a:cubicBezTo>
                  <a:pt x="16301" y="15417"/>
                  <a:pt x="17488" y="14454"/>
                  <a:pt x="18442" y="12687"/>
                </a:cubicBezTo>
                <a:cubicBezTo>
                  <a:pt x="19120" y="11563"/>
                  <a:pt x="19671" y="10037"/>
                  <a:pt x="20265" y="7789"/>
                </a:cubicBezTo>
                <a:cubicBezTo>
                  <a:pt x="20731" y="5942"/>
                  <a:pt x="21197" y="305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79840" y="1890720"/>
            <a:ext cx="52704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30"/>
                </a:moveTo>
                <a:cubicBezTo>
                  <a:pt x="1656" y="20751"/>
                  <a:pt x="3349" y="21600"/>
                  <a:pt x="5115" y="20993"/>
                </a:cubicBezTo>
                <a:cubicBezTo>
                  <a:pt x="6624" y="20508"/>
                  <a:pt x="8905" y="18688"/>
                  <a:pt x="10892" y="14804"/>
                </a:cubicBezTo>
                <a:cubicBezTo>
                  <a:pt x="11886" y="12742"/>
                  <a:pt x="12585" y="8009"/>
                  <a:pt x="13836" y="6674"/>
                </a:cubicBezTo>
                <a:cubicBezTo>
                  <a:pt x="14682" y="5582"/>
                  <a:pt x="15786" y="8252"/>
                  <a:pt x="16780" y="8009"/>
                </a:cubicBezTo>
                <a:cubicBezTo>
                  <a:pt x="18104" y="7402"/>
                  <a:pt x="19503" y="5825"/>
                  <a:pt x="20680" y="3398"/>
                </a:cubicBezTo>
                <a:cubicBezTo>
                  <a:pt x="21048" y="2548"/>
                  <a:pt x="21306" y="133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05440" y="1852560"/>
            <a:ext cx="2746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1"/>
                </a:moveTo>
                <a:cubicBezTo>
                  <a:pt x="1066" y="15247"/>
                  <a:pt x="2132" y="17471"/>
                  <a:pt x="3197" y="18741"/>
                </a:cubicBezTo>
                <a:cubicBezTo>
                  <a:pt x="4832" y="20647"/>
                  <a:pt x="6608" y="20012"/>
                  <a:pt x="8455" y="20647"/>
                </a:cubicBezTo>
                <a:cubicBezTo>
                  <a:pt x="10516" y="21600"/>
                  <a:pt x="12789" y="21600"/>
                  <a:pt x="14921" y="20012"/>
                </a:cubicBezTo>
                <a:cubicBezTo>
                  <a:pt x="17124" y="17788"/>
                  <a:pt x="19966" y="17471"/>
                  <a:pt x="21174" y="8576"/>
                </a:cubicBezTo>
                <a:cubicBezTo>
                  <a:pt x="21600" y="6035"/>
                  <a:pt x="21458" y="3494"/>
                  <a:pt x="21458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76880" y="1760400"/>
            <a:ext cx="25884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279" y="20965"/>
                  <a:pt x="2559" y="20753"/>
                  <a:pt x="3838" y="20329"/>
                </a:cubicBezTo>
                <a:cubicBezTo>
                  <a:pt x="5870" y="19271"/>
                  <a:pt x="8128" y="18847"/>
                  <a:pt x="10160" y="17153"/>
                </a:cubicBezTo>
                <a:cubicBezTo>
                  <a:pt x="12343" y="15247"/>
                  <a:pt x="14525" y="12071"/>
                  <a:pt x="16557" y="8894"/>
                </a:cubicBezTo>
                <a:cubicBezTo>
                  <a:pt x="17686" y="7200"/>
                  <a:pt x="18815" y="4871"/>
                  <a:pt x="19869" y="2753"/>
                </a:cubicBezTo>
                <a:cubicBezTo>
                  <a:pt x="20321" y="1694"/>
                  <a:pt x="21148" y="105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33920" y="1758960"/>
            <a:ext cx="58572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31" y="3019"/>
                  <a:pt x="863" y="5806"/>
                  <a:pt x="1261" y="8361"/>
                </a:cubicBezTo>
                <a:cubicBezTo>
                  <a:pt x="1958" y="12542"/>
                  <a:pt x="2820" y="15794"/>
                  <a:pt x="3716" y="17652"/>
                </a:cubicBezTo>
                <a:cubicBezTo>
                  <a:pt x="4446" y="19277"/>
                  <a:pt x="5110" y="20206"/>
                  <a:pt x="5840" y="20671"/>
                </a:cubicBezTo>
                <a:cubicBezTo>
                  <a:pt x="6669" y="21135"/>
                  <a:pt x="7565" y="21600"/>
                  <a:pt x="8428" y="21135"/>
                </a:cubicBezTo>
                <a:cubicBezTo>
                  <a:pt x="9523" y="20671"/>
                  <a:pt x="10651" y="19277"/>
                  <a:pt x="11812" y="18348"/>
                </a:cubicBezTo>
                <a:cubicBezTo>
                  <a:pt x="12210" y="17652"/>
                  <a:pt x="12708" y="17187"/>
                  <a:pt x="13206" y="15794"/>
                </a:cubicBezTo>
                <a:cubicBezTo>
                  <a:pt x="13471" y="14865"/>
                  <a:pt x="13770" y="13239"/>
                  <a:pt x="14035" y="12542"/>
                </a:cubicBezTo>
                <a:cubicBezTo>
                  <a:pt x="14400" y="11381"/>
                  <a:pt x="14898" y="7432"/>
                  <a:pt x="15229" y="9058"/>
                </a:cubicBezTo>
                <a:cubicBezTo>
                  <a:pt x="15561" y="10219"/>
                  <a:pt x="15163" y="16258"/>
                  <a:pt x="15561" y="18813"/>
                </a:cubicBezTo>
                <a:cubicBezTo>
                  <a:pt x="16059" y="21600"/>
                  <a:pt x="16888" y="21135"/>
                  <a:pt x="17618" y="21135"/>
                </a:cubicBezTo>
                <a:cubicBezTo>
                  <a:pt x="18083" y="21135"/>
                  <a:pt x="18647" y="20206"/>
                  <a:pt x="19211" y="18813"/>
                </a:cubicBezTo>
                <a:cubicBezTo>
                  <a:pt x="19709" y="17187"/>
                  <a:pt x="20140" y="14865"/>
                  <a:pt x="20605" y="12774"/>
                </a:cubicBezTo>
                <a:cubicBezTo>
                  <a:pt x="20970" y="11845"/>
                  <a:pt x="21268" y="10916"/>
                  <a:pt x="21600" y="975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11560" y="5473800"/>
            <a:ext cx="852840" cy="28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701"/>
                </a:moveTo>
                <a:cubicBezTo>
                  <a:pt x="21075" y="6258"/>
                  <a:pt x="20482" y="8815"/>
                  <a:pt x="19684" y="10363"/>
                </a:cubicBezTo>
                <a:cubicBezTo>
                  <a:pt x="18795" y="12045"/>
                  <a:pt x="17608" y="11978"/>
                  <a:pt x="16582" y="12987"/>
                </a:cubicBezTo>
                <a:cubicBezTo>
                  <a:pt x="15533" y="14064"/>
                  <a:pt x="14370" y="14804"/>
                  <a:pt x="13457" y="16755"/>
                </a:cubicBezTo>
                <a:cubicBezTo>
                  <a:pt x="12773" y="18168"/>
                  <a:pt x="12157" y="19918"/>
                  <a:pt x="11564" y="21600"/>
                </a:cubicBezTo>
                <a:cubicBezTo>
                  <a:pt x="11154" y="21600"/>
                  <a:pt x="10652" y="21600"/>
                  <a:pt x="10264" y="21600"/>
                </a:cubicBezTo>
                <a:cubicBezTo>
                  <a:pt x="9534" y="21600"/>
                  <a:pt x="8827" y="21600"/>
                  <a:pt x="8097" y="21465"/>
                </a:cubicBezTo>
                <a:cubicBezTo>
                  <a:pt x="7527" y="21331"/>
                  <a:pt x="6888" y="21062"/>
                  <a:pt x="6318" y="20793"/>
                </a:cubicBezTo>
                <a:cubicBezTo>
                  <a:pt x="5360" y="20187"/>
                  <a:pt x="4448" y="19447"/>
                  <a:pt x="3581" y="18303"/>
                </a:cubicBezTo>
                <a:cubicBezTo>
                  <a:pt x="2577" y="17092"/>
                  <a:pt x="1460" y="15611"/>
                  <a:pt x="776" y="13189"/>
                </a:cubicBezTo>
                <a:cubicBezTo>
                  <a:pt x="388" y="11843"/>
                  <a:pt x="114" y="9959"/>
                  <a:pt x="46" y="8075"/>
                </a:cubicBezTo>
                <a:cubicBezTo>
                  <a:pt x="0" y="6662"/>
                  <a:pt x="205" y="4845"/>
                  <a:pt x="502" y="3701"/>
                </a:cubicBezTo>
                <a:cubicBezTo>
                  <a:pt x="912" y="2086"/>
                  <a:pt x="2235" y="404"/>
                  <a:pt x="2235" y="404"/>
                </a:cubicBezTo>
                <a:cubicBezTo>
                  <a:pt x="2235" y="404"/>
                  <a:pt x="2897" y="1548"/>
                  <a:pt x="3193" y="1951"/>
                </a:cubicBezTo>
                <a:cubicBezTo>
                  <a:pt x="3969" y="2961"/>
                  <a:pt x="4767" y="3836"/>
                  <a:pt x="5543" y="4576"/>
                </a:cubicBezTo>
                <a:cubicBezTo>
                  <a:pt x="7230" y="5989"/>
                  <a:pt x="9032" y="6998"/>
                  <a:pt x="10697" y="7536"/>
                </a:cubicBezTo>
                <a:cubicBezTo>
                  <a:pt x="12157" y="8007"/>
                  <a:pt x="13640" y="7806"/>
                  <a:pt x="15031" y="6998"/>
                </a:cubicBezTo>
                <a:cubicBezTo>
                  <a:pt x="16650" y="5989"/>
                  <a:pt x="17837" y="5518"/>
                  <a:pt x="18909" y="4105"/>
                </a:cubicBezTo>
                <a:cubicBezTo>
                  <a:pt x="19570" y="3095"/>
                  <a:pt x="20756" y="0"/>
                  <a:pt x="20756" y="0"/>
                </a:cubicBezTo>
                <a:cubicBezTo>
                  <a:pt x="20756" y="0"/>
                  <a:pt x="21440" y="2422"/>
                  <a:pt x="21600" y="37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65880" y="5522760"/>
            <a:ext cx="411120" cy="24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39"/>
                </a:moveTo>
                <a:cubicBezTo>
                  <a:pt x="898" y="21439"/>
                  <a:pt x="1938" y="21600"/>
                  <a:pt x="2741" y="21600"/>
                </a:cubicBezTo>
                <a:cubicBezTo>
                  <a:pt x="4018" y="21600"/>
                  <a:pt x="4916" y="21278"/>
                  <a:pt x="6333" y="21116"/>
                </a:cubicBezTo>
                <a:cubicBezTo>
                  <a:pt x="7421" y="20875"/>
                  <a:pt x="8602" y="20633"/>
                  <a:pt x="9689" y="20472"/>
                </a:cubicBezTo>
                <a:cubicBezTo>
                  <a:pt x="10635" y="20230"/>
                  <a:pt x="11580" y="19907"/>
                  <a:pt x="12478" y="19585"/>
                </a:cubicBezTo>
                <a:cubicBezTo>
                  <a:pt x="13187" y="19263"/>
                  <a:pt x="13990" y="18860"/>
                  <a:pt x="14699" y="18457"/>
                </a:cubicBezTo>
                <a:cubicBezTo>
                  <a:pt x="15975" y="17490"/>
                  <a:pt x="17393" y="16522"/>
                  <a:pt x="18386" y="15152"/>
                </a:cubicBezTo>
                <a:cubicBezTo>
                  <a:pt x="19473" y="13621"/>
                  <a:pt x="20655" y="11767"/>
                  <a:pt x="21269" y="9349"/>
                </a:cubicBezTo>
                <a:cubicBezTo>
                  <a:pt x="21600" y="8140"/>
                  <a:pt x="21600" y="6448"/>
                  <a:pt x="21600" y="4916"/>
                </a:cubicBezTo>
                <a:cubicBezTo>
                  <a:pt x="21600" y="3224"/>
                  <a:pt x="21269" y="1531"/>
                  <a:pt x="20891" y="0"/>
                </a:cubicBezTo>
                <a:cubicBezTo>
                  <a:pt x="19804" y="3063"/>
                  <a:pt x="18575" y="6125"/>
                  <a:pt x="16921" y="7979"/>
                </a:cubicBezTo>
                <a:cubicBezTo>
                  <a:pt x="15077" y="9994"/>
                  <a:pt x="12620" y="9913"/>
                  <a:pt x="10493" y="11122"/>
                </a:cubicBezTo>
                <a:cubicBezTo>
                  <a:pt x="8319" y="12412"/>
                  <a:pt x="5908" y="13299"/>
                  <a:pt x="4018" y="15636"/>
                </a:cubicBezTo>
                <a:cubicBezTo>
                  <a:pt x="2600" y="17328"/>
                  <a:pt x="1229" y="19424"/>
                  <a:pt x="0" y="21439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11560" y="5473800"/>
            <a:ext cx="86544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31" y="7490"/>
                </a:moveTo>
                <a:cubicBezTo>
                  <a:pt x="8891" y="6955"/>
                  <a:pt x="7118" y="5952"/>
                  <a:pt x="5456" y="4547"/>
                </a:cubicBezTo>
                <a:cubicBezTo>
                  <a:pt x="4693" y="3812"/>
                  <a:pt x="3907" y="2942"/>
                  <a:pt x="3143" y="1939"/>
                </a:cubicBezTo>
                <a:cubicBezTo>
                  <a:pt x="2852" y="1538"/>
                  <a:pt x="2200" y="401"/>
                  <a:pt x="2200" y="401"/>
                </a:cubicBezTo>
                <a:cubicBezTo>
                  <a:pt x="2200" y="401"/>
                  <a:pt x="898" y="2073"/>
                  <a:pt x="494" y="3678"/>
                </a:cubicBezTo>
                <a:cubicBezTo>
                  <a:pt x="202" y="4815"/>
                  <a:pt x="0" y="6620"/>
                  <a:pt x="45" y="8025"/>
                </a:cubicBezTo>
                <a:cubicBezTo>
                  <a:pt x="112" y="9897"/>
                  <a:pt x="382" y="11770"/>
                  <a:pt x="763" y="13107"/>
                </a:cubicBezTo>
                <a:cubicBezTo>
                  <a:pt x="1437" y="15515"/>
                  <a:pt x="2537" y="16986"/>
                  <a:pt x="3525" y="18189"/>
                </a:cubicBezTo>
                <a:cubicBezTo>
                  <a:pt x="4378" y="19326"/>
                  <a:pt x="5277" y="20062"/>
                  <a:pt x="6220" y="20664"/>
                </a:cubicBezTo>
                <a:cubicBezTo>
                  <a:pt x="6781" y="20931"/>
                  <a:pt x="7410" y="21199"/>
                  <a:pt x="7971" y="21333"/>
                </a:cubicBezTo>
                <a:cubicBezTo>
                  <a:pt x="8689" y="21466"/>
                  <a:pt x="9385" y="21466"/>
                  <a:pt x="10104" y="21466"/>
                </a:cubicBezTo>
                <a:cubicBezTo>
                  <a:pt x="10867" y="21466"/>
                  <a:pt x="11878" y="21600"/>
                  <a:pt x="12641" y="21600"/>
                </a:cubicBezTo>
                <a:cubicBezTo>
                  <a:pt x="13247" y="21600"/>
                  <a:pt x="13674" y="21333"/>
                  <a:pt x="14348" y="21199"/>
                </a:cubicBezTo>
                <a:cubicBezTo>
                  <a:pt x="14864" y="20998"/>
                  <a:pt x="15425" y="20798"/>
                  <a:pt x="15942" y="20664"/>
                </a:cubicBezTo>
                <a:cubicBezTo>
                  <a:pt x="16391" y="20463"/>
                  <a:pt x="16840" y="20196"/>
                  <a:pt x="17267" y="19928"/>
                </a:cubicBezTo>
                <a:cubicBezTo>
                  <a:pt x="17603" y="19661"/>
                  <a:pt x="17985" y="19326"/>
                  <a:pt x="18322" y="18992"/>
                </a:cubicBezTo>
                <a:cubicBezTo>
                  <a:pt x="18928" y="18189"/>
                  <a:pt x="19602" y="17387"/>
                  <a:pt x="20073" y="16250"/>
                </a:cubicBezTo>
                <a:cubicBezTo>
                  <a:pt x="20590" y="14980"/>
                  <a:pt x="21151" y="13441"/>
                  <a:pt x="21443" y="11435"/>
                </a:cubicBezTo>
                <a:cubicBezTo>
                  <a:pt x="21600" y="10432"/>
                  <a:pt x="21600" y="9028"/>
                  <a:pt x="21600" y="7757"/>
                </a:cubicBezTo>
                <a:cubicBezTo>
                  <a:pt x="21600" y="6353"/>
                  <a:pt x="21443" y="4949"/>
                  <a:pt x="21263" y="3678"/>
                </a:cubicBezTo>
                <a:cubicBezTo>
                  <a:pt x="21106" y="2407"/>
                  <a:pt x="20432" y="0"/>
                  <a:pt x="20432" y="0"/>
                </a:cubicBezTo>
                <a:cubicBezTo>
                  <a:pt x="20432" y="0"/>
                  <a:pt x="19265" y="3076"/>
                  <a:pt x="18614" y="4079"/>
                </a:cubicBezTo>
                <a:cubicBezTo>
                  <a:pt x="17558" y="5484"/>
                  <a:pt x="16391" y="5952"/>
                  <a:pt x="14797" y="6955"/>
                </a:cubicBezTo>
                <a:cubicBezTo>
                  <a:pt x="13427" y="7757"/>
                  <a:pt x="11968" y="7958"/>
                  <a:pt x="10531" y="749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57640" y="5373720"/>
            <a:ext cx="75564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648" y="13836"/>
                </a:moveTo>
                <a:cubicBezTo>
                  <a:pt x="20470" y="11530"/>
                  <a:pt x="21061" y="8609"/>
                  <a:pt x="21600" y="5688"/>
                </a:cubicBezTo>
                <a:cubicBezTo>
                  <a:pt x="21497" y="5150"/>
                  <a:pt x="21369" y="4689"/>
                  <a:pt x="21292" y="4228"/>
                </a:cubicBezTo>
                <a:cubicBezTo>
                  <a:pt x="20984" y="5688"/>
                  <a:pt x="21163" y="5688"/>
                  <a:pt x="20778" y="6995"/>
                </a:cubicBezTo>
                <a:cubicBezTo>
                  <a:pt x="20470" y="8148"/>
                  <a:pt x="19854" y="9685"/>
                  <a:pt x="19211" y="10838"/>
                </a:cubicBezTo>
                <a:cubicBezTo>
                  <a:pt x="18595" y="11915"/>
                  <a:pt x="17902" y="12683"/>
                  <a:pt x="17311" y="13144"/>
                </a:cubicBezTo>
                <a:cubicBezTo>
                  <a:pt x="16694" y="13606"/>
                  <a:pt x="16001" y="14144"/>
                  <a:pt x="15410" y="14451"/>
                </a:cubicBezTo>
                <a:cubicBezTo>
                  <a:pt x="14665" y="14759"/>
                  <a:pt x="13946" y="14912"/>
                  <a:pt x="13227" y="15143"/>
                </a:cubicBezTo>
                <a:cubicBezTo>
                  <a:pt x="12380" y="15297"/>
                  <a:pt x="11455" y="15297"/>
                  <a:pt x="10582" y="14912"/>
                </a:cubicBezTo>
                <a:cubicBezTo>
                  <a:pt x="9863" y="14759"/>
                  <a:pt x="9169" y="14451"/>
                  <a:pt x="8476" y="13990"/>
                </a:cubicBezTo>
                <a:cubicBezTo>
                  <a:pt x="7602" y="13298"/>
                  <a:pt x="6729" y="12530"/>
                  <a:pt x="5882" y="11530"/>
                </a:cubicBezTo>
                <a:cubicBezTo>
                  <a:pt x="4931" y="10377"/>
                  <a:pt x="4058" y="9455"/>
                  <a:pt x="3313" y="7764"/>
                </a:cubicBezTo>
                <a:cubicBezTo>
                  <a:pt x="2543" y="6226"/>
                  <a:pt x="1798" y="4228"/>
                  <a:pt x="1413" y="1768"/>
                </a:cubicBezTo>
                <a:cubicBezTo>
                  <a:pt x="1284" y="1307"/>
                  <a:pt x="1259" y="615"/>
                  <a:pt x="1207" y="0"/>
                </a:cubicBezTo>
                <a:cubicBezTo>
                  <a:pt x="1207" y="0"/>
                  <a:pt x="976" y="769"/>
                  <a:pt x="976" y="769"/>
                </a:cubicBezTo>
                <a:cubicBezTo>
                  <a:pt x="822" y="1460"/>
                  <a:pt x="591" y="2306"/>
                  <a:pt x="437" y="2921"/>
                </a:cubicBezTo>
                <a:cubicBezTo>
                  <a:pt x="334" y="3613"/>
                  <a:pt x="154" y="4381"/>
                  <a:pt x="103" y="5073"/>
                </a:cubicBezTo>
                <a:cubicBezTo>
                  <a:pt x="0" y="6457"/>
                  <a:pt x="0" y="7994"/>
                  <a:pt x="103" y="9301"/>
                </a:cubicBezTo>
                <a:cubicBezTo>
                  <a:pt x="205" y="10377"/>
                  <a:pt x="539" y="11377"/>
                  <a:pt x="822" y="11991"/>
                </a:cubicBezTo>
                <a:cubicBezTo>
                  <a:pt x="1027" y="12530"/>
                  <a:pt x="1259" y="12991"/>
                  <a:pt x="1413" y="13298"/>
                </a:cubicBezTo>
                <a:cubicBezTo>
                  <a:pt x="2337" y="14759"/>
                  <a:pt x="3365" y="15527"/>
                  <a:pt x="4341" y="16680"/>
                </a:cubicBezTo>
                <a:cubicBezTo>
                  <a:pt x="5368" y="17833"/>
                  <a:pt x="6447" y="19294"/>
                  <a:pt x="7551" y="19986"/>
                </a:cubicBezTo>
                <a:cubicBezTo>
                  <a:pt x="9169" y="20985"/>
                  <a:pt x="10813" y="21600"/>
                  <a:pt x="12380" y="21600"/>
                </a:cubicBezTo>
                <a:cubicBezTo>
                  <a:pt x="12585" y="21600"/>
                  <a:pt x="12816" y="21600"/>
                  <a:pt x="13022" y="21600"/>
                </a:cubicBezTo>
                <a:cubicBezTo>
                  <a:pt x="13587" y="20293"/>
                  <a:pt x="14152" y="18986"/>
                  <a:pt x="14742" y="18372"/>
                </a:cubicBezTo>
                <a:cubicBezTo>
                  <a:pt x="15307" y="17757"/>
                  <a:pt x="15950" y="18372"/>
                  <a:pt x="16566" y="17833"/>
                </a:cubicBezTo>
                <a:cubicBezTo>
                  <a:pt x="17645" y="16834"/>
                  <a:pt x="18775" y="16065"/>
                  <a:pt x="19648" y="1383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3400" y="5440320"/>
            <a:ext cx="32076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08" y="0"/>
                </a:moveTo>
                <a:cubicBezTo>
                  <a:pt x="20450" y="730"/>
                  <a:pt x="20692" y="1357"/>
                  <a:pt x="20813" y="1983"/>
                </a:cubicBezTo>
                <a:cubicBezTo>
                  <a:pt x="21116" y="3757"/>
                  <a:pt x="21600" y="5948"/>
                  <a:pt x="21116" y="7722"/>
                </a:cubicBezTo>
                <a:cubicBezTo>
                  <a:pt x="20208" y="11270"/>
                  <a:pt x="18575" y="13252"/>
                  <a:pt x="16215" y="14922"/>
                </a:cubicBezTo>
                <a:cubicBezTo>
                  <a:pt x="13674" y="17009"/>
                  <a:pt x="10467" y="18991"/>
                  <a:pt x="7684" y="19826"/>
                </a:cubicBezTo>
                <a:cubicBezTo>
                  <a:pt x="5082" y="20765"/>
                  <a:pt x="2541" y="21078"/>
                  <a:pt x="0" y="21600"/>
                </a:cubicBezTo>
                <a:cubicBezTo>
                  <a:pt x="1331" y="19826"/>
                  <a:pt x="2662" y="18052"/>
                  <a:pt x="4054" y="17217"/>
                </a:cubicBezTo>
                <a:cubicBezTo>
                  <a:pt x="5385" y="16383"/>
                  <a:pt x="6897" y="17217"/>
                  <a:pt x="8350" y="16487"/>
                </a:cubicBezTo>
                <a:cubicBezTo>
                  <a:pt x="10891" y="15130"/>
                  <a:pt x="13553" y="14087"/>
                  <a:pt x="15610" y="11061"/>
                </a:cubicBezTo>
                <a:cubicBezTo>
                  <a:pt x="17546" y="7930"/>
                  <a:pt x="18938" y="3965"/>
                  <a:pt x="20208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57640" y="5349960"/>
            <a:ext cx="77652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5" y="0"/>
                </a:moveTo>
                <a:cubicBezTo>
                  <a:pt x="1975" y="0"/>
                  <a:pt x="2525" y="2329"/>
                  <a:pt x="2850" y="3247"/>
                </a:cubicBezTo>
                <a:cubicBezTo>
                  <a:pt x="3750" y="5929"/>
                  <a:pt x="4750" y="8541"/>
                  <a:pt x="5925" y="9953"/>
                </a:cubicBezTo>
                <a:cubicBezTo>
                  <a:pt x="7700" y="12212"/>
                  <a:pt x="9875" y="12494"/>
                  <a:pt x="11875" y="12776"/>
                </a:cubicBezTo>
                <a:cubicBezTo>
                  <a:pt x="12875" y="12918"/>
                  <a:pt x="13950" y="12918"/>
                  <a:pt x="15000" y="12353"/>
                </a:cubicBezTo>
                <a:cubicBezTo>
                  <a:pt x="16425" y="11647"/>
                  <a:pt x="18025" y="10659"/>
                  <a:pt x="19225" y="8047"/>
                </a:cubicBezTo>
                <a:cubicBezTo>
                  <a:pt x="19650" y="6988"/>
                  <a:pt x="20175" y="4024"/>
                  <a:pt x="20175" y="4024"/>
                </a:cubicBezTo>
                <a:cubicBezTo>
                  <a:pt x="20175" y="4024"/>
                  <a:pt x="21075" y="6494"/>
                  <a:pt x="21275" y="8329"/>
                </a:cubicBezTo>
                <a:cubicBezTo>
                  <a:pt x="21400" y="9529"/>
                  <a:pt x="21600" y="11012"/>
                  <a:pt x="21400" y="12212"/>
                </a:cubicBezTo>
                <a:cubicBezTo>
                  <a:pt x="21025" y="14612"/>
                  <a:pt x="20350" y="15953"/>
                  <a:pt x="19375" y="17082"/>
                </a:cubicBezTo>
                <a:cubicBezTo>
                  <a:pt x="18325" y="18494"/>
                  <a:pt x="17000" y="19835"/>
                  <a:pt x="15850" y="20400"/>
                </a:cubicBezTo>
                <a:cubicBezTo>
                  <a:pt x="14575" y="21176"/>
                  <a:pt x="13300" y="21600"/>
                  <a:pt x="12050" y="21600"/>
                </a:cubicBezTo>
                <a:cubicBezTo>
                  <a:pt x="10525" y="21600"/>
                  <a:pt x="8925" y="21035"/>
                  <a:pt x="7350" y="20118"/>
                </a:cubicBezTo>
                <a:cubicBezTo>
                  <a:pt x="6275" y="19482"/>
                  <a:pt x="5225" y="18141"/>
                  <a:pt x="4225" y="17082"/>
                </a:cubicBezTo>
                <a:cubicBezTo>
                  <a:pt x="3275" y="16024"/>
                  <a:pt x="2275" y="15318"/>
                  <a:pt x="1375" y="13976"/>
                </a:cubicBezTo>
                <a:cubicBezTo>
                  <a:pt x="1225" y="13694"/>
                  <a:pt x="1000" y="13271"/>
                  <a:pt x="800" y="12776"/>
                </a:cubicBezTo>
                <a:cubicBezTo>
                  <a:pt x="525" y="12212"/>
                  <a:pt x="200" y="11294"/>
                  <a:pt x="100" y="10306"/>
                </a:cubicBezTo>
                <a:cubicBezTo>
                  <a:pt x="0" y="9106"/>
                  <a:pt x="0" y="7694"/>
                  <a:pt x="100" y="6424"/>
                </a:cubicBezTo>
                <a:cubicBezTo>
                  <a:pt x="150" y="5788"/>
                  <a:pt x="325" y="5082"/>
                  <a:pt x="425" y="4447"/>
                </a:cubicBezTo>
                <a:cubicBezTo>
                  <a:pt x="575" y="3882"/>
                  <a:pt x="800" y="3106"/>
                  <a:pt x="950" y="2471"/>
                </a:cubicBezTo>
                <a:cubicBezTo>
                  <a:pt x="1225" y="1624"/>
                  <a:pt x="1975" y="0"/>
                  <a:pt x="1975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84640" y="5067360"/>
            <a:ext cx="72576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0" y="2004"/>
                </a:moveTo>
                <a:cubicBezTo>
                  <a:pt x="1392" y="1322"/>
                  <a:pt x="401" y="0"/>
                  <a:pt x="401" y="0"/>
                </a:cubicBezTo>
                <a:cubicBezTo>
                  <a:pt x="401" y="0"/>
                  <a:pt x="107" y="4248"/>
                  <a:pt x="107" y="6332"/>
                </a:cubicBezTo>
                <a:cubicBezTo>
                  <a:pt x="107" y="7895"/>
                  <a:pt x="0" y="9498"/>
                  <a:pt x="107" y="11101"/>
                </a:cubicBezTo>
                <a:cubicBezTo>
                  <a:pt x="214" y="12183"/>
                  <a:pt x="321" y="13465"/>
                  <a:pt x="669" y="14547"/>
                </a:cubicBezTo>
                <a:cubicBezTo>
                  <a:pt x="1071" y="15829"/>
                  <a:pt x="1847" y="16871"/>
                  <a:pt x="2650" y="17673"/>
                </a:cubicBezTo>
                <a:cubicBezTo>
                  <a:pt x="3426" y="18554"/>
                  <a:pt x="4336" y="19035"/>
                  <a:pt x="5326" y="19636"/>
                </a:cubicBezTo>
                <a:cubicBezTo>
                  <a:pt x="6210" y="20157"/>
                  <a:pt x="7120" y="20558"/>
                  <a:pt x="8030" y="20919"/>
                </a:cubicBezTo>
                <a:cubicBezTo>
                  <a:pt x="8752" y="21159"/>
                  <a:pt x="9475" y="21319"/>
                  <a:pt x="10225" y="21400"/>
                </a:cubicBezTo>
                <a:cubicBezTo>
                  <a:pt x="11135" y="21600"/>
                  <a:pt x="12098" y="21600"/>
                  <a:pt x="12981" y="21520"/>
                </a:cubicBezTo>
                <a:cubicBezTo>
                  <a:pt x="13731" y="21400"/>
                  <a:pt x="14480" y="21319"/>
                  <a:pt x="15257" y="21159"/>
                </a:cubicBezTo>
                <a:cubicBezTo>
                  <a:pt x="15872" y="20999"/>
                  <a:pt x="16595" y="20718"/>
                  <a:pt x="17237" y="20478"/>
                </a:cubicBezTo>
                <a:cubicBezTo>
                  <a:pt x="17853" y="20237"/>
                  <a:pt x="18575" y="19837"/>
                  <a:pt x="19218" y="19276"/>
                </a:cubicBezTo>
                <a:cubicBezTo>
                  <a:pt x="19887" y="18675"/>
                  <a:pt x="20529" y="17873"/>
                  <a:pt x="20851" y="17272"/>
                </a:cubicBezTo>
                <a:cubicBezTo>
                  <a:pt x="21252" y="16591"/>
                  <a:pt x="21145" y="16511"/>
                  <a:pt x="21413" y="15709"/>
                </a:cubicBezTo>
                <a:cubicBezTo>
                  <a:pt x="21466" y="15589"/>
                  <a:pt x="21520" y="12663"/>
                  <a:pt x="21520" y="11581"/>
                </a:cubicBezTo>
                <a:cubicBezTo>
                  <a:pt x="21520" y="10580"/>
                  <a:pt x="21520" y="8696"/>
                  <a:pt x="21520" y="7935"/>
                </a:cubicBezTo>
                <a:cubicBezTo>
                  <a:pt x="21520" y="7294"/>
                  <a:pt x="21520" y="4649"/>
                  <a:pt x="21600" y="3887"/>
                </a:cubicBezTo>
                <a:cubicBezTo>
                  <a:pt x="21600" y="3206"/>
                  <a:pt x="20610" y="3286"/>
                  <a:pt x="19833" y="4168"/>
                </a:cubicBezTo>
                <a:cubicBezTo>
                  <a:pt x="18763" y="5330"/>
                  <a:pt x="17639" y="6532"/>
                  <a:pt x="16381" y="7213"/>
                </a:cubicBezTo>
                <a:cubicBezTo>
                  <a:pt x="14534" y="8295"/>
                  <a:pt x="12446" y="9377"/>
                  <a:pt x="10332" y="9137"/>
                </a:cubicBezTo>
                <a:cubicBezTo>
                  <a:pt x="8190" y="8816"/>
                  <a:pt x="6210" y="6933"/>
                  <a:pt x="4416" y="5250"/>
                </a:cubicBezTo>
                <a:cubicBezTo>
                  <a:pt x="3506" y="4368"/>
                  <a:pt x="2757" y="3126"/>
                  <a:pt x="1900" y="20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19680" y="5162400"/>
            <a:ext cx="60480" cy="2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5" y="19807"/>
                </a:moveTo>
                <a:cubicBezTo>
                  <a:pt x="967" y="18177"/>
                  <a:pt x="967" y="15568"/>
                  <a:pt x="967" y="14020"/>
                </a:cubicBezTo>
                <a:cubicBezTo>
                  <a:pt x="645" y="10189"/>
                  <a:pt x="0" y="6195"/>
                  <a:pt x="0" y="2445"/>
                </a:cubicBezTo>
                <a:cubicBezTo>
                  <a:pt x="3224" y="1956"/>
                  <a:pt x="8060" y="2608"/>
                  <a:pt x="11928" y="1956"/>
                </a:cubicBezTo>
                <a:cubicBezTo>
                  <a:pt x="15475" y="1386"/>
                  <a:pt x="19021" y="897"/>
                  <a:pt x="20633" y="0"/>
                </a:cubicBezTo>
                <a:cubicBezTo>
                  <a:pt x="20633" y="2445"/>
                  <a:pt x="21600" y="4891"/>
                  <a:pt x="21600" y="7336"/>
                </a:cubicBezTo>
                <a:cubicBezTo>
                  <a:pt x="21600" y="10596"/>
                  <a:pt x="21600" y="16628"/>
                  <a:pt x="20633" y="17443"/>
                </a:cubicBezTo>
                <a:cubicBezTo>
                  <a:pt x="20310" y="18177"/>
                  <a:pt x="17409" y="20377"/>
                  <a:pt x="14185" y="21029"/>
                </a:cubicBezTo>
                <a:cubicBezTo>
                  <a:pt x="11284" y="21437"/>
                  <a:pt x="10639" y="21600"/>
                  <a:pt x="9349" y="21437"/>
                </a:cubicBezTo>
                <a:cubicBezTo>
                  <a:pt x="6448" y="21192"/>
                  <a:pt x="2579" y="21029"/>
                  <a:pt x="645" y="1980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41920" y="5189400"/>
            <a:ext cx="8892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" y="1543"/>
                </a:moveTo>
                <a:cubicBezTo>
                  <a:pt x="1309" y="4488"/>
                  <a:pt x="873" y="7925"/>
                  <a:pt x="873" y="11081"/>
                </a:cubicBezTo>
                <a:cubicBezTo>
                  <a:pt x="873" y="13675"/>
                  <a:pt x="0" y="16410"/>
                  <a:pt x="1309" y="18935"/>
                </a:cubicBezTo>
                <a:cubicBezTo>
                  <a:pt x="1745" y="19356"/>
                  <a:pt x="1745" y="20057"/>
                  <a:pt x="2182" y="20408"/>
                </a:cubicBezTo>
                <a:cubicBezTo>
                  <a:pt x="3927" y="21109"/>
                  <a:pt x="7200" y="21249"/>
                  <a:pt x="9600" y="21390"/>
                </a:cubicBezTo>
                <a:cubicBezTo>
                  <a:pt x="11345" y="21600"/>
                  <a:pt x="12873" y="21390"/>
                  <a:pt x="15055" y="21109"/>
                </a:cubicBezTo>
                <a:cubicBezTo>
                  <a:pt x="17455" y="20829"/>
                  <a:pt x="20727" y="19145"/>
                  <a:pt x="21164" y="18584"/>
                </a:cubicBezTo>
                <a:cubicBezTo>
                  <a:pt x="21600" y="18164"/>
                  <a:pt x="21600" y="13816"/>
                  <a:pt x="21600" y="11642"/>
                </a:cubicBezTo>
                <a:cubicBezTo>
                  <a:pt x="21164" y="7784"/>
                  <a:pt x="20727" y="3787"/>
                  <a:pt x="20727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37160" y="5208480"/>
            <a:ext cx="108000" cy="28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1" y="1635"/>
                </a:moveTo>
                <a:cubicBezTo>
                  <a:pt x="1271" y="4633"/>
                  <a:pt x="908" y="7904"/>
                  <a:pt x="908" y="11107"/>
                </a:cubicBezTo>
                <a:cubicBezTo>
                  <a:pt x="908" y="13696"/>
                  <a:pt x="0" y="16285"/>
                  <a:pt x="1271" y="18943"/>
                </a:cubicBezTo>
                <a:cubicBezTo>
                  <a:pt x="1634" y="19283"/>
                  <a:pt x="1634" y="20033"/>
                  <a:pt x="2360" y="20305"/>
                </a:cubicBezTo>
                <a:cubicBezTo>
                  <a:pt x="3993" y="20987"/>
                  <a:pt x="7261" y="21191"/>
                  <a:pt x="9802" y="21327"/>
                </a:cubicBezTo>
                <a:cubicBezTo>
                  <a:pt x="11617" y="21464"/>
                  <a:pt x="13976" y="21600"/>
                  <a:pt x="16155" y="21327"/>
                </a:cubicBezTo>
                <a:cubicBezTo>
                  <a:pt x="18151" y="20987"/>
                  <a:pt x="20511" y="20442"/>
                  <a:pt x="21055" y="19897"/>
                </a:cubicBezTo>
                <a:cubicBezTo>
                  <a:pt x="21600" y="19488"/>
                  <a:pt x="21600" y="13832"/>
                  <a:pt x="21600" y="11720"/>
                </a:cubicBezTo>
                <a:cubicBezTo>
                  <a:pt x="21055" y="7768"/>
                  <a:pt x="20874" y="3884"/>
                  <a:pt x="20511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86440" y="4791240"/>
            <a:ext cx="733320" cy="57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12" y="68"/>
                </a:moveTo>
                <a:cubicBezTo>
                  <a:pt x="6944" y="306"/>
                  <a:pt x="6255" y="781"/>
                  <a:pt x="5645" y="1325"/>
                </a:cubicBezTo>
                <a:cubicBezTo>
                  <a:pt x="5248" y="1732"/>
                  <a:pt x="5036" y="2309"/>
                  <a:pt x="4771" y="2717"/>
                </a:cubicBezTo>
                <a:cubicBezTo>
                  <a:pt x="4638" y="2921"/>
                  <a:pt x="4320" y="3328"/>
                  <a:pt x="4320" y="3328"/>
                </a:cubicBezTo>
                <a:cubicBezTo>
                  <a:pt x="4320" y="3328"/>
                  <a:pt x="4426" y="4008"/>
                  <a:pt x="4373" y="4313"/>
                </a:cubicBezTo>
                <a:cubicBezTo>
                  <a:pt x="4320" y="4653"/>
                  <a:pt x="4240" y="5094"/>
                  <a:pt x="4028" y="5366"/>
                </a:cubicBezTo>
                <a:cubicBezTo>
                  <a:pt x="3631" y="5875"/>
                  <a:pt x="2889" y="5672"/>
                  <a:pt x="2438" y="6011"/>
                </a:cubicBezTo>
                <a:cubicBezTo>
                  <a:pt x="2014" y="6385"/>
                  <a:pt x="1776" y="6996"/>
                  <a:pt x="1458" y="7506"/>
                </a:cubicBezTo>
                <a:cubicBezTo>
                  <a:pt x="1060" y="7947"/>
                  <a:pt x="265" y="8898"/>
                  <a:pt x="265" y="8898"/>
                </a:cubicBezTo>
                <a:cubicBezTo>
                  <a:pt x="265" y="8898"/>
                  <a:pt x="451" y="9679"/>
                  <a:pt x="451" y="10087"/>
                </a:cubicBezTo>
                <a:cubicBezTo>
                  <a:pt x="451" y="10528"/>
                  <a:pt x="0" y="10970"/>
                  <a:pt x="53" y="11411"/>
                </a:cubicBezTo>
                <a:cubicBezTo>
                  <a:pt x="106" y="11921"/>
                  <a:pt x="610" y="12192"/>
                  <a:pt x="848" y="12668"/>
                </a:cubicBezTo>
                <a:cubicBezTo>
                  <a:pt x="1060" y="13109"/>
                  <a:pt x="1166" y="13823"/>
                  <a:pt x="1378" y="14264"/>
                </a:cubicBezTo>
                <a:cubicBezTo>
                  <a:pt x="1723" y="14909"/>
                  <a:pt x="2359" y="15351"/>
                  <a:pt x="2809" y="15928"/>
                </a:cubicBezTo>
                <a:cubicBezTo>
                  <a:pt x="3074" y="16268"/>
                  <a:pt x="3339" y="16777"/>
                  <a:pt x="3737" y="17015"/>
                </a:cubicBezTo>
                <a:cubicBezTo>
                  <a:pt x="4081" y="17117"/>
                  <a:pt x="4453" y="17083"/>
                  <a:pt x="4850" y="17117"/>
                </a:cubicBezTo>
                <a:cubicBezTo>
                  <a:pt x="5142" y="17117"/>
                  <a:pt x="5592" y="17015"/>
                  <a:pt x="5884" y="17287"/>
                </a:cubicBezTo>
                <a:cubicBezTo>
                  <a:pt x="5990" y="17423"/>
                  <a:pt x="5884" y="17864"/>
                  <a:pt x="6016" y="18000"/>
                </a:cubicBezTo>
                <a:cubicBezTo>
                  <a:pt x="6255" y="18204"/>
                  <a:pt x="6785" y="17864"/>
                  <a:pt x="6944" y="18136"/>
                </a:cubicBezTo>
                <a:cubicBezTo>
                  <a:pt x="7103" y="18442"/>
                  <a:pt x="6811" y="18917"/>
                  <a:pt x="6944" y="19358"/>
                </a:cubicBezTo>
                <a:cubicBezTo>
                  <a:pt x="7103" y="20004"/>
                  <a:pt x="7712" y="20377"/>
                  <a:pt x="8110" y="20785"/>
                </a:cubicBezTo>
                <a:cubicBezTo>
                  <a:pt x="8401" y="21091"/>
                  <a:pt x="9515" y="21600"/>
                  <a:pt x="9515" y="21600"/>
                </a:cubicBezTo>
                <a:cubicBezTo>
                  <a:pt x="9515" y="21600"/>
                  <a:pt x="10919" y="20785"/>
                  <a:pt x="11237" y="20377"/>
                </a:cubicBezTo>
                <a:cubicBezTo>
                  <a:pt x="11582" y="20004"/>
                  <a:pt x="11741" y="19291"/>
                  <a:pt x="12191" y="19019"/>
                </a:cubicBezTo>
                <a:cubicBezTo>
                  <a:pt x="12801" y="18577"/>
                  <a:pt x="13543" y="18713"/>
                  <a:pt x="14285" y="18611"/>
                </a:cubicBezTo>
                <a:cubicBezTo>
                  <a:pt x="14736" y="18577"/>
                  <a:pt x="15610" y="18577"/>
                  <a:pt x="15610" y="18577"/>
                </a:cubicBezTo>
                <a:cubicBezTo>
                  <a:pt x="15610" y="18577"/>
                  <a:pt x="16246" y="17491"/>
                  <a:pt x="16697" y="17287"/>
                </a:cubicBezTo>
                <a:cubicBezTo>
                  <a:pt x="17147" y="17083"/>
                  <a:pt x="18340" y="17117"/>
                  <a:pt x="18340" y="17117"/>
                </a:cubicBezTo>
                <a:cubicBezTo>
                  <a:pt x="18340" y="17117"/>
                  <a:pt x="18791" y="16200"/>
                  <a:pt x="19135" y="15996"/>
                </a:cubicBezTo>
                <a:cubicBezTo>
                  <a:pt x="19427" y="15758"/>
                  <a:pt x="19930" y="15928"/>
                  <a:pt x="20275" y="15623"/>
                </a:cubicBezTo>
                <a:cubicBezTo>
                  <a:pt x="20725" y="15351"/>
                  <a:pt x="21123" y="14909"/>
                  <a:pt x="21255" y="14332"/>
                </a:cubicBezTo>
                <a:cubicBezTo>
                  <a:pt x="21600" y="13177"/>
                  <a:pt x="20937" y="11819"/>
                  <a:pt x="20884" y="10596"/>
                </a:cubicBezTo>
                <a:cubicBezTo>
                  <a:pt x="20884" y="10189"/>
                  <a:pt x="20990" y="9238"/>
                  <a:pt x="20990" y="9238"/>
                </a:cubicBezTo>
                <a:cubicBezTo>
                  <a:pt x="20990" y="9238"/>
                  <a:pt x="20036" y="9306"/>
                  <a:pt x="19692" y="9102"/>
                </a:cubicBezTo>
                <a:cubicBezTo>
                  <a:pt x="19029" y="8660"/>
                  <a:pt x="18738" y="7404"/>
                  <a:pt x="18128" y="6725"/>
                </a:cubicBezTo>
                <a:cubicBezTo>
                  <a:pt x="17625" y="6147"/>
                  <a:pt x="16776" y="6079"/>
                  <a:pt x="16379" y="5366"/>
                </a:cubicBezTo>
                <a:cubicBezTo>
                  <a:pt x="16299" y="5162"/>
                  <a:pt x="16246" y="4585"/>
                  <a:pt x="16246" y="4585"/>
                </a:cubicBezTo>
                <a:cubicBezTo>
                  <a:pt x="16246" y="4585"/>
                  <a:pt x="15557" y="4517"/>
                  <a:pt x="15213" y="4347"/>
                </a:cubicBezTo>
                <a:cubicBezTo>
                  <a:pt x="14895" y="4143"/>
                  <a:pt x="14683" y="3736"/>
                  <a:pt x="14365" y="3328"/>
                </a:cubicBezTo>
                <a:cubicBezTo>
                  <a:pt x="14100" y="2989"/>
                  <a:pt x="13702" y="2649"/>
                  <a:pt x="13490" y="2140"/>
                </a:cubicBezTo>
                <a:cubicBezTo>
                  <a:pt x="13384" y="1902"/>
                  <a:pt x="13252" y="1426"/>
                  <a:pt x="13252" y="1426"/>
                </a:cubicBezTo>
                <a:cubicBezTo>
                  <a:pt x="13252" y="1426"/>
                  <a:pt x="12642" y="1630"/>
                  <a:pt x="12377" y="1732"/>
                </a:cubicBezTo>
                <a:cubicBezTo>
                  <a:pt x="12138" y="1800"/>
                  <a:pt x="11873" y="2140"/>
                  <a:pt x="11582" y="2072"/>
                </a:cubicBezTo>
                <a:cubicBezTo>
                  <a:pt x="11237" y="2004"/>
                  <a:pt x="11025" y="1426"/>
                  <a:pt x="10787" y="985"/>
                </a:cubicBezTo>
                <a:cubicBezTo>
                  <a:pt x="10707" y="781"/>
                  <a:pt x="10522" y="306"/>
                  <a:pt x="10522" y="306"/>
                </a:cubicBezTo>
                <a:cubicBezTo>
                  <a:pt x="10522" y="306"/>
                  <a:pt x="9992" y="849"/>
                  <a:pt x="9621" y="849"/>
                </a:cubicBezTo>
                <a:cubicBezTo>
                  <a:pt x="9223" y="849"/>
                  <a:pt x="9011" y="204"/>
                  <a:pt x="8613" y="68"/>
                </a:cubicBezTo>
                <a:cubicBezTo>
                  <a:pt x="8348" y="0"/>
                  <a:pt x="8004" y="0"/>
                  <a:pt x="7712" y="6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41840" y="3724200"/>
            <a:ext cx="43344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54" y="0"/>
                </a:moveTo>
                <a:cubicBezTo>
                  <a:pt x="3137" y="880"/>
                  <a:pt x="3809" y="1662"/>
                  <a:pt x="4257" y="2150"/>
                </a:cubicBezTo>
                <a:cubicBezTo>
                  <a:pt x="5512" y="3128"/>
                  <a:pt x="6722" y="4007"/>
                  <a:pt x="7932" y="4398"/>
                </a:cubicBezTo>
                <a:cubicBezTo>
                  <a:pt x="9276" y="4789"/>
                  <a:pt x="10307" y="4789"/>
                  <a:pt x="11651" y="4789"/>
                </a:cubicBezTo>
                <a:cubicBezTo>
                  <a:pt x="12682" y="4789"/>
                  <a:pt x="14116" y="4105"/>
                  <a:pt x="15147" y="3812"/>
                </a:cubicBezTo>
                <a:cubicBezTo>
                  <a:pt x="16178" y="3128"/>
                  <a:pt x="17298" y="2541"/>
                  <a:pt x="18060" y="1955"/>
                </a:cubicBezTo>
                <a:cubicBezTo>
                  <a:pt x="18284" y="1662"/>
                  <a:pt x="18463" y="1466"/>
                  <a:pt x="18642" y="1271"/>
                </a:cubicBezTo>
                <a:cubicBezTo>
                  <a:pt x="18642" y="1271"/>
                  <a:pt x="19315" y="2150"/>
                  <a:pt x="19718" y="2737"/>
                </a:cubicBezTo>
                <a:cubicBezTo>
                  <a:pt x="20166" y="3323"/>
                  <a:pt x="20704" y="4398"/>
                  <a:pt x="21017" y="5571"/>
                </a:cubicBezTo>
                <a:cubicBezTo>
                  <a:pt x="21376" y="7037"/>
                  <a:pt x="21600" y="9090"/>
                  <a:pt x="21600" y="11044"/>
                </a:cubicBezTo>
                <a:cubicBezTo>
                  <a:pt x="21600" y="12022"/>
                  <a:pt x="21466" y="13488"/>
                  <a:pt x="21241" y="14465"/>
                </a:cubicBezTo>
                <a:cubicBezTo>
                  <a:pt x="20704" y="15931"/>
                  <a:pt x="20076" y="17202"/>
                  <a:pt x="19315" y="17984"/>
                </a:cubicBezTo>
                <a:cubicBezTo>
                  <a:pt x="17925" y="19645"/>
                  <a:pt x="16267" y="20232"/>
                  <a:pt x="14744" y="20720"/>
                </a:cubicBezTo>
                <a:cubicBezTo>
                  <a:pt x="13175" y="21307"/>
                  <a:pt x="11562" y="21600"/>
                  <a:pt x="9904" y="21600"/>
                </a:cubicBezTo>
                <a:cubicBezTo>
                  <a:pt x="8604" y="21600"/>
                  <a:pt x="7215" y="21600"/>
                  <a:pt x="5871" y="20916"/>
                </a:cubicBezTo>
                <a:cubicBezTo>
                  <a:pt x="5019" y="20427"/>
                  <a:pt x="3944" y="19938"/>
                  <a:pt x="3182" y="19059"/>
                </a:cubicBezTo>
                <a:cubicBezTo>
                  <a:pt x="2823" y="18668"/>
                  <a:pt x="2285" y="17984"/>
                  <a:pt x="1882" y="17202"/>
                </a:cubicBezTo>
                <a:cubicBezTo>
                  <a:pt x="1210" y="15833"/>
                  <a:pt x="493" y="13879"/>
                  <a:pt x="179" y="11826"/>
                </a:cubicBezTo>
                <a:cubicBezTo>
                  <a:pt x="0" y="9774"/>
                  <a:pt x="179" y="7721"/>
                  <a:pt x="493" y="5571"/>
                </a:cubicBezTo>
                <a:cubicBezTo>
                  <a:pt x="672" y="4398"/>
                  <a:pt x="1076" y="3128"/>
                  <a:pt x="1434" y="2346"/>
                </a:cubicBezTo>
                <a:cubicBezTo>
                  <a:pt x="1703" y="1466"/>
                  <a:pt x="2554" y="0"/>
                  <a:pt x="2554" y="0"/>
                </a:cubicBezTo>
              </a:path>
            </a:pathLst>
          </a:custGeom>
          <a:solidFill>
            <a:srgbClr val="e5e5e5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78200" y="1878120"/>
            <a:ext cx="115920" cy="178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6"/>
                </a:moveTo>
                <a:cubicBezTo>
                  <a:pt x="1688" y="76"/>
                  <a:pt x="3375" y="76"/>
                  <a:pt x="5063" y="54"/>
                </a:cubicBezTo>
                <a:cubicBezTo>
                  <a:pt x="6581" y="54"/>
                  <a:pt x="7931" y="22"/>
                  <a:pt x="9619" y="0"/>
                </a:cubicBezTo>
                <a:cubicBezTo>
                  <a:pt x="10463" y="805"/>
                  <a:pt x="11306" y="1610"/>
                  <a:pt x="11981" y="2415"/>
                </a:cubicBezTo>
                <a:cubicBezTo>
                  <a:pt x="12656" y="3100"/>
                  <a:pt x="12656" y="3796"/>
                  <a:pt x="12994" y="4492"/>
                </a:cubicBezTo>
                <a:cubicBezTo>
                  <a:pt x="13331" y="4949"/>
                  <a:pt x="13838" y="5405"/>
                  <a:pt x="14175" y="5862"/>
                </a:cubicBezTo>
                <a:cubicBezTo>
                  <a:pt x="14513" y="6395"/>
                  <a:pt x="14850" y="6950"/>
                  <a:pt x="15188" y="7472"/>
                </a:cubicBezTo>
                <a:cubicBezTo>
                  <a:pt x="15525" y="7907"/>
                  <a:pt x="15863" y="8342"/>
                  <a:pt x="16200" y="8777"/>
                </a:cubicBezTo>
                <a:cubicBezTo>
                  <a:pt x="16706" y="9256"/>
                  <a:pt x="17044" y="9745"/>
                  <a:pt x="17044" y="10224"/>
                </a:cubicBezTo>
                <a:cubicBezTo>
                  <a:pt x="17381" y="10833"/>
                  <a:pt x="17719" y="11420"/>
                  <a:pt x="18056" y="11996"/>
                </a:cubicBezTo>
                <a:cubicBezTo>
                  <a:pt x="18056" y="12486"/>
                  <a:pt x="18394" y="12986"/>
                  <a:pt x="18394" y="13476"/>
                </a:cubicBezTo>
                <a:cubicBezTo>
                  <a:pt x="18394" y="14454"/>
                  <a:pt x="19575" y="15444"/>
                  <a:pt x="19913" y="16412"/>
                </a:cubicBezTo>
                <a:cubicBezTo>
                  <a:pt x="20250" y="17467"/>
                  <a:pt x="20419" y="18544"/>
                  <a:pt x="20419" y="19599"/>
                </a:cubicBezTo>
                <a:cubicBezTo>
                  <a:pt x="20419" y="20056"/>
                  <a:pt x="20419" y="20523"/>
                  <a:pt x="20925" y="20980"/>
                </a:cubicBezTo>
                <a:cubicBezTo>
                  <a:pt x="20925" y="21187"/>
                  <a:pt x="21263" y="21393"/>
                  <a:pt x="21600" y="21600"/>
                </a:cubicBezTo>
                <a:cubicBezTo>
                  <a:pt x="17381" y="21578"/>
                  <a:pt x="14175" y="21535"/>
                  <a:pt x="10125" y="21459"/>
                </a:cubicBezTo>
                <a:cubicBezTo>
                  <a:pt x="8775" y="21448"/>
                  <a:pt x="7594" y="21393"/>
                  <a:pt x="6581" y="21350"/>
                </a:cubicBezTo>
                <a:cubicBezTo>
                  <a:pt x="6581" y="21350"/>
                  <a:pt x="7425" y="20806"/>
                  <a:pt x="7425" y="20589"/>
                </a:cubicBezTo>
                <a:cubicBezTo>
                  <a:pt x="7088" y="19947"/>
                  <a:pt x="6581" y="19414"/>
                  <a:pt x="7088" y="18772"/>
                </a:cubicBezTo>
                <a:cubicBezTo>
                  <a:pt x="7425" y="18337"/>
                  <a:pt x="7425" y="17902"/>
                  <a:pt x="7425" y="17467"/>
                </a:cubicBezTo>
                <a:cubicBezTo>
                  <a:pt x="7425" y="17054"/>
                  <a:pt x="7088" y="15444"/>
                  <a:pt x="7088" y="15053"/>
                </a:cubicBezTo>
                <a:cubicBezTo>
                  <a:pt x="6581" y="14476"/>
                  <a:pt x="6244" y="13911"/>
                  <a:pt x="5906" y="13323"/>
                </a:cubicBezTo>
                <a:cubicBezTo>
                  <a:pt x="5063" y="12758"/>
                  <a:pt x="3713" y="11050"/>
                  <a:pt x="3713" y="10778"/>
                </a:cubicBezTo>
                <a:cubicBezTo>
                  <a:pt x="3375" y="10387"/>
                  <a:pt x="2700" y="6765"/>
                  <a:pt x="2363" y="5993"/>
                </a:cubicBezTo>
                <a:cubicBezTo>
                  <a:pt x="2025" y="5373"/>
                  <a:pt x="1688" y="4764"/>
                  <a:pt x="1350" y="4166"/>
                </a:cubicBezTo>
                <a:cubicBezTo>
                  <a:pt x="1350" y="3654"/>
                  <a:pt x="844" y="3132"/>
                  <a:pt x="506" y="2621"/>
                </a:cubicBezTo>
                <a:cubicBezTo>
                  <a:pt x="169" y="2295"/>
                  <a:pt x="0" y="1979"/>
                  <a:pt x="0" y="1653"/>
                </a:cubicBezTo>
                <a:cubicBezTo>
                  <a:pt x="0" y="1196"/>
                  <a:pt x="169" y="740"/>
                  <a:pt x="0" y="283"/>
                </a:cubicBezTo>
                <a:cubicBezTo>
                  <a:pt x="0" y="207"/>
                  <a:pt x="0" y="141"/>
                  <a:pt x="0" y="7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8960" y="1860480"/>
            <a:ext cx="139680" cy="180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"/>
                </a:moveTo>
                <a:cubicBezTo>
                  <a:pt x="3763" y="183"/>
                  <a:pt x="8222" y="107"/>
                  <a:pt x="11985" y="0"/>
                </a:cubicBezTo>
                <a:cubicBezTo>
                  <a:pt x="12263" y="215"/>
                  <a:pt x="11288" y="473"/>
                  <a:pt x="11706" y="688"/>
                </a:cubicBezTo>
                <a:cubicBezTo>
                  <a:pt x="11985" y="1085"/>
                  <a:pt x="11985" y="1472"/>
                  <a:pt x="12263" y="1848"/>
                </a:cubicBezTo>
                <a:cubicBezTo>
                  <a:pt x="12542" y="2536"/>
                  <a:pt x="13099" y="3235"/>
                  <a:pt x="13657" y="3912"/>
                </a:cubicBezTo>
                <a:cubicBezTo>
                  <a:pt x="14632" y="5169"/>
                  <a:pt x="16026" y="6416"/>
                  <a:pt x="17001" y="7641"/>
                </a:cubicBezTo>
                <a:cubicBezTo>
                  <a:pt x="17837" y="8844"/>
                  <a:pt x="19092" y="10069"/>
                  <a:pt x="19510" y="11284"/>
                </a:cubicBezTo>
                <a:cubicBezTo>
                  <a:pt x="20485" y="12820"/>
                  <a:pt x="21182" y="14379"/>
                  <a:pt x="21321" y="15937"/>
                </a:cubicBezTo>
                <a:cubicBezTo>
                  <a:pt x="21321" y="16678"/>
                  <a:pt x="21321" y="17420"/>
                  <a:pt x="21321" y="18183"/>
                </a:cubicBezTo>
                <a:cubicBezTo>
                  <a:pt x="21321" y="19171"/>
                  <a:pt x="21600" y="20192"/>
                  <a:pt x="21600" y="21192"/>
                </a:cubicBezTo>
                <a:cubicBezTo>
                  <a:pt x="21600" y="21192"/>
                  <a:pt x="21321" y="21600"/>
                  <a:pt x="21321" y="21600"/>
                </a:cubicBezTo>
                <a:cubicBezTo>
                  <a:pt x="17141" y="21600"/>
                  <a:pt x="14075" y="21579"/>
                  <a:pt x="9894" y="21557"/>
                </a:cubicBezTo>
                <a:cubicBezTo>
                  <a:pt x="9615" y="21353"/>
                  <a:pt x="9337" y="21149"/>
                  <a:pt x="9337" y="20944"/>
                </a:cubicBezTo>
                <a:cubicBezTo>
                  <a:pt x="8919" y="20493"/>
                  <a:pt x="8919" y="20031"/>
                  <a:pt x="8919" y="19580"/>
                </a:cubicBezTo>
                <a:cubicBezTo>
                  <a:pt x="8919" y="18537"/>
                  <a:pt x="8779" y="17473"/>
                  <a:pt x="8501" y="16431"/>
                </a:cubicBezTo>
                <a:cubicBezTo>
                  <a:pt x="8222" y="15475"/>
                  <a:pt x="7246" y="14497"/>
                  <a:pt x="7246" y="13530"/>
                </a:cubicBezTo>
                <a:cubicBezTo>
                  <a:pt x="7246" y="13046"/>
                  <a:pt x="6968" y="12552"/>
                  <a:pt x="6968" y="12068"/>
                </a:cubicBezTo>
                <a:cubicBezTo>
                  <a:pt x="6689" y="11499"/>
                  <a:pt x="6410" y="10918"/>
                  <a:pt x="6132" y="10316"/>
                </a:cubicBezTo>
                <a:cubicBezTo>
                  <a:pt x="6132" y="9844"/>
                  <a:pt x="5853" y="9360"/>
                  <a:pt x="5435" y="8887"/>
                </a:cubicBezTo>
                <a:cubicBezTo>
                  <a:pt x="5156" y="8457"/>
                  <a:pt x="4877" y="8027"/>
                  <a:pt x="4599" y="7598"/>
                </a:cubicBezTo>
                <a:cubicBezTo>
                  <a:pt x="4320" y="7082"/>
                  <a:pt x="4041" y="6534"/>
                  <a:pt x="3763" y="6007"/>
                </a:cubicBezTo>
                <a:cubicBezTo>
                  <a:pt x="3484" y="5556"/>
                  <a:pt x="3066" y="5104"/>
                  <a:pt x="2787" y="4653"/>
                </a:cubicBezTo>
                <a:cubicBezTo>
                  <a:pt x="2508" y="3965"/>
                  <a:pt x="2508" y="3278"/>
                  <a:pt x="1951" y="2601"/>
                </a:cubicBezTo>
                <a:cubicBezTo>
                  <a:pt x="1394" y="1805"/>
                  <a:pt x="697" y="1010"/>
                  <a:pt x="0" y="21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40280" y="1844640"/>
            <a:ext cx="82440" cy="181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5" y="0"/>
                </a:moveTo>
                <a:cubicBezTo>
                  <a:pt x="4985" y="86"/>
                  <a:pt x="9257" y="182"/>
                  <a:pt x="14479" y="235"/>
                </a:cubicBezTo>
                <a:cubicBezTo>
                  <a:pt x="14479" y="396"/>
                  <a:pt x="13292" y="514"/>
                  <a:pt x="13292" y="674"/>
                </a:cubicBezTo>
                <a:cubicBezTo>
                  <a:pt x="13292" y="941"/>
                  <a:pt x="12818" y="1209"/>
                  <a:pt x="12818" y="1487"/>
                </a:cubicBezTo>
                <a:cubicBezTo>
                  <a:pt x="12818" y="1840"/>
                  <a:pt x="13292" y="2236"/>
                  <a:pt x="13292" y="2600"/>
                </a:cubicBezTo>
                <a:cubicBezTo>
                  <a:pt x="14004" y="3028"/>
                  <a:pt x="14479" y="3445"/>
                  <a:pt x="14479" y="3884"/>
                </a:cubicBezTo>
                <a:cubicBezTo>
                  <a:pt x="14479" y="4130"/>
                  <a:pt x="14479" y="4376"/>
                  <a:pt x="14479" y="4632"/>
                </a:cubicBezTo>
                <a:cubicBezTo>
                  <a:pt x="14479" y="4836"/>
                  <a:pt x="14954" y="5028"/>
                  <a:pt x="14954" y="5210"/>
                </a:cubicBezTo>
                <a:cubicBezTo>
                  <a:pt x="14954" y="5627"/>
                  <a:pt x="16141" y="6055"/>
                  <a:pt x="16141" y="6451"/>
                </a:cubicBezTo>
                <a:cubicBezTo>
                  <a:pt x="16141" y="6751"/>
                  <a:pt x="16378" y="7050"/>
                  <a:pt x="16378" y="7318"/>
                </a:cubicBezTo>
                <a:cubicBezTo>
                  <a:pt x="16378" y="7542"/>
                  <a:pt x="16853" y="7767"/>
                  <a:pt x="16853" y="7970"/>
                </a:cubicBezTo>
                <a:cubicBezTo>
                  <a:pt x="16853" y="8238"/>
                  <a:pt x="17565" y="9286"/>
                  <a:pt x="17565" y="9500"/>
                </a:cubicBezTo>
                <a:cubicBezTo>
                  <a:pt x="17565" y="10099"/>
                  <a:pt x="17565" y="10709"/>
                  <a:pt x="17565" y="11287"/>
                </a:cubicBezTo>
                <a:cubicBezTo>
                  <a:pt x="17565" y="11586"/>
                  <a:pt x="18040" y="11886"/>
                  <a:pt x="18040" y="12175"/>
                </a:cubicBezTo>
                <a:cubicBezTo>
                  <a:pt x="18040" y="12581"/>
                  <a:pt x="18514" y="12988"/>
                  <a:pt x="18514" y="13373"/>
                </a:cubicBezTo>
                <a:cubicBezTo>
                  <a:pt x="18514" y="13779"/>
                  <a:pt x="18514" y="14207"/>
                  <a:pt x="18514" y="14614"/>
                </a:cubicBezTo>
                <a:cubicBezTo>
                  <a:pt x="18514" y="14999"/>
                  <a:pt x="18514" y="15384"/>
                  <a:pt x="18514" y="15737"/>
                </a:cubicBezTo>
                <a:cubicBezTo>
                  <a:pt x="18514" y="15951"/>
                  <a:pt x="18514" y="16176"/>
                  <a:pt x="18514" y="16379"/>
                </a:cubicBezTo>
                <a:cubicBezTo>
                  <a:pt x="18989" y="16946"/>
                  <a:pt x="18989" y="17503"/>
                  <a:pt x="19701" y="18070"/>
                </a:cubicBezTo>
                <a:cubicBezTo>
                  <a:pt x="19938" y="18412"/>
                  <a:pt x="20413" y="18776"/>
                  <a:pt x="20413" y="19107"/>
                </a:cubicBezTo>
                <a:cubicBezTo>
                  <a:pt x="20413" y="19407"/>
                  <a:pt x="20888" y="19706"/>
                  <a:pt x="20888" y="19995"/>
                </a:cubicBezTo>
                <a:cubicBezTo>
                  <a:pt x="20888" y="20380"/>
                  <a:pt x="21600" y="20787"/>
                  <a:pt x="21600" y="21172"/>
                </a:cubicBezTo>
                <a:cubicBezTo>
                  <a:pt x="21600" y="21258"/>
                  <a:pt x="21600" y="21461"/>
                  <a:pt x="21600" y="21461"/>
                </a:cubicBezTo>
                <a:cubicBezTo>
                  <a:pt x="18989" y="21493"/>
                  <a:pt x="16853" y="21525"/>
                  <a:pt x="14479" y="21547"/>
                </a:cubicBezTo>
                <a:cubicBezTo>
                  <a:pt x="12818" y="21547"/>
                  <a:pt x="11393" y="21579"/>
                  <a:pt x="9969" y="21600"/>
                </a:cubicBezTo>
                <a:cubicBezTo>
                  <a:pt x="9257" y="21258"/>
                  <a:pt x="9257" y="20894"/>
                  <a:pt x="9020" y="20552"/>
                </a:cubicBezTo>
                <a:cubicBezTo>
                  <a:pt x="8070" y="19043"/>
                  <a:pt x="8545" y="17503"/>
                  <a:pt x="8545" y="15973"/>
                </a:cubicBezTo>
                <a:cubicBezTo>
                  <a:pt x="8545" y="15309"/>
                  <a:pt x="8070" y="14657"/>
                  <a:pt x="8070" y="14004"/>
                </a:cubicBezTo>
                <a:cubicBezTo>
                  <a:pt x="8070" y="13287"/>
                  <a:pt x="7358" y="12538"/>
                  <a:pt x="7358" y="11790"/>
                </a:cubicBezTo>
                <a:cubicBezTo>
                  <a:pt x="6884" y="10998"/>
                  <a:pt x="5934" y="10185"/>
                  <a:pt x="4985" y="9372"/>
                </a:cubicBezTo>
                <a:cubicBezTo>
                  <a:pt x="4510" y="8783"/>
                  <a:pt x="4035" y="8174"/>
                  <a:pt x="3323" y="7585"/>
                </a:cubicBezTo>
                <a:cubicBezTo>
                  <a:pt x="2848" y="6772"/>
                  <a:pt x="2374" y="5938"/>
                  <a:pt x="2136" y="5125"/>
                </a:cubicBezTo>
                <a:cubicBezTo>
                  <a:pt x="1424" y="3702"/>
                  <a:pt x="475" y="2279"/>
                  <a:pt x="0" y="845"/>
                </a:cubicBezTo>
                <a:cubicBezTo>
                  <a:pt x="0" y="578"/>
                  <a:pt x="0" y="267"/>
                  <a:pt x="475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44880" y="3790800"/>
            <a:ext cx="23040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494"/>
                </a:moveTo>
                <a:cubicBezTo>
                  <a:pt x="21347" y="8669"/>
                  <a:pt x="21178" y="9992"/>
                  <a:pt x="20925" y="10873"/>
                </a:cubicBezTo>
                <a:cubicBezTo>
                  <a:pt x="19913" y="13078"/>
                  <a:pt x="18731" y="14988"/>
                  <a:pt x="17297" y="16163"/>
                </a:cubicBezTo>
                <a:cubicBezTo>
                  <a:pt x="14681" y="18661"/>
                  <a:pt x="11559" y="19543"/>
                  <a:pt x="8691" y="20278"/>
                </a:cubicBezTo>
                <a:cubicBezTo>
                  <a:pt x="6244" y="21159"/>
                  <a:pt x="3713" y="21600"/>
                  <a:pt x="1266" y="21600"/>
                </a:cubicBezTo>
                <a:cubicBezTo>
                  <a:pt x="759" y="19396"/>
                  <a:pt x="0" y="16898"/>
                  <a:pt x="0" y="14400"/>
                </a:cubicBezTo>
                <a:cubicBezTo>
                  <a:pt x="0" y="11608"/>
                  <a:pt x="1603" y="8522"/>
                  <a:pt x="3291" y="7494"/>
                </a:cubicBezTo>
                <a:cubicBezTo>
                  <a:pt x="5738" y="6318"/>
                  <a:pt x="8522" y="9698"/>
                  <a:pt x="11053" y="8522"/>
                </a:cubicBezTo>
                <a:cubicBezTo>
                  <a:pt x="13500" y="7494"/>
                  <a:pt x="14934" y="0"/>
                  <a:pt x="17466" y="1322"/>
                </a:cubicBezTo>
                <a:cubicBezTo>
                  <a:pt x="19238" y="2204"/>
                  <a:pt x="20503" y="4408"/>
                  <a:pt x="21600" y="7494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40120" y="2043000"/>
            <a:ext cx="8568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554" y="12387"/>
                </a:moveTo>
                <a:cubicBezTo>
                  <a:pt x="16371" y="11613"/>
                  <a:pt x="11823" y="10142"/>
                  <a:pt x="9549" y="8826"/>
                </a:cubicBezTo>
                <a:cubicBezTo>
                  <a:pt x="7731" y="7819"/>
                  <a:pt x="9549" y="6348"/>
                  <a:pt x="9095" y="5187"/>
                </a:cubicBezTo>
                <a:cubicBezTo>
                  <a:pt x="8640" y="4258"/>
                  <a:pt x="8185" y="3252"/>
                  <a:pt x="6139" y="2477"/>
                </a:cubicBezTo>
                <a:cubicBezTo>
                  <a:pt x="4320" y="1703"/>
                  <a:pt x="2274" y="774"/>
                  <a:pt x="0" y="0"/>
                </a:cubicBezTo>
                <a:cubicBezTo>
                  <a:pt x="455" y="1006"/>
                  <a:pt x="455" y="1935"/>
                  <a:pt x="455" y="2942"/>
                </a:cubicBezTo>
                <a:cubicBezTo>
                  <a:pt x="1364" y="7819"/>
                  <a:pt x="1364" y="12774"/>
                  <a:pt x="1819" y="17729"/>
                </a:cubicBezTo>
                <a:cubicBezTo>
                  <a:pt x="1819" y="18503"/>
                  <a:pt x="1819" y="19277"/>
                  <a:pt x="1819" y="20129"/>
                </a:cubicBezTo>
                <a:cubicBezTo>
                  <a:pt x="5229" y="20981"/>
                  <a:pt x="10004" y="21290"/>
                  <a:pt x="13869" y="21445"/>
                </a:cubicBezTo>
                <a:cubicBezTo>
                  <a:pt x="16825" y="21600"/>
                  <a:pt x="19099" y="21600"/>
                  <a:pt x="21600" y="21290"/>
                </a:cubicBezTo>
                <a:cubicBezTo>
                  <a:pt x="21145" y="18503"/>
                  <a:pt x="20236" y="15406"/>
                  <a:pt x="19554" y="12387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32200" y="1944720"/>
            <a:ext cx="8568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6" y="8800"/>
                </a:moveTo>
                <a:cubicBezTo>
                  <a:pt x="1592" y="5920"/>
                  <a:pt x="455" y="2880"/>
                  <a:pt x="0" y="0"/>
                </a:cubicBezTo>
                <a:cubicBezTo>
                  <a:pt x="3411" y="1520"/>
                  <a:pt x="5912" y="2720"/>
                  <a:pt x="10686" y="3120"/>
                </a:cubicBezTo>
                <a:cubicBezTo>
                  <a:pt x="13869" y="3280"/>
                  <a:pt x="16598" y="2080"/>
                  <a:pt x="18872" y="1040"/>
                </a:cubicBezTo>
                <a:cubicBezTo>
                  <a:pt x="19326" y="2720"/>
                  <a:pt x="18872" y="4640"/>
                  <a:pt x="19326" y="6240"/>
                </a:cubicBezTo>
                <a:cubicBezTo>
                  <a:pt x="19781" y="11360"/>
                  <a:pt x="20691" y="16560"/>
                  <a:pt x="21600" y="21600"/>
                </a:cubicBezTo>
                <a:cubicBezTo>
                  <a:pt x="18417" y="20800"/>
                  <a:pt x="13869" y="19280"/>
                  <a:pt x="11596" y="17920"/>
                </a:cubicBezTo>
                <a:cubicBezTo>
                  <a:pt x="9777" y="16880"/>
                  <a:pt x="11596" y="15360"/>
                  <a:pt x="11141" y="14160"/>
                </a:cubicBezTo>
                <a:cubicBezTo>
                  <a:pt x="10686" y="13200"/>
                  <a:pt x="10232" y="12160"/>
                  <a:pt x="8185" y="11360"/>
                </a:cubicBezTo>
                <a:cubicBezTo>
                  <a:pt x="6366" y="10560"/>
                  <a:pt x="4320" y="9600"/>
                  <a:pt x="2046" y="88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27520" y="1860480"/>
            <a:ext cx="8100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24" y="15040"/>
                </a:moveTo>
                <a:cubicBezTo>
                  <a:pt x="1187" y="11040"/>
                  <a:pt x="712" y="7040"/>
                  <a:pt x="0" y="2880"/>
                </a:cubicBezTo>
                <a:cubicBezTo>
                  <a:pt x="6646" y="2240"/>
                  <a:pt x="14716" y="1600"/>
                  <a:pt x="21125" y="0"/>
                </a:cubicBezTo>
                <a:cubicBezTo>
                  <a:pt x="21600" y="3200"/>
                  <a:pt x="19938" y="7040"/>
                  <a:pt x="20651" y="10240"/>
                </a:cubicBezTo>
                <a:cubicBezTo>
                  <a:pt x="20651" y="12640"/>
                  <a:pt x="20651" y="15040"/>
                  <a:pt x="20651" y="17440"/>
                </a:cubicBezTo>
                <a:cubicBezTo>
                  <a:pt x="18040" y="19520"/>
                  <a:pt x="15903" y="21600"/>
                  <a:pt x="12580" y="21280"/>
                </a:cubicBezTo>
                <a:cubicBezTo>
                  <a:pt x="7596" y="20480"/>
                  <a:pt x="4985" y="18080"/>
                  <a:pt x="1424" y="1504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78200" y="1974960"/>
            <a:ext cx="6984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171" y="1543"/>
                  <a:pt x="12623" y="3150"/>
                  <a:pt x="19356" y="4886"/>
                </a:cubicBezTo>
                <a:cubicBezTo>
                  <a:pt x="19917" y="5721"/>
                  <a:pt x="19917" y="6493"/>
                  <a:pt x="19917" y="7329"/>
                </a:cubicBezTo>
                <a:cubicBezTo>
                  <a:pt x="21039" y="11379"/>
                  <a:pt x="21039" y="15493"/>
                  <a:pt x="21600" y="19607"/>
                </a:cubicBezTo>
                <a:cubicBezTo>
                  <a:pt x="21600" y="20250"/>
                  <a:pt x="21600" y="20893"/>
                  <a:pt x="21600" y="21600"/>
                </a:cubicBezTo>
                <a:cubicBezTo>
                  <a:pt x="18795" y="21214"/>
                  <a:pt x="16831" y="20507"/>
                  <a:pt x="15990" y="19800"/>
                </a:cubicBezTo>
                <a:cubicBezTo>
                  <a:pt x="10379" y="16971"/>
                  <a:pt x="16551" y="13564"/>
                  <a:pt x="14587" y="10479"/>
                </a:cubicBezTo>
                <a:cubicBezTo>
                  <a:pt x="13184" y="8164"/>
                  <a:pt x="12343" y="5721"/>
                  <a:pt x="7574" y="3664"/>
                </a:cubicBezTo>
                <a:cubicBezTo>
                  <a:pt x="5610" y="2829"/>
                  <a:pt x="2805" y="2314"/>
                  <a:pt x="0" y="1929"/>
                </a:cubicBezTo>
                <a:cubicBezTo>
                  <a:pt x="0" y="1414"/>
                  <a:pt x="0" y="579"/>
                  <a:pt x="0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74960" y="1895400"/>
            <a:ext cx="6516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000" y="16887"/>
                  <a:pt x="19500" y="11913"/>
                  <a:pt x="18900" y="7200"/>
                </a:cubicBezTo>
                <a:cubicBezTo>
                  <a:pt x="17100" y="5891"/>
                  <a:pt x="14100" y="4189"/>
                  <a:pt x="11400" y="3273"/>
                </a:cubicBezTo>
                <a:cubicBezTo>
                  <a:pt x="7500" y="2225"/>
                  <a:pt x="3900" y="1047"/>
                  <a:pt x="0" y="0"/>
                </a:cubicBezTo>
                <a:cubicBezTo>
                  <a:pt x="900" y="3665"/>
                  <a:pt x="900" y="8116"/>
                  <a:pt x="900" y="11651"/>
                </a:cubicBezTo>
                <a:cubicBezTo>
                  <a:pt x="7500" y="14793"/>
                  <a:pt x="14400" y="18065"/>
                  <a:pt x="21600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74960" y="1876320"/>
            <a:ext cx="5724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257" y="14495"/>
                  <a:pt x="20571" y="7389"/>
                  <a:pt x="19543" y="0"/>
                </a:cubicBezTo>
                <a:cubicBezTo>
                  <a:pt x="16457" y="568"/>
                  <a:pt x="14400" y="1989"/>
                  <a:pt x="11314" y="1989"/>
                </a:cubicBezTo>
                <a:cubicBezTo>
                  <a:pt x="7886" y="2558"/>
                  <a:pt x="4457" y="2558"/>
                  <a:pt x="1029" y="2558"/>
                </a:cubicBezTo>
                <a:cubicBezTo>
                  <a:pt x="1029" y="2558"/>
                  <a:pt x="0" y="5968"/>
                  <a:pt x="0" y="5968"/>
                </a:cubicBezTo>
                <a:cubicBezTo>
                  <a:pt x="4457" y="8242"/>
                  <a:pt x="8571" y="10800"/>
                  <a:pt x="13029" y="13074"/>
                </a:cubicBezTo>
                <a:cubicBezTo>
                  <a:pt x="16114" y="15063"/>
                  <a:pt x="19543" y="18758"/>
                  <a:pt x="21600" y="2160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24280" y="1876320"/>
            <a:ext cx="73080" cy="183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800" y="21219"/>
                  <a:pt x="19200" y="20818"/>
                  <a:pt x="19200" y="20416"/>
                </a:cubicBezTo>
                <a:cubicBezTo>
                  <a:pt x="18400" y="19972"/>
                  <a:pt x="18400" y="19517"/>
                  <a:pt x="18400" y="19073"/>
                </a:cubicBezTo>
                <a:cubicBezTo>
                  <a:pt x="18400" y="18048"/>
                  <a:pt x="18133" y="17001"/>
                  <a:pt x="17600" y="15975"/>
                </a:cubicBezTo>
                <a:cubicBezTo>
                  <a:pt x="17067" y="15034"/>
                  <a:pt x="15200" y="14072"/>
                  <a:pt x="15200" y="13121"/>
                </a:cubicBezTo>
                <a:cubicBezTo>
                  <a:pt x="15200" y="12645"/>
                  <a:pt x="14667" y="12159"/>
                  <a:pt x="14667" y="11683"/>
                </a:cubicBezTo>
                <a:cubicBezTo>
                  <a:pt x="14133" y="11122"/>
                  <a:pt x="13600" y="10552"/>
                  <a:pt x="13067" y="9959"/>
                </a:cubicBezTo>
                <a:cubicBezTo>
                  <a:pt x="13067" y="9494"/>
                  <a:pt x="12533" y="9019"/>
                  <a:pt x="11733" y="8553"/>
                </a:cubicBezTo>
                <a:cubicBezTo>
                  <a:pt x="11200" y="8130"/>
                  <a:pt x="10667" y="7707"/>
                  <a:pt x="10133" y="7285"/>
                </a:cubicBezTo>
                <a:cubicBezTo>
                  <a:pt x="9600" y="6777"/>
                  <a:pt x="9067" y="6238"/>
                  <a:pt x="8533" y="5720"/>
                </a:cubicBezTo>
                <a:cubicBezTo>
                  <a:pt x="8000" y="5276"/>
                  <a:pt x="7200" y="4832"/>
                  <a:pt x="6667" y="4388"/>
                </a:cubicBezTo>
                <a:cubicBezTo>
                  <a:pt x="6133" y="3711"/>
                  <a:pt x="6133" y="3034"/>
                  <a:pt x="5067" y="2368"/>
                </a:cubicBezTo>
                <a:cubicBezTo>
                  <a:pt x="4000" y="1586"/>
                  <a:pt x="1867" y="782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6320" y="1682640"/>
            <a:ext cx="514080" cy="2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432"/>
                </a:moveTo>
                <a:cubicBezTo>
                  <a:pt x="1508" y="18663"/>
                  <a:pt x="2940" y="20368"/>
                  <a:pt x="4561" y="21032"/>
                </a:cubicBezTo>
                <a:cubicBezTo>
                  <a:pt x="6031" y="21600"/>
                  <a:pt x="7615" y="21411"/>
                  <a:pt x="9198" y="21032"/>
                </a:cubicBezTo>
                <a:cubicBezTo>
                  <a:pt x="10593" y="20558"/>
                  <a:pt x="12101" y="19800"/>
                  <a:pt x="13458" y="18663"/>
                </a:cubicBezTo>
                <a:cubicBezTo>
                  <a:pt x="14475" y="17811"/>
                  <a:pt x="15418" y="16389"/>
                  <a:pt x="16323" y="14968"/>
                </a:cubicBezTo>
                <a:cubicBezTo>
                  <a:pt x="17190" y="13547"/>
                  <a:pt x="17981" y="11937"/>
                  <a:pt x="18735" y="10232"/>
                </a:cubicBezTo>
                <a:cubicBezTo>
                  <a:pt x="19828" y="7200"/>
                  <a:pt x="20620" y="331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90960" y="1531800"/>
            <a:ext cx="2128680" cy="3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15"/>
                </a:moveTo>
                <a:cubicBezTo>
                  <a:pt x="91" y="18075"/>
                  <a:pt x="210" y="18578"/>
                  <a:pt x="320" y="18914"/>
                </a:cubicBezTo>
                <a:cubicBezTo>
                  <a:pt x="630" y="19977"/>
                  <a:pt x="986" y="20649"/>
                  <a:pt x="1351" y="21040"/>
                </a:cubicBezTo>
                <a:cubicBezTo>
                  <a:pt x="1771" y="21488"/>
                  <a:pt x="2200" y="21600"/>
                  <a:pt x="2629" y="21152"/>
                </a:cubicBezTo>
                <a:cubicBezTo>
                  <a:pt x="2949" y="20817"/>
                  <a:pt x="3277" y="19977"/>
                  <a:pt x="3588" y="19026"/>
                </a:cubicBezTo>
                <a:cubicBezTo>
                  <a:pt x="3871" y="18187"/>
                  <a:pt x="4126" y="16899"/>
                  <a:pt x="4419" y="16899"/>
                </a:cubicBezTo>
                <a:cubicBezTo>
                  <a:pt x="4647" y="16899"/>
                  <a:pt x="4857" y="17963"/>
                  <a:pt x="5076" y="18578"/>
                </a:cubicBezTo>
                <a:cubicBezTo>
                  <a:pt x="5441" y="19530"/>
                  <a:pt x="5788" y="20537"/>
                  <a:pt x="6171" y="21040"/>
                </a:cubicBezTo>
                <a:cubicBezTo>
                  <a:pt x="6692" y="21600"/>
                  <a:pt x="7230" y="21600"/>
                  <a:pt x="7751" y="21152"/>
                </a:cubicBezTo>
                <a:cubicBezTo>
                  <a:pt x="8152" y="20817"/>
                  <a:pt x="8582" y="20089"/>
                  <a:pt x="8947" y="18914"/>
                </a:cubicBezTo>
                <a:cubicBezTo>
                  <a:pt x="9257" y="17963"/>
                  <a:pt x="9568" y="16676"/>
                  <a:pt x="9814" y="15277"/>
                </a:cubicBezTo>
                <a:cubicBezTo>
                  <a:pt x="10033" y="14046"/>
                  <a:pt x="10179" y="12647"/>
                  <a:pt x="10353" y="11304"/>
                </a:cubicBezTo>
                <a:cubicBezTo>
                  <a:pt x="10471" y="10520"/>
                  <a:pt x="10554" y="8953"/>
                  <a:pt x="10718" y="8730"/>
                </a:cubicBezTo>
                <a:cubicBezTo>
                  <a:pt x="10955" y="8394"/>
                  <a:pt x="11202" y="9793"/>
                  <a:pt x="11512" y="10296"/>
                </a:cubicBezTo>
                <a:cubicBezTo>
                  <a:pt x="11859" y="10856"/>
                  <a:pt x="12242" y="10856"/>
                  <a:pt x="12617" y="10408"/>
                </a:cubicBezTo>
                <a:cubicBezTo>
                  <a:pt x="12955" y="9905"/>
                  <a:pt x="13311" y="9233"/>
                  <a:pt x="13594" y="8002"/>
                </a:cubicBezTo>
                <a:cubicBezTo>
                  <a:pt x="13813" y="7163"/>
                  <a:pt x="14004" y="6211"/>
                  <a:pt x="14196" y="5204"/>
                </a:cubicBezTo>
                <a:cubicBezTo>
                  <a:pt x="14324" y="4365"/>
                  <a:pt x="14461" y="3302"/>
                  <a:pt x="14634" y="2462"/>
                </a:cubicBezTo>
                <a:cubicBezTo>
                  <a:pt x="14817" y="1679"/>
                  <a:pt x="14981" y="280"/>
                  <a:pt x="15219" y="112"/>
                </a:cubicBezTo>
                <a:cubicBezTo>
                  <a:pt x="15520" y="0"/>
                  <a:pt x="15775" y="1903"/>
                  <a:pt x="16058" y="2854"/>
                </a:cubicBezTo>
                <a:cubicBezTo>
                  <a:pt x="16195" y="3302"/>
                  <a:pt x="16351" y="4029"/>
                  <a:pt x="16506" y="4365"/>
                </a:cubicBezTo>
                <a:cubicBezTo>
                  <a:pt x="16798" y="5092"/>
                  <a:pt x="17127" y="5540"/>
                  <a:pt x="17428" y="5764"/>
                </a:cubicBezTo>
                <a:cubicBezTo>
                  <a:pt x="17784" y="6044"/>
                  <a:pt x="18122" y="5540"/>
                  <a:pt x="18478" y="5092"/>
                </a:cubicBezTo>
                <a:cubicBezTo>
                  <a:pt x="18788" y="4701"/>
                  <a:pt x="19089" y="3861"/>
                  <a:pt x="19400" y="3078"/>
                </a:cubicBezTo>
                <a:cubicBezTo>
                  <a:pt x="19674" y="2350"/>
                  <a:pt x="19920" y="839"/>
                  <a:pt x="20212" y="448"/>
                </a:cubicBezTo>
                <a:cubicBezTo>
                  <a:pt x="20459" y="112"/>
                  <a:pt x="20714" y="951"/>
                  <a:pt x="20970" y="951"/>
                </a:cubicBezTo>
                <a:cubicBezTo>
                  <a:pt x="21171" y="951"/>
                  <a:pt x="21390" y="839"/>
                  <a:pt x="21600" y="56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48200" y="2028960"/>
            <a:ext cx="5220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1" y="20266"/>
                </a:moveTo>
                <a:cubicBezTo>
                  <a:pt x="1098" y="17347"/>
                  <a:pt x="366" y="14344"/>
                  <a:pt x="0" y="11467"/>
                </a:cubicBezTo>
                <a:cubicBezTo>
                  <a:pt x="1831" y="11300"/>
                  <a:pt x="3661" y="10758"/>
                  <a:pt x="5858" y="10466"/>
                </a:cubicBezTo>
                <a:cubicBezTo>
                  <a:pt x="10617" y="9883"/>
                  <a:pt x="10617" y="8507"/>
                  <a:pt x="12814" y="7381"/>
                </a:cubicBezTo>
                <a:cubicBezTo>
                  <a:pt x="15376" y="6672"/>
                  <a:pt x="16475" y="5921"/>
                  <a:pt x="16108" y="5129"/>
                </a:cubicBezTo>
                <a:cubicBezTo>
                  <a:pt x="14278" y="4086"/>
                  <a:pt x="5125" y="3461"/>
                  <a:pt x="5858" y="2377"/>
                </a:cubicBezTo>
                <a:cubicBezTo>
                  <a:pt x="5858" y="2252"/>
                  <a:pt x="5858" y="2043"/>
                  <a:pt x="6590" y="1835"/>
                </a:cubicBezTo>
                <a:cubicBezTo>
                  <a:pt x="7322" y="1668"/>
                  <a:pt x="8054" y="1501"/>
                  <a:pt x="9153" y="1334"/>
                </a:cubicBezTo>
                <a:cubicBezTo>
                  <a:pt x="10617" y="1042"/>
                  <a:pt x="10983" y="792"/>
                  <a:pt x="12814" y="542"/>
                </a:cubicBezTo>
                <a:cubicBezTo>
                  <a:pt x="14278" y="375"/>
                  <a:pt x="16108" y="208"/>
                  <a:pt x="16475" y="0"/>
                </a:cubicBezTo>
                <a:cubicBezTo>
                  <a:pt x="16475" y="542"/>
                  <a:pt x="16475" y="1001"/>
                  <a:pt x="16475" y="1501"/>
                </a:cubicBezTo>
                <a:cubicBezTo>
                  <a:pt x="17207" y="3169"/>
                  <a:pt x="18305" y="4837"/>
                  <a:pt x="18305" y="6547"/>
                </a:cubicBezTo>
                <a:cubicBezTo>
                  <a:pt x="18305" y="7506"/>
                  <a:pt x="18305" y="8507"/>
                  <a:pt x="18305" y="9424"/>
                </a:cubicBezTo>
                <a:cubicBezTo>
                  <a:pt x="18305" y="10258"/>
                  <a:pt x="19037" y="11092"/>
                  <a:pt x="19037" y="11801"/>
                </a:cubicBezTo>
                <a:cubicBezTo>
                  <a:pt x="19037" y="13427"/>
                  <a:pt x="20868" y="15095"/>
                  <a:pt x="20868" y="16638"/>
                </a:cubicBezTo>
                <a:cubicBezTo>
                  <a:pt x="20868" y="17805"/>
                  <a:pt x="21600" y="18973"/>
                  <a:pt x="21600" y="20015"/>
                </a:cubicBezTo>
                <a:cubicBezTo>
                  <a:pt x="21600" y="20432"/>
                  <a:pt x="21600" y="20891"/>
                  <a:pt x="21600" y="21225"/>
                </a:cubicBezTo>
                <a:cubicBezTo>
                  <a:pt x="19769" y="21433"/>
                  <a:pt x="18305" y="21600"/>
                  <a:pt x="16108" y="21517"/>
                </a:cubicBezTo>
                <a:cubicBezTo>
                  <a:pt x="10617" y="21350"/>
                  <a:pt x="5858" y="20891"/>
                  <a:pt x="1831" y="20266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41720" y="2030400"/>
            <a:ext cx="4932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00" y="21600"/>
                </a:moveTo>
                <a:cubicBezTo>
                  <a:pt x="1600" y="15191"/>
                  <a:pt x="800" y="8862"/>
                  <a:pt x="0" y="2532"/>
                </a:cubicBezTo>
                <a:cubicBezTo>
                  <a:pt x="4000" y="1741"/>
                  <a:pt x="9200" y="554"/>
                  <a:pt x="14400" y="237"/>
                </a:cubicBezTo>
                <a:cubicBezTo>
                  <a:pt x="16800" y="0"/>
                  <a:pt x="19600" y="0"/>
                  <a:pt x="20800" y="0"/>
                </a:cubicBezTo>
                <a:cubicBezTo>
                  <a:pt x="14800" y="1345"/>
                  <a:pt x="10000" y="2690"/>
                  <a:pt x="9200" y="4510"/>
                </a:cubicBezTo>
                <a:cubicBezTo>
                  <a:pt x="8400" y="6488"/>
                  <a:pt x="19600" y="7675"/>
                  <a:pt x="20800" y="9732"/>
                </a:cubicBezTo>
                <a:cubicBezTo>
                  <a:pt x="21600" y="11235"/>
                  <a:pt x="20400" y="12738"/>
                  <a:pt x="17600" y="14084"/>
                </a:cubicBezTo>
                <a:cubicBezTo>
                  <a:pt x="14800" y="16062"/>
                  <a:pt x="14400" y="18752"/>
                  <a:pt x="9200" y="19938"/>
                </a:cubicBezTo>
                <a:cubicBezTo>
                  <a:pt x="6800" y="20413"/>
                  <a:pt x="4800" y="21284"/>
                  <a:pt x="2800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02040" y="1824120"/>
            <a:ext cx="17640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2" y="534"/>
                </a:moveTo>
                <a:cubicBezTo>
                  <a:pt x="3323" y="450"/>
                  <a:pt x="6203" y="293"/>
                  <a:pt x="8751" y="136"/>
                </a:cubicBezTo>
                <a:cubicBezTo>
                  <a:pt x="9526" y="94"/>
                  <a:pt x="10080" y="42"/>
                  <a:pt x="10855" y="0"/>
                </a:cubicBezTo>
                <a:cubicBezTo>
                  <a:pt x="11963" y="115"/>
                  <a:pt x="13182" y="199"/>
                  <a:pt x="14622" y="272"/>
                </a:cubicBezTo>
                <a:cubicBezTo>
                  <a:pt x="15286" y="304"/>
                  <a:pt x="16283" y="356"/>
                  <a:pt x="17169" y="377"/>
                </a:cubicBezTo>
                <a:cubicBezTo>
                  <a:pt x="16948" y="639"/>
                  <a:pt x="16615" y="922"/>
                  <a:pt x="16615" y="1194"/>
                </a:cubicBezTo>
                <a:cubicBezTo>
                  <a:pt x="16948" y="2587"/>
                  <a:pt x="17391" y="3981"/>
                  <a:pt x="17612" y="5374"/>
                </a:cubicBezTo>
                <a:cubicBezTo>
                  <a:pt x="17945" y="6180"/>
                  <a:pt x="18055" y="6997"/>
                  <a:pt x="18277" y="7794"/>
                </a:cubicBezTo>
                <a:cubicBezTo>
                  <a:pt x="18498" y="8370"/>
                  <a:pt x="18831" y="8956"/>
                  <a:pt x="19052" y="9543"/>
                </a:cubicBezTo>
                <a:cubicBezTo>
                  <a:pt x="19495" y="10329"/>
                  <a:pt x="19938" y="11125"/>
                  <a:pt x="20160" y="11900"/>
                </a:cubicBezTo>
                <a:cubicBezTo>
                  <a:pt x="20160" y="12644"/>
                  <a:pt x="20382" y="13366"/>
                  <a:pt x="20382" y="14079"/>
                </a:cubicBezTo>
                <a:cubicBezTo>
                  <a:pt x="20382" y="14718"/>
                  <a:pt x="20714" y="15357"/>
                  <a:pt x="20714" y="15996"/>
                </a:cubicBezTo>
                <a:cubicBezTo>
                  <a:pt x="20714" y="17504"/>
                  <a:pt x="20382" y="19013"/>
                  <a:pt x="20935" y="20500"/>
                </a:cubicBezTo>
                <a:cubicBezTo>
                  <a:pt x="21157" y="20825"/>
                  <a:pt x="21268" y="21150"/>
                  <a:pt x="21600" y="21485"/>
                </a:cubicBezTo>
                <a:cubicBezTo>
                  <a:pt x="20382" y="21506"/>
                  <a:pt x="18498" y="21558"/>
                  <a:pt x="17391" y="21558"/>
                </a:cubicBezTo>
                <a:cubicBezTo>
                  <a:pt x="14622" y="21579"/>
                  <a:pt x="10634" y="21600"/>
                  <a:pt x="7865" y="21600"/>
                </a:cubicBezTo>
                <a:cubicBezTo>
                  <a:pt x="7865" y="21464"/>
                  <a:pt x="7975" y="21328"/>
                  <a:pt x="7975" y="21202"/>
                </a:cubicBezTo>
                <a:cubicBezTo>
                  <a:pt x="7975" y="20228"/>
                  <a:pt x="7865" y="19233"/>
                  <a:pt x="7865" y="18258"/>
                </a:cubicBezTo>
                <a:cubicBezTo>
                  <a:pt x="7865" y="17536"/>
                  <a:pt x="7865" y="16792"/>
                  <a:pt x="7865" y="16069"/>
                </a:cubicBezTo>
                <a:cubicBezTo>
                  <a:pt x="7643" y="14561"/>
                  <a:pt x="7089" y="13031"/>
                  <a:pt x="6314" y="11533"/>
                </a:cubicBezTo>
                <a:cubicBezTo>
                  <a:pt x="5982" y="10350"/>
                  <a:pt x="4985" y="9166"/>
                  <a:pt x="4320" y="7982"/>
                </a:cubicBezTo>
                <a:cubicBezTo>
                  <a:pt x="3545" y="6798"/>
                  <a:pt x="2437" y="5583"/>
                  <a:pt x="1662" y="4368"/>
                </a:cubicBezTo>
                <a:cubicBezTo>
                  <a:pt x="1329" y="3698"/>
                  <a:pt x="775" y="3006"/>
                  <a:pt x="554" y="2346"/>
                </a:cubicBezTo>
                <a:cubicBezTo>
                  <a:pt x="332" y="1969"/>
                  <a:pt x="332" y="1592"/>
                  <a:pt x="0" y="1226"/>
                </a:cubicBezTo>
                <a:cubicBezTo>
                  <a:pt x="0" y="1226"/>
                  <a:pt x="332" y="534"/>
                  <a:pt x="332" y="534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08520" y="1987560"/>
            <a:ext cx="12060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61" y="21600"/>
                </a:moveTo>
                <a:cubicBezTo>
                  <a:pt x="2436" y="19407"/>
                  <a:pt x="2111" y="17147"/>
                  <a:pt x="1624" y="14821"/>
                </a:cubicBezTo>
                <a:cubicBezTo>
                  <a:pt x="974" y="10634"/>
                  <a:pt x="325" y="6314"/>
                  <a:pt x="0" y="2060"/>
                </a:cubicBezTo>
                <a:cubicBezTo>
                  <a:pt x="0" y="1396"/>
                  <a:pt x="0" y="731"/>
                  <a:pt x="0" y="0"/>
                </a:cubicBezTo>
                <a:cubicBezTo>
                  <a:pt x="812" y="1529"/>
                  <a:pt x="1299" y="2791"/>
                  <a:pt x="3411" y="4054"/>
                </a:cubicBezTo>
                <a:cubicBezTo>
                  <a:pt x="5522" y="5317"/>
                  <a:pt x="10394" y="5450"/>
                  <a:pt x="13642" y="5982"/>
                </a:cubicBezTo>
                <a:cubicBezTo>
                  <a:pt x="15104" y="6314"/>
                  <a:pt x="16890" y="6646"/>
                  <a:pt x="18514" y="6713"/>
                </a:cubicBezTo>
                <a:cubicBezTo>
                  <a:pt x="16403" y="7444"/>
                  <a:pt x="14779" y="8108"/>
                  <a:pt x="14454" y="9105"/>
                </a:cubicBezTo>
                <a:cubicBezTo>
                  <a:pt x="13642" y="10567"/>
                  <a:pt x="19976" y="11365"/>
                  <a:pt x="20950" y="12761"/>
                </a:cubicBezTo>
                <a:cubicBezTo>
                  <a:pt x="21600" y="13890"/>
                  <a:pt x="20301" y="15020"/>
                  <a:pt x="19164" y="15951"/>
                </a:cubicBezTo>
                <a:cubicBezTo>
                  <a:pt x="17865" y="17413"/>
                  <a:pt x="17540" y="19407"/>
                  <a:pt x="14454" y="20204"/>
                </a:cubicBezTo>
                <a:cubicBezTo>
                  <a:pt x="10881" y="21201"/>
                  <a:pt x="6821" y="21334"/>
                  <a:pt x="2761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00600" y="1814400"/>
            <a:ext cx="14112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7" y="11636"/>
                </a:moveTo>
                <a:cubicBezTo>
                  <a:pt x="1094" y="10545"/>
                  <a:pt x="1094" y="9455"/>
                  <a:pt x="820" y="8364"/>
                </a:cubicBezTo>
                <a:cubicBezTo>
                  <a:pt x="410" y="6909"/>
                  <a:pt x="137" y="5309"/>
                  <a:pt x="0" y="3855"/>
                </a:cubicBezTo>
                <a:cubicBezTo>
                  <a:pt x="3691" y="3200"/>
                  <a:pt x="8203" y="1964"/>
                  <a:pt x="11484" y="873"/>
                </a:cubicBezTo>
                <a:cubicBezTo>
                  <a:pt x="12304" y="582"/>
                  <a:pt x="13261" y="291"/>
                  <a:pt x="14081" y="0"/>
                </a:cubicBezTo>
                <a:cubicBezTo>
                  <a:pt x="15585" y="727"/>
                  <a:pt x="16952" y="1382"/>
                  <a:pt x="18592" y="1818"/>
                </a:cubicBezTo>
                <a:cubicBezTo>
                  <a:pt x="19549" y="2109"/>
                  <a:pt x="20506" y="2255"/>
                  <a:pt x="21600" y="2473"/>
                </a:cubicBezTo>
                <a:cubicBezTo>
                  <a:pt x="21327" y="4291"/>
                  <a:pt x="21327" y="6400"/>
                  <a:pt x="21327" y="8218"/>
                </a:cubicBezTo>
                <a:cubicBezTo>
                  <a:pt x="21327" y="12291"/>
                  <a:pt x="21600" y="16218"/>
                  <a:pt x="21600" y="20218"/>
                </a:cubicBezTo>
                <a:cubicBezTo>
                  <a:pt x="20916" y="20727"/>
                  <a:pt x="20506" y="21236"/>
                  <a:pt x="19549" y="21309"/>
                </a:cubicBezTo>
                <a:cubicBezTo>
                  <a:pt x="17225" y="21600"/>
                  <a:pt x="14901" y="21018"/>
                  <a:pt x="12851" y="20509"/>
                </a:cubicBezTo>
                <a:cubicBezTo>
                  <a:pt x="10116" y="19927"/>
                  <a:pt x="6015" y="19782"/>
                  <a:pt x="4238" y="18400"/>
                </a:cubicBezTo>
                <a:cubicBezTo>
                  <a:pt x="2461" y="17018"/>
                  <a:pt x="2051" y="15345"/>
                  <a:pt x="1367" y="13673"/>
                </a:cubicBezTo>
                <a:cubicBezTo>
                  <a:pt x="1094" y="13164"/>
                  <a:pt x="1641" y="12145"/>
                  <a:pt x="1367" y="11636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00600" y="1860480"/>
            <a:ext cx="6804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296"/>
                  <a:pt x="21600" y="20961"/>
                  <a:pt x="21600" y="20647"/>
                </a:cubicBezTo>
                <a:cubicBezTo>
                  <a:pt x="21600" y="19673"/>
                  <a:pt x="21032" y="18679"/>
                  <a:pt x="21032" y="17716"/>
                </a:cubicBezTo>
                <a:cubicBezTo>
                  <a:pt x="21032" y="16972"/>
                  <a:pt x="21032" y="16250"/>
                  <a:pt x="21032" y="15527"/>
                </a:cubicBezTo>
                <a:cubicBezTo>
                  <a:pt x="20747" y="14009"/>
                  <a:pt x="19326" y="12491"/>
                  <a:pt x="17337" y="10994"/>
                </a:cubicBezTo>
                <a:cubicBezTo>
                  <a:pt x="16484" y="9811"/>
                  <a:pt x="13926" y="8617"/>
                  <a:pt x="12221" y="7444"/>
                </a:cubicBezTo>
                <a:cubicBezTo>
                  <a:pt x="10232" y="6251"/>
                  <a:pt x="7389" y="5036"/>
                  <a:pt x="5400" y="3811"/>
                </a:cubicBezTo>
                <a:cubicBezTo>
                  <a:pt x="4263" y="3152"/>
                  <a:pt x="3126" y="2471"/>
                  <a:pt x="2558" y="1801"/>
                </a:cubicBezTo>
                <a:cubicBezTo>
                  <a:pt x="1989" y="1434"/>
                  <a:pt x="1989" y="1057"/>
                  <a:pt x="1421" y="670"/>
                </a:cubicBezTo>
                <a:cubicBezTo>
                  <a:pt x="568" y="461"/>
                  <a:pt x="568" y="209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38760" y="2065320"/>
            <a:ext cx="114120" cy="39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257" y="18210"/>
                  <a:pt x="20914" y="14723"/>
                  <a:pt x="20743" y="11381"/>
                </a:cubicBezTo>
                <a:cubicBezTo>
                  <a:pt x="20229" y="7604"/>
                  <a:pt x="19886" y="3778"/>
                  <a:pt x="19543" y="0"/>
                </a:cubicBezTo>
                <a:cubicBezTo>
                  <a:pt x="19543" y="0"/>
                  <a:pt x="16971" y="726"/>
                  <a:pt x="16971" y="726"/>
                </a:cubicBezTo>
                <a:cubicBezTo>
                  <a:pt x="15771" y="823"/>
                  <a:pt x="14914" y="823"/>
                  <a:pt x="13714" y="726"/>
                </a:cubicBezTo>
                <a:cubicBezTo>
                  <a:pt x="11486" y="1259"/>
                  <a:pt x="9771" y="1743"/>
                  <a:pt x="9429" y="2470"/>
                </a:cubicBezTo>
                <a:cubicBezTo>
                  <a:pt x="8571" y="3535"/>
                  <a:pt x="15257" y="4117"/>
                  <a:pt x="16286" y="5134"/>
                </a:cubicBezTo>
                <a:cubicBezTo>
                  <a:pt x="16971" y="5957"/>
                  <a:pt x="15600" y="6780"/>
                  <a:pt x="14400" y="7458"/>
                </a:cubicBezTo>
                <a:cubicBezTo>
                  <a:pt x="13029" y="8524"/>
                  <a:pt x="12686" y="9977"/>
                  <a:pt x="9429" y="10558"/>
                </a:cubicBezTo>
                <a:cubicBezTo>
                  <a:pt x="6514" y="11042"/>
                  <a:pt x="3086" y="11284"/>
                  <a:pt x="0" y="11478"/>
                </a:cubicBezTo>
                <a:cubicBezTo>
                  <a:pt x="1714" y="12398"/>
                  <a:pt x="3086" y="13415"/>
                  <a:pt x="4800" y="14335"/>
                </a:cubicBezTo>
                <a:cubicBezTo>
                  <a:pt x="7200" y="16176"/>
                  <a:pt x="6514" y="18452"/>
                  <a:pt x="10457" y="20196"/>
                </a:cubicBezTo>
                <a:cubicBezTo>
                  <a:pt x="12686" y="21067"/>
                  <a:pt x="18171" y="21164"/>
                  <a:pt x="2160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40280" y="1846440"/>
            <a:ext cx="55440" cy="21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8" y="21600"/>
                </a:moveTo>
                <a:cubicBezTo>
                  <a:pt x="708" y="16749"/>
                  <a:pt x="0" y="11990"/>
                  <a:pt x="0" y="7047"/>
                </a:cubicBezTo>
                <a:cubicBezTo>
                  <a:pt x="0" y="4759"/>
                  <a:pt x="708" y="2288"/>
                  <a:pt x="1416" y="0"/>
                </a:cubicBezTo>
                <a:cubicBezTo>
                  <a:pt x="8144" y="732"/>
                  <a:pt x="13810" y="1373"/>
                  <a:pt x="21600" y="1831"/>
                </a:cubicBezTo>
                <a:cubicBezTo>
                  <a:pt x="21600" y="3203"/>
                  <a:pt x="19830" y="4210"/>
                  <a:pt x="19830" y="5583"/>
                </a:cubicBezTo>
                <a:cubicBezTo>
                  <a:pt x="19830" y="7871"/>
                  <a:pt x="19121" y="10159"/>
                  <a:pt x="19121" y="12539"/>
                </a:cubicBezTo>
                <a:cubicBezTo>
                  <a:pt x="19121" y="14644"/>
                  <a:pt x="19830" y="16749"/>
                  <a:pt x="19830" y="18946"/>
                </a:cubicBezTo>
                <a:cubicBezTo>
                  <a:pt x="18059" y="18671"/>
                  <a:pt x="15580" y="18671"/>
                  <a:pt x="13456" y="18946"/>
                </a:cubicBezTo>
                <a:cubicBezTo>
                  <a:pt x="8852" y="19312"/>
                  <a:pt x="4249" y="20685"/>
                  <a:pt x="708" y="21600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40280" y="1844640"/>
            <a:ext cx="39600" cy="18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618" y="21107"/>
                  <a:pt x="19145" y="20625"/>
                  <a:pt x="18655" y="20133"/>
                </a:cubicBezTo>
                <a:cubicBezTo>
                  <a:pt x="16691" y="18655"/>
                  <a:pt x="17673" y="17146"/>
                  <a:pt x="17673" y="15647"/>
                </a:cubicBezTo>
                <a:cubicBezTo>
                  <a:pt x="17673" y="14997"/>
                  <a:pt x="16691" y="14358"/>
                  <a:pt x="16691" y="13719"/>
                </a:cubicBezTo>
                <a:cubicBezTo>
                  <a:pt x="16691" y="13017"/>
                  <a:pt x="15218" y="12283"/>
                  <a:pt x="15218" y="11549"/>
                </a:cubicBezTo>
                <a:cubicBezTo>
                  <a:pt x="14236" y="10774"/>
                  <a:pt x="12273" y="9977"/>
                  <a:pt x="10309" y="9181"/>
                </a:cubicBezTo>
                <a:cubicBezTo>
                  <a:pt x="9327" y="8604"/>
                  <a:pt x="8345" y="8007"/>
                  <a:pt x="6873" y="7431"/>
                </a:cubicBezTo>
                <a:cubicBezTo>
                  <a:pt x="5891" y="6634"/>
                  <a:pt x="4909" y="5817"/>
                  <a:pt x="4418" y="5020"/>
                </a:cubicBezTo>
                <a:cubicBezTo>
                  <a:pt x="2945" y="3626"/>
                  <a:pt x="982" y="2232"/>
                  <a:pt x="0" y="828"/>
                </a:cubicBezTo>
                <a:cubicBezTo>
                  <a:pt x="0" y="566"/>
                  <a:pt x="0" y="262"/>
                  <a:pt x="982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89360" y="3645000"/>
            <a:ext cx="34128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7" y="13874"/>
                </a:moveTo>
                <a:cubicBezTo>
                  <a:pt x="568" y="14663"/>
                  <a:pt x="1023" y="15293"/>
                  <a:pt x="1421" y="15924"/>
                </a:cubicBezTo>
                <a:cubicBezTo>
                  <a:pt x="1819" y="16555"/>
                  <a:pt x="2160" y="17028"/>
                  <a:pt x="2387" y="17343"/>
                </a:cubicBezTo>
                <a:cubicBezTo>
                  <a:pt x="3979" y="18920"/>
                  <a:pt x="5514" y="20339"/>
                  <a:pt x="7048" y="20969"/>
                </a:cubicBezTo>
                <a:cubicBezTo>
                  <a:pt x="8754" y="21600"/>
                  <a:pt x="10061" y="21600"/>
                  <a:pt x="11766" y="21600"/>
                </a:cubicBezTo>
                <a:cubicBezTo>
                  <a:pt x="13074" y="21600"/>
                  <a:pt x="14893" y="20496"/>
                  <a:pt x="16200" y="20023"/>
                </a:cubicBezTo>
                <a:cubicBezTo>
                  <a:pt x="17507" y="18920"/>
                  <a:pt x="18928" y="17974"/>
                  <a:pt x="19895" y="17028"/>
                </a:cubicBezTo>
                <a:cubicBezTo>
                  <a:pt x="20179" y="16555"/>
                  <a:pt x="20406" y="16239"/>
                  <a:pt x="20634" y="15924"/>
                </a:cubicBezTo>
                <a:cubicBezTo>
                  <a:pt x="20634" y="15924"/>
                  <a:pt x="21032" y="14347"/>
                  <a:pt x="21145" y="13559"/>
                </a:cubicBezTo>
                <a:cubicBezTo>
                  <a:pt x="21373" y="11982"/>
                  <a:pt x="21600" y="10406"/>
                  <a:pt x="21600" y="8672"/>
                </a:cubicBezTo>
                <a:cubicBezTo>
                  <a:pt x="21600" y="5991"/>
                  <a:pt x="21032" y="946"/>
                  <a:pt x="21032" y="946"/>
                </a:cubicBezTo>
                <a:cubicBezTo>
                  <a:pt x="20406" y="1419"/>
                  <a:pt x="19895" y="1892"/>
                  <a:pt x="19326" y="2207"/>
                </a:cubicBezTo>
                <a:cubicBezTo>
                  <a:pt x="18360" y="2680"/>
                  <a:pt x="17166" y="3626"/>
                  <a:pt x="16200" y="3626"/>
                </a:cubicBezTo>
                <a:cubicBezTo>
                  <a:pt x="14722" y="3942"/>
                  <a:pt x="12733" y="4257"/>
                  <a:pt x="11255" y="4257"/>
                </a:cubicBezTo>
                <a:cubicBezTo>
                  <a:pt x="9549" y="4257"/>
                  <a:pt x="8299" y="3942"/>
                  <a:pt x="6594" y="3626"/>
                </a:cubicBezTo>
                <a:cubicBezTo>
                  <a:pt x="5173" y="3311"/>
                  <a:pt x="4093" y="2680"/>
                  <a:pt x="2728" y="1577"/>
                </a:cubicBezTo>
                <a:cubicBezTo>
                  <a:pt x="2274" y="1419"/>
                  <a:pt x="1876" y="631"/>
                  <a:pt x="1535" y="0"/>
                </a:cubicBezTo>
                <a:cubicBezTo>
                  <a:pt x="1535" y="0"/>
                  <a:pt x="853" y="2207"/>
                  <a:pt x="568" y="3626"/>
                </a:cubicBezTo>
                <a:cubicBezTo>
                  <a:pt x="227" y="4888"/>
                  <a:pt x="114" y="7253"/>
                  <a:pt x="0" y="8987"/>
                </a:cubicBezTo>
                <a:cubicBezTo>
                  <a:pt x="0" y="10721"/>
                  <a:pt x="227" y="13874"/>
                  <a:pt x="227" y="13874"/>
                </a:cubicBezTo>
              </a:path>
            </a:pathLst>
          </a:custGeom>
          <a:solidFill>
            <a:srgbClr val="e5e5e5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19400" y="3649680"/>
            <a:ext cx="11124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6" y="21600"/>
                </a:moveTo>
                <a:cubicBezTo>
                  <a:pt x="12890" y="20842"/>
                  <a:pt x="14981" y="20084"/>
                  <a:pt x="16374" y="19326"/>
                </a:cubicBezTo>
                <a:cubicBezTo>
                  <a:pt x="17245" y="18758"/>
                  <a:pt x="17942" y="18379"/>
                  <a:pt x="18639" y="18000"/>
                </a:cubicBezTo>
                <a:cubicBezTo>
                  <a:pt x="18639" y="18000"/>
                  <a:pt x="19858" y="16105"/>
                  <a:pt x="20206" y="15158"/>
                </a:cubicBezTo>
                <a:cubicBezTo>
                  <a:pt x="20903" y="13263"/>
                  <a:pt x="21600" y="11368"/>
                  <a:pt x="21600" y="9284"/>
                </a:cubicBezTo>
                <a:cubicBezTo>
                  <a:pt x="21600" y="6063"/>
                  <a:pt x="19858" y="0"/>
                  <a:pt x="19858" y="0"/>
                </a:cubicBezTo>
                <a:cubicBezTo>
                  <a:pt x="17942" y="568"/>
                  <a:pt x="16374" y="1137"/>
                  <a:pt x="14632" y="1516"/>
                </a:cubicBezTo>
                <a:cubicBezTo>
                  <a:pt x="11671" y="2084"/>
                  <a:pt x="8013" y="3221"/>
                  <a:pt x="5052" y="3221"/>
                </a:cubicBezTo>
                <a:cubicBezTo>
                  <a:pt x="3484" y="3221"/>
                  <a:pt x="2090" y="3221"/>
                  <a:pt x="523" y="3221"/>
                </a:cubicBezTo>
                <a:cubicBezTo>
                  <a:pt x="348" y="5305"/>
                  <a:pt x="0" y="7958"/>
                  <a:pt x="0" y="10421"/>
                </a:cubicBezTo>
                <a:cubicBezTo>
                  <a:pt x="348" y="13642"/>
                  <a:pt x="3135" y="15537"/>
                  <a:pt x="5574" y="17811"/>
                </a:cubicBezTo>
                <a:cubicBezTo>
                  <a:pt x="6968" y="18758"/>
                  <a:pt x="8710" y="20463"/>
                  <a:pt x="10626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41840" y="1814400"/>
            <a:ext cx="433440" cy="210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37" y="719"/>
                </a:moveTo>
                <a:cubicBezTo>
                  <a:pt x="2285" y="719"/>
                  <a:pt x="2734" y="719"/>
                  <a:pt x="3182" y="701"/>
                </a:cubicBezTo>
                <a:cubicBezTo>
                  <a:pt x="4840" y="655"/>
                  <a:pt x="6632" y="581"/>
                  <a:pt x="8246" y="470"/>
                </a:cubicBezTo>
                <a:cubicBezTo>
                  <a:pt x="9456" y="387"/>
                  <a:pt x="10576" y="249"/>
                  <a:pt x="11651" y="111"/>
                </a:cubicBezTo>
                <a:cubicBezTo>
                  <a:pt x="11920" y="74"/>
                  <a:pt x="12234" y="37"/>
                  <a:pt x="12503" y="0"/>
                </a:cubicBezTo>
                <a:cubicBezTo>
                  <a:pt x="12996" y="92"/>
                  <a:pt x="13444" y="175"/>
                  <a:pt x="13982" y="230"/>
                </a:cubicBezTo>
                <a:cubicBezTo>
                  <a:pt x="15057" y="350"/>
                  <a:pt x="16267" y="443"/>
                  <a:pt x="17612" y="516"/>
                </a:cubicBezTo>
                <a:cubicBezTo>
                  <a:pt x="17612" y="655"/>
                  <a:pt x="17388" y="756"/>
                  <a:pt x="17388" y="894"/>
                </a:cubicBezTo>
                <a:cubicBezTo>
                  <a:pt x="17388" y="1125"/>
                  <a:pt x="17298" y="1355"/>
                  <a:pt x="17298" y="1595"/>
                </a:cubicBezTo>
                <a:cubicBezTo>
                  <a:pt x="17298" y="1899"/>
                  <a:pt x="17388" y="2240"/>
                  <a:pt x="17388" y="2554"/>
                </a:cubicBezTo>
                <a:cubicBezTo>
                  <a:pt x="17522" y="2922"/>
                  <a:pt x="17612" y="3282"/>
                  <a:pt x="17612" y="3660"/>
                </a:cubicBezTo>
                <a:cubicBezTo>
                  <a:pt x="17612" y="3872"/>
                  <a:pt x="17612" y="4084"/>
                  <a:pt x="17612" y="4305"/>
                </a:cubicBezTo>
                <a:cubicBezTo>
                  <a:pt x="17612" y="4480"/>
                  <a:pt x="17701" y="4646"/>
                  <a:pt x="17701" y="4803"/>
                </a:cubicBezTo>
                <a:cubicBezTo>
                  <a:pt x="17701" y="5163"/>
                  <a:pt x="17925" y="5531"/>
                  <a:pt x="17925" y="5872"/>
                </a:cubicBezTo>
                <a:cubicBezTo>
                  <a:pt x="17925" y="6131"/>
                  <a:pt x="17970" y="6389"/>
                  <a:pt x="17970" y="6619"/>
                </a:cubicBezTo>
                <a:cubicBezTo>
                  <a:pt x="17970" y="6813"/>
                  <a:pt x="18060" y="7006"/>
                  <a:pt x="18060" y="7182"/>
                </a:cubicBezTo>
                <a:cubicBezTo>
                  <a:pt x="18060" y="7412"/>
                  <a:pt x="18194" y="8315"/>
                  <a:pt x="18194" y="8500"/>
                </a:cubicBezTo>
                <a:cubicBezTo>
                  <a:pt x="18194" y="9016"/>
                  <a:pt x="18194" y="9542"/>
                  <a:pt x="18194" y="10039"/>
                </a:cubicBezTo>
                <a:cubicBezTo>
                  <a:pt x="18194" y="10298"/>
                  <a:pt x="18284" y="10556"/>
                  <a:pt x="18284" y="10805"/>
                </a:cubicBezTo>
                <a:cubicBezTo>
                  <a:pt x="18284" y="11155"/>
                  <a:pt x="18373" y="11505"/>
                  <a:pt x="18373" y="11837"/>
                </a:cubicBezTo>
                <a:cubicBezTo>
                  <a:pt x="18373" y="12187"/>
                  <a:pt x="18373" y="12556"/>
                  <a:pt x="18373" y="12907"/>
                </a:cubicBezTo>
                <a:cubicBezTo>
                  <a:pt x="18373" y="13238"/>
                  <a:pt x="18373" y="13570"/>
                  <a:pt x="18373" y="13875"/>
                </a:cubicBezTo>
                <a:cubicBezTo>
                  <a:pt x="18373" y="14059"/>
                  <a:pt x="18373" y="14252"/>
                  <a:pt x="18373" y="14428"/>
                </a:cubicBezTo>
                <a:cubicBezTo>
                  <a:pt x="18463" y="14916"/>
                  <a:pt x="18463" y="15396"/>
                  <a:pt x="18598" y="15884"/>
                </a:cubicBezTo>
                <a:cubicBezTo>
                  <a:pt x="18642" y="16179"/>
                  <a:pt x="18732" y="16493"/>
                  <a:pt x="18732" y="16778"/>
                </a:cubicBezTo>
                <a:cubicBezTo>
                  <a:pt x="18732" y="17037"/>
                  <a:pt x="18822" y="17295"/>
                  <a:pt x="18822" y="17544"/>
                </a:cubicBezTo>
                <a:cubicBezTo>
                  <a:pt x="18822" y="17876"/>
                  <a:pt x="18956" y="18226"/>
                  <a:pt x="18956" y="18558"/>
                </a:cubicBezTo>
                <a:cubicBezTo>
                  <a:pt x="18956" y="18631"/>
                  <a:pt x="18956" y="18807"/>
                  <a:pt x="18956" y="18807"/>
                </a:cubicBezTo>
                <a:cubicBezTo>
                  <a:pt x="18956" y="18807"/>
                  <a:pt x="19404" y="19102"/>
                  <a:pt x="19404" y="19258"/>
                </a:cubicBezTo>
                <a:cubicBezTo>
                  <a:pt x="19404" y="19360"/>
                  <a:pt x="19225" y="19452"/>
                  <a:pt x="19046" y="19544"/>
                </a:cubicBezTo>
                <a:cubicBezTo>
                  <a:pt x="18956" y="19590"/>
                  <a:pt x="18598" y="19682"/>
                  <a:pt x="18598" y="19682"/>
                </a:cubicBezTo>
                <a:cubicBezTo>
                  <a:pt x="18598" y="19682"/>
                  <a:pt x="19315" y="19765"/>
                  <a:pt x="19718" y="19821"/>
                </a:cubicBezTo>
                <a:cubicBezTo>
                  <a:pt x="20166" y="19876"/>
                  <a:pt x="20704" y="19977"/>
                  <a:pt x="21017" y="20088"/>
                </a:cubicBezTo>
                <a:cubicBezTo>
                  <a:pt x="21376" y="20226"/>
                  <a:pt x="21600" y="20420"/>
                  <a:pt x="21600" y="20604"/>
                </a:cubicBezTo>
                <a:cubicBezTo>
                  <a:pt x="21600" y="20697"/>
                  <a:pt x="21466" y="20835"/>
                  <a:pt x="21241" y="20927"/>
                </a:cubicBezTo>
                <a:cubicBezTo>
                  <a:pt x="20704" y="21065"/>
                  <a:pt x="20076" y="21185"/>
                  <a:pt x="19315" y="21259"/>
                </a:cubicBezTo>
                <a:cubicBezTo>
                  <a:pt x="17925" y="21416"/>
                  <a:pt x="16267" y="21471"/>
                  <a:pt x="14744" y="21517"/>
                </a:cubicBezTo>
                <a:cubicBezTo>
                  <a:pt x="13175" y="21572"/>
                  <a:pt x="11562" y="21600"/>
                  <a:pt x="9904" y="21600"/>
                </a:cubicBezTo>
                <a:cubicBezTo>
                  <a:pt x="8604" y="21600"/>
                  <a:pt x="7215" y="21600"/>
                  <a:pt x="5871" y="21535"/>
                </a:cubicBezTo>
                <a:cubicBezTo>
                  <a:pt x="5019" y="21489"/>
                  <a:pt x="3944" y="21443"/>
                  <a:pt x="3182" y="21360"/>
                </a:cubicBezTo>
                <a:cubicBezTo>
                  <a:pt x="2823" y="21323"/>
                  <a:pt x="2285" y="21259"/>
                  <a:pt x="1882" y="21185"/>
                </a:cubicBezTo>
                <a:cubicBezTo>
                  <a:pt x="1210" y="21056"/>
                  <a:pt x="493" y="20872"/>
                  <a:pt x="179" y="20678"/>
                </a:cubicBezTo>
                <a:cubicBezTo>
                  <a:pt x="0" y="20485"/>
                  <a:pt x="179" y="20291"/>
                  <a:pt x="493" y="20088"/>
                </a:cubicBezTo>
                <a:cubicBezTo>
                  <a:pt x="672" y="19977"/>
                  <a:pt x="1076" y="19858"/>
                  <a:pt x="1434" y="19784"/>
                </a:cubicBezTo>
                <a:cubicBezTo>
                  <a:pt x="1703" y="19701"/>
                  <a:pt x="2554" y="19590"/>
                  <a:pt x="2554" y="19590"/>
                </a:cubicBezTo>
                <a:cubicBezTo>
                  <a:pt x="2554" y="19590"/>
                  <a:pt x="2375" y="19378"/>
                  <a:pt x="2375" y="19277"/>
                </a:cubicBezTo>
                <a:cubicBezTo>
                  <a:pt x="2465" y="19175"/>
                  <a:pt x="2554" y="19037"/>
                  <a:pt x="2823" y="18963"/>
                </a:cubicBezTo>
                <a:cubicBezTo>
                  <a:pt x="3047" y="18880"/>
                  <a:pt x="3720" y="18751"/>
                  <a:pt x="3720" y="18751"/>
                </a:cubicBezTo>
                <a:cubicBezTo>
                  <a:pt x="3720" y="18751"/>
                  <a:pt x="3809" y="18290"/>
                  <a:pt x="3809" y="18106"/>
                </a:cubicBezTo>
                <a:cubicBezTo>
                  <a:pt x="3720" y="17562"/>
                  <a:pt x="3585" y="17110"/>
                  <a:pt x="3720" y="16566"/>
                </a:cubicBezTo>
                <a:cubicBezTo>
                  <a:pt x="3809" y="16198"/>
                  <a:pt x="3809" y="15829"/>
                  <a:pt x="3809" y="15460"/>
                </a:cubicBezTo>
                <a:cubicBezTo>
                  <a:pt x="3809" y="15110"/>
                  <a:pt x="3720" y="13745"/>
                  <a:pt x="3720" y="13414"/>
                </a:cubicBezTo>
                <a:cubicBezTo>
                  <a:pt x="3585" y="12925"/>
                  <a:pt x="3495" y="12446"/>
                  <a:pt x="3406" y="11948"/>
                </a:cubicBezTo>
                <a:cubicBezTo>
                  <a:pt x="3182" y="11468"/>
                  <a:pt x="2823" y="10021"/>
                  <a:pt x="2823" y="9791"/>
                </a:cubicBezTo>
                <a:cubicBezTo>
                  <a:pt x="2734" y="9459"/>
                  <a:pt x="2554" y="6389"/>
                  <a:pt x="2465" y="5734"/>
                </a:cubicBezTo>
                <a:cubicBezTo>
                  <a:pt x="2375" y="5209"/>
                  <a:pt x="2285" y="4692"/>
                  <a:pt x="2196" y="4185"/>
                </a:cubicBezTo>
                <a:cubicBezTo>
                  <a:pt x="2196" y="3752"/>
                  <a:pt x="2061" y="3310"/>
                  <a:pt x="1972" y="2876"/>
                </a:cubicBezTo>
                <a:cubicBezTo>
                  <a:pt x="1882" y="2600"/>
                  <a:pt x="1837" y="2332"/>
                  <a:pt x="1837" y="2056"/>
                </a:cubicBezTo>
                <a:cubicBezTo>
                  <a:pt x="1837" y="1669"/>
                  <a:pt x="1882" y="1281"/>
                  <a:pt x="1837" y="894"/>
                </a:cubicBezTo>
                <a:cubicBezTo>
                  <a:pt x="1837" y="830"/>
                  <a:pt x="1837" y="774"/>
                  <a:pt x="1837" y="71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94000" y="4930920"/>
            <a:ext cx="1290600" cy="18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7" y="0"/>
                </a:moveTo>
                <a:cubicBezTo>
                  <a:pt x="497" y="106"/>
                  <a:pt x="678" y="223"/>
                  <a:pt x="798" y="287"/>
                </a:cubicBezTo>
                <a:cubicBezTo>
                  <a:pt x="1009" y="425"/>
                  <a:pt x="1371" y="520"/>
                  <a:pt x="1461" y="712"/>
                </a:cubicBezTo>
                <a:cubicBezTo>
                  <a:pt x="1567" y="892"/>
                  <a:pt x="1341" y="1126"/>
                  <a:pt x="1341" y="1317"/>
                </a:cubicBezTo>
                <a:cubicBezTo>
                  <a:pt x="1341" y="1593"/>
                  <a:pt x="1371" y="1858"/>
                  <a:pt x="1461" y="2124"/>
                </a:cubicBezTo>
                <a:cubicBezTo>
                  <a:pt x="1597" y="2485"/>
                  <a:pt x="1627" y="2910"/>
                  <a:pt x="2033" y="3143"/>
                </a:cubicBezTo>
                <a:cubicBezTo>
                  <a:pt x="2320" y="3292"/>
                  <a:pt x="2832" y="3069"/>
                  <a:pt x="3148" y="3228"/>
                </a:cubicBezTo>
                <a:cubicBezTo>
                  <a:pt x="3374" y="3345"/>
                  <a:pt x="3404" y="3589"/>
                  <a:pt x="3525" y="3770"/>
                </a:cubicBezTo>
                <a:cubicBezTo>
                  <a:pt x="3751" y="4035"/>
                  <a:pt x="3946" y="4418"/>
                  <a:pt x="4338" y="4619"/>
                </a:cubicBezTo>
                <a:cubicBezTo>
                  <a:pt x="4669" y="4800"/>
                  <a:pt x="5151" y="4864"/>
                  <a:pt x="5603" y="4864"/>
                </a:cubicBezTo>
                <a:cubicBezTo>
                  <a:pt x="5829" y="4864"/>
                  <a:pt x="6296" y="4736"/>
                  <a:pt x="6296" y="4736"/>
                </a:cubicBezTo>
                <a:cubicBezTo>
                  <a:pt x="6296" y="4736"/>
                  <a:pt x="6146" y="4959"/>
                  <a:pt x="6115" y="5065"/>
                </a:cubicBezTo>
                <a:cubicBezTo>
                  <a:pt x="6085" y="5150"/>
                  <a:pt x="6146" y="5363"/>
                  <a:pt x="6146" y="5363"/>
                </a:cubicBezTo>
                <a:cubicBezTo>
                  <a:pt x="6146" y="5363"/>
                  <a:pt x="6673" y="5246"/>
                  <a:pt x="6974" y="5288"/>
                </a:cubicBezTo>
                <a:cubicBezTo>
                  <a:pt x="7305" y="5331"/>
                  <a:pt x="7607" y="5565"/>
                  <a:pt x="7863" y="5766"/>
                </a:cubicBezTo>
                <a:cubicBezTo>
                  <a:pt x="7953" y="5851"/>
                  <a:pt x="8089" y="5958"/>
                  <a:pt x="8209" y="6053"/>
                </a:cubicBezTo>
                <a:cubicBezTo>
                  <a:pt x="8420" y="6191"/>
                  <a:pt x="8857" y="6255"/>
                  <a:pt x="9098" y="6329"/>
                </a:cubicBezTo>
                <a:cubicBezTo>
                  <a:pt x="9520" y="6435"/>
                  <a:pt x="9791" y="6595"/>
                  <a:pt x="10243" y="6616"/>
                </a:cubicBezTo>
                <a:cubicBezTo>
                  <a:pt x="10664" y="6637"/>
                  <a:pt x="11071" y="6531"/>
                  <a:pt x="11493" y="6457"/>
                </a:cubicBezTo>
                <a:cubicBezTo>
                  <a:pt x="11794" y="6393"/>
                  <a:pt x="12156" y="6255"/>
                  <a:pt x="12502" y="6191"/>
                </a:cubicBezTo>
                <a:cubicBezTo>
                  <a:pt x="12638" y="6170"/>
                  <a:pt x="12788" y="6096"/>
                  <a:pt x="12924" y="6117"/>
                </a:cubicBezTo>
                <a:cubicBezTo>
                  <a:pt x="13165" y="6191"/>
                  <a:pt x="13240" y="6457"/>
                  <a:pt x="13451" y="6595"/>
                </a:cubicBezTo>
                <a:cubicBezTo>
                  <a:pt x="13707" y="6743"/>
                  <a:pt x="14008" y="6903"/>
                  <a:pt x="14310" y="6998"/>
                </a:cubicBezTo>
                <a:cubicBezTo>
                  <a:pt x="14762" y="7104"/>
                  <a:pt x="15304" y="7179"/>
                  <a:pt x="15786" y="7136"/>
                </a:cubicBezTo>
                <a:cubicBezTo>
                  <a:pt x="15936" y="7104"/>
                  <a:pt x="16132" y="7041"/>
                  <a:pt x="16268" y="6977"/>
                </a:cubicBezTo>
                <a:cubicBezTo>
                  <a:pt x="16418" y="6903"/>
                  <a:pt x="16539" y="6796"/>
                  <a:pt x="16644" y="6690"/>
                </a:cubicBezTo>
                <a:cubicBezTo>
                  <a:pt x="16750" y="6563"/>
                  <a:pt x="16825" y="6414"/>
                  <a:pt x="16825" y="6276"/>
                </a:cubicBezTo>
                <a:cubicBezTo>
                  <a:pt x="16825" y="6117"/>
                  <a:pt x="16750" y="5958"/>
                  <a:pt x="16870" y="5830"/>
                </a:cubicBezTo>
                <a:cubicBezTo>
                  <a:pt x="17081" y="5586"/>
                  <a:pt x="17638" y="5586"/>
                  <a:pt x="18015" y="5469"/>
                </a:cubicBezTo>
                <a:cubicBezTo>
                  <a:pt x="18196" y="5405"/>
                  <a:pt x="18452" y="5384"/>
                  <a:pt x="18603" y="5278"/>
                </a:cubicBezTo>
                <a:cubicBezTo>
                  <a:pt x="18708" y="5204"/>
                  <a:pt x="18798" y="5097"/>
                  <a:pt x="18874" y="4970"/>
                </a:cubicBezTo>
                <a:cubicBezTo>
                  <a:pt x="18934" y="4821"/>
                  <a:pt x="18874" y="4662"/>
                  <a:pt x="18874" y="4503"/>
                </a:cubicBezTo>
                <a:cubicBezTo>
                  <a:pt x="18874" y="4333"/>
                  <a:pt x="18798" y="4131"/>
                  <a:pt x="18874" y="3919"/>
                </a:cubicBezTo>
                <a:cubicBezTo>
                  <a:pt x="18904" y="3834"/>
                  <a:pt x="19009" y="3706"/>
                  <a:pt x="19085" y="3611"/>
                </a:cubicBezTo>
                <a:cubicBezTo>
                  <a:pt x="19280" y="3409"/>
                  <a:pt x="19642" y="3324"/>
                  <a:pt x="19928" y="3143"/>
                </a:cubicBezTo>
                <a:cubicBezTo>
                  <a:pt x="20109" y="3005"/>
                  <a:pt x="20425" y="2899"/>
                  <a:pt x="20561" y="2687"/>
                </a:cubicBezTo>
                <a:cubicBezTo>
                  <a:pt x="20591" y="3165"/>
                  <a:pt x="20651" y="3993"/>
                  <a:pt x="20651" y="4503"/>
                </a:cubicBezTo>
                <a:cubicBezTo>
                  <a:pt x="20651" y="4885"/>
                  <a:pt x="20681" y="5278"/>
                  <a:pt x="20681" y="5650"/>
                </a:cubicBezTo>
                <a:cubicBezTo>
                  <a:pt x="20681" y="6011"/>
                  <a:pt x="20681" y="6372"/>
                  <a:pt x="20681" y="6722"/>
                </a:cubicBezTo>
                <a:cubicBezTo>
                  <a:pt x="20681" y="7465"/>
                  <a:pt x="20711" y="8209"/>
                  <a:pt x="20741" y="8952"/>
                </a:cubicBezTo>
                <a:cubicBezTo>
                  <a:pt x="20741" y="9462"/>
                  <a:pt x="20817" y="10004"/>
                  <a:pt x="20832" y="10524"/>
                </a:cubicBezTo>
                <a:cubicBezTo>
                  <a:pt x="20862" y="11172"/>
                  <a:pt x="20937" y="11841"/>
                  <a:pt x="20967" y="12488"/>
                </a:cubicBezTo>
                <a:cubicBezTo>
                  <a:pt x="21058" y="13795"/>
                  <a:pt x="21284" y="15101"/>
                  <a:pt x="21344" y="16396"/>
                </a:cubicBezTo>
                <a:cubicBezTo>
                  <a:pt x="21389" y="17002"/>
                  <a:pt x="21600" y="17628"/>
                  <a:pt x="21389" y="18212"/>
                </a:cubicBezTo>
                <a:cubicBezTo>
                  <a:pt x="21284" y="18435"/>
                  <a:pt x="21088" y="18658"/>
                  <a:pt x="20937" y="18839"/>
                </a:cubicBezTo>
                <a:cubicBezTo>
                  <a:pt x="20711" y="19073"/>
                  <a:pt x="20455" y="19285"/>
                  <a:pt x="20199" y="19465"/>
                </a:cubicBezTo>
                <a:cubicBezTo>
                  <a:pt x="19642" y="19848"/>
                  <a:pt x="18964" y="20145"/>
                  <a:pt x="18331" y="20411"/>
                </a:cubicBezTo>
                <a:cubicBezTo>
                  <a:pt x="17458" y="20772"/>
                  <a:pt x="16569" y="21154"/>
                  <a:pt x="15635" y="21345"/>
                </a:cubicBezTo>
                <a:cubicBezTo>
                  <a:pt x="14355" y="21600"/>
                  <a:pt x="13014" y="21600"/>
                  <a:pt x="11704" y="21600"/>
                </a:cubicBezTo>
                <a:cubicBezTo>
                  <a:pt x="10529" y="21600"/>
                  <a:pt x="9354" y="21600"/>
                  <a:pt x="8179" y="21473"/>
                </a:cubicBezTo>
                <a:cubicBezTo>
                  <a:pt x="6929" y="21313"/>
                  <a:pt x="5694" y="21080"/>
                  <a:pt x="4579" y="20750"/>
                </a:cubicBezTo>
                <a:cubicBezTo>
                  <a:pt x="3751" y="20506"/>
                  <a:pt x="3013" y="20166"/>
                  <a:pt x="2290" y="19805"/>
                </a:cubicBezTo>
                <a:cubicBezTo>
                  <a:pt x="1823" y="19561"/>
                  <a:pt x="1341" y="19285"/>
                  <a:pt x="979" y="18998"/>
                </a:cubicBezTo>
                <a:cubicBezTo>
                  <a:pt x="708" y="18754"/>
                  <a:pt x="407" y="18488"/>
                  <a:pt x="256" y="18191"/>
                </a:cubicBezTo>
                <a:cubicBezTo>
                  <a:pt x="196" y="18074"/>
                  <a:pt x="151" y="17947"/>
                  <a:pt x="121" y="17841"/>
                </a:cubicBezTo>
                <a:cubicBezTo>
                  <a:pt x="90" y="17565"/>
                  <a:pt x="90" y="17299"/>
                  <a:pt x="151" y="17023"/>
                </a:cubicBezTo>
                <a:cubicBezTo>
                  <a:pt x="226" y="16694"/>
                  <a:pt x="452" y="16354"/>
                  <a:pt x="497" y="16035"/>
                </a:cubicBezTo>
                <a:cubicBezTo>
                  <a:pt x="572" y="15632"/>
                  <a:pt x="603" y="15207"/>
                  <a:pt x="603" y="14804"/>
                </a:cubicBezTo>
                <a:cubicBezTo>
                  <a:pt x="603" y="14496"/>
                  <a:pt x="603" y="14177"/>
                  <a:pt x="603" y="13880"/>
                </a:cubicBezTo>
                <a:cubicBezTo>
                  <a:pt x="572" y="13391"/>
                  <a:pt x="497" y="12881"/>
                  <a:pt x="482" y="12382"/>
                </a:cubicBezTo>
                <a:cubicBezTo>
                  <a:pt x="452" y="12021"/>
                  <a:pt x="407" y="11650"/>
                  <a:pt x="377" y="11288"/>
                </a:cubicBezTo>
                <a:cubicBezTo>
                  <a:pt x="346" y="10736"/>
                  <a:pt x="271" y="10205"/>
                  <a:pt x="271" y="9696"/>
                </a:cubicBezTo>
                <a:cubicBezTo>
                  <a:pt x="271" y="9441"/>
                  <a:pt x="271" y="9196"/>
                  <a:pt x="271" y="8952"/>
                </a:cubicBezTo>
                <a:cubicBezTo>
                  <a:pt x="271" y="8655"/>
                  <a:pt x="316" y="8336"/>
                  <a:pt x="316" y="8050"/>
                </a:cubicBezTo>
                <a:cubicBezTo>
                  <a:pt x="316" y="7646"/>
                  <a:pt x="271" y="7221"/>
                  <a:pt x="271" y="6818"/>
                </a:cubicBezTo>
                <a:cubicBezTo>
                  <a:pt x="256" y="6393"/>
                  <a:pt x="226" y="5958"/>
                  <a:pt x="226" y="5565"/>
                </a:cubicBezTo>
                <a:cubicBezTo>
                  <a:pt x="226" y="5150"/>
                  <a:pt x="271" y="4758"/>
                  <a:pt x="271" y="4343"/>
                </a:cubicBezTo>
                <a:cubicBezTo>
                  <a:pt x="271" y="4131"/>
                  <a:pt x="271" y="3897"/>
                  <a:pt x="271" y="3685"/>
                </a:cubicBezTo>
                <a:cubicBezTo>
                  <a:pt x="271" y="3430"/>
                  <a:pt x="271" y="3186"/>
                  <a:pt x="256" y="2963"/>
                </a:cubicBezTo>
                <a:cubicBezTo>
                  <a:pt x="226" y="2581"/>
                  <a:pt x="90" y="2198"/>
                  <a:pt x="90" y="1816"/>
                </a:cubicBezTo>
                <a:cubicBezTo>
                  <a:pt x="90" y="1338"/>
                  <a:pt x="0" y="850"/>
                  <a:pt x="151" y="425"/>
                </a:cubicBezTo>
                <a:cubicBezTo>
                  <a:pt x="226" y="265"/>
                  <a:pt x="256" y="138"/>
                  <a:pt x="377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39880" y="5162400"/>
            <a:ext cx="135000" cy="138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20" y="0"/>
                </a:moveTo>
                <a:cubicBezTo>
                  <a:pt x="11808" y="616"/>
                  <a:pt x="12384" y="1708"/>
                  <a:pt x="12384" y="2394"/>
                </a:cubicBezTo>
                <a:cubicBezTo>
                  <a:pt x="12384" y="2898"/>
                  <a:pt x="12816" y="3388"/>
                  <a:pt x="12816" y="3892"/>
                </a:cubicBezTo>
                <a:cubicBezTo>
                  <a:pt x="12816" y="4368"/>
                  <a:pt x="12816" y="4844"/>
                  <a:pt x="12816" y="5320"/>
                </a:cubicBezTo>
                <a:cubicBezTo>
                  <a:pt x="12816" y="6299"/>
                  <a:pt x="13104" y="7265"/>
                  <a:pt x="13392" y="8245"/>
                </a:cubicBezTo>
                <a:cubicBezTo>
                  <a:pt x="13392" y="8931"/>
                  <a:pt x="13968" y="9645"/>
                  <a:pt x="14256" y="10303"/>
                </a:cubicBezTo>
                <a:cubicBezTo>
                  <a:pt x="14544" y="11171"/>
                  <a:pt x="15264" y="12053"/>
                  <a:pt x="15552" y="12921"/>
                </a:cubicBezTo>
                <a:cubicBezTo>
                  <a:pt x="16416" y="14629"/>
                  <a:pt x="18576" y="16350"/>
                  <a:pt x="19152" y="18058"/>
                </a:cubicBezTo>
                <a:cubicBezTo>
                  <a:pt x="19440" y="18870"/>
                  <a:pt x="21600" y="19696"/>
                  <a:pt x="19440" y="20452"/>
                </a:cubicBezTo>
                <a:cubicBezTo>
                  <a:pt x="18576" y="20760"/>
                  <a:pt x="16704" y="21040"/>
                  <a:pt x="15264" y="21292"/>
                </a:cubicBezTo>
                <a:cubicBezTo>
                  <a:pt x="14256" y="21404"/>
                  <a:pt x="13392" y="21530"/>
                  <a:pt x="12384" y="21600"/>
                </a:cubicBezTo>
                <a:cubicBezTo>
                  <a:pt x="10368" y="21558"/>
                  <a:pt x="8208" y="21488"/>
                  <a:pt x="6336" y="21432"/>
                </a:cubicBezTo>
                <a:cubicBezTo>
                  <a:pt x="0" y="21166"/>
                  <a:pt x="11232" y="20158"/>
                  <a:pt x="11520" y="19500"/>
                </a:cubicBezTo>
                <a:cubicBezTo>
                  <a:pt x="12384" y="17568"/>
                  <a:pt x="10368" y="15637"/>
                  <a:pt x="9648" y="13677"/>
                </a:cubicBezTo>
                <a:cubicBezTo>
                  <a:pt x="9216" y="11759"/>
                  <a:pt x="8208" y="9813"/>
                  <a:pt x="7920" y="7895"/>
                </a:cubicBezTo>
                <a:cubicBezTo>
                  <a:pt x="7488" y="6271"/>
                  <a:pt x="9360" y="4662"/>
                  <a:pt x="8208" y="3038"/>
                </a:cubicBezTo>
                <a:cubicBezTo>
                  <a:pt x="7488" y="2422"/>
                  <a:pt x="3600" y="1834"/>
                  <a:pt x="2736" y="1204"/>
                </a:cubicBezTo>
                <a:cubicBezTo>
                  <a:pt x="2448" y="1078"/>
                  <a:pt x="2160" y="938"/>
                  <a:pt x="1872" y="798"/>
                </a:cubicBezTo>
                <a:cubicBezTo>
                  <a:pt x="2736" y="728"/>
                  <a:pt x="4608" y="672"/>
                  <a:pt x="5472" y="588"/>
                </a:cubicBezTo>
                <a:cubicBezTo>
                  <a:pt x="7200" y="420"/>
                  <a:pt x="10368" y="252"/>
                  <a:pt x="11520" y="0"/>
                </a:cubicBezTo>
              </a:path>
            </a:pathLst>
          </a:custGeom>
          <a:solidFill>
            <a:srgbClr val="b2b2b2"/>
          </a:solidFill>
          <a:ln w="360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00120" y="5046840"/>
            <a:ext cx="17136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0" y="19833"/>
                </a:moveTo>
                <a:cubicBezTo>
                  <a:pt x="1013" y="19401"/>
                  <a:pt x="2700" y="18969"/>
                  <a:pt x="3038" y="18578"/>
                </a:cubicBezTo>
                <a:cubicBezTo>
                  <a:pt x="3600" y="18065"/>
                  <a:pt x="3825" y="17512"/>
                  <a:pt x="3825" y="17013"/>
                </a:cubicBezTo>
                <a:cubicBezTo>
                  <a:pt x="3825" y="16608"/>
                  <a:pt x="3825" y="16217"/>
                  <a:pt x="3825" y="15839"/>
                </a:cubicBezTo>
                <a:cubicBezTo>
                  <a:pt x="3600" y="15218"/>
                  <a:pt x="3038" y="14557"/>
                  <a:pt x="2925" y="13923"/>
                </a:cubicBezTo>
                <a:cubicBezTo>
                  <a:pt x="2700" y="13465"/>
                  <a:pt x="2363" y="12992"/>
                  <a:pt x="2138" y="12534"/>
                </a:cubicBezTo>
                <a:cubicBezTo>
                  <a:pt x="1913" y="11846"/>
                  <a:pt x="1350" y="11171"/>
                  <a:pt x="1350" y="10510"/>
                </a:cubicBezTo>
                <a:cubicBezTo>
                  <a:pt x="1350" y="10200"/>
                  <a:pt x="1350" y="9876"/>
                  <a:pt x="1350" y="9579"/>
                </a:cubicBezTo>
                <a:cubicBezTo>
                  <a:pt x="1350" y="9201"/>
                  <a:pt x="1688" y="8810"/>
                  <a:pt x="1688" y="8432"/>
                </a:cubicBezTo>
                <a:cubicBezTo>
                  <a:pt x="1688" y="7920"/>
                  <a:pt x="1350" y="7380"/>
                  <a:pt x="1350" y="6867"/>
                </a:cubicBezTo>
                <a:cubicBezTo>
                  <a:pt x="1238" y="6328"/>
                  <a:pt x="1013" y="5788"/>
                  <a:pt x="1013" y="5262"/>
                </a:cubicBezTo>
                <a:cubicBezTo>
                  <a:pt x="1013" y="4763"/>
                  <a:pt x="1350" y="4236"/>
                  <a:pt x="1350" y="3737"/>
                </a:cubicBezTo>
                <a:cubicBezTo>
                  <a:pt x="1350" y="3440"/>
                  <a:pt x="1350" y="3171"/>
                  <a:pt x="1350" y="2874"/>
                </a:cubicBezTo>
                <a:cubicBezTo>
                  <a:pt x="1350" y="2563"/>
                  <a:pt x="1350" y="2253"/>
                  <a:pt x="1238" y="1956"/>
                </a:cubicBezTo>
                <a:cubicBezTo>
                  <a:pt x="1013" y="1484"/>
                  <a:pt x="0" y="985"/>
                  <a:pt x="0" y="513"/>
                </a:cubicBezTo>
                <a:cubicBezTo>
                  <a:pt x="0" y="513"/>
                  <a:pt x="0" y="0"/>
                  <a:pt x="0" y="0"/>
                </a:cubicBezTo>
                <a:cubicBezTo>
                  <a:pt x="788" y="283"/>
                  <a:pt x="2138" y="688"/>
                  <a:pt x="4050" y="1079"/>
                </a:cubicBezTo>
                <a:cubicBezTo>
                  <a:pt x="6300" y="1646"/>
                  <a:pt x="7875" y="2280"/>
                  <a:pt x="10688" y="2820"/>
                </a:cubicBezTo>
                <a:cubicBezTo>
                  <a:pt x="11588" y="2982"/>
                  <a:pt x="14963" y="2901"/>
                  <a:pt x="15188" y="3103"/>
                </a:cubicBezTo>
                <a:cubicBezTo>
                  <a:pt x="16200" y="3926"/>
                  <a:pt x="13838" y="4776"/>
                  <a:pt x="14063" y="5599"/>
                </a:cubicBezTo>
                <a:cubicBezTo>
                  <a:pt x="14063" y="6098"/>
                  <a:pt x="15975" y="6557"/>
                  <a:pt x="15975" y="7029"/>
                </a:cubicBezTo>
                <a:cubicBezTo>
                  <a:pt x="15750" y="8945"/>
                  <a:pt x="12600" y="10834"/>
                  <a:pt x="13163" y="12736"/>
                </a:cubicBezTo>
                <a:cubicBezTo>
                  <a:pt x="13275" y="13761"/>
                  <a:pt x="17100" y="14760"/>
                  <a:pt x="17888" y="15785"/>
                </a:cubicBezTo>
                <a:cubicBezTo>
                  <a:pt x="18225" y="16581"/>
                  <a:pt x="17663" y="17350"/>
                  <a:pt x="17100" y="18146"/>
                </a:cubicBezTo>
                <a:cubicBezTo>
                  <a:pt x="16875" y="18699"/>
                  <a:pt x="15975" y="19266"/>
                  <a:pt x="15975" y="19806"/>
                </a:cubicBezTo>
                <a:cubicBezTo>
                  <a:pt x="15975" y="19995"/>
                  <a:pt x="15975" y="20534"/>
                  <a:pt x="15975" y="21398"/>
                </a:cubicBezTo>
                <a:cubicBezTo>
                  <a:pt x="15975" y="21398"/>
                  <a:pt x="16875" y="21398"/>
                  <a:pt x="16875" y="21398"/>
                </a:cubicBezTo>
                <a:cubicBezTo>
                  <a:pt x="18563" y="21317"/>
                  <a:pt x="19913" y="21087"/>
                  <a:pt x="20925" y="20925"/>
                </a:cubicBezTo>
                <a:cubicBezTo>
                  <a:pt x="20925" y="20764"/>
                  <a:pt x="20925" y="20629"/>
                  <a:pt x="20700" y="20494"/>
                </a:cubicBezTo>
                <a:cubicBezTo>
                  <a:pt x="21488" y="19806"/>
                  <a:pt x="21488" y="19118"/>
                  <a:pt x="21488" y="18470"/>
                </a:cubicBezTo>
                <a:cubicBezTo>
                  <a:pt x="21488" y="17809"/>
                  <a:pt x="21488" y="17350"/>
                  <a:pt x="21488" y="16676"/>
                </a:cubicBezTo>
                <a:cubicBezTo>
                  <a:pt x="21488" y="16527"/>
                  <a:pt x="21488" y="16352"/>
                  <a:pt x="21488" y="16190"/>
                </a:cubicBezTo>
                <a:cubicBezTo>
                  <a:pt x="21488" y="16379"/>
                  <a:pt x="21600" y="16554"/>
                  <a:pt x="21600" y="16703"/>
                </a:cubicBezTo>
                <a:cubicBezTo>
                  <a:pt x="21600" y="17377"/>
                  <a:pt x="21600" y="17836"/>
                  <a:pt x="21600" y="18497"/>
                </a:cubicBezTo>
                <a:cubicBezTo>
                  <a:pt x="21600" y="19145"/>
                  <a:pt x="21600" y="19833"/>
                  <a:pt x="20925" y="20521"/>
                </a:cubicBezTo>
                <a:cubicBezTo>
                  <a:pt x="21263" y="20656"/>
                  <a:pt x="21263" y="20804"/>
                  <a:pt x="21263" y="20939"/>
                </a:cubicBezTo>
                <a:cubicBezTo>
                  <a:pt x="20138" y="21114"/>
                  <a:pt x="18788" y="21344"/>
                  <a:pt x="17100" y="21425"/>
                </a:cubicBezTo>
                <a:cubicBezTo>
                  <a:pt x="15413" y="21546"/>
                  <a:pt x="13275" y="21600"/>
                  <a:pt x="11588" y="21546"/>
                </a:cubicBezTo>
                <a:cubicBezTo>
                  <a:pt x="8775" y="21452"/>
                  <a:pt x="6413" y="21195"/>
                  <a:pt x="4725" y="20939"/>
                </a:cubicBezTo>
                <a:cubicBezTo>
                  <a:pt x="2925" y="20629"/>
                  <a:pt x="1688" y="20197"/>
                  <a:pt x="450" y="19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94000" y="4929120"/>
            <a:ext cx="177480" cy="15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9" y="1644"/>
                </a:moveTo>
                <a:cubicBezTo>
                  <a:pt x="219" y="1243"/>
                  <a:pt x="0" y="841"/>
                  <a:pt x="877" y="502"/>
                </a:cubicBezTo>
                <a:cubicBezTo>
                  <a:pt x="1425" y="314"/>
                  <a:pt x="1645" y="151"/>
                  <a:pt x="2522" y="0"/>
                </a:cubicBezTo>
                <a:cubicBezTo>
                  <a:pt x="3509" y="126"/>
                  <a:pt x="4605" y="264"/>
                  <a:pt x="5482" y="339"/>
                </a:cubicBezTo>
                <a:cubicBezTo>
                  <a:pt x="7127" y="502"/>
                  <a:pt x="9758" y="615"/>
                  <a:pt x="10416" y="841"/>
                </a:cubicBezTo>
                <a:cubicBezTo>
                  <a:pt x="11074" y="1054"/>
                  <a:pt x="9539" y="1318"/>
                  <a:pt x="9539" y="1569"/>
                </a:cubicBezTo>
                <a:cubicBezTo>
                  <a:pt x="9539" y="1883"/>
                  <a:pt x="9758" y="2196"/>
                  <a:pt x="10416" y="2523"/>
                </a:cubicBezTo>
                <a:cubicBezTo>
                  <a:pt x="11403" y="2937"/>
                  <a:pt x="11622" y="3451"/>
                  <a:pt x="14583" y="3702"/>
                </a:cubicBezTo>
                <a:cubicBezTo>
                  <a:pt x="16227" y="3866"/>
                  <a:pt x="18969" y="3702"/>
                  <a:pt x="21381" y="3765"/>
                </a:cubicBezTo>
                <a:cubicBezTo>
                  <a:pt x="19955" y="4907"/>
                  <a:pt x="20832" y="6514"/>
                  <a:pt x="21052" y="8145"/>
                </a:cubicBezTo>
                <a:cubicBezTo>
                  <a:pt x="21381" y="9250"/>
                  <a:pt x="20832" y="10392"/>
                  <a:pt x="21052" y="11509"/>
                </a:cubicBezTo>
                <a:cubicBezTo>
                  <a:pt x="21381" y="12325"/>
                  <a:pt x="21381" y="13203"/>
                  <a:pt x="21381" y="14019"/>
                </a:cubicBezTo>
                <a:cubicBezTo>
                  <a:pt x="21381" y="14471"/>
                  <a:pt x="21381" y="14873"/>
                  <a:pt x="21052" y="15312"/>
                </a:cubicBezTo>
                <a:cubicBezTo>
                  <a:pt x="20832" y="15877"/>
                  <a:pt x="21600" y="16642"/>
                  <a:pt x="21600" y="17195"/>
                </a:cubicBezTo>
                <a:cubicBezTo>
                  <a:pt x="21600" y="17835"/>
                  <a:pt x="21600" y="18261"/>
                  <a:pt x="21600" y="18864"/>
                </a:cubicBezTo>
                <a:cubicBezTo>
                  <a:pt x="21600" y="19479"/>
                  <a:pt x="21600" y="20119"/>
                  <a:pt x="20832" y="20747"/>
                </a:cubicBezTo>
                <a:cubicBezTo>
                  <a:pt x="21052" y="20897"/>
                  <a:pt x="21052" y="21023"/>
                  <a:pt x="21052" y="21148"/>
                </a:cubicBezTo>
                <a:cubicBezTo>
                  <a:pt x="20065" y="21311"/>
                  <a:pt x="18749" y="21525"/>
                  <a:pt x="17105" y="21600"/>
                </a:cubicBezTo>
                <a:cubicBezTo>
                  <a:pt x="17105" y="21600"/>
                  <a:pt x="16227" y="21600"/>
                  <a:pt x="16227" y="21600"/>
                </a:cubicBezTo>
                <a:cubicBezTo>
                  <a:pt x="16227" y="20809"/>
                  <a:pt x="16227" y="20307"/>
                  <a:pt x="16227" y="20119"/>
                </a:cubicBezTo>
                <a:cubicBezTo>
                  <a:pt x="16227" y="19617"/>
                  <a:pt x="17105" y="19077"/>
                  <a:pt x="17324" y="18588"/>
                </a:cubicBezTo>
                <a:cubicBezTo>
                  <a:pt x="17872" y="17835"/>
                  <a:pt x="18420" y="17132"/>
                  <a:pt x="18091" y="16379"/>
                </a:cubicBezTo>
                <a:cubicBezTo>
                  <a:pt x="17324" y="15425"/>
                  <a:pt x="13596" y="14496"/>
                  <a:pt x="13486" y="13542"/>
                </a:cubicBezTo>
                <a:cubicBezTo>
                  <a:pt x="12938" y="11760"/>
                  <a:pt x="16008" y="10028"/>
                  <a:pt x="16227" y="8246"/>
                </a:cubicBezTo>
                <a:cubicBezTo>
                  <a:pt x="16227" y="7782"/>
                  <a:pt x="14363" y="7367"/>
                  <a:pt x="14363" y="6916"/>
                </a:cubicBezTo>
                <a:cubicBezTo>
                  <a:pt x="14144" y="6150"/>
                  <a:pt x="16447" y="5347"/>
                  <a:pt x="15460" y="4594"/>
                </a:cubicBezTo>
                <a:cubicBezTo>
                  <a:pt x="15241" y="4405"/>
                  <a:pt x="11951" y="4481"/>
                  <a:pt x="11074" y="4317"/>
                </a:cubicBezTo>
                <a:cubicBezTo>
                  <a:pt x="8333" y="3815"/>
                  <a:pt x="6798" y="3238"/>
                  <a:pt x="4605" y="2711"/>
                </a:cubicBezTo>
                <a:cubicBezTo>
                  <a:pt x="2741" y="2334"/>
                  <a:pt x="1645" y="1983"/>
                  <a:pt x="439" y="1644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94000" y="4930920"/>
            <a:ext cx="177480" cy="156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1" y="19968"/>
                </a:moveTo>
                <a:cubicBezTo>
                  <a:pt x="1636" y="19582"/>
                  <a:pt x="3273" y="19183"/>
                  <a:pt x="3600" y="18810"/>
                </a:cubicBezTo>
                <a:cubicBezTo>
                  <a:pt x="4145" y="18336"/>
                  <a:pt x="4364" y="17838"/>
                  <a:pt x="4364" y="17365"/>
                </a:cubicBezTo>
                <a:cubicBezTo>
                  <a:pt x="4364" y="17003"/>
                  <a:pt x="4364" y="16630"/>
                  <a:pt x="4364" y="16281"/>
                </a:cubicBezTo>
                <a:cubicBezTo>
                  <a:pt x="4145" y="15708"/>
                  <a:pt x="3600" y="15110"/>
                  <a:pt x="3491" y="14525"/>
                </a:cubicBezTo>
                <a:cubicBezTo>
                  <a:pt x="3273" y="14101"/>
                  <a:pt x="2945" y="13665"/>
                  <a:pt x="2727" y="13242"/>
                </a:cubicBezTo>
                <a:cubicBezTo>
                  <a:pt x="2509" y="12594"/>
                  <a:pt x="1964" y="11971"/>
                  <a:pt x="1964" y="11373"/>
                </a:cubicBezTo>
                <a:cubicBezTo>
                  <a:pt x="1964" y="11074"/>
                  <a:pt x="1964" y="10788"/>
                  <a:pt x="1964" y="10501"/>
                </a:cubicBezTo>
                <a:cubicBezTo>
                  <a:pt x="1964" y="10152"/>
                  <a:pt x="2291" y="9779"/>
                  <a:pt x="2291" y="9442"/>
                </a:cubicBezTo>
                <a:cubicBezTo>
                  <a:pt x="2291" y="8969"/>
                  <a:pt x="1964" y="8471"/>
                  <a:pt x="1964" y="7997"/>
                </a:cubicBezTo>
                <a:cubicBezTo>
                  <a:pt x="1855" y="7499"/>
                  <a:pt x="1636" y="6988"/>
                  <a:pt x="1636" y="6527"/>
                </a:cubicBezTo>
                <a:cubicBezTo>
                  <a:pt x="1636" y="6042"/>
                  <a:pt x="1964" y="5581"/>
                  <a:pt x="1964" y="5095"/>
                </a:cubicBezTo>
                <a:cubicBezTo>
                  <a:pt x="1964" y="4846"/>
                  <a:pt x="1964" y="4572"/>
                  <a:pt x="1964" y="4322"/>
                </a:cubicBezTo>
                <a:cubicBezTo>
                  <a:pt x="1964" y="4024"/>
                  <a:pt x="1964" y="3737"/>
                  <a:pt x="1855" y="3475"/>
                </a:cubicBezTo>
                <a:cubicBezTo>
                  <a:pt x="1636" y="3027"/>
                  <a:pt x="655" y="2579"/>
                  <a:pt x="655" y="2130"/>
                </a:cubicBezTo>
                <a:cubicBezTo>
                  <a:pt x="655" y="1570"/>
                  <a:pt x="0" y="997"/>
                  <a:pt x="1091" y="498"/>
                </a:cubicBezTo>
                <a:cubicBezTo>
                  <a:pt x="1636" y="311"/>
                  <a:pt x="1855" y="162"/>
                  <a:pt x="2727" y="0"/>
                </a:cubicBezTo>
                <a:cubicBezTo>
                  <a:pt x="3600" y="125"/>
                  <a:pt x="4909" y="262"/>
                  <a:pt x="5782" y="336"/>
                </a:cubicBezTo>
                <a:cubicBezTo>
                  <a:pt x="7309" y="498"/>
                  <a:pt x="9927" y="610"/>
                  <a:pt x="10582" y="835"/>
                </a:cubicBezTo>
                <a:cubicBezTo>
                  <a:pt x="11345" y="1046"/>
                  <a:pt x="9709" y="1320"/>
                  <a:pt x="9709" y="1545"/>
                </a:cubicBezTo>
                <a:cubicBezTo>
                  <a:pt x="9709" y="1869"/>
                  <a:pt x="9927" y="2180"/>
                  <a:pt x="10582" y="2491"/>
                </a:cubicBezTo>
                <a:cubicBezTo>
                  <a:pt x="11564" y="2915"/>
                  <a:pt x="11782" y="3413"/>
                  <a:pt x="14727" y="3687"/>
                </a:cubicBezTo>
                <a:cubicBezTo>
                  <a:pt x="16364" y="3837"/>
                  <a:pt x="19091" y="3687"/>
                  <a:pt x="21491" y="3737"/>
                </a:cubicBezTo>
                <a:cubicBezTo>
                  <a:pt x="19964" y="4871"/>
                  <a:pt x="20945" y="6465"/>
                  <a:pt x="21273" y="8072"/>
                </a:cubicBezTo>
                <a:cubicBezTo>
                  <a:pt x="21491" y="9193"/>
                  <a:pt x="20945" y="10314"/>
                  <a:pt x="21273" y="11423"/>
                </a:cubicBezTo>
                <a:cubicBezTo>
                  <a:pt x="21491" y="12233"/>
                  <a:pt x="21491" y="13104"/>
                  <a:pt x="21491" y="13914"/>
                </a:cubicBezTo>
                <a:cubicBezTo>
                  <a:pt x="21491" y="14363"/>
                  <a:pt x="21491" y="14761"/>
                  <a:pt x="21273" y="15210"/>
                </a:cubicBezTo>
                <a:cubicBezTo>
                  <a:pt x="20945" y="15758"/>
                  <a:pt x="21600" y="16518"/>
                  <a:pt x="21600" y="17078"/>
                </a:cubicBezTo>
                <a:cubicBezTo>
                  <a:pt x="21600" y="17713"/>
                  <a:pt x="21600" y="18137"/>
                  <a:pt x="21600" y="18735"/>
                </a:cubicBezTo>
                <a:cubicBezTo>
                  <a:pt x="21600" y="19333"/>
                  <a:pt x="21600" y="19968"/>
                  <a:pt x="20945" y="20603"/>
                </a:cubicBezTo>
                <a:cubicBezTo>
                  <a:pt x="21273" y="20740"/>
                  <a:pt x="21273" y="20865"/>
                  <a:pt x="21273" y="20990"/>
                </a:cubicBezTo>
                <a:cubicBezTo>
                  <a:pt x="20182" y="21152"/>
                  <a:pt x="18873" y="21363"/>
                  <a:pt x="17236" y="21451"/>
                </a:cubicBezTo>
                <a:cubicBezTo>
                  <a:pt x="15600" y="21550"/>
                  <a:pt x="13527" y="21600"/>
                  <a:pt x="11891" y="21550"/>
                </a:cubicBezTo>
                <a:cubicBezTo>
                  <a:pt x="9164" y="21475"/>
                  <a:pt x="6873" y="21239"/>
                  <a:pt x="5236" y="20990"/>
                </a:cubicBezTo>
                <a:cubicBezTo>
                  <a:pt x="3491" y="20716"/>
                  <a:pt x="2291" y="20317"/>
                  <a:pt x="1091" y="19968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49320" y="5408640"/>
            <a:ext cx="155520" cy="12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2" y="1903"/>
                </a:moveTo>
                <a:cubicBezTo>
                  <a:pt x="2872" y="2907"/>
                  <a:pt x="2872" y="3897"/>
                  <a:pt x="3246" y="4886"/>
                </a:cubicBezTo>
                <a:cubicBezTo>
                  <a:pt x="3496" y="5693"/>
                  <a:pt x="3621" y="6530"/>
                  <a:pt x="3621" y="7337"/>
                </a:cubicBezTo>
                <a:cubicBezTo>
                  <a:pt x="3621" y="7946"/>
                  <a:pt x="3621" y="8555"/>
                  <a:pt x="3621" y="9164"/>
                </a:cubicBezTo>
                <a:cubicBezTo>
                  <a:pt x="3621" y="10138"/>
                  <a:pt x="4245" y="11127"/>
                  <a:pt x="3871" y="12086"/>
                </a:cubicBezTo>
                <a:cubicBezTo>
                  <a:pt x="3871" y="12802"/>
                  <a:pt x="3496" y="13502"/>
                  <a:pt x="3496" y="14187"/>
                </a:cubicBezTo>
                <a:cubicBezTo>
                  <a:pt x="3496" y="14887"/>
                  <a:pt x="3246" y="15633"/>
                  <a:pt x="2872" y="16348"/>
                </a:cubicBezTo>
                <a:cubicBezTo>
                  <a:pt x="2622" y="17033"/>
                  <a:pt x="2372" y="17977"/>
                  <a:pt x="1373" y="18753"/>
                </a:cubicBezTo>
                <a:cubicBezTo>
                  <a:pt x="1124" y="19012"/>
                  <a:pt x="250" y="19301"/>
                  <a:pt x="0" y="19652"/>
                </a:cubicBezTo>
                <a:cubicBezTo>
                  <a:pt x="1373" y="20002"/>
                  <a:pt x="2622" y="20321"/>
                  <a:pt x="4245" y="20656"/>
                </a:cubicBezTo>
                <a:cubicBezTo>
                  <a:pt x="5494" y="20915"/>
                  <a:pt x="6867" y="21159"/>
                  <a:pt x="8990" y="21326"/>
                </a:cubicBezTo>
                <a:cubicBezTo>
                  <a:pt x="10862" y="21448"/>
                  <a:pt x="12735" y="21585"/>
                  <a:pt x="14608" y="21600"/>
                </a:cubicBezTo>
                <a:cubicBezTo>
                  <a:pt x="14733" y="21554"/>
                  <a:pt x="15232" y="21478"/>
                  <a:pt x="15607" y="21417"/>
                </a:cubicBezTo>
                <a:cubicBezTo>
                  <a:pt x="17355" y="20930"/>
                  <a:pt x="16855" y="20397"/>
                  <a:pt x="17729" y="19880"/>
                </a:cubicBezTo>
                <a:cubicBezTo>
                  <a:pt x="18728" y="19073"/>
                  <a:pt x="21101" y="18266"/>
                  <a:pt x="21350" y="17475"/>
                </a:cubicBezTo>
                <a:cubicBezTo>
                  <a:pt x="21600" y="16242"/>
                  <a:pt x="18978" y="15055"/>
                  <a:pt x="18728" y="13837"/>
                </a:cubicBezTo>
                <a:cubicBezTo>
                  <a:pt x="18479" y="12680"/>
                  <a:pt x="20476" y="11553"/>
                  <a:pt x="20102" y="10397"/>
                </a:cubicBezTo>
                <a:cubicBezTo>
                  <a:pt x="19477" y="9042"/>
                  <a:pt x="15857" y="7748"/>
                  <a:pt x="15607" y="6393"/>
                </a:cubicBezTo>
                <a:cubicBezTo>
                  <a:pt x="15232" y="5145"/>
                  <a:pt x="20351" y="3897"/>
                  <a:pt x="18728" y="2649"/>
                </a:cubicBezTo>
                <a:cubicBezTo>
                  <a:pt x="17729" y="1827"/>
                  <a:pt x="12860" y="1157"/>
                  <a:pt x="8490" y="578"/>
                </a:cubicBezTo>
                <a:cubicBezTo>
                  <a:pt x="6617" y="320"/>
                  <a:pt x="4245" y="167"/>
                  <a:pt x="1623" y="0"/>
                </a:cubicBezTo>
                <a:cubicBezTo>
                  <a:pt x="1748" y="670"/>
                  <a:pt x="2872" y="1385"/>
                  <a:pt x="2872" y="19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63560" y="5202360"/>
            <a:ext cx="211320" cy="14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" y="0"/>
                </a:moveTo>
                <a:cubicBezTo>
                  <a:pt x="827" y="0"/>
                  <a:pt x="1379" y="28"/>
                  <a:pt x="2206" y="83"/>
                </a:cubicBezTo>
                <a:cubicBezTo>
                  <a:pt x="3493" y="236"/>
                  <a:pt x="3493" y="499"/>
                  <a:pt x="4228" y="734"/>
                </a:cubicBezTo>
                <a:cubicBezTo>
                  <a:pt x="5607" y="1081"/>
                  <a:pt x="6802" y="1579"/>
                  <a:pt x="9191" y="1843"/>
                </a:cubicBezTo>
                <a:cubicBezTo>
                  <a:pt x="9651" y="1898"/>
                  <a:pt x="10294" y="1954"/>
                  <a:pt x="10846" y="1995"/>
                </a:cubicBezTo>
                <a:cubicBezTo>
                  <a:pt x="13052" y="2161"/>
                  <a:pt x="14890" y="2231"/>
                  <a:pt x="17280" y="2231"/>
                </a:cubicBezTo>
                <a:cubicBezTo>
                  <a:pt x="17648" y="2231"/>
                  <a:pt x="18475" y="2189"/>
                  <a:pt x="19210" y="2161"/>
                </a:cubicBezTo>
                <a:cubicBezTo>
                  <a:pt x="19578" y="2134"/>
                  <a:pt x="20037" y="2106"/>
                  <a:pt x="20313" y="2078"/>
                </a:cubicBezTo>
                <a:cubicBezTo>
                  <a:pt x="20313" y="2078"/>
                  <a:pt x="20037" y="2425"/>
                  <a:pt x="20037" y="2425"/>
                </a:cubicBezTo>
                <a:cubicBezTo>
                  <a:pt x="19854" y="2535"/>
                  <a:pt x="20221" y="2813"/>
                  <a:pt x="20221" y="2813"/>
                </a:cubicBezTo>
                <a:cubicBezTo>
                  <a:pt x="20313" y="3519"/>
                  <a:pt x="20589" y="4309"/>
                  <a:pt x="20589" y="4849"/>
                </a:cubicBezTo>
                <a:cubicBezTo>
                  <a:pt x="20589" y="5764"/>
                  <a:pt x="20589" y="6664"/>
                  <a:pt x="20773" y="7579"/>
                </a:cubicBezTo>
                <a:cubicBezTo>
                  <a:pt x="20957" y="8313"/>
                  <a:pt x="21140" y="9075"/>
                  <a:pt x="21140" y="9796"/>
                </a:cubicBezTo>
                <a:cubicBezTo>
                  <a:pt x="21140" y="10364"/>
                  <a:pt x="21140" y="10918"/>
                  <a:pt x="21140" y="11472"/>
                </a:cubicBezTo>
                <a:cubicBezTo>
                  <a:pt x="21140" y="12345"/>
                  <a:pt x="21600" y="13259"/>
                  <a:pt x="21416" y="14132"/>
                </a:cubicBezTo>
                <a:cubicBezTo>
                  <a:pt x="21416" y="14769"/>
                  <a:pt x="20957" y="15421"/>
                  <a:pt x="20957" y="16030"/>
                </a:cubicBezTo>
                <a:cubicBezTo>
                  <a:pt x="20957" y="16681"/>
                  <a:pt x="20773" y="17360"/>
                  <a:pt x="20589" y="17998"/>
                </a:cubicBezTo>
                <a:cubicBezTo>
                  <a:pt x="20313" y="18649"/>
                  <a:pt x="20221" y="19494"/>
                  <a:pt x="19578" y="20187"/>
                </a:cubicBezTo>
                <a:cubicBezTo>
                  <a:pt x="19394" y="20422"/>
                  <a:pt x="19210" y="20755"/>
                  <a:pt x="19026" y="21074"/>
                </a:cubicBezTo>
                <a:cubicBezTo>
                  <a:pt x="18291" y="21240"/>
                  <a:pt x="17648" y="21309"/>
                  <a:pt x="16912" y="21392"/>
                </a:cubicBezTo>
                <a:cubicBezTo>
                  <a:pt x="15534" y="21545"/>
                  <a:pt x="13511" y="21600"/>
                  <a:pt x="11673" y="21600"/>
                </a:cubicBezTo>
                <a:cubicBezTo>
                  <a:pt x="13052" y="21184"/>
                  <a:pt x="14431" y="20755"/>
                  <a:pt x="15350" y="20311"/>
                </a:cubicBezTo>
                <a:cubicBezTo>
                  <a:pt x="17464" y="19369"/>
                  <a:pt x="16729" y="18344"/>
                  <a:pt x="16912" y="17388"/>
                </a:cubicBezTo>
                <a:cubicBezTo>
                  <a:pt x="17280" y="15393"/>
                  <a:pt x="17831" y="13439"/>
                  <a:pt x="16912" y="11430"/>
                </a:cubicBezTo>
                <a:cubicBezTo>
                  <a:pt x="16729" y="11056"/>
                  <a:pt x="13971" y="10738"/>
                  <a:pt x="13787" y="10364"/>
                </a:cubicBezTo>
                <a:cubicBezTo>
                  <a:pt x="13328" y="9712"/>
                  <a:pt x="14706" y="9103"/>
                  <a:pt x="14890" y="8465"/>
                </a:cubicBezTo>
                <a:cubicBezTo>
                  <a:pt x="15534" y="7135"/>
                  <a:pt x="16085" y="5833"/>
                  <a:pt x="16085" y="4503"/>
                </a:cubicBezTo>
                <a:cubicBezTo>
                  <a:pt x="16085" y="3976"/>
                  <a:pt x="15993" y="3450"/>
                  <a:pt x="14614" y="2951"/>
                </a:cubicBezTo>
                <a:cubicBezTo>
                  <a:pt x="14155" y="2840"/>
                  <a:pt x="12592" y="2979"/>
                  <a:pt x="11857" y="2923"/>
                </a:cubicBezTo>
                <a:cubicBezTo>
                  <a:pt x="10294" y="2771"/>
                  <a:pt x="8916" y="2577"/>
                  <a:pt x="7629" y="2369"/>
                </a:cubicBezTo>
                <a:cubicBezTo>
                  <a:pt x="5055" y="1995"/>
                  <a:pt x="2482" y="1607"/>
                  <a:pt x="0" y="1233"/>
                </a:cubicBezTo>
                <a:cubicBezTo>
                  <a:pt x="0" y="790"/>
                  <a:pt x="184" y="388"/>
                  <a:pt x="184" y="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65360" y="5283360"/>
            <a:ext cx="172800" cy="132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063" y="21600"/>
                </a:moveTo>
                <a:cubicBezTo>
                  <a:pt x="13275" y="21600"/>
                  <a:pt x="12375" y="21600"/>
                  <a:pt x="11363" y="21600"/>
                </a:cubicBezTo>
                <a:cubicBezTo>
                  <a:pt x="7650" y="21541"/>
                  <a:pt x="4275" y="21159"/>
                  <a:pt x="3375" y="20761"/>
                </a:cubicBezTo>
                <a:cubicBezTo>
                  <a:pt x="2138" y="20349"/>
                  <a:pt x="900" y="20011"/>
                  <a:pt x="563" y="19672"/>
                </a:cubicBezTo>
                <a:cubicBezTo>
                  <a:pt x="563" y="19672"/>
                  <a:pt x="225" y="18613"/>
                  <a:pt x="225" y="18613"/>
                </a:cubicBezTo>
                <a:cubicBezTo>
                  <a:pt x="900" y="17863"/>
                  <a:pt x="900" y="17127"/>
                  <a:pt x="900" y="16406"/>
                </a:cubicBezTo>
                <a:cubicBezTo>
                  <a:pt x="900" y="15685"/>
                  <a:pt x="900" y="15199"/>
                  <a:pt x="900" y="14449"/>
                </a:cubicBezTo>
                <a:cubicBezTo>
                  <a:pt x="900" y="13802"/>
                  <a:pt x="225" y="12889"/>
                  <a:pt x="563" y="12242"/>
                </a:cubicBezTo>
                <a:cubicBezTo>
                  <a:pt x="788" y="11712"/>
                  <a:pt x="788" y="11241"/>
                  <a:pt x="788" y="10726"/>
                </a:cubicBezTo>
                <a:cubicBezTo>
                  <a:pt x="788" y="9755"/>
                  <a:pt x="788" y="8725"/>
                  <a:pt x="563" y="7769"/>
                </a:cubicBezTo>
                <a:cubicBezTo>
                  <a:pt x="225" y="6459"/>
                  <a:pt x="788" y="5120"/>
                  <a:pt x="563" y="3811"/>
                </a:cubicBezTo>
                <a:cubicBezTo>
                  <a:pt x="225" y="2693"/>
                  <a:pt x="0" y="1280"/>
                  <a:pt x="0" y="0"/>
                </a:cubicBezTo>
                <a:cubicBezTo>
                  <a:pt x="3038" y="397"/>
                  <a:pt x="5963" y="780"/>
                  <a:pt x="9113" y="1177"/>
                </a:cubicBezTo>
                <a:cubicBezTo>
                  <a:pt x="10688" y="1398"/>
                  <a:pt x="12375" y="1604"/>
                  <a:pt x="14288" y="1766"/>
                </a:cubicBezTo>
                <a:cubicBezTo>
                  <a:pt x="15188" y="1825"/>
                  <a:pt x="17100" y="1677"/>
                  <a:pt x="17663" y="1795"/>
                </a:cubicBezTo>
                <a:cubicBezTo>
                  <a:pt x="19350" y="2325"/>
                  <a:pt x="19463" y="2884"/>
                  <a:pt x="19463" y="3443"/>
                </a:cubicBezTo>
                <a:cubicBezTo>
                  <a:pt x="19463" y="4856"/>
                  <a:pt x="18788" y="6239"/>
                  <a:pt x="18000" y="7651"/>
                </a:cubicBezTo>
                <a:cubicBezTo>
                  <a:pt x="17775" y="8328"/>
                  <a:pt x="16088" y="8975"/>
                  <a:pt x="16650" y="9667"/>
                </a:cubicBezTo>
                <a:cubicBezTo>
                  <a:pt x="16875" y="10064"/>
                  <a:pt x="20250" y="10403"/>
                  <a:pt x="20475" y="10800"/>
                </a:cubicBezTo>
                <a:cubicBezTo>
                  <a:pt x="21600" y="12934"/>
                  <a:pt x="20925" y="15008"/>
                  <a:pt x="20475" y="17127"/>
                </a:cubicBezTo>
                <a:cubicBezTo>
                  <a:pt x="20250" y="18142"/>
                  <a:pt x="21150" y="19231"/>
                  <a:pt x="18563" y="20232"/>
                </a:cubicBezTo>
                <a:cubicBezTo>
                  <a:pt x="17438" y="20702"/>
                  <a:pt x="15750" y="21159"/>
                  <a:pt x="14063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63560" y="5202360"/>
            <a:ext cx="216000" cy="14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9" y="0"/>
                </a:moveTo>
                <a:cubicBezTo>
                  <a:pt x="807" y="0"/>
                  <a:pt x="1344" y="28"/>
                  <a:pt x="2151" y="83"/>
                </a:cubicBezTo>
                <a:cubicBezTo>
                  <a:pt x="3227" y="235"/>
                  <a:pt x="3406" y="553"/>
                  <a:pt x="4123" y="789"/>
                </a:cubicBezTo>
                <a:cubicBezTo>
                  <a:pt x="5646" y="1135"/>
                  <a:pt x="6812" y="1633"/>
                  <a:pt x="9052" y="1896"/>
                </a:cubicBezTo>
                <a:cubicBezTo>
                  <a:pt x="11383" y="2131"/>
                  <a:pt x="14251" y="2228"/>
                  <a:pt x="16850" y="2228"/>
                </a:cubicBezTo>
                <a:cubicBezTo>
                  <a:pt x="17567" y="2228"/>
                  <a:pt x="18911" y="2131"/>
                  <a:pt x="19807" y="2076"/>
                </a:cubicBezTo>
                <a:cubicBezTo>
                  <a:pt x="20256" y="3183"/>
                  <a:pt x="20614" y="4359"/>
                  <a:pt x="20614" y="4912"/>
                </a:cubicBezTo>
                <a:cubicBezTo>
                  <a:pt x="20614" y="5825"/>
                  <a:pt x="20614" y="6725"/>
                  <a:pt x="20883" y="7624"/>
                </a:cubicBezTo>
                <a:cubicBezTo>
                  <a:pt x="21062" y="8358"/>
                  <a:pt x="21152" y="9119"/>
                  <a:pt x="21152" y="9852"/>
                </a:cubicBezTo>
                <a:cubicBezTo>
                  <a:pt x="21152" y="10406"/>
                  <a:pt x="21152" y="10959"/>
                  <a:pt x="21152" y="11513"/>
                </a:cubicBezTo>
                <a:cubicBezTo>
                  <a:pt x="21152" y="12398"/>
                  <a:pt x="21600" y="13298"/>
                  <a:pt x="21331" y="14169"/>
                </a:cubicBezTo>
                <a:cubicBezTo>
                  <a:pt x="21331" y="14820"/>
                  <a:pt x="21062" y="15456"/>
                  <a:pt x="21062" y="16079"/>
                </a:cubicBezTo>
                <a:cubicBezTo>
                  <a:pt x="21062" y="16715"/>
                  <a:pt x="20883" y="17393"/>
                  <a:pt x="20614" y="18044"/>
                </a:cubicBezTo>
                <a:cubicBezTo>
                  <a:pt x="20435" y="18666"/>
                  <a:pt x="20256" y="19524"/>
                  <a:pt x="19539" y="20230"/>
                </a:cubicBezTo>
                <a:cubicBezTo>
                  <a:pt x="19359" y="20438"/>
                  <a:pt x="19090" y="20728"/>
                  <a:pt x="18911" y="21019"/>
                </a:cubicBezTo>
                <a:cubicBezTo>
                  <a:pt x="18194" y="21185"/>
                  <a:pt x="17208" y="21282"/>
                  <a:pt x="16491" y="21365"/>
                </a:cubicBezTo>
                <a:cubicBezTo>
                  <a:pt x="14520" y="21572"/>
                  <a:pt x="11920" y="21600"/>
                  <a:pt x="9232" y="21572"/>
                </a:cubicBezTo>
                <a:cubicBezTo>
                  <a:pt x="6274" y="21517"/>
                  <a:pt x="3585" y="21157"/>
                  <a:pt x="2868" y="20784"/>
                </a:cubicBezTo>
                <a:cubicBezTo>
                  <a:pt x="1882" y="20396"/>
                  <a:pt x="896" y="20078"/>
                  <a:pt x="627" y="19760"/>
                </a:cubicBezTo>
                <a:cubicBezTo>
                  <a:pt x="627" y="19760"/>
                  <a:pt x="359" y="18763"/>
                  <a:pt x="359" y="18763"/>
                </a:cubicBezTo>
                <a:cubicBezTo>
                  <a:pt x="896" y="18058"/>
                  <a:pt x="896" y="17366"/>
                  <a:pt x="896" y="16688"/>
                </a:cubicBezTo>
                <a:cubicBezTo>
                  <a:pt x="896" y="16010"/>
                  <a:pt x="896" y="15553"/>
                  <a:pt x="896" y="14847"/>
                </a:cubicBezTo>
                <a:cubicBezTo>
                  <a:pt x="896" y="14239"/>
                  <a:pt x="359" y="13381"/>
                  <a:pt x="627" y="12772"/>
                </a:cubicBezTo>
                <a:cubicBezTo>
                  <a:pt x="807" y="12274"/>
                  <a:pt x="807" y="11831"/>
                  <a:pt x="807" y="11347"/>
                </a:cubicBezTo>
                <a:cubicBezTo>
                  <a:pt x="807" y="10433"/>
                  <a:pt x="807" y="9465"/>
                  <a:pt x="627" y="8565"/>
                </a:cubicBezTo>
                <a:cubicBezTo>
                  <a:pt x="359" y="7334"/>
                  <a:pt x="807" y="6075"/>
                  <a:pt x="627" y="4843"/>
                </a:cubicBezTo>
                <a:cubicBezTo>
                  <a:pt x="359" y="3390"/>
                  <a:pt x="0" y="1439"/>
                  <a:pt x="179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60480" y="5375160"/>
            <a:ext cx="177840" cy="131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80" y="20503"/>
                </a:moveTo>
                <a:cubicBezTo>
                  <a:pt x="20718" y="20681"/>
                  <a:pt x="20167" y="20859"/>
                  <a:pt x="19286" y="21007"/>
                </a:cubicBezTo>
                <a:cubicBezTo>
                  <a:pt x="17963" y="21274"/>
                  <a:pt x="15759" y="21526"/>
                  <a:pt x="13445" y="21585"/>
                </a:cubicBezTo>
                <a:cubicBezTo>
                  <a:pt x="12784" y="21600"/>
                  <a:pt x="12012" y="21600"/>
                  <a:pt x="11461" y="21600"/>
                </a:cubicBezTo>
                <a:cubicBezTo>
                  <a:pt x="11571" y="21556"/>
                  <a:pt x="12012" y="21481"/>
                  <a:pt x="12343" y="21422"/>
                </a:cubicBezTo>
                <a:cubicBezTo>
                  <a:pt x="13886" y="20948"/>
                  <a:pt x="13445" y="20429"/>
                  <a:pt x="14216" y="19925"/>
                </a:cubicBezTo>
                <a:cubicBezTo>
                  <a:pt x="15098" y="19139"/>
                  <a:pt x="17192" y="18353"/>
                  <a:pt x="17412" y="17582"/>
                </a:cubicBezTo>
                <a:cubicBezTo>
                  <a:pt x="17633" y="16382"/>
                  <a:pt x="15318" y="15225"/>
                  <a:pt x="15098" y="14039"/>
                </a:cubicBezTo>
                <a:cubicBezTo>
                  <a:pt x="14878" y="12913"/>
                  <a:pt x="16641" y="11816"/>
                  <a:pt x="16310" y="10689"/>
                </a:cubicBezTo>
                <a:cubicBezTo>
                  <a:pt x="15759" y="9369"/>
                  <a:pt x="12563" y="8109"/>
                  <a:pt x="12343" y="6790"/>
                </a:cubicBezTo>
                <a:cubicBezTo>
                  <a:pt x="12012" y="5574"/>
                  <a:pt x="16531" y="4359"/>
                  <a:pt x="15098" y="3143"/>
                </a:cubicBezTo>
                <a:cubicBezTo>
                  <a:pt x="14216" y="2342"/>
                  <a:pt x="9918" y="1690"/>
                  <a:pt x="6061" y="1127"/>
                </a:cubicBezTo>
                <a:cubicBezTo>
                  <a:pt x="4408" y="875"/>
                  <a:pt x="2314" y="726"/>
                  <a:pt x="0" y="563"/>
                </a:cubicBezTo>
                <a:cubicBezTo>
                  <a:pt x="0" y="563"/>
                  <a:pt x="0" y="163"/>
                  <a:pt x="0" y="163"/>
                </a:cubicBezTo>
                <a:cubicBezTo>
                  <a:pt x="0" y="163"/>
                  <a:pt x="3857" y="0"/>
                  <a:pt x="6061" y="59"/>
                </a:cubicBezTo>
                <a:cubicBezTo>
                  <a:pt x="8486" y="119"/>
                  <a:pt x="10690" y="445"/>
                  <a:pt x="12563" y="726"/>
                </a:cubicBezTo>
                <a:cubicBezTo>
                  <a:pt x="13224" y="845"/>
                  <a:pt x="14216" y="993"/>
                  <a:pt x="15098" y="1127"/>
                </a:cubicBezTo>
                <a:cubicBezTo>
                  <a:pt x="16641" y="1319"/>
                  <a:pt x="19837" y="1408"/>
                  <a:pt x="21600" y="1512"/>
                </a:cubicBezTo>
                <a:cubicBezTo>
                  <a:pt x="21600" y="1512"/>
                  <a:pt x="19947" y="4447"/>
                  <a:pt x="19947" y="4447"/>
                </a:cubicBezTo>
                <a:cubicBezTo>
                  <a:pt x="19837" y="5263"/>
                  <a:pt x="20167" y="6078"/>
                  <a:pt x="20167" y="6894"/>
                </a:cubicBezTo>
                <a:cubicBezTo>
                  <a:pt x="20167" y="8584"/>
                  <a:pt x="20388" y="10303"/>
                  <a:pt x="20388" y="11993"/>
                </a:cubicBezTo>
                <a:cubicBezTo>
                  <a:pt x="20388" y="13135"/>
                  <a:pt x="20167" y="14262"/>
                  <a:pt x="20388" y="15374"/>
                </a:cubicBezTo>
                <a:cubicBezTo>
                  <a:pt x="20718" y="16159"/>
                  <a:pt x="20939" y="16945"/>
                  <a:pt x="21159" y="17701"/>
                </a:cubicBezTo>
                <a:cubicBezTo>
                  <a:pt x="21159" y="18264"/>
                  <a:pt x="21380" y="18828"/>
                  <a:pt x="21159" y="19584"/>
                </a:cubicBezTo>
                <a:cubicBezTo>
                  <a:pt x="21159" y="19851"/>
                  <a:pt x="21380" y="20132"/>
                  <a:pt x="21380" y="2050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49320" y="5375160"/>
            <a:ext cx="189000" cy="131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4" y="163"/>
                </a:moveTo>
                <a:cubicBezTo>
                  <a:pt x="1344" y="163"/>
                  <a:pt x="4961" y="0"/>
                  <a:pt x="7028" y="59"/>
                </a:cubicBezTo>
                <a:cubicBezTo>
                  <a:pt x="9301" y="118"/>
                  <a:pt x="11368" y="444"/>
                  <a:pt x="13125" y="725"/>
                </a:cubicBezTo>
                <a:cubicBezTo>
                  <a:pt x="13745" y="843"/>
                  <a:pt x="14676" y="991"/>
                  <a:pt x="15502" y="1124"/>
                </a:cubicBezTo>
                <a:cubicBezTo>
                  <a:pt x="16949" y="1317"/>
                  <a:pt x="19946" y="1405"/>
                  <a:pt x="21600" y="1509"/>
                </a:cubicBezTo>
                <a:cubicBezTo>
                  <a:pt x="21187" y="2412"/>
                  <a:pt x="20256" y="3403"/>
                  <a:pt x="20050" y="4438"/>
                </a:cubicBezTo>
                <a:cubicBezTo>
                  <a:pt x="19946" y="5252"/>
                  <a:pt x="20256" y="6066"/>
                  <a:pt x="20256" y="6879"/>
                </a:cubicBezTo>
                <a:cubicBezTo>
                  <a:pt x="20256" y="8566"/>
                  <a:pt x="20463" y="10282"/>
                  <a:pt x="20463" y="11969"/>
                </a:cubicBezTo>
                <a:cubicBezTo>
                  <a:pt x="20463" y="13108"/>
                  <a:pt x="20256" y="14232"/>
                  <a:pt x="20463" y="15342"/>
                </a:cubicBezTo>
                <a:cubicBezTo>
                  <a:pt x="20773" y="16126"/>
                  <a:pt x="20980" y="16910"/>
                  <a:pt x="21187" y="17665"/>
                </a:cubicBezTo>
                <a:cubicBezTo>
                  <a:pt x="21187" y="18227"/>
                  <a:pt x="21393" y="18789"/>
                  <a:pt x="21187" y="19544"/>
                </a:cubicBezTo>
                <a:cubicBezTo>
                  <a:pt x="21187" y="19780"/>
                  <a:pt x="21393" y="20135"/>
                  <a:pt x="21393" y="20461"/>
                </a:cubicBezTo>
                <a:cubicBezTo>
                  <a:pt x="20773" y="20638"/>
                  <a:pt x="20256" y="20816"/>
                  <a:pt x="19430" y="20964"/>
                </a:cubicBezTo>
                <a:cubicBezTo>
                  <a:pt x="18189" y="21230"/>
                  <a:pt x="16122" y="21482"/>
                  <a:pt x="13952" y="21541"/>
                </a:cubicBezTo>
                <a:cubicBezTo>
                  <a:pt x="11782" y="21600"/>
                  <a:pt x="9301" y="21437"/>
                  <a:pt x="7441" y="21289"/>
                </a:cubicBezTo>
                <a:cubicBezTo>
                  <a:pt x="5684" y="21127"/>
                  <a:pt x="4547" y="20890"/>
                  <a:pt x="3514" y="20638"/>
                </a:cubicBezTo>
                <a:cubicBezTo>
                  <a:pt x="2170" y="20313"/>
                  <a:pt x="1137" y="20002"/>
                  <a:pt x="0" y="19662"/>
                </a:cubicBezTo>
                <a:cubicBezTo>
                  <a:pt x="207" y="19322"/>
                  <a:pt x="413" y="18967"/>
                  <a:pt x="620" y="18715"/>
                </a:cubicBezTo>
                <a:cubicBezTo>
                  <a:pt x="1344" y="17975"/>
                  <a:pt x="1447" y="17073"/>
                  <a:pt x="1757" y="16378"/>
                </a:cubicBezTo>
                <a:cubicBezTo>
                  <a:pt x="1964" y="15697"/>
                  <a:pt x="2170" y="14972"/>
                  <a:pt x="2170" y="14277"/>
                </a:cubicBezTo>
                <a:cubicBezTo>
                  <a:pt x="2170" y="13626"/>
                  <a:pt x="2687" y="12930"/>
                  <a:pt x="2687" y="12250"/>
                </a:cubicBezTo>
                <a:cubicBezTo>
                  <a:pt x="2894" y="11318"/>
                  <a:pt x="2377" y="10341"/>
                  <a:pt x="2377" y="9409"/>
                </a:cubicBezTo>
                <a:cubicBezTo>
                  <a:pt x="2377" y="8818"/>
                  <a:pt x="2377" y="8226"/>
                  <a:pt x="2377" y="7619"/>
                </a:cubicBezTo>
                <a:cubicBezTo>
                  <a:pt x="2377" y="6850"/>
                  <a:pt x="2170" y="6036"/>
                  <a:pt x="1964" y="5252"/>
                </a:cubicBezTo>
                <a:cubicBezTo>
                  <a:pt x="1757" y="4276"/>
                  <a:pt x="1757" y="3314"/>
                  <a:pt x="1757" y="2338"/>
                </a:cubicBezTo>
                <a:cubicBezTo>
                  <a:pt x="1757" y="1761"/>
                  <a:pt x="1447" y="917"/>
                  <a:pt x="1344" y="163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09560" y="6451560"/>
            <a:ext cx="119232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46" y="0"/>
                </a:moveTo>
                <a:cubicBezTo>
                  <a:pt x="21046" y="421"/>
                  <a:pt x="20997" y="896"/>
                  <a:pt x="20964" y="1317"/>
                </a:cubicBezTo>
                <a:cubicBezTo>
                  <a:pt x="20866" y="2423"/>
                  <a:pt x="20671" y="3530"/>
                  <a:pt x="20475" y="4425"/>
                </a:cubicBezTo>
                <a:cubicBezTo>
                  <a:pt x="20247" y="5584"/>
                  <a:pt x="19970" y="6638"/>
                  <a:pt x="19709" y="7534"/>
                </a:cubicBezTo>
                <a:cubicBezTo>
                  <a:pt x="19073" y="9430"/>
                  <a:pt x="18356" y="10905"/>
                  <a:pt x="17671" y="12222"/>
                </a:cubicBezTo>
                <a:cubicBezTo>
                  <a:pt x="16742" y="14014"/>
                  <a:pt x="15780" y="15910"/>
                  <a:pt x="14737" y="16859"/>
                </a:cubicBezTo>
                <a:cubicBezTo>
                  <a:pt x="13351" y="18123"/>
                  <a:pt x="11900" y="18123"/>
                  <a:pt x="10498" y="18123"/>
                </a:cubicBezTo>
                <a:cubicBezTo>
                  <a:pt x="9227" y="18123"/>
                  <a:pt x="7955" y="18123"/>
                  <a:pt x="6684" y="17491"/>
                </a:cubicBezTo>
                <a:cubicBezTo>
                  <a:pt x="5331" y="16700"/>
                  <a:pt x="3994" y="15541"/>
                  <a:pt x="2788" y="13908"/>
                </a:cubicBezTo>
                <a:cubicBezTo>
                  <a:pt x="1891" y="12697"/>
                  <a:pt x="1109" y="11011"/>
                  <a:pt x="310" y="9220"/>
                </a:cubicBezTo>
                <a:cubicBezTo>
                  <a:pt x="196" y="9009"/>
                  <a:pt x="98" y="8693"/>
                  <a:pt x="0" y="8324"/>
                </a:cubicBezTo>
                <a:cubicBezTo>
                  <a:pt x="147" y="10220"/>
                  <a:pt x="310" y="12012"/>
                  <a:pt x="717" y="13329"/>
                </a:cubicBezTo>
                <a:cubicBezTo>
                  <a:pt x="1581" y="16016"/>
                  <a:pt x="2918" y="16332"/>
                  <a:pt x="4059" y="17649"/>
                </a:cubicBezTo>
                <a:cubicBezTo>
                  <a:pt x="4793" y="18544"/>
                  <a:pt x="5526" y="19545"/>
                  <a:pt x="6293" y="20125"/>
                </a:cubicBezTo>
                <a:cubicBezTo>
                  <a:pt x="7010" y="20599"/>
                  <a:pt x="7776" y="20494"/>
                  <a:pt x="8542" y="20704"/>
                </a:cubicBezTo>
                <a:cubicBezTo>
                  <a:pt x="9406" y="20915"/>
                  <a:pt x="10221" y="21389"/>
                  <a:pt x="11085" y="21495"/>
                </a:cubicBezTo>
                <a:cubicBezTo>
                  <a:pt x="11770" y="21600"/>
                  <a:pt x="12422" y="21600"/>
                  <a:pt x="13107" y="21231"/>
                </a:cubicBezTo>
                <a:cubicBezTo>
                  <a:pt x="13579" y="21020"/>
                  <a:pt x="13987" y="20494"/>
                  <a:pt x="14427" y="20020"/>
                </a:cubicBezTo>
                <a:cubicBezTo>
                  <a:pt x="14835" y="19545"/>
                  <a:pt x="15177" y="19019"/>
                  <a:pt x="15585" y="18544"/>
                </a:cubicBezTo>
                <a:cubicBezTo>
                  <a:pt x="16074" y="18123"/>
                  <a:pt x="16595" y="17754"/>
                  <a:pt x="17068" y="17333"/>
                </a:cubicBezTo>
                <a:cubicBezTo>
                  <a:pt x="17280" y="17122"/>
                  <a:pt x="17459" y="16437"/>
                  <a:pt x="17704" y="16437"/>
                </a:cubicBezTo>
                <a:cubicBezTo>
                  <a:pt x="18079" y="16595"/>
                  <a:pt x="18470" y="16859"/>
                  <a:pt x="18829" y="17227"/>
                </a:cubicBezTo>
                <a:cubicBezTo>
                  <a:pt x="19285" y="16121"/>
                  <a:pt x="19725" y="14909"/>
                  <a:pt x="20149" y="13698"/>
                </a:cubicBezTo>
                <a:cubicBezTo>
                  <a:pt x="20834" y="11538"/>
                  <a:pt x="21323" y="9009"/>
                  <a:pt x="21518" y="5690"/>
                </a:cubicBezTo>
                <a:cubicBezTo>
                  <a:pt x="21600" y="4425"/>
                  <a:pt x="21600" y="3003"/>
                  <a:pt x="21453" y="1897"/>
                </a:cubicBezTo>
                <a:cubicBezTo>
                  <a:pt x="21388" y="1106"/>
                  <a:pt x="21274" y="421"/>
                  <a:pt x="21046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9360" y="6429240"/>
            <a:ext cx="1203480" cy="44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8" y="8007"/>
                </a:moveTo>
                <a:cubicBezTo>
                  <a:pt x="2474" y="7215"/>
                  <a:pt x="2086" y="6335"/>
                  <a:pt x="1795" y="5411"/>
                </a:cubicBezTo>
                <a:cubicBezTo>
                  <a:pt x="1471" y="4399"/>
                  <a:pt x="1164" y="3299"/>
                  <a:pt x="1002" y="2068"/>
                </a:cubicBezTo>
                <a:cubicBezTo>
                  <a:pt x="922" y="1584"/>
                  <a:pt x="889" y="1056"/>
                  <a:pt x="857" y="616"/>
                </a:cubicBezTo>
                <a:cubicBezTo>
                  <a:pt x="857" y="616"/>
                  <a:pt x="954" y="0"/>
                  <a:pt x="954" y="0"/>
                </a:cubicBezTo>
                <a:cubicBezTo>
                  <a:pt x="647" y="660"/>
                  <a:pt x="275" y="1408"/>
                  <a:pt x="129" y="2464"/>
                </a:cubicBezTo>
                <a:cubicBezTo>
                  <a:pt x="0" y="3343"/>
                  <a:pt x="81" y="4575"/>
                  <a:pt x="113" y="5719"/>
                </a:cubicBezTo>
                <a:cubicBezTo>
                  <a:pt x="129" y="6467"/>
                  <a:pt x="210" y="7259"/>
                  <a:pt x="356" y="7919"/>
                </a:cubicBezTo>
                <a:cubicBezTo>
                  <a:pt x="728" y="10162"/>
                  <a:pt x="1471" y="11834"/>
                  <a:pt x="2263" y="13154"/>
                </a:cubicBezTo>
                <a:cubicBezTo>
                  <a:pt x="3945" y="16013"/>
                  <a:pt x="5707" y="18521"/>
                  <a:pt x="7599" y="20104"/>
                </a:cubicBezTo>
                <a:cubicBezTo>
                  <a:pt x="9264" y="21512"/>
                  <a:pt x="11059" y="21600"/>
                  <a:pt x="12805" y="21512"/>
                </a:cubicBezTo>
                <a:cubicBezTo>
                  <a:pt x="14082" y="21380"/>
                  <a:pt x="15375" y="21292"/>
                  <a:pt x="16604" y="20544"/>
                </a:cubicBezTo>
                <a:cubicBezTo>
                  <a:pt x="18011" y="19664"/>
                  <a:pt x="19207" y="19092"/>
                  <a:pt x="20226" y="17685"/>
                </a:cubicBezTo>
                <a:cubicBezTo>
                  <a:pt x="20711" y="17025"/>
                  <a:pt x="21147" y="16277"/>
                  <a:pt x="21600" y="15441"/>
                </a:cubicBezTo>
                <a:cubicBezTo>
                  <a:pt x="21212" y="15133"/>
                  <a:pt x="20808" y="14913"/>
                  <a:pt x="20436" y="14781"/>
                </a:cubicBezTo>
                <a:cubicBezTo>
                  <a:pt x="20193" y="14781"/>
                  <a:pt x="20016" y="15353"/>
                  <a:pt x="19805" y="15529"/>
                </a:cubicBezTo>
                <a:cubicBezTo>
                  <a:pt x="19337" y="15881"/>
                  <a:pt x="18819" y="16189"/>
                  <a:pt x="18334" y="16541"/>
                </a:cubicBezTo>
                <a:cubicBezTo>
                  <a:pt x="17930" y="16937"/>
                  <a:pt x="17590" y="17377"/>
                  <a:pt x="17186" y="17773"/>
                </a:cubicBezTo>
                <a:cubicBezTo>
                  <a:pt x="16750" y="18169"/>
                  <a:pt x="16346" y="18609"/>
                  <a:pt x="15877" y="18785"/>
                </a:cubicBezTo>
                <a:cubicBezTo>
                  <a:pt x="15198" y="19092"/>
                  <a:pt x="14551" y="19092"/>
                  <a:pt x="13872" y="19004"/>
                </a:cubicBezTo>
                <a:cubicBezTo>
                  <a:pt x="13015" y="18916"/>
                  <a:pt x="12207" y="18521"/>
                  <a:pt x="11350" y="18345"/>
                </a:cubicBezTo>
                <a:cubicBezTo>
                  <a:pt x="10590" y="18169"/>
                  <a:pt x="9830" y="18257"/>
                  <a:pt x="9119" y="17861"/>
                </a:cubicBezTo>
                <a:cubicBezTo>
                  <a:pt x="8359" y="17377"/>
                  <a:pt x="7631" y="16541"/>
                  <a:pt x="6904" y="15793"/>
                </a:cubicBezTo>
                <a:cubicBezTo>
                  <a:pt x="5772" y="14693"/>
                  <a:pt x="4446" y="14429"/>
                  <a:pt x="3589" y="12186"/>
                </a:cubicBezTo>
                <a:cubicBezTo>
                  <a:pt x="3185" y="11086"/>
                  <a:pt x="3023" y="9590"/>
                  <a:pt x="2878" y="80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9360" y="6429240"/>
            <a:ext cx="1352520" cy="44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111" y="1056"/>
                </a:moveTo>
                <a:cubicBezTo>
                  <a:pt x="21111" y="1408"/>
                  <a:pt x="21068" y="1804"/>
                  <a:pt x="21040" y="2156"/>
                </a:cubicBezTo>
                <a:cubicBezTo>
                  <a:pt x="20953" y="3079"/>
                  <a:pt x="20781" y="4003"/>
                  <a:pt x="20608" y="4751"/>
                </a:cubicBezTo>
                <a:cubicBezTo>
                  <a:pt x="20407" y="5719"/>
                  <a:pt x="20163" y="6599"/>
                  <a:pt x="19933" y="7347"/>
                </a:cubicBezTo>
                <a:cubicBezTo>
                  <a:pt x="19372" y="8930"/>
                  <a:pt x="18740" y="10162"/>
                  <a:pt x="18137" y="11262"/>
                </a:cubicBezTo>
                <a:cubicBezTo>
                  <a:pt x="17317" y="12758"/>
                  <a:pt x="16469" y="14341"/>
                  <a:pt x="15550" y="15133"/>
                </a:cubicBezTo>
                <a:cubicBezTo>
                  <a:pt x="14328" y="16189"/>
                  <a:pt x="13049" y="16189"/>
                  <a:pt x="11813" y="16189"/>
                </a:cubicBezTo>
                <a:cubicBezTo>
                  <a:pt x="10692" y="16189"/>
                  <a:pt x="9571" y="16189"/>
                  <a:pt x="8450" y="15661"/>
                </a:cubicBezTo>
                <a:cubicBezTo>
                  <a:pt x="7257" y="15001"/>
                  <a:pt x="6079" y="14033"/>
                  <a:pt x="5016" y="12670"/>
                </a:cubicBezTo>
                <a:cubicBezTo>
                  <a:pt x="4225" y="11658"/>
                  <a:pt x="3535" y="10250"/>
                  <a:pt x="2831" y="8754"/>
                </a:cubicBezTo>
                <a:cubicBezTo>
                  <a:pt x="2371" y="7743"/>
                  <a:pt x="1911" y="6599"/>
                  <a:pt x="1595" y="5411"/>
                </a:cubicBezTo>
                <a:cubicBezTo>
                  <a:pt x="1308" y="4399"/>
                  <a:pt x="1035" y="3299"/>
                  <a:pt x="891" y="2068"/>
                </a:cubicBezTo>
                <a:cubicBezTo>
                  <a:pt x="819" y="1584"/>
                  <a:pt x="790" y="1056"/>
                  <a:pt x="762" y="616"/>
                </a:cubicBezTo>
                <a:cubicBezTo>
                  <a:pt x="762" y="616"/>
                  <a:pt x="848" y="0"/>
                  <a:pt x="848" y="0"/>
                </a:cubicBezTo>
                <a:cubicBezTo>
                  <a:pt x="575" y="660"/>
                  <a:pt x="244" y="1408"/>
                  <a:pt x="115" y="2464"/>
                </a:cubicBezTo>
                <a:cubicBezTo>
                  <a:pt x="0" y="3343"/>
                  <a:pt x="72" y="4575"/>
                  <a:pt x="101" y="5719"/>
                </a:cubicBezTo>
                <a:cubicBezTo>
                  <a:pt x="115" y="6467"/>
                  <a:pt x="187" y="7259"/>
                  <a:pt x="316" y="7919"/>
                </a:cubicBezTo>
                <a:cubicBezTo>
                  <a:pt x="647" y="10162"/>
                  <a:pt x="1308" y="11834"/>
                  <a:pt x="2012" y="13154"/>
                </a:cubicBezTo>
                <a:cubicBezTo>
                  <a:pt x="3507" y="16013"/>
                  <a:pt x="5073" y="18521"/>
                  <a:pt x="6754" y="20104"/>
                </a:cubicBezTo>
                <a:cubicBezTo>
                  <a:pt x="8235" y="21512"/>
                  <a:pt x="9830" y="21600"/>
                  <a:pt x="11382" y="21512"/>
                </a:cubicBezTo>
                <a:cubicBezTo>
                  <a:pt x="12517" y="21380"/>
                  <a:pt x="13667" y="21292"/>
                  <a:pt x="14759" y="20544"/>
                </a:cubicBezTo>
                <a:cubicBezTo>
                  <a:pt x="16010" y="19664"/>
                  <a:pt x="17073" y="19092"/>
                  <a:pt x="17978" y="17685"/>
                </a:cubicBezTo>
                <a:cubicBezTo>
                  <a:pt x="18841" y="16409"/>
                  <a:pt x="19617" y="14517"/>
                  <a:pt x="20321" y="12494"/>
                </a:cubicBezTo>
                <a:cubicBezTo>
                  <a:pt x="20925" y="10690"/>
                  <a:pt x="21356" y="8578"/>
                  <a:pt x="21528" y="5807"/>
                </a:cubicBezTo>
                <a:cubicBezTo>
                  <a:pt x="21600" y="4751"/>
                  <a:pt x="21600" y="3563"/>
                  <a:pt x="21471" y="2640"/>
                </a:cubicBezTo>
                <a:cubicBezTo>
                  <a:pt x="21413" y="1980"/>
                  <a:pt x="21313" y="1408"/>
                  <a:pt x="21111" y="1056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031840" y="5467320"/>
            <a:ext cx="181080" cy="12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2" y="31"/>
                </a:moveTo>
                <a:cubicBezTo>
                  <a:pt x="20952" y="299"/>
                  <a:pt x="21276" y="535"/>
                  <a:pt x="21276" y="803"/>
                </a:cubicBezTo>
                <a:cubicBezTo>
                  <a:pt x="21276" y="1322"/>
                  <a:pt x="20952" y="1858"/>
                  <a:pt x="20952" y="2362"/>
                </a:cubicBezTo>
                <a:cubicBezTo>
                  <a:pt x="20952" y="2897"/>
                  <a:pt x="20520" y="3416"/>
                  <a:pt x="20196" y="3952"/>
                </a:cubicBezTo>
                <a:cubicBezTo>
                  <a:pt x="19980" y="4880"/>
                  <a:pt x="19872" y="5809"/>
                  <a:pt x="19872" y="6707"/>
                </a:cubicBezTo>
                <a:cubicBezTo>
                  <a:pt x="19872" y="7431"/>
                  <a:pt x="19872" y="8202"/>
                  <a:pt x="19872" y="8942"/>
                </a:cubicBezTo>
                <a:cubicBezTo>
                  <a:pt x="19872" y="9714"/>
                  <a:pt x="19872" y="10501"/>
                  <a:pt x="19872" y="11257"/>
                </a:cubicBezTo>
                <a:cubicBezTo>
                  <a:pt x="19872" y="11934"/>
                  <a:pt x="19980" y="12610"/>
                  <a:pt x="19980" y="13272"/>
                </a:cubicBezTo>
                <a:cubicBezTo>
                  <a:pt x="19980" y="13791"/>
                  <a:pt x="19980" y="14327"/>
                  <a:pt x="19980" y="14862"/>
                </a:cubicBezTo>
                <a:cubicBezTo>
                  <a:pt x="20196" y="15854"/>
                  <a:pt x="20196" y="16845"/>
                  <a:pt x="20736" y="17806"/>
                </a:cubicBezTo>
                <a:cubicBezTo>
                  <a:pt x="20952" y="18750"/>
                  <a:pt x="21600" y="19679"/>
                  <a:pt x="20196" y="20545"/>
                </a:cubicBezTo>
                <a:cubicBezTo>
                  <a:pt x="19872" y="20844"/>
                  <a:pt x="18900" y="21175"/>
                  <a:pt x="17280" y="21380"/>
                </a:cubicBezTo>
                <a:cubicBezTo>
                  <a:pt x="15444" y="21600"/>
                  <a:pt x="12744" y="21600"/>
                  <a:pt x="10476" y="21553"/>
                </a:cubicBezTo>
                <a:cubicBezTo>
                  <a:pt x="9828" y="21521"/>
                  <a:pt x="9288" y="21474"/>
                  <a:pt x="8856" y="21443"/>
                </a:cubicBezTo>
                <a:cubicBezTo>
                  <a:pt x="10260" y="21317"/>
                  <a:pt x="11664" y="21175"/>
                  <a:pt x="12744" y="21049"/>
                </a:cubicBezTo>
                <a:cubicBezTo>
                  <a:pt x="15228" y="20750"/>
                  <a:pt x="16200" y="20246"/>
                  <a:pt x="16416" y="19774"/>
                </a:cubicBezTo>
                <a:cubicBezTo>
                  <a:pt x="17064" y="18750"/>
                  <a:pt x="15660" y="17759"/>
                  <a:pt x="15444" y="16720"/>
                </a:cubicBezTo>
                <a:cubicBezTo>
                  <a:pt x="15228" y="14862"/>
                  <a:pt x="15228" y="13036"/>
                  <a:pt x="15120" y="11178"/>
                </a:cubicBezTo>
                <a:cubicBezTo>
                  <a:pt x="14796" y="9635"/>
                  <a:pt x="13608" y="8139"/>
                  <a:pt x="13608" y="6612"/>
                </a:cubicBezTo>
                <a:cubicBezTo>
                  <a:pt x="13608" y="5652"/>
                  <a:pt x="14580" y="4676"/>
                  <a:pt x="15228" y="3715"/>
                </a:cubicBezTo>
                <a:cubicBezTo>
                  <a:pt x="15444" y="3212"/>
                  <a:pt x="17496" y="2708"/>
                  <a:pt x="16632" y="2236"/>
                </a:cubicBezTo>
                <a:cubicBezTo>
                  <a:pt x="15984" y="1779"/>
                  <a:pt x="13284" y="1464"/>
                  <a:pt x="10692" y="1259"/>
                </a:cubicBezTo>
                <a:cubicBezTo>
                  <a:pt x="7452" y="992"/>
                  <a:pt x="3780" y="819"/>
                  <a:pt x="0" y="661"/>
                </a:cubicBezTo>
                <a:cubicBezTo>
                  <a:pt x="0" y="661"/>
                  <a:pt x="648" y="0"/>
                  <a:pt x="648" y="0"/>
                </a:cubicBezTo>
                <a:cubicBezTo>
                  <a:pt x="3672" y="157"/>
                  <a:pt x="5616" y="394"/>
                  <a:pt x="8856" y="425"/>
                </a:cubicBezTo>
                <a:cubicBezTo>
                  <a:pt x="11880" y="457"/>
                  <a:pt x="14796" y="299"/>
                  <a:pt x="17820" y="189"/>
                </a:cubicBezTo>
                <a:cubicBezTo>
                  <a:pt x="18684" y="157"/>
                  <a:pt x="19872" y="94"/>
                  <a:pt x="20952" y="31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65280" y="5354640"/>
            <a:ext cx="18108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764" y="1776"/>
                </a:moveTo>
                <a:cubicBezTo>
                  <a:pt x="19656" y="1507"/>
                  <a:pt x="19332" y="1300"/>
                  <a:pt x="19332" y="1205"/>
                </a:cubicBezTo>
                <a:cubicBezTo>
                  <a:pt x="19116" y="809"/>
                  <a:pt x="18900" y="412"/>
                  <a:pt x="18900" y="0"/>
                </a:cubicBezTo>
                <a:cubicBezTo>
                  <a:pt x="18360" y="174"/>
                  <a:pt x="17496" y="301"/>
                  <a:pt x="16740" y="412"/>
                </a:cubicBezTo>
                <a:cubicBezTo>
                  <a:pt x="15660" y="571"/>
                  <a:pt x="13824" y="603"/>
                  <a:pt x="12528" y="698"/>
                </a:cubicBezTo>
                <a:cubicBezTo>
                  <a:pt x="9828" y="872"/>
                  <a:pt x="5832" y="872"/>
                  <a:pt x="4320" y="1237"/>
                </a:cubicBezTo>
                <a:cubicBezTo>
                  <a:pt x="3456" y="1427"/>
                  <a:pt x="3996" y="1665"/>
                  <a:pt x="3996" y="1903"/>
                </a:cubicBezTo>
                <a:cubicBezTo>
                  <a:pt x="3996" y="2109"/>
                  <a:pt x="3456" y="2331"/>
                  <a:pt x="2700" y="2522"/>
                </a:cubicBezTo>
                <a:cubicBezTo>
                  <a:pt x="1944" y="2680"/>
                  <a:pt x="1080" y="2839"/>
                  <a:pt x="0" y="2950"/>
                </a:cubicBezTo>
                <a:cubicBezTo>
                  <a:pt x="216" y="3251"/>
                  <a:pt x="324" y="3521"/>
                  <a:pt x="540" y="3806"/>
                </a:cubicBezTo>
                <a:cubicBezTo>
                  <a:pt x="1296" y="5027"/>
                  <a:pt x="1836" y="6296"/>
                  <a:pt x="1944" y="7565"/>
                </a:cubicBezTo>
                <a:cubicBezTo>
                  <a:pt x="2484" y="8849"/>
                  <a:pt x="3456" y="10150"/>
                  <a:pt x="3564" y="11450"/>
                </a:cubicBezTo>
                <a:cubicBezTo>
                  <a:pt x="3780" y="12465"/>
                  <a:pt x="3780" y="13464"/>
                  <a:pt x="3996" y="14463"/>
                </a:cubicBezTo>
                <a:cubicBezTo>
                  <a:pt x="4320" y="15241"/>
                  <a:pt x="4536" y="16049"/>
                  <a:pt x="4752" y="16842"/>
                </a:cubicBezTo>
                <a:cubicBezTo>
                  <a:pt x="4752" y="17350"/>
                  <a:pt x="4968" y="17857"/>
                  <a:pt x="4968" y="18365"/>
                </a:cubicBezTo>
                <a:cubicBezTo>
                  <a:pt x="5184" y="18904"/>
                  <a:pt x="5400" y="19427"/>
                  <a:pt x="5616" y="19967"/>
                </a:cubicBezTo>
                <a:cubicBezTo>
                  <a:pt x="5616" y="20379"/>
                  <a:pt x="6156" y="21235"/>
                  <a:pt x="6156" y="21235"/>
                </a:cubicBezTo>
                <a:cubicBezTo>
                  <a:pt x="6156" y="21235"/>
                  <a:pt x="10044" y="21600"/>
                  <a:pt x="11988" y="21600"/>
                </a:cubicBezTo>
                <a:cubicBezTo>
                  <a:pt x="14040" y="21600"/>
                  <a:pt x="16524" y="21568"/>
                  <a:pt x="18360" y="21441"/>
                </a:cubicBezTo>
                <a:cubicBezTo>
                  <a:pt x="19764" y="21330"/>
                  <a:pt x="20952" y="21093"/>
                  <a:pt x="21600" y="20934"/>
                </a:cubicBezTo>
                <a:cubicBezTo>
                  <a:pt x="19656" y="19491"/>
                  <a:pt x="15660" y="18079"/>
                  <a:pt x="14904" y="16604"/>
                </a:cubicBezTo>
                <a:cubicBezTo>
                  <a:pt x="14364" y="15082"/>
                  <a:pt x="18036" y="13528"/>
                  <a:pt x="17496" y="11989"/>
                </a:cubicBezTo>
                <a:cubicBezTo>
                  <a:pt x="17280" y="10752"/>
                  <a:pt x="14796" y="9547"/>
                  <a:pt x="12744" y="8342"/>
                </a:cubicBezTo>
                <a:cubicBezTo>
                  <a:pt x="11124" y="7359"/>
                  <a:pt x="6804" y="6502"/>
                  <a:pt x="6588" y="5487"/>
                </a:cubicBezTo>
                <a:cubicBezTo>
                  <a:pt x="6588" y="4932"/>
                  <a:pt x="11124" y="4552"/>
                  <a:pt x="11988" y="3996"/>
                </a:cubicBezTo>
                <a:cubicBezTo>
                  <a:pt x="12744" y="3521"/>
                  <a:pt x="9288" y="2918"/>
                  <a:pt x="11340" y="2553"/>
                </a:cubicBezTo>
                <a:cubicBezTo>
                  <a:pt x="13392" y="2173"/>
                  <a:pt x="16524" y="1935"/>
                  <a:pt x="19764" y="17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21080" y="5454720"/>
            <a:ext cx="161640" cy="10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20" y="19615"/>
                </a:moveTo>
                <a:cubicBezTo>
                  <a:pt x="20520" y="19258"/>
                  <a:pt x="21240" y="19079"/>
                  <a:pt x="21240" y="18739"/>
                </a:cubicBezTo>
                <a:cubicBezTo>
                  <a:pt x="20760" y="17827"/>
                  <a:pt x="20160" y="16933"/>
                  <a:pt x="19800" y="16021"/>
                </a:cubicBezTo>
                <a:cubicBezTo>
                  <a:pt x="19200" y="15145"/>
                  <a:pt x="19200" y="14340"/>
                  <a:pt x="18960" y="13482"/>
                </a:cubicBezTo>
                <a:cubicBezTo>
                  <a:pt x="18720" y="12767"/>
                  <a:pt x="18480" y="11891"/>
                  <a:pt x="18480" y="11175"/>
                </a:cubicBezTo>
                <a:cubicBezTo>
                  <a:pt x="18480" y="10532"/>
                  <a:pt x="18240" y="9888"/>
                  <a:pt x="18000" y="9244"/>
                </a:cubicBezTo>
                <a:cubicBezTo>
                  <a:pt x="18000" y="8797"/>
                  <a:pt x="17760" y="8315"/>
                  <a:pt x="17520" y="7850"/>
                </a:cubicBezTo>
                <a:cubicBezTo>
                  <a:pt x="16920" y="7134"/>
                  <a:pt x="16680" y="6419"/>
                  <a:pt x="16440" y="5704"/>
                </a:cubicBezTo>
                <a:cubicBezTo>
                  <a:pt x="16200" y="4935"/>
                  <a:pt x="15720" y="4184"/>
                  <a:pt x="15480" y="3433"/>
                </a:cubicBezTo>
                <a:cubicBezTo>
                  <a:pt x="15120" y="2110"/>
                  <a:pt x="14880" y="751"/>
                  <a:pt x="14640" y="0"/>
                </a:cubicBezTo>
                <a:cubicBezTo>
                  <a:pt x="11040" y="179"/>
                  <a:pt x="7560" y="447"/>
                  <a:pt x="5280" y="876"/>
                </a:cubicBezTo>
                <a:cubicBezTo>
                  <a:pt x="3000" y="1287"/>
                  <a:pt x="6840" y="1967"/>
                  <a:pt x="6000" y="2503"/>
                </a:cubicBezTo>
                <a:cubicBezTo>
                  <a:pt x="5040" y="3129"/>
                  <a:pt x="0" y="3558"/>
                  <a:pt x="0" y="4184"/>
                </a:cubicBezTo>
                <a:cubicBezTo>
                  <a:pt x="240" y="5328"/>
                  <a:pt x="5040" y="6294"/>
                  <a:pt x="6840" y="7403"/>
                </a:cubicBezTo>
                <a:cubicBezTo>
                  <a:pt x="9120" y="8762"/>
                  <a:pt x="11880" y="10121"/>
                  <a:pt x="12120" y="11515"/>
                </a:cubicBezTo>
                <a:cubicBezTo>
                  <a:pt x="12720" y="13250"/>
                  <a:pt x="8640" y="15002"/>
                  <a:pt x="9240" y="16719"/>
                </a:cubicBezTo>
                <a:cubicBezTo>
                  <a:pt x="10080" y="18381"/>
                  <a:pt x="14520" y="19973"/>
                  <a:pt x="16680" y="21600"/>
                </a:cubicBezTo>
                <a:cubicBezTo>
                  <a:pt x="18480" y="21189"/>
                  <a:pt x="19800" y="20724"/>
                  <a:pt x="20760" y="20277"/>
                </a:cubicBezTo>
                <a:cubicBezTo>
                  <a:pt x="21000" y="20170"/>
                  <a:pt x="21240" y="20009"/>
                  <a:pt x="21600" y="19866"/>
                </a:cubicBezTo>
                <a:cubicBezTo>
                  <a:pt x="21000" y="19830"/>
                  <a:pt x="21000" y="19669"/>
                  <a:pt x="20520" y="19615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22480" y="5508720"/>
            <a:ext cx="155520" cy="118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53" y="21600"/>
                </a:moveTo>
                <a:cubicBezTo>
                  <a:pt x="9921" y="21534"/>
                  <a:pt x="8414" y="21403"/>
                  <a:pt x="7158" y="21255"/>
                </a:cubicBezTo>
                <a:cubicBezTo>
                  <a:pt x="4647" y="21009"/>
                  <a:pt x="3140" y="20632"/>
                  <a:pt x="1758" y="20353"/>
                </a:cubicBezTo>
                <a:cubicBezTo>
                  <a:pt x="1758" y="19942"/>
                  <a:pt x="1507" y="19548"/>
                  <a:pt x="1507" y="19253"/>
                </a:cubicBezTo>
                <a:cubicBezTo>
                  <a:pt x="1758" y="18416"/>
                  <a:pt x="1507" y="17792"/>
                  <a:pt x="1507" y="17168"/>
                </a:cubicBezTo>
                <a:cubicBezTo>
                  <a:pt x="1256" y="16331"/>
                  <a:pt x="1005" y="15461"/>
                  <a:pt x="628" y="14591"/>
                </a:cubicBezTo>
                <a:cubicBezTo>
                  <a:pt x="377" y="13360"/>
                  <a:pt x="628" y="12113"/>
                  <a:pt x="628" y="10849"/>
                </a:cubicBezTo>
                <a:cubicBezTo>
                  <a:pt x="628" y="8978"/>
                  <a:pt x="377" y="7074"/>
                  <a:pt x="377" y="5203"/>
                </a:cubicBezTo>
                <a:cubicBezTo>
                  <a:pt x="377" y="4300"/>
                  <a:pt x="0" y="3398"/>
                  <a:pt x="126" y="2495"/>
                </a:cubicBezTo>
                <a:cubicBezTo>
                  <a:pt x="126" y="2495"/>
                  <a:pt x="1507" y="0"/>
                  <a:pt x="1507" y="0"/>
                </a:cubicBezTo>
                <a:cubicBezTo>
                  <a:pt x="5902" y="164"/>
                  <a:pt x="9921" y="279"/>
                  <a:pt x="13688" y="558"/>
                </a:cubicBezTo>
                <a:cubicBezTo>
                  <a:pt x="16702" y="771"/>
                  <a:pt x="19842" y="1100"/>
                  <a:pt x="20595" y="1576"/>
                </a:cubicBezTo>
                <a:cubicBezTo>
                  <a:pt x="21600" y="2068"/>
                  <a:pt x="19214" y="2593"/>
                  <a:pt x="18963" y="3119"/>
                </a:cubicBezTo>
                <a:cubicBezTo>
                  <a:pt x="18209" y="4120"/>
                  <a:pt x="17079" y="5137"/>
                  <a:pt x="17079" y="6139"/>
                </a:cubicBezTo>
                <a:cubicBezTo>
                  <a:pt x="17079" y="7731"/>
                  <a:pt x="18460" y="9290"/>
                  <a:pt x="18837" y="10898"/>
                </a:cubicBezTo>
                <a:cubicBezTo>
                  <a:pt x="18963" y="12835"/>
                  <a:pt x="18963" y="14739"/>
                  <a:pt x="19214" y="16676"/>
                </a:cubicBezTo>
                <a:cubicBezTo>
                  <a:pt x="19465" y="17759"/>
                  <a:pt x="21098" y="18793"/>
                  <a:pt x="20344" y="19860"/>
                </a:cubicBezTo>
                <a:cubicBezTo>
                  <a:pt x="20093" y="20353"/>
                  <a:pt x="18963" y="20878"/>
                  <a:pt x="16074" y="21190"/>
                </a:cubicBezTo>
                <a:cubicBezTo>
                  <a:pt x="14819" y="21321"/>
                  <a:pt x="13186" y="21469"/>
                  <a:pt x="11553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22480" y="5467320"/>
            <a:ext cx="190440" cy="12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46" y="0"/>
                </a:moveTo>
                <a:cubicBezTo>
                  <a:pt x="4526" y="157"/>
                  <a:pt x="6377" y="394"/>
                  <a:pt x="9463" y="425"/>
                </a:cubicBezTo>
                <a:cubicBezTo>
                  <a:pt x="12343" y="457"/>
                  <a:pt x="15120" y="299"/>
                  <a:pt x="18000" y="189"/>
                </a:cubicBezTo>
                <a:cubicBezTo>
                  <a:pt x="18823" y="157"/>
                  <a:pt x="19954" y="94"/>
                  <a:pt x="20983" y="31"/>
                </a:cubicBezTo>
                <a:cubicBezTo>
                  <a:pt x="20983" y="299"/>
                  <a:pt x="21291" y="535"/>
                  <a:pt x="21291" y="803"/>
                </a:cubicBezTo>
                <a:cubicBezTo>
                  <a:pt x="21291" y="1322"/>
                  <a:pt x="20983" y="1858"/>
                  <a:pt x="20983" y="2362"/>
                </a:cubicBezTo>
                <a:cubicBezTo>
                  <a:pt x="20983" y="2897"/>
                  <a:pt x="20571" y="3416"/>
                  <a:pt x="20263" y="3952"/>
                </a:cubicBezTo>
                <a:cubicBezTo>
                  <a:pt x="20057" y="4880"/>
                  <a:pt x="19954" y="5809"/>
                  <a:pt x="19954" y="6707"/>
                </a:cubicBezTo>
                <a:cubicBezTo>
                  <a:pt x="19954" y="7431"/>
                  <a:pt x="19954" y="8202"/>
                  <a:pt x="19954" y="8942"/>
                </a:cubicBezTo>
                <a:cubicBezTo>
                  <a:pt x="19954" y="9714"/>
                  <a:pt x="19954" y="10501"/>
                  <a:pt x="19954" y="11257"/>
                </a:cubicBezTo>
                <a:cubicBezTo>
                  <a:pt x="19954" y="11934"/>
                  <a:pt x="20057" y="12610"/>
                  <a:pt x="20057" y="13272"/>
                </a:cubicBezTo>
                <a:cubicBezTo>
                  <a:pt x="20057" y="13791"/>
                  <a:pt x="20057" y="14327"/>
                  <a:pt x="20057" y="14862"/>
                </a:cubicBezTo>
                <a:cubicBezTo>
                  <a:pt x="20263" y="15854"/>
                  <a:pt x="20263" y="16845"/>
                  <a:pt x="20777" y="17806"/>
                </a:cubicBezTo>
                <a:cubicBezTo>
                  <a:pt x="20983" y="18750"/>
                  <a:pt x="21600" y="19679"/>
                  <a:pt x="20263" y="20545"/>
                </a:cubicBezTo>
                <a:cubicBezTo>
                  <a:pt x="19954" y="20844"/>
                  <a:pt x="19029" y="21175"/>
                  <a:pt x="17486" y="21380"/>
                </a:cubicBezTo>
                <a:cubicBezTo>
                  <a:pt x="15737" y="21600"/>
                  <a:pt x="13166" y="21600"/>
                  <a:pt x="11006" y="21553"/>
                </a:cubicBezTo>
                <a:cubicBezTo>
                  <a:pt x="9051" y="21474"/>
                  <a:pt x="7303" y="21317"/>
                  <a:pt x="5863" y="21112"/>
                </a:cubicBezTo>
                <a:cubicBezTo>
                  <a:pt x="3806" y="20876"/>
                  <a:pt x="2571" y="20514"/>
                  <a:pt x="1440" y="20246"/>
                </a:cubicBezTo>
                <a:cubicBezTo>
                  <a:pt x="1440" y="19852"/>
                  <a:pt x="1234" y="19475"/>
                  <a:pt x="1234" y="19191"/>
                </a:cubicBezTo>
                <a:cubicBezTo>
                  <a:pt x="1440" y="18388"/>
                  <a:pt x="1234" y="17790"/>
                  <a:pt x="1234" y="17192"/>
                </a:cubicBezTo>
                <a:cubicBezTo>
                  <a:pt x="1029" y="16389"/>
                  <a:pt x="823" y="15555"/>
                  <a:pt x="514" y="14720"/>
                </a:cubicBezTo>
                <a:cubicBezTo>
                  <a:pt x="309" y="13539"/>
                  <a:pt x="514" y="12343"/>
                  <a:pt x="514" y="11131"/>
                </a:cubicBezTo>
                <a:cubicBezTo>
                  <a:pt x="514" y="9336"/>
                  <a:pt x="309" y="7510"/>
                  <a:pt x="309" y="5715"/>
                </a:cubicBezTo>
                <a:cubicBezTo>
                  <a:pt x="309" y="4849"/>
                  <a:pt x="0" y="3983"/>
                  <a:pt x="103" y="3117"/>
                </a:cubicBezTo>
                <a:cubicBezTo>
                  <a:pt x="103" y="3117"/>
                  <a:pt x="1646" y="0"/>
                  <a:pt x="1646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65280" y="5354640"/>
            <a:ext cx="21744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93" y="19174"/>
                </a:moveTo>
                <a:cubicBezTo>
                  <a:pt x="20793" y="18856"/>
                  <a:pt x="21331" y="18698"/>
                  <a:pt x="21331" y="18396"/>
                </a:cubicBezTo>
                <a:cubicBezTo>
                  <a:pt x="20973" y="17588"/>
                  <a:pt x="20524" y="16795"/>
                  <a:pt x="20256" y="15986"/>
                </a:cubicBezTo>
                <a:cubicBezTo>
                  <a:pt x="19807" y="15209"/>
                  <a:pt x="19807" y="14495"/>
                  <a:pt x="19628" y="13734"/>
                </a:cubicBezTo>
                <a:cubicBezTo>
                  <a:pt x="19449" y="13100"/>
                  <a:pt x="19270" y="12322"/>
                  <a:pt x="19270" y="11688"/>
                </a:cubicBezTo>
                <a:cubicBezTo>
                  <a:pt x="19270" y="11117"/>
                  <a:pt x="19090" y="10546"/>
                  <a:pt x="18911" y="9975"/>
                </a:cubicBezTo>
                <a:cubicBezTo>
                  <a:pt x="18911" y="9579"/>
                  <a:pt x="18732" y="9151"/>
                  <a:pt x="18553" y="8738"/>
                </a:cubicBezTo>
                <a:cubicBezTo>
                  <a:pt x="18105" y="8104"/>
                  <a:pt x="17925" y="7470"/>
                  <a:pt x="17746" y="6835"/>
                </a:cubicBezTo>
                <a:cubicBezTo>
                  <a:pt x="17567" y="6153"/>
                  <a:pt x="17208" y="5487"/>
                  <a:pt x="17029" y="4821"/>
                </a:cubicBezTo>
                <a:cubicBezTo>
                  <a:pt x="16581" y="3188"/>
                  <a:pt x="16312" y="1507"/>
                  <a:pt x="16043" y="1205"/>
                </a:cubicBezTo>
                <a:cubicBezTo>
                  <a:pt x="15864" y="809"/>
                  <a:pt x="15685" y="412"/>
                  <a:pt x="15685" y="0"/>
                </a:cubicBezTo>
                <a:cubicBezTo>
                  <a:pt x="15237" y="174"/>
                  <a:pt x="14520" y="301"/>
                  <a:pt x="13892" y="412"/>
                </a:cubicBezTo>
                <a:cubicBezTo>
                  <a:pt x="12996" y="571"/>
                  <a:pt x="11472" y="603"/>
                  <a:pt x="10397" y="698"/>
                </a:cubicBezTo>
                <a:cubicBezTo>
                  <a:pt x="8156" y="872"/>
                  <a:pt x="4840" y="872"/>
                  <a:pt x="3585" y="1237"/>
                </a:cubicBezTo>
                <a:cubicBezTo>
                  <a:pt x="2868" y="1427"/>
                  <a:pt x="3316" y="1665"/>
                  <a:pt x="3316" y="1903"/>
                </a:cubicBezTo>
                <a:cubicBezTo>
                  <a:pt x="3316" y="2109"/>
                  <a:pt x="2868" y="2331"/>
                  <a:pt x="2241" y="2522"/>
                </a:cubicBezTo>
                <a:cubicBezTo>
                  <a:pt x="1613" y="2680"/>
                  <a:pt x="896" y="2839"/>
                  <a:pt x="0" y="2950"/>
                </a:cubicBezTo>
                <a:cubicBezTo>
                  <a:pt x="179" y="3251"/>
                  <a:pt x="269" y="3521"/>
                  <a:pt x="448" y="3806"/>
                </a:cubicBezTo>
                <a:cubicBezTo>
                  <a:pt x="1076" y="5027"/>
                  <a:pt x="1524" y="6296"/>
                  <a:pt x="1613" y="7565"/>
                </a:cubicBezTo>
                <a:cubicBezTo>
                  <a:pt x="2061" y="8849"/>
                  <a:pt x="2868" y="10150"/>
                  <a:pt x="2958" y="11450"/>
                </a:cubicBezTo>
                <a:cubicBezTo>
                  <a:pt x="3137" y="12465"/>
                  <a:pt x="3137" y="13464"/>
                  <a:pt x="3316" y="14463"/>
                </a:cubicBezTo>
                <a:cubicBezTo>
                  <a:pt x="3585" y="15241"/>
                  <a:pt x="3764" y="16049"/>
                  <a:pt x="3944" y="16842"/>
                </a:cubicBezTo>
                <a:cubicBezTo>
                  <a:pt x="3944" y="17350"/>
                  <a:pt x="4123" y="17857"/>
                  <a:pt x="4123" y="18365"/>
                </a:cubicBezTo>
                <a:cubicBezTo>
                  <a:pt x="4302" y="18904"/>
                  <a:pt x="4481" y="19427"/>
                  <a:pt x="4661" y="19967"/>
                </a:cubicBezTo>
                <a:cubicBezTo>
                  <a:pt x="4661" y="20379"/>
                  <a:pt x="5109" y="21235"/>
                  <a:pt x="5109" y="21235"/>
                </a:cubicBezTo>
                <a:cubicBezTo>
                  <a:pt x="5109" y="21235"/>
                  <a:pt x="8335" y="21600"/>
                  <a:pt x="9949" y="21600"/>
                </a:cubicBezTo>
                <a:cubicBezTo>
                  <a:pt x="11651" y="21600"/>
                  <a:pt x="13713" y="21568"/>
                  <a:pt x="15237" y="21441"/>
                </a:cubicBezTo>
                <a:cubicBezTo>
                  <a:pt x="16402" y="21330"/>
                  <a:pt x="17388" y="21093"/>
                  <a:pt x="17925" y="20934"/>
                </a:cubicBezTo>
                <a:cubicBezTo>
                  <a:pt x="19270" y="20569"/>
                  <a:pt x="20256" y="20157"/>
                  <a:pt x="20973" y="19760"/>
                </a:cubicBezTo>
                <a:cubicBezTo>
                  <a:pt x="21152" y="19665"/>
                  <a:pt x="21331" y="19522"/>
                  <a:pt x="21600" y="19396"/>
                </a:cubicBezTo>
                <a:cubicBezTo>
                  <a:pt x="21152" y="19364"/>
                  <a:pt x="21152" y="19221"/>
                  <a:pt x="20793" y="19174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03360" y="4586400"/>
            <a:ext cx="123048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83" y="1081"/>
                </a:moveTo>
                <a:cubicBezTo>
                  <a:pt x="5325" y="1183"/>
                  <a:pt x="5214" y="1550"/>
                  <a:pt x="5009" y="1652"/>
                </a:cubicBezTo>
                <a:cubicBezTo>
                  <a:pt x="4851" y="1734"/>
                  <a:pt x="4646" y="1550"/>
                  <a:pt x="4519" y="1693"/>
                </a:cubicBezTo>
                <a:cubicBezTo>
                  <a:pt x="4345" y="1856"/>
                  <a:pt x="4440" y="2386"/>
                  <a:pt x="4250" y="2550"/>
                </a:cubicBezTo>
                <a:cubicBezTo>
                  <a:pt x="3934" y="2815"/>
                  <a:pt x="3476" y="2468"/>
                  <a:pt x="3081" y="2590"/>
                </a:cubicBezTo>
                <a:cubicBezTo>
                  <a:pt x="2813" y="2692"/>
                  <a:pt x="2497" y="2856"/>
                  <a:pt x="2307" y="3100"/>
                </a:cubicBezTo>
                <a:cubicBezTo>
                  <a:pt x="2070" y="3406"/>
                  <a:pt x="2023" y="3957"/>
                  <a:pt x="1786" y="4263"/>
                </a:cubicBezTo>
                <a:cubicBezTo>
                  <a:pt x="1643" y="4446"/>
                  <a:pt x="1406" y="4610"/>
                  <a:pt x="1248" y="4752"/>
                </a:cubicBezTo>
                <a:cubicBezTo>
                  <a:pt x="1106" y="4854"/>
                  <a:pt x="948" y="4875"/>
                  <a:pt x="837" y="5058"/>
                </a:cubicBezTo>
                <a:cubicBezTo>
                  <a:pt x="679" y="5364"/>
                  <a:pt x="822" y="5813"/>
                  <a:pt x="679" y="6119"/>
                </a:cubicBezTo>
                <a:cubicBezTo>
                  <a:pt x="600" y="6343"/>
                  <a:pt x="442" y="6466"/>
                  <a:pt x="348" y="6649"/>
                </a:cubicBezTo>
                <a:cubicBezTo>
                  <a:pt x="237" y="6853"/>
                  <a:pt x="0" y="7384"/>
                  <a:pt x="0" y="7384"/>
                </a:cubicBezTo>
                <a:cubicBezTo>
                  <a:pt x="0" y="7384"/>
                  <a:pt x="395" y="8077"/>
                  <a:pt x="679" y="8363"/>
                </a:cubicBezTo>
                <a:cubicBezTo>
                  <a:pt x="901" y="8628"/>
                  <a:pt x="1280" y="8811"/>
                  <a:pt x="1375" y="9178"/>
                </a:cubicBezTo>
                <a:cubicBezTo>
                  <a:pt x="1485" y="9525"/>
                  <a:pt x="1248" y="9974"/>
                  <a:pt x="1248" y="10341"/>
                </a:cubicBezTo>
                <a:cubicBezTo>
                  <a:pt x="1248" y="10871"/>
                  <a:pt x="1280" y="11381"/>
                  <a:pt x="1375" y="11891"/>
                </a:cubicBezTo>
                <a:cubicBezTo>
                  <a:pt x="1517" y="12585"/>
                  <a:pt x="1549" y="13401"/>
                  <a:pt x="1975" y="13849"/>
                </a:cubicBezTo>
                <a:cubicBezTo>
                  <a:pt x="2275" y="14135"/>
                  <a:pt x="2813" y="13707"/>
                  <a:pt x="3144" y="14012"/>
                </a:cubicBezTo>
                <a:cubicBezTo>
                  <a:pt x="3381" y="14237"/>
                  <a:pt x="3413" y="14706"/>
                  <a:pt x="3539" y="15053"/>
                </a:cubicBezTo>
                <a:cubicBezTo>
                  <a:pt x="3776" y="15563"/>
                  <a:pt x="3982" y="16297"/>
                  <a:pt x="4393" y="16684"/>
                </a:cubicBezTo>
                <a:cubicBezTo>
                  <a:pt x="4740" y="17031"/>
                  <a:pt x="5246" y="17154"/>
                  <a:pt x="5720" y="17154"/>
                </a:cubicBezTo>
                <a:cubicBezTo>
                  <a:pt x="5957" y="17154"/>
                  <a:pt x="6447" y="16909"/>
                  <a:pt x="6447" y="16909"/>
                </a:cubicBezTo>
                <a:cubicBezTo>
                  <a:pt x="6447" y="16909"/>
                  <a:pt x="6289" y="17337"/>
                  <a:pt x="6257" y="17541"/>
                </a:cubicBezTo>
                <a:cubicBezTo>
                  <a:pt x="6226" y="17704"/>
                  <a:pt x="6289" y="18112"/>
                  <a:pt x="6289" y="18112"/>
                </a:cubicBezTo>
                <a:cubicBezTo>
                  <a:pt x="6289" y="18112"/>
                  <a:pt x="6842" y="17888"/>
                  <a:pt x="7158" y="17969"/>
                </a:cubicBezTo>
                <a:cubicBezTo>
                  <a:pt x="7505" y="18051"/>
                  <a:pt x="7822" y="18500"/>
                  <a:pt x="8090" y="18887"/>
                </a:cubicBezTo>
                <a:cubicBezTo>
                  <a:pt x="8185" y="19050"/>
                  <a:pt x="8327" y="19254"/>
                  <a:pt x="8454" y="19438"/>
                </a:cubicBezTo>
                <a:cubicBezTo>
                  <a:pt x="8675" y="19703"/>
                  <a:pt x="9133" y="19825"/>
                  <a:pt x="9386" y="19968"/>
                </a:cubicBezTo>
                <a:cubicBezTo>
                  <a:pt x="9828" y="20172"/>
                  <a:pt x="10113" y="20478"/>
                  <a:pt x="10587" y="20519"/>
                </a:cubicBezTo>
                <a:cubicBezTo>
                  <a:pt x="11029" y="20560"/>
                  <a:pt x="11456" y="20356"/>
                  <a:pt x="11898" y="20213"/>
                </a:cubicBezTo>
                <a:cubicBezTo>
                  <a:pt x="12214" y="20091"/>
                  <a:pt x="12593" y="19825"/>
                  <a:pt x="12957" y="19703"/>
                </a:cubicBezTo>
                <a:cubicBezTo>
                  <a:pt x="13099" y="19662"/>
                  <a:pt x="13257" y="19520"/>
                  <a:pt x="13399" y="19560"/>
                </a:cubicBezTo>
                <a:cubicBezTo>
                  <a:pt x="13652" y="19703"/>
                  <a:pt x="13731" y="20213"/>
                  <a:pt x="13952" y="20478"/>
                </a:cubicBezTo>
                <a:cubicBezTo>
                  <a:pt x="14221" y="20764"/>
                  <a:pt x="14537" y="21070"/>
                  <a:pt x="14853" y="21253"/>
                </a:cubicBezTo>
                <a:cubicBezTo>
                  <a:pt x="15327" y="21457"/>
                  <a:pt x="15896" y="21600"/>
                  <a:pt x="16401" y="21518"/>
                </a:cubicBezTo>
                <a:cubicBezTo>
                  <a:pt x="16559" y="21457"/>
                  <a:pt x="16765" y="21335"/>
                  <a:pt x="16907" y="21212"/>
                </a:cubicBezTo>
                <a:cubicBezTo>
                  <a:pt x="17065" y="21070"/>
                  <a:pt x="17192" y="20866"/>
                  <a:pt x="17302" y="20662"/>
                </a:cubicBezTo>
                <a:cubicBezTo>
                  <a:pt x="17413" y="20417"/>
                  <a:pt x="17492" y="20131"/>
                  <a:pt x="17492" y="19866"/>
                </a:cubicBezTo>
                <a:cubicBezTo>
                  <a:pt x="17492" y="19560"/>
                  <a:pt x="17413" y="19254"/>
                  <a:pt x="17539" y="19010"/>
                </a:cubicBezTo>
                <a:cubicBezTo>
                  <a:pt x="17760" y="18541"/>
                  <a:pt x="18345" y="18541"/>
                  <a:pt x="18740" y="18316"/>
                </a:cubicBezTo>
                <a:cubicBezTo>
                  <a:pt x="18930" y="18194"/>
                  <a:pt x="19198" y="18153"/>
                  <a:pt x="19356" y="17949"/>
                </a:cubicBezTo>
                <a:cubicBezTo>
                  <a:pt x="19467" y="17806"/>
                  <a:pt x="19562" y="17602"/>
                  <a:pt x="19641" y="17358"/>
                </a:cubicBezTo>
                <a:cubicBezTo>
                  <a:pt x="19704" y="17072"/>
                  <a:pt x="19641" y="16766"/>
                  <a:pt x="19641" y="16460"/>
                </a:cubicBezTo>
                <a:cubicBezTo>
                  <a:pt x="19641" y="16134"/>
                  <a:pt x="19562" y="15746"/>
                  <a:pt x="19641" y="15338"/>
                </a:cubicBezTo>
                <a:cubicBezTo>
                  <a:pt x="19672" y="15175"/>
                  <a:pt x="19783" y="14930"/>
                  <a:pt x="19862" y="14747"/>
                </a:cubicBezTo>
                <a:cubicBezTo>
                  <a:pt x="20067" y="14359"/>
                  <a:pt x="20447" y="14196"/>
                  <a:pt x="20747" y="13849"/>
                </a:cubicBezTo>
                <a:cubicBezTo>
                  <a:pt x="20936" y="13584"/>
                  <a:pt x="21268" y="13380"/>
                  <a:pt x="21410" y="12972"/>
                </a:cubicBezTo>
                <a:cubicBezTo>
                  <a:pt x="21537" y="12687"/>
                  <a:pt x="21458" y="12279"/>
                  <a:pt x="21505" y="11932"/>
                </a:cubicBezTo>
                <a:cubicBezTo>
                  <a:pt x="21537" y="11565"/>
                  <a:pt x="21600" y="11137"/>
                  <a:pt x="21600" y="10688"/>
                </a:cubicBezTo>
                <a:cubicBezTo>
                  <a:pt x="21600" y="10178"/>
                  <a:pt x="21568" y="9566"/>
                  <a:pt x="21410" y="9117"/>
                </a:cubicBezTo>
                <a:cubicBezTo>
                  <a:pt x="21268" y="8709"/>
                  <a:pt x="20936" y="8424"/>
                  <a:pt x="20747" y="7975"/>
                </a:cubicBezTo>
                <a:cubicBezTo>
                  <a:pt x="20573" y="7588"/>
                  <a:pt x="20399" y="7078"/>
                  <a:pt x="20273" y="6608"/>
                </a:cubicBezTo>
                <a:cubicBezTo>
                  <a:pt x="20210" y="6343"/>
                  <a:pt x="20210" y="5956"/>
                  <a:pt x="20004" y="5752"/>
                </a:cubicBezTo>
                <a:cubicBezTo>
                  <a:pt x="19862" y="5609"/>
                  <a:pt x="19641" y="5650"/>
                  <a:pt x="19514" y="5527"/>
                </a:cubicBezTo>
                <a:cubicBezTo>
                  <a:pt x="19309" y="5303"/>
                  <a:pt x="19198" y="4956"/>
                  <a:pt x="19009" y="4671"/>
                </a:cubicBezTo>
                <a:cubicBezTo>
                  <a:pt x="18803" y="4324"/>
                  <a:pt x="18614" y="3937"/>
                  <a:pt x="18298" y="3671"/>
                </a:cubicBezTo>
                <a:cubicBezTo>
                  <a:pt x="17966" y="3365"/>
                  <a:pt x="17571" y="3059"/>
                  <a:pt x="17144" y="2937"/>
                </a:cubicBezTo>
                <a:cubicBezTo>
                  <a:pt x="16939" y="2896"/>
                  <a:pt x="16717" y="2896"/>
                  <a:pt x="16528" y="2896"/>
                </a:cubicBezTo>
                <a:cubicBezTo>
                  <a:pt x="16101" y="2856"/>
                  <a:pt x="15596" y="2998"/>
                  <a:pt x="15201" y="2754"/>
                </a:cubicBezTo>
                <a:cubicBezTo>
                  <a:pt x="14995" y="2652"/>
                  <a:pt x="14821" y="2305"/>
                  <a:pt x="14616" y="2080"/>
                </a:cubicBezTo>
                <a:cubicBezTo>
                  <a:pt x="14395" y="1856"/>
                  <a:pt x="14189" y="1550"/>
                  <a:pt x="13921" y="1346"/>
                </a:cubicBezTo>
                <a:cubicBezTo>
                  <a:pt x="13494" y="999"/>
                  <a:pt x="12957" y="734"/>
                  <a:pt x="12451" y="530"/>
                </a:cubicBezTo>
                <a:cubicBezTo>
                  <a:pt x="12088" y="347"/>
                  <a:pt x="11756" y="143"/>
                  <a:pt x="11361" y="41"/>
                </a:cubicBezTo>
                <a:cubicBezTo>
                  <a:pt x="11124" y="0"/>
                  <a:pt x="10855" y="102"/>
                  <a:pt x="10618" y="143"/>
                </a:cubicBezTo>
                <a:cubicBezTo>
                  <a:pt x="10255" y="224"/>
                  <a:pt x="9844" y="347"/>
                  <a:pt x="9449" y="530"/>
                </a:cubicBezTo>
                <a:cubicBezTo>
                  <a:pt x="9212" y="612"/>
                  <a:pt x="8991" y="836"/>
                  <a:pt x="8754" y="999"/>
                </a:cubicBezTo>
                <a:cubicBezTo>
                  <a:pt x="8517" y="1183"/>
                  <a:pt x="8327" y="1489"/>
                  <a:pt x="8059" y="1611"/>
                </a:cubicBezTo>
                <a:cubicBezTo>
                  <a:pt x="7822" y="1693"/>
                  <a:pt x="7553" y="1652"/>
                  <a:pt x="7284" y="1550"/>
                </a:cubicBezTo>
                <a:cubicBezTo>
                  <a:pt x="6984" y="1489"/>
                  <a:pt x="6763" y="1142"/>
                  <a:pt x="6415" y="1040"/>
                </a:cubicBezTo>
                <a:cubicBezTo>
                  <a:pt x="6115" y="959"/>
                  <a:pt x="5752" y="959"/>
                  <a:pt x="5483" y="108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87600" y="6541920"/>
            <a:ext cx="1265040" cy="40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389"/>
                </a:moveTo>
                <a:cubicBezTo>
                  <a:pt x="1521" y="11379"/>
                  <a:pt x="3134" y="14079"/>
                  <a:pt x="4870" y="15670"/>
                </a:cubicBezTo>
                <a:cubicBezTo>
                  <a:pt x="6452" y="17213"/>
                  <a:pt x="8158" y="17309"/>
                  <a:pt x="9817" y="17213"/>
                </a:cubicBezTo>
                <a:cubicBezTo>
                  <a:pt x="11030" y="17116"/>
                  <a:pt x="12259" y="17020"/>
                  <a:pt x="13427" y="16200"/>
                </a:cubicBezTo>
                <a:cubicBezTo>
                  <a:pt x="14764" y="15188"/>
                  <a:pt x="15900" y="14561"/>
                  <a:pt x="16868" y="13018"/>
                </a:cubicBezTo>
                <a:cubicBezTo>
                  <a:pt x="17790" y="11620"/>
                  <a:pt x="18620" y="9595"/>
                  <a:pt x="19372" y="7329"/>
                </a:cubicBezTo>
                <a:cubicBezTo>
                  <a:pt x="20018" y="5400"/>
                  <a:pt x="20479" y="3086"/>
                  <a:pt x="20663" y="0"/>
                </a:cubicBezTo>
                <a:cubicBezTo>
                  <a:pt x="20817" y="338"/>
                  <a:pt x="21001" y="434"/>
                  <a:pt x="21124" y="820"/>
                </a:cubicBezTo>
                <a:cubicBezTo>
                  <a:pt x="21308" y="1446"/>
                  <a:pt x="21508" y="2025"/>
                  <a:pt x="21600" y="2845"/>
                </a:cubicBezTo>
                <a:cubicBezTo>
                  <a:pt x="21385" y="4725"/>
                  <a:pt x="21078" y="6027"/>
                  <a:pt x="20740" y="7570"/>
                </a:cubicBezTo>
                <a:cubicBezTo>
                  <a:pt x="20248" y="9691"/>
                  <a:pt x="19787" y="12343"/>
                  <a:pt x="19004" y="13355"/>
                </a:cubicBezTo>
                <a:cubicBezTo>
                  <a:pt x="16515" y="16586"/>
                  <a:pt x="13888" y="19238"/>
                  <a:pt x="11184" y="20057"/>
                </a:cubicBezTo>
                <a:cubicBezTo>
                  <a:pt x="8311" y="20877"/>
                  <a:pt x="5208" y="21600"/>
                  <a:pt x="2519" y="18225"/>
                </a:cubicBezTo>
                <a:cubicBezTo>
                  <a:pt x="1244" y="16730"/>
                  <a:pt x="568" y="12729"/>
                  <a:pt x="0" y="8389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82760" y="6504120"/>
            <a:ext cx="1482840" cy="56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7" y="0"/>
                </a:moveTo>
                <a:cubicBezTo>
                  <a:pt x="1010" y="413"/>
                  <a:pt x="1037" y="930"/>
                  <a:pt x="1063" y="1378"/>
                </a:cubicBezTo>
                <a:cubicBezTo>
                  <a:pt x="1076" y="1964"/>
                  <a:pt x="1142" y="2618"/>
                  <a:pt x="1260" y="3135"/>
                </a:cubicBezTo>
                <a:cubicBezTo>
                  <a:pt x="1562" y="4892"/>
                  <a:pt x="2165" y="6201"/>
                  <a:pt x="2808" y="7200"/>
                </a:cubicBezTo>
                <a:cubicBezTo>
                  <a:pt x="2861" y="7269"/>
                  <a:pt x="2913" y="7372"/>
                  <a:pt x="2979" y="7441"/>
                </a:cubicBezTo>
                <a:cubicBezTo>
                  <a:pt x="3464" y="10542"/>
                  <a:pt x="4042" y="13401"/>
                  <a:pt x="5131" y="14469"/>
                </a:cubicBezTo>
                <a:cubicBezTo>
                  <a:pt x="7427" y="16880"/>
                  <a:pt x="10078" y="16364"/>
                  <a:pt x="12532" y="15778"/>
                </a:cubicBezTo>
                <a:cubicBezTo>
                  <a:pt x="14842" y="15192"/>
                  <a:pt x="17086" y="13298"/>
                  <a:pt x="19212" y="10989"/>
                </a:cubicBezTo>
                <a:cubicBezTo>
                  <a:pt x="19881" y="10266"/>
                  <a:pt x="20275" y="8371"/>
                  <a:pt x="20695" y="6856"/>
                </a:cubicBezTo>
                <a:cubicBezTo>
                  <a:pt x="20695" y="6856"/>
                  <a:pt x="21429" y="3479"/>
                  <a:pt x="21429" y="3479"/>
                </a:cubicBezTo>
                <a:cubicBezTo>
                  <a:pt x="21534" y="4237"/>
                  <a:pt x="21600" y="4926"/>
                  <a:pt x="21600" y="5581"/>
                </a:cubicBezTo>
                <a:cubicBezTo>
                  <a:pt x="21600" y="6270"/>
                  <a:pt x="21600" y="6924"/>
                  <a:pt x="21534" y="7476"/>
                </a:cubicBezTo>
                <a:cubicBezTo>
                  <a:pt x="21469" y="8509"/>
                  <a:pt x="21206" y="9474"/>
                  <a:pt x="21023" y="10266"/>
                </a:cubicBezTo>
                <a:cubicBezTo>
                  <a:pt x="20826" y="11058"/>
                  <a:pt x="20603" y="11782"/>
                  <a:pt x="20353" y="12436"/>
                </a:cubicBezTo>
                <a:cubicBezTo>
                  <a:pt x="19881" y="13745"/>
                  <a:pt x="19304" y="14917"/>
                  <a:pt x="18752" y="15916"/>
                </a:cubicBezTo>
                <a:cubicBezTo>
                  <a:pt x="17886" y="17535"/>
                  <a:pt x="16915" y="18706"/>
                  <a:pt x="16115" y="19499"/>
                </a:cubicBezTo>
                <a:cubicBezTo>
                  <a:pt x="15078" y="20498"/>
                  <a:pt x="14015" y="20945"/>
                  <a:pt x="12926" y="21256"/>
                </a:cubicBezTo>
                <a:cubicBezTo>
                  <a:pt x="11692" y="21531"/>
                  <a:pt x="10459" y="21600"/>
                  <a:pt x="9238" y="21393"/>
                </a:cubicBezTo>
                <a:cubicBezTo>
                  <a:pt x="8333" y="21256"/>
                  <a:pt x="7375" y="21014"/>
                  <a:pt x="6496" y="20429"/>
                </a:cubicBezTo>
                <a:cubicBezTo>
                  <a:pt x="5853" y="20015"/>
                  <a:pt x="5236" y="19326"/>
                  <a:pt x="4685" y="18775"/>
                </a:cubicBezTo>
                <a:cubicBezTo>
                  <a:pt x="4212" y="18293"/>
                  <a:pt x="3779" y="17604"/>
                  <a:pt x="3333" y="16949"/>
                </a:cubicBezTo>
                <a:cubicBezTo>
                  <a:pt x="2835" y="16226"/>
                  <a:pt x="2362" y="15330"/>
                  <a:pt x="1916" y="14469"/>
                </a:cubicBezTo>
                <a:cubicBezTo>
                  <a:pt x="1522" y="13677"/>
                  <a:pt x="1168" y="12815"/>
                  <a:pt x="866" y="11851"/>
                </a:cubicBezTo>
                <a:cubicBezTo>
                  <a:pt x="669" y="11265"/>
                  <a:pt x="472" y="10611"/>
                  <a:pt x="341" y="9990"/>
                </a:cubicBezTo>
                <a:cubicBezTo>
                  <a:pt x="171" y="9233"/>
                  <a:pt x="66" y="8302"/>
                  <a:pt x="39" y="7476"/>
                </a:cubicBezTo>
                <a:cubicBezTo>
                  <a:pt x="0" y="6614"/>
                  <a:pt x="79" y="5684"/>
                  <a:pt x="144" y="4823"/>
                </a:cubicBezTo>
                <a:cubicBezTo>
                  <a:pt x="171" y="4134"/>
                  <a:pt x="262" y="3479"/>
                  <a:pt x="341" y="2894"/>
                </a:cubicBezTo>
                <a:cubicBezTo>
                  <a:pt x="420" y="2274"/>
                  <a:pt x="525" y="1516"/>
                  <a:pt x="696" y="930"/>
                </a:cubicBezTo>
                <a:cubicBezTo>
                  <a:pt x="814" y="586"/>
                  <a:pt x="919" y="276"/>
                  <a:pt x="103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82760" y="6504120"/>
            <a:ext cx="1482840" cy="56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7" y="0"/>
                </a:moveTo>
                <a:cubicBezTo>
                  <a:pt x="1010" y="413"/>
                  <a:pt x="1037" y="930"/>
                  <a:pt x="1063" y="1378"/>
                </a:cubicBezTo>
                <a:cubicBezTo>
                  <a:pt x="1076" y="1964"/>
                  <a:pt x="1142" y="2618"/>
                  <a:pt x="1260" y="3135"/>
                </a:cubicBezTo>
                <a:cubicBezTo>
                  <a:pt x="1562" y="4892"/>
                  <a:pt x="2165" y="6201"/>
                  <a:pt x="2808" y="7200"/>
                </a:cubicBezTo>
                <a:cubicBezTo>
                  <a:pt x="4173" y="9474"/>
                  <a:pt x="5603" y="11437"/>
                  <a:pt x="7139" y="12643"/>
                </a:cubicBezTo>
                <a:cubicBezTo>
                  <a:pt x="8490" y="13745"/>
                  <a:pt x="9947" y="13814"/>
                  <a:pt x="11364" y="13745"/>
                </a:cubicBezTo>
                <a:cubicBezTo>
                  <a:pt x="12401" y="13677"/>
                  <a:pt x="13451" y="13608"/>
                  <a:pt x="14448" y="13022"/>
                </a:cubicBezTo>
                <a:cubicBezTo>
                  <a:pt x="15590" y="12299"/>
                  <a:pt x="16561" y="11851"/>
                  <a:pt x="17388" y="10748"/>
                </a:cubicBezTo>
                <a:cubicBezTo>
                  <a:pt x="18175" y="9749"/>
                  <a:pt x="18884" y="8302"/>
                  <a:pt x="19527" y="6683"/>
                </a:cubicBezTo>
                <a:cubicBezTo>
                  <a:pt x="20078" y="5305"/>
                  <a:pt x="20471" y="3652"/>
                  <a:pt x="20629" y="1447"/>
                </a:cubicBezTo>
                <a:cubicBezTo>
                  <a:pt x="20760" y="1688"/>
                  <a:pt x="20918" y="1757"/>
                  <a:pt x="21023" y="2033"/>
                </a:cubicBezTo>
                <a:cubicBezTo>
                  <a:pt x="21180" y="2480"/>
                  <a:pt x="21351" y="2894"/>
                  <a:pt x="21429" y="3479"/>
                </a:cubicBezTo>
                <a:cubicBezTo>
                  <a:pt x="21534" y="4237"/>
                  <a:pt x="21600" y="4926"/>
                  <a:pt x="21600" y="5581"/>
                </a:cubicBezTo>
                <a:cubicBezTo>
                  <a:pt x="21600" y="6270"/>
                  <a:pt x="21600" y="6924"/>
                  <a:pt x="21534" y="7476"/>
                </a:cubicBezTo>
                <a:cubicBezTo>
                  <a:pt x="21469" y="8509"/>
                  <a:pt x="21206" y="9474"/>
                  <a:pt x="21023" y="10266"/>
                </a:cubicBezTo>
                <a:cubicBezTo>
                  <a:pt x="20826" y="11058"/>
                  <a:pt x="20603" y="11782"/>
                  <a:pt x="20353" y="12436"/>
                </a:cubicBezTo>
                <a:cubicBezTo>
                  <a:pt x="19881" y="13745"/>
                  <a:pt x="19304" y="14917"/>
                  <a:pt x="18752" y="15916"/>
                </a:cubicBezTo>
                <a:cubicBezTo>
                  <a:pt x="17886" y="17535"/>
                  <a:pt x="16915" y="18706"/>
                  <a:pt x="16115" y="19499"/>
                </a:cubicBezTo>
                <a:cubicBezTo>
                  <a:pt x="15078" y="20498"/>
                  <a:pt x="14015" y="20945"/>
                  <a:pt x="12926" y="21256"/>
                </a:cubicBezTo>
                <a:cubicBezTo>
                  <a:pt x="11692" y="21531"/>
                  <a:pt x="10459" y="21600"/>
                  <a:pt x="9238" y="21393"/>
                </a:cubicBezTo>
                <a:cubicBezTo>
                  <a:pt x="8333" y="21256"/>
                  <a:pt x="7375" y="21014"/>
                  <a:pt x="6496" y="20429"/>
                </a:cubicBezTo>
                <a:cubicBezTo>
                  <a:pt x="5853" y="20015"/>
                  <a:pt x="5236" y="19326"/>
                  <a:pt x="4685" y="18775"/>
                </a:cubicBezTo>
                <a:cubicBezTo>
                  <a:pt x="4212" y="18293"/>
                  <a:pt x="3779" y="17604"/>
                  <a:pt x="3333" y="16949"/>
                </a:cubicBezTo>
                <a:cubicBezTo>
                  <a:pt x="2835" y="16226"/>
                  <a:pt x="2362" y="15330"/>
                  <a:pt x="1916" y="14469"/>
                </a:cubicBezTo>
                <a:cubicBezTo>
                  <a:pt x="1522" y="13677"/>
                  <a:pt x="1168" y="12815"/>
                  <a:pt x="866" y="11851"/>
                </a:cubicBezTo>
                <a:cubicBezTo>
                  <a:pt x="669" y="11265"/>
                  <a:pt x="472" y="10611"/>
                  <a:pt x="341" y="9990"/>
                </a:cubicBezTo>
                <a:cubicBezTo>
                  <a:pt x="171" y="9233"/>
                  <a:pt x="66" y="8302"/>
                  <a:pt x="39" y="7476"/>
                </a:cubicBezTo>
                <a:cubicBezTo>
                  <a:pt x="0" y="6614"/>
                  <a:pt x="79" y="5684"/>
                  <a:pt x="144" y="4823"/>
                </a:cubicBezTo>
                <a:cubicBezTo>
                  <a:pt x="171" y="4134"/>
                  <a:pt x="262" y="3479"/>
                  <a:pt x="341" y="2894"/>
                </a:cubicBezTo>
                <a:cubicBezTo>
                  <a:pt x="420" y="2274"/>
                  <a:pt x="525" y="1516"/>
                  <a:pt x="696" y="930"/>
                </a:cubicBezTo>
                <a:cubicBezTo>
                  <a:pt x="814" y="586"/>
                  <a:pt x="919" y="276"/>
                  <a:pt x="1037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0720" y="1127160"/>
            <a:ext cx="5398920" cy="699768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68440" y="7278840"/>
            <a:ext cx="138276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938"/>
                </a:moveTo>
                <a:cubicBezTo>
                  <a:pt x="21600" y="16729"/>
                  <a:pt x="16738" y="21600"/>
                  <a:pt x="10793" y="21600"/>
                </a:cubicBezTo>
                <a:cubicBezTo>
                  <a:pt x="4862" y="21600"/>
                  <a:pt x="0" y="16729"/>
                  <a:pt x="0" y="10938"/>
                </a:cubicBezTo>
                <a:cubicBezTo>
                  <a:pt x="0" y="4871"/>
                  <a:pt x="4862" y="0"/>
                  <a:pt x="10793" y="0"/>
                </a:cubicBezTo>
                <a:cubicBezTo>
                  <a:pt x="16738" y="0"/>
                  <a:pt x="21600" y="4871"/>
                  <a:pt x="21600" y="10938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28920" y="7332840"/>
            <a:ext cx="1261800" cy="31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983"/>
                </a:moveTo>
                <a:cubicBezTo>
                  <a:pt x="21600" y="16536"/>
                  <a:pt x="16750" y="21600"/>
                  <a:pt x="10854" y="21600"/>
                </a:cubicBezTo>
                <a:cubicBezTo>
                  <a:pt x="4850" y="21600"/>
                  <a:pt x="0" y="16536"/>
                  <a:pt x="0" y="10983"/>
                </a:cubicBezTo>
                <a:cubicBezTo>
                  <a:pt x="0" y="5064"/>
                  <a:pt x="4850" y="0"/>
                  <a:pt x="10854" y="0"/>
                </a:cubicBezTo>
                <a:cubicBezTo>
                  <a:pt x="16750" y="0"/>
                  <a:pt x="21600" y="5064"/>
                  <a:pt x="21600" y="109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00440" y="6224760"/>
            <a:ext cx="17460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07"/>
                </a:moveTo>
                <a:lnTo>
                  <a:pt x="19163" y="0"/>
                </a:lnTo>
                <a:lnTo>
                  <a:pt x="21600" y="12570"/>
                </a:lnTo>
                <a:lnTo>
                  <a:pt x="2215" y="21600"/>
                </a:lnTo>
                <a:lnTo>
                  <a:pt x="0" y="920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27240" y="616104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747"/>
                </a:moveTo>
                <a:lnTo>
                  <a:pt x="19262" y="0"/>
                </a:lnTo>
                <a:lnTo>
                  <a:pt x="21600" y="12674"/>
                </a:lnTo>
                <a:lnTo>
                  <a:pt x="2338" y="21600"/>
                </a:lnTo>
                <a:lnTo>
                  <a:pt x="0" y="874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51160" y="6094440"/>
            <a:ext cx="1764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83"/>
                </a:moveTo>
                <a:lnTo>
                  <a:pt x="19286" y="0"/>
                </a:lnTo>
                <a:lnTo>
                  <a:pt x="21600" y="12674"/>
                </a:lnTo>
                <a:lnTo>
                  <a:pt x="2314" y="21600"/>
                </a:lnTo>
                <a:lnTo>
                  <a:pt x="0" y="9283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79760" y="6031080"/>
            <a:ext cx="17640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9286" y="0"/>
                </a:lnTo>
                <a:lnTo>
                  <a:pt x="21600" y="12117"/>
                </a:lnTo>
                <a:lnTo>
                  <a:pt x="2204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05120" y="596592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747"/>
                </a:moveTo>
                <a:lnTo>
                  <a:pt x="19262" y="0"/>
                </a:lnTo>
                <a:lnTo>
                  <a:pt x="21600" y="12853"/>
                </a:lnTo>
                <a:lnTo>
                  <a:pt x="2338" y="21600"/>
                </a:lnTo>
                <a:lnTo>
                  <a:pt x="0" y="874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7600" y="5902200"/>
            <a:ext cx="1760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60"/>
                </a:moveTo>
                <a:lnTo>
                  <a:pt x="19396" y="0"/>
                </a:lnTo>
                <a:lnTo>
                  <a:pt x="21600" y="12780"/>
                </a:lnTo>
                <a:lnTo>
                  <a:pt x="2314" y="21600"/>
                </a:lnTo>
                <a:lnTo>
                  <a:pt x="0" y="846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54400" y="5835600"/>
            <a:ext cx="1764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83"/>
                </a:moveTo>
                <a:lnTo>
                  <a:pt x="19286" y="0"/>
                </a:lnTo>
                <a:lnTo>
                  <a:pt x="21600" y="12674"/>
                </a:lnTo>
                <a:lnTo>
                  <a:pt x="2204" y="21600"/>
                </a:lnTo>
                <a:lnTo>
                  <a:pt x="0" y="9283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81560" y="5772240"/>
            <a:ext cx="1760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104"/>
                </a:moveTo>
                <a:lnTo>
                  <a:pt x="19385" y="0"/>
                </a:lnTo>
                <a:lnTo>
                  <a:pt x="21600" y="12674"/>
                </a:lnTo>
                <a:lnTo>
                  <a:pt x="2326" y="21600"/>
                </a:lnTo>
                <a:lnTo>
                  <a:pt x="0" y="9104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08360" y="5707080"/>
            <a:ext cx="17460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69"/>
                </a:moveTo>
                <a:lnTo>
                  <a:pt x="19163" y="0"/>
                </a:lnTo>
                <a:lnTo>
                  <a:pt x="21600" y="12631"/>
                </a:lnTo>
                <a:lnTo>
                  <a:pt x="2437" y="21600"/>
                </a:lnTo>
                <a:lnTo>
                  <a:pt x="0" y="8969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35520" y="5641920"/>
            <a:ext cx="17460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9596" y="0"/>
                </a:lnTo>
                <a:lnTo>
                  <a:pt x="21600" y="12117"/>
                </a:lnTo>
                <a:lnTo>
                  <a:pt x="2115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70240" y="3886200"/>
            <a:ext cx="14148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92" y="0"/>
                </a:moveTo>
                <a:lnTo>
                  <a:pt x="21600" y="15447"/>
                </a:lnTo>
                <a:lnTo>
                  <a:pt x="14033" y="21600"/>
                </a:lnTo>
                <a:lnTo>
                  <a:pt x="0" y="5760"/>
                </a:lnTo>
                <a:lnTo>
                  <a:pt x="7292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02000" y="4040280"/>
            <a:ext cx="13968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46" y="0"/>
                </a:moveTo>
                <a:lnTo>
                  <a:pt x="21600" y="15769"/>
                </a:lnTo>
                <a:lnTo>
                  <a:pt x="14075" y="21600"/>
                </a:lnTo>
                <a:lnTo>
                  <a:pt x="0" y="5963"/>
                </a:lnTo>
                <a:lnTo>
                  <a:pt x="724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32320" y="4194000"/>
            <a:ext cx="142920" cy="147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36" y="0"/>
                </a:moveTo>
                <a:lnTo>
                  <a:pt x="21600" y="15709"/>
                </a:lnTo>
                <a:lnTo>
                  <a:pt x="13992" y="21600"/>
                </a:lnTo>
                <a:lnTo>
                  <a:pt x="0" y="6153"/>
                </a:lnTo>
                <a:lnTo>
                  <a:pt x="733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62640" y="4348080"/>
            <a:ext cx="13968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25" y="0"/>
                </a:moveTo>
                <a:lnTo>
                  <a:pt x="21600" y="15769"/>
                </a:lnTo>
                <a:lnTo>
                  <a:pt x="14354" y="21600"/>
                </a:lnTo>
                <a:lnTo>
                  <a:pt x="0" y="6493"/>
                </a:lnTo>
                <a:lnTo>
                  <a:pt x="7525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92600" y="4500720"/>
            <a:ext cx="142920" cy="15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56" y="0"/>
                </a:moveTo>
                <a:lnTo>
                  <a:pt x="21600" y="15780"/>
                </a:lnTo>
                <a:lnTo>
                  <a:pt x="14081" y="21600"/>
                </a:lnTo>
                <a:lnTo>
                  <a:pt x="0" y="6208"/>
                </a:lnTo>
                <a:lnTo>
                  <a:pt x="765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22920" y="4656240"/>
            <a:ext cx="13968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65" y="0"/>
                </a:moveTo>
                <a:lnTo>
                  <a:pt x="21600" y="15733"/>
                </a:lnTo>
                <a:lnTo>
                  <a:pt x="13796" y="21600"/>
                </a:lnTo>
                <a:lnTo>
                  <a:pt x="0" y="6133"/>
                </a:lnTo>
                <a:lnTo>
                  <a:pt x="7665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4808520"/>
            <a:ext cx="138240" cy="1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34" y="0"/>
                </a:moveTo>
                <a:lnTo>
                  <a:pt x="21600" y="16102"/>
                </a:lnTo>
                <a:lnTo>
                  <a:pt x="14306" y="21600"/>
                </a:lnTo>
                <a:lnTo>
                  <a:pt x="0" y="6022"/>
                </a:lnTo>
                <a:lnTo>
                  <a:pt x="7434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74880" y="4919760"/>
            <a:ext cx="1540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3" y="21600"/>
                </a:moveTo>
                <a:lnTo>
                  <a:pt x="21600" y="6102"/>
                </a:lnTo>
                <a:lnTo>
                  <a:pt x="14021" y="0"/>
                </a:lnTo>
                <a:lnTo>
                  <a:pt x="0" y="15620"/>
                </a:lnTo>
                <a:lnTo>
                  <a:pt x="7453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19240" y="4756320"/>
            <a:ext cx="1558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09" y="21600"/>
                </a:moveTo>
                <a:lnTo>
                  <a:pt x="21600" y="6048"/>
                </a:lnTo>
                <a:lnTo>
                  <a:pt x="14191" y="0"/>
                </a:lnTo>
                <a:lnTo>
                  <a:pt x="0" y="15552"/>
                </a:lnTo>
                <a:lnTo>
                  <a:pt x="7409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62160" y="4587840"/>
            <a:ext cx="15588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16" y="21600"/>
                </a:moveTo>
                <a:lnTo>
                  <a:pt x="21600" y="5703"/>
                </a:lnTo>
                <a:lnTo>
                  <a:pt x="14234" y="0"/>
                </a:lnTo>
                <a:lnTo>
                  <a:pt x="0" y="15533"/>
                </a:lnTo>
                <a:lnTo>
                  <a:pt x="761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8320" y="4424400"/>
            <a:ext cx="15084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157" y="21600"/>
                </a:moveTo>
                <a:lnTo>
                  <a:pt x="21600" y="5743"/>
                </a:lnTo>
                <a:lnTo>
                  <a:pt x="14187" y="0"/>
                </a:lnTo>
                <a:lnTo>
                  <a:pt x="0" y="15232"/>
                </a:lnTo>
                <a:lnTo>
                  <a:pt x="7157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49800" y="4254480"/>
            <a:ext cx="15552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16" y="21600"/>
                </a:moveTo>
                <a:lnTo>
                  <a:pt x="21600" y="5880"/>
                </a:lnTo>
                <a:lnTo>
                  <a:pt x="14234" y="0"/>
                </a:lnTo>
                <a:lnTo>
                  <a:pt x="0" y="15480"/>
                </a:lnTo>
                <a:lnTo>
                  <a:pt x="761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94160" y="4091040"/>
            <a:ext cx="152280" cy="15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86" y="21600"/>
                </a:moveTo>
                <a:lnTo>
                  <a:pt x="21600" y="6048"/>
                </a:lnTo>
                <a:lnTo>
                  <a:pt x="13757" y="0"/>
                </a:lnTo>
                <a:lnTo>
                  <a:pt x="0" y="15429"/>
                </a:lnTo>
                <a:lnTo>
                  <a:pt x="7586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37080" y="3925800"/>
            <a:ext cx="15228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85" y="21600"/>
                </a:moveTo>
                <a:lnTo>
                  <a:pt x="21600" y="5736"/>
                </a:lnTo>
                <a:lnTo>
                  <a:pt x="14059" y="0"/>
                </a:lnTo>
                <a:lnTo>
                  <a:pt x="0" y="15498"/>
                </a:lnTo>
                <a:lnTo>
                  <a:pt x="7285" y="216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94000" y="3633840"/>
            <a:ext cx="15876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956"/>
                </a:moveTo>
                <a:lnTo>
                  <a:pt x="18793" y="0"/>
                </a:lnTo>
                <a:lnTo>
                  <a:pt x="21600" y="12293"/>
                </a:lnTo>
                <a:lnTo>
                  <a:pt x="2807" y="21600"/>
                </a:lnTo>
                <a:lnTo>
                  <a:pt x="0" y="8956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87680" y="3568680"/>
            <a:ext cx="16056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000"/>
                </a:moveTo>
                <a:lnTo>
                  <a:pt x="18809" y="0"/>
                </a:lnTo>
                <a:lnTo>
                  <a:pt x="21600" y="12420"/>
                </a:lnTo>
                <a:lnTo>
                  <a:pt x="2912" y="21600"/>
                </a:lnTo>
                <a:lnTo>
                  <a:pt x="0" y="90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83160" y="3502080"/>
            <a:ext cx="16020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852"/>
                </a:moveTo>
                <a:lnTo>
                  <a:pt x="18915" y="0"/>
                </a:lnTo>
                <a:lnTo>
                  <a:pt x="21600" y="12216"/>
                </a:lnTo>
                <a:lnTo>
                  <a:pt x="2807" y="21600"/>
                </a:lnTo>
                <a:lnTo>
                  <a:pt x="0" y="8852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78280" y="3436920"/>
            <a:ext cx="16056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207"/>
                </a:moveTo>
                <a:lnTo>
                  <a:pt x="18809" y="0"/>
                </a:lnTo>
                <a:lnTo>
                  <a:pt x="21600" y="12570"/>
                </a:lnTo>
                <a:lnTo>
                  <a:pt x="2912" y="21600"/>
                </a:lnTo>
                <a:lnTo>
                  <a:pt x="0" y="9207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75200" y="3371760"/>
            <a:ext cx="16020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000"/>
                </a:moveTo>
                <a:lnTo>
                  <a:pt x="18809" y="0"/>
                </a:lnTo>
                <a:lnTo>
                  <a:pt x="21600" y="12600"/>
                </a:lnTo>
                <a:lnTo>
                  <a:pt x="2791" y="21600"/>
                </a:lnTo>
                <a:lnTo>
                  <a:pt x="0" y="900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17800" y="3656160"/>
            <a:ext cx="15228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0" y="0"/>
                </a:moveTo>
                <a:lnTo>
                  <a:pt x="21600" y="5110"/>
                </a:lnTo>
                <a:lnTo>
                  <a:pt x="20578" y="21600"/>
                </a:lnTo>
                <a:lnTo>
                  <a:pt x="0" y="17652"/>
                </a:lnTo>
                <a:lnTo>
                  <a:pt x="1150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21200" y="3681360"/>
            <a:ext cx="1555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30" y="0"/>
                </a:moveTo>
                <a:lnTo>
                  <a:pt x="21600" y="4560"/>
                </a:lnTo>
                <a:lnTo>
                  <a:pt x="20470" y="21600"/>
                </a:lnTo>
                <a:lnTo>
                  <a:pt x="0" y="17760"/>
                </a:lnTo>
                <a:lnTo>
                  <a:pt x="1130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24240" y="3708360"/>
            <a:ext cx="1573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66" y="0"/>
                </a:moveTo>
                <a:lnTo>
                  <a:pt x="21600" y="3840"/>
                </a:lnTo>
                <a:lnTo>
                  <a:pt x="20234" y="21600"/>
                </a:lnTo>
                <a:lnTo>
                  <a:pt x="0" y="17280"/>
                </a:lnTo>
                <a:lnTo>
                  <a:pt x="136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32320" y="3730680"/>
            <a:ext cx="15084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6" y="0"/>
                </a:moveTo>
                <a:lnTo>
                  <a:pt x="21600" y="3948"/>
                </a:lnTo>
                <a:lnTo>
                  <a:pt x="20436" y="21600"/>
                </a:lnTo>
                <a:lnTo>
                  <a:pt x="0" y="16723"/>
                </a:lnTo>
                <a:lnTo>
                  <a:pt x="776" y="0"/>
                </a:ln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01:46:51Z</dcterms:created>
  <dc:creator>OfficeHamada</dc:creator>
  <dc:description/>
  <dc:language>en-US</dc:language>
  <cp:lastModifiedBy>OfficeHamada</cp:lastModifiedBy>
  <cp:lastPrinted>2016-03-06T08:25:37Z</cp:lastPrinted>
  <dcterms:modified xsi:type="dcterms:W3CDTF">2016-03-16T09:03:19Z</dcterms:modified>
  <cp:revision>66</cp:revision>
  <dc:subject/>
  <dc:title/>
</cp:coreProperties>
</file>