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262160"/>
            <a:ext cx="5398920" cy="133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353"/>
                  <a:pt x="21600" y="21353"/>
                </a:cubicBezTo>
                <a:cubicBezTo>
                  <a:pt x="21409" y="21454"/>
                  <a:pt x="21218" y="21178"/>
                  <a:pt x="21031" y="21178"/>
                </a:cubicBezTo>
                <a:cubicBezTo>
                  <a:pt x="20848" y="21178"/>
                  <a:pt x="20664" y="21600"/>
                  <a:pt x="20466" y="21600"/>
                </a:cubicBezTo>
                <a:cubicBezTo>
                  <a:pt x="20282" y="21600"/>
                  <a:pt x="20117" y="21236"/>
                  <a:pt x="19940" y="21149"/>
                </a:cubicBezTo>
                <a:cubicBezTo>
                  <a:pt x="19796" y="21091"/>
                  <a:pt x="19685" y="21149"/>
                  <a:pt x="19577" y="21236"/>
                </a:cubicBezTo>
                <a:cubicBezTo>
                  <a:pt x="19490" y="21294"/>
                  <a:pt x="19318" y="21600"/>
                  <a:pt x="19145" y="21556"/>
                </a:cubicBezTo>
                <a:cubicBezTo>
                  <a:pt x="18997" y="21542"/>
                  <a:pt x="18889" y="21192"/>
                  <a:pt x="18770" y="21236"/>
                </a:cubicBezTo>
                <a:cubicBezTo>
                  <a:pt x="18688" y="21265"/>
                  <a:pt x="18504" y="21542"/>
                  <a:pt x="18331" y="21527"/>
                </a:cubicBezTo>
                <a:cubicBezTo>
                  <a:pt x="18194" y="21527"/>
                  <a:pt x="18065" y="21178"/>
                  <a:pt x="17942" y="21105"/>
                </a:cubicBezTo>
                <a:cubicBezTo>
                  <a:pt x="17780" y="21061"/>
                  <a:pt x="17622" y="21236"/>
                  <a:pt x="17208" y="21192"/>
                </a:cubicBezTo>
                <a:cubicBezTo>
                  <a:pt x="16578" y="21178"/>
                  <a:pt x="15764" y="21425"/>
                  <a:pt x="15149" y="21323"/>
                </a:cubicBezTo>
                <a:cubicBezTo>
                  <a:pt x="14940" y="21294"/>
                  <a:pt x="14717" y="21600"/>
                  <a:pt x="14339" y="21527"/>
                </a:cubicBezTo>
                <a:cubicBezTo>
                  <a:pt x="14166" y="21498"/>
                  <a:pt x="13939" y="21192"/>
                  <a:pt x="13712" y="21061"/>
                </a:cubicBezTo>
                <a:cubicBezTo>
                  <a:pt x="13471" y="20887"/>
                  <a:pt x="13212" y="20989"/>
                  <a:pt x="12964" y="20989"/>
                </a:cubicBezTo>
                <a:cubicBezTo>
                  <a:pt x="12586" y="20960"/>
                  <a:pt x="12193" y="20989"/>
                  <a:pt x="11808" y="20916"/>
                </a:cubicBezTo>
                <a:cubicBezTo>
                  <a:pt x="11592" y="20887"/>
                  <a:pt x="11495" y="20785"/>
                  <a:pt x="11293" y="21061"/>
                </a:cubicBezTo>
                <a:cubicBezTo>
                  <a:pt x="11160" y="21236"/>
                  <a:pt x="10883" y="21018"/>
                  <a:pt x="10724" y="21091"/>
                </a:cubicBezTo>
                <a:cubicBezTo>
                  <a:pt x="10642" y="21105"/>
                  <a:pt x="10559" y="21265"/>
                  <a:pt x="10458" y="21236"/>
                </a:cubicBezTo>
                <a:cubicBezTo>
                  <a:pt x="10325" y="21192"/>
                  <a:pt x="10181" y="21091"/>
                  <a:pt x="10040" y="20960"/>
                </a:cubicBezTo>
                <a:cubicBezTo>
                  <a:pt x="9785" y="20872"/>
                  <a:pt x="9518" y="20785"/>
                  <a:pt x="9281" y="20814"/>
                </a:cubicBezTo>
                <a:cubicBezTo>
                  <a:pt x="9090" y="20843"/>
                  <a:pt x="8906" y="20377"/>
                  <a:pt x="8788" y="20625"/>
                </a:cubicBezTo>
                <a:cubicBezTo>
                  <a:pt x="8723" y="20741"/>
                  <a:pt x="8672" y="21061"/>
                  <a:pt x="8597" y="21149"/>
                </a:cubicBezTo>
                <a:cubicBezTo>
                  <a:pt x="8287" y="21527"/>
                  <a:pt x="7945" y="20916"/>
                  <a:pt x="7643" y="21018"/>
                </a:cubicBezTo>
                <a:cubicBezTo>
                  <a:pt x="7326" y="21149"/>
                  <a:pt x="6962" y="21091"/>
                  <a:pt x="6595" y="21018"/>
                </a:cubicBezTo>
                <a:cubicBezTo>
                  <a:pt x="5864" y="20872"/>
                  <a:pt x="5134" y="20683"/>
                  <a:pt x="4349" y="20712"/>
                </a:cubicBezTo>
                <a:cubicBezTo>
                  <a:pt x="3755" y="20712"/>
                  <a:pt x="3172" y="20843"/>
                  <a:pt x="2596" y="21061"/>
                </a:cubicBezTo>
                <a:cubicBezTo>
                  <a:pt x="2459" y="21105"/>
                  <a:pt x="2297" y="21323"/>
                  <a:pt x="2146" y="21236"/>
                </a:cubicBezTo>
                <a:cubicBezTo>
                  <a:pt x="2038" y="21178"/>
                  <a:pt x="1948" y="20887"/>
                  <a:pt x="1850" y="20916"/>
                </a:cubicBezTo>
                <a:cubicBezTo>
                  <a:pt x="1735" y="20960"/>
                  <a:pt x="1627" y="21149"/>
                  <a:pt x="1512" y="21149"/>
                </a:cubicBezTo>
                <a:cubicBezTo>
                  <a:pt x="1361" y="21149"/>
                  <a:pt x="1253" y="20843"/>
                  <a:pt x="1141" y="20872"/>
                </a:cubicBezTo>
                <a:cubicBezTo>
                  <a:pt x="1019" y="20887"/>
                  <a:pt x="886" y="21091"/>
                  <a:pt x="709" y="21091"/>
                </a:cubicBezTo>
                <a:cubicBezTo>
                  <a:pt x="644" y="21091"/>
                  <a:pt x="562" y="20989"/>
                  <a:pt x="493" y="20989"/>
                </a:cubicBezTo>
                <a:cubicBezTo>
                  <a:pt x="418" y="20989"/>
                  <a:pt x="335" y="21105"/>
                  <a:pt x="216" y="21149"/>
                </a:cubicBezTo>
                <a:cubicBezTo>
                  <a:pt x="140" y="21178"/>
                  <a:pt x="68" y="21091"/>
                  <a:pt x="18" y="21018"/>
                </a:cubicBezTo>
                <a:cubicBezTo>
                  <a:pt x="18" y="21018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579920" y="6124680"/>
            <a:ext cx="1335240" cy="173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" y="17938"/>
                </a:moveTo>
                <a:cubicBezTo>
                  <a:pt x="0" y="15377"/>
                  <a:pt x="655" y="12760"/>
                  <a:pt x="2065" y="10412"/>
                </a:cubicBezTo>
                <a:cubicBezTo>
                  <a:pt x="2516" y="9649"/>
                  <a:pt x="3258" y="8963"/>
                  <a:pt x="3389" y="8144"/>
                </a:cubicBezTo>
                <a:cubicBezTo>
                  <a:pt x="3535" y="7110"/>
                  <a:pt x="2895" y="6189"/>
                  <a:pt x="2647" y="5178"/>
                </a:cubicBezTo>
                <a:cubicBezTo>
                  <a:pt x="2400" y="4167"/>
                  <a:pt x="2487" y="3089"/>
                  <a:pt x="3113" y="2168"/>
                </a:cubicBezTo>
                <a:cubicBezTo>
                  <a:pt x="3695" y="1269"/>
                  <a:pt x="4713" y="573"/>
                  <a:pt x="5949" y="225"/>
                </a:cubicBezTo>
                <a:cubicBezTo>
                  <a:pt x="6676" y="0"/>
                  <a:pt x="7505" y="22"/>
                  <a:pt x="8218" y="157"/>
                </a:cubicBezTo>
                <a:cubicBezTo>
                  <a:pt x="8916" y="270"/>
                  <a:pt x="9527" y="483"/>
                  <a:pt x="10065" y="775"/>
                </a:cubicBezTo>
                <a:cubicBezTo>
                  <a:pt x="10909" y="1213"/>
                  <a:pt x="11709" y="1786"/>
                  <a:pt x="12233" y="2471"/>
                </a:cubicBezTo>
                <a:cubicBezTo>
                  <a:pt x="12567" y="2932"/>
                  <a:pt x="12771" y="3426"/>
                  <a:pt x="12902" y="4032"/>
                </a:cubicBezTo>
                <a:cubicBezTo>
                  <a:pt x="13004" y="4448"/>
                  <a:pt x="13004" y="5111"/>
                  <a:pt x="13135" y="5538"/>
                </a:cubicBezTo>
                <a:cubicBezTo>
                  <a:pt x="13251" y="5987"/>
                  <a:pt x="13498" y="6447"/>
                  <a:pt x="13847" y="6874"/>
                </a:cubicBezTo>
                <a:cubicBezTo>
                  <a:pt x="14516" y="7784"/>
                  <a:pt x="15418" y="8559"/>
                  <a:pt x="16407" y="9267"/>
                </a:cubicBezTo>
                <a:cubicBezTo>
                  <a:pt x="17396" y="9963"/>
                  <a:pt x="18473" y="10648"/>
                  <a:pt x="19345" y="11457"/>
                </a:cubicBezTo>
                <a:cubicBezTo>
                  <a:pt x="20218" y="12288"/>
                  <a:pt x="20989" y="13254"/>
                  <a:pt x="21324" y="14344"/>
                </a:cubicBezTo>
                <a:cubicBezTo>
                  <a:pt x="21600" y="15254"/>
                  <a:pt x="21600" y="16242"/>
                  <a:pt x="21324" y="17208"/>
                </a:cubicBezTo>
                <a:cubicBezTo>
                  <a:pt x="21193" y="17770"/>
                  <a:pt x="20858" y="18298"/>
                  <a:pt x="20393" y="18747"/>
                </a:cubicBezTo>
                <a:cubicBezTo>
                  <a:pt x="19985" y="19129"/>
                  <a:pt x="19404" y="19309"/>
                  <a:pt x="18967" y="19646"/>
                </a:cubicBezTo>
                <a:cubicBezTo>
                  <a:pt x="18531" y="20016"/>
                  <a:pt x="18284" y="20477"/>
                  <a:pt x="17804" y="20814"/>
                </a:cubicBezTo>
                <a:cubicBezTo>
                  <a:pt x="17280" y="21162"/>
                  <a:pt x="16509" y="21432"/>
                  <a:pt x="15680" y="21454"/>
                </a:cubicBezTo>
                <a:cubicBezTo>
                  <a:pt x="11098" y="21600"/>
                  <a:pt x="6662" y="20409"/>
                  <a:pt x="2240" y="19342"/>
                </a:cubicBezTo>
                <a:cubicBezTo>
                  <a:pt x="1367" y="19129"/>
                  <a:pt x="58" y="18668"/>
                  <a:pt x="58" y="17938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3068640" y="6321600"/>
            <a:ext cx="2546280" cy="16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07" y="21577"/>
                </a:moveTo>
                <a:cubicBezTo>
                  <a:pt x="6246" y="21600"/>
                  <a:pt x="0" y="21506"/>
                  <a:pt x="0" y="21506"/>
                </a:cubicBezTo>
                <a:cubicBezTo>
                  <a:pt x="0" y="21506"/>
                  <a:pt x="168" y="20910"/>
                  <a:pt x="191" y="20641"/>
                </a:cubicBezTo>
                <a:cubicBezTo>
                  <a:pt x="305" y="19353"/>
                  <a:pt x="336" y="18218"/>
                  <a:pt x="450" y="17025"/>
                </a:cubicBezTo>
                <a:cubicBezTo>
                  <a:pt x="550" y="15995"/>
                  <a:pt x="710" y="14919"/>
                  <a:pt x="825" y="13877"/>
                </a:cubicBezTo>
                <a:cubicBezTo>
                  <a:pt x="993" y="12251"/>
                  <a:pt x="1115" y="10601"/>
                  <a:pt x="1489" y="9033"/>
                </a:cubicBezTo>
                <a:cubicBezTo>
                  <a:pt x="1726" y="8015"/>
                  <a:pt x="2123" y="7102"/>
                  <a:pt x="2627" y="6342"/>
                </a:cubicBezTo>
                <a:cubicBezTo>
                  <a:pt x="3230" y="5418"/>
                  <a:pt x="3986" y="4833"/>
                  <a:pt x="4680" y="4119"/>
                </a:cubicBezTo>
                <a:cubicBezTo>
                  <a:pt x="5016" y="3768"/>
                  <a:pt x="5444" y="3569"/>
                  <a:pt x="5742" y="3136"/>
                </a:cubicBezTo>
                <a:cubicBezTo>
                  <a:pt x="5902" y="2902"/>
                  <a:pt x="6101" y="2574"/>
                  <a:pt x="6101" y="2235"/>
                </a:cubicBezTo>
                <a:cubicBezTo>
                  <a:pt x="6101" y="1322"/>
                  <a:pt x="5986" y="176"/>
                  <a:pt x="5986" y="176"/>
                </a:cubicBezTo>
                <a:cubicBezTo>
                  <a:pt x="5986" y="176"/>
                  <a:pt x="7353" y="257"/>
                  <a:pt x="8040" y="234"/>
                </a:cubicBezTo>
                <a:cubicBezTo>
                  <a:pt x="8590" y="211"/>
                  <a:pt x="9155" y="0"/>
                  <a:pt x="9697" y="23"/>
                </a:cubicBezTo>
                <a:cubicBezTo>
                  <a:pt x="10162" y="59"/>
                  <a:pt x="10636" y="281"/>
                  <a:pt x="10346" y="644"/>
                </a:cubicBezTo>
                <a:cubicBezTo>
                  <a:pt x="10117" y="948"/>
                  <a:pt x="10101" y="1404"/>
                  <a:pt x="10094" y="1884"/>
                </a:cubicBezTo>
                <a:cubicBezTo>
                  <a:pt x="10071" y="2247"/>
                  <a:pt x="10056" y="2621"/>
                  <a:pt x="10185" y="2914"/>
                </a:cubicBezTo>
                <a:cubicBezTo>
                  <a:pt x="10498" y="3662"/>
                  <a:pt x="11063" y="4002"/>
                  <a:pt x="11567" y="4493"/>
                </a:cubicBezTo>
                <a:cubicBezTo>
                  <a:pt x="12087" y="4985"/>
                  <a:pt x="12522" y="5523"/>
                  <a:pt x="12942" y="6120"/>
                </a:cubicBezTo>
                <a:cubicBezTo>
                  <a:pt x="13698" y="7173"/>
                  <a:pt x="14133" y="8694"/>
                  <a:pt x="14606" y="10192"/>
                </a:cubicBezTo>
                <a:cubicBezTo>
                  <a:pt x="14912" y="11210"/>
                  <a:pt x="15186" y="12181"/>
                  <a:pt x="15522" y="13164"/>
                </a:cubicBezTo>
                <a:cubicBezTo>
                  <a:pt x="15851" y="14065"/>
                  <a:pt x="16217" y="14942"/>
                  <a:pt x="16591" y="15831"/>
                </a:cubicBezTo>
                <a:cubicBezTo>
                  <a:pt x="16981" y="16756"/>
                  <a:pt x="17362" y="17739"/>
                  <a:pt x="17958" y="18300"/>
                </a:cubicBezTo>
                <a:cubicBezTo>
                  <a:pt x="18241" y="18546"/>
                  <a:pt x="18576" y="18745"/>
                  <a:pt x="18897" y="18815"/>
                </a:cubicBezTo>
                <a:cubicBezTo>
                  <a:pt x="19012" y="18839"/>
                  <a:pt x="19409" y="18956"/>
                  <a:pt x="19813" y="19061"/>
                </a:cubicBezTo>
                <a:cubicBezTo>
                  <a:pt x="20058" y="19131"/>
                  <a:pt x="20333" y="19225"/>
                  <a:pt x="20523" y="19447"/>
                </a:cubicBezTo>
                <a:cubicBezTo>
                  <a:pt x="20714" y="19681"/>
                  <a:pt x="21043" y="19974"/>
                  <a:pt x="21249" y="20395"/>
                </a:cubicBezTo>
                <a:cubicBezTo>
                  <a:pt x="21409" y="20711"/>
                  <a:pt x="21600" y="21506"/>
                  <a:pt x="21600" y="21506"/>
                </a:cubicBezTo>
                <a:cubicBezTo>
                  <a:pt x="21600" y="21506"/>
                  <a:pt x="13469" y="21530"/>
                  <a:pt x="9407" y="21577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3960" y="2473200"/>
            <a:ext cx="5395680" cy="12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384"/>
                </a:moveTo>
                <a:cubicBezTo>
                  <a:pt x="50" y="16161"/>
                  <a:pt x="123" y="17094"/>
                  <a:pt x="198" y="16783"/>
                </a:cubicBezTo>
                <a:cubicBezTo>
                  <a:pt x="317" y="16317"/>
                  <a:pt x="400" y="15073"/>
                  <a:pt x="476" y="15073"/>
                </a:cubicBezTo>
                <a:cubicBezTo>
                  <a:pt x="544" y="15073"/>
                  <a:pt x="627" y="16161"/>
                  <a:pt x="692" y="16161"/>
                </a:cubicBezTo>
                <a:cubicBezTo>
                  <a:pt x="868" y="16161"/>
                  <a:pt x="1002" y="13986"/>
                  <a:pt x="1124" y="13830"/>
                </a:cubicBezTo>
                <a:cubicBezTo>
                  <a:pt x="1236" y="13519"/>
                  <a:pt x="1344" y="16783"/>
                  <a:pt x="1495" y="16783"/>
                </a:cubicBezTo>
                <a:cubicBezTo>
                  <a:pt x="1611" y="16783"/>
                  <a:pt x="1719" y="14763"/>
                  <a:pt x="1834" y="14296"/>
                </a:cubicBezTo>
                <a:cubicBezTo>
                  <a:pt x="1931" y="13986"/>
                  <a:pt x="2021" y="17094"/>
                  <a:pt x="2129" y="17715"/>
                </a:cubicBezTo>
                <a:cubicBezTo>
                  <a:pt x="2281" y="18647"/>
                  <a:pt x="2443" y="16317"/>
                  <a:pt x="2580" y="15850"/>
                </a:cubicBezTo>
                <a:cubicBezTo>
                  <a:pt x="3156" y="13519"/>
                  <a:pt x="3740" y="12121"/>
                  <a:pt x="4334" y="12121"/>
                </a:cubicBezTo>
                <a:cubicBezTo>
                  <a:pt x="5120" y="11810"/>
                  <a:pt x="5851" y="13830"/>
                  <a:pt x="6583" y="15384"/>
                </a:cubicBezTo>
                <a:cubicBezTo>
                  <a:pt x="6950" y="16161"/>
                  <a:pt x="7314" y="16783"/>
                  <a:pt x="7631" y="15384"/>
                </a:cubicBezTo>
                <a:cubicBezTo>
                  <a:pt x="7934" y="14296"/>
                  <a:pt x="8276" y="20823"/>
                  <a:pt x="8586" y="16783"/>
                </a:cubicBezTo>
                <a:cubicBezTo>
                  <a:pt x="8662" y="15850"/>
                  <a:pt x="8712" y="12432"/>
                  <a:pt x="8777" y="11188"/>
                </a:cubicBezTo>
                <a:cubicBezTo>
                  <a:pt x="8896" y="8547"/>
                  <a:pt x="9080" y="13519"/>
                  <a:pt x="9271" y="13209"/>
                </a:cubicBezTo>
                <a:cubicBezTo>
                  <a:pt x="9508" y="12898"/>
                  <a:pt x="9775" y="13830"/>
                  <a:pt x="10031" y="14763"/>
                </a:cubicBezTo>
                <a:cubicBezTo>
                  <a:pt x="10171" y="16161"/>
                  <a:pt x="10315" y="17249"/>
                  <a:pt x="10449" y="17715"/>
                </a:cubicBezTo>
                <a:cubicBezTo>
                  <a:pt x="10550" y="18026"/>
                  <a:pt x="10632" y="16317"/>
                  <a:pt x="10715" y="16161"/>
                </a:cubicBezTo>
                <a:cubicBezTo>
                  <a:pt x="10874" y="15384"/>
                  <a:pt x="11151" y="17715"/>
                  <a:pt x="11285" y="15850"/>
                </a:cubicBezTo>
                <a:cubicBezTo>
                  <a:pt x="11486" y="12898"/>
                  <a:pt x="11584" y="13986"/>
                  <a:pt x="11800" y="14296"/>
                </a:cubicBezTo>
                <a:cubicBezTo>
                  <a:pt x="12185" y="15073"/>
                  <a:pt x="12578" y="14763"/>
                  <a:pt x="12956" y="15073"/>
                </a:cubicBezTo>
                <a:cubicBezTo>
                  <a:pt x="13205" y="15073"/>
                  <a:pt x="13464" y="13986"/>
                  <a:pt x="13706" y="15850"/>
                </a:cubicBezTo>
                <a:cubicBezTo>
                  <a:pt x="13933" y="17249"/>
                  <a:pt x="14160" y="20512"/>
                  <a:pt x="14333" y="20823"/>
                </a:cubicBezTo>
                <a:cubicBezTo>
                  <a:pt x="14711" y="21600"/>
                  <a:pt x="14934" y="18337"/>
                  <a:pt x="15143" y="18647"/>
                </a:cubicBezTo>
                <a:cubicBezTo>
                  <a:pt x="15760" y="19735"/>
                  <a:pt x="16574" y="17094"/>
                  <a:pt x="17204" y="17249"/>
                </a:cubicBezTo>
                <a:cubicBezTo>
                  <a:pt x="17619" y="17715"/>
                  <a:pt x="17777" y="15850"/>
                  <a:pt x="17939" y="16317"/>
                </a:cubicBezTo>
                <a:cubicBezTo>
                  <a:pt x="18062" y="17094"/>
                  <a:pt x="18192" y="20823"/>
                  <a:pt x="18328" y="20823"/>
                </a:cubicBezTo>
                <a:cubicBezTo>
                  <a:pt x="18501" y="20978"/>
                  <a:pt x="18685" y="18026"/>
                  <a:pt x="18768" y="17715"/>
                </a:cubicBezTo>
                <a:cubicBezTo>
                  <a:pt x="18887" y="17249"/>
                  <a:pt x="18995" y="20978"/>
                  <a:pt x="19143" y="21134"/>
                </a:cubicBezTo>
                <a:cubicBezTo>
                  <a:pt x="19316" y="21600"/>
                  <a:pt x="19489" y="18337"/>
                  <a:pt x="19575" y="17715"/>
                </a:cubicBezTo>
                <a:cubicBezTo>
                  <a:pt x="19683" y="16783"/>
                  <a:pt x="19795" y="16161"/>
                  <a:pt x="19939" y="16783"/>
                </a:cubicBezTo>
                <a:cubicBezTo>
                  <a:pt x="20116" y="17715"/>
                  <a:pt x="20281" y="21600"/>
                  <a:pt x="20465" y="21600"/>
                </a:cubicBezTo>
                <a:cubicBezTo>
                  <a:pt x="20663" y="21600"/>
                  <a:pt x="20847" y="17094"/>
                  <a:pt x="21031" y="17094"/>
                </a:cubicBezTo>
                <a:cubicBezTo>
                  <a:pt x="21218" y="17094"/>
                  <a:pt x="21409" y="20046"/>
                  <a:pt x="21600" y="18958"/>
                </a:cubicBezTo>
                <a:cubicBezTo>
                  <a:pt x="21600" y="18958"/>
                  <a:pt x="21600" y="10722"/>
                  <a:pt x="21600" y="10722"/>
                </a:cubicBezTo>
                <a:cubicBezTo>
                  <a:pt x="21600" y="10722"/>
                  <a:pt x="21431" y="10412"/>
                  <a:pt x="21341" y="10412"/>
                </a:cubicBezTo>
                <a:cubicBezTo>
                  <a:pt x="21114" y="10101"/>
                  <a:pt x="20847" y="13986"/>
                  <a:pt x="20588" y="12121"/>
                </a:cubicBezTo>
                <a:cubicBezTo>
                  <a:pt x="20332" y="10101"/>
                  <a:pt x="20080" y="3574"/>
                  <a:pt x="19827" y="5283"/>
                </a:cubicBezTo>
                <a:cubicBezTo>
                  <a:pt x="19662" y="6216"/>
                  <a:pt x="19528" y="12432"/>
                  <a:pt x="19330" y="13209"/>
                </a:cubicBezTo>
                <a:cubicBezTo>
                  <a:pt x="19197" y="13519"/>
                  <a:pt x="19049" y="9324"/>
                  <a:pt x="18894" y="9324"/>
                </a:cubicBezTo>
                <a:cubicBezTo>
                  <a:pt x="18728" y="9324"/>
                  <a:pt x="18570" y="13830"/>
                  <a:pt x="18408" y="13830"/>
                </a:cubicBezTo>
                <a:cubicBezTo>
                  <a:pt x="18303" y="13830"/>
                  <a:pt x="18199" y="12432"/>
                  <a:pt x="18091" y="11188"/>
                </a:cubicBezTo>
                <a:cubicBezTo>
                  <a:pt x="17893" y="10412"/>
                  <a:pt x="17684" y="10412"/>
                  <a:pt x="17467" y="10412"/>
                </a:cubicBezTo>
                <a:cubicBezTo>
                  <a:pt x="17161" y="10722"/>
                  <a:pt x="16855" y="11188"/>
                  <a:pt x="16552" y="11188"/>
                </a:cubicBezTo>
                <a:cubicBezTo>
                  <a:pt x="16246" y="11188"/>
                  <a:pt x="15943" y="11188"/>
                  <a:pt x="15637" y="11188"/>
                </a:cubicBezTo>
                <a:cubicBezTo>
                  <a:pt x="15306" y="11188"/>
                  <a:pt x="14862" y="12121"/>
                  <a:pt x="14484" y="11810"/>
                </a:cubicBezTo>
                <a:cubicBezTo>
                  <a:pt x="14207" y="11499"/>
                  <a:pt x="13951" y="6837"/>
                  <a:pt x="13648" y="6527"/>
                </a:cubicBezTo>
                <a:cubicBezTo>
                  <a:pt x="13248" y="5905"/>
                  <a:pt x="12928" y="7148"/>
                  <a:pt x="12614" y="7148"/>
                </a:cubicBezTo>
                <a:cubicBezTo>
                  <a:pt x="12319" y="7148"/>
                  <a:pt x="12063" y="6837"/>
                  <a:pt x="11800" y="6527"/>
                </a:cubicBezTo>
                <a:cubicBezTo>
                  <a:pt x="11551" y="6216"/>
                  <a:pt x="11299" y="5905"/>
                  <a:pt x="11086" y="8547"/>
                </a:cubicBezTo>
                <a:cubicBezTo>
                  <a:pt x="10867" y="11188"/>
                  <a:pt x="10625" y="11188"/>
                  <a:pt x="10460" y="11499"/>
                </a:cubicBezTo>
                <a:cubicBezTo>
                  <a:pt x="10308" y="11810"/>
                  <a:pt x="10164" y="8236"/>
                  <a:pt x="10024" y="6837"/>
                </a:cubicBezTo>
                <a:cubicBezTo>
                  <a:pt x="9652" y="2797"/>
                  <a:pt x="9278" y="0"/>
                  <a:pt x="8896" y="2486"/>
                </a:cubicBezTo>
                <a:cubicBezTo>
                  <a:pt x="8737" y="3574"/>
                  <a:pt x="8597" y="6837"/>
                  <a:pt x="8435" y="7770"/>
                </a:cubicBezTo>
                <a:cubicBezTo>
                  <a:pt x="8226" y="9324"/>
                  <a:pt x="8024" y="6216"/>
                  <a:pt x="7779" y="6527"/>
                </a:cubicBezTo>
                <a:cubicBezTo>
                  <a:pt x="7534" y="7148"/>
                  <a:pt x="7253" y="10722"/>
                  <a:pt x="7001" y="10412"/>
                </a:cubicBezTo>
                <a:cubicBezTo>
                  <a:pt x="6648" y="10101"/>
                  <a:pt x="5913" y="6837"/>
                  <a:pt x="5913" y="6837"/>
                </a:cubicBezTo>
                <a:cubicBezTo>
                  <a:pt x="5913" y="6837"/>
                  <a:pt x="4262" y="5283"/>
                  <a:pt x="3466" y="7770"/>
                </a:cubicBezTo>
                <a:cubicBezTo>
                  <a:pt x="3073" y="9324"/>
                  <a:pt x="2688" y="10101"/>
                  <a:pt x="2281" y="10722"/>
                </a:cubicBezTo>
                <a:cubicBezTo>
                  <a:pt x="2068" y="11188"/>
                  <a:pt x="1852" y="10412"/>
                  <a:pt x="1535" y="9635"/>
                </a:cubicBezTo>
                <a:cubicBezTo>
                  <a:pt x="1301" y="9479"/>
                  <a:pt x="1056" y="8547"/>
                  <a:pt x="883" y="8547"/>
                </a:cubicBezTo>
                <a:cubicBezTo>
                  <a:pt x="584" y="8236"/>
                  <a:pt x="0" y="12898"/>
                  <a:pt x="0" y="12898"/>
                </a:cubicBezTo>
                <a:cubicBezTo>
                  <a:pt x="0" y="12898"/>
                  <a:pt x="0" y="15384"/>
                  <a:pt x="0" y="15384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1262160"/>
            <a:ext cx="5398920" cy="671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244"/>
                </a:moveTo>
                <a:cubicBezTo>
                  <a:pt x="21600" y="4244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0"/>
                  <a:pt x="0" y="0"/>
                </a:cubicBezTo>
                <a:cubicBezTo>
                  <a:pt x="0" y="0"/>
                  <a:pt x="18" y="4178"/>
                  <a:pt x="18" y="4178"/>
                </a:cubicBezTo>
                <a:cubicBezTo>
                  <a:pt x="68" y="4192"/>
                  <a:pt x="140" y="4209"/>
                  <a:pt x="216" y="4204"/>
                </a:cubicBezTo>
                <a:cubicBezTo>
                  <a:pt x="335" y="4195"/>
                  <a:pt x="418" y="4172"/>
                  <a:pt x="493" y="4172"/>
                </a:cubicBezTo>
                <a:cubicBezTo>
                  <a:pt x="562" y="4172"/>
                  <a:pt x="644" y="4192"/>
                  <a:pt x="709" y="4192"/>
                </a:cubicBezTo>
                <a:cubicBezTo>
                  <a:pt x="886" y="4192"/>
                  <a:pt x="1019" y="4152"/>
                  <a:pt x="1141" y="4149"/>
                </a:cubicBezTo>
                <a:cubicBezTo>
                  <a:pt x="1253" y="4143"/>
                  <a:pt x="1361" y="4204"/>
                  <a:pt x="1512" y="4204"/>
                </a:cubicBezTo>
                <a:cubicBezTo>
                  <a:pt x="1627" y="4204"/>
                  <a:pt x="1735" y="4166"/>
                  <a:pt x="1850" y="4157"/>
                </a:cubicBezTo>
                <a:cubicBezTo>
                  <a:pt x="1948" y="4152"/>
                  <a:pt x="2038" y="4209"/>
                  <a:pt x="2146" y="4221"/>
                </a:cubicBezTo>
                <a:cubicBezTo>
                  <a:pt x="2297" y="4238"/>
                  <a:pt x="2459" y="4195"/>
                  <a:pt x="2596" y="4186"/>
                </a:cubicBezTo>
                <a:cubicBezTo>
                  <a:pt x="3172" y="4143"/>
                  <a:pt x="3755" y="4117"/>
                  <a:pt x="4349" y="4117"/>
                </a:cubicBezTo>
                <a:cubicBezTo>
                  <a:pt x="5134" y="4111"/>
                  <a:pt x="5864" y="4149"/>
                  <a:pt x="6595" y="4178"/>
                </a:cubicBezTo>
                <a:cubicBezTo>
                  <a:pt x="6962" y="4192"/>
                  <a:pt x="7326" y="4204"/>
                  <a:pt x="7643" y="4178"/>
                </a:cubicBezTo>
                <a:cubicBezTo>
                  <a:pt x="7945" y="4157"/>
                  <a:pt x="8287" y="4279"/>
                  <a:pt x="8597" y="4204"/>
                </a:cubicBezTo>
                <a:cubicBezTo>
                  <a:pt x="8672" y="4186"/>
                  <a:pt x="8723" y="4123"/>
                  <a:pt x="8788" y="4100"/>
                </a:cubicBezTo>
                <a:cubicBezTo>
                  <a:pt x="8906" y="4050"/>
                  <a:pt x="9090" y="4143"/>
                  <a:pt x="9281" y="4137"/>
                </a:cubicBezTo>
                <a:cubicBezTo>
                  <a:pt x="9518" y="4131"/>
                  <a:pt x="9785" y="4149"/>
                  <a:pt x="10040" y="4166"/>
                </a:cubicBezTo>
                <a:cubicBezTo>
                  <a:pt x="10181" y="4192"/>
                  <a:pt x="10325" y="4212"/>
                  <a:pt x="10458" y="4221"/>
                </a:cubicBezTo>
                <a:cubicBezTo>
                  <a:pt x="10559" y="4227"/>
                  <a:pt x="10642" y="4195"/>
                  <a:pt x="10724" y="4192"/>
                </a:cubicBezTo>
                <a:cubicBezTo>
                  <a:pt x="10883" y="4178"/>
                  <a:pt x="11160" y="4221"/>
                  <a:pt x="11293" y="4186"/>
                </a:cubicBezTo>
                <a:cubicBezTo>
                  <a:pt x="11495" y="4131"/>
                  <a:pt x="11592" y="4152"/>
                  <a:pt x="11808" y="4157"/>
                </a:cubicBezTo>
                <a:cubicBezTo>
                  <a:pt x="12193" y="4172"/>
                  <a:pt x="12586" y="4166"/>
                  <a:pt x="12964" y="4172"/>
                </a:cubicBezTo>
                <a:cubicBezTo>
                  <a:pt x="13212" y="4172"/>
                  <a:pt x="13471" y="4152"/>
                  <a:pt x="13712" y="4186"/>
                </a:cubicBezTo>
                <a:cubicBezTo>
                  <a:pt x="13939" y="4212"/>
                  <a:pt x="14166" y="4273"/>
                  <a:pt x="14339" y="4279"/>
                </a:cubicBezTo>
                <a:cubicBezTo>
                  <a:pt x="14717" y="4293"/>
                  <a:pt x="14940" y="4233"/>
                  <a:pt x="15149" y="4238"/>
                </a:cubicBezTo>
                <a:cubicBezTo>
                  <a:pt x="15764" y="4259"/>
                  <a:pt x="16578" y="4209"/>
                  <a:pt x="17208" y="4212"/>
                </a:cubicBezTo>
                <a:cubicBezTo>
                  <a:pt x="17622" y="4221"/>
                  <a:pt x="17780" y="4186"/>
                  <a:pt x="17942" y="4195"/>
                </a:cubicBezTo>
                <a:cubicBezTo>
                  <a:pt x="18065" y="4209"/>
                  <a:pt x="18194" y="4279"/>
                  <a:pt x="18331" y="4279"/>
                </a:cubicBezTo>
                <a:cubicBezTo>
                  <a:pt x="18504" y="4282"/>
                  <a:pt x="18688" y="4227"/>
                  <a:pt x="18770" y="4221"/>
                </a:cubicBezTo>
                <a:cubicBezTo>
                  <a:pt x="18889" y="4212"/>
                  <a:pt x="18997" y="4282"/>
                  <a:pt x="19145" y="4285"/>
                </a:cubicBezTo>
                <a:cubicBezTo>
                  <a:pt x="19318" y="4293"/>
                  <a:pt x="19490" y="4233"/>
                  <a:pt x="19577" y="4221"/>
                </a:cubicBezTo>
                <a:cubicBezTo>
                  <a:pt x="19685" y="4204"/>
                  <a:pt x="19796" y="4192"/>
                  <a:pt x="19940" y="4204"/>
                </a:cubicBezTo>
                <a:cubicBezTo>
                  <a:pt x="20117" y="4221"/>
                  <a:pt x="20282" y="4293"/>
                  <a:pt x="20466" y="4293"/>
                </a:cubicBezTo>
                <a:cubicBezTo>
                  <a:pt x="20664" y="4293"/>
                  <a:pt x="20848" y="4209"/>
                  <a:pt x="21031" y="4209"/>
                </a:cubicBezTo>
                <a:cubicBezTo>
                  <a:pt x="21218" y="4209"/>
                  <a:pt x="21409" y="4264"/>
                  <a:pt x="21600" y="424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125800" y="3137040"/>
            <a:ext cx="3993840" cy="16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4"/>
                </a:moveTo>
                <a:cubicBezTo>
                  <a:pt x="21600" y="24"/>
                  <a:pt x="21600" y="21456"/>
                  <a:pt x="21600" y="21456"/>
                </a:cubicBezTo>
                <a:cubicBezTo>
                  <a:pt x="21308" y="21492"/>
                  <a:pt x="21026" y="21492"/>
                  <a:pt x="20734" y="21492"/>
                </a:cubicBezTo>
                <a:cubicBezTo>
                  <a:pt x="19220" y="21540"/>
                  <a:pt x="17682" y="21600"/>
                  <a:pt x="16163" y="21600"/>
                </a:cubicBezTo>
                <a:cubicBezTo>
                  <a:pt x="14956" y="21600"/>
                  <a:pt x="13749" y="21516"/>
                  <a:pt x="12547" y="21492"/>
                </a:cubicBezTo>
                <a:cubicBezTo>
                  <a:pt x="11004" y="21444"/>
                  <a:pt x="9462" y="21456"/>
                  <a:pt x="7919" y="21360"/>
                </a:cubicBezTo>
                <a:cubicBezTo>
                  <a:pt x="6201" y="21240"/>
                  <a:pt x="4483" y="20880"/>
                  <a:pt x="2764" y="20772"/>
                </a:cubicBezTo>
                <a:cubicBezTo>
                  <a:pt x="1952" y="20724"/>
                  <a:pt x="1139" y="20760"/>
                  <a:pt x="326" y="20796"/>
                </a:cubicBezTo>
                <a:cubicBezTo>
                  <a:pt x="102" y="19381"/>
                  <a:pt x="0" y="18122"/>
                  <a:pt x="73" y="16875"/>
                </a:cubicBezTo>
                <a:cubicBezTo>
                  <a:pt x="165" y="15148"/>
                  <a:pt x="657" y="13684"/>
                  <a:pt x="1256" y="12341"/>
                </a:cubicBezTo>
                <a:cubicBezTo>
                  <a:pt x="1626" y="11502"/>
                  <a:pt x="2025" y="10674"/>
                  <a:pt x="2458" y="9918"/>
                </a:cubicBezTo>
                <a:cubicBezTo>
                  <a:pt x="3402" y="8227"/>
                  <a:pt x="4492" y="7088"/>
                  <a:pt x="5534" y="5925"/>
                </a:cubicBezTo>
                <a:cubicBezTo>
                  <a:pt x="7023" y="4246"/>
                  <a:pt x="8639" y="3226"/>
                  <a:pt x="10255" y="2447"/>
                </a:cubicBezTo>
                <a:cubicBezTo>
                  <a:pt x="12299" y="1439"/>
                  <a:pt x="14392" y="744"/>
                  <a:pt x="16490" y="408"/>
                </a:cubicBezTo>
                <a:cubicBezTo>
                  <a:pt x="17239" y="288"/>
                  <a:pt x="17998" y="264"/>
                  <a:pt x="18758" y="216"/>
                </a:cubicBezTo>
                <a:cubicBezTo>
                  <a:pt x="19741" y="144"/>
                  <a:pt x="20719" y="0"/>
                  <a:pt x="21600" y="2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5800" y="3127320"/>
            <a:ext cx="3993840" cy="16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6"/>
                </a:moveTo>
                <a:cubicBezTo>
                  <a:pt x="21600" y="36"/>
                  <a:pt x="21600" y="21492"/>
                  <a:pt x="21600" y="21492"/>
                </a:cubicBezTo>
                <a:cubicBezTo>
                  <a:pt x="21308" y="21504"/>
                  <a:pt x="21026" y="21504"/>
                  <a:pt x="20734" y="21504"/>
                </a:cubicBezTo>
                <a:cubicBezTo>
                  <a:pt x="19220" y="21552"/>
                  <a:pt x="17682" y="21600"/>
                  <a:pt x="16163" y="21600"/>
                </a:cubicBezTo>
                <a:cubicBezTo>
                  <a:pt x="14956" y="21600"/>
                  <a:pt x="13749" y="21528"/>
                  <a:pt x="12547" y="21504"/>
                </a:cubicBezTo>
                <a:cubicBezTo>
                  <a:pt x="11004" y="21456"/>
                  <a:pt x="9462" y="21492"/>
                  <a:pt x="7919" y="21384"/>
                </a:cubicBezTo>
                <a:cubicBezTo>
                  <a:pt x="6201" y="21240"/>
                  <a:pt x="4483" y="20904"/>
                  <a:pt x="2764" y="20796"/>
                </a:cubicBezTo>
                <a:cubicBezTo>
                  <a:pt x="1952" y="20736"/>
                  <a:pt x="1139" y="20772"/>
                  <a:pt x="326" y="20832"/>
                </a:cubicBezTo>
                <a:cubicBezTo>
                  <a:pt x="102" y="19403"/>
                  <a:pt x="0" y="18130"/>
                  <a:pt x="73" y="16881"/>
                </a:cubicBezTo>
                <a:cubicBezTo>
                  <a:pt x="165" y="15152"/>
                  <a:pt x="657" y="13688"/>
                  <a:pt x="1256" y="12343"/>
                </a:cubicBezTo>
                <a:cubicBezTo>
                  <a:pt x="1626" y="11502"/>
                  <a:pt x="2025" y="10698"/>
                  <a:pt x="2458" y="9930"/>
                </a:cubicBezTo>
                <a:cubicBezTo>
                  <a:pt x="3402" y="8225"/>
                  <a:pt x="4492" y="7084"/>
                  <a:pt x="5534" y="5907"/>
                </a:cubicBezTo>
                <a:cubicBezTo>
                  <a:pt x="7023" y="4238"/>
                  <a:pt x="8639" y="3230"/>
                  <a:pt x="10255" y="2437"/>
                </a:cubicBezTo>
                <a:cubicBezTo>
                  <a:pt x="12299" y="1453"/>
                  <a:pt x="14392" y="732"/>
                  <a:pt x="16490" y="408"/>
                </a:cubicBezTo>
                <a:cubicBezTo>
                  <a:pt x="17239" y="288"/>
                  <a:pt x="17998" y="264"/>
                  <a:pt x="18758" y="204"/>
                </a:cubicBezTo>
                <a:cubicBezTo>
                  <a:pt x="19741" y="120"/>
                  <a:pt x="20719" y="0"/>
                  <a:pt x="21600" y="36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7240" y="3127320"/>
            <a:ext cx="3092400" cy="54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"/>
                </a:moveTo>
                <a:cubicBezTo>
                  <a:pt x="21600" y="107"/>
                  <a:pt x="21600" y="21063"/>
                  <a:pt x="21600" y="21063"/>
                </a:cubicBezTo>
                <a:cubicBezTo>
                  <a:pt x="21059" y="21134"/>
                  <a:pt x="20512" y="21206"/>
                  <a:pt x="19966" y="21313"/>
                </a:cubicBezTo>
                <a:cubicBezTo>
                  <a:pt x="19016" y="21349"/>
                  <a:pt x="18073" y="21600"/>
                  <a:pt x="17137" y="21600"/>
                </a:cubicBezTo>
                <a:cubicBezTo>
                  <a:pt x="15213" y="21528"/>
                  <a:pt x="13264" y="21063"/>
                  <a:pt x="11341" y="20991"/>
                </a:cubicBezTo>
                <a:cubicBezTo>
                  <a:pt x="8920" y="20848"/>
                  <a:pt x="6519" y="21134"/>
                  <a:pt x="4105" y="20848"/>
                </a:cubicBezTo>
                <a:cubicBezTo>
                  <a:pt x="2735" y="20704"/>
                  <a:pt x="1370" y="20239"/>
                  <a:pt x="0" y="19773"/>
                </a:cubicBezTo>
                <a:cubicBezTo>
                  <a:pt x="277" y="19021"/>
                  <a:pt x="566" y="18448"/>
                  <a:pt x="849" y="17624"/>
                </a:cubicBezTo>
                <a:cubicBezTo>
                  <a:pt x="2772" y="12645"/>
                  <a:pt x="4859" y="9636"/>
                  <a:pt x="6946" y="7272"/>
                </a:cubicBezTo>
                <a:cubicBezTo>
                  <a:pt x="9587" y="4334"/>
                  <a:pt x="12290" y="2185"/>
                  <a:pt x="14999" y="1218"/>
                </a:cubicBezTo>
                <a:cubicBezTo>
                  <a:pt x="15967" y="860"/>
                  <a:pt x="16948" y="788"/>
                  <a:pt x="17929" y="609"/>
                </a:cubicBezTo>
                <a:cubicBezTo>
                  <a:pt x="19199" y="358"/>
                  <a:pt x="20462" y="0"/>
                  <a:pt x="21600" y="107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08440" y="3627360"/>
            <a:ext cx="321120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400"/>
                </a:moveTo>
                <a:cubicBezTo>
                  <a:pt x="21600" y="6400"/>
                  <a:pt x="21600" y="20400"/>
                  <a:pt x="21600" y="20400"/>
                </a:cubicBezTo>
                <a:cubicBezTo>
                  <a:pt x="21315" y="20000"/>
                  <a:pt x="20958" y="20000"/>
                  <a:pt x="20740" y="19600"/>
                </a:cubicBezTo>
                <a:cubicBezTo>
                  <a:pt x="19857" y="18800"/>
                  <a:pt x="18948" y="21600"/>
                  <a:pt x="18065" y="21200"/>
                </a:cubicBezTo>
                <a:cubicBezTo>
                  <a:pt x="16842" y="20400"/>
                  <a:pt x="15655" y="19600"/>
                  <a:pt x="14426" y="19200"/>
                </a:cubicBezTo>
                <a:cubicBezTo>
                  <a:pt x="12253" y="18800"/>
                  <a:pt x="10098" y="18800"/>
                  <a:pt x="7930" y="18800"/>
                </a:cubicBezTo>
                <a:cubicBezTo>
                  <a:pt x="6217" y="18800"/>
                  <a:pt x="2313" y="12800"/>
                  <a:pt x="0" y="11800"/>
                </a:cubicBezTo>
                <a:cubicBezTo>
                  <a:pt x="272" y="7800"/>
                  <a:pt x="545" y="4000"/>
                  <a:pt x="811" y="0"/>
                </a:cubicBezTo>
                <a:cubicBezTo>
                  <a:pt x="2125" y="2400"/>
                  <a:pt x="3433" y="4400"/>
                  <a:pt x="4752" y="5200"/>
                </a:cubicBezTo>
                <a:cubicBezTo>
                  <a:pt x="7077" y="6800"/>
                  <a:pt x="9389" y="5200"/>
                  <a:pt x="11720" y="6000"/>
                </a:cubicBezTo>
                <a:cubicBezTo>
                  <a:pt x="13573" y="6400"/>
                  <a:pt x="15449" y="9000"/>
                  <a:pt x="17302" y="9400"/>
                </a:cubicBezTo>
                <a:cubicBezTo>
                  <a:pt x="18204" y="9400"/>
                  <a:pt x="19112" y="8000"/>
                  <a:pt x="20026" y="7800"/>
                </a:cubicBezTo>
                <a:cubicBezTo>
                  <a:pt x="20553" y="7200"/>
                  <a:pt x="21079" y="6800"/>
                  <a:pt x="21600" y="640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6440" y="3681360"/>
            <a:ext cx="3373200" cy="1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871"/>
                </a:moveTo>
                <a:cubicBezTo>
                  <a:pt x="21600" y="7871"/>
                  <a:pt x="21600" y="21600"/>
                  <a:pt x="21600" y="21600"/>
                </a:cubicBezTo>
                <a:cubicBezTo>
                  <a:pt x="21214" y="21234"/>
                  <a:pt x="20822" y="21234"/>
                  <a:pt x="20430" y="21234"/>
                </a:cubicBezTo>
                <a:cubicBezTo>
                  <a:pt x="19422" y="21234"/>
                  <a:pt x="18362" y="19037"/>
                  <a:pt x="17348" y="19403"/>
                </a:cubicBezTo>
                <a:cubicBezTo>
                  <a:pt x="15988" y="20319"/>
                  <a:pt x="14554" y="20685"/>
                  <a:pt x="13182" y="20319"/>
                </a:cubicBezTo>
                <a:cubicBezTo>
                  <a:pt x="11690" y="19953"/>
                  <a:pt x="10302" y="20685"/>
                  <a:pt x="8804" y="19953"/>
                </a:cubicBezTo>
                <a:cubicBezTo>
                  <a:pt x="5865" y="18305"/>
                  <a:pt x="2938" y="17939"/>
                  <a:pt x="0" y="17390"/>
                </a:cubicBezTo>
                <a:cubicBezTo>
                  <a:pt x="340" y="11349"/>
                  <a:pt x="697" y="5492"/>
                  <a:pt x="1043" y="0"/>
                </a:cubicBezTo>
                <a:cubicBezTo>
                  <a:pt x="3244" y="915"/>
                  <a:pt x="6960" y="6407"/>
                  <a:pt x="8590" y="6407"/>
                </a:cubicBezTo>
                <a:cubicBezTo>
                  <a:pt x="10653" y="6407"/>
                  <a:pt x="12704" y="6407"/>
                  <a:pt x="14773" y="6773"/>
                </a:cubicBezTo>
                <a:cubicBezTo>
                  <a:pt x="15942" y="7139"/>
                  <a:pt x="17071" y="7871"/>
                  <a:pt x="18235" y="8603"/>
                </a:cubicBezTo>
                <a:cubicBezTo>
                  <a:pt x="19076" y="8969"/>
                  <a:pt x="19941" y="6407"/>
                  <a:pt x="20782" y="7139"/>
                </a:cubicBezTo>
                <a:cubicBezTo>
                  <a:pt x="20989" y="7505"/>
                  <a:pt x="21329" y="7505"/>
                  <a:pt x="21600" y="787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87760" y="3767040"/>
            <a:ext cx="343188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133"/>
                </a:moveTo>
                <a:cubicBezTo>
                  <a:pt x="21600" y="6133"/>
                  <a:pt x="21600" y="14667"/>
                  <a:pt x="21600" y="14667"/>
                </a:cubicBezTo>
                <a:cubicBezTo>
                  <a:pt x="20388" y="17333"/>
                  <a:pt x="19181" y="18400"/>
                  <a:pt x="17975" y="19200"/>
                </a:cubicBezTo>
                <a:cubicBezTo>
                  <a:pt x="16043" y="20533"/>
                  <a:pt x="14117" y="21600"/>
                  <a:pt x="12191" y="21067"/>
                </a:cubicBezTo>
                <a:cubicBezTo>
                  <a:pt x="9613" y="19733"/>
                  <a:pt x="7030" y="16533"/>
                  <a:pt x="4458" y="14133"/>
                </a:cubicBezTo>
                <a:cubicBezTo>
                  <a:pt x="2974" y="12533"/>
                  <a:pt x="1490" y="12267"/>
                  <a:pt x="0" y="9600"/>
                </a:cubicBezTo>
                <a:cubicBezTo>
                  <a:pt x="113" y="6133"/>
                  <a:pt x="244" y="2933"/>
                  <a:pt x="363" y="0"/>
                </a:cubicBezTo>
                <a:cubicBezTo>
                  <a:pt x="3252" y="800"/>
                  <a:pt x="6129" y="1333"/>
                  <a:pt x="9018" y="3733"/>
                </a:cubicBezTo>
                <a:cubicBezTo>
                  <a:pt x="10491" y="4800"/>
                  <a:pt x="11856" y="3733"/>
                  <a:pt x="13324" y="4267"/>
                </a:cubicBezTo>
                <a:cubicBezTo>
                  <a:pt x="14672" y="4800"/>
                  <a:pt x="16082" y="4267"/>
                  <a:pt x="17419" y="2933"/>
                </a:cubicBezTo>
                <a:cubicBezTo>
                  <a:pt x="18416" y="2400"/>
                  <a:pt x="19459" y="5600"/>
                  <a:pt x="20450" y="5600"/>
                </a:cubicBezTo>
                <a:cubicBezTo>
                  <a:pt x="20835" y="5600"/>
                  <a:pt x="21220" y="5600"/>
                  <a:pt x="21600" y="613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6280" y="3797280"/>
            <a:ext cx="357336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805"/>
                </a:moveTo>
                <a:cubicBezTo>
                  <a:pt x="21600" y="2805"/>
                  <a:pt x="21600" y="19075"/>
                  <a:pt x="21600" y="19075"/>
                </a:cubicBezTo>
                <a:cubicBezTo>
                  <a:pt x="20278" y="19075"/>
                  <a:pt x="18951" y="18935"/>
                  <a:pt x="17640" y="19075"/>
                </a:cubicBezTo>
                <a:cubicBezTo>
                  <a:pt x="15709" y="19496"/>
                  <a:pt x="13784" y="21600"/>
                  <a:pt x="11863" y="21319"/>
                </a:cubicBezTo>
                <a:cubicBezTo>
                  <a:pt x="10036" y="21039"/>
                  <a:pt x="8192" y="18374"/>
                  <a:pt x="6370" y="17813"/>
                </a:cubicBezTo>
                <a:cubicBezTo>
                  <a:pt x="5167" y="17392"/>
                  <a:pt x="3982" y="18935"/>
                  <a:pt x="2785" y="18374"/>
                </a:cubicBezTo>
                <a:cubicBezTo>
                  <a:pt x="1849" y="17813"/>
                  <a:pt x="930" y="16551"/>
                  <a:pt x="0" y="14868"/>
                </a:cubicBezTo>
                <a:cubicBezTo>
                  <a:pt x="60" y="13886"/>
                  <a:pt x="136" y="12764"/>
                  <a:pt x="207" y="11501"/>
                </a:cubicBezTo>
                <a:cubicBezTo>
                  <a:pt x="430" y="7434"/>
                  <a:pt x="642" y="3506"/>
                  <a:pt x="870" y="0"/>
                </a:cubicBezTo>
                <a:cubicBezTo>
                  <a:pt x="2295" y="1122"/>
                  <a:pt x="3715" y="1683"/>
                  <a:pt x="5140" y="2525"/>
                </a:cubicBezTo>
                <a:cubicBezTo>
                  <a:pt x="7610" y="3787"/>
                  <a:pt x="10090" y="5470"/>
                  <a:pt x="12565" y="6171"/>
                </a:cubicBezTo>
                <a:cubicBezTo>
                  <a:pt x="14415" y="6452"/>
                  <a:pt x="16264" y="5891"/>
                  <a:pt x="18119" y="5190"/>
                </a:cubicBezTo>
                <a:cubicBezTo>
                  <a:pt x="19277" y="4769"/>
                  <a:pt x="20436" y="4208"/>
                  <a:pt x="21600" y="2805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87520" y="3894120"/>
            <a:ext cx="373212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541"/>
                </a:moveTo>
                <a:cubicBezTo>
                  <a:pt x="21600" y="3541"/>
                  <a:pt x="21600" y="19948"/>
                  <a:pt x="21600" y="19948"/>
                </a:cubicBezTo>
                <a:cubicBezTo>
                  <a:pt x="20272" y="19948"/>
                  <a:pt x="18912" y="19475"/>
                  <a:pt x="17579" y="19593"/>
                </a:cubicBezTo>
                <a:cubicBezTo>
                  <a:pt x="15589" y="19948"/>
                  <a:pt x="13584" y="21600"/>
                  <a:pt x="11589" y="21364"/>
                </a:cubicBezTo>
                <a:cubicBezTo>
                  <a:pt x="9704" y="21128"/>
                  <a:pt x="7797" y="18885"/>
                  <a:pt x="5891" y="18413"/>
                </a:cubicBezTo>
                <a:cubicBezTo>
                  <a:pt x="4662" y="18059"/>
                  <a:pt x="3417" y="19475"/>
                  <a:pt x="2172" y="18885"/>
                </a:cubicBezTo>
                <a:cubicBezTo>
                  <a:pt x="1443" y="18649"/>
                  <a:pt x="729" y="17823"/>
                  <a:pt x="0" y="16997"/>
                </a:cubicBezTo>
                <a:cubicBezTo>
                  <a:pt x="286" y="10859"/>
                  <a:pt x="609" y="5430"/>
                  <a:pt x="927" y="0"/>
                </a:cubicBezTo>
                <a:cubicBezTo>
                  <a:pt x="1818" y="1416"/>
                  <a:pt x="2688" y="2479"/>
                  <a:pt x="3584" y="2951"/>
                </a:cubicBezTo>
                <a:cubicBezTo>
                  <a:pt x="4729" y="3423"/>
                  <a:pt x="5865" y="2125"/>
                  <a:pt x="7016" y="2479"/>
                </a:cubicBezTo>
                <a:cubicBezTo>
                  <a:pt x="8761" y="2951"/>
                  <a:pt x="10527" y="5193"/>
                  <a:pt x="12277" y="5430"/>
                </a:cubicBezTo>
                <a:cubicBezTo>
                  <a:pt x="14115" y="5666"/>
                  <a:pt x="15959" y="3895"/>
                  <a:pt x="17808" y="3541"/>
                </a:cubicBezTo>
                <a:cubicBezTo>
                  <a:pt x="19063" y="3423"/>
                  <a:pt x="20334" y="3541"/>
                  <a:pt x="21600" y="3541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5800" y="4181400"/>
            <a:ext cx="3993840" cy="5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19"/>
                </a:moveTo>
                <a:cubicBezTo>
                  <a:pt x="21600" y="619"/>
                  <a:pt x="21600" y="21290"/>
                  <a:pt x="21600" y="21290"/>
                </a:cubicBezTo>
                <a:cubicBezTo>
                  <a:pt x="21308" y="21325"/>
                  <a:pt x="21026" y="21325"/>
                  <a:pt x="20734" y="21325"/>
                </a:cubicBezTo>
                <a:cubicBezTo>
                  <a:pt x="19220" y="21462"/>
                  <a:pt x="17682" y="21600"/>
                  <a:pt x="16163" y="21600"/>
                </a:cubicBezTo>
                <a:cubicBezTo>
                  <a:pt x="14956" y="21600"/>
                  <a:pt x="13749" y="21394"/>
                  <a:pt x="12547" y="21325"/>
                </a:cubicBezTo>
                <a:cubicBezTo>
                  <a:pt x="11004" y="21187"/>
                  <a:pt x="9462" y="21290"/>
                  <a:pt x="7919" y="20981"/>
                </a:cubicBezTo>
                <a:cubicBezTo>
                  <a:pt x="6201" y="20568"/>
                  <a:pt x="4483" y="19605"/>
                  <a:pt x="2764" y="19296"/>
                </a:cubicBezTo>
                <a:cubicBezTo>
                  <a:pt x="1952" y="19124"/>
                  <a:pt x="1139" y="19227"/>
                  <a:pt x="326" y="19399"/>
                </a:cubicBezTo>
                <a:cubicBezTo>
                  <a:pt x="102" y="15306"/>
                  <a:pt x="0" y="11660"/>
                  <a:pt x="73" y="8083"/>
                </a:cubicBezTo>
                <a:cubicBezTo>
                  <a:pt x="122" y="5194"/>
                  <a:pt x="321" y="2476"/>
                  <a:pt x="599" y="0"/>
                </a:cubicBezTo>
                <a:cubicBezTo>
                  <a:pt x="3816" y="550"/>
                  <a:pt x="7013" y="963"/>
                  <a:pt x="10235" y="1204"/>
                </a:cubicBezTo>
                <a:cubicBezTo>
                  <a:pt x="13034" y="1376"/>
                  <a:pt x="15833" y="1273"/>
                  <a:pt x="18631" y="1032"/>
                </a:cubicBezTo>
                <a:cubicBezTo>
                  <a:pt x="19614" y="963"/>
                  <a:pt x="20612" y="894"/>
                  <a:pt x="21600" y="61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6680" y="4186080"/>
            <a:ext cx="3861000" cy="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540" y="8640"/>
                  <a:pt x="6425" y="14194"/>
                  <a:pt x="9969" y="18514"/>
                </a:cubicBezTo>
                <a:cubicBezTo>
                  <a:pt x="12864" y="21600"/>
                  <a:pt x="15759" y="19749"/>
                  <a:pt x="18655" y="15429"/>
                </a:cubicBezTo>
                <a:cubicBezTo>
                  <a:pt x="20054" y="14194"/>
                  <a:pt x="20195" y="18514"/>
                  <a:pt x="21600" y="11726"/>
                </a:cubicBezTo>
              </a:path>
            </a:pathLst>
          </a:custGeom>
          <a:solidFill>
            <a:srgbClr val="cccccc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73280" y="3902040"/>
            <a:ext cx="354636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37" y="6253"/>
                  <a:pt x="1699" y="6253"/>
                  <a:pt x="2642" y="8526"/>
                </a:cubicBezTo>
                <a:cubicBezTo>
                  <a:pt x="3848" y="10800"/>
                  <a:pt x="5042" y="4547"/>
                  <a:pt x="6254" y="6253"/>
                </a:cubicBezTo>
                <a:cubicBezTo>
                  <a:pt x="8090" y="8526"/>
                  <a:pt x="9948" y="19326"/>
                  <a:pt x="11789" y="20463"/>
                </a:cubicBezTo>
                <a:cubicBezTo>
                  <a:pt x="13724" y="21600"/>
                  <a:pt x="15664" y="13074"/>
                  <a:pt x="17610" y="11368"/>
                </a:cubicBezTo>
                <a:cubicBezTo>
                  <a:pt x="18931" y="10800"/>
                  <a:pt x="20268" y="11368"/>
                  <a:pt x="21600" y="11368"/>
                </a:cubicBezTo>
              </a:path>
            </a:pathLst>
          </a:custGeom>
          <a:noFill/>
          <a:ln w="72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7760" y="3808440"/>
            <a:ext cx="3419280" cy="3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812"/>
                </a:moveTo>
                <a:cubicBezTo>
                  <a:pt x="1672" y="12071"/>
                  <a:pt x="2803" y="0"/>
                  <a:pt x="4475" y="3812"/>
                </a:cubicBezTo>
                <a:cubicBezTo>
                  <a:pt x="7056" y="9529"/>
                  <a:pt x="9649" y="17153"/>
                  <a:pt x="12236" y="20329"/>
                </a:cubicBezTo>
                <a:cubicBezTo>
                  <a:pt x="14169" y="21600"/>
                  <a:pt x="16102" y="19059"/>
                  <a:pt x="18041" y="15882"/>
                </a:cubicBezTo>
                <a:cubicBezTo>
                  <a:pt x="19343" y="13976"/>
                  <a:pt x="20281" y="15882"/>
                  <a:pt x="21600" y="11435"/>
                </a:cubicBezTo>
              </a:path>
            </a:pathLst>
          </a:custGeom>
          <a:solidFill>
            <a:srgbClr val="999999"/>
          </a:solidFill>
          <a:ln w="72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4880" y="3770280"/>
            <a:ext cx="3344760" cy="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800"/>
                </a:moveTo>
                <a:cubicBezTo>
                  <a:pt x="2993" y="7200"/>
                  <a:pt x="5695" y="0"/>
                  <a:pt x="8693" y="10800"/>
                </a:cubicBezTo>
                <a:cubicBezTo>
                  <a:pt x="10204" y="15600"/>
                  <a:pt x="11605" y="10800"/>
                  <a:pt x="13110" y="13200"/>
                </a:cubicBezTo>
                <a:cubicBezTo>
                  <a:pt x="14493" y="15600"/>
                  <a:pt x="15940" y="13200"/>
                  <a:pt x="17311" y="7200"/>
                </a:cubicBezTo>
                <a:cubicBezTo>
                  <a:pt x="18334" y="4800"/>
                  <a:pt x="19403" y="19200"/>
                  <a:pt x="20420" y="19200"/>
                </a:cubicBezTo>
                <a:cubicBezTo>
                  <a:pt x="20815" y="19200"/>
                  <a:pt x="21211" y="19200"/>
                  <a:pt x="21600" y="21600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41560" y="3683160"/>
            <a:ext cx="317808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342" y="2298"/>
                  <a:pt x="6054" y="15166"/>
                  <a:pt x="7791" y="15166"/>
                </a:cubicBezTo>
                <a:cubicBezTo>
                  <a:pt x="9981" y="15166"/>
                  <a:pt x="12158" y="15166"/>
                  <a:pt x="14353" y="16085"/>
                </a:cubicBezTo>
                <a:cubicBezTo>
                  <a:pt x="15595" y="17004"/>
                  <a:pt x="16793" y="18843"/>
                  <a:pt x="18029" y="20681"/>
                </a:cubicBezTo>
                <a:cubicBezTo>
                  <a:pt x="18921" y="21600"/>
                  <a:pt x="19839" y="15166"/>
                  <a:pt x="20732" y="17004"/>
                </a:cubicBezTo>
                <a:cubicBezTo>
                  <a:pt x="20952" y="17923"/>
                  <a:pt x="21313" y="17923"/>
                  <a:pt x="21600" y="18843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1000" y="3632040"/>
            <a:ext cx="306864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88" y="6171"/>
                  <a:pt x="2585" y="8743"/>
                  <a:pt x="3966" y="10800"/>
                </a:cubicBezTo>
                <a:cubicBezTo>
                  <a:pt x="6400" y="14914"/>
                  <a:pt x="8820" y="10800"/>
                  <a:pt x="11259" y="12857"/>
                </a:cubicBezTo>
                <a:cubicBezTo>
                  <a:pt x="13198" y="13886"/>
                  <a:pt x="15162" y="20571"/>
                  <a:pt x="17101" y="21600"/>
                </a:cubicBezTo>
                <a:cubicBezTo>
                  <a:pt x="18045" y="21600"/>
                  <a:pt x="18996" y="18000"/>
                  <a:pt x="19953" y="17486"/>
                </a:cubicBezTo>
                <a:cubicBezTo>
                  <a:pt x="20504" y="15943"/>
                  <a:pt x="21055" y="14914"/>
                  <a:pt x="21600" y="13886"/>
                </a:cubicBezTo>
              </a:path>
            </a:pathLst>
          </a:custGeom>
          <a:noFill/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87520" y="4024440"/>
            <a:ext cx="3732120" cy="3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9" y="4086"/>
                  <a:pt x="1443" y="7005"/>
                  <a:pt x="2172" y="8173"/>
                </a:cubicBezTo>
                <a:cubicBezTo>
                  <a:pt x="3417" y="11092"/>
                  <a:pt x="4662" y="4086"/>
                  <a:pt x="5891" y="5838"/>
                </a:cubicBezTo>
                <a:cubicBezTo>
                  <a:pt x="7797" y="8173"/>
                  <a:pt x="9704" y="19265"/>
                  <a:pt x="11589" y="20432"/>
                </a:cubicBezTo>
                <a:cubicBezTo>
                  <a:pt x="13584" y="21600"/>
                  <a:pt x="15589" y="13427"/>
                  <a:pt x="17579" y="11676"/>
                </a:cubicBezTo>
                <a:cubicBezTo>
                  <a:pt x="18912" y="11092"/>
                  <a:pt x="20272" y="11676"/>
                  <a:pt x="21600" y="11676"/>
                </a:cubicBezTo>
              </a:path>
            </a:pathLst>
          </a:custGeom>
          <a:noFill/>
          <a:ln w="72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85920" y="4638600"/>
            <a:ext cx="3933720" cy="33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60"/>
                </a:moveTo>
                <a:cubicBezTo>
                  <a:pt x="21600" y="360"/>
                  <a:pt x="21600" y="21600"/>
                  <a:pt x="21600" y="21600"/>
                </a:cubicBezTo>
                <a:cubicBezTo>
                  <a:pt x="21600" y="21600"/>
                  <a:pt x="21442" y="21565"/>
                  <a:pt x="21442" y="21565"/>
                </a:cubicBezTo>
                <a:cubicBezTo>
                  <a:pt x="19525" y="21020"/>
                  <a:pt x="17761" y="19876"/>
                  <a:pt x="16057" y="18610"/>
                </a:cubicBezTo>
                <a:cubicBezTo>
                  <a:pt x="14451" y="17432"/>
                  <a:pt x="12954" y="16161"/>
                  <a:pt x="11521" y="14802"/>
                </a:cubicBezTo>
                <a:cubicBezTo>
                  <a:pt x="9678" y="13067"/>
                  <a:pt x="7855" y="11320"/>
                  <a:pt x="6126" y="9445"/>
                </a:cubicBezTo>
                <a:cubicBezTo>
                  <a:pt x="5143" y="8382"/>
                  <a:pt x="4204" y="7239"/>
                  <a:pt x="2890" y="5410"/>
                </a:cubicBezTo>
                <a:cubicBezTo>
                  <a:pt x="2080" y="4296"/>
                  <a:pt x="1349" y="3053"/>
                  <a:pt x="672" y="1631"/>
                </a:cubicBezTo>
                <a:cubicBezTo>
                  <a:pt x="395" y="1045"/>
                  <a:pt x="163" y="522"/>
                  <a:pt x="0" y="41"/>
                </a:cubicBezTo>
                <a:cubicBezTo>
                  <a:pt x="820" y="12"/>
                  <a:pt x="1655" y="0"/>
                  <a:pt x="2480" y="23"/>
                </a:cubicBezTo>
                <a:cubicBezTo>
                  <a:pt x="4224" y="81"/>
                  <a:pt x="5968" y="244"/>
                  <a:pt x="7712" y="308"/>
                </a:cubicBezTo>
                <a:cubicBezTo>
                  <a:pt x="9278" y="360"/>
                  <a:pt x="10844" y="342"/>
                  <a:pt x="12411" y="366"/>
                </a:cubicBezTo>
                <a:cubicBezTo>
                  <a:pt x="13631" y="377"/>
                  <a:pt x="14856" y="430"/>
                  <a:pt x="16081" y="430"/>
                </a:cubicBezTo>
                <a:cubicBezTo>
                  <a:pt x="17623" y="430"/>
                  <a:pt x="19184" y="395"/>
                  <a:pt x="20721" y="366"/>
                </a:cubicBezTo>
                <a:cubicBezTo>
                  <a:pt x="21017" y="366"/>
                  <a:pt x="21304" y="366"/>
                  <a:pt x="21600" y="36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2560" y="7545240"/>
            <a:ext cx="59040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72" y="21203"/>
                </a:moveTo>
                <a:cubicBezTo>
                  <a:pt x="14972" y="21203"/>
                  <a:pt x="21600" y="21600"/>
                  <a:pt x="21600" y="21600"/>
                </a:cubicBezTo>
                <a:cubicBezTo>
                  <a:pt x="21600" y="21600"/>
                  <a:pt x="21072" y="14503"/>
                  <a:pt x="20677" y="10976"/>
                </a:cubicBezTo>
                <a:cubicBezTo>
                  <a:pt x="20413" y="8816"/>
                  <a:pt x="20215" y="6612"/>
                  <a:pt x="19456" y="4673"/>
                </a:cubicBezTo>
                <a:cubicBezTo>
                  <a:pt x="18467" y="2072"/>
                  <a:pt x="16785" y="0"/>
                  <a:pt x="14972" y="441"/>
                </a:cubicBezTo>
                <a:cubicBezTo>
                  <a:pt x="12531" y="1102"/>
                  <a:pt x="11608" y="5334"/>
                  <a:pt x="9464" y="7229"/>
                </a:cubicBezTo>
                <a:cubicBezTo>
                  <a:pt x="6826" y="9566"/>
                  <a:pt x="2968" y="9433"/>
                  <a:pt x="956" y="12607"/>
                </a:cubicBezTo>
                <a:cubicBezTo>
                  <a:pt x="0" y="14150"/>
                  <a:pt x="1682" y="16575"/>
                  <a:pt x="2506" y="18118"/>
                </a:cubicBezTo>
                <a:cubicBezTo>
                  <a:pt x="3265" y="19484"/>
                  <a:pt x="5507" y="21380"/>
                  <a:pt x="5507" y="21380"/>
                </a:cubicBezTo>
                <a:cubicBezTo>
                  <a:pt x="5507" y="21380"/>
                  <a:pt x="14972" y="21203"/>
                  <a:pt x="14972" y="2120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14840" y="7818480"/>
            <a:ext cx="43812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22" y="0"/>
                </a:moveTo>
                <a:cubicBezTo>
                  <a:pt x="10889" y="6122"/>
                  <a:pt x="16178" y="11782"/>
                  <a:pt x="21422" y="15940"/>
                </a:cubicBezTo>
                <a:cubicBezTo>
                  <a:pt x="21556" y="19290"/>
                  <a:pt x="21600" y="21600"/>
                  <a:pt x="21600" y="21600"/>
                </a:cubicBezTo>
                <a:cubicBezTo>
                  <a:pt x="21600" y="21600"/>
                  <a:pt x="12667" y="20560"/>
                  <a:pt x="12667" y="20560"/>
                </a:cubicBezTo>
                <a:cubicBezTo>
                  <a:pt x="12667" y="20560"/>
                  <a:pt x="4889" y="21022"/>
                  <a:pt x="4889" y="21022"/>
                </a:cubicBezTo>
                <a:cubicBezTo>
                  <a:pt x="4889" y="21022"/>
                  <a:pt x="3822" y="13399"/>
                  <a:pt x="2889" y="10165"/>
                </a:cubicBezTo>
                <a:cubicBezTo>
                  <a:pt x="2089" y="7393"/>
                  <a:pt x="1022" y="5082"/>
                  <a:pt x="0" y="3234"/>
                </a:cubicBezTo>
                <a:cubicBezTo>
                  <a:pt x="578" y="3234"/>
                  <a:pt x="1111" y="3234"/>
                  <a:pt x="1689" y="3234"/>
                </a:cubicBezTo>
                <a:cubicBezTo>
                  <a:pt x="3200" y="3003"/>
                  <a:pt x="4489" y="1502"/>
                  <a:pt x="582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9920" y="6124680"/>
            <a:ext cx="1335240" cy="173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" y="17938"/>
                </a:moveTo>
                <a:cubicBezTo>
                  <a:pt x="0" y="15377"/>
                  <a:pt x="655" y="12760"/>
                  <a:pt x="2065" y="10412"/>
                </a:cubicBezTo>
                <a:cubicBezTo>
                  <a:pt x="2516" y="9649"/>
                  <a:pt x="3258" y="8963"/>
                  <a:pt x="3389" y="8144"/>
                </a:cubicBezTo>
                <a:cubicBezTo>
                  <a:pt x="3535" y="7110"/>
                  <a:pt x="2895" y="6189"/>
                  <a:pt x="2647" y="5178"/>
                </a:cubicBezTo>
                <a:cubicBezTo>
                  <a:pt x="2400" y="4167"/>
                  <a:pt x="2487" y="3089"/>
                  <a:pt x="3113" y="2168"/>
                </a:cubicBezTo>
                <a:cubicBezTo>
                  <a:pt x="3695" y="1269"/>
                  <a:pt x="4713" y="573"/>
                  <a:pt x="5949" y="225"/>
                </a:cubicBezTo>
                <a:cubicBezTo>
                  <a:pt x="6676" y="0"/>
                  <a:pt x="7505" y="22"/>
                  <a:pt x="8218" y="157"/>
                </a:cubicBezTo>
                <a:cubicBezTo>
                  <a:pt x="8916" y="270"/>
                  <a:pt x="9527" y="483"/>
                  <a:pt x="10065" y="775"/>
                </a:cubicBezTo>
                <a:cubicBezTo>
                  <a:pt x="10909" y="1213"/>
                  <a:pt x="11709" y="1786"/>
                  <a:pt x="12233" y="2471"/>
                </a:cubicBezTo>
                <a:cubicBezTo>
                  <a:pt x="12567" y="2932"/>
                  <a:pt x="12771" y="3426"/>
                  <a:pt x="12902" y="4032"/>
                </a:cubicBezTo>
                <a:cubicBezTo>
                  <a:pt x="13004" y="4448"/>
                  <a:pt x="13004" y="5111"/>
                  <a:pt x="13135" y="5538"/>
                </a:cubicBezTo>
                <a:cubicBezTo>
                  <a:pt x="13251" y="5987"/>
                  <a:pt x="13498" y="6447"/>
                  <a:pt x="13847" y="6874"/>
                </a:cubicBezTo>
                <a:cubicBezTo>
                  <a:pt x="14516" y="7784"/>
                  <a:pt x="15418" y="8559"/>
                  <a:pt x="16407" y="9267"/>
                </a:cubicBezTo>
                <a:cubicBezTo>
                  <a:pt x="17396" y="9963"/>
                  <a:pt x="18473" y="10648"/>
                  <a:pt x="19345" y="11457"/>
                </a:cubicBezTo>
                <a:cubicBezTo>
                  <a:pt x="19462" y="11581"/>
                  <a:pt x="19578" y="11682"/>
                  <a:pt x="19709" y="11817"/>
                </a:cubicBezTo>
                <a:cubicBezTo>
                  <a:pt x="20436" y="12569"/>
                  <a:pt x="21062" y="13400"/>
                  <a:pt x="21324" y="14344"/>
                </a:cubicBezTo>
                <a:cubicBezTo>
                  <a:pt x="21600" y="15254"/>
                  <a:pt x="21600" y="16242"/>
                  <a:pt x="21324" y="17208"/>
                </a:cubicBezTo>
                <a:cubicBezTo>
                  <a:pt x="21193" y="17770"/>
                  <a:pt x="20858" y="18298"/>
                  <a:pt x="20393" y="18747"/>
                </a:cubicBezTo>
                <a:cubicBezTo>
                  <a:pt x="19985" y="19129"/>
                  <a:pt x="19404" y="19309"/>
                  <a:pt x="18967" y="19646"/>
                </a:cubicBezTo>
                <a:cubicBezTo>
                  <a:pt x="18531" y="20016"/>
                  <a:pt x="18284" y="20477"/>
                  <a:pt x="17804" y="20814"/>
                </a:cubicBezTo>
                <a:cubicBezTo>
                  <a:pt x="17280" y="21162"/>
                  <a:pt x="16509" y="21432"/>
                  <a:pt x="15680" y="21454"/>
                </a:cubicBezTo>
                <a:cubicBezTo>
                  <a:pt x="11098" y="21600"/>
                  <a:pt x="6662" y="20409"/>
                  <a:pt x="2240" y="19342"/>
                </a:cubicBezTo>
                <a:cubicBezTo>
                  <a:pt x="1367" y="19129"/>
                  <a:pt x="58" y="18668"/>
                  <a:pt x="58" y="1793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8640" y="6329520"/>
            <a:ext cx="2546280" cy="16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07" y="21565"/>
                </a:moveTo>
                <a:cubicBezTo>
                  <a:pt x="6246" y="21600"/>
                  <a:pt x="0" y="21495"/>
                  <a:pt x="0" y="21495"/>
                </a:cubicBezTo>
                <a:cubicBezTo>
                  <a:pt x="0" y="21495"/>
                  <a:pt x="168" y="20910"/>
                  <a:pt x="191" y="20629"/>
                </a:cubicBezTo>
                <a:cubicBezTo>
                  <a:pt x="305" y="19342"/>
                  <a:pt x="336" y="18207"/>
                  <a:pt x="450" y="17025"/>
                </a:cubicBezTo>
                <a:cubicBezTo>
                  <a:pt x="550" y="15984"/>
                  <a:pt x="710" y="14919"/>
                  <a:pt x="825" y="13889"/>
                </a:cubicBezTo>
                <a:cubicBezTo>
                  <a:pt x="993" y="12251"/>
                  <a:pt x="1115" y="10578"/>
                  <a:pt x="1489" y="9021"/>
                </a:cubicBezTo>
                <a:cubicBezTo>
                  <a:pt x="1726" y="8015"/>
                  <a:pt x="2123" y="7102"/>
                  <a:pt x="2627" y="6330"/>
                </a:cubicBezTo>
                <a:cubicBezTo>
                  <a:pt x="3230" y="5418"/>
                  <a:pt x="3986" y="4821"/>
                  <a:pt x="4680" y="4107"/>
                </a:cubicBezTo>
                <a:cubicBezTo>
                  <a:pt x="5016" y="3756"/>
                  <a:pt x="5444" y="3557"/>
                  <a:pt x="5742" y="3148"/>
                </a:cubicBezTo>
                <a:cubicBezTo>
                  <a:pt x="5902" y="2890"/>
                  <a:pt x="6101" y="2574"/>
                  <a:pt x="6101" y="2223"/>
                </a:cubicBezTo>
                <a:cubicBezTo>
                  <a:pt x="6101" y="1299"/>
                  <a:pt x="5986" y="176"/>
                  <a:pt x="5986" y="176"/>
                </a:cubicBezTo>
                <a:cubicBezTo>
                  <a:pt x="5986" y="176"/>
                  <a:pt x="7353" y="246"/>
                  <a:pt x="8040" y="211"/>
                </a:cubicBezTo>
                <a:cubicBezTo>
                  <a:pt x="8590" y="187"/>
                  <a:pt x="9155" y="0"/>
                  <a:pt x="9697" y="23"/>
                </a:cubicBezTo>
                <a:cubicBezTo>
                  <a:pt x="10162" y="47"/>
                  <a:pt x="10636" y="269"/>
                  <a:pt x="10346" y="644"/>
                </a:cubicBezTo>
                <a:cubicBezTo>
                  <a:pt x="10117" y="936"/>
                  <a:pt x="10101" y="1404"/>
                  <a:pt x="10094" y="1872"/>
                </a:cubicBezTo>
                <a:cubicBezTo>
                  <a:pt x="10071" y="2247"/>
                  <a:pt x="10056" y="2633"/>
                  <a:pt x="10185" y="2925"/>
                </a:cubicBezTo>
                <a:cubicBezTo>
                  <a:pt x="10498" y="3662"/>
                  <a:pt x="11063" y="4013"/>
                  <a:pt x="11567" y="4470"/>
                </a:cubicBezTo>
                <a:cubicBezTo>
                  <a:pt x="12087" y="4961"/>
                  <a:pt x="12522" y="5511"/>
                  <a:pt x="12942" y="6108"/>
                </a:cubicBezTo>
                <a:cubicBezTo>
                  <a:pt x="13698" y="7184"/>
                  <a:pt x="14133" y="8682"/>
                  <a:pt x="14606" y="10203"/>
                </a:cubicBezTo>
                <a:cubicBezTo>
                  <a:pt x="14912" y="11210"/>
                  <a:pt x="15186" y="12169"/>
                  <a:pt x="15522" y="13164"/>
                </a:cubicBezTo>
                <a:cubicBezTo>
                  <a:pt x="15851" y="14053"/>
                  <a:pt x="16217" y="14942"/>
                  <a:pt x="16591" y="15831"/>
                </a:cubicBezTo>
                <a:cubicBezTo>
                  <a:pt x="16981" y="16756"/>
                  <a:pt x="17362" y="17739"/>
                  <a:pt x="17958" y="18289"/>
                </a:cubicBezTo>
                <a:cubicBezTo>
                  <a:pt x="18241" y="18523"/>
                  <a:pt x="18576" y="18733"/>
                  <a:pt x="18897" y="18803"/>
                </a:cubicBezTo>
                <a:cubicBezTo>
                  <a:pt x="19012" y="18815"/>
                  <a:pt x="19409" y="18956"/>
                  <a:pt x="19813" y="19037"/>
                </a:cubicBezTo>
                <a:cubicBezTo>
                  <a:pt x="20058" y="19119"/>
                  <a:pt x="20333" y="19225"/>
                  <a:pt x="20523" y="19447"/>
                </a:cubicBezTo>
                <a:cubicBezTo>
                  <a:pt x="20714" y="19669"/>
                  <a:pt x="21043" y="19962"/>
                  <a:pt x="21249" y="20395"/>
                </a:cubicBezTo>
                <a:cubicBezTo>
                  <a:pt x="21409" y="20722"/>
                  <a:pt x="21600" y="21495"/>
                  <a:pt x="21600" y="21495"/>
                </a:cubicBezTo>
                <a:cubicBezTo>
                  <a:pt x="21600" y="21495"/>
                  <a:pt x="13469" y="21530"/>
                  <a:pt x="9407" y="21565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5599080"/>
            <a:ext cx="56196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" y="19150"/>
                </a:moveTo>
                <a:cubicBezTo>
                  <a:pt x="173" y="18877"/>
                  <a:pt x="69" y="18514"/>
                  <a:pt x="69" y="18151"/>
                </a:cubicBezTo>
                <a:cubicBezTo>
                  <a:pt x="0" y="16155"/>
                  <a:pt x="0" y="14022"/>
                  <a:pt x="69" y="11889"/>
                </a:cubicBezTo>
                <a:cubicBezTo>
                  <a:pt x="69" y="10437"/>
                  <a:pt x="276" y="7896"/>
                  <a:pt x="380" y="5355"/>
                </a:cubicBezTo>
                <a:cubicBezTo>
                  <a:pt x="380" y="4538"/>
                  <a:pt x="449" y="3494"/>
                  <a:pt x="863" y="2995"/>
                </a:cubicBezTo>
                <a:cubicBezTo>
                  <a:pt x="1518" y="2087"/>
                  <a:pt x="2553" y="1997"/>
                  <a:pt x="3588" y="2314"/>
                </a:cubicBezTo>
                <a:cubicBezTo>
                  <a:pt x="4382" y="2496"/>
                  <a:pt x="5176" y="3176"/>
                  <a:pt x="5969" y="3494"/>
                </a:cubicBezTo>
                <a:cubicBezTo>
                  <a:pt x="6625" y="3857"/>
                  <a:pt x="7281" y="4311"/>
                  <a:pt x="7902" y="4311"/>
                </a:cubicBezTo>
                <a:cubicBezTo>
                  <a:pt x="8799" y="4311"/>
                  <a:pt x="9937" y="3857"/>
                  <a:pt x="10800" y="2995"/>
                </a:cubicBezTo>
                <a:cubicBezTo>
                  <a:pt x="11456" y="2314"/>
                  <a:pt x="12077" y="1271"/>
                  <a:pt x="12974" y="635"/>
                </a:cubicBezTo>
                <a:cubicBezTo>
                  <a:pt x="13595" y="272"/>
                  <a:pt x="14285" y="0"/>
                  <a:pt x="14941" y="227"/>
                </a:cubicBezTo>
                <a:cubicBezTo>
                  <a:pt x="16148" y="590"/>
                  <a:pt x="17218" y="1361"/>
                  <a:pt x="18012" y="2496"/>
                </a:cubicBezTo>
                <a:cubicBezTo>
                  <a:pt x="18943" y="3857"/>
                  <a:pt x="19426" y="5445"/>
                  <a:pt x="19909" y="7215"/>
                </a:cubicBezTo>
                <a:cubicBezTo>
                  <a:pt x="20703" y="10437"/>
                  <a:pt x="21082" y="13931"/>
                  <a:pt x="21600" y="17380"/>
                </a:cubicBezTo>
                <a:cubicBezTo>
                  <a:pt x="21358" y="17607"/>
                  <a:pt x="21220" y="17834"/>
                  <a:pt x="21013" y="18015"/>
                </a:cubicBezTo>
                <a:cubicBezTo>
                  <a:pt x="19978" y="18741"/>
                  <a:pt x="18874" y="19513"/>
                  <a:pt x="17804" y="19921"/>
                </a:cubicBezTo>
                <a:cubicBezTo>
                  <a:pt x="15320" y="20965"/>
                  <a:pt x="12629" y="21373"/>
                  <a:pt x="10006" y="21509"/>
                </a:cubicBezTo>
                <a:cubicBezTo>
                  <a:pt x="7729" y="21600"/>
                  <a:pt x="5417" y="21192"/>
                  <a:pt x="3140" y="20420"/>
                </a:cubicBezTo>
                <a:cubicBezTo>
                  <a:pt x="2139" y="20057"/>
                  <a:pt x="1104" y="19694"/>
                  <a:pt x="173" y="1915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0000" y="5945040"/>
            <a:ext cx="1154160" cy="5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32" y="21415"/>
                </a:moveTo>
                <a:cubicBezTo>
                  <a:pt x="8205" y="21341"/>
                  <a:pt x="7093" y="20823"/>
                  <a:pt x="5981" y="20416"/>
                </a:cubicBezTo>
                <a:cubicBezTo>
                  <a:pt x="4263" y="19640"/>
                  <a:pt x="2460" y="18678"/>
                  <a:pt x="859" y="16570"/>
                </a:cubicBezTo>
                <a:cubicBezTo>
                  <a:pt x="388" y="15941"/>
                  <a:pt x="0" y="14684"/>
                  <a:pt x="0" y="13463"/>
                </a:cubicBezTo>
                <a:cubicBezTo>
                  <a:pt x="0" y="12353"/>
                  <a:pt x="438" y="11392"/>
                  <a:pt x="775" y="10652"/>
                </a:cubicBezTo>
                <a:cubicBezTo>
                  <a:pt x="1280" y="9432"/>
                  <a:pt x="1904" y="8433"/>
                  <a:pt x="2494" y="7471"/>
                </a:cubicBezTo>
                <a:cubicBezTo>
                  <a:pt x="3033" y="6621"/>
                  <a:pt x="3505" y="5696"/>
                  <a:pt x="3993" y="4993"/>
                </a:cubicBezTo>
                <a:cubicBezTo>
                  <a:pt x="4178" y="4734"/>
                  <a:pt x="4364" y="4549"/>
                  <a:pt x="4499" y="4179"/>
                </a:cubicBezTo>
                <a:cubicBezTo>
                  <a:pt x="4751" y="5215"/>
                  <a:pt x="5021" y="6177"/>
                  <a:pt x="5425" y="6805"/>
                </a:cubicBezTo>
                <a:cubicBezTo>
                  <a:pt x="6487" y="8433"/>
                  <a:pt x="7885" y="8840"/>
                  <a:pt x="9132" y="8988"/>
                </a:cubicBezTo>
                <a:cubicBezTo>
                  <a:pt x="10328" y="9136"/>
                  <a:pt x="11592" y="8840"/>
                  <a:pt x="12721" y="8285"/>
                </a:cubicBezTo>
                <a:cubicBezTo>
                  <a:pt x="13968" y="7656"/>
                  <a:pt x="15181" y="6621"/>
                  <a:pt x="15534" y="3847"/>
                </a:cubicBezTo>
                <a:cubicBezTo>
                  <a:pt x="15669" y="2737"/>
                  <a:pt x="15349" y="629"/>
                  <a:pt x="15349" y="629"/>
                </a:cubicBezTo>
                <a:cubicBezTo>
                  <a:pt x="15349" y="629"/>
                  <a:pt x="15467" y="0"/>
                  <a:pt x="15467" y="0"/>
                </a:cubicBezTo>
                <a:cubicBezTo>
                  <a:pt x="15534" y="777"/>
                  <a:pt x="15669" y="1553"/>
                  <a:pt x="15922" y="2034"/>
                </a:cubicBezTo>
                <a:cubicBezTo>
                  <a:pt x="16242" y="2663"/>
                  <a:pt x="16663" y="3255"/>
                  <a:pt x="17169" y="3514"/>
                </a:cubicBezTo>
                <a:cubicBezTo>
                  <a:pt x="17775" y="3847"/>
                  <a:pt x="18416" y="3662"/>
                  <a:pt x="19022" y="3662"/>
                </a:cubicBezTo>
                <a:cubicBezTo>
                  <a:pt x="19561" y="3662"/>
                  <a:pt x="20084" y="3514"/>
                  <a:pt x="20623" y="3773"/>
                </a:cubicBezTo>
                <a:cubicBezTo>
                  <a:pt x="21010" y="3884"/>
                  <a:pt x="21330" y="4475"/>
                  <a:pt x="21448" y="5215"/>
                </a:cubicBezTo>
                <a:cubicBezTo>
                  <a:pt x="21600" y="6177"/>
                  <a:pt x="21448" y="7212"/>
                  <a:pt x="21229" y="8026"/>
                </a:cubicBezTo>
                <a:cubicBezTo>
                  <a:pt x="20690" y="10097"/>
                  <a:pt x="20016" y="11873"/>
                  <a:pt x="19241" y="13537"/>
                </a:cubicBezTo>
                <a:cubicBezTo>
                  <a:pt x="18281" y="15534"/>
                  <a:pt x="17152" y="17347"/>
                  <a:pt x="15922" y="18678"/>
                </a:cubicBezTo>
                <a:cubicBezTo>
                  <a:pt x="14911" y="19788"/>
                  <a:pt x="13782" y="20490"/>
                  <a:pt x="12687" y="20823"/>
                </a:cubicBezTo>
                <a:cubicBezTo>
                  <a:pt x="11710" y="21267"/>
                  <a:pt x="10396" y="21600"/>
                  <a:pt x="9132" y="21415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10000" y="5599080"/>
            <a:ext cx="1154160" cy="8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32" y="21488"/>
                </a:moveTo>
                <a:cubicBezTo>
                  <a:pt x="8205" y="21444"/>
                  <a:pt x="7093" y="21131"/>
                  <a:pt x="5981" y="20885"/>
                </a:cubicBezTo>
                <a:cubicBezTo>
                  <a:pt x="4263" y="20416"/>
                  <a:pt x="2460" y="19835"/>
                  <a:pt x="859" y="18562"/>
                </a:cubicBezTo>
                <a:cubicBezTo>
                  <a:pt x="388" y="18182"/>
                  <a:pt x="0" y="17423"/>
                  <a:pt x="0" y="16686"/>
                </a:cubicBezTo>
                <a:cubicBezTo>
                  <a:pt x="0" y="16016"/>
                  <a:pt x="438" y="15435"/>
                  <a:pt x="775" y="14988"/>
                </a:cubicBezTo>
                <a:cubicBezTo>
                  <a:pt x="1280" y="14251"/>
                  <a:pt x="1904" y="13648"/>
                  <a:pt x="2494" y="13067"/>
                </a:cubicBezTo>
                <a:cubicBezTo>
                  <a:pt x="3033" y="12553"/>
                  <a:pt x="3505" y="11995"/>
                  <a:pt x="3993" y="11571"/>
                </a:cubicBezTo>
                <a:cubicBezTo>
                  <a:pt x="4381" y="11258"/>
                  <a:pt x="4802" y="10901"/>
                  <a:pt x="4954" y="10364"/>
                </a:cubicBezTo>
                <a:cubicBezTo>
                  <a:pt x="5055" y="9962"/>
                  <a:pt x="5004" y="9426"/>
                  <a:pt x="4954" y="8935"/>
                </a:cubicBezTo>
                <a:cubicBezTo>
                  <a:pt x="4920" y="7952"/>
                  <a:pt x="4920" y="6902"/>
                  <a:pt x="4954" y="5852"/>
                </a:cubicBezTo>
                <a:cubicBezTo>
                  <a:pt x="4954" y="5138"/>
                  <a:pt x="5055" y="3887"/>
                  <a:pt x="5105" y="2636"/>
                </a:cubicBezTo>
                <a:cubicBezTo>
                  <a:pt x="5105" y="2234"/>
                  <a:pt x="5139" y="1720"/>
                  <a:pt x="5341" y="1474"/>
                </a:cubicBezTo>
                <a:cubicBezTo>
                  <a:pt x="5661" y="1028"/>
                  <a:pt x="6167" y="983"/>
                  <a:pt x="6672" y="1139"/>
                </a:cubicBezTo>
                <a:cubicBezTo>
                  <a:pt x="7060" y="1229"/>
                  <a:pt x="7447" y="1564"/>
                  <a:pt x="7835" y="1720"/>
                </a:cubicBezTo>
                <a:cubicBezTo>
                  <a:pt x="8155" y="1899"/>
                  <a:pt x="8475" y="2122"/>
                  <a:pt x="8778" y="2122"/>
                </a:cubicBezTo>
                <a:cubicBezTo>
                  <a:pt x="9216" y="2122"/>
                  <a:pt x="9772" y="1899"/>
                  <a:pt x="10193" y="1474"/>
                </a:cubicBezTo>
                <a:cubicBezTo>
                  <a:pt x="10514" y="1139"/>
                  <a:pt x="10817" y="625"/>
                  <a:pt x="11255" y="313"/>
                </a:cubicBezTo>
                <a:cubicBezTo>
                  <a:pt x="11558" y="134"/>
                  <a:pt x="11895" y="0"/>
                  <a:pt x="12215" y="112"/>
                </a:cubicBezTo>
                <a:cubicBezTo>
                  <a:pt x="12805" y="290"/>
                  <a:pt x="13327" y="670"/>
                  <a:pt x="13715" y="1229"/>
                </a:cubicBezTo>
                <a:cubicBezTo>
                  <a:pt x="14170" y="1899"/>
                  <a:pt x="14406" y="2680"/>
                  <a:pt x="14641" y="3552"/>
                </a:cubicBezTo>
                <a:cubicBezTo>
                  <a:pt x="15029" y="5138"/>
                  <a:pt x="15214" y="6857"/>
                  <a:pt x="15467" y="8555"/>
                </a:cubicBezTo>
                <a:cubicBezTo>
                  <a:pt x="15534" y="9024"/>
                  <a:pt x="15669" y="9493"/>
                  <a:pt x="15922" y="9784"/>
                </a:cubicBezTo>
                <a:cubicBezTo>
                  <a:pt x="16242" y="10163"/>
                  <a:pt x="16663" y="10521"/>
                  <a:pt x="17169" y="10677"/>
                </a:cubicBezTo>
                <a:cubicBezTo>
                  <a:pt x="17775" y="10878"/>
                  <a:pt x="18416" y="10766"/>
                  <a:pt x="19022" y="10766"/>
                </a:cubicBezTo>
                <a:cubicBezTo>
                  <a:pt x="19561" y="10766"/>
                  <a:pt x="20084" y="10677"/>
                  <a:pt x="20623" y="10834"/>
                </a:cubicBezTo>
                <a:cubicBezTo>
                  <a:pt x="21010" y="10901"/>
                  <a:pt x="21330" y="11258"/>
                  <a:pt x="21448" y="11705"/>
                </a:cubicBezTo>
                <a:cubicBezTo>
                  <a:pt x="21600" y="12285"/>
                  <a:pt x="21448" y="12911"/>
                  <a:pt x="21229" y="13402"/>
                </a:cubicBezTo>
                <a:cubicBezTo>
                  <a:pt x="20690" y="14653"/>
                  <a:pt x="20016" y="15725"/>
                  <a:pt x="19241" y="16731"/>
                </a:cubicBezTo>
                <a:cubicBezTo>
                  <a:pt x="18281" y="17937"/>
                  <a:pt x="17152" y="19031"/>
                  <a:pt x="15922" y="19835"/>
                </a:cubicBezTo>
                <a:cubicBezTo>
                  <a:pt x="14911" y="20505"/>
                  <a:pt x="13782" y="20930"/>
                  <a:pt x="12687" y="21131"/>
                </a:cubicBezTo>
                <a:cubicBezTo>
                  <a:pt x="11710" y="21399"/>
                  <a:pt x="10396" y="21600"/>
                  <a:pt x="9132" y="2148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49760" y="5958000"/>
            <a:ext cx="5968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178"/>
                </a:moveTo>
                <a:cubicBezTo>
                  <a:pt x="424" y="8436"/>
                  <a:pt x="749" y="7509"/>
                  <a:pt x="880" y="6211"/>
                </a:cubicBezTo>
                <a:cubicBezTo>
                  <a:pt x="1010" y="5099"/>
                  <a:pt x="1010" y="3801"/>
                  <a:pt x="977" y="2318"/>
                </a:cubicBezTo>
                <a:cubicBezTo>
                  <a:pt x="1857" y="3430"/>
                  <a:pt x="2834" y="4172"/>
                  <a:pt x="3779" y="4913"/>
                </a:cubicBezTo>
                <a:cubicBezTo>
                  <a:pt x="5929" y="6489"/>
                  <a:pt x="8112" y="7324"/>
                  <a:pt x="10262" y="7138"/>
                </a:cubicBezTo>
                <a:cubicBezTo>
                  <a:pt x="12738" y="6860"/>
                  <a:pt x="15280" y="6026"/>
                  <a:pt x="17625" y="3894"/>
                </a:cubicBezTo>
                <a:cubicBezTo>
                  <a:pt x="18635" y="3059"/>
                  <a:pt x="19678" y="1483"/>
                  <a:pt x="20655" y="0"/>
                </a:cubicBezTo>
                <a:cubicBezTo>
                  <a:pt x="20655" y="0"/>
                  <a:pt x="20981" y="278"/>
                  <a:pt x="20981" y="278"/>
                </a:cubicBezTo>
                <a:cubicBezTo>
                  <a:pt x="20981" y="278"/>
                  <a:pt x="21600" y="5562"/>
                  <a:pt x="21339" y="8343"/>
                </a:cubicBezTo>
                <a:cubicBezTo>
                  <a:pt x="20655" y="15296"/>
                  <a:pt x="18310" y="17892"/>
                  <a:pt x="15899" y="19468"/>
                </a:cubicBezTo>
                <a:cubicBezTo>
                  <a:pt x="13716" y="20858"/>
                  <a:pt x="11272" y="21600"/>
                  <a:pt x="8959" y="21229"/>
                </a:cubicBezTo>
                <a:cubicBezTo>
                  <a:pt x="6548" y="20858"/>
                  <a:pt x="3844" y="19839"/>
                  <a:pt x="1792" y="15760"/>
                </a:cubicBezTo>
                <a:cubicBezTo>
                  <a:pt x="1010" y="14184"/>
                  <a:pt x="489" y="11773"/>
                  <a:pt x="0" y="9178"/>
                </a:cubicBezTo>
              </a:path>
            </a:pathLst>
          </a:custGeom>
          <a:solidFill>
            <a:srgbClr val="999999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24320" y="6267600"/>
            <a:ext cx="330480" cy="142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884" y="547"/>
                  <a:pt x="5827" y="1135"/>
                  <a:pt x="5944" y="1887"/>
                </a:cubicBezTo>
                <a:cubicBezTo>
                  <a:pt x="6062" y="2775"/>
                  <a:pt x="2707" y="3500"/>
                  <a:pt x="3178" y="4416"/>
                </a:cubicBezTo>
                <a:cubicBezTo>
                  <a:pt x="3708" y="5359"/>
                  <a:pt x="8181" y="5865"/>
                  <a:pt x="11359" y="6630"/>
                </a:cubicBezTo>
                <a:cubicBezTo>
                  <a:pt x="13243" y="7109"/>
                  <a:pt x="14890" y="7738"/>
                  <a:pt x="15008" y="8380"/>
                </a:cubicBezTo>
                <a:cubicBezTo>
                  <a:pt x="15126" y="9159"/>
                  <a:pt x="13007" y="9925"/>
                  <a:pt x="11477" y="10691"/>
                </a:cubicBezTo>
                <a:cubicBezTo>
                  <a:pt x="10300" y="11333"/>
                  <a:pt x="9476" y="12017"/>
                  <a:pt x="9652" y="12687"/>
                </a:cubicBezTo>
                <a:cubicBezTo>
                  <a:pt x="9947" y="13452"/>
                  <a:pt x="12065" y="14081"/>
                  <a:pt x="14008" y="14655"/>
                </a:cubicBezTo>
                <a:cubicBezTo>
                  <a:pt x="16244" y="15284"/>
                  <a:pt x="18893" y="15817"/>
                  <a:pt x="20129" y="16542"/>
                </a:cubicBezTo>
                <a:cubicBezTo>
                  <a:pt x="21600" y="17362"/>
                  <a:pt x="20894" y="18333"/>
                  <a:pt x="20129" y="19208"/>
                </a:cubicBezTo>
                <a:cubicBezTo>
                  <a:pt x="19481" y="19973"/>
                  <a:pt x="18481" y="20766"/>
                  <a:pt x="15832" y="21217"/>
                </a:cubicBezTo>
                <a:cubicBezTo>
                  <a:pt x="13831" y="21600"/>
                  <a:pt x="10771" y="21559"/>
                  <a:pt x="7710" y="2151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2880" y="6840360"/>
            <a:ext cx="244440" cy="77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63" y="0"/>
                </a:moveTo>
                <a:cubicBezTo>
                  <a:pt x="2311" y="1570"/>
                  <a:pt x="0" y="3114"/>
                  <a:pt x="399" y="4709"/>
                </a:cubicBezTo>
                <a:cubicBezTo>
                  <a:pt x="797" y="6054"/>
                  <a:pt x="3507" y="7399"/>
                  <a:pt x="6695" y="8421"/>
                </a:cubicBezTo>
                <a:cubicBezTo>
                  <a:pt x="11238" y="9965"/>
                  <a:pt x="16499" y="11261"/>
                  <a:pt x="18890" y="13154"/>
                </a:cubicBezTo>
                <a:cubicBezTo>
                  <a:pt x="21042" y="14824"/>
                  <a:pt x="21600" y="16817"/>
                  <a:pt x="19448" y="18610"/>
                </a:cubicBezTo>
                <a:cubicBezTo>
                  <a:pt x="17934" y="19806"/>
                  <a:pt x="14427" y="20703"/>
                  <a:pt x="11079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3160" y="6980400"/>
            <a:ext cx="1224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21" y="21600"/>
                </a:moveTo>
                <a:cubicBezTo>
                  <a:pt x="14347" y="20560"/>
                  <a:pt x="18289" y="19602"/>
                  <a:pt x="19550" y="18395"/>
                </a:cubicBezTo>
                <a:cubicBezTo>
                  <a:pt x="21600" y="16273"/>
                  <a:pt x="19550" y="13984"/>
                  <a:pt x="15924" y="12069"/>
                </a:cubicBezTo>
                <a:cubicBezTo>
                  <a:pt x="12613" y="10405"/>
                  <a:pt x="7410" y="9073"/>
                  <a:pt x="3784" y="7491"/>
                </a:cubicBezTo>
                <a:cubicBezTo>
                  <a:pt x="1419" y="6451"/>
                  <a:pt x="0" y="5202"/>
                  <a:pt x="473" y="4037"/>
                </a:cubicBezTo>
                <a:cubicBezTo>
                  <a:pt x="631" y="2622"/>
                  <a:pt x="2996" y="1332"/>
                  <a:pt x="5361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6840" y="7129440"/>
            <a:ext cx="9540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6" y="1460"/>
                  <a:pt x="14400" y="2705"/>
                  <a:pt x="17691" y="4466"/>
                </a:cubicBezTo>
                <a:cubicBezTo>
                  <a:pt x="21600" y="6355"/>
                  <a:pt x="21600" y="8631"/>
                  <a:pt x="18309" y="10650"/>
                </a:cubicBezTo>
                <a:cubicBezTo>
                  <a:pt x="15223" y="12453"/>
                  <a:pt x="7611" y="13913"/>
                  <a:pt x="6994" y="15717"/>
                </a:cubicBezTo>
                <a:cubicBezTo>
                  <a:pt x="6377" y="17005"/>
                  <a:pt x="10697" y="18165"/>
                  <a:pt x="12549" y="19410"/>
                </a:cubicBezTo>
                <a:cubicBezTo>
                  <a:pt x="13371" y="20183"/>
                  <a:pt x="13783" y="20913"/>
                  <a:pt x="144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0040" y="4522680"/>
            <a:ext cx="995400" cy="136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093" y="8893"/>
                  <a:pt x="21093" y="8893"/>
                </a:cubicBezTo>
                <a:cubicBezTo>
                  <a:pt x="21093" y="8893"/>
                  <a:pt x="12546" y="8893"/>
                  <a:pt x="12546" y="8893"/>
                </a:cubicBezTo>
                <a:cubicBezTo>
                  <a:pt x="12546" y="8893"/>
                  <a:pt x="12000" y="285"/>
                  <a:pt x="12000" y="285"/>
                </a:cubicBezTo>
                <a:cubicBezTo>
                  <a:pt x="12000" y="285"/>
                  <a:pt x="0" y="0"/>
                  <a:pt x="0" y="0"/>
                </a:cubicBezTo>
                <a:cubicBezTo>
                  <a:pt x="0" y="0"/>
                  <a:pt x="1015" y="18711"/>
                  <a:pt x="1015" y="18711"/>
                </a:cubicBezTo>
                <a:cubicBezTo>
                  <a:pt x="1015" y="18711"/>
                  <a:pt x="6420" y="19380"/>
                  <a:pt x="10224" y="19878"/>
                </a:cubicBezTo>
                <a:cubicBezTo>
                  <a:pt x="13268" y="20305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5680" y="4530600"/>
            <a:ext cx="76860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271" y="11248"/>
                  <a:pt x="21271" y="11248"/>
                </a:cubicBezTo>
                <a:cubicBezTo>
                  <a:pt x="21271" y="11248"/>
                  <a:pt x="10180" y="11248"/>
                  <a:pt x="10180" y="11248"/>
                </a:cubicBezTo>
                <a:cubicBezTo>
                  <a:pt x="10180" y="11248"/>
                  <a:pt x="9471" y="183"/>
                  <a:pt x="9471" y="183"/>
                </a:cubicBezTo>
                <a:cubicBezTo>
                  <a:pt x="9471" y="183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2840" y="5316480"/>
            <a:ext cx="7452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10" y="21600"/>
                </a:moveTo>
                <a:cubicBezTo>
                  <a:pt x="20810" y="21600"/>
                  <a:pt x="1317" y="21198"/>
                  <a:pt x="1317" y="21198"/>
                </a:cubicBezTo>
                <a:cubicBezTo>
                  <a:pt x="1317" y="21198"/>
                  <a:pt x="0" y="0"/>
                  <a:pt x="0" y="0"/>
                </a:cubicBezTo>
                <a:cubicBezTo>
                  <a:pt x="0" y="0"/>
                  <a:pt x="21600" y="268"/>
                  <a:pt x="21600" y="268"/>
                </a:cubicBezTo>
                <a:cubicBezTo>
                  <a:pt x="21600" y="268"/>
                  <a:pt x="20810" y="21600"/>
                  <a:pt x="20810" y="21600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5524560"/>
            <a:ext cx="7632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19" y="21600"/>
                </a:moveTo>
                <a:cubicBezTo>
                  <a:pt x="20819" y="21600"/>
                  <a:pt x="1561" y="21465"/>
                  <a:pt x="1561" y="21465"/>
                </a:cubicBezTo>
                <a:cubicBezTo>
                  <a:pt x="1561" y="21465"/>
                  <a:pt x="0" y="0"/>
                  <a:pt x="0" y="0"/>
                </a:cubicBezTo>
                <a:cubicBezTo>
                  <a:pt x="0" y="0"/>
                  <a:pt x="21600" y="405"/>
                  <a:pt x="21600" y="405"/>
                </a:cubicBezTo>
                <a:cubicBezTo>
                  <a:pt x="21600" y="405"/>
                  <a:pt x="20819" y="21600"/>
                  <a:pt x="20819" y="21600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1080" y="4780080"/>
            <a:ext cx="7632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29" y="21600"/>
                </a:moveTo>
                <a:cubicBezTo>
                  <a:pt x="20829" y="21600"/>
                  <a:pt x="1800" y="21368"/>
                  <a:pt x="1800" y="21368"/>
                </a:cubicBezTo>
                <a:cubicBezTo>
                  <a:pt x="1800" y="21368"/>
                  <a:pt x="0" y="0"/>
                  <a:pt x="0" y="0"/>
                </a:cubicBezTo>
                <a:cubicBezTo>
                  <a:pt x="0" y="0"/>
                  <a:pt x="21600" y="232"/>
                  <a:pt x="21600" y="232"/>
                </a:cubicBezTo>
                <a:cubicBezTo>
                  <a:pt x="21600" y="232"/>
                  <a:pt x="20829" y="21600"/>
                  <a:pt x="20829" y="21600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5960" y="4780080"/>
            <a:ext cx="7272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73" y="21600"/>
                </a:moveTo>
                <a:cubicBezTo>
                  <a:pt x="21073" y="21600"/>
                  <a:pt x="1580" y="21368"/>
                  <a:pt x="1580" y="21368"/>
                </a:cubicBezTo>
                <a:cubicBezTo>
                  <a:pt x="1580" y="21368"/>
                  <a:pt x="0" y="0"/>
                  <a:pt x="0" y="0"/>
                </a:cubicBezTo>
                <a:cubicBezTo>
                  <a:pt x="0" y="0"/>
                  <a:pt x="21600" y="232"/>
                  <a:pt x="21600" y="232"/>
                </a:cubicBezTo>
                <a:cubicBezTo>
                  <a:pt x="21600" y="232"/>
                  <a:pt x="21073" y="21600"/>
                  <a:pt x="21073" y="21600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3040" y="3754440"/>
            <a:ext cx="27792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249" y="11711"/>
                  <a:pt x="21249" y="11711"/>
                </a:cubicBezTo>
                <a:cubicBezTo>
                  <a:pt x="21249" y="11711"/>
                  <a:pt x="16901" y="11581"/>
                  <a:pt x="15218" y="11711"/>
                </a:cubicBezTo>
                <a:cubicBezTo>
                  <a:pt x="15218" y="8002"/>
                  <a:pt x="14868" y="325"/>
                  <a:pt x="14868" y="325"/>
                </a:cubicBezTo>
                <a:cubicBezTo>
                  <a:pt x="14868" y="325"/>
                  <a:pt x="0" y="0"/>
                  <a:pt x="0" y="0"/>
                </a:cubicBezTo>
                <a:cubicBezTo>
                  <a:pt x="0" y="0"/>
                  <a:pt x="842" y="17176"/>
                  <a:pt x="842" y="17176"/>
                </a:cubicBezTo>
                <a:cubicBezTo>
                  <a:pt x="842" y="17176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46280" y="3916440"/>
            <a:ext cx="468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68520" y="3914640"/>
            <a:ext cx="77760" cy="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6028" y="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63840" y="3757680"/>
            <a:ext cx="46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14565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3040" y="3754440"/>
            <a:ext cx="19080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3040" y="3754440"/>
            <a:ext cx="11160" cy="23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3320" y="3879720"/>
            <a:ext cx="19188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0383" y="1184"/>
                  <a:pt x="20383" y="1184"/>
                </a:cubicBezTo>
                <a:cubicBezTo>
                  <a:pt x="20383" y="1184"/>
                  <a:pt x="0" y="0"/>
                  <a:pt x="0" y="0"/>
                </a:cubicBezTo>
                <a:cubicBezTo>
                  <a:pt x="0" y="0"/>
                  <a:pt x="811" y="19470"/>
                  <a:pt x="811" y="19470"/>
                </a:cubicBezTo>
                <a:cubicBezTo>
                  <a:pt x="811" y="19470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54040" y="3897360"/>
            <a:ext cx="1116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73320" y="3879720"/>
            <a:ext cx="180720" cy="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3320" y="3879720"/>
            <a:ext cx="7920" cy="2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8000" y="4103640"/>
            <a:ext cx="333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21484" y="18360"/>
                  <a:pt x="21484" y="16808"/>
                </a:cubicBezTo>
                <a:cubicBezTo>
                  <a:pt x="21309" y="11273"/>
                  <a:pt x="21192" y="338"/>
                  <a:pt x="21192" y="338"/>
                </a:cubicBezTo>
                <a:cubicBezTo>
                  <a:pt x="21192" y="338"/>
                  <a:pt x="13915" y="203"/>
                  <a:pt x="10130" y="203"/>
                </a:cubicBezTo>
                <a:cubicBezTo>
                  <a:pt x="6754" y="203"/>
                  <a:pt x="0" y="0"/>
                  <a:pt x="0" y="0"/>
                </a:cubicBezTo>
                <a:cubicBezTo>
                  <a:pt x="0" y="0"/>
                  <a:pt x="524" y="9113"/>
                  <a:pt x="990" y="13770"/>
                </a:cubicBezTo>
                <a:cubicBezTo>
                  <a:pt x="1164" y="16268"/>
                  <a:pt x="1630" y="21128"/>
                  <a:pt x="1630" y="21128"/>
                </a:cubicBezTo>
                <a:cubicBezTo>
                  <a:pt x="1630" y="21128"/>
                  <a:pt x="21600" y="21600"/>
                  <a:pt x="2160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4108320"/>
            <a:ext cx="3319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541" y="14545"/>
                  <a:pt x="21424" y="261"/>
                  <a:pt x="21424" y="261"/>
                </a:cubicBezTo>
                <a:cubicBezTo>
                  <a:pt x="21424" y="261"/>
                  <a:pt x="13990" y="174"/>
                  <a:pt x="10185" y="174"/>
                </a:cubicBezTo>
                <a:cubicBezTo>
                  <a:pt x="6790" y="174"/>
                  <a:pt x="0" y="0"/>
                  <a:pt x="0" y="0"/>
                </a:cubicBezTo>
                <a:cubicBezTo>
                  <a:pt x="0" y="0"/>
                  <a:pt x="585" y="11758"/>
                  <a:pt x="995" y="17768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62080" y="4230720"/>
            <a:ext cx="8568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343"/>
                </a:moveTo>
                <a:cubicBezTo>
                  <a:pt x="21600" y="18343"/>
                  <a:pt x="0" y="21600"/>
                  <a:pt x="0" y="21600"/>
                </a:cubicBezTo>
                <a:cubicBezTo>
                  <a:pt x="0" y="21600"/>
                  <a:pt x="0" y="686"/>
                  <a:pt x="0" y="686"/>
                </a:cubicBezTo>
                <a:cubicBezTo>
                  <a:pt x="0" y="686"/>
                  <a:pt x="19072" y="0"/>
                  <a:pt x="19072" y="0"/>
                </a:cubicBezTo>
                <a:cubicBezTo>
                  <a:pt x="19072" y="0"/>
                  <a:pt x="21600" y="18343"/>
                  <a:pt x="21600" y="18343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2240" y="3755880"/>
            <a:ext cx="1800" cy="648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21600"/>
                </a:moveTo>
                <a:cubicBezTo>
                  <a:pt x="-1" y="21600"/>
                  <a:pt x="-1" y="0"/>
                  <a:pt x="-1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120" y="3597120"/>
            <a:ext cx="13320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15" y="21600"/>
                </a:moveTo>
                <a:cubicBezTo>
                  <a:pt x="1015" y="21600"/>
                  <a:pt x="0" y="1718"/>
                  <a:pt x="0" y="1718"/>
                </a:cubicBezTo>
                <a:cubicBezTo>
                  <a:pt x="0" y="1718"/>
                  <a:pt x="21600" y="0"/>
                  <a:pt x="21600" y="0"/>
                </a:cubicBezTo>
                <a:cubicBezTo>
                  <a:pt x="21600" y="0"/>
                  <a:pt x="21600" y="13991"/>
                  <a:pt x="21600" y="13991"/>
                </a:cubicBezTo>
                <a:cubicBezTo>
                  <a:pt x="21600" y="13991"/>
                  <a:pt x="1015" y="21600"/>
                  <a:pt x="1015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6120" y="3610080"/>
            <a:ext cx="612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6120" y="3597120"/>
            <a:ext cx="133200" cy="1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49320" y="3597120"/>
            <a:ext cx="1440" cy="10332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81040" y="3446640"/>
            <a:ext cx="12564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76" y="21600"/>
                </a:moveTo>
                <a:cubicBezTo>
                  <a:pt x="2176" y="21600"/>
                  <a:pt x="20668" y="11396"/>
                  <a:pt x="20668" y="11396"/>
                </a:cubicBezTo>
                <a:cubicBezTo>
                  <a:pt x="20668" y="11396"/>
                  <a:pt x="21600" y="0"/>
                  <a:pt x="21600" y="0"/>
                </a:cubicBezTo>
                <a:cubicBezTo>
                  <a:pt x="21600" y="0"/>
                  <a:pt x="0" y="928"/>
                  <a:pt x="0" y="928"/>
                </a:cubicBezTo>
                <a:cubicBezTo>
                  <a:pt x="0" y="928"/>
                  <a:pt x="2176" y="21600"/>
                  <a:pt x="2176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1640" y="3446640"/>
            <a:ext cx="504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81040" y="3446640"/>
            <a:ext cx="125640" cy="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1040" y="3452760"/>
            <a:ext cx="129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3280" y="3554280"/>
            <a:ext cx="11268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8545"/>
                  <a:pt x="21600" y="18545"/>
                </a:cubicBezTo>
                <a:cubicBezTo>
                  <a:pt x="21600" y="18545"/>
                  <a:pt x="18000" y="0"/>
                  <a:pt x="18000" y="0"/>
                </a:cubicBezTo>
                <a:cubicBezTo>
                  <a:pt x="18000" y="0"/>
                  <a:pt x="1029" y="2400"/>
                  <a:pt x="1029" y="2400"/>
                </a:cubicBezTo>
                <a:cubicBezTo>
                  <a:pt x="1029" y="2400"/>
                  <a:pt x="0" y="21600"/>
                  <a:pt x="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6880" y="3554280"/>
            <a:ext cx="190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7960" y="3554280"/>
            <a:ext cx="8892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3280" y="3564000"/>
            <a:ext cx="4680" cy="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3462480"/>
            <a:ext cx="165240" cy="15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9427"/>
                  <a:pt x="21600" y="19427"/>
                </a:cubicBezTo>
                <a:cubicBezTo>
                  <a:pt x="21600" y="19427"/>
                  <a:pt x="21246" y="511"/>
                  <a:pt x="21246" y="511"/>
                </a:cubicBezTo>
                <a:cubicBezTo>
                  <a:pt x="21246" y="511"/>
                  <a:pt x="1534" y="0"/>
                  <a:pt x="1534" y="0"/>
                </a:cubicBezTo>
                <a:cubicBezTo>
                  <a:pt x="1534" y="0"/>
                  <a:pt x="0" y="21600"/>
                  <a:pt x="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2240" y="3465360"/>
            <a:ext cx="3240" cy="1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43200" y="3462480"/>
            <a:ext cx="149040" cy="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0240" y="3462480"/>
            <a:ext cx="12960" cy="15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759120"/>
            <a:ext cx="1350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58" y="21600"/>
                </a:moveTo>
                <a:cubicBezTo>
                  <a:pt x="858" y="21600"/>
                  <a:pt x="0" y="0"/>
                  <a:pt x="0" y="0"/>
                </a:cubicBezTo>
                <a:cubicBezTo>
                  <a:pt x="0" y="0"/>
                  <a:pt x="21600" y="4728"/>
                  <a:pt x="21600" y="4728"/>
                </a:cubicBezTo>
                <a:cubicBezTo>
                  <a:pt x="21600" y="4728"/>
                  <a:pt x="21600" y="16549"/>
                  <a:pt x="21600" y="16549"/>
                </a:cubicBezTo>
                <a:cubicBezTo>
                  <a:pt x="21600" y="16549"/>
                  <a:pt x="858" y="21600"/>
                  <a:pt x="858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6840" y="3759120"/>
            <a:ext cx="504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3759120"/>
            <a:ext cx="135000" cy="3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1840" y="3798720"/>
            <a:ext cx="1800" cy="9864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68560" y="3413160"/>
            <a:ext cx="25884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111"/>
                </a:moveTo>
                <a:cubicBezTo>
                  <a:pt x="0" y="11111"/>
                  <a:pt x="8700" y="11499"/>
                  <a:pt x="8700" y="11499"/>
                </a:cubicBezTo>
                <a:cubicBezTo>
                  <a:pt x="8700" y="11499"/>
                  <a:pt x="9375" y="0"/>
                  <a:pt x="9375" y="0"/>
                </a:cubicBezTo>
                <a:cubicBezTo>
                  <a:pt x="9375" y="0"/>
                  <a:pt x="21000" y="2409"/>
                  <a:pt x="21000" y="2409"/>
                </a:cubicBezTo>
                <a:cubicBezTo>
                  <a:pt x="21000" y="2409"/>
                  <a:pt x="21600" y="17327"/>
                  <a:pt x="21600" y="17327"/>
                </a:cubicBezTo>
                <a:cubicBezTo>
                  <a:pt x="21600" y="17327"/>
                  <a:pt x="1500" y="21600"/>
                  <a:pt x="1500" y="21600"/>
                </a:cubicBezTo>
                <a:cubicBezTo>
                  <a:pt x="1500" y="21600"/>
                  <a:pt x="0" y="11111"/>
                  <a:pt x="0" y="11111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8560" y="3541680"/>
            <a:ext cx="104760" cy="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73320" y="3413160"/>
            <a:ext cx="792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1240" y="3413160"/>
            <a:ext cx="139680" cy="2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20920" y="3441600"/>
            <a:ext cx="6480" cy="17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68560" y="3541680"/>
            <a:ext cx="17280" cy="12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9960" y="3255840"/>
            <a:ext cx="119160" cy="1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109"/>
                </a:moveTo>
                <a:cubicBezTo>
                  <a:pt x="21600" y="12109"/>
                  <a:pt x="1145" y="21600"/>
                  <a:pt x="1145" y="21600"/>
                </a:cubicBezTo>
                <a:cubicBezTo>
                  <a:pt x="1145" y="21600"/>
                  <a:pt x="0" y="0"/>
                  <a:pt x="0" y="0"/>
                </a:cubicBezTo>
                <a:cubicBezTo>
                  <a:pt x="0" y="0"/>
                  <a:pt x="21600" y="982"/>
                  <a:pt x="21600" y="982"/>
                </a:cubicBezTo>
                <a:cubicBezTo>
                  <a:pt x="21600" y="982"/>
                  <a:pt x="21600" y="12109"/>
                  <a:pt x="21600" y="1210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9960" y="3255840"/>
            <a:ext cx="6480" cy="11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9960" y="3255840"/>
            <a:ext cx="119160" cy="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9120" y="3260880"/>
            <a:ext cx="1440" cy="6192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8640" y="3184560"/>
            <a:ext cx="149040" cy="1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52" y="21600"/>
                </a:moveTo>
                <a:cubicBezTo>
                  <a:pt x="1552" y="21600"/>
                  <a:pt x="21341" y="15306"/>
                  <a:pt x="21341" y="15306"/>
                </a:cubicBezTo>
                <a:cubicBezTo>
                  <a:pt x="21341" y="15306"/>
                  <a:pt x="21600" y="0"/>
                  <a:pt x="21600" y="0"/>
                </a:cubicBezTo>
                <a:cubicBezTo>
                  <a:pt x="21600" y="0"/>
                  <a:pt x="0" y="715"/>
                  <a:pt x="0" y="715"/>
                </a:cubicBezTo>
                <a:cubicBezTo>
                  <a:pt x="0" y="715"/>
                  <a:pt x="1552" y="21600"/>
                  <a:pt x="1552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6240" y="3184560"/>
            <a:ext cx="144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8640" y="3184560"/>
            <a:ext cx="149040" cy="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8640" y="3189240"/>
            <a:ext cx="11160" cy="1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3176640"/>
            <a:ext cx="102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621" y="21600"/>
                </a:moveTo>
                <a:cubicBezTo>
                  <a:pt x="17621" y="21600"/>
                  <a:pt x="21600" y="2817"/>
                  <a:pt x="21600" y="2817"/>
                </a:cubicBezTo>
                <a:cubicBezTo>
                  <a:pt x="21600" y="2817"/>
                  <a:pt x="947" y="0"/>
                  <a:pt x="947" y="0"/>
                </a:cubicBezTo>
                <a:cubicBezTo>
                  <a:pt x="947" y="0"/>
                  <a:pt x="0" y="17374"/>
                  <a:pt x="0" y="17374"/>
                </a:cubicBezTo>
                <a:cubicBezTo>
                  <a:pt x="0" y="17374"/>
                  <a:pt x="17621" y="21600"/>
                  <a:pt x="17621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9280" y="3186000"/>
            <a:ext cx="1908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40080" y="3176640"/>
            <a:ext cx="98280" cy="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5400" y="3176640"/>
            <a:ext cx="468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79680" y="3373560"/>
            <a:ext cx="14436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5" y="20496"/>
                </a:moveTo>
                <a:cubicBezTo>
                  <a:pt x="1755" y="20496"/>
                  <a:pt x="21600" y="21600"/>
                  <a:pt x="21600" y="21600"/>
                </a:cubicBezTo>
                <a:cubicBezTo>
                  <a:pt x="21600" y="21600"/>
                  <a:pt x="19305" y="1892"/>
                  <a:pt x="19305" y="1892"/>
                </a:cubicBezTo>
                <a:cubicBezTo>
                  <a:pt x="19305" y="1892"/>
                  <a:pt x="0" y="0"/>
                  <a:pt x="0" y="0"/>
                </a:cubicBezTo>
                <a:cubicBezTo>
                  <a:pt x="0" y="0"/>
                  <a:pt x="1755" y="20496"/>
                  <a:pt x="1755" y="2049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08200" y="3384720"/>
            <a:ext cx="1584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9680" y="3373560"/>
            <a:ext cx="128520" cy="1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79680" y="3373560"/>
            <a:ext cx="11160" cy="11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59120" y="3201840"/>
            <a:ext cx="127080" cy="8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987" y="18644"/>
                  <a:pt x="20987" y="18644"/>
                </a:cubicBezTo>
                <a:cubicBezTo>
                  <a:pt x="20987" y="18644"/>
                  <a:pt x="21600" y="0"/>
                  <a:pt x="21600" y="0"/>
                </a:cubicBezTo>
                <a:cubicBezTo>
                  <a:pt x="21600" y="0"/>
                  <a:pt x="460" y="0"/>
                  <a:pt x="460" y="0"/>
                </a:cubicBezTo>
                <a:cubicBezTo>
                  <a:pt x="460" y="0"/>
                  <a:pt x="0" y="21600"/>
                  <a:pt x="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1160" y="3201840"/>
            <a:ext cx="5040" cy="7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60560" y="3201840"/>
            <a:ext cx="125640" cy="180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59120" y="3201840"/>
            <a:ext cx="1440" cy="8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3560" y="3197160"/>
            <a:ext cx="468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03560" y="3197160"/>
            <a:ext cx="14760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5" y="13189"/>
                </a:moveTo>
                <a:cubicBezTo>
                  <a:pt x="785" y="13189"/>
                  <a:pt x="21600" y="21600"/>
                  <a:pt x="21600" y="21600"/>
                </a:cubicBezTo>
                <a:cubicBezTo>
                  <a:pt x="21600" y="21600"/>
                  <a:pt x="19636" y="0"/>
                  <a:pt x="19636" y="0"/>
                </a:cubicBezTo>
                <a:cubicBezTo>
                  <a:pt x="19636" y="0"/>
                  <a:pt x="0" y="0"/>
                  <a:pt x="0" y="0"/>
                </a:cubicBezTo>
                <a:cubicBezTo>
                  <a:pt x="0" y="0"/>
                  <a:pt x="785" y="13189"/>
                  <a:pt x="785" y="1318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38560" y="3197160"/>
            <a:ext cx="1260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03560" y="3197160"/>
            <a:ext cx="135000" cy="180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0" y="3060720"/>
            <a:ext cx="21132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13" y="21600"/>
                </a:moveTo>
                <a:cubicBezTo>
                  <a:pt x="20313" y="21600"/>
                  <a:pt x="21600" y="10563"/>
                  <a:pt x="21600" y="10563"/>
                </a:cubicBezTo>
                <a:cubicBezTo>
                  <a:pt x="21600" y="10563"/>
                  <a:pt x="11489" y="10563"/>
                  <a:pt x="11489" y="10563"/>
                </a:cubicBezTo>
                <a:cubicBezTo>
                  <a:pt x="11489" y="10563"/>
                  <a:pt x="12592" y="831"/>
                  <a:pt x="12592" y="831"/>
                </a:cubicBezTo>
                <a:cubicBezTo>
                  <a:pt x="12592" y="831"/>
                  <a:pt x="0" y="0"/>
                  <a:pt x="0" y="0"/>
                </a:cubicBezTo>
                <a:cubicBezTo>
                  <a:pt x="0" y="0"/>
                  <a:pt x="643" y="13055"/>
                  <a:pt x="643" y="13055"/>
                </a:cubicBezTo>
                <a:cubicBezTo>
                  <a:pt x="643" y="13055"/>
                  <a:pt x="20313" y="21600"/>
                  <a:pt x="20313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8360" y="3141720"/>
            <a:ext cx="12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141720"/>
            <a:ext cx="9864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21600" y="-1"/>
                </a:moveTo>
                <a:cubicBezTo>
                  <a:pt x="21600" y="-1"/>
                  <a:pt x="0" y="-1"/>
                  <a:pt x="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067200"/>
            <a:ext cx="11160" cy="7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0" y="3060720"/>
            <a:ext cx="12384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0" y="3060720"/>
            <a:ext cx="64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2040" y="3100320"/>
            <a:ext cx="8892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939" y="19008"/>
                  <a:pt x="20939" y="19008"/>
                </a:cubicBezTo>
                <a:cubicBezTo>
                  <a:pt x="20939" y="19008"/>
                  <a:pt x="21600" y="1512"/>
                  <a:pt x="21600" y="1512"/>
                </a:cubicBezTo>
                <a:cubicBezTo>
                  <a:pt x="21600" y="1512"/>
                  <a:pt x="1763" y="0"/>
                  <a:pt x="1763" y="0"/>
                </a:cubicBezTo>
                <a:cubicBezTo>
                  <a:pt x="1763" y="0"/>
                  <a:pt x="0" y="21600"/>
                  <a:pt x="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18080" y="3106800"/>
            <a:ext cx="288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9960" y="3100320"/>
            <a:ext cx="8100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2040" y="3100320"/>
            <a:ext cx="792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3360" y="3089160"/>
            <a:ext cx="7776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533"/>
                </a:moveTo>
                <a:cubicBezTo>
                  <a:pt x="0" y="15533"/>
                  <a:pt x="3014" y="0"/>
                  <a:pt x="3014" y="0"/>
                </a:cubicBezTo>
                <a:cubicBezTo>
                  <a:pt x="3014" y="0"/>
                  <a:pt x="21600" y="1456"/>
                  <a:pt x="21600" y="1456"/>
                </a:cubicBezTo>
                <a:cubicBezTo>
                  <a:pt x="21600" y="1456"/>
                  <a:pt x="21600" y="21600"/>
                  <a:pt x="21600" y="21600"/>
                </a:cubicBezTo>
                <a:cubicBezTo>
                  <a:pt x="21600" y="21600"/>
                  <a:pt x="0" y="15533"/>
                  <a:pt x="0" y="1553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3360" y="3089160"/>
            <a:ext cx="11160" cy="5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4520" y="3089160"/>
            <a:ext cx="66600" cy="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3095640"/>
            <a:ext cx="1440" cy="7452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-1" y="0"/>
                </a:moveTo>
                <a:cubicBezTo>
                  <a:pt x="-1" y="0"/>
                  <a:pt x="-1" y="21600"/>
                  <a:pt x="-1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0160" y="3097080"/>
            <a:ext cx="208080" cy="1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29" y="21600"/>
                </a:moveTo>
                <a:cubicBezTo>
                  <a:pt x="1029" y="21600"/>
                  <a:pt x="0" y="1142"/>
                  <a:pt x="0" y="1142"/>
                </a:cubicBezTo>
                <a:cubicBezTo>
                  <a:pt x="0" y="1142"/>
                  <a:pt x="21600" y="0"/>
                  <a:pt x="21600" y="0"/>
                </a:cubicBezTo>
                <a:cubicBezTo>
                  <a:pt x="21600" y="0"/>
                  <a:pt x="20665" y="17550"/>
                  <a:pt x="20665" y="17550"/>
                </a:cubicBezTo>
                <a:cubicBezTo>
                  <a:pt x="20665" y="17550"/>
                  <a:pt x="1029" y="21600"/>
                  <a:pt x="1029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70160" y="3106800"/>
            <a:ext cx="9360" cy="1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70160" y="3097080"/>
            <a:ext cx="20808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8520" y="3097080"/>
            <a:ext cx="9720" cy="15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86080" y="4370400"/>
            <a:ext cx="571320" cy="112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8" y="18699"/>
                </a:moveTo>
                <a:cubicBezTo>
                  <a:pt x="408" y="18699"/>
                  <a:pt x="0" y="9341"/>
                  <a:pt x="0" y="4662"/>
                </a:cubicBezTo>
                <a:cubicBezTo>
                  <a:pt x="0" y="3695"/>
                  <a:pt x="34" y="2745"/>
                  <a:pt x="34" y="1761"/>
                </a:cubicBezTo>
                <a:cubicBezTo>
                  <a:pt x="34" y="1312"/>
                  <a:pt x="272" y="829"/>
                  <a:pt x="714" y="501"/>
                </a:cubicBezTo>
                <a:cubicBezTo>
                  <a:pt x="1123" y="155"/>
                  <a:pt x="2143" y="69"/>
                  <a:pt x="2925" y="104"/>
                </a:cubicBezTo>
                <a:cubicBezTo>
                  <a:pt x="4014" y="155"/>
                  <a:pt x="5613" y="1226"/>
                  <a:pt x="5613" y="1226"/>
                </a:cubicBezTo>
                <a:cubicBezTo>
                  <a:pt x="5613" y="1226"/>
                  <a:pt x="6803" y="380"/>
                  <a:pt x="7688" y="207"/>
                </a:cubicBezTo>
                <a:cubicBezTo>
                  <a:pt x="9014" y="0"/>
                  <a:pt x="10613" y="432"/>
                  <a:pt x="11906" y="725"/>
                </a:cubicBezTo>
                <a:cubicBezTo>
                  <a:pt x="12552" y="863"/>
                  <a:pt x="12858" y="1226"/>
                  <a:pt x="12722" y="1537"/>
                </a:cubicBezTo>
                <a:cubicBezTo>
                  <a:pt x="12314" y="2279"/>
                  <a:pt x="10987" y="2814"/>
                  <a:pt x="11225" y="3574"/>
                </a:cubicBezTo>
                <a:cubicBezTo>
                  <a:pt x="11327" y="4023"/>
                  <a:pt x="12994" y="3729"/>
                  <a:pt x="13810" y="3660"/>
                </a:cubicBezTo>
                <a:cubicBezTo>
                  <a:pt x="14797" y="3574"/>
                  <a:pt x="15851" y="2883"/>
                  <a:pt x="16498" y="3212"/>
                </a:cubicBezTo>
                <a:cubicBezTo>
                  <a:pt x="17212" y="3557"/>
                  <a:pt x="15579" y="4265"/>
                  <a:pt x="16089" y="4696"/>
                </a:cubicBezTo>
                <a:cubicBezTo>
                  <a:pt x="17212" y="5784"/>
                  <a:pt x="20920" y="6164"/>
                  <a:pt x="21056" y="7390"/>
                </a:cubicBezTo>
                <a:cubicBezTo>
                  <a:pt x="21158" y="8754"/>
                  <a:pt x="21600" y="16006"/>
                  <a:pt x="17382" y="18475"/>
                </a:cubicBezTo>
                <a:cubicBezTo>
                  <a:pt x="12008" y="21600"/>
                  <a:pt x="408" y="18699"/>
                  <a:pt x="408" y="18699"/>
                </a:cubicBezTo>
              </a:path>
            </a:pathLst>
          </a:custGeom>
          <a:solidFill>
            <a:srgbClr val="e5e5e5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32200" y="4413240"/>
            <a:ext cx="573120" cy="14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46" y="14321"/>
                </a:moveTo>
                <a:cubicBezTo>
                  <a:pt x="4646" y="14334"/>
                  <a:pt x="4917" y="21600"/>
                  <a:pt x="11597" y="21560"/>
                </a:cubicBezTo>
                <a:cubicBezTo>
                  <a:pt x="13191" y="21560"/>
                  <a:pt x="13496" y="20819"/>
                  <a:pt x="14072" y="20184"/>
                </a:cubicBezTo>
                <a:cubicBezTo>
                  <a:pt x="14310" y="19840"/>
                  <a:pt x="14750" y="19509"/>
                  <a:pt x="15395" y="19549"/>
                </a:cubicBezTo>
                <a:cubicBezTo>
                  <a:pt x="16175" y="19575"/>
                  <a:pt x="17667" y="20157"/>
                  <a:pt x="17667" y="20157"/>
                </a:cubicBezTo>
                <a:cubicBezTo>
                  <a:pt x="17667" y="20157"/>
                  <a:pt x="19769" y="18953"/>
                  <a:pt x="19701" y="18212"/>
                </a:cubicBezTo>
                <a:cubicBezTo>
                  <a:pt x="19667" y="17471"/>
                  <a:pt x="18345" y="16743"/>
                  <a:pt x="18480" y="15922"/>
                </a:cubicBezTo>
                <a:cubicBezTo>
                  <a:pt x="18548" y="15234"/>
                  <a:pt x="20990" y="14029"/>
                  <a:pt x="20990" y="14029"/>
                </a:cubicBezTo>
                <a:cubicBezTo>
                  <a:pt x="20990" y="14029"/>
                  <a:pt x="19498" y="13672"/>
                  <a:pt x="19396" y="13368"/>
                </a:cubicBezTo>
                <a:cubicBezTo>
                  <a:pt x="19260" y="12944"/>
                  <a:pt x="20583" y="12481"/>
                  <a:pt x="20820" y="12071"/>
                </a:cubicBezTo>
                <a:cubicBezTo>
                  <a:pt x="21057" y="11779"/>
                  <a:pt x="21600" y="11435"/>
                  <a:pt x="21057" y="11237"/>
                </a:cubicBezTo>
                <a:cubicBezTo>
                  <a:pt x="20345" y="10946"/>
                  <a:pt x="18989" y="11197"/>
                  <a:pt x="17904" y="11118"/>
                </a:cubicBezTo>
                <a:cubicBezTo>
                  <a:pt x="17497" y="11091"/>
                  <a:pt x="16717" y="10826"/>
                  <a:pt x="16717" y="10826"/>
                </a:cubicBezTo>
                <a:cubicBezTo>
                  <a:pt x="16717" y="10826"/>
                  <a:pt x="18480" y="9569"/>
                  <a:pt x="18989" y="8907"/>
                </a:cubicBezTo>
                <a:cubicBezTo>
                  <a:pt x="19498" y="8272"/>
                  <a:pt x="20651" y="7729"/>
                  <a:pt x="20142" y="7266"/>
                </a:cubicBezTo>
                <a:cubicBezTo>
                  <a:pt x="19769" y="6922"/>
                  <a:pt x="18650" y="6803"/>
                  <a:pt x="17836" y="6657"/>
                </a:cubicBezTo>
                <a:cubicBezTo>
                  <a:pt x="17124" y="6499"/>
                  <a:pt x="16344" y="6551"/>
                  <a:pt x="15768" y="6340"/>
                </a:cubicBezTo>
                <a:cubicBezTo>
                  <a:pt x="15259" y="6101"/>
                  <a:pt x="14920" y="5771"/>
                  <a:pt x="14547" y="5519"/>
                </a:cubicBezTo>
                <a:cubicBezTo>
                  <a:pt x="13903" y="5056"/>
                  <a:pt x="13530" y="4566"/>
                  <a:pt x="12818" y="4129"/>
                </a:cubicBezTo>
                <a:cubicBezTo>
                  <a:pt x="12478" y="3891"/>
                  <a:pt x="12038" y="3653"/>
                  <a:pt x="12038" y="3362"/>
                </a:cubicBezTo>
                <a:cubicBezTo>
                  <a:pt x="12038" y="3071"/>
                  <a:pt x="12546" y="2779"/>
                  <a:pt x="12818" y="2501"/>
                </a:cubicBezTo>
                <a:cubicBezTo>
                  <a:pt x="12987" y="2329"/>
                  <a:pt x="13258" y="1985"/>
                  <a:pt x="13258" y="1985"/>
                </a:cubicBezTo>
                <a:cubicBezTo>
                  <a:pt x="13258" y="1985"/>
                  <a:pt x="12038" y="1800"/>
                  <a:pt x="11597" y="1628"/>
                </a:cubicBezTo>
                <a:cubicBezTo>
                  <a:pt x="10681" y="1244"/>
                  <a:pt x="9020" y="0"/>
                  <a:pt x="9020" y="0"/>
                </a:cubicBezTo>
                <a:cubicBezTo>
                  <a:pt x="9020" y="0"/>
                  <a:pt x="6205" y="1112"/>
                  <a:pt x="6205" y="1112"/>
                </a:cubicBezTo>
                <a:cubicBezTo>
                  <a:pt x="6205" y="1112"/>
                  <a:pt x="4713" y="543"/>
                  <a:pt x="4001" y="728"/>
                </a:cubicBezTo>
                <a:cubicBezTo>
                  <a:pt x="3052" y="979"/>
                  <a:pt x="2950" y="2091"/>
                  <a:pt x="2950" y="2091"/>
                </a:cubicBezTo>
                <a:cubicBezTo>
                  <a:pt x="2950" y="2091"/>
                  <a:pt x="1865" y="2091"/>
                  <a:pt x="1628" y="2224"/>
                </a:cubicBezTo>
                <a:cubicBezTo>
                  <a:pt x="0" y="3309"/>
                  <a:pt x="3730" y="4659"/>
                  <a:pt x="3900" y="5943"/>
                </a:cubicBezTo>
                <a:cubicBezTo>
                  <a:pt x="4408" y="8735"/>
                  <a:pt x="4713" y="11501"/>
                  <a:pt x="4646" y="14321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240" y="5430960"/>
            <a:ext cx="83880" cy="32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13" y="20184"/>
                </a:moveTo>
                <a:cubicBezTo>
                  <a:pt x="4413" y="20184"/>
                  <a:pt x="3484" y="12925"/>
                  <a:pt x="2555" y="8498"/>
                </a:cubicBezTo>
                <a:cubicBezTo>
                  <a:pt x="2090" y="6079"/>
                  <a:pt x="0" y="0"/>
                  <a:pt x="0" y="0"/>
                </a:cubicBezTo>
                <a:cubicBezTo>
                  <a:pt x="0" y="0"/>
                  <a:pt x="18581" y="1357"/>
                  <a:pt x="18581" y="1357"/>
                </a:cubicBezTo>
                <a:cubicBezTo>
                  <a:pt x="18581" y="1357"/>
                  <a:pt x="19510" y="9325"/>
                  <a:pt x="19277" y="13456"/>
                </a:cubicBezTo>
                <a:cubicBezTo>
                  <a:pt x="18581" y="16289"/>
                  <a:pt x="21600" y="21600"/>
                  <a:pt x="21600" y="21600"/>
                </a:cubicBezTo>
                <a:cubicBezTo>
                  <a:pt x="21600" y="21600"/>
                  <a:pt x="4413" y="20184"/>
                  <a:pt x="4413" y="20184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08400" y="5559480"/>
            <a:ext cx="612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0800" y="8182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7240" y="5430960"/>
            <a:ext cx="1116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673" y="15450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7240" y="5430960"/>
            <a:ext cx="73080" cy="2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70320" y="5451480"/>
            <a:ext cx="288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14224"/>
                  <a:pt x="162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70320" y="5635800"/>
            <a:ext cx="10800" cy="12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85" y="0"/>
                </a:moveTo>
                <a:cubicBezTo>
                  <a:pt x="0" y="751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6200" y="5738760"/>
            <a:ext cx="91800" cy="50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14" y="20990"/>
                </a:moveTo>
                <a:cubicBezTo>
                  <a:pt x="4614" y="20990"/>
                  <a:pt x="1678" y="13333"/>
                  <a:pt x="2517" y="9181"/>
                </a:cubicBezTo>
                <a:cubicBezTo>
                  <a:pt x="3146" y="6857"/>
                  <a:pt x="0" y="3162"/>
                  <a:pt x="5872" y="800"/>
                </a:cubicBezTo>
                <a:cubicBezTo>
                  <a:pt x="7550" y="0"/>
                  <a:pt x="16148" y="2819"/>
                  <a:pt x="16148" y="2819"/>
                </a:cubicBezTo>
                <a:cubicBezTo>
                  <a:pt x="16148" y="2819"/>
                  <a:pt x="16148" y="6857"/>
                  <a:pt x="15099" y="8724"/>
                </a:cubicBezTo>
                <a:cubicBezTo>
                  <a:pt x="14889" y="9752"/>
                  <a:pt x="16357" y="12952"/>
                  <a:pt x="16357" y="12952"/>
                </a:cubicBezTo>
                <a:cubicBezTo>
                  <a:pt x="16357" y="12952"/>
                  <a:pt x="20551" y="17105"/>
                  <a:pt x="20551" y="17105"/>
                </a:cubicBezTo>
                <a:cubicBezTo>
                  <a:pt x="20551" y="17105"/>
                  <a:pt x="21600" y="21600"/>
                  <a:pt x="21600" y="21600"/>
                </a:cubicBezTo>
                <a:cubicBezTo>
                  <a:pt x="21600" y="21600"/>
                  <a:pt x="4614" y="20990"/>
                  <a:pt x="4614" y="2099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2320" y="5954760"/>
            <a:ext cx="1296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0" y="7595"/>
                  <a:pt x="6171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6200" y="5757840"/>
            <a:ext cx="2376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257" y="21600"/>
                </a:moveTo>
                <a:cubicBezTo>
                  <a:pt x="11571" y="15611"/>
                  <a:pt x="0" y="608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5738760"/>
            <a:ext cx="4428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130"/>
                </a:moveTo>
                <a:cubicBezTo>
                  <a:pt x="3527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560" y="5805360"/>
            <a:ext cx="468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4772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560" y="5945040"/>
            <a:ext cx="648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6" y="0"/>
                </a:moveTo>
                <a:cubicBezTo>
                  <a:pt x="0" y="5254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6040" y="6043680"/>
            <a:ext cx="172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73320" y="6141960"/>
            <a:ext cx="4680" cy="1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22480" y="4457880"/>
            <a:ext cx="752400" cy="10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653" y="21324"/>
                </a:moveTo>
                <a:cubicBezTo>
                  <a:pt x="10878" y="21324"/>
                  <a:pt x="10077" y="21471"/>
                  <a:pt x="9198" y="21526"/>
                </a:cubicBezTo>
                <a:cubicBezTo>
                  <a:pt x="8320" y="21563"/>
                  <a:pt x="7415" y="21287"/>
                  <a:pt x="7002" y="20809"/>
                </a:cubicBezTo>
                <a:cubicBezTo>
                  <a:pt x="6330" y="20073"/>
                  <a:pt x="6278" y="18215"/>
                  <a:pt x="6278" y="18215"/>
                </a:cubicBezTo>
                <a:cubicBezTo>
                  <a:pt x="6278" y="18215"/>
                  <a:pt x="4367" y="19006"/>
                  <a:pt x="3359" y="18877"/>
                </a:cubicBezTo>
                <a:cubicBezTo>
                  <a:pt x="2377" y="18748"/>
                  <a:pt x="1059" y="17387"/>
                  <a:pt x="1059" y="17387"/>
                </a:cubicBezTo>
                <a:cubicBezTo>
                  <a:pt x="1059" y="17387"/>
                  <a:pt x="1189" y="16264"/>
                  <a:pt x="1137" y="15768"/>
                </a:cubicBezTo>
                <a:cubicBezTo>
                  <a:pt x="1008" y="15032"/>
                  <a:pt x="0" y="13670"/>
                  <a:pt x="0" y="13670"/>
                </a:cubicBezTo>
                <a:cubicBezTo>
                  <a:pt x="0" y="13670"/>
                  <a:pt x="1137" y="13284"/>
                  <a:pt x="1705" y="13192"/>
                </a:cubicBezTo>
                <a:cubicBezTo>
                  <a:pt x="2325" y="13118"/>
                  <a:pt x="3514" y="13357"/>
                  <a:pt x="3514" y="13357"/>
                </a:cubicBezTo>
                <a:cubicBezTo>
                  <a:pt x="3514" y="13357"/>
                  <a:pt x="2971" y="12143"/>
                  <a:pt x="2971" y="12143"/>
                </a:cubicBezTo>
                <a:cubicBezTo>
                  <a:pt x="2971" y="12143"/>
                  <a:pt x="4367" y="11702"/>
                  <a:pt x="4832" y="11242"/>
                </a:cubicBezTo>
                <a:cubicBezTo>
                  <a:pt x="5322" y="10745"/>
                  <a:pt x="4935" y="9880"/>
                  <a:pt x="4935" y="9567"/>
                </a:cubicBezTo>
                <a:cubicBezTo>
                  <a:pt x="4883" y="8942"/>
                  <a:pt x="4315" y="7801"/>
                  <a:pt x="4289" y="7194"/>
                </a:cubicBezTo>
                <a:cubicBezTo>
                  <a:pt x="4547" y="6384"/>
                  <a:pt x="4883" y="5575"/>
                  <a:pt x="5839" y="5317"/>
                </a:cubicBezTo>
                <a:cubicBezTo>
                  <a:pt x="6847" y="5023"/>
                  <a:pt x="9017" y="5538"/>
                  <a:pt x="9017" y="5538"/>
                </a:cubicBezTo>
                <a:cubicBezTo>
                  <a:pt x="9017" y="5538"/>
                  <a:pt x="8371" y="4581"/>
                  <a:pt x="7493" y="3956"/>
                </a:cubicBezTo>
                <a:cubicBezTo>
                  <a:pt x="6899" y="3514"/>
                  <a:pt x="6537" y="2925"/>
                  <a:pt x="6614" y="2373"/>
                </a:cubicBezTo>
                <a:cubicBezTo>
                  <a:pt x="6744" y="1913"/>
                  <a:pt x="7364" y="1398"/>
                  <a:pt x="8035" y="1398"/>
                </a:cubicBezTo>
                <a:cubicBezTo>
                  <a:pt x="8630" y="1398"/>
                  <a:pt x="9741" y="2024"/>
                  <a:pt x="9741" y="2024"/>
                </a:cubicBezTo>
                <a:cubicBezTo>
                  <a:pt x="9741" y="2024"/>
                  <a:pt x="9586" y="0"/>
                  <a:pt x="9586" y="0"/>
                </a:cubicBezTo>
                <a:cubicBezTo>
                  <a:pt x="9586" y="0"/>
                  <a:pt x="11007" y="276"/>
                  <a:pt x="11704" y="423"/>
                </a:cubicBezTo>
                <a:cubicBezTo>
                  <a:pt x="12841" y="699"/>
                  <a:pt x="14004" y="1104"/>
                  <a:pt x="14417" y="1564"/>
                </a:cubicBezTo>
                <a:cubicBezTo>
                  <a:pt x="14805" y="2005"/>
                  <a:pt x="14495" y="2613"/>
                  <a:pt x="14598" y="3275"/>
                </a:cubicBezTo>
                <a:cubicBezTo>
                  <a:pt x="14727" y="3827"/>
                  <a:pt x="15089" y="4287"/>
                  <a:pt x="15735" y="4471"/>
                </a:cubicBezTo>
                <a:cubicBezTo>
                  <a:pt x="16174" y="4581"/>
                  <a:pt x="17259" y="4636"/>
                  <a:pt x="17259" y="4636"/>
                </a:cubicBezTo>
                <a:cubicBezTo>
                  <a:pt x="17259" y="4636"/>
                  <a:pt x="16949" y="5759"/>
                  <a:pt x="16303" y="6164"/>
                </a:cubicBezTo>
                <a:cubicBezTo>
                  <a:pt x="15554" y="6550"/>
                  <a:pt x="14676" y="6697"/>
                  <a:pt x="14340" y="7120"/>
                </a:cubicBezTo>
                <a:cubicBezTo>
                  <a:pt x="14056" y="7488"/>
                  <a:pt x="14185" y="7948"/>
                  <a:pt x="14805" y="8132"/>
                </a:cubicBezTo>
                <a:cubicBezTo>
                  <a:pt x="16122" y="8519"/>
                  <a:pt x="17647" y="8261"/>
                  <a:pt x="17879" y="8059"/>
                </a:cubicBezTo>
                <a:cubicBezTo>
                  <a:pt x="18422" y="7617"/>
                  <a:pt x="18241" y="6973"/>
                  <a:pt x="18861" y="6844"/>
                </a:cubicBezTo>
                <a:cubicBezTo>
                  <a:pt x="19300" y="6771"/>
                  <a:pt x="19585" y="7249"/>
                  <a:pt x="20179" y="7267"/>
                </a:cubicBezTo>
                <a:cubicBezTo>
                  <a:pt x="20567" y="7267"/>
                  <a:pt x="21264" y="6807"/>
                  <a:pt x="21264" y="6807"/>
                </a:cubicBezTo>
                <a:cubicBezTo>
                  <a:pt x="21264" y="6807"/>
                  <a:pt x="21600" y="7967"/>
                  <a:pt x="21032" y="8390"/>
                </a:cubicBezTo>
                <a:cubicBezTo>
                  <a:pt x="20592" y="8684"/>
                  <a:pt x="20179" y="8647"/>
                  <a:pt x="19352" y="8758"/>
                </a:cubicBezTo>
                <a:cubicBezTo>
                  <a:pt x="18913" y="8850"/>
                  <a:pt x="18577" y="9107"/>
                  <a:pt x="18525" y="9383"/>
                </a:cubicBezTo>
                <a:cubicBezTo>
                  <a:pt x="18500" y="9843"/>
                  <a:pt x="19223" y="10745"/>
                  <a:pt x="19223" y="10745"/>
                </a:cubicBezTo>
                <a:cubicBezTo>
                  <a:pt x="19223" y="10745"/>
                  <a:pt x="18422" y="11131"/>
                  <a:pt x="17957" y="11094"/>
                </a:cubicBezTo>
                <a:cubicBezTo>
                  <a:pt x="16949" y="11076"/>
                  <a:pt x="16174" y="10653"/>
                  <a:pt x="15322" y="10653"/>
                </a:cubicBezTo>
                <a:cubicBezTo>
                  <a:pt x="14417" y="10653"/>
                  <a:pt x="13513" y="11021"/>
                  <a:pt x="13125" y="11499"/>
                </a:cubicBezTo>
                <a:cubicBezTo>
                  <a:pt x="12944" y="11794"/>
                  <a:pt x="13125" y="12732"/>
                  <a:pt x="13900" y="13413"/>
                </a:cubicBezTo>
                <a:cubicBezTo>
                  <a:pt x="14598" y="14093"/>
                  <a:pt x="16898" y="14903"/>
                  <a:pt x="16898" y="14903"/>
                </a:cubicBezTo>
                <a:cubicBezTo>
                  <a:pt x="16898" y="14903"/>
                  <a:pt x="14598" y="15988"/>
                  <a:pt x="14598" y="15988"/>
                </a:cubicBezTo>
                <a:cubicBezTo>
                  <a:pt x="14598" y="15988"/>
                  <a:pt x="14856" y="16743"/>
                  <a:pt x="15244" y="17442"/>
                </a:cubicBezTo>
                <a:cubicBezTo>
                  <a:pt x="15451" y="17736"/>
                  <a:pt x="15477" y="18031"/>
                  <a:pt x="15735" y="18215"/>
                </a:cubicBezTo>
                <a:cubicBezTo>
                  <a:pt x="16174" y="18583"/>
                  <a:pt x="16665" y="18951"/>
                  <a:pt x="16639" y="19355"/>
                </a:cubicBezTo>
                <a:cubicBezTo>
                  <a:pt x="16588" y="19852"/>
                  <a:pt x="16174" y="20275"/>
                  <a:pt x="15812" y="20717"/>
                </a:cubicBezTo>
                <a:cubicBezTo>
                  <a:pt x="15373" y="20625"/>
                  <a:pt x="14856" y="20551"/>
                  <a:pt x="14417" y="20717"/>
                </a:cubicBezTo>
                <a:cubicBezTo>
                  <a:pt x="14056" y="20809"/>
                  <a:pt x="13952" y="21232"/>
                  <a:pt x="13590" y="21398"/>
                </a:cubicBezTo>
                <a:cubicBezTo>
                  <a:pt x="12996" y="21600"/>
                  <a:pt x="12324" y="21324"/>
                  <a:pt x="11653" y="21324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8600" y="4525920"/>
            <a:ext cx="770040" cy="138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18" y="20966"/>
                </a:moveTo>
                <a:cubicBezTo>
                  <a:pt x="11759" y="20882"/>
                  <a:pt x="10674" y="20797"/>
                  <a:pt x="9715" y="20558"/>
                </a:cubicBezTo>
                <a:cubicBezTo>
                  <a:pt x="9538" y="20530"/>
                  <a:pt x="9236" y="20459"/>
                  <a:pt x="9236" y="20459"/>
                </a:cubicBezTo>
                <a:cubicBezTo>
                  <a:pt x="9236" y="20459"/>
                  <a:pt x="8201" y="21262"/>
                  <a:pt x="7545" y="21318"/>
                </a:cubicBezTo>
                <a:cubicBezTo>
                  <a:pt x="6561" y="21389"/>
                  <a:pt x="5097" y="20910"/>
                  <a:pt x="3684" y="20347"/>
                </a:cubicBezTo>
                <a:cubicBezTo>
                  <a:pt x="3230" y="20164"/>
                  <a:pt x="2750" y="19910"/>
                  <a:pt x="2347" y="19572"/>
                </a:cubicBezTo>
                <a:cubicBezTo>
                  <a:pt x="1817" y="19122"/>
                  <a:pt x="1363" y="18615"/>
                  <a:pt x="1363" y="18446"/>
                </a:cubicBezTo>
                <a:cubicBezTo>
                  <a:pt x="1363" y="18108"/>
                  <a:pt x="1867" y="17925"/>
                  <a:pt x="2170" y="17657"/>
                </a:cubicBezTo>
                <a:cubicBezTo>
                  <a:pt x="2498" y="17418"/>
                  <a:pt x="3104" y="17193"/>
                  <a:pt x="3053" y="16883"/>
                </a:cubicBezTo>
                <a:cubicBezTo>
                  <a:pt x="2978" y="16446"/>
                  <a:pt x="2296" y="16094"/>
                  <a:pt x="1867" y="15700"/>
                </a:cubicBezTo>
                <a:cubicBezTo>
                  <a:pt x="1539" y="15404"/>
                  <a:pt x="1236" y="15137"/>
                  <a:pt x="883" y="14855"/>
                </a:cubicBezTo>
                <a:cubicBezTo>
                  <a:pt x="606" y="14686"/>
                  <a:pt x="0" y="14630"/>
                  <a:pt x="0" y="14419"/>
                </a:cubicBezTo>
                <a:cubicBezTo>
                  <a:pt x="50" y="14053"/>
                  <a:pt x="631" y="13799"/>
                  <a:pt x="1009" y="13489"/>
                </a:cubicBezTo>
                <a:cubicBezTo>
                  <a:pt x="1363" y="13250"/>
                  <a:pt x="2044" y="13166"/>
                  <a:pt x="2145" y="12898"/>
                </a:cubicBezTo>
                <a:cubicBezTo>
                  <a:pt x="2221" y="12659"/>
                  <a:pt x="1867" y="12419"/>
                  <a:pt x="1590" y="12208"/>
                </a:cubicBezTo>
                <a:cubicBezTo>
                  <a:pt x="1438" y="12110"/>
                  <a:pt x="1009" y="12124"/>
                  <a:pt x="1009" y="11969"/>
                </a:cubicBezTo>
                <a:cubicBezTo>
                  <a:pt x="1060" y="11589"/>
                  <a:pt x="1438" y="11237"/>
                  <a:pt x="1741" y="10899"/>
                </a:cubicBezTo>
                <a:cubicBezTo>
                  <a:pt x="1993" y="10659"/>
                  <a:pt x="2750" y="10617"/>
                  <a:pt x="2750" y="10335"/>
                </a:cubicBezTo>
                <a:cubicBezTo>
                  <a:pt x="2750" y="10068"/>
                  <a:pt x="1993" y="10011"/>
                  <a:pt x="1665" y="9828"/>
                </a:cubicBezTo>
                <a:cubicBezTo>
                  <a:pt x="1388" y="9688"/>
                  <a:pt x="959" y="9533"/>
                  <a:pt x="1009" y="9336"/>
                </a:cubicBezTo>
                <a:cubicBezTo>
                  <a:pt x="1110" y="9026"/>
                  <a:pt x="1665" y="8786"/>
                  <a:pt x="2120" y="8575"/>
                </a:cubicBezTo>
                <a:cubicBezTo>
                  <a:pt x="2498" y="8336"/>
                  <a:pt x="2927" y="7928"/>
                  <a:pt x="3583" y="7928"/>
                </a:cubicBezTo>
                <a:cubicBezTo>
                  <a:pt x="4164" y="7928"/>
                  <a:pt x="4441" y="8378"/>
                  <a:pt x="4971" y="8519"/>
                </a:cubicBezTo>
                <a:cubicBezTo>
                  <a:pt x="5450" y="8646"/>
                  <a:pt x="5955" y="8786"/>
                  <a:pt x="6460" y="8730"/>
                </a:cubicBezTo>
                <a:cubicBezTo>
                  <a:pt x="6964" y="8674"/>
                  <a:pt x="7621" y="8519"/>
                  <a:pt x="7595" y="8251"/>
                </a:cubicBezTo>
                <a:cubicBezTo>
                  <a:pt x="7469" y="7674"/>
                  <a:pt x="6636" y="7209"/>
                  <a:pt x="6081" y="6674"/>
                </a:cubicBezTo>
                <a:cubicBezTo>
                  <a:pt x="5804" y="6407"/>
                  <a:pt x="5148" y="6139"/>
                  <a:pt x="5223" y="5844"/>
                </a:cubicBezTo>
                <a:cubicBezTo>
                  <a:pt x="5400" y="5421"/>
                  <a:pt x="6207" y="5182"/>
                  <a:pt x="6788" y="4914"/>
                </a:cubicBezTo>
                <a:cubicBezTo>
                  <a:pt x="7267" y="4703"/>
                  <a:pt x="8024" y="4689"/>
                  <a:pt x="8327" y="4407"/>
                </a:cubicBezTo>
                <a:cubicBezTo>
                  <a:pt x="8554" y="4238"/>
                  <a:pt x="8251" y="3999"/>
                  <a:pt x="8125" y="3816"/>
                </a:cubicBezTo>
                <a:cubicBezTo>
                  <a:pt x="7898" y="3591"/>
                  <a:pt x="7545" y="3393"/>
                  <a:pt x="7192" y="3196"/>
                </a:cubicBezTo>
                <a:cubicBezTo>
                  <a:pt x="6889" y="2999"/>
                  <a:pt x="6510" y="2774"/>
                  <a:pt x="6308" y="2549"/>
                </a:cubicBezTo>
                <a:cubicBezTo>
                  <a:pt x="6207" y="2408"/>
                  <a:pt x="6157" y="2281"/>
                  <a:pt x="6308" y="2168"/>
                </a:cubicBezTo>
                <a:cubicBezTo>
                  <a:pt x="6788" y="1859"/>
                  <a:pt x="8201" y="1112"/>
                  <a:pt x="9816" y="577"/>
                </a:cubicBezTo>
                <a:cubicBezTo>
                  <a:pt x="10724" y="282"/>
                  <a:pt x="11481" y="0"/>
                  <a:pt x="12238" y="56"/>
                </a:cubicBezTo>
                <a:cubicBezTo>
                  <a:pt x="13096" y="127"/>
                  <a:pt x="14106" y="394"/>
                  <a:pt x="14938" y="718"/>
                </a:cubicBezTo>
                <a:cubicBezTo>
                  <a:pt x="15695" y="1014"/>
                  <a:pt x="16503" y="1366"/>
                  <a:pt x="16806" y="1859"/>
                </a:cubicBezTo>
                <a:cubicBezTo>
                  <a:pt x="17083" y="2211"/>
                  <a:pt x="17134" y="2633"/>
                  <a:pt x="16957" y="3027"/>
                </a:cubicBezTo>
                <a:cubicBezTo>
                  <a:pt x="16755" y="3450"/>
                  <a:pt x="16326" y="3872"/>
                  <a:pt x="16629" y="4168"/>
                </a:cubicBezTo>
                <a:cubicBezTo>
                  <a:pt x="17007" y="4492"/>
                  <a:pt x="17992" y="4492"/>
                  <a:pt x="18395" y="4689"/>
                </a:cubicBezTo>
                <a:cubicBezTo>
                  <a:pt x="18875" y="4900"/>
                  <a:pt x="19304" y="5182"/>
                  <a:pt x="19430" y="5520"/>
                </a:cubicBezTo>
                <a:cubicBezTo>
                  <a:pt x="19531" y="5900"/>
                  <a:pt x="19304" y="6294"/>
                  <a:pt x="18774" y="6562"/>
                </a:cubicBezTo>
                <a:cubicBezTo>
                  <a:pt x="18395" y="6731"/>
                  <a:pt x="17714" y="6886"/>
                  <a:pt x="17083" y="6829"/>
                </a:cubicBezTo>
                <a:cubicBezTo>
                  <a:pt x="16452" y="6759"/>
                  <a:pt x="15796" y="6759"/>
                  <a:pt x="15342" y="6843"/>
                </a:cubicBezTo>
                <a:cubicBezTo>
                  <a:pt x="14509" y="7012"/>
                  <a:pt x="13853" y="7421"/>
                  <a:pt x="13979" y="8125"/>
                </a:cubicBezTo>
                <a:cubicBezTo>
                  <a:pt x="14030" y="8575"/>
                  <a:pt x="14207" y="8941"/>
                  <a:pt x="14585" y="9237"/>
                </a:cubicBezTo>
                <a:cubicBezTo>
                  <a:pt x="14787" y="9420"/>
                  <a:pt x="15090" y="9617"/>
                  <a:pt x="15519" y="9688"/>
                </a:cubicBezTo>
                <a:cubicBezTo>
                  <a:pt x="16023" y="9772"/>
                  <a:pt x="16503" y="9828"/>
                  <a:pt x="16907" y="9828"/>
                </a:cubicBezTo>
                <a:cubicBezTo>
                  <a:pt x="17512" y="9828"/>
                  <a:pt x="18143" y="9617"/>
                  <a:pt x="18446" y="9293"/>
                </a:cubicBezTo>
                <a:cubicBezTo>
                  <a:pt x="18824" y="8885"/>
                  <a:pt x="18875" y="7928"/>
                  <a:pt x="18875" y="7928"/>
                </a:cubicBezTo>
                <a:cubicBezTo>
                  <a:pt x="18875" y="7928"/>
                  <a:pt x="20010" y="8941"/>
                  <a:pt x="20237" y="9195"/>
                </a:cubicBezTo>
                <a:cubicBezTo>
                  <a:pt x="20490" y="9561"/>
                  <a:pt x="21600" y="10406"/>
                  <a:pt x="21600" y="10406"/>
                </a:cubicBezTo>
                <a:cubicBezTo>
                  <a:pt x="21600" y="10406"/>
                  <a:pt x="20843" y="10899"/>
                  <a:pt x="20414" y="11110"/>
                </a:cubicBezTo>
                <a:cubicBezTo>
                  <a:pt x="19859" y="11377"/>
                  <a:pt x="18950" y="11589"/>
                  <a:pt x="18622" y="11884"/>
                </a:cubicBezTo>
                <a:cubicBezTo>
                  <a:pt x="18067" y="12391"/>
                  <a:pt x="19152" y="12926"/>
                  <a:pt x="20313" y="13320"/>
                </a:cubicBezTo>
                <a:cubicBezTo>
                  <a:pt x="20969" y="13518"/>
                  <a:pt x="21550" y="13968"/>
                  <a:pt x="21550" y="13968"/>
                </a:cubicBezTo>
                <a:cubicBezTo>
                  <a:pt x="21550" y="13968"/>
                  <a:pt x="20540" y="14588"/>
                  <a:pt x="19783" y="14714"/>
                </a:cubicBezTo>
                <a:cubicBezTo>
                  <a:pt x="18950" y="14855"/>
                  <a:pt x="17992" y="14630"/>
                  <a:pt x="17386" y="14560"/>
                </a:cubicBezTo>
                <a:cubicBezTo>
                  <a:pt x="16957" y="14517"/>
                  <a:pt x="16049" y="14475"/>
                  <a:pt x="16049" y="14475"/>
                </a:cubicBezTo>
                <a:cubicBezTo>
                  <a:pt x="16049" y="14475"/>
                  <a:pt x="15796" y="15095"/>
                  <a:pt x="15847" y="15700"/>
                </a:cubicBezTo>
                <a:cubicBezTo>
                  <a:pt x="15847" y="16179"/>
                  <a:pt x="16124" y="16672"/>
                  <a:pt x="16200" y="16798"/>
                </a:cubicBezTo>
                <a:cubicBezTo>
                  <a:pt x="16452" y="17038"/>
                  <a:pt x="17007" y="16996"/>
                  <a:pt x="17134" y="16996"/>
                </a:cubicBezTo>
                <a:cubicBezTo>
                  <a:pt x="17764" y="17038"/>
                  <a:pt x="18370" y="16742"/>
                  <a:pt x="18950" y="16475"/>
                </a:cubicBezTo>
                <a:cubicBezTo>
                  <a:pt x="19253" y="16404"/>
                  <a:pt x="19632" y="16348"/>
                  <a:pt x="20010" y="16376"/>
                </a:cubicBezTo>
                <a:cubicBezTo>
                  <a:pt x="20313" y="16404"/>
                  <a:pt x="20591" y="16545"/>
                  <a:pt x="20692" y="16672"/>
                </a:cubicBezTo>
                <a:cubicBezTo>
                  <a:pt x="20969" y="17094"/>
                  <a:pt x="20843" y="17573"/>
                  <a:pt x="20767" y="17883"/>
                </a:cubicBezTo>
                <a:cubicBezTo>
                  <a:pt x="20591" y="18460"/>
                  <a:pt x="20313" y="18925"/>
                  <a:pt x="19733" y="19150"/>
                </a:cubicBezTo>
                <a:cubicBezTo>
                  <a:pt x="19001" y="19417"/>
                  <a:pt x="17563" y="19713"/>
                  <a:pt x="17563" y="19713"/>
                </a:cubicBezTo>
                <a:cubicBezTo>
                  <a:pt x="17563" y="19713"/>
                  <a:pt x="18320" y="20136"/>
                  <a:pt x="18496" y="20375"/>
                </a:cubicBezTo>
                <a:cubicBezTo>
                  <a:pt x="18774" y="20657"/>
                  <a:pt x="18824" y="21051"/>
                  <a:pt x="18496" y="21347"/>
                </a:cubicBezTo>
                <a:cubicBezTo>
                  <a:pt x="18244" y="21600"/>
                  <a:pt x="17714" y="21572"/>
                  <a:pt x="17209" y="21473"/>
                </a:cubicBezTo>
                <a:cubicBezTo>
                  <a:pt x="16806" y="21417"/>
                  <a:pt x="16377" y="21262"/>
                  <a:pt x="15897" y="21178"/>
                </a:cubicBezTo>
                <a:cubicBezTo>
                  <a:pt x="15569" y="21121"/>
                  <a:pt x="14156" y="21079"/>
                  <a:pt x="12718" y="20966"/>
                </a:cubicBezTo>
              </a:path>
            </a:pathLst>
          </a:custGeom>
          <a:solidFill>
            <a:srgbClr val="9999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5800" y="4402080"/>
            <a:ext cx="60120" cy="29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6770" y="13806"/>
                  <a:pt x="0" y="6870"/>
                  <a:pt x="4836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9840" y="4062240"/>
            <a:ext cx="217440" cy="33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689" y="13371"/>
                  <a:pt x="10667" y="64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57280" y="3881520"/>
            <a:ext cx="22248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646" y="14115"/>
                  <a:pt x="13817" y="673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79760" y="3581280"/>
            <a:ext cx="569880" cy="30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630" y="12454"/>
                  <a:pt x="14286" y="629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9640" y="3319560"/>
            <a:ext cx="873000" cy="26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814" y="11172"/>
                  <a:pt x="14207" y="484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22640" y="3166920"/>
            <a:ext cx="1152720" cy="15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082" y="10927"/>
                  <a:pt x="14333" y="355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75360" y="3152880"/>
            <a:ext cx="419040" cy="1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138" y="8100"/>
                  <a:pt x="14369" y="54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94400" y="3137040"/>
            <a:ext cx="525240" cy="1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471" y="14400"/>
                  <a:pt x="14905" y="0"/>
                  <a:pt x="21600" y="24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63840" y="6470640"/>
            <a:ext cx="152712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62" y="8006"/>
                </a:moveTo>
                <a:cubicBezTo>
                  <a:pt x="2620" y="9516"/>
                  <a:pt x="0" y="10768"/>
                  <a:pt x="0" y="10768"/>
                </a:cubicBezTo>
                <a:cubicBezTo>
                  <a:pt x="0" y="10768"/>
                  <a:pt x="3396" y="11458"/>
                  <a:pt x="5661" y="9300"/>
                </a:cubicBezTo>
                <a:cubicBezTo>
                  <a:pt x="6844" y="8157"/>
                  <a:pt x="8765" y="5222"/>
                  <a:pt x="10825" y="5869"/>
                </a:cubicBezTo>
                <a:cubicBezTo>
                  <a:pt x="11016" y="5912"/>
                  <a:pt x="12161" y="6603"/>
                  <a:pt x="13077" y="7790"/>
                </a:cubicBezTo>
                <a:cubicBezTo>
                  <a:pt x="16575" y="12300"/>
                  <a:pt x="19056" y="18730"/>
                  <a:pt x="20786" y="20694"/>
                </a:cubicBezTo>
                <a:cubicBezTo>
                  <a:pt x="21600" y="21600"/>
                  <a:pt x="19145" y="18061"/>
                  <a:pt x="17644" y="13422"/>
                </a:cubicBezTo>
                <a:cubicBezTo>
                  <a:pt x="17110" y="11760"/>
                  <a:pt x="16919" y="9861"/>
                  <a:pt x="16003" y="7790"/>
                </a:cubicBezTo>
                <a:cubicBezTo>
                  <a:pt x="15036" y="5610"/>
                  <a:pt x="13179" y="4273"/>
                  <a:pt x="12835" y="4100"/>
                </a:cubicBezTo>
                <a:cubicBezTo>
                  <a:pt x="12327" y="3863"/>
                  <a:pt x="11830" y="3258"/>
                  <a:pt x="11614" y="2676"/>
                </a:cubicBezTo>
                <a:cubicBezTo>
                  <a:pt x="11411" y="2115"/>
                  <a:pt x="11996" y="539"/>
                  <a:pt x="11996" y="539"/>
                </a:cubicBezTo>
                <a:cubicBezTo>
                  <a:pt x="11996" y="539"/>
                  <a:pt x="10266" y="1079"/>
                  <a:pt x="9413" y="906"/>
                </a:cubicBezTo>
                <a:cubicBezTo>
                  <a:pt x="8548" y="712"/>
                  <a:pt x="7734" y="0"/>
                  <a:pt x="6946" y="345"/>
                </a:cubicBezTo>
                <a:cubicBezTo>
                  <a:pt x="6322" y="669"/>
                  <a:pt x="5966" y="1856"/>
                  <a:pt x="6322" y="2589"/>
                </a:cubicBezTo>
                <a:cubicBezTo>
                  <a:pt x="6869" y="3668"/>
                  <a:pt x="8854" y="2848"/>
                  <a:pt x="8854" y="2848"/>
                </a:cubicBezTo>
                <a:cubicBezTo>
                  <a:pt x="8854" y="2848"/>
                  <a:pt x="8027" y="4510"/>
                  <a:pt x="6882" y="4596"/>
                </a:cubicBezTo>
                <a:cubicBezTo>
                  <a:pt x="6106" y="4704"/>
                  <a:pt x="5330" y="4445"/>
                  <a:pt x="4719" y="5093"/>
                </a:cubicBezTo>
                <a:cubicBezTo>
                  <a:pt x="4338" y="5502"/>
                  <a:pt x="4147" y="7056"/>
                  <a:pt x="3562" y="8006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960" y="1568520"/>
            <a:ext cx="5395680" cy="9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84" y="21324"/>
                </a:moveTo>
                <a:cubicBezTo>
                  <a:pt x="14862" y="21363"/>
                  <a:pt x="15306" y="21245"/>
                  <a:pt x="15637" y="21245"/>
                </a:cubicBezTo>
                <a:cubicBezTo>
                  <a:pt x="16253" y="21245"/>
                  <a:pt x="16866" y="21186"/>
                  <a:pt x="17467" y="21146"/>
                </a:cubicBezTo>
                <a:cubicBezTo>
                  <a:pt x="17684" y="21146"/>
                  <a:pt x="17893" y="21146"/>
                  <a:pt x="18091" y="21245"/>
                </a:cubicBezTo>
                <a:cubicBezTo>
                  <a:pt x="18199" y="21403"/>
                  <a:pt x="18303" y="21580"/>
                  <a:pt x="18408" y="21580"/>
                </a:cubicBezTo>
                <a:cubicBezTo>
                  <a:pt x="18570" y="21580"/>
                  <a:pt x="18728" y="21008"/>
                  <a:pt x="18894" y="21008"/>
                </a:cubicBezTo>
                <a:cubicBezTo>
                  <a:pt x="19049" y="21008"/>
                  <a:pt x="19197" y="21541"/>
                  <a:pt x="19330" y="21501"/>
                </a:cubicBezTo>
                <a:cubicBezTo>
                  <a:pt x="19528" y="21403"/>
                  <a:pt x="19662" y="20614"/>
                  <a:pt x="19827" y="20495"/>
                </a:cubicBezTo>
                <a:cubicBezTo>
                  <a:pt x="20080" y="20278"/>
                  <a:pt x="20332" y="21107"/>
                  <a:pt x="20588" y="21363"/>
                </a:cubicBezTo>
                <a:cubicBezTo>
                  <a:pt x="20847" y="21600"/>
                  <a:pt x="21114" y="21107"/>
                  <a:pt x="21341" y="21146"/>
                </a:cubicBezTo>
                <a:cubicBezTo>
                  <a:pt x="21431" y="21146"/>
                  <a:pt x="21600" y="21186"/>
                  <a:pt x="21600" y="21186"/>
                </a:cubicBezTo>
                <a:cubicBezTo>
                  <a:pt x="21600" y="21186"/>
                  <a:pt x="21600" y="16156"/>
                  <a:pt x="21600" y="16156"/>
                </a:cubicBezTo>
                <a:cubicBezTo>
                  <a:pt x="21600" y="16156"/>
                  <a:pt x="21114" y="15386"/>
                  <a:pt x="20908" y="14735"/>
                </a:cubicBezTo>
                <a:cubicBezTo>
                  <a:pt x="20840" y="14518"/>
                  <a:pt x="20782" y="14104"/>
                  <a:pt x="20656" y="13512"/>
                </a:cubicBezTo>
                <a:cubicBezTo>
                  <a:pt x="20519" y="12960"/>
                  <a:pt x="20335" y="13355"/>
                  <a:pt x="20155" y="13138"/>
                </a:cubicBezTo>
                <a:cubicBezTo>
                  <a:pt x="20007" y="12999"/>
                  <a:pt x="19889" y="12270"/>
                  <a:pt x="19737" y="11855"/>
                </a:cubicBezTo>
                <a:cubicBezTo>
                  <a:pt x="19586" y="11441"/>
                  <a:pt x="19420" y="11224"/>
                  <a:pt x="19269" y="10849"/>
                </a:cubicBezTo>
                <a:cubicBezTo>
                  <a:pt x="19027" y="10218"/>
                  <a:pt x="18782" y="9567"/>
                  <a:pt x="18545" y="8936"/>
                </a:cubicBezTo>
                <a:cubicBezTo>
                  <a:pt x="18159" y="7930"/>
                  <a:pt x="17763" y="6963"/>
                  <a:pt x="17374" y="5957"/>
                </a:cubicBezTo>
                <a:cubicBezTo>
                  <a:pt x="17121" y="5306"/>
                  <a:pt x="16866" y="4596"/>
                  <a:pt x="16613" y="3886"/>
                </a:cubicBezTo>
                <a:cubicBezTo>
                  <a:pt x="16203" y="2979"/>
                  <a:pt x="15839" y="2268"/>
                  <a:pt x="15493" y="1302"/>
                </a:cubicBezTo>
                <a:cubicBezTo>
                  <a:pt x="15334" y="848"/>
                  <a:pt x="15208" y="335"/>
                  <a:pt x="15075" y="197"/>
                </a:cubicBezTo>
                <a:cubicBezTo>
                  <a:pt x="14927" y="0"/>
                  <a:pt x="14776" y="197"/>
                  <a:pt x="14643" y="513"/>
                </a:cubicBezTo>
                <a:cubicBezTo>
                  <a:pt x="14315" y="1243"/>
                  <a:pt x="13994" y="2308"/>
                  <a:pt x="13684" y="3235"/>
                </a:cubicBezTo>
                <a:cubicBezTo>
                  <a:pt x="13382" y="4103"/>
                  <a:pt x="13072" y="4715"/>
                  <a:pt x="12755" y="4932"/>
                </a:cubicBezTo>
                <a:cubicBezTo>
                  <a:pt x="12614" y="5010"/>
                  <a:pt x="12470" y="4932"/>
                  <a:pt x="12329" y="4754"/>
                </a:cubicBezTo>
                <a:cubicBezTo>
                  <a:pt x="12203" y="4636"/>
                  <a:pt x="12074" y="4557"/>
                  <a:pt x="11955" y="4399"/>
                </a:cubicBezTo>
                <a:cubicBezTo>
                  <a:pt x="11807" y="4221"/>
                  <a:pt x="11739" y="4182"/>
                  <a:pt x="11670" y="4103"/>
                </a:cubicBezTo>
                <a:cubicBezTo>
                  <a:pt x="11519" y="3847"/>
                  <a:pt x="11443" y="3235"/>
                  <a:pt x="11328" y="3018"/>
                </a:cubicBezTo>
                <a:cubicBezTo>
                  <a:pt x="11227" y="2801"/>
                  <a:pt x="11122" y="2979"/>
                  <a:pt x="11025" y="3235"/>
                </a:cubicBezTo>
                <a:cubicBezTo>
                  <a:pt x="10795" y="3807"/>
                  <a:pt x="10225" y="5642"/>
                  <a:pt x="10225" y="5642"/>
                </a:cubicBezTo>
                <a:cubicBezTo>
                  <a:pt x="10225" y="5642"/>
                  <a:pt x="9811" y="6549"/>
                  <a:pt x="9616" y="7239"/>
                </a:cubicBezTo>
                <a:cubicBezTo>
                  <a:pt x="9411" y="7890"/>
                  <a:pt x="9090" y="9212"/>
                  <a:pt x="8744" y="10317"/>
                </a:cubicBezTo>
                <a:cubicBezTo>
                  <a:pt x="8435" y="11264"/>
                  <a:pt x="8064" y="12171"/>
                  <a:pt x="7689" y="13019"/>
                </a:cubicBezTo>
                <a:cubicBezTo>
                  <a:pt x="7361" y="13729"/>
                  <a:pt x="7033" y="14361"/>
                  <a:pt x="6709" y="15071"/>
                </a:cubicBezTo>
                <a:cubicBezTo>
                  <a:pt x="6446" y="15623"/>
                  <a:pt x="6179" y="16156"/>
                  <a:pt x="5956" y="16925"/>
                </a:cubicBezTo>
                <a:cubicBezTo>
                  <a:pt x="5772" y="17576"/>
                  <a:pt x="5603" y="18069"/>
                  <a:pt x="5419" y="18266"/>
                </a:cubicBezTo>
                <a:cubicBezTo>
                  <a:pt x="5268" y="18444"/>
                  <a:pt x="5131" y="18227"/>
                  <a:pt x="4969" y="18227"/>
                </a:cubicBezTo>
                <a:cubicBezTo>
                  <a:pt x="4853" y="18227"/>
                  <a:pt x="4716" y="18444"/>
                  <a:pt x="4605" y="18444"/>
                </a:cubicBezTo>
                <a:cubicBezTo>
                  <a:pt x="4360" y="18444"/>
                  <a:pt x="4071" y="18227"/>
                  <a:pt x="3790" y="18227"/>
                </a:cubicBezTo>
                <a:cubicBezTo>
                  <a:pt x="3589" y="18227"/>
                  <a:pt x="3380" y="18404"/>
                  <a:pt x="3174" y="18345"/>
                </a:cubicBezTo>
                <a:cubicBezTo>
                  <a:pt x="2958" y="18325"/>
                  <a:pt x="2756" y="18108"/>
                  <a:pt x="2540" y="18069"/>
                </a:cubicBezTo>
                <a:cubicBezTo>
                  <a:pt x="2382" y="18069"/>
                  <a:pt x="2180" y="18325"/>
                  <a:pt x="1985" y="18325"/>
                </a:cubicBezTo>
                <a:cubicBezTo>
                  <a:pt x="1827" y="18325"/>
                  <a:pt x="1665" y="18108"/>
                  <a:pt x="1502" y="17951"/>
                </a:cubicBezTo>
                <a:cubicBezTo>
                  <a:pt x="1405" y="17892"/>
                  <a:pt x="1301" y="17655"/>
                  <a:pt x="1207" y="17813"/>
                </a:cubicBezTo>
                <a:cubicBezTo>
                  <a:pt x="1124" y="17951"/>
                  <a:pt x="1092" y="18582"/>
                  <a:pt x="1002" y="18681"/>
                </a:cubicBezTo>
                <a:cubicBezTo>
                  <a:pt x="926" y="18779"/>
                  <a:pt x="868" y="18345"/>
                  <a:pt x="800" y="18227"/>
                </a:cubicBezTo>
                <a:cubicBezTo>
                  <a:pt x="710" y="18069"/>
                  <a:pt x="616" y="17892"/>
                  <a:pt x="515" y="17892"/>
                </a:cubicBezTo>
                <a:cubicBezTo>
                  <a:pt x="346" y="17892"/>
                  <a:pt x="0" y="18404"/>
                  <a:pt x="0" y="18404"/>
                </a:cubicBezTo>
                <a:cubicBezTo>
                  <a:pt x="0" y="18404"/>
                  <a:pt x="0" y="21462"/>
                  <a:pt x="0" y="21462"/>
                </a:cubicBezTo>
                <a:cubicBezTo>
                  <a:pt x="0" y="21462"/>
                  <a:pt x="584" y="20870"/>
                  <a:pt x="883" y="20910"/>
                </a:cubicBezTo>
                <a:cubicBezTo>
                  <a:pt x="1056" y="20910"/>
                  <a:pt x="1301" y="21028"/>
                  <a:pt x="1535" y="21048"/>
                </a:cubicBezTo>
                <a:cubicBezTo>
                  <a:pt x="1852" y="21146"/>
                  <a:pt x="2068" y="21245"/>
                  <a:pt x="2281" y="21186"/>
                </a:cubicBezTo>
                <a:cubicBezTo>
                  <a:pt x="2688" y="21107"/>
                  <a:pt x="3073" y="21008"/>
                  <a:pt x="3466" y="20811"/>
                </a:cubicBezTo>
                <a:cubicBezTo>
                  <a:pt x="4262" y="20495"/>
                  <a:pt x="5913" y="20693"/>
                  <a:pt x="5913" y="20693"/>
                </a:cubicBezTo>
                <a:cubicBezTo>
                  <a:pt x="5913" y="20693"/>
                  <a:pt x="6648" y="21107"/>
                  <a:pt x="7001" y="21146"/>
                </a:cubicBezTo>
                <a:cubicBezTo>
                  <a:pt x="7253" y="21186"/>
                  <a:pt x="7534" y="20732"/>
                  <a:pt x="7779" y="20653"/>
                </a:cubicBezTo>
                <a:cubicBezTo>
                  <a:pt x="8024" y="20614"/>
                  <a:pt x="8226" y="21008"/>
                  <a:pt x="8435" y="20811"/>
                </a:cubicBezTo>
                <a:cubicBezTo>
                  <a:pt x="8597" y="20693"/>
                  <a:pt x="8737" y="20278"/>
                  <a:pt x="8896" y="20140"/>
                </a:cubicBezTo>
                <a:cubicBezTo>
                  <a:pt x="9278" y="19825"/>
                  <a:pt x="9652" y="20180"/>
                  <a:pt x="10024" y="20693"/>
                </a:cubicBezTo>
                <a:cubicBezTo>
                  <a:pt x="10164" y="20870"/>
                  <a:pt x="10308" y="21324"/>
                  <a:pt x="10460" y="21284"/>
                </a:cubicBezTo>
                <a:cubicBezTo>
                  <a:pt x="10625" y="21245"/>
                  <a:pt x="10867" y="21245"/>
                  <a:pt x="11086" y="20910"/>
                </a:cubicBezTo>
                <a:cubicBezTo>
                  <a:pt x="11299" y="20574"/>
                  <a:pt x="11551" y="20614"/>
                  <a:pt x="11800" y="20653"/>
                </a:cubicBezTo>
                <a:cubicBezTo>
                  <a:pt x="12063" y="20693"/>
                  <a:pt x="12319" y="20732"/>
                  <a:pt x="12614" y="20732"/>
                </a:cubicBezTo>
                <a:cubicBezTo>
                  <a:pt x="12928" y="20732"/>
                  <a:pt x="13248" y="20574"/>
                  <a:pt x="13648" y="20653"/>
                </a:cubicBezTo>
                <a:cubicBezTo>
                  <a:pt x="13951" y="20693"/>
                  <a:pt x="14207" y="21284"/>
                  <a:pt x="14484" y="21324"/>
                </a:cubicBezTo>
              </a:path>
            </a:pathLst>
          </a:custGeom>
          <a:solidFill>
            <a:srgbClr val="9999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2240" y="1604880"/>
            <a:ext cx="2816280" cy="87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" y="21489"/>
                </a:moveTo>
                <a:cubicBezTo>
                  <a:pt x="0" y="21489"/>
                  <a:pt x="104" y="21533"/>
                  <a:pt x="131" y="21489"/>
                </a:cubicBezTo>
                <a:cubicBezTo>
                  <a:pt x="580" y="21112"/>
                  <a:pt x="1043" y="20867"/>
                  <a:pt x="1478" y="20312"/>
                </a:cubicBezTo>
                <a:cubicBezTo>
                  <a:pt x="1782" y="19957"/>
                  <a:pt x="2438" y="19291"/>
                  <a:pt x="2997" y="18137"/>
                </a:cubicBezTo>
                <a:cubicBezTo>
                  <a:pt x="3225" y="17693"/>
                  <a:pt x="3791" y="16983"/>
                  <a:pt x="4364" y="16228"/>
                </a:cubicBezTo>
                <a:cubicBezTo>
                  <a:pt x="4854" y="15584"/>
                  <a:pt x="5352" y="14785"/>
                  <a:pt x="6028" y="13941"/>
                </a:cubicBezTo>
                <a:cubicBezTo>
                  <a:pt x="6408" y="13453"/>
                  <a:pt x="6802" y="12898"/>
                  <a:pt x="7161" y="12298"/>
                </a:cubicBezTo>
                <a:cubicBezTo>
                  <a:pt x="7769" y="11255"/>
                  <a:pt x="8328" y="10056"/>
                  <a:pt x="8922" y="8946"/>
                </a:cubicBezTo>
                <a:cubicBezTo>
                  <a:pt x="9253" y="8325"/>
                  <a:pt x="9529" y="7170"/>
                  <a:pt x="9923" y="6882"/>
                </a:cubicBezTo>
                <a:cubicBezTo>
                  <a:pt x="10172" y="6726"/>
                  <a:pt x="10420" y="7037"/>
                  <a:pt x="10634" y="6771"/>
                </a:cubicBezTo>
                <a:cubicBezTo>
                  <a:pt x="11007" y="6416"/>
                  <a:pt x="11235" y="5195"/>
                  <a:pt x="11608" y="4817"/>
                </a:cubicBezTo>
                <a:cubicBezTo>
                  <a:pt x="11946" y="4506"/>
                  <a:pt x="12333" y="4440"/>
                  <a:pt x="12678" y="4728"/>
                </a:cubicBezTo>
                <a:cubicBezTo>
                  <a:pt x="13203" y="5172"/>
                  <a:pt x="13624" y="6726"/>
                  <a:pt x="14170" y="6882"/>
                </a:cubicBezTo>
                <a:cubicBezTo>
                  <a:pt x="14425" y="6993"/>
                  <a:pt x="14681" y="6371"/>
                  <a:pt x="14943" y="6149"/>
                </a:cubicBezTo>
                <a:cubicBezTo>
                  <a:pt x="15440" y="5683"/>
                  <a:pt x="15951" y="5394"/>
                  <a:pt x="16442" y="4817"/>
                </a:cubicBezTo>
                <a:cubicBezTo>
                  <a:pt x="16649" y="4595"/>
                  <a:pt x="16856" y="4151"/>
                  <a:pt x="17029" y="3729"/>
                </a:cubicBezTo>
                <a:cubicBezTo>
                  <a:pt x="17194" y="3330"/>
                  <a:pt x="17291" y="2664"/>
                  <a:pt x="17471" y="2353"/>
                </a:cubicBezTo>
                <a:cubicBezTo>
                  <a:pt x="17616" y="2042"/>
                  <a:pt x="17823" y="2353"/>
                  <a:pt x="17961" y="1998"/>
                </a:cubicBezTo>
                <a:cubicBezTo>
                  <a:pt x="18113" y="1687"/>
                  <a:pt x="18092" y="888"/>
                  <a:pt x="18244" y="599"/>
                </a:cubicBezTo>
                <a:cubicBezTo>
                  <a:pt x="18472" y="178"/>
                  <a:pt x="18776" y="333"/>
                  <a:pt x="19038" y="178"/>
                </a:cubicBezTo>
                <a:cubicBezTo>
                  <a:pt x="19149" y="133"/>
                  <a:pt x="19245" y="0"/>
                  <a:pt x="19356" y="67"/>
                </a:cubicBezTo>
                <a:cubicBezTo>
                  <a:pt x="19501" y="244"/>
                  <a:pt x="19611" y="888"/>
                  <a:pt x="19805" y="1221"/>
                </a:cubicBezTo>
                <a:cubicBezTo>
                  <a:pt x="20682" y="2731"/>
                  <a:pt x="21600" y="2908"/>
                  <a:pt x="21496" y="4395"/>
                </a:cubicBezTo>
                <a:cubicBezTo>
                  <a:pt x="21310" y="7037"/>
                  <a:pt x="19832" y="5061"/>
                  <a:pt x="19038" y="5905"/>
                </a:cubicBezTo>
                <a:cubicBezTo>
                  <a:pt x="17995" y="7037"/>
                  <a:pt x="17118" y="9857"/>
                  <a:pt x="16027" y="10389"/>
                </a:cubicBezTo>
                <a:cubicBezTo>
                  <a:pt x="14646" y="11033"/>
                  <a:pt x="13238" y="8414"/>
                  <a:pt x="11877" y="9390"/>
                </a:cubicBezTo>
                <a:cubicBezTo>
                  <a:pt x="9750" y="10833"/>
                  <a:pt x="7831" y="14740"/>
                  <a:pt x="5828" y="17404"/>
                </a:cubicBezTo>
                <a:cubicBezTo>
                  <a:pt x="4944" y="18581"/>
                  <a:pt x="4116" y="20157"/>
                  <a:pt x="3190" y="20823"/>
                </a:cubicBezTo>
                <a:cubicBezTo>
                  <a:pt x="2161" y="21600"/>
                  <a:pt x="1077" y="21245"/>
                  <a:pt x="28" y="21489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5040" y="1650960"/>
            <a:ext cx="2992320" cy="90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3" y="18545"/>
                </a:moveTo>
                <a:cubicBezTo>
                  <a:pt x="0" y="17797"/>
                  <a:pt x="1267" y="17391"/>
                  <a:pt x="1637" y="16558"/>
                </a:cubicBezTo>
                <a:cubicBezTo>
                  <a:pt x="2196" y="15233"/>
                  <a:pt x="2592" y="13332"/>
                  <a:pt x="3177" y="12093"/>
                </a:cubicBezTo>
                <a:cubicBezTo>
                  <a:pt x="3553" y="11195"/>
                  <a:pt x="4008" y="10255"/>
                  <a:pt x="4476" y="10362"/>
                </a:cubicBezTo>
                <a:cubicBezTo>
                  <a:pt x="4807" y="10447"/>
                  <a:pt x="5119" y="11345"/>
                  <a:pt x="5210" y="12520"/>
                </a:cubicBezTo>
                <a:cubicBezTo>
                  <a:pt x="5307" y="13780"/>
                  <a:pt x="5139" y="15148"/>
                  <a:pt x="5379" y="14913"/>
                </a:cubicBezTo>
                <a:cubicBezTo>
                  <a:pt x="5847" y="14400"/>
                  <a:pt x="6204" y="12969"/>
                  <a:pt x="6386" y="11302"/>
                </a:cubicBezTo>
                <a:cubicBezTo>
                  <a:pt x="6464" y="10661"/>
                  <a:pt x="6477" y="9892"/>
                  <a:pt x="6496" y="9230"/>
                </a:cubicBezTo>
                <a:cubicBezTo>
                  <a:pt x="6542" y="8290"/>
                  <a:pt x="6464" y="7243"/>
                  <a:pt x="6594" y="6431"/>
                </a:cubicBezTo>
                <a:cubicBezTo>
                  <a:pt x="6685" y="5833"/>
                  <a:pt x="6931" y="5512"/>
                  <a:pt x="7146" y="5405"/>
                </a:cubicBezTo>
                <a:cubicBezTo>
                  <a:pt x="7562" y="5149"/>
                  <a:pt x="8029" y="5704"/>
                  <a:pt x="8445" y="5405"/>
                </a:cubicBezTo>
                <a:cubicBezTo>
                  <a:pt x="8627" y="5256"/>
                  <a:pt x="8718" y="4508"/>
                  <a:pt x="8874" y="4166"/>
                </a:cubicBezTo>
                <a:cubicBezTo>
                  <a:pt x="9036" y="3782"/>
                  <a:pt x="9212" y="3397"/>
                  <a:pt x="9400" y="3141"/>
                </a:cubicBezTo>
                <a:cubicBezTo>
                  <a:pt x="9653" y="2735"/>
                  <a:pt x="9946" y="2585"/>
                  <a:pt x="10199" y="2179"/>
                </a:cubicBezTo>
                <a:cubicBezTo>
                  <a:pt x="10368" y="1944"/>
                  <a:pt x="10511" y="1496"/>
                  <a:pt x="10667" y="1218"/>
                </a:cubicBezTo>
                <a:cubicBezTo>
                  <a:pt x="10888" y="855"/>
                  <a:pt x="11128" y="684"/>
                  <a:pt x="11349" y="363"/>
                </a:cubicBezTo>
                <a:cubicBezTo>
                  <a:pt x="11388" y="299"/>
                  <a:pt x="11414" y="0"/>
                  <a:pt x="11446" y="43"/>
                </a:cubicBezTo>
                <a:cubicBezTo>
                  <a:pt x="12245" y="1282"/>
                  <a:pt x="12999" y="2777"/>
                  <a:pt x="13772" y="4081"/>
                </a:cubicBezTo>
                <a:cubicBezTo>
                  <a:pt x="14552" y="5363"/>
                  <a:pt x="15338" y="6495"/>
                  <a:pt x="16104" y="7777"/>
                </a:cubicBezTo>
                <a:cubicBezTo>
                  <a:pt x="16767" y="8824"/>
                  <a:pt x="17397" y="9721"/>
                  <a:pt x="17923" y="11110"/>
                </a:cubicBezTo>
                <a:cubicBezTo>
                  <a:pt x="18267" y="12028"/>
                  <a:pt x="18508" y="13289"/>
                  <a:pt x="18722" y="12648"/>
                </a:cubicBezTo>
                <a:cubicBezTo>
                  <a:pt x="18924" y="12093"/>
                  <a:pt x="18086" y="10405"/>
                  <a:pt x="18086" y="10405"/>
                </a:cubicBezTo>
                <a:cubicBezTo>
                  <a:pt x="18086" y="10405"/>
                  <a:pt x="18904" y="11238"/>
                  <a:pt x="19294" y="11879"/>
                </a:cubicBezTo>
                <a:cubicBezTo>
                  <a:pt x="19885" y="12883"/>
                  <a:pt x="20307" y="14464"/>
                  <a:pt x="20827" y="15361"/>
                </a:cubicBezTo>
                <a:cubicBezTo>
                  <a:pt x="21269" y="16152"/>
                  <a:pt x="21600" y="16088"/>
                  <a:pt x="21581" y="16643"/>
                </a:cubicBezTo>
                <a:cubicBezTo>
                  <a:pt x="21522" y="20425"/>
                  <a:pt x="19885" y="19656"/>
                  <a:pt x="18254" y="19570"/>
                </a:cubicBezTo>
                <a:cubicBezTo>
                  <a:pt x="17468" y="19528"/>
                  <a:pt x="16676" y="19656"/>
                  <a:pt x="15890" y="19869"/>
                </a:cubicBezTo>
                <a:cubicBezTo>
                  <a:pt x="14682" y="20254"/>
                  <a:pt x="13402" y="21600"/>
                  <a:pt x="12258" y="20339"/>
                </a:cubicBezTo>
                <a:cubicBezTo>
                  <a:pt x="11869" y="19869"/>
                  <a:pt x="11576" y="18758"/>
                  <a:pt x="11193" y="18075"/>
                </a:cubicBezTo>
                <a:cubicBezTo>
                  <a:pt x="10478" y="16814"/>
                  <a:pt x="9640" y="16387"/>
                  <a:pt x="8815" y="16195"/>
                </a:cubicBezTo>
                <a:cubicBezTo>
                  <a:pt x="8075" y="15960"/>
                  <a:pt x="7321" y="15917"/>
                  <a:pt x="6568" y="15853"/>
                </a:cubicBezTo>
                <a:cubicBezTo>
                  <a:pt x="5756" y="15767"/>
                  <a:pt x="4976" y="15853"/>
                  <a:pt x="4223" y="16323"/>
                </a:cubicBezTo>
                <a:cubicBezTo>
                  <a:pt x="3586" y="16729"/>
                  <a:pt x="2956" y="17242"/>
                  <a:pt x="2365" y="17840"/>
                </a:cubicBezTo>
                <a:cubicBezTo>
                  <a:pt x="1663" y="18609"/>
                  <a:pt x="981" y="19570"/>
                  <a:pt x="403" y="18545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2320" y="1938240"/>
            <a:ext cx="168588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30"/>
                </a:moveTo>
                <a:cubicBezTo>
                  <a:pt x="21600" y="2130"/>
                  <a:pt x="21531" y="4715"/>
                  <a:pt x="21404" y="4715"/>
                </a:cubicBezTo>
                <a:cubicBezTo>
                  <a:pt x="21197" y="4715"/>
                  <a:pt x="21012" y="2130"/>
                  <a:pt x="20828" y="1369"/>
                </a:cubicBezTo>
                <a:cubicBezTo>
                  <a:pt x="20551" y="761"/>
                  <a:pt x="20263" y="2586"/>
                  <a:pt x="19779" y="2130"/>
                </a:cubicBezTo>
                <a:cubicBezTo>
                  <a:pt x="19237" y="1825"/>
                  <a:pt x="18523" y="0"/>
                  <a:pt x="18338" y="0"/>
                </a:cubicBezTo>
                <a:cubicBezTo>
                  <a:pt x="17670" y="0"/>
                  <a:pt x="17001" y="1065"/>
                  <a:pt x="16309" y="1217"/>
                </a:cubicBezTo>
                <a:cubicBezTo>
                  <a:pt x="15779" y="1369"/>
                  <a:pt x="15238" y="2130"/>
                  <a:pt x="14892" y="3499"/>
                </a:cubicBezTo>
                <a:cubicBezTo>
                  <a:pt x="14569" y="4563"/>
                  <a:pt x="13854" y="5476"/>
                  <a:pt x="13854" y="5476"/>
                </a:cubicBezTo>
                <a:cubicBezTo>
                  <a:pt x="13854" y="5476"/>
                  <a:pt x="13658" y="6693"/>
                  <a:pt x="13566" y="6693"/>
                </a:cubicBezTo>
                <a:cubicBezTo>
                  <a:pt x="13336" y="6693"/>
                  <a:pt x="13094" y="4563"/>
                  <a:pt x="12748" y="3499"/>
                </a:cubicBezTo>
                <a:cubicBezTo>
                  <a:pt x="12345" y="2130"/>
                  <a:pt x="11895" y="2130"/>
                  <a:pt x="11492" y="2130"/>
                </a:cubicBezTo>
                <a:cubicBezTo>
                  <a:pt x="10131" y="2130"/>
                  <a:pt x="8760" y="2130"/>
                  <a:pt x="7400" y="2130"/>
                </a:cubicBezTo>
                <a:cubicBezTo>
                  <a:pt x="5982" y="2130"/>
                  <a:pt x="4576" y="2586"/>
                  <a:pt x="3481" y="2890"/>
                </a:cubicBezTo>
                <a:cubicBezTo>
                  <a:pt x="2340" y="3194"/>
                  <a:pt x="0" y="4107"/>
                  <a:pt x="0" y="4107"/>
                </a:cubicBezTo>
                <a:cubicBezTo>
                  <a:pt x="0" y="4107"/>
                  <a:pt x="1844" y="6389"/>
                  <a:pt x="2720" y="6997"/>
                </a:cubicBezTo>
                <a:cubicBezTo>
                  <a:pt x="3619" y="7758"/>
                  <a:pt x="4415" y="6997"/>
                  <a:pt x="5152" y="6997"/>
                </a:cubicBezTo>
                <a:cubicBezTo>
                  <a:pt x="6005" y="6997"/>
                  <a:pt x="6881" y="7758"/>
                  <a:pt x="7734" y="7454"/>
                </a:cubicBezTo>
                <a:cubicBezTo>
                  <a:pt x="8714" y="6997"/>
                  <a:pt x="9786" y="8366"/>
                  <a:pt x="10742" y="8823"/>
                </a:cubicBezTo>
                <a:cubicBezTo>
                  <a:pt x="11319" y="9279"/>
                  <a:pt x="11930" y="11256"/>
                  <a:pt x="12264" y="11256"/>
                </a:cubicBezTo>
                <a:cubicBezTo>
                  <a:pt x="13001" y="11256"/>
                  <a:pt x="13762" y="14146"/>
                  <a:pt x="14096" y="13082"/>
                </a:cubicBezTo>
                <a:cubicBezTo>
                  <a:pt x="14454" y="12169"/>
                  <a:pt x="14857" y="12169"/>
                  <a:pt x="15272" y="12017"/>
                </a:cubicBezTo>
                <a:cubicBezTo>
                  <a:pt x="15929" y="11561"/>
                  <a:pt x="16598" y="12017"/>
                  <a:pt x="17358" y="11256"/>
                </a:cubicBezTo>
                <a:cubicBezTo>
                  <a:pt x="17704" y="10800"/>
                  <a:pt x="18073" y="10496"/>
                  <a:pt x="18384" y="10344"/>
                </a:cubicBezTo>
                <a:cubicBezTo>
                  <a:pt x="18626" y="10344"/>
                  <a:pt x="18868" y="9887"/>
                  <a:pt x="19041" y="9887"/>
                </a:cubicBezTo>
                <a:cubicBezTo>
                  <a:pt x="19283" y="9887"/>
                  <a:pt x="19468" y="10496"/>
                  <a:pt x="19433" y="12017"/>
                </a:cubicBezTo>
                <a:cubicBezTo>
                  <a:pt x="19375" y="14907"/>
                  <a:pt x="18972" y="14146"/>
                  <a:pt x="18707" y="14451"/>
                </a:cubicBezTo>
                <a:cubicBezTo>
                  <a:pt x="18280" y="15059"/>
                  <a:pt x="17451" y="19014"/>
                  <a:pt x="17451" y="19014"/>
                </a:cubicBezTo>
                <a:cubicBezTo>
                  <a:pt x="17451" y="19014"/>
                  <a:pt x="17912" y="18254"/>
                  <a:pt x="18580" y="19014"/>
                </a:cubicBezTo>
                <a:cubicBezTo>
                  <a:pt x="18845" y="19318"/>
                  <a:pt x="19087" y="21600"/>
                  <a:pt x="19375" y="21600"/>
                </a:cubicBezTo>
                <a:cubicBezTo>
                  <a:pt x="19675" y="21600"/>
                  <a:pt x="19975" y="19775"/>
                  <a:pt x="20286" y="18710"/>
                </a:cubicBezTo>
                <a:cubicBezTo>
                  <a:pt x="20551" y="17645"/>
                  <a:pt x="20793" y="17189"/>
                  <a:pt x="21012" y="17189"/>
                </a:cubicBezTo>
                <a:cubicBezTo>
                  <a:pt x="21208" y="17949"/>
                  <a:pt x="21600" y="19014"/>
                  <a:pt x="21600" y="19014"/>
                </a:cubicBezTo>
                <a:cubicBezTo>
                  <a:pt x="21600" y="19014"/>
                  <a:pt x="21600" y="2130"/>
                  <a:pt x="21600" y="2130"/>
                </a:cubicBezTo>
              </a:path>
            </a:pathLst>
          </a:custGeom>
          <a:solidFill>
            <a:srgbClr val="e5e5e5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22760" y="1725480"/>
            <a:ext cx="592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11" y="20504"/>
                </a:moveTo>
                <a:cubicBezTo>
                  <a:pt x="18290" y="20035"/>
                  <a:pt x="17536" y="19252"/>
                  <a:pt x="16847" y="19252"/>
                </a:cubicBezTo>
                <a:cubicBezTo>
                  <a:pt x="16356" y="19252"/>
                  <a:pt x="15831" y="20035"/>
                  <a:pt x="15241" y="20817"/>
                </a:cubicBezTo>
                <a:cubicBezTo>
                  <a:pt x="14979" y="21130"/>
                  <a:pt x="14651" y="21600"/>
                  <a:pt x="14291" y="21600"/>
                </a:cubicBezTo>
                <a:cubicBezTo>
                  <a:pt x="13865" y="21130"/>
                  <a:pt x="13471" y="20817"/>
                  <a:pt x="13045" y="19722"/>
                </a:cubicBezTo>
                <a:cubicBezTo>
                  <a:pt x="12685" y="19252"/>
                  <a:pt x="12259" y="17843"/>
                  <a:pt x="11800" y="17217"/>
                </a:cubicBezTo>
                <a:cubicBezTo>
                  <a:pt x="11046" y="16122"/>
                  <a:pt x="10259" y="17530"/>
                  <a:pt x="9505" y="17217"/>
                </a:cubicBezTo>
                <a:cubicBezTo>
                  <a:pt x="8948" y="16904"/>
                  <a:pt x="8293" y="15652"/>
                  <a:pt x="7932" y="16435"/>
                </a:cubicBezTo>
                <a:cubicBezTo>
                  <a:pt x="7637" y="17217"/>
                  <a:pt x="7637" y="19252"/>
                  <a:pt x="7342" y="19722"/>
                </a:cubicBezTo>
                <a:cubicBezTo>
                  <a:pt x="7178" y="20504"/>
                  <a:pt x="6850" y="20504"/>
                  <a:pt x="6588" y="19722"/>
                </a:cubicBezTo>
                <a:cubicBezTo>
                  <a:pt x="6392" y="19565"/>
                  <a:pt x="6195" y="18157"/>
                  <a:pt x="5965" y="17530"/>
                </a:cubicBezTo>
                <a:cubicBezTo>
                  <a:pt x="5769" y="16904"/>
                  <a:pt x="5408" y="16904"/>
                  <a:pt x="5277" y="16122"/>
                </a:cubicBezTo>
                <a:cubicBezTo>
                  <a:pt x="5146" y="15652"/>
                  <a:pt x="5146" y="14243"/>
                  <a:pt x="4917" y="13461"/>
                </a:cubicBezTo>
                <a:cubicBezTo>
                  <a:pt x="4359" y="11896"/>
                  <a:pt x="3540" y="14713"/>
                  <a:pt x="2917" y="14870"/>
                </a:cubicBezTo>
                <a:cubicBezTo>
                  <a:pt x="2524" y="14870"/>
                  <a:pt x="1999" y="14243"/>
                  <a:pt x="1704" y="14713"/>
                </a:cubicBezTo>
                <a:cubicBezTo>
                  <a:pt x="983" y="14870"/>
                  <a:pt x="0" y="11896"/>
                  <a:pt x="0" y="11896"/>
                </a:cubicBezTo>
                <a:cubicBezTo>
                  <a:pt x="0" y="11896"/>
                  <a:pt x="918" y="11270"/>
                  <a:pt x="1344" y="10957"/>
                </a:cubicBezTo>
                <a:cubicBezTo>
                  <a:pt x="1704" y="10957"/>
                  <a:pt x="1999" y="11270"/>
                  <a:pt x="2360" y="11270"/>
                </a:cubicBezTo>
                <a:cubicBezTo>
                  <a:pt x="2786" y="11270"/>
                  <a:pt x="3310" y="9548"/>
                  <a:pt x="3704" y="8922"/>
                </a:cubicBezTo>
                <a:cubicBezTo>
                  <a:pt x="4917" y="7043"/>
                  <a:pt x="6392" y="5948"/>
                  <a:pt x="7178" y="5478"/>
                </a:cubicBezTo>
                <a:cubicBezTo>
                  <a:pt x="8096" y="5322"/>
                  <a:pt x="9079" y="5322"/>
                  <a:pt x="10128" y="5322"/>
                </a:cubicBezTo>
                <a:cubicBezTo>
                  <a:pt x="10718" y="5322"/>
                  <a:pt x="11374" y="5948"/>
                  <a:pt x="11931" y="5322"/>
                </a:cubicBezTo>
                <a:cubicBezTo>
                  <a:pt x="12422" y="4539"/>
                  <a:pt x="12717" y="3287"/>
                  <a:pt x="13242" y="2661"/>
                </a:cubicBezTo>
                <a:cubicBezTo>
                  <a:pt x="13865" y="1878"/>
                  <a:pt x="14553" y="2348"/>
                  <a:pt x="15471" y="1878"/>
                </a:cubicBezTo>
                <a:cubicBezTo>
                  <a:pt x="16126" y="1878"/>
                  <a:pt x="16913" y="1565"/>
                  <a:pt x="17601" y="1565"/>
                </a:cubicBezTo>
                <a:cubicBezTo>
                  <a:pt x="18060" y="1252"/>
                  <a:pt x="18519" y="626"/>
                  <a:pt x="18945" y="470"/>
                </a:cubicBezTo>
                <a:cubicBezTo>
                  <a:pt x="19502" y="0"/>
                  <a:pt x="20027" y="470"/>
                  <a:pt x="20584" y="626"/>
                </a:cubicBezTo>
                <a:cubicBezTo>
                  <a:pt x="20944" y="626"/>
                  <a:pt x="21600" y="0"/>
                  <a:pt x="21600" y="0"/>
                </a:cubicBezTo>
                <a:cubicBezTo>
                  <a:pt x="21600" y="0"/>
                  <a:pt x="21600" y="19722"/>
                  <a:pt x="21600" y="19722"/>
                </a:cubicBezTo>
                <a:cubicBezTo>
                  <a:pt x="21600" y="19722"/>
                  <a:pt x="19797" y="20817"/>
                  <a:pt x="19011" y="20504"/>
                </a:cubicBezTo>
              </a:path>
            </a:pathLst>
          </a:custGeom>
          <a:solidFill>
            <a:srgbClr val="e5e5e5"/>
          </a:solidFill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03240"/>
            <a:ext cx="45540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23" y="10537"/>
                </a:moveTo>
                <a:cubicBezTo>
                  <a:pt x="896" y="9746"/>
                  <a:pt x="0" y="9220"/>
                  <a:pt x="0" y="9220"/>
                </a:cubicBezTo>
                <a:cubicBezTo>
                  <a:pt x="0" y="9220"/>
                  <a:pt x="1579" y="7376"/>
                  <a:pt x="2391" y="6322"/>
                </a:cubicBezTo>
                <a:cubicBezTo>
                  <a:pt x="3287" y="4478"/>
                  <a:pt x="4183" y="2107"/>
                  <a:pt x="5165" y="1317"/>
                </a:cubicBezTo>
                <a:cubicBezTo>
                  <a:pt x="6190" y="0"/>
                  <a:pt x="7257" y="0"/>
                  <a:pt x="8281" y="1317"/>
                </a:cubicBezTo>
                <a:cubicBezTo>
                  <a:pt x="9007" y="2371"/>
                  <a:pt x="9775" y="5005"/>
                  <a:pt x="10501" y="5795"/>
                </a:cubicBezTo>
                <a:cubicBezTo>
                  <a:pt x="11867" y="6849"/>
                  <a:pt x="13276" y="3951"/>
                  <a:pt x="14471" y="3688"/>
                </a:cubicBezTo>
                <a:cubicBezTo>
                  <a:pt x="15325" y="2898"/>
                  <a:pt x="16221" y="3688"/>
                  <a:pt x="17032" y="3951"/>
                </a:cubicBezTo>
                <a:cubicBezTo>
                  <a:pt x="17630" y="4478"/>
                  <a:pt x="18313" y="4478"/>
                  <a:pt x="18911" y="5795"/>
                </a:cubicBezTo>
                <a:cubicBezTo>
                  <a:pt x="19807" y="6849"/>
                  <a:pt x="21600" y="9220"/>
                  <a:pt x="21600" y="9220"/>
                </a:cubicBezTo>
                <a:cubicBezTo>
                  <a:pt x="21600" y="9220"/>
                  <a:pt x="19508" y="10273"/>
                  <a:pt x="18569" y="11063"/>
                </a:cubicBezTo>
                <a:cubicBezTo>
                  <a:pt x="17758" y="12380"/>
                  <a:pt x="17032" y="16068"/>
                  <a:pt x="16221" y="16068"/>
                </a:cubicBezTo>
                <a:cubicBezTo>
                  <a:pt x="15538" y="16068"/>
                  <a:pt x="14941" y="13698"/>
                  <a:pt x="14343" y="14224"/>
                </a:cubicBezTo>
                <a:cubicBezTo>
                  <a:pt x="13788" y="14224"/>
                  <a:pt x="13319" y="16859"/>
                  <a:pt x="12806" y="17912"/>
                </a:cubicBezTo>
                <a:cubicBezTo>
                  <a:pt x="12081" y="18966"/>
                  <a:pt x="11312" y="17912"/>
                  <a:pt x="10629" y="16859"/>
                </a:cubicBezTo>
                <a:cubicBezTo>
                  <a:pt x="10245" y="16068"/>
                  <a:pt x="9775" y="14224"/>
                  <a:pt x="9349" y="14224"/>
                </a:cubicBezTo>
                <a:cubicBezTo>
                  <a:pt x="8538" y="14224"/>
                  <a:pt x="7726" y="17912"/>
                  <a:pt x="6830" y="19493"/>
                </a:cubicBezTo>
                <a:cubicBezTo>
                  <a:pt x="5934" y="21600"/>
                  <a:pt x="5037" y="18966"/>
                  <a:pt x="4098" y="17385"/>
                </a:cubicBezTo>
                <a:cubicBezTo>
                  <a:pt x="3202" y="15805"/>
                  <a:pt x="2305" y="12380"/>
                  <a:pt x="1323" y="10537"/>
                </a:cubicBezTo>
              </a:path>
            </a:pathLst>
          </a:custGeom>
          <a:solidFill>
            <a:srgbClr val="e5e5e5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200" y="1913040"/>
            <a:ext cx="19605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51"/>
                </a:moveTo>
                <a:cubicBezTo>
                  <a:pt x="0" y="20451"/>
                  <a:pt x="317" y="21370"/>
                  <a:pt x="495" y="21370"/>
                </a:cubicBezTo>
                <a:cubicBezTo>
                  <a:pt x="912" y="21600"/>
                  <a:pt x="1338" y="21370"/>
                  <a:pt x="1754" y="21370"/>
                </a:cubicBezTo>
                <a:cubicBezTo>
                  <a:pt x="1942" y="21370"/>
                  <a:pt x="2150" y="21600"/>
                  <a:pt x="2338" y="21140"/>
                </a:cubicBezTo>
                <a:cubicBezTo>
                  <a:pt x="2546" y="20566"/>
                  <a:pt x="2715" y="18957"/>
                  <a:pt x="2923" y="18957"/>
                </a:cubicBezTo>
                <a:cubicBezTo>
                  <a:pt x="3329" y="18957"/>
                  <a:pt x="3706" y="20911"/>
                  <a:pt x="4092" y="21370"/>
                </a:cubicBezTo>
                <a:cubicBezTo>
                  <a:pt x="4320" y="21600"/>
                  <a:pt x="4518" y="21600"/>
                  <a:pt x="4736" y="21140"/>
                </a:cubicBezTo>
                <a:cubicBezTo>
                  <a:pt x="5043" y="20566"/>
                  <a:pt x="5331" y="18728"/>
                  <a:pt x="5658" y="18383"/>
                </a:cubicBezTo>
                <a:cubicBezTo>
                  <a:pt x="5945" y="18153"/>
                  <a:pt x="6232" y="19991"/>
                  <a:pt x="6530" y="20221"/>
                </a:cubicBezTo>
                <a:cubicBezTo>
                  <a:pt x="6728" y="20451"/>
                  <a:pt x="6916" y="20221"/>
                  <a:pt x="7144" y="19991"/>
                </a:cubicBezTo>
                <a:cubicBezTo>
                  <a:pt x="7322" y="19647"/>
                  <a:pt x="7510" y="18728"/>
                  <a:pt x="7699" y="18383"/>
                </a:cubicBezTo>
                <a:cubicBezTo>
                  <a:pt x="8075" y="18153"/>
                  <a:pt x="8432" y="17923"/>
                  <a:pt x="8808" y="18383"/>
                </a:cubicBezTo>
                <a:cubicBezTo>
                  <a:pt x="8917" y="18728"/>
                  <a:pt x="8977" y="20451"/>
                  <a:pt x="9076" y="20566"/>
                </a:cubicBezTo>
                <a:cubicBezTo>
                  <a:pt x="9284" y="21370"/>
                  <a:pt x="9512" y="18957"/>
                  <a:pt x="9710" y="18153"/>
                </a:cubicBezTo>
                <a:cubicBezTo>
                  <a:pt x="10116" y="16774"/>
                  <a:pt x="10562" y="17809"/>
                  <a:pt x="11008" y="17349"/>
                </a:cubicBezTo>
                <a:cubicBezTo>
                  <a:pt x="11286" y="17004"/>
                  <a:pt x="11553" y="16774"/>
                  <a:pt x="11830" y="16085"/>
                </a:cubicBezTo>
                <a:cubicBezTo>
                  <a:pt x="11920" y="15855"/>
                  <a:pt x="12019" y="14477"/>
                  <a:pt x="12128" y="14132"/>
                </a:cubicBezTo>
                <a:cubicBezTo>
                  <a:pt x="12405" y="13672"/>
                  <a:pt x="12722" y="14477"/>
                  <a:pt x="13019" y="13902"/>
                </a:cubicBezTo>
                <a:cubicBezTo>
                  <a:pt x="13168" y="13672"/>
                  <a:pt x="13317" y="12638"/>
                  <a:pt x="13485" y="12409"/>
                </a:cubicBezTo>
                <a:cubicBezTo>
                  <a:pt x="13782" y="11949"/>
                  <a:pt x="14090" y="12294"/>
                  <a:pt x="14377" y="11949"/>
                </a:cubicBezTo>
                <a:cubicBezTo>
                  <a:pt x="14724" y="11719"/>
                  <a:pt x="15090" y="11719"/>
                  <a:pt x="15447" y="11374"/>
                </a:cubicBezTo>
                <a:cubicBezTo>
                  <a:pt x="15655" y="11145"/>
                  <a:pt x="15853" y="10455"/>
                  <a:pt x="16061" y="10455"/>
                </a:cubicBezTo>
                <a:cubicBezTo>
                  <a:pt x="16160" y="10455"/>
                  <a:pt x="16259" y="11030"/>
                  <a:pt x="16368" y="11030"/>
                </a:cubicBezTo>
                <a:cubicBezTo>
                  <a:pt x="16745" y="11030"/>
                  <a:pt x="17112" y="9881"/>
                  <a:pt x="17478" y="10226"/>
                </a:cubicBezTo>
                <a:cubicBezTo>
                  <a:pt x="17795" y="10455"/>
                  <a:pt x="18102" y="11949"/>
                  <a:pt x="18439" y="11949"/>
                </a:cubicBezTo>
                <a:cubicBezTo>
                  <a:pt x="18865" y="12294"/>
                  <a:pt x="19252" y="11374"/>
                  <a:pt x="19678" y="11030"/>
                </a:cubicBezTo>
                <a:cubicBezTo>
                  <a:pt x="19916" y="10685"/>
                  <a:pt x="20163" y="9651"/>
                  <a:pt x="20391" y="9306"/>
                </a:cubicBezTo>
                <a:cubicBezTo>
                  <a:pt x="20579" y="9077"/>
                  <a:pt x="20788" y="9536"/>
                  <a:pt x="20966" y="9077"/>
                </a:cubicBezTo>
                <a:cubicBezTo>
                  <a:pt x="21204" y="8502"/>
                  <a:pt x="21600" y="5630"/>
                  <a:pt x="21600" y="5630"/>
                </a:cubicBezTo>
                <a:cubicBezTo>
                  <a:pt x="21600" y="5630"/>
                  <a:pt x="21114" y="5630"/>
                  <a:pt x="21114" y="5630"/>
                </a:cubicBezTo>
                <a:cubicBezTo>
                  <a:pt x="21114" y="5630"/>
                  <a:pt x="20629" y="5170"/>
                  <a:pt x="20391" y="5170"/>
                </a:cubicBezTo>
                <a:cubicBezTo>
                  <a:pt x="20114" y="5170"/>
                  <a:pt x="19826" y="5400"/>
                  <a:pt x="19549" y="5630"/>
                </a:cubicBezTo>
                <a:cubicBezTo>
                  <a:pt x="19341" y="5860"/>
                  <a:pt x="19133" y="6089"/>
                  <a:pt x="18925" y="6089"/>
                </a:cubicBezTo>
                <a:cubicBezTo>
                  <a:pt x="18509" y="6089"/>
                  <a:pt x="18053" y="5860"/>
                  <a:pt x="17597" y="4826"/>
                </a:cubicBezTo>
                <a:cubicBezTo>
                  <a:pt x="17320" y="4136"/>
                  <a:pt x="16993" y="2643"/>
                  <a:pt x="16636" y="1723"/>
                </a:cubicBezTo>
                <a:cubicBezTo>
                  <a:pt x="16388" y="1034"/>
                  <a:pt x="16121" y="574"/>
                  <a:pt x="15873" y="345"/>
                </a:cubicBezTo>
                <a:cubicBezTo>
                  <a:pt x="15556" y="0"/>
                  <a:pt x="15229" y="574"/>
                  <a:pt x="14922" y="1034"/>
                </a:cubicBezTo>
                <a:cubicBezTo>
                  <a:pt x="14634" y="1379"/>
                  <a:pt x="14337" y="1953"/>
                  <a:pt x="14040" y="2643"/>
                </a:cubicBezTo>
                <a:cubicBezTo>
                  <a:pt x="13753" y="3447"/>
                  <a:pt x="13505" y="5400"/>
                  <a:pt x="13208" y="5630"/>
                </a:cubicBezTo>
                <a:cubicBezTo>
                  <a:pt x="12980" y="5860"/>
                  <a:pt x="12752" y="5170"/>
                  <a:pt x="12514" y="4596"/>
                </a:cubicBezTo>
                <a:cubicBezTo>
                  <a:pt x="12336" y="4136"/>
                  <a:pt x="12157" y="3447"/>
                  <a:pt x="11969" y="2872"/>
                </a:cubicBezTo>
                <a:cubicBezTo>
                  <a:pt x="11781" y="2413"/>
                  <a:pt x="11414" y="1953"/>
                  <a:pt x="11414" y="1953"/>
                </a:cubicBezTo>
                <a:cubicBezTo>
                  <a:pt x="11414" y="1953"/>
                  <a:pt x="11286" y="4251"/>
                  <a:pt x="11177" y="4826"/>
                </a:cubicBezTo>
                <a:cubicBezTo>
                  <a:pt x="10968" y="5630"/>
                  <a:pt x="10750" y="4021"/>
                  <a:pt x="10503" y="3217"/>
                </a:cubicBezTo>
                <a:cubicBezTo>
                  <a:pt x="10265" y="2643"/>
                  <a:pt x="10037" y="3447"/>
                  <a:pt x="9819" y="3217"/>
                </a:cubicBezTo>
                <a:cubicBezTo>
                  <a:pt x="9601" y="2872"/>
                  <a:pt x="9393" y="1379"/>
                  <a:pt x="9215" y="1723"/>
                </a:cubicBezTo>
                <a:cubicBezTo>
                  <a:pt x="9165" y="1723"/>
                  <a:pt x="9096" y="2413"/>
                  <a:pt x="9046" y="2413"/>
                </a:cubicBezTo>
                <a:cubicBezTo>
                  <a:pt x="8927" y="2413"/>
                  <a:pt x="8828" y="1264"/>
                  <a:pt x="8729" y="1264"/>
                </a:cubicBezTo>
                <a:cubicBezTo>
                  <a:pt x="8491" y="1264"/>
                  <a:pt x="8313" y="3217"/>
                  <a:pt x="8105" y="3447"/>
                </a:cubicBezTo>
                <a:cubicBezTo>
                  <a:pt x="7887" y="3791"/>
                  <a:pt x="7679" y="2643"/>
                  <a:pt x="7461" y="2872"/>
                </a:cubicBezTo>
                <a:cubicBezTo>
                  <a:pt x="7322" y="3217"/>
                  <a:pt x="7193" y="4251"/>
                  <a:pt x="7055" y="4596"/>
                </a:cubicBezTo>
                <a:cubicBezTo>
                  <a:pt x="6857" y="4826"/>
                  <a:pt x="6658" y="4826"/>
                  <a:pt x="6460" y="4596"/>
                </a:cubicBezTo>
                <a:cubicBezTo>
                  <a:pt x="6272" y="4251"/>
                  <a:pt x="6094" y="3217"/>
                  <a:pt x="5876" y="3217"/>
                </a:cubicBezTo>
                <a:cubicBezTo>
                  <a:pt x="5687" y="3217"/>
                  <a:pt x="5489" y="3791"/>
                  <a:pt x="5291" y="4136"/>
                </a:cubicBezTo>
                <a:cubicBezTo>
                  <a:pt x="5142" y="4251"/>
                  <a:pt x="5004" y="5170"/>
                  <a:pt x="4855" y="5170"/>
                </a:cubicBezTo>
                <a:cubicBezTo>
                  <a:pt x="4706" y="5170"/>
                  <a:pt x="4558" y="4596"/>
                  <a:pt x="4439" y="4136"/>
                </a:cubicBezTo>
                <a:cubicBezTo>
                  <a:pt x="4072" y="3217"/>
                  <a:pt x="3706" y="2643"/>
                  <a:pt x="3349" y="2183"/>
                </a:cubicBezTo>
                <a:cubicBezTo>
                  <a:pt x="3101" y="1723"/>
                  <a:pt x="2824" y="1264"/>
                  <a:pt x="2566" y="1264"/>
                </a:cubicBezTo>
                <a:cubicBezTo>
                  <a:pt x="2418" y="1264"/>
                  <a:pt x="2269" y="1264"/>
                  <a:pt x="2180" y="1953"/>
                </a:cubicBezTo>
                <a:cubicBezTo>
                  <a:pt x="2091" y="2643"/>
                  <a:pt x="2021" y="4136"/>
                  <a:pt x="1942" y="4596"/>
                </a:cubicBezTo>
                <a:cubicBezTo>
                  <a:pt x="1793" y="5630"/>
                  <a:pt x="1605" y="4251"/>
                  <a:pt x="1447" y="4251"/>
                </a:cubicBezTo>
                <a:cubicBezTo>
                  <a:pt x="1229" y="4251"/>
                  <a:pt x="1130" y="4136"/>
                  <a:pt x="1040" y="4136"/>
                </a:cubicBezTo>
                <a:cubicBezTo>
                  <a:pt x="803" y="4136"/>
                  <a:pt x="555" y="4021"/>
                  <a:pt x="436" y="3791"/>
                </a:cubicBezTo>
                <a:cubicBezTo>
                  <a:pt x="287" y="3447"/>
                  <a:pt x="0" y="2872"/>
                  <a:pt x="0" y="2872"/>
                </a:cubicBezTo>
                <a:cubicBezTo>
                  <a:pt x="0" y="2872"/>
                  <a:pt x="0" y="20451"/>
                  <a:pt x="0" y="20451"/>
                </a:cubicBezTo>
              </a:path>
            </a:pathLst>
          </a:custGeom>
          <a:solidFill>
            <a:srgbClr val="e5e5e5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00" y="1536840"/>
            <a:ext cx="1614240" cy="12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735"/>
                </a:moveTo>
                <a:cubicBezTo>
                  <a:pt x="0" y="8735"/>
                  <a:pt x="337" y="5718"/>
                  <a:pt x="530" y="5400"/>
                </a:cubicBezTo>
                <a:cubicBezTo>
                  <a:pt x="867" y="4765"/>
                  <a:pt x="1192" y="4765"/>
                  <a:pt x="1493" y="4765"/>
                </a:cubicBezTo>
                <a:cubicBezTo>
                  <a:pt x="1866" y="4765"/>
                  <a:pt x="2227" y="3971"/>
                  <a:pt x="2589" y="4447"/>
                </a:cubicBezTo>
                <a:cubicBezTo>
                  <a:pt x="2878" y="4765"/>
                  <a:pt x="3179" y="5241"/>
                  <a:pt x="3480" y="5241"/>
                </a:cubicBezTo>
                <a:cubicBezTo>
                  <a:pt x="3732" y="5241"/>
                  <a:pt x="4009" y="3653"/>
                  <a:pt x="4274" y="3653"/>
                </a:cubicBezTo>
                <a:cubicBezTo>
                  <a:pt x="4527" y="3653"/>
                  <a:pt x="4804" y="5718"/>
                  <a:pt x="5081" y="6829"/>
                </a:cubicBezTo>
                <a:cubicBezTo>
                  <a:pt x="5394" y="7782"/>
                  <a:pt x="5695" y="7782"/>
                  <a:pt x="5996" y="8100"/>
                </a:cubicBezTo>
                <a:cubicBezTo>
                  <a:pt x="6357" y="8418"/>
                  <a:pt x="6730" y="9212"/>
                  <a:pt x="7092" y="8735"/>
                </a:cubicBezTo>
                <a:cubicBezTo>
                  <a:pt x="7284" y="8418"/>
                  <a:pt x="7501" y="8100"/>
                  <a:pt x="7706" y="7782"/>
                </a:cubicBezTo>
                <a:cubicBezTo>
                  <a:pt x="8139" y="7465"/>
                  <a:pt x="8597" y="7465"/>
                  <a:pt x="9042" y="7465"/>
                </a:cubicBezTo>
                <a:cubicBezTo>
                  <a:pt x="9259" y="7465"/>
                  <a:pt x="9488" y="7782"/>
                  <a:pt x="9656" y="7782"/>
                </a:cubicBezTo>
                <a:cubicBezTo>
                  <a:pt x="9921" y="7465"/>
                  <a:pt x="10186" y="7306"/>
                  <a:pt x="10415" y="6512"/>
                </a:cubicBezTo>
                <a:cubicBezTo>
                  <a:pt x="10752" y="5718"/>
                  <a:pt x="11077" y="3971"/>
                  <a:pt x="11414" y="3176"/>
                </a:cubicBezTo>
                <a:cubicBezTo>
                  <a:pt x="11643" y="2541"/>
                  <a:pt x="11896" y="2065"/>
                  <a:pt x="12136" y="2065"/>
                </a:cubicBezTo>
                <a:cubicBezTo>
                  <a:pt x="12293" y="2065"/>
                  <a:pt x="12462" y="2859"/>
                  <a:pt x="12618" y="2859"/>
                </a:cubicBezTo>
                <a:cubicBezTo>
                  <a:pt x="12919" y="2859"/>
                  <a:pt x="13220" y="2065"/>
                  <a:pt x="13533" y="1747"/>
                </a:cubicBezTo>
                <a:cubicBezTo>
                  <a:pt x="13846" y="1429"/>
                  <a:pt x="14159" y="0"/>
                  <a:pt x="14460" y="0"/>
                </a:cubicBezTo>
                <a:cubicBezTo>
                  <a:pt x="14990" y="476"/>
                  <a:pt x="15496" y="2541"/>
                  <a:pt x="16001" y="2859"/>
                </a:cubicBezTo>
                <a:cubicBezTo>
                  <a:pt x="16387" y="3176"/>
                  <a:pt x="16760" y="2065"/>
                  <a:pt x="17145" y="2065"/>
                </a:cubicBezTo>
                <a:cubicBezTo>
                  <a:pt x="17711" y="2065"/>
                  <a:pt x="18253" y="2859"/>
                  <a:pt x="18819" y="2859"/>
                </a:cubicBezTo>
                <a:cubicBezTo>
                  <a:pt x="19096" y="2859"/>
                  <a:pt x="19373" y="3335"/>
                  <a:pt x="19662" y="3653"/>
                </a:cubicBezTo>
                <a:cubicBezTo>
                  <a:pt x="19878" y="3653"/>
                  <a:pt x="20095" y="3653"/>
                  <a:pt x="20288" y="3971"/>
                </a:cubicBezTo>
                <a:cubicBezTo>
                  <a:pt x="20456" y="4447"/>
                  <a:pt x="20625" y="3971"/>
                  <a:pt x="20781" y="3653"/>
                </a:cubicBezTo>
                <a:cubicBezTo>
                  <a:pt x="21046" y="3335"/>
                  <a:pt x="21600" y="3653"/>
                  <a:pt x="21600" y="3653"/>
                </a:cubicBezTo>
                <a:cubicBezTo>
                  <a:pt x="21600" y="3653"/>
                  <a:pt x="21142" y="6512"/>
                  <a:pt x="20938" y="7306"/>
                </a:cubicBezTo>
                <a:cubicBezTo>
                  <a:pt x="20601" y="8418"/>
                  <a:pt x="20264" y="9212"/>
                  <a:pt x="19914" y="9212"/>
                </a:cubicBezTo>
                <a:cubicBezTo>
                  <a:pt x="19565" y="9212"/>
                  <a:pt x="19168" y="7782"/>
                  <a:pt x="18795" y="7782"/>
                </a:cubicBezTo>
                <a:cubicBezTo>
                  <a:pt x="18506" y="7782"/>
                  <a:pt x="18205" y="8735"/>
                  <a:pt x="17892" y="8418"/>
                </a:cubicBezTo>
                <a:cubicBezTo>
                  <a:pt x="17711" y="8100"/>
                  <a:pt x="17470" y="7782"/>
                  <a:pt x="17278" y="7782"/>
                </a:cubicBezTo>
                <a:cubicBezTo>
                  <a:pt x="17061" y="7782"/>
                  <a:pt x="16856" y="7465"/>
                  <a:pt x="16664" y="8100"/>
                </a:cubicBezTo>
                <a:cubicBezTo>
                  <a:pt x="16387" y="9212"/>
                  <a:pt x="16182" y="11435"/>
                  <a:pt x="15893" y="12547"/>
                </a:cubicBezTo>
                <a:cubicBezTo>
                  <a:pt x="15640" y="13500"/>
                  <a:pt x="15363" y="13976"/>
                  <a:pt x="15074" y="13500"/>
                </a:cubicBezTo>
                <a:cubicBezTo>
                  <a:pt x="14882" y="13500"/>
                  <a:pt x="14677" y="12547"/>
                  <a:pt x="14484" y="11435"/>
                </a:cubicBezTo>
                <a:cubicBezTo>
                  <a:pt x="14292" y="10482"/>
                  <a:pt x="14111" y="8735"/>
                  <a:pt x="13906" y="8100"/>
                </a:cubicBezTo>
                <a:cubicBezTo>
                  <a:pt x="13750" y="7782"/>
                  <a:pt x="13581" y="8100"/>
                  <a:pt x="13425" y="8735"/>
                </a:cubicBezTo>
                <a:cubicBezTo>
                  <a:pt x="13280" y="9212"/>
                  <a:pt x="13184" y="11118"/>
                  <a:pt x="13015" y="11118"/>
                </a:cubicBezTo>
                <a:cubicBezTo>
                  <a:pt x="12823" y="11435"/>
                  <a:pt x="12642" y="9847"/>
                  <a:pt x="12449" y="9847"/>
                </a:cubicBezTo>
                <a:cubicBezTo>
                  <a:pt x="12257" y="9847"/>
                  <a:pt x="12088" y="10482"/>
                  <a:pt x="11896" y="10800"/>
                </a:cubicBezTo>
                <a:cubicBezTo>
                  <a:pt x="11619" y="11435"/>
                  <a:pt x="11306" y="13500"/>
                  <a:pt x="11029" y="13182"/>
                </a:cubicBezTo>
                <a:cubicBezTo>
                  <a:pt x="10908" y="12706"/>
                  <a:pt x="10752" y="11753"/>
                  <a:pt x="10631" y="11753"/>
                </a:cubicBezTo>
                <a:cubicBezTo>
                  <a:pt x="10403" y="11753"/>
                  <a:pt x="10222" y="13976"/>
                  <a:pt x="10017" y="14771"/>
                </a:cubicBezTo>
                <a:cubicBezTo>
                  <a:pt x="9861" y="15406"/>
                  <a:pt x="9692" y="16518"/>
                  <a:pt x="9512" y="16518"/>
                </a:cubicBezTo>
                <a:cubicBezTo>
                  <a:pt x="9151" y="16518"/>
                  <a:pt x="8825" y="15724"/>
                  <a:pt x="8464" y="15088"/>
                </a:cubicBezTo>
                <a:cubicBezTo>
                  <a:pt x="8296" y="14771"/>
                  <a:pt x="8091" y="13976"/>
                  <a:pt x="7910" y="13976"/>
                </a:cubicBezTo>
                <a:cubicBezTo>
                  <a:pt x="7549" y="13976"/>
                  <a:pt x="7200" y="15724"/>
                  <a:pt x="6875" y="15088"/>
                </a:cubicBezTo>
                <a:cubicBezTo>
                  <a:pt x="6646" y="14771"/>
                  <a:pt x="6454" y="12547"/>
                  <a:pt x="6249" y="12706"/>
                </a:cubicBezTo>
                <a:cubicBezTo>
                  <a:pt x="6128" y="13182"/>
                  <a:pt x="6020" y="15088"/>
                  <a:pt x="5864" y="15406"/>
                </a:cubicBezTo>
                <a:cubicBezTo>
                  <a:pt x="5635" y="15724"/>
                  <a:pt x="5418" y="14612"/>
                  <a:pt x="5189" y="14294"/>
                </a:cubicBezTo>
                <a:cubicBezTo>
                  <a:pt x="4864" y="13976"/>
                  <a:pt x="4503" y="14294"/>
                  <a:pt x="4142" y="14612"/>
                </a:cubicBezTo>
                <a:cubicBezTo>
                  <a:pt x="3913" y="14771"/>
                  <a:pt x="3648" y="15088"/>
                  <a:pt x="3431" y="15724"/>
                </a:cubicBezTo>
                <a:cubicBezTo>
                  <a:pt x="3118" y="16518"/>
                  <a:pt x="2793" y="18265"/>
                  <a:pt x="2492" y="18900"/>
                </a:cubicBezTo>
                <a:cubicBezTo>
                  <a:pt x="2264" y="19535"/>
                  <a:pt x="2035" y="19853"/>
                  <a:pt x="1794" y="19853"/>
                </a:cubicBezTo>
                <a:cubicBezTo>
                  <a:pt x="1469" y="19853"/>
                  <a:pt x="1108" y="20171"/>
                  <a:pt x="746" y="20488"/>
                </a:cubicBezTo>
                <a:cubicBezTo>
                  <a:pt x="506" y="20965"/>
                  <a:pt x="0" y="21600"/>
                  <a:pt x="0" y="21600"/>
                </a:cubicBezTo>
                <a:cubicBezTo>
                  <a:pt x="0" y="21600"/>
                  <a:pt x="0" y="8735"/>
                  <a:pt x="0" y="8735"/>
                </a:cubicBezTo>
              </a:path>
            </a:pathLst>
          </a:custGeom>
          <a:solidFill>
            <a:srgbClr val="e5e5e5"/>
          </a:solidFill>
          <a:ln w="72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22680" y="4454640"/>
            <a:ext cx="247968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3347" y="14954"/>
                  <a:pt x="5016" y="14400"/>
                </a:cubicBezTo>
                <a:cubicBezTo>
                  <a:pt x="6482" y="13292"/>
                  <a:pt x="7955" y="14954"/>
                  <a:pt x="9413" y="14400"/>
                </a:cubicBezTo>
                <a:cubicBezTo>
                  <a:pt x="10792" y="13292"/>
                  <a:pt x="12211" y="9415"/>
                  <a:pt x="13590" y="6646"/>
                </a:cubicBezTo>
                <a:cubicBezTo>
                  <a:pt x="15095" y="4985"/>
                  <a:pt x="16082" y="8308"/>
                  <a:pt x="17062" y="6646"/>
                </a:cubicBezTo>
                <a:cubicBezTo>
                  <a:pt x="18481" y="5538"/>
                  <a:pt x="19915" y="0"/>
                  <a:pt x="20785" y="2215"/>
                </a:cubicBezTo>
                <a:cubicBezTo>
                  <a:pt x="21349" y="3323"/>
                  <a:pt x="21600" y="2215"/>
                  <a:pt x="21600" y="2215"/>
                </a:cubicBezTo>
              </a:path>
            </a:pathLst>
          </a:custGeom>
          <a:noFill/>
          <a:ln w="72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5040" y="5138640"/>
            <a:ext cx="10152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496"/>
                </a:moveTo>
                <a:cubicBezTo>
                  <a:pt x="0" y="6496"/>
                  <a:pt x="14145" y="0"/>
                  <a:pt x="14145" y="0"/>
                </a:cubicBezTo>
                <a:cubicBezTo>
                  <a:pt x="14145" y="0"/>
                  <a:pt x="21600" y="16890"/>
                  <a:pt x="15101" y="19326"/>
                </a:cubicBezTo>
                <a:cubicBezTo>
                  <a:pt x="9175" y="21600"/>
                  <a:pt x="0" y="6496"/>
                  <a:pt x="0" y="6496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5716440"/>
            <a:ext cx="11088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646"/>
                </a:moveTo>
                <a:cubicBezTo>
                  <a:pt x="21600" y="6646"/>
                  <a:pt x="17245" y="21600"/>
                  <a:pt x="17245" y="21600"/>
                </a:cubicBezTo>
                <a:cubicBezTo>
                  <a:pt x="17245" y="21600"/>
                  <a:pt x="0" y="12000"/>
                  <a:pt x="2439" y="5908"/>
                </a:cubicBezTo>
                <a:cubicBezTo>
                  <a:pt x="4703" y="0"/>
                  <a:pt x="21600" y="6646"/>
                  <a:pt x="21600" y="6646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5640" y="5773680"/>
            <a:ext cx="79200" cy="7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094"/>
                </a:moveTo>
                <a:cubicBezTo>
                  <a:pt x="0" y="15094"/>
                  <a:pt x="4664" y="0"/>
                  <a:pt x="4664" y="0"/>
                </a:cubicBezTo>
                <a:cubicBezTo>
                  <a:pt x="4664" y="0"/>
                  <a:pt x="21600" y="9369"/>
                  <a:pt x="19145" y="15614"/>
                </a:cubicBezTo>
                <a:cubicBezTo>
                  <a:pt x="16936" y="21600"/>
                  <a:pt x="0" y="15094"/>
                  <a:pt x="0" y="15094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8760" y="4876920"/>
            <a:ext cx="8280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310" y="21600"/>
                </a:moveTo>
                <a:cubicBezTo>
                  <a:pt x="12310" y="21600"/>
                  <a:pt x="0" y="14954"/>
                  <a:pt x="0" y="14954"/>
                </a:cubicBezTo>
                <a:cubicBezTo>
                  <a:pt x="0" y="14954"/>
                  <a:pt x="11845" y="0"/>
                  <a:pt x="16723" y="3798"/>
                </a:cubicBezTo>
                <a:cubicBezTo>
                  <a:pt x="21600" y="7121"/>
                  <a:pt x="12310" y="21600"/>
                  <a:pt x="12310" y="21600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0360" y="4613400"/>
            <a:ext cx="716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10" y="0"/>
                </a:moveTo>
                <a:cubicBezTo>
                  <a:pt x="19710" y="0"/>
                  <a:pt x="21600" y="21600"/>
                  <a:pt x="21600" y="21600"/>
                </a:cubicBezTo>
                <a:cubicBezTo>
                  <a:pt x="21600" y="21600"/>
                  <a:pt x="0" y="20520"/>
                  <a:pt x="0" y="11520"/>
                </a:cubicBezTo>
                <a:cubicBezTo>
                  <a:pt x="0" y="2520"/>
                  <a:pt x="19710" y="0"/>
                  <a:pt x="19710" y="0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35440" y="2728800"/>
            <a:ext cx="1382760" cy="1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8124"/>
                  <a:pt x="21600" y="18124"/>
                </a:cubicBezTo>
                <a:cubicBezTo>
                  <a:pt x="21600" y="18124"/>
                  <a:pt x="0" y="21600"/>
                  <a:pt x="0" y="21600"/>
                </a:cubicBezTo>
                <a:cubicBezTo>
                  <a:pt x="1293" y="18124"/>
                  <a:pt x="2642" y="16386"/>
                  <a:pt x="4005" y="14400"/>
                </a:cubicBezTo>
                <a:cubicBezTo>
                  <a:pt x="5621" y="12041"/>
                  <a:pt x="7350" y="10303"/>
                  <a:pt x="9036" y="8193"/>
                </a:cubicBezTo>
                <a:cubicBezTo>
                  <a:pt x="10456" y="6579"/>
                  <a:pt x="12044" y="4469"/>
                  <a:pt x="13576" y="3476"/>
                </a:cubicBezTo>
                <a:cubicBezTo>
                  <a:pt x="14784" y="2607"/>
                  <a:pt x="16091" y="1986"/>
                  <a:pt x="17314" y="1366"/>
                </a:cubicBezTo>
                <a:cubicBezTo>
                  <a:pt x="18775" y="869"/>
                  <a:pt x="20138" y="869"/>
                  <a:pt x="2160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1400" y="2728800"/>
            <a:ext cx="1398240" cy="16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7717"/>
                  <a:pt x="21600" y="17717"/>
                </a:cubicBezTo>
                <a:cubicBezTo>
                  <a:pt x="21600" y="17717"/>
                  <a:pt x="21600" y="0"/>
                  <a:pt x="21600" y="0"/>
                </a:cubicBezTo>
                <a:cubicBezTo>
                  <a:pt x="20155" y="849"/>
                  <a:pt x="18794" y="849"/>
                  <a:pt x="17377" y="1335"/>
                </a:cubicBezTo>
                <a:cubicBezTo>
                  <a:pt x="16169" y="1942"/>
                  <a:pt x="14863" y="2548"/>
                  <a:pt x="13668" y="3398"/>
                </a:cubicBezTo>
                <a:cubicBezTo>
                  <a:pt x="12140" y="4369"/>
                  <a:pt x="10585" y="6431"/>
                  <a:pt x="9182" y="8009"/>
                </a:cubicBezTo>
                <a:cubicBezTo>
                  <a:pt x="7501" y="10072"/>
                  <a:pt x="5820" y="11771"/>
                  <a:pt x="4195" y="14076"/>
                </a:cubicBezTo>
                <a:cubicBezTo>
                  <a:pt x="2861" y="16018"/>
                  <a:pt x="1500" y="17474"/>
                  <a:pt x="222" y="20751"/>
                </a:cubicBezTo>
                <a:cubicBezTo>
                  <a:pt x="222" y="20751"/>
                  <a:pt x="0" y="21600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5600" y="2860560"/>
            <a:ext cx="145404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8758"/>
                  <a:pt x="21600" y="18758"/>
                </a:cubicBezTo>
                <a:cubicBezTo>
                  <a:pt x="21600" y="18758"/>
                  <a:pt x="187" y="21600"/>
                  <a:pt x="187" y="21600"/>
                </a:cubicBezTo>
                <a:cubicBezTo>
                  <a:pt x="67" y="19705"/>
                  <a:pt x="0" y="17242"/>
                  <a:pt x="0" y="14968"/>
                </a:cubicBezTo>
                <a:cubicBezTo>
                  <a:pt x="27" y="9474"/>
                  <a:pt x="441" y="7200"/>
                  <a:pt x="815" y="6063"/>
                </a:cubicBezTo>
                <a:cubicBezTo>
                  <a:pt x="815" y="6063"/>
                  <a:pt x="21600" y="0"/>
                  <a:pt x="21600" y="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76760" y="2949480"/>
            <a:ext cx="144288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7042"/>
                  <a:pt x="21600" y="17042"/>
                </a:cubicBezTo>
                <a:cubicBezTo>
                  <a:pt x="21600" y="17042"/>
                  <a:pt x="2182" y="21600"/>
                  <a:pt x="2182" y="21600"/>
                </a:cubicBezTo>
                <a:cubicBezTo>
                  <a:pt x="1818" y="19817"/>
                  <a:pt x="1508" y="17637"/>
                  <a:pt x="1185" y="15259"/>
                </a:cubicBezTo>
                <a:cubicBezTo>
                  <a:pt x="700" y="11494"/>
                  <a:pt x="256" y="7530"/>
                  <a:pt x="0" y="2972"/>
                </a:cubicBezTo>
                <a:cubicBezTo>
                  <a:pt x="0" y="2972"/>
                  <a:pt x="21600" y="0"/>
                  <a:pt x="21600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22920" y="3027240"/>
            <a:ext cx="12967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286"/>
                  <a:pt x="21600" y="19286"/>
                </a:cubicBezTo>
                <a:cubicBezTo>
                  <a:pt x="20746" y="19800"/>
                  <a:pt x="19578" y="19800"/>
                  <a:pt x="18544" y="19800"/>
                </a:cubicBezTo>
                <a:cubicBezTo>
                  <a:pt x="18020" y="19286"/>
                  <a:pt x="13047" y="21600"/>
                  <a:pt x="12268" y="21600"/>
                </a:cubicBezTo>
                <a:cubicBezTo>
                  <a:pt x="10111" y="21600"/>
                  <a:pt x="8089" y="20314"/>
                  <a:pt x="5932" y="19800"/>
                </a:cubicBezTo>
                <a:cubicBezTo>
                  <a:pt x="4224" y="19286"/>
                  <a:pt x="2576" y="18514"/>
                  <a:pt x="1019" y="11314"/>
                </a:cubicBezTo>
                <a:cubicBezTo>
                  <a:pt x="659" y="9514"/>
                  <a:pt x="330" y="7457"/>
                  <a:pt x="0" y="5400"/>
                </a:cubicBezTo>
                <a:cubicBezTo>
                  <a:pt x="0" y="5400"/>
                  <a:pt x="21600" y="0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4160" y="2728800"/>
            <a:ext cx="14554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1132"/>
                  <a:pt x="21600" y="21132"/>
                </a:cubicBezTo>
                <a:cubicBezTo>
                  <a:pt x="20839" y="21236"/>
                  <a:pt x="19798" y="21236"/>
                  <a:pt x="18877" y="21236"/>
                </a:cubicBezTo>
                <a:cubicBezTo>
                  <a:pt x="18409" y="21132"/>
                  <a:pt x="13977" y="21600"/>
                  <a:pt x="13283" y="21600"/>
                </a:cubicBezTo>
                <a:cubicBezTo>
                  <a:pt x="11361" y="21600"/>
                  <a:pt x="9558" y="21340"/>
                  <a:pt x="7636" y="21236"/>
                </a:cubicBezTo>
                <a:cubicBezTo>
                  <a:pt x="6114" y="21132"/>
                  <a:pt x="4646" y="20975"/>
                  <a:pt x="3257" y="19518"/>
                </a:cubicBezTo>
                <a:cubicBezTo>
                  <a:pt x="2523" y="18737"/>
                  <a:pt x="1909" y="17853"/>
                  <a:pt x="1362" y="16760"/>
                </a:cubicBezTo>
                <a:cubicBezTo>
                  <a:pt x="681" y="15302"/>
                  <a:pt x="0" y="13637"/>
                  <a:pt x="27" y="11711"/>
                </a:cubicBezTo>
                <a:cubicBezTo>
                  <a:pt x="53" y="10045"/>
                  <a:pt x="681" y="9421"/>
                  <a:pt x="1055" y="8900"/>
                </a:cubicBezTo>
                <a:cubicBezTo>
                  <a:pt x="2283" y="7495"/>
                  <a:pt x="3591" y="6870"/>
                  <a:pt x="4873" y="6038"/>
                </a:cubicBezTo>
                <a:cubicBezTo>
                  <a:pt x="6435" y="5049"/>
                  <a:pt x="8050" y="4320"/>
                  <a:pt x="9665" y="3435"/>
                </a:cubicBezTo>
                <a:cubicBezTo>
                  <a:pt x="11014" y="2759"/>
                  <a:pt x="12509" y="1874"/>
                  <a:pt x="13977" y="1457"/>
                </a:cubicBezTo>
                <a:cubicBezTo>
                  <a:pt x="15125" y="1093"/>
                  <a:pt x="16380" y="833"/>
                  <a:pt x="17542" y="573"/>
                </a:cubicBezTo>
                <a:cubicBezTo>
                  <a:pt x="18903" y="364"/>
                  <a:pt x="20212" y="36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0720" y="1262160"/>
            <a:ext cx="5398920" cy="671976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07:32:48Z</dcterms:created>
  <dc:creator>OfficeHamada</dc:creator>
  <dc:description/>
  <dc:language>en-US</dc:language>
  <cp:lastModifiedBy>OfficeHamada</cp:lastModifiedBy>
  <cp:lastPrinted>2016-03-01T17:00:50Z</cp:lastPrinted>
  <dcterms:modified xsi:type="dcterms:W3CDTF">2016-03-18T13:41:33Z</dcterms:modified>
  <cp:revision>40</cp:revision>
  <dc:subject/>
  <dc:title/>
</cp:coreProperties>
</file>