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4576680" y="6124680"/>
            <a:ext cx="133524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" y="17946"/>
                </a:moveTo>
                <a:cubicBezTo>
                  <a:pt x="0" y="15382"/>
                  <a:pt x="640" y="12762"/>
                  <a:pt x="2067" y="10412"/>
                </a:cubicBezTo>
                <a:cubicBezTo>
                  <a:pt x="2533" y="9659"/>
                  <a:pt x="3260" y="8962"/>
                  <a:pt x="3391" y="8152"/>
                </a:cubicBezTo>
                <a:cubicBezTo>
                  <a:pt x="3537" y="7106"/>
                  <a:pt x="2896" y="6173"/>
                  <a:pt x="2649" y="5184"/>
                </a:cubicBezTo>
                <a:cubicBezTo>
                  <a:pt x="2387" y="4160"/>
                  <a:pt x="2489" y="3081"/>
                  <a:pt x="3100" y="2170"/>
                </a:cubicBezTo>
                <a:cubicBezTo>
                  <a:pt x="3682" y="1259"/>
                  <a:pt x="4701" y="562"/>
                  <a:pt x="5939" y="214"/>
                </a:cubicBezTo>
                <a:cubicBezTo>
                  <a:pt x="6681" y="0"/>
                  <a:pt x="7496" y="34"/>
                  <a:pt x="8209" y="146"/>
                </a:cubicBezTo>
                <a:cubicBezTo>
                  <a:pt x="8922" y="259"/>
                  <a:pt x="9534" y="472"/>
                  <a:pt x="10043" y="765"/>
                </a:cubicBezTo>
                <a:cubicBezTo>
                  <a:pt x="10916" y="1214"/>
                  <a:pt x="11717" y="1777"/>
                  <a:pt x="12226" y="2474"/>
                </a:cubicBezTo>
                <a:cubicBezTo>
                  <a:pt x="12576" y="2923"/>
                  <a:pt x="12765" y="3418"/>
                  <a:pt x="12911" y="4014"/>
                </a:cubicBezTo>
                <a:cubicBezTo>
                  <a:pt x="13012" y="4441"/>
                  <a:pt x="13012" y="5105"/>
                  <a:pt x="13129" y="5543"/>
                </a:cubicBezTo>
                <a:cubicBezTo>
                  <a:pt x="13260" y="5982"/>
                  <a:pt x="13507" y="6443"/>
                  <a:pt x="13842" y="6870"/>
                </a:cubicBezTo>
                <a:cubicBezTo>
                  <a:pt x="14512" y="7770"/>
                  <a:pt x="15443" y="8557"/>
                  <a:pt x="16418" y="9265"/>
                </a:cubicBezTo>
                <a:cubicBezTo>
                  <a:pt x="17408" y="9962"/>
                  <a:pt x="18485" y="10648"/>
                  <a:pt x="19344" y="11458"/>
                </a:cubicBezTo>
                <a:cubicBezTo>
                  <a:pt x="20232" y="12290"/>
                  <a:pt x="20989" y="13257"/>
                  <a:pt x="21338" y="14336"/>
                </a:cubicBezTo>
                <a:cubicBezTo>
                  <a:pt x="21600" y="15258"/>
                  <a:pt x="21600" y="16259"/>
                  <a:pt x="21338" y="17204"/>
                </a:cubicBezTo>
                <a:cubicBezTo>
                  <a:pt x="21178" y="17777"/>
                  <a:pt x="20843" y="18294"/>
                  <a:pt x="20377" y="18755"/>
                </a:cubicBezTo>
                <a:cubicBezTo>
                  <a:pt x="19984" y="19138"/>
                  <a:pt x="19402" y="19317"/>
                  <a:pt x="18965" y="19655"/>
                </a:cubicBezTo>
                <a:cubicBezTo>
                  <a:pt x="18529" y="20003"/>
                  <a:pt x="18296" y="20487"/>
                  <a:pt x="17801" y="20824"/>
                </a:cubicBezTo>
                <a:cubicBezTo>
                  <a:pt x="17277" y="21173"/>
                  <a:pt x="16506" y="21443"/>
                  <a:pt x="15691" y="21465"/>
                </a:cubicBezTo>
                <a:cubicBezTo>
                  <a:pt x="11106" y="21600"/>
                  <a:pt x="6637" y="20419"/>
                  <a:pt x="2242" y="19340"/>
                </a:cubicBezTo>
                <a:cubicBezTo>
                  <a:pt x="1354" y="19138"/>
                  <a:pt x="58" y="18677"/>
                  <a:pt x="58" y="17946"/>
                </a:cubicBezTo>
              </a:path>
            </a:pathLst>
          </a:custGeom>
          <a:noFill/>
          <a:ln w="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3067200" y="6321600"/>
            <a:ext cx="2546280" cy="165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99" y="21588"/>
                </a:moveTo>
                <a:cubicBezTo>
                  <a:pt x="6246" y="21600"/>
                  <a:pt x="0" y="21506"/>
                  <a:pt x="0" y="21506"/>
                </a:cubicBezTo>
                <a:cubicBezTo>
                  <a:pt x="0" y="21506"/>
                  <a:pt x="168" y="20909"/>
                  <a:pt x="191" y="20651"/>
                </a:cubicBezTo>
                <a:cubicBezTo>
                  <a:pt x="305" y="19351"/>
                  <a:pt x="336" y="18226"/>
                  <a:pt x="450" y="17032"/>
                </a:cubicBezTo>
                <a:cubicBezTo>
                  <a:pt x="550" y="15989"/>
                  <a:pt x="710" y="14923"/>
                  <a:pt x="825" y="13881"/>
                </a:cubicBezTo>
                <a:cubicBezTo>
                  <a:pt x="1000" y="12252"/>
                  <a:pt x="1115" y="10589"/>
                  <a:pt x="1481" y="9031"/>
                </a:cubicBezTo>
                <a:cubicBezTo>
                  <a:pt x="1726" y="8024"/>
                  <a:pt x="2130" y="7098"/>
                  <a:pt x="2627" y="6337"/>
                </a:cubicBezTo>
                <a:cubicBezTo>
                  <a:pt x="3230" y="5412"/>
                  <a:pt x="3986" y="4826"/>
                  <a:pt x="4673" y="4111"/>
                </a:cubicBezTo>
                <a:cubicBezTo>
                  <a:pt x="5016" y="3760"/>
                  <a:pt x="5436" y="3561"/>
                  <a:pt x="5742" y="3139"/>
                </a:cubicBezTo>
                <a:cubicBezTo>
                  <a:pt x="5910" y="2893"/>
                  <a:pt x="6101" y="2577"/>
                  <a:pt x="6101" y="2226"/>
                </a:cubicBezTo>
                <a:cubicBezTo>
                  <a:pt x="6101" y="1312"/>
                  <a:pt x="5986" y="164"/>
                  <a:pt x="5986" y="164"/>
                </a:cubicBezTo>
                <a:cubicBezTo>
                  <a:pt x="5986" y="164"/>
                  <a:pt x="7353" y="246"/>
                  <a:pt x="8032" y="223"/>
                </a:cubicBezTo>
                <a:cubicBezTo>
                  <a:pt x="8582" y="199"/>
                  <a:pt x="9139" y="0"/>
                  <a:pt x="9697" y="23"/>
                </a:cubicBezTo>
                <a:cubicBezTo>
                  <a:pt x="10155" y="47"/>
                  <a:pt x="10628" y="269"/>
                  <a:pt x="10338" y="644"/>
                </a:cubicBezTo>
                <a:cubicBezTo>
                  <a:pt x="10117" y="937"/>
                  <a:pt x="10094" y="1406"/>
                  <a:pt x="10078" y="1886"/>
                </a:cubicBezTo>
                <a:cubicBezTo>
                  <a:pt x="10063" y="2249"/>
                  <a:pt x="10048" y="2612"/>
                  <a:pt x="10178" y="2928"/>
                </a:cubicBezTo>
                <a:cubicBezTo>
                  <a:pt x="10498" y="3655"/>
                  <a:pt x="11063" y="4006"/>
                  <a:pt x="11560" y="4486"/>
                </a:cubicBezTo>
                <a:cubicBezTo>
                  <a:pt x="12079" y="4978"/>
                  <a:pt x="12514" y="5517"/>
                  <a:pt x="12934" y="6115"/>
                </a:cubicBezTo>
                <a:cubicBezTo>
                  <a:pt x="13698" y="7169"/>
                  <a:pt x="14133" y="8692"/>
                  <a:pt x="14599" y="10191"/>
                </a:cubicBezTo>
                <a:cubicBezTo>
                  <a:pt x="14904" y="11222"/>
                  <a:pt x="15179" y="12182"/>
                  <a:pt x="15515" y="13166"/>
                </a:cubicBezTo>
                <a:cubicBezTo>
                  <a:pt x="15835" y="14056"/>
                  <a:pt x="16210" y="14947"/>
                  <a:pt x="16576" y="15837"/>
                </a:cubicBezTo>
                <a:cubicBezTo>
                  <a:pt x="16965" y="16762"/>
                  <a:pt x="17355" y="17746"/>
                  <a:pt x="17943" y="18285"/>
                </a:cubicBezTo>
                <a:cubicBezTo>
                  <a:pt x="18225" y="18543"/>
                  <a:pt x="18561" y="18742"/>
                  <a:pt x="18882" y="18812"/>
                </a:cubicBezTo>
                <a:cubicBezTo>
                  <a:pt x="18996" y="18836"/>
                  <a:pt x="19401" y="18964"/>
                  <a:pt x="19798" y="19058"/>
                </a:cubicBezTo>
                <a:cubicBezTo>
                  <a:pt x="20042" y="19140"/>
                  <a:pt x="20325" y="19234"/>
                  <a:pt x="20516" y="19456"/>
                </a:cubicBezTo>
                <a:cubicBezTo>
                  <a:pt x="20707" y="19679"/>
                  <a:pt x="21035" y="19984"/>
                  <a:pt x="21241" y="20393"/>
                </a:cubicBezTo>
                <a:cubicBezTo>
                  <a:pt x="21394" y="20721"/>
                  <a:pt x="21600" y="21506"/>
                  <a:pt x="21600" y="21506"/>
                </a:cubicBezTo>
                <a:cubicBezTo>
                  <a:pt x="21600" y="21506"/>
                  <a:pt x="13469" y="21541"/>
                  <a:pt x="9399" y="21588"/>
                </a:cubicBezTo>
              </a:path>
            </a:pathLst>
          </a:custGeom>
          <a:noFill/>
          <a:ln w="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0720" y="1265400"/>
            <a:ext cx="5394240" cy="671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244"/>
                </a:moveTo>
                <a:cubicBezTo>
                  <a:pt x="21600" y="4244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0"/>
                  <a:pt x="0" y="0"/>
                </a:cubicBezTo>
                <a:cubicBezTo>
                  <a:pt x="0" y="0"/>
                  <a:pt x="18" y="4180"/>
                  <a:pt x="18" y="4180"/>
                </a:cubicBezTo>
                <a:cubicBezTo>
                  <a:pt x="68" y="4191"/>
                  <a:pt x="144" y="4209"/>
                  <a:pt x="213" y="4203"/>
                </a:cubicBezTo>
                <a:cubicBezTo>
                  <a:pt x="335" y="4197"/>
                  <a:pt x="418" y="4171"/>
                  <a:pt x="494" y="4171"/>
                </a:cubicBezTo>
                <a:cubicBezTo>
                  <a:pt x="566" y="4171"/>
                  <a:pt x="645" y="4191"/>
                  <a:pt x="710" y="4191"/>
                </a:cubicBezTo>
                <a:cubicBezTo>
                  <a:pt x="883" y="4191"/>
                  <a:pt x="1020" y="4154"/>
                  <a:pt x="1142" y="4148"/>
                </a:cubicBezTo>
                <a:cubicBezTo>
                  <a:pt x="1257" y="4142"/>
                  <a:pt x="1362" y="4203"/>
                  <a:pt x="1513" y="4203"/>
                </a:cubicBezTo>
                <a:cubicBezTo>
                  <a:pt x="1629" y="4203"/>
                  <a:pt x="1737" y="4165"/>
                  <a:pt x="1848" y="4160"/>
                </a:cubicBezTo>
                <a:cubicBezTo>
                  <a:pt x="1949" y="4154"/>
                  <a:pt x="2039" y="4209"/>
                  <a:pt x="2144" y="4220"/>
                </a:cubicBezTo>
                <a:cubicBezTo>
                  <a:pt x="2299" y="4241"/>
                  <a:pt x="2461" y="4197"/>
                  <a:pt x="2594" y="4186"/>
                </a:cubicBezTo>
                <a:cubicBezTo>
                  <a:pt x="3171" y="4142"/>
                  <a:pt x="3758" y="4116"/>
                  <a:pt x="4352" y="4116"/>
                </a:cubicBezTo>
                <a:cubicBezTo>
                  <a:pt x="5138" y="4110"/>
                  <a:pt x="5866" y="4148"/>
                  <a:pt x="6597" y="4180"/>
                </a:cubicBezTo>
                <a:cubicBezTo>
                  <a:pt x="6961" y="4191"/>
                  <a:pt x="7325" y="4203"/>
                  <a:pt x="7649" y="4180"/>
                </a:cubicBezTo>
                <a:cubicBezTo>
                  <a:pt x="7945" y="4160"/>
                  <a:pt x="8287" y="4278"/>
                  <a:pt x="8600" y="4203"/>
                </a:cubicBezTo>
                <a:cubicBezTo>
                  <a:pt x="8676" y="4186"/>
                  <a:pt x="8723" y="4122"/>
                  <a:pt x="8788" y="4099"/>
                </a:cubicBezTo>
                <a:cubicBezTo>
                  <a:pt x="8910" y="4050"/>
                  <a:pt x="9094" y="4142"/>
                  <a:pt x="9281" y="4136"/>
                </a:cubicBezTo>
                <a:cubicBezTo>
                  <a:pt x="9519" y="4131"/>
                  <a:pt x="9786" y="4148"/>
                  <a:pt x="10045" y="4165"/>
                </a:cubicBezTo>
                <a:cubicBezTo>
                  <a:pt x="10182" y="4191"/>
                  <a:pt x="10326" y="4215"/>
                  <a:pt x="10463" y="4220"/>
                </a:cubicBezTo>
                <a:cubicBezTo>
                  <a:pt x="10564" y="4229"/>
                  <a:pt x="10647" y="4197"/>
                  <a:pt x="10730" y="4191"/>
                </a:cubicBezTo>
                <a:cubicBezTo>
                  <a:pt x="10892" y="4180"/>
                  <a:pt x="11162" y="4220"/>
                  <a:pt x="11292" y="4186"/>
                </a:cubicBezTo>
                <a:cubicBezTo>
                  <a:pt x="11497" y="4131"/>
                  <a:pt x="11594" y="4154"/>
                  <a:pt x="11811" y="4160"/>
                </a:cubicBezTo>
                <a:cubicBezTo>
                  <a:pt x="12196" y="4171"/>
                  <a:pt x="12585" y="4165"/>
                  <a:pt x="12967" y="4171"/>
                </a:cubicBezTo>
                <a:cubicBezTo>
                  <a:pt x="13216" y="4171"/>
                  <a:pt x="13468" y="4154"/>
                  <a:pt x="13709" y="4186"/>
                </a:cubicBezTo>
                <a:cubicBezTo>
                  <a:pt x="13940" y="4215"/>
                  <a:pt x="14171" y="4270"/>
                  <a:pt x="14344" y="4278"/>
                </a:cubicBezTo>
                <a:cubicBezTo>
                  <a:pt x="14718" y="4293"/>
                  <a:pt x="14945" y="4235"/>
                  <a:pt x="15151" y="4241"/>
                </a:cubicBezTo>
                <a:cubicBezTo>
                  <a:pt x="15767" y="4258"/>
                  <a:pt x="16581" y="4209"/>
                  <a:pt x="17215" y="4215"/>
                </a:cubicBezTo>
                <a:cubicBezTo>
                  <a:pt x="17622" y="4220"/>
                  <a:pt x="17784" y="4186"/>
                  <a:pt x="17943" y="4197"/>
                </a:cubicBezTo>
                <a:cubicBezTo>
                  <a:pt x="18065" y="4209"/>
                  <a:pt x="18192" y="4278"/>
                  <a:pt x="18332" y="4278"/>
                </a:cubicBezTo>
                <a:cubicBezTo>
                  <a:pt x="18509" y="4284"/>
                  <a:pt x="18689" y="4229"/>
                  <a:pt x="18772" y="4220"/>
                </a:cubicBezTo>
                <a:cubicBezTo>
                  <a:pt x="18894" y="4215"/>
                  <a:pt x="18999" y="4284"/>
                  <a:pt x="19146" y="4287"/>
                </a:cubicBezTo>
                <a:cubicBezTo>
                  <a:pt x="19323" y="4293"/>
                  <a:pt x="19492" y="4235"/>
                  <a:pt x="19579" y="4220"/>
                </a:cubicBezTo>
                <a:cubicBezTo>
                  <a:pt x="19687" y="4203"/>
                  <a:pt x="19802" y="4191"/>
                  <a:pt x="19943" y="4203"/>
                </a:cubicBezTo>
                <a:cubicBezTo>
                  <a:pt x="20119" y="4220"/>
                  <a:pt x="20289" y="4293"/>
                  <a:pt x="20469" y="4293"/>
                </a:cubicBezTo>
                <a:cubicBezTo>
                  <a:pt x="20667" y="4293"/>
                  <a:pt x="20847" y="4209"/>
                  <a:pt x="21034" y="4209"/>
                </a:cubicBezTo>
                <a:cubicBezTo>
                  <a:pt x="21222" y="4209"/>
                  <a:pt x="21413" y="4264"/>
                  <a:pt x="21600" y="4244"/>
                </a:cubicBezTo>
              </a:path>
            </a:pathLst>
          </a:custGeom>
          <a:solidFill>
            <a:srgbClr val="fff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125800" y="3138480"/>
            <a:ext cx="3989160" cy="16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4"/>
                </a:moveTo>
                <a:cubicBezTo>
                  <a:pt x="21600" y="24"/>
                  <a:pt x="21600" y="21468"/>
                  <a:pt x="21600" y="21468"/>
                </a:cubicBezTo>
                <a:cubicBezTo>
                  <a:pt x="21313" y="21492"/>
                  <a:pt x="21025" y="21492"/>
                  <a:pt x="20738" y="21492"/>
                </a:cubicBezTo>
                <a:cubicBezTo>
                  <a:pt x="19218" y="21540"/>
                  <a:pt x="17683" y="21600"/>
                  <a:pt x="16163" y="21600"/>
                </a:cubicBezTo>
                <a:cubicBezTo>
                  <a:pt x="14955" y="21600"/>
                  <a:pt x="13757" y="21516"/>
                  <a:pt x="12549" y="21492"/>
                </a:cubicBezTo>
                <a:cubicBezTo>
                  <a:pt x="11005" y="21444"/>
                  <a:pt x="9460" y="21468"/>
                  <a:pt x="7921" y="21360"/>
                </a:cubicBezTo>
                <a:cubicBezTo>
                  <a:pt x="6201" y="21240"/>
                  <a:pt x="4487" y="20892"/>
                  <a:pt x="2767" y="20784"/>
                </a:cubicBezTo>
                <a:cubicBezTo>
                  <a:pt x="1953" y="20736"/>
                  <a:pt x="1140" y="20748"/>
                  <a:pt x="326" y="20808"/>
                </a:cubicBezTo>
                <a:cubicBezTo>
                  <a:pt x="102" y="19391"/>
                  <a:pt x="0" y="18118"/>
                  <a:pt x="73" y="16869"/>
                </a:cubicBezTo>
                <a:cubicBezTo>
                  <a:pt x="166" y="15152"/>
                  <a:pt x="658" y="13676"/>
                  <a:pt x="1257" y="12331"/>
                </a:cubicBezTo>
                <a:cubicBezTo>
                  <a:pt x="1627" y="11490"/>
                  <a:pt x="2027" y="10674"/>
                  <a:pt x="2455" y="9918"/>
                </a:cubicBezTo>
                <a:cubicBezTo>
                  <a:pt x="3400" y="8225"/>
                  <a:pt x="4491" y="7072"/>
                  <a:pt x="5534" y="5919"/>
                </a:cubicBezTo>
                <a:cubicBezTo>
                  <a:pt x="7025" y="4238"/>
                  <a:pt x="8642" y="3230"/>
                  <a:pt x="10259" y="2437"/>
                </a:cubicBezTo>
                <a:cubicBezTo>
                  <a:pt x="12305" y="1441"/>
                  <a:pt x="14390" y="732"/>
                  <a:pt x="16490" y="396"/>
                </a:cubicBezTo>
                <a:cubicBezTo>
                  <a:pt x="17240" y="276"/>
                  <a:pt x="18005" y="252"/>
                  <a:pt x="18765" y="192"/>
                </a:cubicBezTo>
                <a:cubicBezTo>
                  <a:pt x="19744" y="132"/>
                  <a:pt x="20718" y="0"/>
                  <a:pt x="21600" y="24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125800" y="3129120"/>
            <a:ext cx="3989160" cy="16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4"/>
                </a:moveTo>
                <a:cubicBezTo>
                  <a:pt x="21600" y="24"/>
                  <a:pt x="21600" y="21468"/>
                  <a:pt x="21600" y="21468"/>
                </a:cubicBezTo>
                <a:cubicBezTo>
                  <a:pt x="21313" y="21492"/>
                  <a:pt x="21025" y="21492"/>
                  <a:pt x="20738" y="21492"/>
                </a:cubicBezTo>
                <a:cubicBezTo>
                  <a:pt x="19218" y="21552"/>
                  <a:pt x="17683" y="21600"/>
                  <a:pt x="16163" y="21600"/>
                </a:cubicBezTo>
                <a:cubicBezTo>
                  <a:pt x="14955" y="21600"/>
                  <a:pt x="13757" y="21528"/>
                  <a:pt x="12549" y="21492"/>
                </a:cubicBezTo>
                <a:cubicBezTo>
                  <a:pt x="11005" y="21444"/>
                  <a:pt x="9460" y="21468"/>
                  <a:pt x="7921" y="21372"/>
                </a:cubicBezTo>
                <a:cubicBezTo>
                  <a:pt x="6201" y="21240"/>
                  <a:pt x="4487" y="20880"/>
                  <a:pt x="2767" y="20784"/>
                </a:cubicBezTo>
                <a:cubicBezTo>
                  <a:pt x="1953" y="20736"/>
                  <a:pt x="1140" y="20760"/>
                  <a:pt x="326" y="20808"/>
                </a:cubicBezTo>
                <a:cubicBezTo>
                  <a:pt x="102" y="19391"/>
                  <a:pt x="0" y="18130"/>
                  <a:pt x="73" y="16881"/>
                </a:cubicBezTo>
                <a:cubicBezTo>
                  <a:pt x="166" y="15152"/>
                  <a:pt x="658" y="13676"/>
                  <a:pt x="1257" y="12343"/>
                </a:cubicBezTo>
                <a:cubicBezTo>
                  <a:pt x="1627" y="11502"/>
                  <a:pt x="2027" y="10686"/>
                  <a:pt x="2455" y="9918"/>
                </a:cubicBezTo>
                <a:cubicBezTo>
                  <a:pt x="3400" y="8225"/>
                  <a:pt x="4491" y="7084"/>
                  <a:pt x="5534" y="5907"/>
                </a:cubicBezTo>
                <a:cubicBezTo>
                  <a:pt x="7025" y="4250"/>
                  <a:pt x="8642" y="3218"/>
                  <a:pt x="10259" y="2437"/>
                </a:cubicBezTo>
                <a:cubicBezTo>
                  <a:pt x="12305" y="1453"/>
                  <a:pt x="14390" y="732"/>
                  <a:pt x="16490" y="408"/>
                </a:cubicBezTo>
                <a:cubicBezTo>
                  <a:pt x="17240" y="288"/>
                  <a:pt x="18005" y="264"/>
                  <a:pt x="18765" y="204"/>
                </a:cubicBezTo>
                <a:cubicBezTo>
                  <a:pt x="19744" y="132"/>
                  <a:pt x="20718" y="0"/>
                  <a:pt x="21600" y="24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25800" y="3129120"/>
            <a:ext cx="3089160" cy="54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2"/>
                </a:moveTo>
                <a:cubicBezTo>
                  <a:pt x="21600" y="72"/>
                  <a:pt x="21600" y="21063"/>
                  <a:pt x="21600" y="21063"/>
                </a:cubicBezTo>
                <a:cubicBezTo>
                  <a:pt x="21059" y="21134"/>
                  <a:pt x="20518" y="21206"/>
                  <a:pt x="19970" y="21278"/>
                </a:cubicBezTo>
                <a:cubicBezTo>
                  <a:pt x="19027" y="21385"/>
                  <a:pt x="18089" y="21600"/>
                  <a:pt x="17145" y="21600"/>
                </a:cubicBezTo>
                <a:cubicBezTo>
                  <a:pt x="15214" y="21493"/>
                  <a:pt x="13276" y="21063"/>
                  <a:pt x="11344" y="20955"/>
                </a:cubicBezTo>
                <a:cubicBezTo>
                  <a:pt x="8928" y="20848"/>
                  <a:pt x="6525" y="21134"/>
                  <a:pt x="4109" y="20848"/>
                </a:cubicBezTo>
                <a:cubicBezTo>
                  <a:pt x="2737" y="20669"/>
                  <a:pt x="1372" y="20239"/>
                  <a:pt x="0" y="19773"/>
                </a:cubicBezTo>
                <a:cubicBezTo>
                  <a:pt x="277" y="19021"/>
                  <a:pt x="566" y="18412"/>
                  <a:pt x="849" y="17624"/>
                </a:cubicBezTo>
                <a:cubicBezTo>
                  <a:pt x="2775" y="12681"/>
                  <a:pt x="4864" y="9600"/>
                  <a:pt x="6953" y="7272"/>
                </a:cubicBezTo>
                <a:cubicBezTo>
                  <a:pt x="9595" y="4334"/>
                  <a:pt x="12288" y="2185"/>
                  <a:pt x="15000" y="1218"/>
                </a:cubicBezTo>
                <a:cubicBezTo>
                  <a:pt x="15969" y="860"/>
                  <a:pt x="16957" y="788"/>
                  <a:pt x="17938" y="609"/>
                </a:cubicBezTo>
                <a:cubicBezTo>
                  <a:pt x="19203" y="394"/>
                  <a:pt x="20461" y="0"/>
                  <a:pt x="21600" y="72"/>
                </a:cubicBez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08440" y="3629160"/>
            <a:ext cx="32065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400"/>
                </a:moveTo>
                <a:cubicBezTo>
                  <a:pt x="21600" y="6400"/>
                  <a:pt x="21600" y="20200"/>
                  <a:pt x="21600" y="20200"/>
                </a:cubicBezTo>
                <a:cubicBezTo>
                  <a:pt x="21321" y="20000"/>
                  <a:pt x="20964" y="20000"/>
                  <a:pt x="20752" y="19600"/>
                </a:cubicBezTo>
                <a:cubicBezTo>
                  <a:pt x="19861" y="18600"/>
                  <a:pt x="18952" y="21600"/>
                  <a:pt x="18073" y="21200"/>
                </a:cubicBezTo>
                <a:cubicBezTo>
                  <a:pt x="16842" y="20200"/>
                  <a:pt x="15655" y="19600"/>
                  <a:pt x="14424" y="19000"/>
                </a:cubicBezTo>
                <a:cubicBezTo>
                  <a:pt x="12248" y="18600"/>
                  <a:pt x="10097" y="18600"/>
                  <a:pt x="7921" y="18600"/>
                </a:cubicBezTo>
                <a:cubicBezTo>
                  <a:pt x="6224" y="18600"/>
                  <a:pt x="2315" y="12800"/>
                  <a:pt x="0" y="11800"/>
                </a:cubicBezTo>
                <a:cubicBezTo>
                  <a:pt x="267" y="7600"/>
                  <a:pt x="539" y="3800"/>
                  <a:pt x="806" y="0"/>
                </a:cubicBezTo>
                <a:cubicBezTo>
                  <a:pt x="2127" y="2400"/>
                  <a:pt x="3430" y="4200"/>
                  <a:pt x="4752" y="5200"/>
                </a:cubicBezTo>
                <a:cubicBezTo>
                  <a:pt x="7079" y="6800"/>
                  <a:pt x="9394" y="5200"/>
                  <a:pt x="11721" y="5800"/>
                </a:cubicBezTo>
                <a:cubicBezTo>
                  <a:pt x="13582" y="6400"/>
                  <a:pt x="15448" y="8800"/>
                  <a:pt x="17309" y="9400"/>
                </a:cubicBezTo>
                <a:cubicBezTo>
                  <a:pt x="18218" y="9400"/>
                  <a:pt x="19121" y="8200"/>
                  <a:pt x="20030" y="7600"/>
                </a:cubicBezTo>
                <a:cubicBezTo>
                  <a:pt x="20558" y="7200"/>
                  <a:pt x="21079" y="6800"/>
                  <a:pt x="21600" y="640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4640" y="3681360"/>
            <a:ext cx="3370320" cy="1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688"/>
                </a:moveTo>
                <a:cubicBezTo>
                  <a:pt x="21600" y="7688"/>
                  <a:pt x="21600" y="21600"/>
                  <a:pt x="21600" y="21600"/>
                </a:cubicBezTo>
                <a:cubicBezTo>
                  <a:pt x="21214" y="21417"/>
                  <a:pt x="20822" y="21417"/>
                  <a:pt x="20435" y="21417"/>
                </a:cubicBezTo>
                <a:cubicBezTo>
                  <a:pt x="19426" y="21417"/>
                  <a:pt x="18365" y="18854"/>
                  <a:pt x="17350" y="19403"/>
                </a:cubicBezTo>
                <a:cubicBezTo>
                  <a:pt x="15990" y="20136"/>
                  <a:pt x="14554" y="20685"/>
                  <a:pt x="13193" y="20136"/>
                </a:cubicBezTo>
                <a:cubicBezTo>
                  <a:pt x="11694" y="19769"/>
                  <a:pt x="10304" y="20685"/>
                  <a:pt x="8805" y="19769"/>
                </a:cubicBezTo>
                <a:cubicBezTo>
                  <a:pt x="5870" y="18305"/>
                  <a:pt x="2935" y="17939"/>
                  <a:pt x="0" y="17390"/>
                </a:cubicBezTo>
                <a:cubicBezTo>
                  <a:pt x="340" y="11166"/>
                  <a:pt x="698" y="5492"/>
                  <a:pt x="1049" y="0"/>
                </a:cubicBezTo>
                <a:cubicBezTo>
                  <a:pt x="3252" y="915"/>
                  <a:pt x="6971" y="6224"/>
                  <a:pt x="8586" y="6224"/>
                </a:cubicBezTo>
                <a:cubicBezTo>
                  <a:pt x="10656" y="6224"/>
                  <a:pt x="12703" y="6224"/>
                  <a:pt x="14773" y="6590"/>
                </a:cubicBezTo>
                <a:cubicBezTo>
                  <a:pt x="15943" y="7139"/>
                  <a:pt x="17074" y="7688"/>
                  <a:pt x="18244" y="8603"/>
                </a:cubicBezTo>
                <a:cubicBezTo>
                  <a:pt x="19080" y="8969"/>
                  <a:pt x="19945" y="6224"/>
                  <a:pt x="20793" y="7139"/>
                </a:cubicBezTo>
                <a:cubicBezTo>
                  <a:pt x="20995" y="7505"/>
                  <a:pt x="21335" y="7505"/>
                  <a:pt x="21600" y="7688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7760" y="3767040"/>
            <a:ext cx="342720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133"/>
                </a:moveTo>
                <a:cubicBezTo>
                  <a:pt x="21600" y="6133"/>
                  <a:pt x="21600" y="14667"/>
                  <a:pt x="21600" y="14667"/>
                </a:cubicBezTo>
                <a:cubicBezTo>
                  <a:pt x="20398" y="17067"/>
                  <a:pt x="19184" y="18133"/>
                  <a:pt x="17976" y="19200"/>
                </a:cubicBezTo>
                <a:cubicBezTo>
                  <a:pt x="16048" y="20533"/>
                  <a:pt x="14120" y="21600"/>
                  <a:pt x="12192" y="21067"/>
                </a:cubicBezTo>
                <a:cubicBezTo>
                  <a:pt x="9618" y="19733"/>
                  <a:pt x="7032" y="16533"/>
                  <a:pt x="4457" y="14133"/>
                </a:cubicBezTo>
                <a:cubicBezTo>
                  <a:pt x="2966" y="12533"/>
                  <a:pt x="1486" y="12000"/>
                  <a:pt x="0" y="9867"/>
                </a:cubicBezTo>
                <a:cubicBezTo>
                  <a:pt x="108" y="6133"/>
                  <a:pt x="238" y="2933"/>
                  <a:pt x="357" y="0"/>
                </a:cubicBezTo>
                <a:cubicBezTo>
                  <a:pt x="3244" y="800"/>
                  <a:pt x="6130" y="1333"/>
                  <a:pt x="9017" y="3467"/>
                </a:cubicBezTo>
                <a:cubicBezTo>
                  <a:pt x="10491" y="4800"/>
                  <a:pt x="11858" y="3467"/>
                  <a:pt x="13332" y="4000"/>
                </a:cubicBezTo>
                <a:cubicBezTo>
                  <a:pt x="14670" y="4800"/>
                  <a:pt x="16082" y="4000"/>
                  <a:pt x="17421" y="2933"/>
                </a:cubicBezTo>
                <a:cubicBezTo>
                  <a:pt x="18419" y="2133"/>
                  <a:pt x="19462" y="5867"/>
                  <a:pt x="20455" y="5867"/>
                </a:cubicBezTo>
                <a:cubicBezTo>
                  <a:pt x="20834" y="5867"/>
                  <a:pt x="21220" y="5867"/>
                  <a:pt x="21600" y="6133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44840" y="3798720"/>
            <a:ext cx="3570120" cy="13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824"/>
                </a:moveTo>
                <a:cubicBezTo>
                  <a:pt x="21600" y="2824"/>
                  <a:pt x="21600" y="19341"/>
                  <a:pt x="21600" y="19341"/>
                </a:cubicBezTo>
                <a:cubicBezTo>
                  <a:pt x="20282" y="19341"/>
                  <a:pt x="18959" y="19059"/>
                  <a:pt x="17636" y="19341"/>
                </a:cubicBezTo>
                <a:cubicBezTo>
                  <a:pt x="15714" y="19482"/>
                  <a:pt x="13787" y="21600"/>
                  <a:pt x="11864" y="21459"/>
                </a:cubicBezTo>
                <a:cubicBezTo>
                  <a:pt x="10035" y="21176"/>
                  <a:pt x="8195" y="18353"/>
                  <a:pt x="6371" y="17788"/>
                </a:cubicBezTo>
                <a:cubicBezTo>
                  <a:pt x="5173" y="17506"/>
                  <a:pt x="3975" y="19059"/>
                  <a:pt x="2782" y="18353"/>
                </a:cubicBezTo>
                <a:cubicBezTo>
                  <a:pt x="1846" y="17788"/>
                  <a:pt x="926" y="16659"/>
                  <a:pt x="0" y="15106"/>
                </a:cubicBezTo>
                <a:cubicBezTo>
                  <a:pt x="54" y="13835"/>
                  <a:pt x="136" y="12706"/>
                  <a:pt x="201" y="11435"/>
                </a:cubicBezTo>
                <a:cubicBezTo>
                  <a:pt x="425" y="7341"/>
                  <a:pt x="643" y="3529"/>
                  <a:pt x="871" y="0"/>
                </a:cubicBezTo>
                <a:cubicBezTo>
                  <a:pt x="2298" y="1129"/>
                  <a:pt x="3708" y="1694"/>
                  <a:pt x="5140" y="2541"/>
                </a:cubicBezTo>
                <a:cubicBezTo>
                  <a:pt x="7612" y="3812"/>
                  <a:pt x="10095" y="5506"/>
                  <a:pt x="12567" y="6212"/>
                </a:cubicBezTo>
                <a:cubicBezTo>
                  <a:pt x="14418" y="6494"/>
                  <a:pt x="16269" y="5929"/>
                  <a:pt x="18121" y="5224"/>
                </a:cubicBezTo>
                <a:cubicBezTo>
                  <a:pt x="19280" y="4659"/>
                  <a:pt x="20446" y="4094"/>
                  <a:pt x="21600" y="2824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87520" y="3895560"/>
            <a:ext cx="3727440" cy="1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580"/>
                </a:moveTo>
                <a:cubicBezTo>
                  <a:pt x="21600" y="3580"/>
                  <a:pt x="21600" y="19929"/>
                  <a:pt x="21600" y="19929"/>
                </a:cubicBezTo>
                <a:cubicBezTo>
                  <a:pt x="20270" y="19929"/>
                  <a:pt x="18920" y="19452"/>
                  <a:pt x="17585" y="19691"/>
                </a:cubicBezTo>
                <a:cubicBezTo>
                  <a:pt x="15592" y="19929"/>
                  <a:pt x="13590" y="21600"/>
                  <a:pt x="11593" y="21481"/>
                </a:cubicBezTo>
                <a:cubicBezTo>
                  <a:pt x="9700" y="21242"/>
                  <a:pt x="7796" y="18975"/>
                  <a:pt x="5888" y="18378"/>
                </a:cubicBezTo>
                <a:cubicBezTo>
                  <a:pt x="4657" y="18139"/>
                  <a:pt x="3411" y="19452"/>
                  <a:pt x="2164" y="18975"/>
                </a:cubicBezTo>
                <a:cubicBezTo>
                  <a:pt x="1439" y="18617"/>
                  <a:pt x="720" y="18020"/>
                  <a:pt x="0" y="16946"/>
                </a:cubicBezTo>
                <a:cubicBezTo>
                  <a:pt x="282" y="10860"/>
                  <a:pt x="605" y="5370"/>
                  <a:pt x="923" y="0"/>
                </a:cubicBezTo>
                <a:cubicBezTo>
                  <a:pt x="1810" y="1313"/>
                  <a:pt x="2680" y="2267"/>
                  <a:pt x="3577" y="2745"/>
                </a:cubicBezTo>
                <a:cubicBezTo>
                  <a:pt x="4719" y="3341"/>
                  <a:pt x="5867" y="2029"/>
                  <a:pt x="7014" y="2267"/>
                </a:cubicBezTo>
                <a:cubicBezTo>
                  <a:pt x="8761" y="2745"/>
                  <a:pt x="10524" y="5131"/>
                  <a:pt x="12276" y="5370"/>
                </a:cubicBezTo>
                <a:cubicBezTo>
                  <a:pt x="14117" y="5490"/>
                  <a:pt x="15963" y="3699"/>
                  <a:pt x="17804" y="3580"/>
                </a:cubicBezTo>
                <a:cubicBezTo>
                  <a:pt x="19071" y="3341"/>
                  <a:pt x="20338" y="3580"/>
                  <a:pt x="21600" y="358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5800" y="4183200"/>
            <a:ext cx="3989160" cy="56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85"/>
                </a:moveTo>
                <a:cubicBezTo>
                  <a:pt x="21600" y="585"/>
                  <a:pt x="21600" y="21222"/>
                  <a:pt x="21600" y="21222"/>
                </a:cubicBezTo>
                <a:cubicBezTo>
                  <a:pt x="21313" y="21290"/>
                  <a:pt x="21025" y="21290"/>
                  <a:pt x="20738" y="21290"/>
                </a:cubicBezTo>
                <a:cubicBezTo>
                  <a:pt x="19218" y="21462"/>
                  <a:pt x="17683" y="21600"/>
                  <a:pt x="16163" y="21600"/>
                </a:cubicBezTo>
                <a:cubicBezTo>
                  <a:pt x="14955" y="21600"/>
                  <a:pt x="13757" y="21394"/>
                  <a:pt x="12549" y="21290"/>
                </a:cubicBezTo>
                <a:cubicBezTo>
                  <a:pt x="11005" y="21153"/>
                  <a:pt x="9460" y="21222"/>
                  <a:pt x="7921" y="20946"/>
                </a:cubicBezTo>
                <a:cubicBezTo>
                  <a:pt x="6201" y="20568"/>
                  <a:pt x="4487" y="19536"/>
                  <a:pt x="2767" y="19261"/>
                </a:cubicBezTo>
                <a:cubicBezTo>
                  <a:pt x="1953" y="19124"/>
                  <a:pt x="1140" y="19192"/>
                  <a:pt x="326" y="19330"/>
                </a:cubicBezTo>
                <a:cubicBezTo>
                  <a:pt x="102" y="15271"/>
                  <a:pt x="0" y="11660"/>
                  <a:pt x="73" y="8083"/>
                </a:cubicBezTo>
                <a:cubicBezTo>
                  <a:pt x="122" y="5159"/>
                  <a:pt x="322" y="2476"/>
                  <a:pt x="594" y="0"/>
                </a:cubicBezTo>
                <a:cubicBezTo>
                  <a:pt x="3819" y="516"/>
                  <a:pt x="7015" y="929"/>
                  <a:pt x="10235" y="1169"/>
                </a:cubicBezTo>
                <a:cubicBezTo>
                  <a:pt x="13036" y="1307"/>
                  <a:pt x="15832" y="1238"/>
                  <a:pt x="18628" y="997"/>
                </a:cubicBezTo>
                <a:cubicBezTo>
                  <a:pt x="19617" y="929"/>
                  <a:pt x="20616" y="894"/>
                  <a:pt x="21600" y="58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35240" y="4186080"/>
            <a:ext cx="385776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547" y="9529"/>
                  <a:pt x="6429" y="14612"/>
                  <a:pt x="9971" y="19059"/>
                </a:cubicBezTo>
                <a:cubicBezTo>
                  <a:pt x="12868" y="21600"/>
                  <a:pt x="15760" y="20329"/>
                  <a:pt x="18652" y="15882"/>
                </a:cubicBezTo>
                <a:cubicBezTo>
                  <a:pt x="20058" y="14612"/>
                  <a:pt x="20199" y="19059"/>
                  <a:pt x="21600" y="12706"/>
                </a:cubicBezTo>
              </a:path>
            </a:pathLst>
          </a:custGeom>
          <a:solidFill>
            <a:srgbClr val="cccccc"/>
          </a:solidFill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71840" y="3903840"/>
            <a:ext cx="3543120" cy="3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938" y="5838"/>
                  <a:pt x="1700" y="5838"/>
                  <a:pt x="2644" y="8173"/>
                </a:cubicBezTo>
                <a:cubicBezTo>
                  <a:pt x="3845" y="11092"/>
                  <a:pt x="5052" y="4670"/>
                  <a:pt x="6258" y="5838"/>
                </a:cubicBezTo>
                <a:cubicBezTo>
                  <a:pt x="8096" y="8173"/>
                  <a:pt x="9950" y="19849"/>
                  <a:pt x="11793" y="21016"/>
                </a:cubicBezTo>
                <a:cubicBezTo>
                  <a:pt x="13729" y="21600"/>
                  <a:pt x="15671" y="12843"/>
                  <a:pt x="17607" y="12259"/>
                </a:cubicBezTo>
                <a:cubicBezTo>
                  <a:pt x="18940" y="11092"/>
                  <a:pt x="20273" y="12259"/>
                  <a:pt x="21600" y="12259"/>
                </a:cubicBezTo>
              </a:path>
            </a:pathLst>
          </a:custGeom>
          <a:noFill/>
          <a:ln w="72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7760" y="3809880"/>
            <a:ext cx="341460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812"/>
                </a:moveTo>
                <a:cubicBezTo>
                  <a:pt x="1673" y="12071"/>
                  <a:pt x="2800" y="0"/>
                  <a:pt x="4474" y="3812"/>
                </a:cubicBezTo>
                <a:cubicBezTo>
                  <a:pt x="7058" y="9529"/>
                  <a:pt x="9653" y="17153"/>
                  <a:pt x="12237" y="20329"/>
                </a:cubicBezTo>
                <a:cubicBezTo>
                  <a:pt x="14172" y="21600"/>
                  <a:pt x="16108" y="19059"/>
                  <a:pt x="18043" y="15882"/>
                </a:cubicBezTo>
                <a:cubicBezTo>
                  <a:pt x="19352" y="13341"/>
                  <a:pt x="20291" y="15882"/>
                  <a:pt x="21600" y="10800"/>
                </a:cubicBezTo>
              </a:path>
            </a:pathLst>
          </a:custGeom>
          <a:solidFill>
            <a:srgbClr val="999999"/>
          </a:solidFill>
          <a:ln w="72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772080"/>
            <a:ext cx="3341520" cy="1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600"/>
                </a:moveTo>
                <a:cubicBezTo>
                  <a:pt x="3001" y="7200"/>
                  <a:pt x="5700" y="0"/>
                  <a:pt x="8695" y="9600"/>
                </a:cubicBezTo>
                <a:cubicBezTo>
                  <a:pt x="10207" y="15600"/>
                  <a:pt x="11608" y="9600"/>
                  <a:pt x="13121" y="12000"/>
                </a:cubicBezTo>
                <a:cubicBezTo>
                  <a:pt x="14493" y="15600"/>
                  <a:pt x="15941" y="12000"/>
                  <a:pt x="17314" y="7200"/>
                </a:cubicBezTo>
                <a:cubicBezTo>
                  <a:pt x="18337" y="3600"/>
                  <a:pt x="19407" y="20400"/>
                  <a:pt x="20425" y="20400"/>
                </a:cubicBezTo>
                <a:cubicBezTo>
                  <a:pt x="20815" y="20400"/>
                  <a:pt x="21210" y="20400"/>
                  <a:pt x="21600" y="21600"/>
                </a:cubicBezTo>
              </a:path>
            </a:pathLst>
          </a:custGeom>
          <a:noFill/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40120" y="3683160"/>
            <a:ext cx="3174840" cy="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339" y="2298"/>
                  <a:pt x="6049" y="14706"/>
                  <a:pt x="7782" y="14706"/>
                </a:cubicBezTo>
                <a:cubicBezTo>
                  <a:pt x="9980" y="14706"/>
                  <a:pt x="12153" y="14706"/>
                  <a:pt x="14351" y="15626"/>
                </a:cubicBezTo>
                <a:cubicBezTo>
                  <a:pt x="15594" y="17004"/>
                  <a:pt x="16794" y="18383"/>
                  <a:pt x="18037" y="20681"/>
                </a:cubicBezTo>
                <a:cubicBezTo>
                  <a:pt x="18924" y="21600"/>
                  <a:pt x="19843" y="14706"/>
                  <a:pt x="20743" y="17004"/>
                </a:cubicBezTo>
                <a:cubicBezTo>
                  <a:pt x="20957" y="17923"/>
                  <a:pt x="21318" y="17923"/>
                  <a:pt x="21600" y="18383"/>
                </a:cubicBezTo>
              </a:path>
            </a:pathLst>
          </a:custGeom>
          <a:noFill/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560" y="3632040"/>
            <a:ext cx="3065400" cy="3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83" y="6530"/>
                  <a:pt x="2587" y="8540"/>
                  <a:pt x="3970" y="11051"/>
                </a:cubicBezTo>
                <a:cubicBezTo>
                  <a:pt x="6405" y="15070"/>
                  <a:pt x="8828" y="11051"/>
                  <a:pt x="11263" y="12558"/>
                </a:cubicBezTo>
                <a:cubicBezTo>
                  <a:pt x="13210" y="14065"/>
                  <a:pt x="15163" y="20093"/>
                  <a:pt x="17110" y="21600"/>
                </a:cubicBezTo>
                <a:cubicBezTo>
                  <a:pt x="18061" y="21600"/>
                  <a:pt x="19006" y="18586"/>
                  <a:pt x="19957" y="17079"/>
                </a:cubicBezTo>
                <a:cubicBezTo>
                  <a:pt x="20509" y="16074"/>
                  <a:pt x="21055" y="15070"/>
                  <a:pt x="21600" y="14065"/>
                </a:cubicBezTo>
              </a:path>
            </a:pathLst>
          </a:custGeom>
          <a:noFill/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87520" y="4024440"/>
            <a:ext cx="3727440" cy="3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" y="4670"/>
                  <a:pt x="1439" y="7005"/>
                  <a:pt x="2164" y="8757"/>
                </a:cubicBezTo>
                <a:cubicBezTo>
                  <a:pt x="3411" y="11092"/>
                  <a:pt x="4657" y="4670"/>
                  <a:pt x="5888" y="5838"/>
                </a:cubicBezTo>
                <a:cubicBezTo>
                  <a:pt x="7796" y="8757"/>
                  <a:pt x="9700" y="19849"/>
                  <a:pt x="11593" y="21016"/>
                </a:cubicBezTo>
                <a:cubicBezTo>
                  <a:pt x="13590" y="21600"/>
                  <a:pt x="15592" y="13427"/>
                  <a:pt x="17585" y="12259"/>
                </a:cubicBezTo>
                <a:cubicBezTo>
                  <a:pt x="18920" y="11092"/>
                  <a:pt x="20270" y="12259"/>
                  <a:pt x="21600" y="12259"/>
                </a:cubicBezTo>
              </a:path>
            </a:pathLst>
          </a:custGeom>
          <a:noFill/>
          <a:ln w="72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84480" y="4640400"/>
            <a:ext cx="3930480" cy="334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8"/>
                </a:moveTo>
                <a:cubicBezTo>
                  <a:pt x="21600" y="348"/>
                  <a:pt x="21600" y="21600"/>
                  <a:pt x="21600" y="21600"/>
                </a:cubicBezTo>
                <a:cubicBezTo>
                  <a:pt x="21600" y="21600"/>
                  <a:pt x="21447" y="21559"/>
                  <a:pt x="21447" y="21559"/>
                </a:cubicBezTo>
                <a:cubicBezTo>
                  <a:pt x="19523" y="21013"/>
                  <a:pt x="17758" y="19869"/>
                  <a:pt x="16057" y="18603"/>
                </a:cubicBezTo>
                <a:cubicBezTo>
                  <a:pt x="14449" y="17430"/>
                  <a:pt x="12956" y="16164"/>
                  <a:pt x="11527" y="14799"/>
                </a:cubicBezTo>
                <a:cubicBezTo>
                  <a:pt x="9677" y="13056"/>
                  <a:pt x="7863" y="11314"/>
                  <a:pt x="6127" y="9432"/>
                </a:cubicBezTo>
                <a:cubicBezTo>
                  <a:pt x="5143" y="8381"/>
                  <a:pt x="4203" y="7243"/>
                  <a:pt x="2893" y="5413"/>
                </a:cubicBezTo>
                <a:cubicBezTo>
                  <a:pt x="2082" y="4292"/>
                  <a:pt x="1350" y="3055"/>
                  <a:pt x="673" y="1632"/>
                </a:cubicBezTo>
                <a:cubicBezTo>
                  <a:pt x="391" y="1040"/>
                  <a:pt x="163" y="523"/>
                  <a:pt x="0" y="35"/>
                </a:cubicBezTo>
                <a:cubicBezTo>
                  <a:pt x="821" y="6"/>
                  <a:pt x="1657" y="0"/>
                  <a:pt x="2482" y="17"/>
                </a:cubicBezTo>
                <a:cubicBezTo>
                  <a:pt x="4228" y="70"/>
                  <a:pt x="5969" y="244"/>
                  <a:pt x="7714" y="302"/>
                </a:cubicBezTo>
                <a:cubicBezTo>
                  <a:pt x="9277" y="348"/>
                  <a:pt x="10845" y="343"/>
                  <a:pt x="12412" y="366"/>
                </a:cubicBezTo>
                <a:cubicBezTo>
                  <a:pt x="13638" y="378"/>
                  <a:pt x="14855" y="430"/>
                  <a:pt x="16081" y="430"/>
                </a:cubicBezTo>
                <a:cubicBezTo>
                  <a:pt x="17624" y="430"/>
                  <a:pt x="19182" y="389"/>
                  <a:pt x="20725" y="366"/>
                </a:cubicBezTo>
                <a:cubicBezTo>
                  <a:pt x="21016" y="366"/>
                  <a:pt x="21308" y="366"/>
                  <a:pt x="21600" y="348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9320" y="7543800"/>
            <a:ext cx="58896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72" y="21247"/>
                </a:moveTo>
                <a:cubicBezTo>
                  <a:pt x="14972" y="21247"/>
                  <a:pt x="21600" y="21600"/>
                  <a:pt x="21600" y="21600"/>
                </a:cubicBezTo>
                <a:cubicBezTo>
                  <a:pt x="21600" y="21600"/>
                  <a:pt x="21105" y="14547"/>
                  <a:pt x="20710" y="10976"/>
                </a:cubicBezTo>
                <a:cubicBezTo>
                  <a:pt x="20413" y="8816"/>
                  <a:pt x="20215" y="6612"/>
                  <a:pt x="19424" y="4761"/>
                </a:cubicBezTo>
                <a:cubicBezTo>
                  <a:pt x="18467" y="2160"/>
                  <a:pt x="16785" y="0"/>
                  <a:pt x="14972" y="441"/>
                </a:cubicBezTo>
                <a:cubicBezTo>
                  <a:pt x="12531" y="1102"/>
                  <a:pt x="11575" y="5422"/>
                  <a:pt x="9464" y="7273"/>
                </a:cubicBezTo>
                <a:cubicBezTo>
                  <a:pt x="6859" y="9566"/>
                  <a:pt x="3001" y="9478"/>
                  <a:pt x="956" y="12696"/>
                </a:cubicBezTo>
                <a:cubicBezTo>
                  <a:pt x="0" y="14150"/>
                  <a:pt x="1682" y="16575"/>
                  <a:pt x="2506" y="18162"/>
                </a:cubicBezTo>
                <a:cubicBezTo>
                  <a:pt x="3298" y="19528"/>
                  <a:pt x="5507" y="21380"/>
                  <a:pt x="5507" y="21380"/>
                </a:cubicBezTo>
                <a:cubicBezTo>
                  <a:pt x="5507" y="21380"/>
                  <a:pt x="14972" y="21247"/>
                  <a:pt x="14972" y="21247"/>
                </a:cubicBezTo>
              </a:path>
            </a:pathLst>
          </a:custGeom>
          <a:solidFill>
            <a:srgbClr val="99cc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1265400"/>
            <a:ext cx="539424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1352"/>
                  <a:pt x="21600" y="21352"/>
                </a:cubicBezTo>
                <a:cubicBezTo>
                  <a:pt x="21413" y="21454"/>
                  <a:pt x="21222" y="21178"/>
                  <a:pt x="21034" y="21178"/>
                </a:cubicBezTo>
                <a:cubicBezTo>
                  <a:pt x="20847" y="21178"/>
                  <a:pt x="20667" y="21600"/>
                  <a:pt x="20469" y="21600"/>
                </a:cubicBezTo>
                <a:cubicBezTo>
                  <a:pt x="20289" y="21600"/>
                  <a:pt x="20119" y="21236"/>
                  <a:pt x="19943" y="21148"/>
                </a:cubicBezTo>
                <a:cubicBezTo>
                  <a:pt x="19802" y="21090"/>
                  <a:pt x="19687" y="21148"/>
                  <a:pt x="19579" y="21236"/>
                </a:cubicBezTo>
                <a:cubicBezTo>
                  <a:pt x="19492" y="21309"/>
                  <a:pt x="19323" y="21600"/>
                  <a:pt x="19146" y="21571"/>
                </a:cubicBezTo>
                <a:cubicBezTo>
                  <a:pt x="18999" y="21556"/>
                  <a:pt x="18894" y="21207"/>
                  <a:pt x="18772" y="21236"/>
                </a:cubicBezTo>
                <a:cubicBezTo>
                  <a:pt x="18689" y="21280"/>
                  <a:pt x="18509" y="21556"/>
                  <a:pt x="18332" y="21527"/>
                </a:cubicBezTo>
                <a:cubicBezTo>
                  <a:pt x="18192" y="21527"/>
                  <a:pt x="18065" y="21178"/>
                  <a:pt x="17943" y="21119"/>
                </a:cubicBezTo>
                <a:cubicBezTo>
                  <a:pt x="17784" y="21061"/>
                  <a:pt x="17622" y="21236"/>
                  <a:pt x="17215" y="21207"/>
                </a:cubicBezTo>
                <a:cubicBezTo>
                  <a:pt x="16581" y="21178"/>
                  <a:pt x="15767" y="21425"/>
                  <a:pt x="15151" y="21338"/>
                </a:cubicBezTo>
                <a:cubicBezTo>
                  <a:pt x="14945" y="21309"/>
                  <a:pt x="14718" y="21600"/>
                  <a:pt x="14344" y="21527"/>
                </a:cubicBezTo>
                <a:cubicBezTo>
                  <a:pt x="14171" y="21483"/>
                  <a:pt x="13940" y="21207"/>
                  <a:pt x="13709" y="21061"/>
                </a:cubicBezTo>
                <a:cubicBezTo>
                  <a:pt x="13468" y="20901"/>
                  <a:pt x="13216" y="20988"/>
                  <a:pt x="12967" y="20988"/>
                </a:cubicBezTo>
                <a:cubicBezTo>
                  <a:pt x="12585" y="20959"/>
                  <a:pt x="12196" y="20988"/>
                  <a:pt x="11811" y="20930"/>
                </a:cubicBezTo>
                <a:cubicBezTo>
                  <a:pt x="11594" y="20901"/>
                  <a:pt x="11497" y="20784"/>
                  <a:pt x="11292" y="21061"/>
                </a:cubicBezTo>
                <a:cubicBezTo>
                  <a:pt x="11162" y="21236"/>
                  <a:pt x="10892" y="21032"/>
                  <a:pt x="10730" y="21090"/>
                </a:cubicBezTo>
                <a:cubicBezTo>
                  <a:pt x="10647" y="21119"/>
                  <a:pt x="10564" y="21280"/>
                  <a:pt x="10463" y="21236"/>
                </a:cubicBezTo>
                <a:cubicBezTo>
                  <a:pt x="10326" y="21207"/>
                  <a:pt x="10182" y="21090"/>
                  <a:pt x="10045" y="20959"/>
                </a:cubicBezTo>
                <a:cubicBezTo>
                  <a:pt x="9786" y="20872"/>
                  <a:pt x="9519" y="20784"/>
                  <a:pt x="9281" y="20813"/>
                </a:cubicBezTo>
                <a:cubicBezTo>
                  <a:pt x="9094" y="20843"/>
                  <a:pt x="8910" y="20377"/>
                  <a:pt x="8788" y="20624"/>
                </a:cubicBezTo>
                <a:cubicBezTo>
                  <a:pt x="8723" y="20741"/>
                  <a:pt x="8676" y="21061"/>
                  <a:pt x="8600" y="21148"/>
                </a:cubicBezTo>
                <a:cubicBezTo>
                  <a:pt x="8287" y="21527"/>
                  <a:pt x="7945" y="20930"/>
                  <a:pt x="7649" y="21032"/>
                </a:cubicBezTo>
                <a:cubicBezTo>
                  <a:pt x="7325" y="21148"/>
                  <a:pt x="6961" y="21090"/>
                  <a:pt x="6597" y="21032"/>
                </a:cubicBezTo>
                <a:cubicBezTo>
                  <a:pt x="5866" y="20872"/>
                  <a:pt x="5138" y="20682"/>
                  <a:pt x="4352" y="20712"/>
                </a:cubicBezTo>
                <a:cubicBezTo>
                  <a:pt x="3758" y="20712"/>
                  <a:pt x="3171" y="20843"/>
                  <a:pt x="2594" y="21061"/>
                </a:cubicBezTo>
                <a:cubicBezTo>
                  <a:pt x="2461" y="21119"/>
                  <a:pt x="2299" y="21338"/>
                  <a:pt x="2144" y="21236"/>
                </a:cubicBezTo>
                <a:cubicBezTo>
                  <a:pt x="2039" y="21178"/>
                  <a:pt x="1949" y="20901"/>
                  <a:pt x="1848" y="20930"/>
                </a:cubicBezTo>
                <a:cubicBezTo>
                  <a:pt x="1737" y="20959"/>
                  <a:pt x="1629" y="21148"/>
                  <a:pt x="1513" y="21148"/>
                </a:cubicBezTo>
                <a:cubicBezTo>
                  <a:pt x="1362" y="21148"/>
                  <a:pt x="1257" y="20843"/>
                  <a:pt x="1142" y="20872"/>
                </a:cubicBezTo>
                <a:cubicBezTo>
                  <a:pt x="1020" y="20901"/>
                  <a:pt x="883" y="21090"/>
                  <a:pt x="710" y="21090"/>
                </a:cubicBezTo>
                <a:cubicBezTo>
                  <a:pt x="645" y="21090"/>
                  <a:pt x="566" y="20988"/>
                  <a:pt x="494" y="20988"/>
                </a:cubicBezTo>
                <a:cubicBezTo>
                  <a:pt x="418" y="20988"/>
                  <a:pt x="335" y="21119"/>
                  <a:pt x="213" y="21148"/>
                </a:cubicBezTo>
                <a:cubicBezTo>
                  <a:pt x="144" y="21178"/>
                  <a:pt x="68" y="21090"/>
                  <a:pt x="18" y="21032"/>
                </a:cubicBezTo>
                <a:cubicBezTo>
                  <a:pt x="18" y="21032"/>
                  <a:pt x="0" y="0"/>
                  <a:pt x="0" y="0"/>
                </a:cubicBezTo>
              </a:path>
            </a:pathLst>
          </a:cu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960" y="2536920"/>
            <a:ext cx="539568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7" y="10800"/>
                  <a:pt x="7" y="11314"/>
                  <a:pt x="11" y="11314"/>
                </a:cubicBezTo>
                <a:cubicBezTo>
                  <a:pt x="65" y="12600"/>
                  <a:pt x="141" y="14143"/>
                  <a:pt x="213" y="13371"/>
                </a:cubicBezTo>
                <a:cubicBezTo>
                  <a:pt x="335" y="13114"/>
                  <a:pt x="414" y="10800"/>
                  <a:pt x="494" y="10800"/>
                </a:cubicBezTo>
                <a:cubicBezTo>
                  <a:pt x="558" y="10800"/>
                  <a:pt x="645" y="12600"/>
                  <a:pt x="706" y="12600"/>
                </a:cubicBezTo>
                <a:cubicBezTo>
                  <a:pt x="879" y="12600"/>
                  <a:pt x="1016" y="9257"/>
                  <a:pt x="1139" y="8743"/>
                </a:cubicBezTo>
                <a:cubicBezTo>
                  <a:pt x="1254" y="8229"/>
                  <a:pt x="1362" y="13371"/>
                  <a:pt x="1513" y="13371"/>
                </a:cubicBezTo>
                <a:cubicBezTo>
                  <a:pt x="1629" y="13371"/>
                  <a:pt x="1733" y="10286"/>
                  <a:pt x="1848" y="9771"/>
                </a:cubicBezTo>
                <a:cubicBezTo>
                  <a:pt x="1946" y="9257"/>
                  <a:pt x="2036" y="14143"/>
                  <a:pt x="2144" y="15171"/>
                </a:cubicBezTo>
                <a:cubicBezTo>
                  <a:pt x="2295" y="16971"/>
                  <a:pt x="2454" y="13114"/>
                  <a:pt x="2594" y="12086"/>
                </a:cubicBezTo>
                <a:cubicBezTo>
                  <a:pt x="3171" y="8229"/>
                  <a:pt x="3754" y="5914"/>
                  <a:pt x="4349" y="5914"/>
                </a:cubicBezTo>
                <a:cubicBezTo>
                  <a:pt x="5134" y="5400"/>
                  <a:pt x="5862" y="8743"/>
                  <a:pt x="6597" y="11314"/>
                </a:cubicBezTo>
                <a:cubicBezTo>
                  <a:pt x="6961" y="12600"/>
                  <a:pt x="7325" y="13371"/>
                  <a:pt x="7642" y="11314"/>
                </a:cubicBezTo>
                <a:cubicBezTo>
                  <a:pt x="7941" y="9771"/>
                  <a:pt x="8283" y="20057"/>
                  <a:pt x="8597" y="13371"/>
                </a:cubicBezTo>
                <a:cubicBezTo>
                  <a:pt x="8672" y="12086"/>
                  <a:pt x="8716" y="6429"/>
                  <a:pt x="8784" y="4371"/>
                </a:cubicBezTo>
                <a:cubicBezTo>
                  <a:pt x="8907" y="0"/>
                  <a:pt x="9090" y="8229"/>
                  <a:pt x="9281" y="7714"/>
                </a:cubicBezTo>
                <a:cubicBezTo>
                  <a:pt x="9519" y="6943"/>
                  <a:pt x="9786" y="8743"/>
                  <a:pt x="10042" y="10286"/>
                </a:cubicBezTo>
                <a:cubicBezTo>
                  <a:pt x="10178" y="12600"/>
                  <a:pt x="10323" y="14657"/>
                  <a:pt x="10460" y="15171"/>
                </a:cubicBezTo>
                <a:cubicBezTo>
                  <a:pt x="10557" y="15686"/>
                  <a:pt x="10643" y="13114"/>
                  <a:pt x="10726" y="12600"/>
                </a:cubicBezTo>
                <a:cubicBezTo>
                  <a:pt x="10885" y="11314"/>
                  <a:pt x="11158" y="15171"/>
                  <a:pt x="11292" y="12086"/>
                </a:cubicBezTo>
                <a:cubicBezTo>
                  <a:pt x="11494" y="6943"/>
                  <a:pt x="11594" y="9257"/>
                  <a:pt x="11807" y="9771"/>
                </a:cubicBezTo>
                <a:cubicBezTo>
                  <a:pt x="12196" y="10800"/>
                  <a:pt x="12585" y="10286"/>
                  <a:pt x="12964" y="10800"/>
                </a:cubicBezTo>
                <a:cubicBezTo>
                  <a:pt x="13212" y="10800"/>
                  <a:pt x="13468" y="9257"/>
                  <a:pt x="13709" y="12086"/>
                </a:cubicBezTo>
                <a:cubicBezTo>
                  <a:pt x="13940" y="14657"/>
                  <a:pt x="14167" y="19543"/>
                  <a:pt x="14340" y="20057"/>
                </a:cubicBezTo>
                <a:cubicBezTo>
                  <a:pt x="14711" y="21600"/>
                  <a:pt x="14942" y="16457"/>
                  <a:pt x="15147" y="16971"/>
                </a:cubicBezTo>
                <a:cubicBezTo>
                  <a:pt x="15763" y="18514"/>
                  <a:pt x="16577" y="14143"/>
                  <a:pt x="17208" y="14657"/>
                </a:cubicBezTo>
                <a:cubicBezTo>
                  <a:pt x="17622" y="15171"/>
                  <a:pt x="17781" y="12086"/>
                  <a:pt x="17939" y="13114"/>
                </a:cubicBezTo>
                <a:cubicBezTo>
                  <a:pt x="18062" y="14143"/>
                  <a:pt x="18192" y="20057"/>
                  <a:pt x="18328" y="20057"/>
                </a:cubicBezTo>
                <a:cubicBezTo>
                  <a:pt x="18501" y="20829"/>
                  <a:pt x="18685" y="15686"/>
                  <a:pt x="18768" y="15171"/>
                </a:cubicBezTo>
                <a:cubicBezTo>
                  <a:pt x="18891" y="14657"/>
                  <a:pt x="18999" y="20829"/>
                  <a:pt x="19143" y="21086"/>
                </a:cubicBezTo>
                <a:cubicBezTo>
                  <a:pt x="19316" y="21600"/>
                  <a:pt x="19492" y="16457"/>
                  <a:pt x="19575" y="15171"/>
                </a:cubicBezTo>
                <a:cubicBezTo>
                  <a:pt x="19683" y="13371"/>
                  <a:pt x="19795" y="12600"/>
                  <a:pt x="19943" y="13371"/>
                </a:cubicBezTo>
                <a:cubicBezTo>
                  <a:pt x="20116" y="15171"/>
                  <a:pt x="20281" y="21600"/>
                  <a:pt x="20465" y="21600"/>
                </a:cubicBezTo>
                <a:cubicBezTo>
                  <a:pt x="20663" y="21600"/>
                  <a:pt x="20847" y="14143"/>
                  <a:pt x="21031" y="14143"/>
                </a:cubicBezTo>
                <a:cubicBezTo>
                  <a:pt x="21218" y="14143"/>
                  <a:pt x="21413" y="19029"/>
                  <a:pt x="21600" y="17229"/>
                </a:cubicBezTo>
              </a:path>
            </a:pathLst>
          </a:custGeom>
          <a:noFill/>
          <a:ln w="3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11960" y="7818480"/>
            <a:ext cx="43632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22" y="0"/>
                </a:moveTo>
                <a:cubicBezTo>
                  <a:pt x="10889" y="6071"/>
                  <a:pt x="16178" y="11792"/>
                  <a:pt x="21422" y="15879"/>
                </a:cubicBezTo>
                <a:cubicBezTo>
                  <a:pt x="21511" y="19382"/>
                  <a:pt x="21600" y="21600"/>
                  <a:pt x="21600" y="21600"/>
                </a:cubicBezTo>
                <a:cubicBezTo>
                  <a:pt x="21600" y="21600"/>
                  <a:pt x="12667" y="20666"/>
                  <a:pt x="12667" y="20666"/>
                </a:cubicBezTo>
                <a:cubicBezTo>
                  <a:pt x="12667" y="20666"/>
                  <a:pt x="4889" y="21016"/>
                  <a:pt x="4889" y="21016"/>
                </a:cubicBezTo>
                <a:cubicBezTo>
                  <a:pt x="4889" y="21016"/>
                  <a:pt x="3822" y="13194"/>
                  <a:pt x="2933" y="10041"/>
                </a:cubicBezTo>
                <a:cubicBezTo>
                  <a:pt x="2089" y="7239"/>
                  <a:pt x="1067" y="5137"/>
                  <a:pt x="0" y="3152"/>
                </a:cubicBezTo>
                <a:cubicBezTo>
                  <a:pt x="578" y="3152"/>
                  <a:pt x="1111" y="3152"/>
                  <a:pt x="1733" y="3152"/>
                </a:cubicBezTo>
                <a:cubicBezTo>
                  <a:pt x="3200" y="2919"/>
                  <a:pt x="4489" y="1401"/>
                  <a:pt x="5822" y="0"/>
                </a:cubicBez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6680" y="6124680"/>
            <a:ext cx="133524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" y="17946"/>
                </a:moveTo>
                <a:cubicBezTo>
                  <a:pt x="0" y="15382"/>
                  <a:pt x="640" y="12762"/>
                  <a:pt x="2067" y="10412"/>
                </a:cubicBezTo>
                <a:cubicBezTo>
                  <a:pt x="2533" y="9659"/>
                  <a:pt x="3260" y="8962"/>
                  <a:pt x="3391" y="8152"/>
                </a:cubicBezTo>
                <a:cubicBezTo>
                  <a:pt x="3537" y="7106"/>
                  <a:pt x="2896" y="6173"/>
                  <a:pt x="2649" y="5184"/>
                </a:cubicBezTo>
                <a:cubicBezTo>
                  <a:pt x="2387" y="4160"/>
                  <a:pt x="2489" y="3081"/>
                  <a:pt x="3100" y="2170"/>
                </a:cubicBezTo>
                <a:cubicBezTo>
                  <a:pt x="3682" y="1259"/>
                  <a:pt x="4701" y="562"/>
                  <a:pt x="5939" y="214"/>
                </a:cubicBezTo>
                <a:cubicBezTo>
                  <a:pt x="6681" y="0"/>
                  <a:pt x="7496" y="34"/>
                  <a:pt x="8209" y="146"/>
                </a:cubicBezTo>
                <a:cubicBezTo>
                  <a:pt x="8922" y="259"/>
                  <a:pt x="9534" y="472"/>
                  <a:pt x="10043" y="765"/>
                </a:cubicBezTo>
                <a:cubicBezTo>
                  <a:pt x="10916" y="1214"/>
                  <a:pt x="11717" y="1777"/>
                  <a:pt x="12226" y="2474"/>
                </a:cubicBezTo>
                <a:cubicBezTo>
                  <a:pt x="12576" y="2923"/>
                  <a:pt x="12765" y="3418"/>
                  <a:pt x="12911" y="4014"/>
                </a:cubicBezTo>
                <a:cubicBezTo>
                  <a:pt x="13012" y="4441"/>
                  <a:pt x="13012" y="5105"/>
                  <a:pt x="13129" y="5543"/>
                </a:cubicBezTo>
                <a:cubicBezTo>
                  <a:pt x="13260" y="5982"/>
                  <a:pt x="13507" y="6443"/>
                  <a:pt x="13842" y="6870"/>
                </a:cubicBezTo>
                <a:cubicBezTo>
                  <a:pt x="14512" y="7770"/>
                  <a:pt x="15443" y="8557"/>
                  <a:pt x="16418" y="9265"/>
                </a:cubicBezTo>
                <a:cubicBezTo>
                  <a:pt x="17408" y="9962"/>
                  <a:pt x="18485" y="10648"/>
                  <a:pt x="19344" y="11458"/>
                </a:cubicBezTo>
                <a:cubicBezTo>
                  <a:pt x="19460" y="11570"/>
                  <a:pt x="19591" y="11694"/>
                  <a:pt x="19708" y="11818"/>
                </a:cubicBezTo>
                <a:cubicBezTo>
                  <a:pt x="20450" y="12571"/>
                  <a:pt x="21061" y="13403"/>
                  <a:pt x="21338" y="14336"/>
                </a:cubicBezTo>
                <a:cubicBezTo>
                  <a:pt x="21600" y="15258"/>
                  <a:pt x="21600" y="16259"/>
                  <a:pt x="21338" y="17204"/>
                </a:cubicBezTo>
                <a:cubicBezTo>
                  <a:pt x="21178" y="17777"/>
                  <a:pt x="20843" y="18294"/>
                  <a:pt x="20377" y="18755"/>
                </a:cubicBezTo>
                <a:cubicBezTo>
                  <a:pt x="19984" y="19138"/>
                  <a:pt x="19402" y="19317"/>
                  <a:pt x="18965" y="19655"/>
                </a:cubicBezTo>
                <a:cubicBezTo>
                  <a:pt x="18529" y="20003"/>
                  <a:pt x="18296" y="20487"/>
                  <a:pt x="17801" y="20824"/>
                </a:cubicBezTo>
                <a:cubicBezTo>
                  <a:pt x="17277" y="21173"/>
                  <a:pt x="16506" y="21443"/>
                  <a:pt x="15691" y="21465"/>
                </a:cubicBezTo>
                <a:cubicBezTo>
                  <a:pt x="11106" y="21600"/>
                  <a:pt x="6637" y="20419"/>
                  <a:pt x="2242" y="19340"/>
                </a:cubicBezTo>
                <a:cubicBezTo>
                  <a:pt x="1354" y="19138"/>
                  <a:pt x="58" y="18677"/>
                  <a:pt x="58" y="17946"/>
                </a:cubicBezTo>
              </a:path>
            </a:pathLst>
          </a:custGeom>
          <a:solidFill>
            <a:srgbClr val="cccc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7200" y="6329520"/>
            <a:ext cx="2546280" cy="165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99" y="21577"/>
                </a:moveTo>
                <a:cubicBezTo>
                  <a:pt x="6246" y="21600"/>
                  <a:pt x="0" y="21495"/>
                  <a:pt x="0" y="21495"/>
                </a:cubicBezTo>
                <a:cubicBezTo>
                  <a:pt x="0" y="21495"/>
                  <a:pt x="168" y="20909"/>
                  <a:pt x="191" y="20639"/>
                </a:cubicBezTo>
                <a:cubicBezTo>
                  <a:pt x="305" y="19351"/>
                  <a:pt x="336" y="18215"/>
                  <a:pt x="450" y="17020"/>
                </a:cubicBezTo>
                <a:cubicBezTo>
                  <a:pt x="550" y="15989"/>
                  <a:pt x="710" y="14923"/>
                  <a:pt x="825" y="13881"/>
                </a:cubicBezTo>
                <a:cubicBezTo>
                  <a:pt x="1000" y="12241"/>
                  <a:pt x="1115" y="10589"/>
                  <a:pt x="1481" y="9020"/>
                </a:cubicBezTo>
                <a:cubicBezTo>
                  <a:pt x="1726" y="8012"/>
                  <a:pt x="2130" y="7098"/>
                  <a:pt x="2627" y="6337"/>
                </a:cubicBezTo>
                <a:cubicBezTo>
                  <a:pt x="3230" y="5412"/>
                  <a:pt x="3986" y="4814"/>
                  <a:pt x="4673" y="4100"/>
                </a:cubicBezTo>
                <a:cubicBezTo>
                  <a:pt x="5016" y="3748"/>
                  <a:pt x="5436" y="3549"/>
                  <a:pt x="5742" y="3139"/>
                </a:cubicBezTo>
                <a:cubicBezTo>
                  <a:pt x="5910" y="2882"/>
                  <a:pt x="6101" y="2565"/>
                  <a:pt x="6101" y="2214"/>
                </a:cubicBezTo>
                <a:cubicBezTo>
                  <a:pt x="6101" y="1300"/>
                  <a:pt x="5986" y="164"/>
                  <a:pt x="5986" y="164"/>
                </a:cubicBezTo>
                <a:cubicBezTo>
                  <a:pt x="5986" y="164"/>
                  <a:pt x="7353" y="234"/>
                  <a:pt x="8032" y="211"/>
                </a:cubicBezTo>
                <a:cubicBezTo>
                  <a:pt x="8582" y="199"/>
                  <a:pt x="9139" y="0"/>
                  <a:pt x="9697" y="23"/>
                </a:cubicBezTo>
                <a:cubicBezTo>
                  <a:pt x="10155" y="35"/>
                  <a:pt x="10628" y="258"/>
                  <a:pt x="10338" y="633"/>
                </a:cubicBezTo>
                <a:cubicBezTo>
                  <a:pt x="10117" y="925"/>
                  <a:pt x="10094" y="1406"/>
                  <a:pt x="10078" y="1874"/>
                </a:cubicBezTo>
                <a:cubicBezTo>
                  <a:pt x="10063" y="2249"/>
                  <a:pt x="10048" y="2624"/>
                  <a:pt x="10178" y="2917"/>
                </a:cubicBezTo>
                <a:cubicBezTo>
                  <a:pt x="10498" y="3655"/>
                  <a:pt x="11063" y="4006"/>
                  <a:pt x="11560" y="4475"/>
                </a:cubicBezTo>
                <a:cubicBezTo>
                  <a:pt x="12079" y="4967"/>
                  <a:pt x="12514" y="5505"/>
                  <a:pt x="12934" y="6103"/>
                </a:cubicBezTo>
                <a:cubicBezTo>
                  <a:pt x="13698" y="7169"/>
                  <a:pt x="14133" y="8680"/>
                  <a:pt x="14599" y="10191"/>
                </a:cubicBezTo>
                <a:cubicBezTo>
                  <a:pt x="14904" y="11210"/>
                  <a:pt x="15179" y="12170"/>
                  <a:pt x="15515" y="13166"/>
                </a:cubicBezTo>
                <a:cubicBezTo>
                  <a:pt x="15835" y="14056"/>
                  <a:pt x="16210" y="14947"/>
                  <a:pt x="16576" y="15837"/>
                </a:cubicBezTo>
                <a:cubicBezTo>
                  <a:pt x="16965" y="16751"/>
                  <a:pt x="17355" y="17746"/>
                  <a:pt x="17943" y="18285"/>
                </a:cubicBezTo>
                <a:cubicBezTo>
                  <a:pt x="18225" y="18531"/>
                  <a:pt x="18561" y="18730"/>
                  <a:pt x="18882" y="18812"/>
                </a:cubicBezTo>
                <a:cubicBezTo>
                  <a:pt x="18996" y="18836"/>
                  <a:pt x="19401" y="18953"/>
                  <a:pt x="19798" y="19046"/>
                </a:cubicBezTo>
                <a:cubicBezTo>
                  <a:pt x="20042" y="19128"/>
                  <a:pt x="20325" y="19222"/>
                  <a:pt x="20516" y="19445"/>
                </a:cubicBezTo>
                <a:cubicBezTo>
                  <a:pt x="20707" y="19679"/>
                  <a:pt x="21035" y="19972"/>
                  <a:pt x="21241" y="20393"/>
                </a:cubicBezTo>
                <a:cubicBezTo>
                  <a:pt x="21394" y="20710"/>
                  <a:pt x="21600" y="21495"/>
                  <a:pt x="21600" y="21495"/>
                </a:cubicBezTo>
                <a:cubicBezTo>
                  <a:pt x="21600" y="21495"/>
                  <a:pt x="13469" y="21530"/>
                  <a:pt x="9399" y="21577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0280" y="5599080"/>
            <a:ext cx="56196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" y="19190"/>
                </a:moveTo>
                <a:cubicBezTo>
                  <a:pt x="138" y="18917"/>
                  <a:pt x="69" y="18508"/>
                  <a:pt x="69" y="18144"/>
                </a:cubicBezTo>
                <a:cubicBezTo>
                  <a:pt x="0" y="16143"/>
                  <a:pt x="0" y="14006"/>
                  <a:pt x="69" y="11914"/>
                </a:cubicBezTo>
                <a:cubicBezTo>
                  <a:pt x="69" y="10459"/>
                  <a:pt x="277" y="7867"/>
                  <a:pt x="346" y="5366"/>
                </a:cubicBezTo>
                <a:cubicBezTo>
                  <a:pt x="346" y="4502"/>
                  <a:pt x="415" y="3547"/>
                  <a:pt x="865" y="2956"/>
                </a:cubicBezTo>
                <a:cubicBezTo>
                  <a:pt x="1523" y="2092"/>
                  <a:pt x="2527" y="2046"/>
                  <a:pt x="3565" y="2274"/>
                </a:cubicBezTo>
                <a:cubicBezTo>
                  <a:pt x="4396" y="2501"/>
                  <a:pt x="5192" y="3183"/>
                  <a:pt x="5988" y="3547"/>
                </a:cubicBezTo>
                <a:cubicBezTo>
                  <a:pt x="6646" y="3820"/>
                  <a:pt x="7304" y="4320"/>
                  <a:pt x="7892" y="4320"/>
                </a:cubicBezTo>
                <a:cubicBezTo>
                  <a:pt x="8827" y="4320"/>
                  <a:pt x="9935" y="3820"/>
                  <a:pt x="10800" y="2956"/>
                </a:cubicBezTo>
                <a:cubicBezTo>
                  <a:pt x="11458" y="2274"/>
                  <a:pt x="12046" y="1273"/>
                  <a:pt x="13015" y="682"/>
                </a:cubicBezTo>
                <a:cubicBezTo>
                  <a:pt x="13604" y="273"/>
                  <a:pt x="14296" y="0"/>
                  <a:pt x="14954" y="182"/>
                </a:cubicBezTo>
                <a:cubicBezTo>
                  <a:pt x="16131" y="591"/>
                  <a:pt x="17238" y="1364"/>
                  <a:pt x="18035" y="2501"/>
                </a:cubicBezTo>
                <a:cubicBezTo>
                  <a:pt x="18969" y="3820"/>
                  <a:pt x="19488" y="5457"/>
                  <a:pt x="19973" y="7185"/>
                </a:cubicBezTo>
                <a:cubicBezTo>
                  <a:pt x="20735" y="10459"/>
                  <a:pt x="21115" y="13915"/>
                  <a:pt x="21600" y="17371"/>
                </a:cubicBezTo>
                <a:cubicBezTo>
                  <a:pt x="21427" y="17598"/>
                  <a:pt x="21254" y="17871"/>
                  <a:pt x="21046" y="18053"/>
                </a:cubicBezTo>
                <a:cubicBezTo>
                  <a:pt x="20008" y="18735"/>
                  <a:pt x="18935" y="19508"/>
                  <a:pt x="17827" y="19963"/>
                </a:cubicBezTo>
                <a:cubicBezTo>
                  <a:pt x="15335" y="20963"/>
                  <a:pt x="12635" y="21418"/>
                  <a:pt x="10004" y="21509"/>
                </a:cubicBezTo>
                <a:cubicBezTo>
                  <a:pt x="7719" y="21600"/>
                  <a:pt x="5400" y="21191"/>
                  <a:pt x="3115" y="20463"/>
                </a:cubicBezTo>
                <a:cubicBezTo>
                  <a:pt x="2112" y="20054"/>
                  <a:pt x="1073" y="19690"/>
                  <a:pt x="138" y="1919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8200" y="5943600"/>
            <a:ext cx="1152720" cy="5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13" y="21489"/>
                </a:moveTo>
                <a:cubicBezTo>
                  <a:pt x="8201" y="21415"/>
                  <a:pt x="7088" y="20933"/>
                  <a:pt x="5991" y="20451"/>
                </a:cubicBezTo>
                <a:cubicBezTo>
                  <a:pt x="4253" y="19673"/>
                  <a:pt x="2464" y="18710"/>
                  <a:pt x="861" y="16598"/>
                </a:cubicBezTo>
                <a:cubicBezTo>
                  <a:pt x="405" y="15968"/>
                  <a:pt x="0" y="14746"/>
                  <a:pt x="0" y="13486"/>
                </a:cubicBezTo>
                <a:cubicBezTo>
                  <a:pt x="0" y="12375"/>
                  <a:pt x="439" y="11448"/>
                  <a:pt x="776" y="10670"/>
                </a:cubicBezTo>
                <a:cubicBezTo>
                  <a:pt x="1283" y="9485"/>
                  <a:pt x="1890" y="8484"/>
                  <a:pt x="2498" y="7558"/>
                </a:cubicBezTo>
                <a:cubicBezTo>
                  <a:pt x="3038" y="6669"/>
                  <a:pt x="3510" y="5743"/>
                  <a:pt x="3999" y="5002"/>
                </a:cubicBezTo>
                <a:cubicBezTo>
                  <a:pt x="4168" y="4779"/>
                  <a:pt x="4354" y="4557"/>
                  <a:pt x="4506" y="4224"/>
                </a:cubicBezTo>
                <a:cubicBezTo>
                  <a:pt x="4742" y="5261"/>
                  <a:pt x="5029" y="6187"/>
                  <a:pt x="5417" y="6817"/>
                </a:cubicBezTo>
                <a:cubicBezTo>
                  <a:pt x="6497" y="8484"/>
                  <a:pt x="7881" y="8855"/>
                  <a:pt x="9113" y="9003"/>
                </a:cubicBezTo>
                <a:cubicBezTo>
                  <a:pt x="10344" y="9188"/>
                  <a:pt x="11593" y="8855"/>
                  <a:pt x="12724" y="8299"/>
                </a:cubicBezTo>
                <a:cubicBezTo>
                  <a:pt x="13973" y="7669"/>
                  <a:pt x="15188" y="6669"/>
                  <a:pt x="15542" y="3853"/>
                </a:cubicBezTo>
                <a:cubicBezTo>
                  <a:pt x="15694" y="2742"/>
                  <a:pt x="15373" y="630"/>
                  <a:pt x="15373" y="630"/>
                </a:cubicBezTo>
                <a:cubicBezTo>
                  <a:pt x="15373" y="630"/>
                  <a:pt x="15458" y="0"/>
                  <a:pt x="15458" y="0"/>
                </a:cubicBezTo>
                <a:cubicBezTo>
                  <a:pt x="15542" y="815"/>
                  <a:pt x="15694" y="1556"/>
                  <a:pt x="15947" y="2038"/>
                </a:cubicBezTo>
                <a:cubicBezTo>
                  <a:pt x="16251" y="2668"/>
                  <a:pt x="16689" y="3297"/>
                  <a:pt x="17196" y="3557"/>
                </a:cubicBezTo>
                <a:cubicBezTo>
                  <a:pt x="17786" y="3853"/>
                  <a:pt x="18428" y="3668"/>
                  <a:pt x="19035" y="3668"/>
                </a:cubicBezTo>
                <a:cubicBezTo>
                  <a:pt x="19558" y="3668"/>
                  <a:pt x="20098" y="3557"/>
                  <a:pt x="20638" y="3742"/>
                </a:cubicBezTo>
                <a:cubicBezTo>
                  <a:pt x="21026" y="3927"/>
                  <a:pt x="21347" y="4483"/>
                  <a:pt x="21465" y="5261"/>
                </a:cubicBezTo>
                <a:cubicBezTo>
                  <a:pt x="21600" y="6187"/>
                  <a:pt x="21465" y="7225"/>
                  <a:pt x="21246" y="8077"/>
                </a:cubicBezTo>
                <a:cubicBezTo>
                  <a:pt x="20723" y="10115"/>
                  <a:pt x="20031" y="11930"/>
                  <a:pt x="19238" y="13560"/>
                </a:cubicBezTo>
                <a:cubicBezTo>
                  <a:pt x="18276" y="15598"/>
                  <a:pt x="17145" y="17413"/>
                  <a:pt x="15947" y="18710"/>
                </a:cubicBezTo>
                <a:cubicBezTo>
                  <a:pt x="14934" y="19822"/>
                  <a:pt x="13804" y="20526"/>
                  <a:pt x="12690" y="20933"/>
                </a:cubicBezTo>
                <a:cubicBezTo>
                  <a:pt x="11728" y="21304"/>
                  <a:pt x="10412" y="21600"/>
                  <a:pt x="9113" y="21489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8200" y="5599080"/>
            <a:ext cx="1152720" cy="87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13" y="21533"/>
                </a:moveTo>
                <a:cubicBezTo>
                  <a:pt x="8201" y="21488"/>
                  <a:pt x="7088" y="21197"/>
                  <a:pt x="5991" y="20906"/>
                </a:cubicBezTo>
                <a:cubicBezTo>
                  <a:pt x="4253" y="20436"/>
                  <a:pt x="2464" y="19854"/>
                  <a:pt x="861" y="18578"/>
                </a:cubicBezTo>
                <a:cubicBezTo>
                  <a:pt x="405" y="18198"/>
                  <a:pt x="0" y="17459"/>
                  <a:pt x="0" y="16698"/>
                </a:cubicBezTo>
                <a:cubicBezTo>
                  <a:pt x="0" y="16027"/>
                  <a:pt x="439" y="15467"/>
                  <a:pt x="776" y="14997"/>
                </a:cubicBezTo>
                <a:cubicBezTo>
                  <a:pt x="1283" y="14281"/>
                  <a:pt x="1890" y="13676"/>
                  <a:pt x="2498" y="13117"/>
                </a:cubicBezTo>
                <a:cubicBezTo>
                  <a:pt x="3038" y="12579"/>
                  <a:pt x="3510" y="12020"/>
                  <a:pt x="3999" y="11572"/>
                </a:cubicBezTo>
                <a:cubicBezTo>
                  <a:pt x="4388" y="11259"/>
                  <a:pt x="4809" y="10923"/>
                  <a:pt x="4961" y="10408"/>
                </a:cubicBezTo>
                <a:cubicBezTo>
                  <a:pt x="5063" y="9983"/>
                  <a:pt x="4995" y="9446"/>
                  <a:pt x="4961" y="8931"/>
                </a:cubicBezTo>
                <a:cubicBezTo>
                  <a:pt x="4928" y="7946"/>
                  <a:pt x="4928" y="6894"/>
                  <a:pt x="4961" y="5864"/>
                </a:cubicBezTo>
                <a:cubicBezTo>
                  <a:pt x="4961" y="5148"/>
                  <a:pt x="5063" y="3872"/>
                  <a:pt x="5096" y="2641"/>
                </a:cubicBezTo>
                <a:cubicBezTo>
                  <a:pt x="5096" y="2216"/>
                  <a:pt x="5130" y="1746"/>
                  <a:pt x="5349" y="1455"/>
                </a:cubicBezTo>
                <a:cubicBezTo>
                  <a:pt x="5670" y="1030"/>
                  <a:pt x="6159" y="1007"/>
                  <a:pt x="6666" y="1119"/>
                </a:cubicBezTo>
                <a:cubicBezTo>
                  <a:pt x="7071" y="1231"/>
                  <a:pt x="7459" y="1567"/>
                  <a:pt x="7847" y="1746"/>
                </a:cubicBezTo>
                <a:cubicBezTo>
                  <a:pt x="8168" y="1880"/>
                  <a:pt x="8488" y="2126"/>
                  <a:pt x="8775" y="2126"/>
                </a:cubicBezTo>
                <a:cubicBezTo>
                  <a:pt x="9231" y="2126"/>
                  <a:pt x="9771" y="1880"/>
                  <a:pt x="10193" y="1455"/>
                </a:cubicBezTo>
                <a:cubicBezTo>
                  <a:pt x="10513" y="1119"/>
                  <a:pt x="10800" y="627"/>
                  <a:pt x="11273" y="336"/>
                </a:cubicBezTo>
                <a:cubicBezTo>
                  <a:pt x="11559" y="134"/>
                  <a:pt x="11897" y="0"/>
                  <a:pt x="12218" y="90"/>
                </a:cubicBezTo>
                <a:cubicBezTo>
                  <a:pt x="12791" y="291"/>
                  <a:pt x="13331" y="672"/>
                  <a:pt x="13719" y="1231"/>
                </a:cubicBezTo>
                <a:cubicBezTo>
                  <a:pt x="14175" y="1880"/>
                  <a:pt x="14428" y="2686"/>
                  <a:pt x="14664" y="3537"/>
                </a:cubicBezTo>
                <a:cubicBezTo>
                  <a:pt x="15036" y="5148"/>
                  <a:pt x="15221" y="6849"/>
                  <a:pt x="15458" y="8550"/>
                </a:cubicBezTo>
                <a:cubicBezTo>
                  <a:pt x="15542" y="9043"/>
                  <a:pt x="15694" y="9491"/>
                  <a:pt x="15947" y="9782"/>
                </a:cubicBezTo>
                <a:cubicBezTo>
                  <a:pt x="16251" y="10162"/>
                  <a:pt x="16689" y="10543"/>
                  <a:pt x="17196" y="10699"/>
                </a:cubicBezTo>
                <a:cubicBezTo>
                  <a:pt x="17786" y="10878"/>
                  <a:pt x="18428" y="10766"/>
                  <a:pt x="19035" y="10766"/>
                </a:cubicBezTo>
                <a:cubicBezTo>
                  <a:pt x="19558" y="10766"/>
                  <a:pt x="20098" y="10699"/>
                  <a:pt x="20638" y="10811"/>
                </a:cubicBezTo>
                <a:cubicBezTo>
                  <a:pt x="21026" y="10923"/>
                  <a:pt x="21347" y="11259"/>
                  <a:pt x="21465" y="11729"/>
                </a:cubicBezTo>
                <a:cubicBezTo>
                  <a:pt x="21600" y="12288"/>
                  <a:pt x="21465" y="12915"/>
                  <a:pt x="21246" y="13430"/>
                </a:cubicBezTo>
                <a:cubicBezTo>
                  <a:pt x="20723" y="14661"/>
                  <a:pt x="20031" y="15758"/>
                  <a:pt x="19238" y="16743"/>
                </a:cubicBezTo>
                <a:cubicBezTo>
                  <a:pt x="18276" y="17974"/>
                  <a:pt x="17145" y="19071"/>
                  <a:pt x="15947" y="19854"/>
                </a:cubicBezTo>
                <a:cubicBezTo>
                  <a:pt x="14934" y="20526"/>
                  <a:pt x="13804" y="20951"/>
                  <a:pt x="12690" y="21197"/>
                </a:cubicBezTo>
                <a:cubicBezTo>
                  <a:pt x="11728" y="21421"/>
                  <a:pt x="10412" y="21600"/>
                  <a:pt x="9113" y="2153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47960" y="5958000"/>
            <a:ext cx="5968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178"/>
                </a:moveTo>
                <a:cubicBezTo>
                  <a:pt x="391" y="8436"/>
                  <a:pt x="717" y="7509"/>
                  <a:pt x="880" y="6304"/>
                </a:cubicBezTo>
                <a:cubicBezTo>
                  <a:pt x="1010" y="5099"/>
                  <a:pt x="1010" y="3708"/>
                  <a:pt x="945" y="2318"/>
                </a:cubicBezTo>
                <a:cubicBezTo>
                  <a:pt x="1824" y="3337"/>
                  <a:pt x="2802" y="4079"/>
                  <a:pt x="3747" y="4913"/>
                </a:cubicBezTo>
                <a:cubicBezTo>
                  <a:pt x="5897" y="6397"/>
                  <a:pt x="8080" y="7231"/>
                  <a:pt x="10230" y="7045"/>
                </a:cubicBezTo>
                <a:cubicBezTo>
                  <a:pt x="12706" y="6860"/>
                  <a:pt x="15247" y="5933"/>
                  <a:pt x="17593" y="3894"/>
                </a:cubicBezTo>
                <a:cubicBezTo>
                  <a:pt x="18635" y="2967"/>
                  <a:pt x="19645" y="1391"/>
                  <a:pt x="20623" y="0"/>
                </a:cubicBezTo>
                <a:cubicBezTo>
                  <a:pt x="20623" y="0"/>
                  <a:pt x="20981" y="185"/>
                  <a:pt x="20981" y="185"/>
                </a:cubicBezTo>
                <a:cubicBezTo>
                  <a:pt x="20981" y="185"/>
                  <a:pt x="21600" y="5470"/>
                  <a:pt x="21307" y="8251"/>
                </a:cubicBezTo>
                <a:cubicBezTo>
                  <a:pt x="20623" y="15296"/>
                  <a:pt x="18277" y="17799"/>
                  <a:pt x="15866" y="19375"/>
                </a:cubicBezTo>
                <a:cubicBezTo>
                  <a:pt x="13683" y="20766"/>
                  <a:pt x="11272" y="21600"/>
                  <a:pt x="8894" y="21136"/>
                </a:cubicBezTo>
                <a:cubicBezTo>
                  <a:pt x="6516" y="20766"/>
                  <a:pt x="3844" y="19839"/>
                  <a:pt x="1759" y="15667"/>
                </a:cubicBezTo>
                <a:cubicBezTo>
                  <a:pt x="1010" y="14091"/>
                  <a:pt x="456" y="11773"/>
                  <a:pt x="0" y="9178"/>
                </a:cubicBezTo>
              </a:path>
            </a:pathLst>
          </a:custGeom>
          <a:solidFill>
            <a:srgbClr val="cc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21440" y="6267600"/>
            <a:ext cx="330120" cy="14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825" y="561"/>
                  <a:pt x="5827" y="1135"/>
                  <a:pt x="6003" y="1888"/>
                </a:cubicBezTo>
                <a:cubicBezTo>
                  <a:pt x="6121" y="2791"/>
                  <a:pt x="2766" y="3502"/>
                  <a:pt x="3237" y="4432"/>
                </a:cubicBezTo>
                <a:cubicBezTo>
                  <a:pt x="3708" y="5349"/>
                  <a:pt x="8181" y="5882"/>
                  <a:pt x="11300" y="6635"/>
                </a:cubicBezTo>
                <a:cubicBezTo>
                  <a:pt x="13360" y="7127"/>
                  <a:pt x="14949" y="7756"/>
                  <a:pt x="15067" y="8386"/>
                </a:cubicBezTo>
                <a:cubicBezTo>
                  <a:pt x="15126" y="9179"/>
                  <a:pt x="13066" y="9931"/>
                  <a:pt x="11595" y="10697"/>
                </a:cubicBezTo>
                <a:cubicBezTo>
                  <a:pt x="10300" y="11340"/>
                  <a:pt x="9476" y="12038"/>
                  <a:pt x="9711" y="12695"/>
                </a:cubicBezTo>
                <a:cubicBezTo>
                  <a:pt x="9947" y="13461"/>
                  <a:pt x="12065" y="14090"/>
                  <a:pt x="14066" y="14664"/>
                </a:cubicBezTo>
                <a:cubicBezTo>
                  <a:pt x="16303" y="15280"/>
                  <a:pt x="18893" y="15814"/>
                  <a:pt x="20129" y="16552"/>
                </a:cubicBezTo>
                <a:cubicBezTo>
                  <a:pt x="21600" y="17387"/>
                  <a:pt x="20894" y="18344"/>
                  <a:pt x="20129" y="19233"/>
                </a:cubicBezTo>
                <a:cubicBezTo>
                  <a:pt x="19540" y="19986"/>
                  <a:pt x="18540" y="20766"/>
                  <a:pt x="15950" y="21231"/>
                </a:cubicBezTo>
                <a:cubicBezTo>
                  <a:pt x="13831" y="21600"/>
                  <a:pt x="10771" y="21573"/>
                  <a:pt x="7710" y="2153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6840360"/>
            <a:ext cx="244440" cy="77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0" y="0"/>
                </a:moveTo>
                <a:cubicBezTo>
                  <a:pt x="2374" y="1521"/>
                  <a:pt x="0" y="3118"/>
                  <a:pt x="475" y="4689"/>
                </a:cubicBezTo>
                <a:cubicBezTo>
                  <a:pt x="791" y="6061"/>
                  <a:pt x="3560" y="7383"/>
                  <a:pt x="6646" y="8430"/>
                </a:cubicBezTo>
                <a:cubicBezTo>
                  <a:pt x="11156" y="9952"/>
                  <a:pt x="16378" y="11224"/>
                  <a:pt x="18752" y="13120"/>
                </a:cubicBezTo>
                <a:cubicBezTo>
                  <a:pt x="20888" y="14791"/>
                  <a:pt x="21600" y="16811"/>
                  <a:pt x="19385" y="18607"/>
                </a:cubicBezTo>
                <a:cubicBezTo>
                  <a:pt x="17881" y="19829"/>
                  <a:pt x="14400" y="20727"/>
                  <a:pt x="10998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78480" y="6978600"/>
            <a:ext cx="12384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21" y="21600"/>
                </a:moveTo>
                <a:cubicBezTo>
                  <a:pt x="14347" y="20641"/>
                  <a:pt x="18447" y="19640"/>
                  <a:pt x="19708" y="18431"/>
                </a:cubicBezTo>
                <a:cubicBezTo>
                  <a:pt x="21600" y="16346"/>
                  <a:pt x="19708" y="14011"/>
                  <a:pt x="16082" y="12051"/>
                </a:cubicBezTo>
                <a:cubicBezTo>
                  <a:pt x="12613" y="10383"/>
                  <a:pt x="7253" y="9090"/>
                  <a:pt x="3784" y="7506"/>
                </a:cubicBezTo>
                <a:cubicBezTo>
                  <a:pt x="1419" y="6422"/>
                  <a:pt x="0" y="5171"/>
                  <a:pt x="315" y="4045"/>
                </a:cubicBezTo>
                <a:cubicBezTo>
                  <a:pt x="631" y="2627"/>
                  <a:pt x="2996" y="1293"/>
                  <a:pt x="5361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73600" y="7129440"/>
            <a:ext cx="9396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6" y="1460"/>
                  <a:pt x="14194" y="2705"/>
                  <a:pt x="17691" y="4466"/>
                </a:cubicBezTo>
                <a:cubicBezTo>
                  <a:pt x="21600" y="6355"/>
                  <a:pt x="21600" y="8631"/>
                  <a:pt x="18103" y="10607"/>
                </a:cubicBezTo>
                <a:cubicBezTo>
                  <a:pt x="15017" y="12410"/>
                  <a:pt x="7817" y="13870"/>
                  <a:pt x="6994" y="15717"/>
                </a:cubicBezTo>
                <a:cubicBezTo>
                  <a:pt x="6377" y="16962"/>
                  <a:pt x="10903" y="18122"/>
                  <a:pt x="12549" y="19410"/>
                </a:cubicBezTo>
                <a:cubicBezTo>
                  <a:pt x="13371" y="20140"/>
                  <a:pt x="13989" y="20870"/>
                  <a:pt x="14194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0040" y="4522680"/>
            <a:ext cx="995400" cy="136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093" y="8908"/>
                  <a:pt x="21093" y="8908"/>
                </a:cubicBezTo>
                <a:cubicBezTo>
                  <a:pt x="21093" y="8908"/>
                  <a:pt x="12527" y="8908"/>
                  <a:pt x="12527" y="8908"/>
                </a:cubicBezTo>
                <a:cubicBezTo>
                  <a:pt x="12527" y="8908"/>
                  <a:pt x="11980" y="285"/>
                  <a:pt x="11980" y="285"/>
                </a:cubicBezTo>
                <a:cubicBezTo>
                  <a:pt x="11980" y="285"/>
                  <a:pt x="0" y="0"/>
                  <a:pt x="0" y="0"/>
                </a:cubicBezTo>
                <a:cubicBezTo>
                  <a:pt x="0" y="0"/>
                  <a:pt x="1034" y="18711"/>
                  <a:pt x="1034" y="18711"/>
                </a:cubicBezTo>
                <a:cubicBezTo>
                  <a:pt x="1034" y="18711"/>
                  <a:pt x="6420" y="19380"/>
                  <a:pt x="10205" y="19878"/>
                </a:cubicBezTo>
                <a:cubicBezTo>
                  <a:pt x="13268" y="20305"/>
                  <a:pt x="21600" y="21600"/>
                  <a:pt x="21600" y="21600"/>
                </a:cubicBezTo>
              </a:path>
            </a:pathLst>
          </a:custGeom>
          <a:solidFill>
            <a:srgbClr val="ccb8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5680" y="4532400"/>
            <a:ext cx="766800" cy="10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296" y="11267"/>
                  <a:pt x="21296" y="11267"/>
                </a:cubicBezTo>
                <a:cubicBezTo>
                  <a:pt x="21296" y="11267"/>
                  <a:pt x="10180" y="11267"/>
                  <a:pt x="10180" y="11267"/>
                </a:cubicBezTo>
                <a:cubicBezTo>
                  <a:pt x="10180" y="11267"/>
                  <a:pt x="9471" y="165"/>
                  <a:pt x="9471" y="165"/>
                </a:cubicBezTo>
                <a:cubicBezTo>
                  <a:pt x="9471" y="165"/>
                  <a:pt x="0" y="0"/>
                  <a:pt x="0" y="0"/>
                </a:cubicBezTo>
              </a:path>
            </a:pathLst>
          </a:custGeom>
          <a:noFill/>
          <a:ln w="144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2840" y="5316480"/>
            <a:ext cx="7308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73" y="21600"/>
                </a:moveTo>
                <a:cubicBezTo>
                  <a:pt x="21073" y="21600"/>
                  <a:pt x="1580" y="21198"/>
                  <a:pt x="1580" y="21198"/>
                </a:cubicBezTo>
                <a:cubicBezTo>
                  <a:pt x="1580" y="21198"/>
                  <a:pt x="0" y="0"/>
                  <a:pt x="0" y="0"/>
                </a:cubicBezTo>
                <a:cubicBezTo>
                  <a:pt x="0" y="0"/>
                  <a:pt x="21600" y="268"/>
                  <a:pt x="21600" y="268"/>
                </a:cubicBezTo>
                <a:cubicBezTo>
                  <a:pt x="21600" y="268"/>
                  <a:pt x="21073" y="21600"/>
                  <a:pt x="21073" y="21600"/>
                </a:cubicBezTo>
              </a:path>
            </a:pathLst>
          </a:custGeom>
          <a:solidFill>
            <a:srgbClr val="ffff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5524560"/>
            <a:ext cx="7488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73" y="21600"/>
                </a:moveTo>
                <a:cubicBezTo>
                  <a:pt x="21073" y="21600"/>
                  <a:pt x="1580" y="21198"/>
                  <a:pt x="1580" y="21198"/>
                </a:cubicBezTo>
                <a:cubicBezTo>
                  <a:pt x="1580" y="21198"/>
                  <a:pt x="0" y="0"/>
                  <a:pt x="0" y="0"/>
                </a:cubicBezTo>
                <a:cubicBezTo>
                  <a:pt x="0" y="0"/>
                  <a:pt x="21600" y="402"/>
                  <a:pt x="21600" y="402"/>
                </a:cubicBezTo>
                <a:cubicBezTo>
                  <a:pt x="21600" y="402"/>
                  <a:pt x="21073" y="21600"/>
                  <a:pt x="21073" y="21600"/>
                </a:cubicBezTo>
              </a:path>
            </a:pathLst>
          </a:custGeom>
          <a:solidFill>
            <a:srgbClr val="ffff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1080" y="4780080"/>
            <a:ext cx="7452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80" y="21600"/>
                </a:moveTo>
                <a:cubicBezTo>
                  <a:pt x="21080" y="21600"/>
                  <a:pt x="1822" y="21368"/>
                  <a:pt x="1822" y="21368"/>
                </a:cubicBezTo>
                <a:cubicBezTo>
                  <a:pt x="1822" y="21368"/>
                  <a:pt x="0" y="0"/>
                  <a:pt x="0" y="0"/>
                </a:cubicBezTo>
                <a:cubicBezTo>
                  <a:pt x="0" y="0"/>
                  <a:pt x="21600" y="232"/>
                  <a:pt x="21600" y="232"/>
                </a:cubicBezTo>
                <a:cubicBezTo>
                  <a:pt x="21600" y="232"/>
                  <a:pt x="21080" y="21600"/>
                  <a:pt x="21080" y="21600"/>
                </a:cubicBezTo>
              </a:path>
            </a:pathLst>
          </a:custGeom>
          <a:solidFill>
            <a:srgbClr val="ffff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5960" y="4780080"/>
            <a:ext cx="7272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73" y="21600"/>
                </a:moveTo>
                <a:cubicBezTo>
                  <a:pt x="21073" y="21600"/>
                  <a:pt x="1580" y="21368"/>
                  <a:pt x="1580" y="21368"/>
                </a:cubicBezTo>
                <a:cubicBezTo>
                  <a:pt x="1580" y="21368"/>
                  <a:pt x="0" y="0"/>
                  <a:pt x="0" y="0"/>
                </a:cubicBezTo>
                <a:cubicBezTo>
                  <a:pt x="0" y="0"/>
                  <a:pt x="21600" y="232"/>
                  <a:pt x="21600" y="232"/>
                </a:cubicBezTo>
                <a:cubicBezTo>
                  <a:pt x="21600" y="232"/>
                  <a:pt x="21073" y="21600"/>
                  <a:pt x="21073" y="21600"/>
                </a:cubicBezTo>
              </a:path>
            </a:pathLst>
          </a:custGeom>
          <a:solidFill>
            <a:srgbClr val="ffff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6560" y="4103640"/>
            <a:ext cx="3348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426" y="18428"/>
                  <a:pt x="21426" y="16808"/>
                </a:cubicBezTo>
                <a:cubicBezTo>
                  <a:pt x="21310" y="11340"/>
                  <a:pt x="21194" y="338"/>
                  <a:pt x="21194" y="338"/>
                </a:cubicBezTo>
                <a:cubicBezTo>
                  <a:pt x="21194" y="338"/>
                  <a:pt x="13877" y="203"/>
                  <a:pt x="10161" y="203"/>
                </a:cubicBezTo>
                <a:cubicBezTo>
                  <a:pt x="6735" y="203"/>
                  <a:pt x="0" y="0"/>
                  <a:pt x="0" y="0"/>
                </a:cubicBezTo>
                <a:cubicBezTo>
                  <a:pt x="0" y="0"/>
                  <a:pt x="581" y="9180"/>
                  <a:pt x="987" y="13838"/>
                </a:cubicBezTo>
                <a:cubicBezTo>
                  <a:pt x="1219" y="16268"/>
                  <a:pt x="1742" y="21128"/>
                  <a:pt x="1742" y="21128"/>
                </a:cubicBezTo>
                <a:cubicBezTo>
                  <a:pt x="1742" y="21128"/>
                  <a:pt x="21600" y="21600"/>
                  <a:pt x="21600" y="21600"/>
                </a:cubicBezTo>
              </a:path>
            </a:pathLst>
          </a:custGeom>
          <a:solidFill>
            <a:srgbClr val="ccb8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03320" y="4108320"/>
            <a:ext cx="3319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541" y="14487"/>
                  <a:pt x="21366" y="347"/>
                  <a:pt x="21366" y="347"/>
                </a:cubicBezTo>
                <a:cubicBezTo>
                  <a:pt x="21366" y="347"/>
                  <a:pt x="13932" y="173"/>
                  <a:pt x="10244" y="173"/>
                </a:cubicBezTo>
                <a:cubicBezTo>
                  <a:pt x="6790" y="173"/>
                  <a:pt x="0" y="0"/>
                  <a:pt x="0" y="0"/>
                </a:cubicBezTo>
                <a:cubicBezTo>
                  <a:pt x="0" y="0"/>
                  <a:pt x="585" y="11711"/>
                  <a:pt x="995" y="17783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62080" y="4230720"/>
            <a:ext cx="8424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8514"/>
                </a:moveTo>
                <a:cubicBezTo>
                  <a:pt x="21600" y="18514"/>
                  <a:pt x="0" y="21600"/>
                  <a:pt x="0" y="21600"/>
                </a:cubicBezTo>
                <a:cubicBezTo>
                  <a:pt x="0" y="21600"/>
                  <a:pt x="0" y="686"/>
                  <a:pt x="0" y="686"/>
                </a:cubicBezTo>
                <a:cubicBezTo>
                  <a:pt x="0" y="686"/>
                  <a:pt x="19277" y="0"/>
                  <a:pt x="19277" y="0"/>
                </a:cubicBezTo>
                <a:cubicBezTo>
                  <a:pt x="19277" y="0"/>
                  <a:pt x="21600" y="18514"/>
                  <a:pt x="21600" y="18514"/>
                </a:cubicBezTo>
              </a:path>
            </a:pathLst>
          </a:custGeom>
          <a:solidFill>
            <a:srgbClr val="ffff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240" y="3755880"/>
            <a:ext cx="1800" cy="648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21600"/>
                </a:moveTo>
                <a:cubicBezTo>
                  <a:pt x="-1" y="21600"/>
                  <a:pt x="-1" y="0"/>
                  <a:pt x="-1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81040" y="3448080"/>
            <a:ext cx="12384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31" y="21600"/>
                </a:moveTo>
                <a:cubicBezTo>
                  <a:pt x="2331" y="21600"/>
                  <a:pt x="20668" y="11200"/>
                  <a:pt x="20668" y="11200"/>
                </a:cubicBezTo>
                <a:cubicBezTo>
                  <a:pt x="20668" y="11200"/>
                  <a:pt x="21600" y="0"/>
                  <a:pt x="21600" y="0"/>
                </a:cubicBezTo>
                <a:cubicBezTo>
                  <a:pt x="21600" y="0"/>
                  <a:pt x="0" y="800"/>
                  <a:pt x="0" y="800"/>
                </a:cubicBezTo>
                <a:cubicBezTo>
                  <a:pt x="0" y="800"/>
                  <a:pt x="2331" y="21600"/>
                  <a:pt x="2331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448080"/>
            <a:ext cx="46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1040" y="3448080"/>
            <a:ext cx="12384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81040" y="3454560"/>
            <a:ext cx="1296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1480" y="3554280"/>
            <a:ext cx="11448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8327"/>
                  <a:pt x="21600" y="18327"/>
                </a:cubicBezTo>
                <a:cubicBezTo>
                  <a:pt x="21600" y="18327"/>
                  <a:pt x="17858" y="0"/>
                  <a:pt x="17858" y="0"/>
                </a:cubicBezTo>
                <a:cubicBezTo>
                  <a:pt x="17858" y="0"/>
                  <a:pt x="1020" y="2182"/>
                  <a:pt x="1020" y="2182"/>
                </a:cubicBezTo>
                <a:cubicBezTo>
                  <a:pt x="1020" y="2182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6880" y="3554280"/>
            <a:ext cx="190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7960" y="3554280"/>
            <a:ext cx="8892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1480" y="3564000"/>
            <a:ext cx="6480" cy="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0240" y="3463920"/>
            <a:ext cx="16380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9427"/>
                  <a:pt x="21600" y="19427"/>
                </a:cubicBezTo>
                <a:cubicBezTo>
                  <a:pt x="21600" y="19427"/>
                  <a:pt x="21361" y="511"/>
                  <a:pt x="21361" y="511"/>
                </a:cubicBezTo>
                <a:cubicBezTo>
                  <a:pt x="21361" y="511"/>
                  <a:pt x="1432" y="0"/>
                  <a:pt x="1432" y="0"/>
                </a:cubicBezTo>
                <a:cubicBezTo>
                  <a:pt x="1432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92240" y="3467160"/>
            <a:ext cx="180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41400" y="3463920"/>
            <a:ext cx="15084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240" y="3463920"/>
            <a:ext cx="1116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3040" y="3754440"/>
            <a:ext cx="27648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249" y="11646"/>
                  <a:pt x="21249" y="11646"/>
                </a:cubicBezTo>
                <a:cubicBezTo>
                  <a:pt x="21249" y="11646"/>
                  <a:pt x="16831" y="11516"/>
                  <a:pt x="15218" y="11646"/>
                </a:cubicBezTo>
                <a:cubicBezTo>
                  <a:pt x="15218" y="7937"/>
                  <a:pt x="14938" y="260"/>
                  <a:pt x="14938" y="260"/>
                </a:cubicBezTo>
                <a:cubicBezTo>
                  <a:pt x="14938" y="260"/>
                  <a:pt x="0" y="0"/>
                  <a:pt x="0" y="0"/>
                </a:cubicBezTo>
                <a:cubicBezTo>
                  <a:pt x="0" y="0"/>
                  <a:pt x="842" y="17111"/>
                  <a:pt x="842" y="17111"/>
                </a:cubicBezTo>
                <a:cubicBezTo>
                  <a:pt x="842" y="17111"/>
                  <a:pt x="21600" y="21600"/>
                  <a:pt x="21600" y="21600"/>
                </a:cubicBezTo>
              </a:path>
            </a:pathLst>
          </a:custGeom>
          <a:solidFill>
            <a:srgbClr val="ccc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44480" y="3916440"/>
            <a:ext cx="504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8520" y="3914640"/>
            <a:ext cx="75960" cy="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5777" y="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3757680"/>
            <a:ext cx="468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14565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3040" y="3754440"/>
            <a:ext cx="19080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3040" y="3754440"/>
            <a:ext cx="9720" cy="23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3320" y="3879720"/>
            <a:ext cx="19188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0383" y="1243"/>
                  <a:pt x="20383" y="1243"/>
                </a:cubicBezTo>
                <a:cubicBezTo>
                  <a:pt x="20383" y="1243"/>
                  <a:pt x="0" y="0"/>
                  <a:pt x="0" y="0"/>
                </a:cubicBezTo>
                <a:cubicBezTo>
                  <a:pt x="0" y="0"/>
                  <a:pt x="811" y="19529"/>
                  <a:pt x="811" y="19529"/>
                </a:cubicBezTo>
                <a:cubicBezTo>
                  <a:pt x="811" y="19529"/>
                  <a:pt x="21600" y="21600"/>
                  <a:pt x="21600" y="21600"/>
                </a:cubicBezTo>
              </a:path>
            </a:pathLst>
          </a:custGeom>
          <a:solidFill>
            <a:srgbClr val="cc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54040" y="3898800"/>
            <a:ext cx="1116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73320" y="3879720"/>
            <a:ext cx="180720" cy="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73320" y="3879720"/>
            <a:ext cx="7920" cy="2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6120" y="3598920"/>
            <a:ext cx="13464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2" y="21600"/>
                </a:moveTo>
                <a:cubicBezTo>
                  <a:pt x="1152" y="21600"/>
                  <a:pt x="0" y="1595"/>
                  <a:pt x="0" y="1595"/>
                </a:cubicBezTo>
                <a:cubicBezTo>
                  <a:pt x="0" y="1595"/>
                  <a:pt x="21600" y="0"/>
                  <a:pt x="21600" y="0"/>
                </a:cubicBezTo>
                <a:cubicBezTo>
                  <a:pt x="21600" y="0"/>
                  <a:pt x="21600" y="14114"/>
                  <a:pt x="21600" y="14114"/>
                </a:cubicBezTo>
                <a:cubicBezTo>
                  <a:pt x="21600" y="14114"/>
                  <a:pt x="1152" y="21600"/>
                  <a:pt x="1152" y="21600"/>
                </a:cubicBezTo>
              </a:path>
            </a:pathLst>
          </a:custGeom>
          <a:solidFill>
            <a:srgbClr val="cc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6120" y="3610080"/>
            <a:ext cx="612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120" y="3598920"/>
            <a:ext cx="134640" cy="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0760" y="3598920"/>
            <a:ext cx="1800" cy="10296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3760920"/>
            <a:ext cx="13500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15" y="21600"/>
                </a:moveTo>
                <a:cubicBezTo>
                  <a:pt x="715" y="21600"/>
                  <a:pt x="0" y="0"/>
                  <a:pt x="0" y="0"/>
                </a:cubicBezTo>
                <a:cubicBezTo>
                  <a:pt x="0" y="0"/>
                  <a:pt x="21600" y="4836"/>
                  <a:pt x="21600" y="4836"/>
                </a:cubicBezTo>
                <a:cubicBezTo>
                  <a:pt x="21600" y="4836"/>
                  <a:pt x="21600" y="16549"/>
                  <a:pt x="21600" y="16549"/>
                </a:cubicBezTo>
                <a:cubicBezTo>
                  <a:pt x="21600" y="16549"/>
                  <a:pt x="715" y="21600"/>
                  <a:pt x="715" y="21600"/>
                </a:cubicBezTo>
              </a:path>
            </a:pathLst>
          </a:custGeom>
          <a:solidFill>
            <a:srgbClr val="ccc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6840" y="3760920"/>
            <a:ext cx="32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3760920"/>
            <a:ext cx="135000" cy="3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1840" y="3800520"/>
            <a:ext cx="1800" cy="9828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66760" y="3413160"/>
            <a:ext cx="26064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109"/>
                </a:moveTo>
                <a:cubicBezTo>
                  <a:pt x="0" y="11109"/>
                  <a:pt x="8700" y="11417"/>
                  <a:pt x="8700" y="11417"/>
                </a:cubicBezTo>
                <a:cubicBezTo>
                  <a:pt x="8700" y="11417"/>
                  <a:pt x="9375" y="0"/>
                  <a:pt x="9375" y="0"/>
                </a:cubicBezTo>
                <a:cubicBezTo>
                  <a:pt x="9375" y="0"/>
                  <a:pt x="21000" y="2469"/>
                  <a:pt x="21000" y="2469"/>
                </a:cubicBezTo>
                <a:cubicBezTo>
                  <a:pt x="21000" y="2469"/>
                  <a:pt x="21600" y="17280"/>
                  <a:pt x="21600" y="17280"/>
                </a:cubicBezTo>
                <a:cubicBezTo>
                  <a:pt x="21600" y="17280"/>
                  <a:pt x="1425" y="21600"/>
                  <a:pt x="1425" y="21600"/>
                </a:cubicBezTo>
                <a:cubicBezTo>
                  <a:pt x="1425" y="21600"/>
                  <a:pt x="0" y="11109"/>
                  <a:pt x="0" y="11109"/>
                </a:cubicBezTo>
              </a:path>
            </a:pathLst>
          </a:custGeom>
          <a:solidFill>
            <a:srgbClr val="cc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66760" y="3543480"/>
            <a:ext cx="105120" cy="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71880" y="3413160"/>
            <a:ext cx="792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9800" y="3413160"/>
            <a:ext cx="13968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19480" y="3443400"/>
            <a:ext cx="792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66760" y="3543480"/>
            <a:ext cx="17640" cy="12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9960" y="3255840"/>
            <a:ext cx="119160" cy="11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202"/>
                </a:moveTo>
                <a:cubicBezTo>
                  <a:pt x="21600" y="12202"/>
                  <a:pt x="1137" y="21600"/>
                  <a:pt x="1137" y="21600"/>
                </a:cubicBezTo>
                <a:cubicBezTo>
                  <a:pt x="1137" y="21600"/>
                  <a:pt x="0" y="0"/>
                  <a:pt x="0" y="0"/>
                </a:cubicBezTo>
                <a:cubicBezTo>
                  <a:pt x="0" y="0"/>
                  <a:pt x="21600" y="989"/>
                  <a:pt x="21600" y="989"/>
                </a:cubicBezTo>
                <a:cubicBezTo>
                  <a:pt x="21600" y="989"/>
                  <a:pt x="21600" y="12202"/>
                  <a:pt x="21600" y="12202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9960" y="3255840"/>
            <a:ext cx="6480" cy="11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9960" y="3255840"/>
            <a:ext cx="11916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9120" y="3262320"/>
            <a:ext cx="1440" cy="6048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6840" y="3186000"/>
            <a:ext cx="149400" cy="1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1" y="21600"/>
                </a:moveTo>
                <a:cubicBezTo>
                  <a:pt x="1681" y="21600"/>
                  <a:pt x="21341" y="15120"/>
                  <a:pt x="21341" y="15120"/>
                </a:cubicBezTo>
                <a:cubicBezTo>
                  <a:pt x="21341" y="15120"/>
                  <a:pt x="21600" y="0"/>
                  <a:pt x="21600" y="0"/>
                </a:cubicBezTo>
                <a:cubicBezTo>
                  <a:pt x="21600" y="0"/>
                  <a:pt x="0" y="576"/>
                  <a:pt x="0" y="576"/>
                </a:cubicBezTo>
                <a:cubicBezTo>
                  <a:pt x="0" y="576"/>
                  <a:pt x="1681" y="21600"/>
                  <a:pt x="1681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4440" y="3186000"/>
            <a:ext cx="180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6840" y="3186000"/>
            <a:ext cx="14940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6840" y="3189240"/>
            <a:ext cx="1116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3176640"/>
            <a:ext cx="10152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621" y="21600"/>
                </a:moveTo>
                <a:cubicBezTo>
                  <a:pt x="17621" y="21600"/>
                  <a:pt x="21600" y="3019"/>
                  <a:pt x="21600" y="3019"/>
                </a:cubicBezTo>
                <a:cubicBezTo>
                  <a:pt x="21600" y="3019"/>
                  <a:pt x="758" y="0"/>
                  <a:pt x="758" y="0"/>
                </a:cubicBezTo>
                <a:cubicBezTo>
                  <a:pt x="758" y="0"/>
                  <a:pt x="0" y="17187"/>
                  <a:pt x="0" y="17187"/>
                </a:cubicBezTo>
                <a:cubicBezTo>
                  <a:pt x="0" y="17187"/>
                  <a:pt x="17621" y="21600"/>
                  <a:pt x="17621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7840" y="3187800"/>
            <a:ext cx="19080" cy="7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76640"/>
            <a:ext cx="98640" cy="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5400" y="3176640"/>
            <a:ext cx="288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78240" y="3373560"/>
            <a:ext cx="14436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" y="20654"/>
                </a:moveTo>
                <a:cubicBezTo>
                  <a:pt x="1620" y="20654"/>
                  <a:pt x="21600" y="21600"/>
                  <a:pt x="21600" y="21600"/>
                </a:cubicBezTo>
                <a:cubicBezTo>
                  <a:pt x="21600" y="21600"/>
                  <a:pt x="19305" y="1892"/>
                  <a:pt x="19305" y="1892"/>
                </a:cubicBezTo>
                <a:cubicBezTo>
                  <a:pt x="19305" y="1892"/>
                  <a:pt x="0" y="0"/>
                  <a:pt x="0" y="0"/>
                </a:cubicBezTo>
                <a:cubicBezTo>
                  <a:pt x="0" y="0"/>
                  <a:pt x="1620" y="20654"/>
                  <a:pt x="1620" y="20654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06760" y="3384720"/>
            <a:ext cx="1584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8240" y="3373560"/>
            <a:ext cx="128520" cy="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78240" y="3373560"/>
            <a:ext cx="10800" cy="11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55880" y="3203640"/>
            <a:ext cx="12708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0987" y="18843"/>
                  <a:pt x="20987" y="18843"/>
                </a:cubicBezTo>
                <a:cubicBezTo>
                  <a:pt x="20987" y="18843"/>
                  <a:pt x="21600" y="0"/>
                  <a:pt x="21600" y="0"/>
                </a:cubicBezTo>
                <a:cubicBezTo>
                  <a:pt x="21600" y="0"/>
                  <a:pt x="613" y="0"/>
                  <a:pt x="613" y="0"/>
                </a:cubicBezTo>
                <a:cubicBezTo>
                  <a:pt x="613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9720" y="3203640"/>
            <a:ext cx="324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60560" y="3203640"/>
            <a:ext cx="12240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21600" y="-1"/>
                </a:moveTo>
                <a:cubicBezTo>
                  <a:pt x="21600" y="-1"/>
                  <a:pt x="0" y="-1"/>
                  <a:pt x="0" y="-1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55880" y="3203640"/>
            <a:ext cx="468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2120" y="3197160"/>
            <a:ext cx="468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02120" y="3197160"/>
            <a:ext cx="14760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9" y="13148"/>
                </a:moveTo>
                <a:cubicBezTo>
                  <a:pt x="659" y="13148"/>
                  <a:pt x="21600" y="21600"/>
                  <a:pt x="21600" y="21600"/>
                </a:cubicBezTo>
                <a:cubicBezTo>
                  <a:pt x="21600" y="21600"/>
                  <a:pt x="19756" y="0"/>
                  <a:pt x="19756" y="0"/>
                </a:cubicBezTo>
                <a:cubicBezTo>
                  <a:pt x="19756" y="0"/>
                  <a:pt x="0" y="0"/>
                  <a:pt x="0" y="0"/>
                </a:cubicBezTo>
                <a:cubicBezTo>
                  <a:pt x="0" y="0"/>
                  <a:pt x="659" y="13148"/>
                  <a:pt x="659" y="13148"/>
                </a:cubicBezTo>
              </a:path>
            </a:pathLst>
          </a:custGeom>
          <a:solidFill>
            <a:srgbClr val="cc7a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36760" y="3197160"/>
            <a:ext cx="1296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02120" y="3197160"/>
            <a:ext cx="134640" cy="180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21600" y="-1"/>
                </a:moveTo>
                <a:cubicBezTo>
                  <a:pt x="21600" y="-1"/>
                  <a:pt x="0" y="-1"/>
                  <a:pt x="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38560" y="3062160"/>
            <a:ext cx="210960" cy="1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21" y="21600"/>
                </a:moveTo>
                <a:cubicBezTo>
                  <a:pt x="20221" y="21600"/>
                  <a:pt x="21600" y="10563"/>
                  <a:pt x="21600" y="10563"/>
                </a:cubicBezTo>
                <a:cubicBezTo>
                  <a:pt x="21600" y="10563"/>
                  <a:pt x="11489" y="10563"/>
                  <a:pt x="11489" y="10563"/>
                </a:cubicBezTo>
                <a:cubicBezTo>
                  <a:pt x="11489" y="10563"/>
                  <a:pt x="12592" y="831"/>
                  <a:pt x="12592" y="831"/>
                </a:cubicBezTo>
                <a:cubicBezTo>
                  <a:pt x="12592" y="831"/>
                  <a:pt x="0" y="0"/>
                  <a:pt x="0" y="0"/>
                </a:cubicBezTo>
                <a:cubicBezTo>
                  <a:pt x="0" y="0"/>
                  <a:pt x="643" y="13055"/>
                  <a:pt x="643" y="13055"/>
                </a:cubicBezTo>
                <a:cubicBezTo>
                  <a:pt x="643" y="13055"/>
                  <a:pt x="20221" y="21600"/>
                  <a:pt x="20221" y="21600"/>
                </a:cubicBezTo>
              </a:path>
            </a:pathLst>
          </a:custGeom>
          <a:solidFill>
            <a:srgbClr val="cc7a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6920" y="3141720"/>
            <a:ext cx="1260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1240" y="3141720"/>
            <a:ext cx="9828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21600" y="-1"/>
                </a:moveTo>
                <a:cubicBezTo>
                  <a:pt x="21600" y="-1"/>
                  <a:pt x="0" y="-1"/>
                  <a:pt x="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1240" y="3068640"/>
            <a:ext cx="936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38560" y="3062160"/>
            <a:ext cx="12204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38560" y="3062160"/>
            <a:ext cx="612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102120"/>
            <a:ext cx="8892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0939" y="18764"/>
                  <a:pt x="20939" y="18764"/>
                </a:cubicBezTo>
                <a:cubicBezTo>
                  <a:pt x="20939" y="18764"/>
                  <a:pt x="21600" y="1309"/>
                  <a:pt x="21600" y="1309"/>
                </a:cubicBezTo>
                <a:cubicBezTo>
                  <a:pt x="21600" y="1309"/>
                  <a:pt x="1984" y="0"/>
                  <a:pt x="1984" y="0"/>
                </a:cubicBezTo>
                <a:cubicBezTo>
                  <a:pt x="1984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14840" y="3108240"/>
            <a:ext cx="3240" cy="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8520" y="3102120"/>
            <a:ext cx="79560" cy="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29160" y="3102120"/>
            <a:ext cx="936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41920" y="3090960"/>
            <a:ext cx="75960" cy="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533"/>
                </a:moveTo>
                <a:cubicBezTo>
                  <a:pt x="0" y="15533"/>
                  <a:pt x="3014" y="0"/>
                  <a:pt x="3014" y="0"/>
                </a:cubicBezTo>
                <a:cubicBezTo>
                  <a:pt x="3014" y="0"/>
                  <a:pt x="21600" y="1699"/>
                  <a:pt x="21600" y="1699"/>
                </a:cubicBezTo>
                <a:cubicBezTo>
                  <a:pt x="21600" y="1699"/>
                  <a:pt x="21600" y="21600"/>
                  <a:pt x="21600" y="21600"/>
                </a:cubicBezTo>
                <a:cubicBezTo>
                  <a:pt x="21600" y="21600"/>
                  <a:pt x="0" y="15533"/>
                  <a:pt x="0" y="15533"/>
                </a:cubicBezTo>
              </a:path>
            </a:pathLst>
          </a:custGeom>
          <a:solidFill>
            <a:srgbClr val="cc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41920" y="3090960"/>
            <a:ext cx="9360" cy="5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3090960"/>
            <a:ext cx="66600" cy="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17880" y="3097080"/>
            <a:ext cx="1800" cy="7308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3097080"/>
            <a:ext cx="208080" cy="18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29" y="21600"/>
                </a:moveTo>
                <a:cubicBezTo>
                  <a:pt x="1029" y="21600"/>
                  <a:pt x="0" y="1142"/>
                  <a:pt x="0" y="1142"/>
                </a:cubicBezTo>
                <a:cubicBezTo>
                  <a:pt x="0" y="1142"/>
                  <a:pt x="21600" y="0"/>
                  <a:pt x="21600" y="0"/>
                </a:cubicBezTo>
                <a:cubicBezTo>
                  <a:pt x="21600" y="0"/>
                  <a:pt x="20571" y="17550"/>
                  <a:pt x="20571" y="17550"/>
                </a:cubicBezTo>
                <a:cubicBezTo>
                  <a:pt x="20571" y="17550"/>
                  <a:pt x="1029" y="21600"/>
                  <a:pt x="1029" y="21600"/>
                </a:cubicBezTo>
              </a:path>
            </a:pathLst>
          </a:custGeom>
          <a:solidFill>
            <a:srgbClr val="ccc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3108240"/>
            <a:ext cx="9720" cy="17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097080"/>
            <a:ext cx="208080" cy="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67080" y="3097080"/>
            <a:ext cx="9360" cy="15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solidFill>
            <a:srgbClr val="cca37a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84280" y="4370400"/>
            <a:ext cx="571680" cy="112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2" y="18667"/>
                </a:moveTo>
                <a:cubicBezTo>
                  <a:pt x="442" y="18667"/>
                  <a:pt x="0" y="9334"/>
                  <a:pt x="0" y="4675"/>
                </a:cubicBezTo>
                <a:cubicBezTo>
                  <a:pt x="0" y="3692"/>
                  <a:pt x="102" y="2743"/>
                  <a:pt x="102" y="1760"/>
                </a:cubicBezTo>
                <a:cubicBezTo>
                  <a:pt x="102" y="1311"/>
                  <a:pt x="272" y="845"/>
                  <a:pt x="714" y="518"/>
                </a:cubicBezTo>
                <a:cubicBezTo>
                  <a:pt x="1123" y="155"/>
                  <a:pt x="2143" y="86"/>
                  <a:pt x="2959" y="121"/>
                </a:cubicBezTo>
                <a:cubicBezTo>
                  <a:pt x="4048" y="155"/>
                  <a:pt x="5613" y="1208"/>
                  <a:pt x="5613" y="1208"/>
                </a:cubicBezTo>
                <a:cubicBezTo>
                  <a:pt x="5613" y="1208"/>
                  <a:pt x="6803" y="380"/>
                  <a:pt x="7688" y="224"/>
                </a:cubicBezTo>
                <a:cubicBezTo>
                  <a:pt x="9048" y="0"/>
                  <a:pt x="10647" y="449"/>
                  <a:pt x="11906" y="742"/>
                </a:cubicBezTo>
                <a:cubicBezTo>
                  <a:pt x="12586" y="880"/>
                  <a:pt x="12858" y="1208"/>
                  <a:pt x="12722" y="1535"/>
                </a:cubicBezTo>
                <a:cubicBezTo>
                  <a:pt x="12348" y="2277"/>
                  <a:pt x="10987" y="2829"/>
                  <a:pt x="11225" y="3588"/>
                </a:cubicBezTo>
                <a:cubicBezTo>
                  <a:pt x="11327" y="4020"/>
                  <a:pt x="12994" y="3727"/>
                  <a:pt x="13878" y="3640"/>
                </a:cubicBezTo>
                <a:cubicBezTo>
                  <a:pt x="14797" y="3588"/>
                  <a:pt x="15885" y="2881"/>
                  <a:pt x="16532" y="3209"/>
                </a:cubicBezTo>
                <a:cubicBezTo>
                  <a:pt x="17246" y="3554"/>
                  <a:pt x="15579" y="4279"/>
                  <a:pt x="16089" y="4710"/>
                </a:cubicBezTo>
                <a:cubicBezTo>
                  <a:pt x="17246" y="5762"/>
                  <a:pt x="20920" y="6176"/>
                  <a:pt x="21022" y="7367"/>
                </a:cubicBezTo>
                <a:cubicBezTo>
                  <a:pt x="21192" y="8764"/>
                  <a:pt x="21600" y="15976"/>
                  <a:pt x="17416" y="18460"/>
                </a:cubicBezTo>
                <a:cubicBezTo>
                  <a:pt x="12008" y="21600"/>
                  <a:pt x="442" y="18667"/>
                  <a:pt x="442" y="18667"/>
                </a:cubicBezTo>
              </a:path>
            </a:pathLst>
          </a:custGeom>
          <a:solidFill>
            <a:srgbClr val="00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30400" y="4414680"/>
            <a:ext cx="571680" cy="14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53" y="14312"/>
                </a:moveTo>
                <a:cubicBezTo>
                  <a:pt x="4653" y="14338"/>
                  <a:pt x="4958" y="21600"/>
                  <a:pt x="11615" y="21573"/>
                </a:cubicBezTo>
                <a:cubicBezTo>
                  <a:pt x="13177" y="21573"/>
                  <a:pt x="13483" y="20845"/>
                  <a:pt x="14060" y="20195"/>
                </a:cubicBezTo>
                <a:cubicBezTo>
                  <a:pt x="14332" y="19851"/>
                  <a:pt x="14774" y="19520"/>
                  <a:pt x="15419" y="19546"/>
                </a:cubicBezTo>
                <a:cubicBezTo>
                  <a:pt x="16200" y="19586"/>
                  <a:pt x="17728" y="20169"/>
                  <a:pt x="17728" y="20169"/>
                </a:cubicBezTo>
                <a:cubicBezTo>
                  <a:pt x="17728" y="20169"/>
                  <a:pt x="19800" y="18963"/>
                  <a:pt x="19732" y="18234"/>
                </a:cubicBezTo>
                <a:cubicBezTo>
                  <a:pt x="19664" y="17466"/>
                  <a:pt x="18374" y="16750"/>
                  <a:pt x="18509" y="15942"/>
                </a:cubicBezTo>
                <a:cubicBezTo>
                  <a:pt x="18577" y="15239"/>
                  <a:pt x="21023" y="14033"/>
                  <a:pt x="21023" y="14033"/>
                </a:cubicBezTo>
                <a:cubicBezTo>
                  <a:pt x="21023" y="14033"/>
                  <a:pt x="19528" y="13676"/>
                  <a:pt x="19426" y="13358"/>
                </a:cubicBezTo>
                <a:cubicBezTo>
                  <a:pt x="19291" y="12933"/>
                  <a:pt x="20581" y="12483"/>
                  <a:pt x="20853" y="12072"/>
                </a:cubicBezTo>
                <a:cubicBezTo>
                  <a:pt x="21091" y="11794"/>
                  <a:pt x="21600" y="11436"/>
                  <a:pt x="21091" y="11237"/>
                </a:cubicBezTo>
                <a:cubicBezTo>
                  <a:pt x="20377" y="10946"/>
                  <a:pt x="19019" y="11211"/>
                  <a:pt x="17932" y="11118"/>
                </a:cubicBezTo>
                <a:cubicBezTo>
                  <a:pt x="17525" y="11092"/>
                  <a:pt x="16709" y="10813"/>
                  <a:pt x="16709" y="10813"/>
                </a:cubicBezTo>
                <a:cubicBezTo>
                  <a:pt x="16709" y="10813"/>
                  <a:pt x="18509" y="9581"/>
                  <a:pt x="19019" y="8905"/>
                </a:cubicBezTo>
                <a:cubicBezTo>
                  <a:pt x="19528" y="8269"/>
                  <a:pt x="20683" y="7726"/>
                  <a:pt x="20174" y="7262"/>
                </a:cubicBezTo>
                <a:cubicBezTo>
                  <a:pt x="19800" y="6917"/>
                  <a:pt x="18679" y="6811"/>
                  <a:pt x="17864" y="6639"/>
                </a:cubicBezTo>
                <a:cubicBezTo>
                  <a:pt x="17151" y="6507"/>
                  <a:pt x="16370" y="6546"/>
                  <a:pt x="15792" y="6321"/>
                </a:cubicBezTo>
                <a:cubicBezTo>
                  <a:pt x="15283" y="6096"/>
                  <a:pt x="14909" y="5764"/>
                  <a:pt x="14570" y="5513"/>
                </a:cubicBezTo>
                <a:cubicBezTo>
                  <a:pt x="13925" y="5049"/>
                  <a:pt x="13585" y="4559"/>
                  <a:pt x="12838" y="4108"/>
                </a:cubicBezTo>
                <a:cubicBezTo>
                  <a:pt x="12498" y="3896"/>
                  <a:pt x="12057" y="3644"/>
                  <a:pt x="12057" y="3353"/>
                </a:cubicBezTo>
                <a:cubicBezTo>
                  <a:pt x="12057" y="3061"/>
                  <a:pt x="12566" y="2770"/>
                  <a:pt x="12838" y="2505"/>
                </a:cubicBezTo>
                <a:cubicBezTo>
                  <a:pt x="13008" y="2319"/>
                  <a:pt x="13279" y="1988"/>
                  <a:pt x="13279" y="1988"/>
                </a:cubicBezTo>
                <a:cubicBezTo>
                  <a:pt x="13279" y="1988"/>
                  <a:pt x="12057" y="1789"/>
                  <a:pt x="11615" y="1630"/>
                </a:cubicBezTo>
                <a:cubicBezTo>
                  <a:pt x="10698" y="1232"/>
                  <a:pt x="9068" y="0"/>
                  <a:pt x="9068" y="0"/>
                </a:cubicBezTo>
                <a:cubicBezTo>
                  <a:pt x="9068" y="0"/>
                  <a:pt x="6249" y="1100"/>
                  <a:pt x="6249" y="1100"/>
                </a:cubicBezTo>
                <a:cubicBezTo>
                  <a:pt x="6249" y="1100"/>
                  <a:pt x="4755" y="530"/>
                  <a:pt x="4008" y="729"/>
                </a:cubicBezTo>
                <a:cubicBezTo>
                  <a:pt x="3091" y="981"/>
                  <a:pt x="2955" y="2080"/>
                  <a:pt x="2955" y="2080"/>
                </a:cubicBezTo>
                <a:cubicBezTo>
                  <a:pt x="2955" y="2080"/>
                  <a:pt x="1868" y="2080"/>
                  <a:pt x="1664" y="2213"/>
                </a:cubicBezTo>
                <a:cubicBezTo>
                  <a:pt x="0" y="3313"/>
                  <a:pt x="3736" y="4651"/>
                  <a:pt x="3974" y="5937"/>
                </a:cubicBezTo>
                <a:cubicBezTo>
                  <a:pt x="4381" y="8733"/>
                  <a:pt x="4755" y="11502"/>
                  <a:pt x="4653" y="14312"/>
                </a:cubicBezTo>
              </a:path>
            </a:pathLst>
          </a:custGeom>
          <a:solidFill>
            <a:srgbClr val="00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240" y="5430960"/>
            <a:ext cx="82440" cy="32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13" y="20184"/>
                </a:moveTo>
                <a:cubicBezTo>
                  <a:pt x="4413" y="20184"/>
                  <a:pt x="3484" y="12925"/>
                  <a:pt x="2323" y="8439"/>
                </a:cubicBezTo>
                <a:cubicBezTo>
                  <a:pt x="1858" y="6079"/>
                  <a:pt x="0" y="0"/>
                  <a:pt x="0" y="0"/>
                </a:cubicBezTo>
                <a:cubicBezTo>
                  <a:pt x="0" y="0"/>
                  <a:pt x="18581" y="1357"/>
                  <a:pt x="18581" y="1357"/>
                </a:cubicBezTo>
                <a:cubicBezTo>
                  <a:pt x="18581" y="1357"/>
                  <a:pt x="19510" y="9325"/>
                  <a:pt x="19045" y="13456"/>
                </a:cubicBezTo>
                <a:cubicBezTo>
                  <a:pt x="18581" y="16348"/>
                  <a:pt x="21600" y="21600"/>
                  <a:pt x="21600" y="21600"/>
                </a:cubicBezTo>
                <a:cubicBezTo>
                  <a:pt x="21600" y="21600"/>
                  <a:pt x="4413" y="20184"/>
                  <a:pt x="4413" y="20184"/>
                </a:cubicBez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05160" y="5559480"/>
            <a:ext cx="936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2000" y="8249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97240" y="5430960"/>
            <a:ext cx="792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280" y="15558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7240" y="5430960"/>
            <a:ext cx="71280" cy="2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68520" y="5451480"/>
            <a:ext cx="3240" cy="1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14224"/>
                  <a:pt x="108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68520" y="5635800"/>
            <a:ext cx="11160" cy="12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23" y="0"/>
                </a:moveTo>
                <a:cubicBezTo>
                  <a:pt x="0" y="767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2960" y="5738760"/>
            <a:ext cx="93600" cy="50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14" y="21029"/>
                </a:moveTo>
                <a:cubicBezTo>
                  <a:pt x="4614" y="21029"/>
                  <a:pt x="1887" y="13295"/>
                  <a:pt x="2726" y="9181"/>
                </a:cubicBezTo>
                <a:cubicBezTo>
                  <a:pt x="3146" y="6819"/>
                  <a:pt x="0" y="3162"/>
                  <a:pt x="5872" y="800"/>
                </a:cubicBezTo>
                <a:cubicBezTo>
                  <a:pt x="7550" y="0"/>
                  <a:pt x="15938" y="2819"/>
                  <a:pt x="15938" y="2819"/>
                </a:cubicBezTo>
                <a:cubicBezTo>
                  <a:pt x="15938" y="2819"/>
                  <a:pt x="15938" y="6819"/>
                  <a:pt x="15309" y="8686"/>
                </a:cubicBezTo>
                <a:cubicBezTo>
                  <a:pt x="14680" y="9752"/>
                  <a:pt x="16357" y="12990"/>
                  <a:pt x="16357" y="12990"/>
                </a:cubicBezTo>
                <a:cubicBezTo>
                  <a:pt x="16357" y="12990"/>
                  <a:pt x="20551" y="17067"/>
                  <a:pt x="20551" y="17067"/>
                </a:cubicBezTo>
                <a:cubicBezTo>
                  <a:pt x="20551" y="17067"/>
                  <a:pt x="21600" y="21600"/>
                  <a:pt x="21600" y="21600"/>
                </a:cubicBezTo>
                <a:cubicBezTo>
                  <a:pt x="21600" y="21600"/>
                  <a:pt x="4614" y="21029"/>
                  <a:pt x="4614" y="21029"/>
                </a:cubicBez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5954760"/>
            <a:ext cx="12600" cy="2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7501"/>
                  <a:pt x="6646" y="0"/>
                </a:cubicBezTo>
              </a:path>
            </a:pathLst>
          </a:custGeom>
          <a:solidFill>
            <a:srgbClr val="ffcc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2960" y="5757840"/>
            <a:ext cx="2520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29" y="21600"/>
                </a:moveTo>
                <a:cubicBezTo>
                  <a:pt x="11571" y="15513"/>
                  <a:pt x="0" y="608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08160" y="5738760"/>
            <a:ext cx="428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130"/>
                </a:moveTo>
                <a:cubicBezTo>
                  <a:pt x="360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560" y="5805360"/>
            <a:ext cx="1440" cy="13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4727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6320" y="5943600"/>
            <a:ext cx="792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100" y="0"/>
                </a:moveTo>
                <a:cubicBezTo>
                  <a:pt x="0" y="5352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4240" y="6045120"/>
            <a:ext cx="1764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cc66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71880" y="6141960"/>
            <a:ext cx="4680" cy="1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21040" y="4459320"/>
            <a:ext cx="752400" cy="10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678" y="21324"/>
                </a:moveTo>
                <a:cubicBezTo>
                  <a:pt x="10903" y="21324"/>
                  <a:pt x="10102" y="21471"/>
                  <a:pt x="9224" y="21508"/>
                </a:cubicBezTo>
                <a:cubicBezTo>
                  <a:pt x="8345" y="21563"/>
                  <a:pt x="7441" y="21287"/>
                  <a:pt x="7028" y="20827"/>
                </a:cubicBezTo>
                <a:cubicBezTo>
                  <a:pt x="6356" y="20072"/>
                  <a:pt x="6304" y="18212"/>
                  <a:pt x="6304" y="18212"/>
                </a:cubicBezTo>
                <a:cubicBezTo>
                  <a:pt x="6304" y="18212"/>
                  <a:pt x="4392" y="18985"/>
                  <a:pt x="3385" y="18875"/>
                </a:cubicBezTo>
                <a:cubicBezTo>
                  <a:pt x="2403" y="18746"/>
                  <a:pt x="1085" y="17383"/>
                  <a:pt x="1085" y="17383"/>
                </a:cubicBezTo>
                <a:cubicBezTo>
                  <a:pt x="1085" y="17383"/>
                  <a:pt x="1189" y="16260"/>
                  <a:pt x="1137" y="15763"/>
                </a:cubicBezTo>
                <a:cubicBezTo>
                  <a:pt x="1033" y="15026"/>
                  <a:pt x="0" y="13663"/>
                  <a:pt x="0" y="13663"/>
                </a:cubicBezTo>
                <a:cubicBezTo>
                  <a:pt x="0" y="13663"/>
                  <a:pt x="1137" y="13258"/>
                  <a:pt x="1731" y="13185"/>
                </a:cubicBezTo>
                <a:cubicBezTo>
                  <a:pt x="2351" y="13111"/>
                  <a:pt x="3540" y="13350"/>
                  <a:pt x="3540" y="13350"/>
                </a:cubicBezTo>
                <a:cubicBezTo>
                  <a:pt x="3540" y="13350"/>
                  <a:pt x="2997" y="12135"/>
                  <a:pt x="2997" y="12135"/>
                </a:cubicBezTo>
                <a:cubicBezTo>
                  <a:pt x="2997" y="12135"/>
                  <a:pt x="4392" y="11712"/>
                  <a:pt x="4832" y="11233"/>
                </a:cubicBezTo>
                <a:cubicBezTo>
                  <a:pt x="5348" y="10736"/>
                  <a:pt x="4961" y="9870"/>
                  <a:pt x="4961" y="9557"/>
                </a:cubicBezTo>
                <a:cubicBezTo>
                  <a:pt x="4909" y="8949"/>
                  <a:pt x="4341" y="7789"/>
                  <a:pt x="4315" y="7200"/>
                </a:cubicBezTo>
                <a:cubicBezTo>
                  <a:pt x="4573" y="6371"/>
                  <a:pt x="4909" y="5561"/>
                  <a:pt x="5891" y="5285"/>
                </a:cubicBezTo>
                <a:cubicBezTo>
                  <a:pt x="6873" y="5027"/>
                  <a:pt x="9043" y="5524"/>
                  <a:pt x="9043" y="5524"/>
                </a:cubicBezTo>
                <a:cubicBezTo>
                  <a:pt x="9043" y="5524"/>
                  <a:pt x="8397" y="4585"/>
                  <a:pt x="7519" y="3922"/>
                </a:cubicBezTo>
                <a:cubicBezTo>
                  <a:pt x="6924" y="3499"/>
                  <a:pt x="6537" y="2909"/>
                  <a:pt x="6666" y="2357"/>
                </a:cubicBezTo>
                <a:cubicBezTo>
                  <a:pt x="6744" y="1897"/>
                  <a:pt x="7364" y="1399"/>
                  <a:pt x="8061" y="1399"/>
                </a:cubicBezTo>
                <a:cubicBezTo>
                  <a:pt x="8656" y="1399"/>
                  <a:pt x="9767" y="2026"/>
                  <a:pt x="9767" y="2026"/>
                </a:cubicBezTo>
                <a:cubicBezTo>
                  <a:pt x="9767" y="2026"/>
                  <a:pt x="9586" y="0"/>
                  <a:pt x="9586" y="0"/>
                </a:cubicBezTo>
                <a:cubicBezTo>
                  <a:pt x="9586" y="0"/>
                  <a:pt x="11007" y="276"/>
                  <a:pt x="11704" y="424"/>
                </a:cubicBezTo>
                <a:cubicBezTo>
                  <a:pt x="12867" y="681"/>
                  <a:pt x="14030" y="1086"/>
                  <a:pt x="14443" y="1547"/>
                </a:cubicBezTo>
                <a:cubicBezTo>
                  <a:pt x="14831" y="1989"/>
                  <a:pt x="14495" y="2596"/>
                  <a:pt x="14624" y="3259"/>
                </a:cubicBezTo>
                <a:cubicBezTo>
                  <a:pt x="14727" y="3812"/>
                  <a:pt x="15115" y="4272"/>
                  <a:pt x="15761" y="4475"/>
                </a:cubicBezTo>
                <a:cubicBezTo>
                  <a:pt x="16200" y="4585"/>
                  <a:pt x="17285" y="4622"/>
                  <a:pt x="17285" y="4622"/>
                </a:cubicBezTo>
                <a:cubicBezTo>
                  <a:pt x="17285" y="4622"/>
                  <a:pt x="16949" y="5745"/>
                  <a:pt x="16303" y="6150"/>
                </a:cubicBezTo>
                <a:cubicBezTo>
                  <a:pt x="15580" y="6519"/>
                  <a:pt x="14676" y="6684"/>
                  <a:pt x="14340" y="7108"/>
                </a:cubicBezTo>
                <a:cubicBezTo>
                  <a:pt x="14056" y="7476"/>
                  <a:pt x="14185" y="7937"/>
                  <a:pt x="14831" y="8139"/>
                </a:cubicBezTo>
                <a:cubicBezTo>
                  <a:pt x="16148" y="8507"/>
                  <a:pt x="17673" y="8250"/>
                  <a:pt x="17905" y="8047"/>
                </a:cubicBezTo>
                <a:cubicBezTo>
                  <a:pt x="18422" y="7624"/>
                  <a:pt x="18293" y="6961"/>
                  <a:pt x="18861" y="6832"/>
                </a:cubicBezTo>
                <a:cubicBezTo>
                  <a:pt x="19300" y="6758"/>
                  <a:pt x="19585" y="7237"/>
                  <a:pt x="20179" y="7274"/>
                </a:cubicBezTo>
                <a:cubicBezTo>
                  <a:pt x="20567" y="7274"/>
                  <a:pt x="21264" y="6795"/>
                  <a:pt x="21264" y="6795"/>
                </a:cubicBezTo>
                <a:cubicBezTo>
                  <a:pt x="21264" y="6795"/>
                  <a:pt x="21600" y="7973"/>
                  <a:pt x="21032" y="8360"/>
                </a:cubicBezTo>
                <a:cubicBezTo>
                  <a:pt x="20618" y="8673"/>
                  <a:pt x="20179" y="8636"/>
                  <a:pt x="19378" y="8747"/>
                </a:cubicBezTo>
                <a:cubicBezTo>
                  <a:pt x="18939" y="8820"/>
                  <a:pt x="18603" y="9097"/>
                  <a:pt x="18551" y="9373"/>
                </a:cubicBezTo>
                <a:cubicBezTo>
                  <a:pt x="18500" y="9833"/>
                  <a:pt x="19249" y="10736"/>
                  <a:pt x="19249" y="10736"/>
                </a:cubicBezTo>
                <a:cubicBezTo>
                  <a:pt x="19249" y="10736"/>
                  <a:pt x="18422" y="11122"/>
                  <a:pt x="17983" y="11085"/>
                </a:cubicBezTo>
                <a:cubicBezTo>
                  <a:pt x="16949" y="11049"/>
                  <a:pt x="16200" y="10643"/>
                  <a:pt x="15322" y="10643"/>
                </a:cubicBezTo>
                <a:cubicBezTo>
                  <a:pt x="14443" y="10643"/>
                  <a:pt x="13539" y="11012"/>
                  <a:pt x="13151" y="11509"/>
                </a:cubicBezTo>
                <a:cubicBezTo>
                  <a:pt x="12970" y="11785"/>
                  <a:pt x="13151" y="12724"/>
                  <a:pt x="13900" y="13406"/>
                </a:cubicBezTo>
                <a:cubicBezTo>
                  <a:pt x="14624" y="14087"/>
                  <a:pt x="16898" y="14897"/>
                  <a:pt x="16898" y="14897"/>
                </a:cubicBezTo>
                <a:cubicBezTo>
                  <a:pt x="16898" y="14897"/>
                  <a:pt x="14624" y="15984"/>
                  <a:pt x="14624" y="15984"/>
                </a:cubicBezTo>
                <a:cubicBezTo>
                  <a:pt x="14624" y="15984"/>
                  <a:pt x="14882" y="16720"/>
                  <a:pt x="15270" y="17438"/>
                </a:cubicBezTo>
                <a:cubicBezTo>
                  <a:pt x="15425" y="17751"/>
                  <a:pt x="15502" y="18009"/>
                  <a:pt x="15761" y="18212"/>
                </a:cubicBezTo>
                <a:cubicBezTo>
                  <a:pt x="16200" y="18562"/>
                  <a:pt x="16691" y="18948"/>
                  <a:pt x="16639" y="19335"/>
                </a:cubicBezTo>
                <a:cubicBezTo>
                  <a:pt x="16588" y="19832"/>
                  <a:pt x="16200" y="20274"/>
                  <a:pt x="15812" y="20698"/>
                </a:cubicBezTo>
                <a:cubicBezTo>
                  <a:pt x="15373" y="20606"/>
                  <a:pt x="14882" y="20550"/>
                  <a:pt x="14443" y="20698"/>
                </a:cubicBezTo>
                <a:cubicBezTo>
                  <a:pt x="14056" y="20827"/>
                  <a:pt x="13978" y="21250"/>
                  <a:pt x="13590" y="21416"/>
                </a:cubicBezTo>
                <a:cubicBezTo>
                  <a:pt x="13022" y="21600"/>
                  <a:pt x="12324" y="21324"/>
                  <a:pt x="11678" y="21324"/>
                </a:cubicBezTo>
              </a:path>
            </a:pathLst>
          </a:custGeom>
          <a:solidFill>
            <a:srgbClr val="33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67160" y="4527720"/>
            <a:ext cx="769680" cy="137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07" y="20980"/>
                </a:moveTo>
                <a:cubicBezTo>
                  <a:pt x="11722" y="20881"/>
                  <a:pt x="10661" y="20796"/>
                  <a:pt x="9726" y="20557"/>
                </a:cubicBezTo>
                <a:cubicBezTo>
                  <a:pt x="9549" y="20528"/>
                  <a:pt x="9221" y="20458"/>
                  <a:pt x="9221" y="20458"/>
                </a:cubicBezTo>
                <a:cubicBezTo>
                  <a:pt x="9221" y="20458"/>
                  <a:pt x="8211" y="21262"/>
                  <a:pt x="7503" y="21332"/>
                </a:cubicBezTo>
                <a:cubicBezTo>
                  <a:pt x="6568" y="21389"/>
                  <a:pt x="5078" y="20909"/>
                  <a:pt x="3663" y="20345"/>
                </a:cubicBezTo>
                <a:cubicBezTo>
                  <a:pt x="3208" y="20176"/>
                  <a:pt x="2728" y="19908"/>
                  <a:pt x="2349" y="19570"/>
                </a:cubicBezTo>
                <a:cubicBezTo>
                  <a:pt x="1794" y="19133"/>
                  <a:pt x="1339" y="18625"/>
                  <a:pt x="1339" y="18442"/>
                </a:cubicBezTo>
                <a:cubicBezTo>
                  <a:pt x="1339" y="18103"/>
                  <a:pt x="1844" y="17934"/>
                  <a:pt x="2173" y="17666"/>
                </a:cubicBezTo>
                <a:cubicBezTo>
                  <a:pt x="2526" y="17441"/>
                  <a:pt x="3082" y="17201"/>
                  <a:pt x="3032" y="16891"/>
                </a:cubicBezTo>
                <a:cubicBezTo>
                  <a:pt x="2981" y="16440"/>
                  <a:pt x="2299" y="16087"/>
                  <a:pt x="1844" y="15707"/>
                </a:cubicBezTo>
                <a:cubicBezTo>
                  <a:pt x="1541" y="15396"/>
                  <a:pt x="1213" y="15128"/>
                  <a:pt x="859" y="14875"/>
                </a:cubicBezTo>
                <a:cubicBezTo>
                  <a:pt x="581" y="14691"/>
                  <a:pt x="0" y="14635"/>
                  <a:pt x="0" y="14423"/>
                </a:cubicBezTo>
                <a:cubicBezTo>
                  <a:pt x="51" y="14057"/>
                  <a:pt x="632" y="13803"/>
                  <a:pt x="1011" y="13493"/>
                </a:cubicBezTo>
                <a:cubicBezTo>
                  <a:pt x="1339" y="13253"/>
                  <a:pt x="2021" y="13169"/>
                  <a:pt x="2147" y="12901"/>
                </a:cubicBezTo>
                <a:cubicBezTo>
                  <a:pt x="2223" y="12661"/>
                  <a:pt x="1844" y="12421"/>
                  <a:pt x="1592" y="12210"/>
                </a:cubicBezTo>
                <a:cubicBezTo>
                  <a:pt x="1415" y="12097"/>
                  <a:pt x="1011" y="12125"/>
                  <a:pt x="1011" y="11970"/>
                </a:cubicBezTo>
                <a:cubicBezTo>
                  <a:pt x="1061" y="11590"/>
                  <a:pt x="1415" y="11237"/>
                  <a:pt x="1768" y="10899"/>
                </a:cubicBezTo>
                <a:cubicBezTo>
                  <a:pt x="1971" y="10659"/>
                  <a:pt x="2728" y="10603"/>
                  <a:pt x="2728" y="10335"/>
                </a:cubicBezTo>
                <a:cubicBezTo>
                  <a:pt x="2728" y="10067"/>
                  <a:pt x="1971" y="10010"/>
                  <a:pt x="1642" y="9827"/>
                </a:cubicBezTo>
                <a:cubicBezTo>
                  <a:pt x="1389" y="9672"/>
                  <a:pt x="960" y="9531"/>
                  <a:pt x="1011" y="9320"/>
                </a:cubicBezTo>
                <a:cubicBezTo>
                  <a:pt x="1112" y="9023"/>
                  <a:pt x="1642" y="8784"/>
                  <a:pt x="2097" y="8572"/>
                </a:cubicBezTo>
                <a:cubicBezTo>
                  <a:pt x="2526" y="8333"/>
                  <a:pt x="2931" y="7910"/>
                  <a:pt x="3587" y="7910"/>
                </a:cubicBezTo>
                <a:cubicBezTo>
                  <a:pt x="4143" y="7910"/>
                  <a:pt x="4421" y="8361"/>
                  <a:pt x="4952" y="8530"/>
                </a:cubicBezTo>
                <a:cubicBezTo>
                  <a:pt x="5432" y="8643"/>
                  <a:pt x="5962" y="8784"/>
                  <a:pt x="6442" y="8727"/>
                </a:cubicBezTo>
                <a:cubicBezTo>
                  <a:pt x="6947" y="8671"/>
                  <a:pt x="7629" y="8530"/>
                  <a:pt x="7579" y="8248"/>
                </a:cubicBezTo>
                <a:cubicBezTo>
                  <a:pt x="7453" y="7656"/>
                  <a:pt x="6619" y="7205"/>
                  <a:pt x="6063" y="6669"/>
                </a:cubicBezTo>
                <a:cubicBezTo>
                  <a:pt x="5811" y="6415"/>
                  <a:pt x="5128" y="6133"/>
                  <a:pt x="5204" y="5837"/>
                </a:cubicBezTo>
                <a:cubicBezTo>
                  <a:pt x="5381" y="5414"/>
                  <a:pt x="6189" y="5174"/>
                  <a:pt x="6771" y="4921"/>
                </a:cubicBezTo>
                <a:cubicBezTo>
                  <a:pt x="7251" y="4709"/>
                  <a:pt x="8008" y="4681"/>
                  <a:pt x="8312" y="4399"/>
                </a:cubicBezTo>
                <a:cubicBezTo>
                  <a:pt x="8539" y="4230"/>
                  <a:pt x="8261" y="3990"/>
                  <a:pt x="8109" y="3807"/>
                </a:cubicBezTo>
                <a:cubicBezTo>
                  <a:pt x="7882" y="3567"/>
                  <a:pt x="7503" y="3398"/>
                  <a:pt x="7200" y="3186"/>
                </a:cubicBezTo>
                <a:cubicBezTo>
                  <a:pt x="6872" y="2975"/>
                  <a:pt x="6493" y="2778"/>
                  <a:pt x="6291" y="2524"/>
                </a:cubicBezTo>
                <a:cubicBezTo>
                  <a:pt x="6189" y="2397"/>
                  <a:pt x="6139" y="2256"/>
                  <a:pt x="6291" y="2171"/>
                </a:cubicBezTo>
                <a:cubicBezTo>
                  <a:pt x="6771" y="1847"/>
                  <a:pt x="8211" y="1100"/>
                  <a:pt x="9802" y="564"/>
                </a:cubicBezTo>
                <a:cubicBezTo>
                  <a:pt x="10712" y="268"/>
                  <a:pt x="11469" y="0"/>
                  <a:pt x="12227" y="56"/>
                </a:cubicBezTo>
                <a:cubicBezTo>
                  <a:pt x="13137" y="113"/>
                  <a:pt x="14072" y="381"/>
                  <a:pt x="14931" y="705"/>
                </a:cubicBezTo>
                <a:cubicBezTo>
                  <a:pt x="15688" y="1015"/>
                  <a:pt x="16497" y="1368"/>
                  <a:pt x="16800" y="1847"/>
                </a:cubicBezTo>
                <a:cubicBezTo>
                  <a:pt x="17078" y="2199"/>
                  <a:pt x="17128" y="2608"/>
                  <a:pt x="16952" y="3031"/>
                </a:cubicBezTo>
                <a:cubicBezTo>
                  <a:pt x="16749" y="3454"/>
                  <a:pt x="16320" y="3877"/>
                  <a:pt x="16648" y="4159"/>
                </a:cubicBezTo>
                <a:cubicBezTo>
                  <a:pt x="17002" y="4498"/>
                  <a:pt x="17987" y="4498"/>
                  <a:pt x="18417" y="4681"/>
                </a:cubicBezTo>
                <a:cubicBezTo>
                  <a:pt x="18872" y="4892"/>
                  <a:pt x="19301" y="5174"/>
                  <a:pt x="19427" y="5513"/>
                </a:cubicBezTo>
                <a:cubicBezTo>
                  <a:pt x="19528" y="5893"/>
                  <a:pt x="19301" y="6288"/>
                  <a:pt x="18796" y="6556"/>
                </a:cubicBezTo>
                <a:cubicBezTo>
                  <a:pt x="18417" y="6725"/>
                  <a:pt x="17709" y="6880"/>
                  <a:pt x="17078" y="6824"/>
                </a:cubicBezTo>
                <a:cubicBezTo>
                  <a:pt x="16421" y="6768"/>
                  <a:pt x="15789" y="6768"/>
                  <a:pt x="15309" y="6852"/>
                </a:cubicBezTo>
                <a:cubicBezTo>
                  <a:pt x="14501" y="7007"/>
                  <a:pt x="13869" y="7416"/>
                  <a:pt x="13971" y="8121"/>
                </a:cubicBezTo>
                <a:cubicBezTo>
                  <a:pt x="14021" y="8572"/>
                  <a:pt x="14198" y="8939"/>
                  <a:pt x="14577" y="9235"/>
                </a:cubicBezTo>
                <a:cubicBezTo>
                  <a:pt x="14779" y="9404"/>
                  <a:pt x="15082" y="9616"/>
                  <a:pt x="15512" y="9672"/>
                </a:cubicBezTo>
                <a:cubicBezTo>
                  <a:pt x="15992" y="9771"/>
                  <a:pt x="16497" y="9827"/>
                  <a:pt x="16926" y="9827"/>
                </a:cubicBezTo>
                <a:cubicBezTo>
                  <a:pt x="17507" y="9827"/>
                  <a:pt x="18139" y="9616"/>
                  <a:pt x="18442" y="9291"/>
                </a:cubicBezTo>
                <a:cubicBezTo>
                  <a:pt x="18821" y="8883"/>
                  <a:pt x="18872" y="7910"/>
                  <a:pt x="18872" y="7910"/>
                </a:cubicBezTo>
                <a:cubicBezTo>
                  <a:pt x="18872" y="7910"/>
                  <a:pt x="19983" y="8939"/>
                  <a:pt x="20211" y="9193"/>
                </a:cubicBezTo>
                <a:cubicBezTo>
                  <a:pt x="20488" y="9559"/>
                  <a:pt x="21600" y="10405"/>
                  <a:pt x="21600" y="10405"/>
                </a:cubicBezTo>
                <a:cubicBezTo>
                  <a:pt x="21600" y="10405"/>
                  <a:pt x="20842" y="10899"/>
                  <a:pt x="20413" y="11110"/>
                </a:cubicBezTo>
                <a:cubicBezTo>
                  <a:pt x="19857" y="11378"/>
                  <a:pt x="18922" y="11590"/>
                  <a:pt x="18619" y="11886"/>
                </a:cubicBezTo>
                <a:cubicBezTo>
                  <a:pt x="18063" y="12393"/>
                  <a:pt x="19149" y="12929"/>
                  <a:pt x="20337" y="13310"/>
                </a:cubicBezTo>
                <a:cubicBezTo>
                  <a:pt x="20968" y="13521"/>
                  <a:pt x="21549" y="13972"/>
                  <a:pt x="21549" y="13972"/>
                </a:cubicBezTo>
                <a:cubicBezTo>
                  <a:pt x="21549" y="13972"/>
                  <a:pt x="20539" y="14593"/>
                  <a:pt x="19781" y="14705"/>
                </a:cubicBezTo>
                <a:cubicBezTo>
                  <a:pt x="18922" y="14875"/>
                  <a:pt x="17987" y="14635"/>
                  <a:pt x="17381" y="14564"/>
                </a:cubicBezTo>
                <a:cubicBezTo>
                  <a:pt x="16952" y="14508"/>
                  <a:pt x="16067" y="14480"/>
                  <a:pt x="16067" y="14480"/>
                </a:cubicBezTo>
                <a:cubicBezTo>
                  <a:pt x="16067" y="14480"/>
                  <a:pt x="15789" y="15114"/>
                  <a:pt x="15840" y="15707"/>
                </a:cubicBezTo>
                <a:cubicBezTo>
                  <a:pt x="15840" y="16172"/>
                  <a:pt x="16118" y="16679"/>
                  <a:pt x="16194" y="16806"/>
                </a:cubicBezTo>
                <a:cubicBezTo>
                  <a:pt x="16421" y="17032"/>
                  <a:pt x="17002" y="17018"/>
                  <a:pt x="17128" y="17018"/>
                </a:cubicBezTo>
                <a:cubicBezTo>
                  <a:pt x="17760" y="17032"/>
                  <a:pt x="18366" y="16750"/>
                  <a:pt x="18922" y="16468"/>
                </a:cubicBezTo>
                <a:cubicBezTo>
                  <a:pt x="19251" y="16411"/>
                  <a:pt x="19629" y="16355"/>
                  <a:pt x="19983" y="16383"/>
                </a:cubicBezTo>
                <a:cubicBezTo>
                  <a:pt x="20337" y="16411"/>
                  <a:pt x="20589" y="16538"/>
                  <a:pt x="20716" y="16679"/>
                </a:cubicBezTo>
                <a:cubicBezTo>
                  <a:pt x="20968" y="17102"/>
                  <a:pt x="20842" y="17582"/>
                  <a:pt x="20741" y="17906"/>
                </a:cubicBezTo>
                <a:cubicBezTo>
                  <a:pt x="20589" y="18470"/>
                  <a:pt x="20337" y="18949"/>
                  <a:pt x="19731" y="19147"/>
                </a:cubicBezTo>
                <a:cubicBezTo>
                  <a:pt x="18998" y="19429"/>
                  <a:pt x="17558" y="19725"/>
                  <a:pt x="17558" y="19725"/>
                </a:cubicBezTo>
                <a:cubicBezTo>
                  <a:pt x="17558" y="19725"/>
                  <a:pt x="18291" y="20148"/>
                  <a:pt x="18493" y="20387"/>
                </a:cubicBezTo>
                <a:cubicBezTo>
                  <a:pt x="18796" y="20669"/>
                  <a:pt x="18821" y="21064"/>
                  <a:pt x="18493" y="21360"/>
                </a:cubicBezTo>
                <a:cubicBezTo>
                  <a:pt x="18240" y="21600"/>
                  <a:pt x="17709" y="21572"/>
                  <a:pt x="17179" y="21473"/>
                </a:cubicBezTo>
                <a:cubicBezTo>
                  <a:pt x="16800" y="21431"/>
                  <a:pt x="16371" y="21262"/>
                  <a:pt x="15891" y="21191"/>
                </a:cubicBezTo>
                <a:cubicBezTo>
                  <a:pt x="15562" y="21121"/>
                  <a:pt x="14147" y="21092"/>
                  <a:pt x="12707" y="20980"/>
                </a:cubicBezTo>
              </a:path>
            </a:pathLst>
          </a:custGeom>
          <a:solidFill>
            <a:srgbClr val="33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5800" y="4402080"/>
            <a:ext cx="6012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6770" y="13829"/>
                  <a:pt x="0" y="6849"/>
                  <a:pt x="4836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8400" y="4062240"/>
            <a:ext cx="218880" cy="33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689" y="13429"/>
                  <a:pt x="10667" y="6400"/>
                  <a:pt x="21600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57280" y="3881520"/>
            <a:ext cx="22068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673" y="14078"/>
                  <a:pt x="13873" y="6770"/>
                  <a:pt x="21600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77960" y="3581280"/>
            <a:ext cx="569880" cy="30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630" y="12454"/>
                  <a:pt x="14286" y="6227"/>
                  <a:pt x="21600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7840" y="3321000"/>
            <a:ext cx="87156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814" y="11172"/>
                  <a:pt x="14207" y="4916"/>
                  <a:pt x="21600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19400" y="3168720"/>
            <a:ext cx="1152720" cy="15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093" y="11054"/>
                  <a:pt x="14321" y="3558"/>
                  <a:pt x="21600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3152880"/>
            <a:ext cx="419040" cy="1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123" y="8894"/>
                  <a:pt x="14385" y="6353"/>
                  <a:pt x="21600" y="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91160" y="3138480"/>
            <a:ext cx="523800" cy="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460" y="14850"/>
                  <a:pt x="14882" y="0"/>
                  <a:pt x="21600" y="2700"/>
                </a:cubicBezTo>
              </a:path>
            </a:pathLst>
          </a:custGeom>
          <a:noFill/>
          <a:ln w="7200">
            <a:solidFill>
              <a:srgbClr val="9b9b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60600" y="6469200"/>
            <a:ext cx="1527480" cy="90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66" y="8033"/>
                </a:moveTo>
                <a:cubicBezTo>
                  <a:pt x="2624" y="9519"/>
                  <a:pt x="0" y="10746"/>
                  <a:pt x="0" y="10746"/>
                </a:cubicBezTo>
                <a:cubicBezTo>
                  <a:pt x="0" y="10746"/>
                  <a:pt x="3400" y="11435"/>
                  <a:pt x="5655" y="9303"/>
                </a:cubicBezTo>
                <a:cubicBezTo>
                  <a:pt x="6839" y="8162"/>
                  <a:pt x="8775" y="5255"/>
                  <a:pt x="10851" y="5879"/>
                </a:cubicBezTo>
                <a:cubicBezTo>
                  <a:pt x="11017" y="5922"/>
                  <a:pt x="12175" y="6611"/>
                  <a:pt x="13080" y="7796"/>
                </a:cubicBezTo>
                <a:cubicBezTo>
                  <a:pt x="16582" y="12297"/>
                  <a:pt x="19078" y="18714"/>
                  <a:pt x="20798" y="20674"/>
                </a:cubicBezTo>
                <a:cubicBezTo>
                  <a:pt x="21600" y="21600"/>
                  <a:pt x="19155" y="18047"/>
                  <a:pt x="17652" y="13395"/>
                </a:cubicBezTo>
                <a:cubicBezTo>
                  <a:pt x="17117" y="11758"/>
                  <a:pt x="16926" y="9842"/>
                  <a:pt x="16022" y="7796"/>
                </a:cubicBezTo>
                <a:cubicBezTo>
                  <a:pt x="15054" y="5621"/>
                  <a:pt x="13182" y="4286"/>
                  <a:pt x="12838" y="4113"/>
                </a:cubicBezTo>
                <a:cubicBezTo>
                  <a:pt x="12328" y="3876"/>
                  <a:pt x="11832" y="3295"/>
                  <a:pt x="11628" y="2692"/>
                </a:cubicBezTo>
                <a:cubicBezTo>
                  <a:pt x="11411" y="2110"/>
                  <a:pt x="12010" y="560"/>
                  <a:pt x="12010" y="560"/>
                </a:cubicBezTo>
                <a:cubicBezTo>
                  <a:pt x="12010" y="560"/>
                  <a:pt x="10291" y="1098"/>
                  <a:pt x="9425" y="904"/>
                </a:cubicBezTo>
                <a:cubicBezTo>
                  <a:pt x="8571" y="732"/>
                  <a:pt x="7731" y="0"/>
                  <a:pt x="6941" y="366"/>
                </a:cubicBezTo>
                <a:cubicBezTo>
                  <a:pt x="6330" y="689"/>
                  <a:pt x="5973" y="1874"/>
                  <a:pt x="6330" y="2606"/>
                </a:cubicBezTo>
                <a:cubicBezTo>
                  <a:pt x="6865" y="3704"/>
                  <a:pt x="8851" y="2864"/>
                  <a:pt x="8851" y="2864"/>
                </a:cubicBezTo>
                <a:cubicBezTo>
                  <a:pt x="8851" y="2864"/>
                  <a:pt x="8024" y="4522"/>
                  <a:pt x="6890" y="4609"/>
                </a:cubicBezTo>
                <a:cubicBezTo>
                  <a:pt x="6113" y="4716"/>
                  <a:pt x="5324" y="4479"/>
                  <a:pt x="4725" y="5125"/>
                </a:cubicBezTo>
                <a:cubicBezTo>
                  <a:pt x="4343" y="5513"/>
                  <a:pt x="4152" y="7064"/>
                  <a:pt x="3566" y="8033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960" y="1569960"/>
            <a:ext cx="5391000" cy="98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82" y="21304"/>
                </a:moveTo>
                <a:cubicBezTo>
                  <a:pt x="14864" y="21344"/>
                  <a:pt x="15304" y="21225"/>
                  <a:pt x="15643" y="21225"/>
                </a:cubicBezTo>
                <a:cubicBezTo>
                  <a:pt x="16256" y="21225"/>
                  <a:pt x="16865" y="21186"/>
                  <a:pt x="17468" y="21146"/>
                </a:cubicBezTo>
                <a:cubicBezTo>
                  <a:pt x="17680" y="21146"/>
                  <a:pt x="17893" y="21146"/>
                  <a:pt x="18091" y="21225"/>
                </a:cubicBezTo>
                <a:cubicBezTo>
                  <a:pt x="18200" y="21383"/>
                  <a:pt x="18304" y="21561"/>
                  <a:pt x="18412" y="21561"/>
                </a:cubicBezTo>
                <a:cubicBezTo>
                  <a:pt x="18571" y="21561"/>
                  <a:pt x="18730" y="20988"/>
                  <a:pt x="18899" y="20988"/>
                </a:cubicBezTo>
                <a:cubicBezTo>
                  <a:pt x="19051" y="20988"/>
                  <a:pt x="19198" y="21521"/>
                  <a:pt x="19332" y="21482"/>
                </a:cubicBezTo>
                <a:cubicBezTo>
                  <a:pt x="19534" y="21383"/>
                  <a:pt x="19660" y="20594"/>
                  <a:pt x="19829" y="20476"/>
                </a:cubicBezTo>
                <a:cubicBezTo>
                  <a:pt x="20078" y="20259"/>
                  <a:pt x="20331" y="21107"/>
                  <a:pt x="20590" y="21344"/>
                </a:cubicBezTo>
                <a:cubicBezTo>
                  <a:pt x="20846" y="21600"/>
                  <a:pt x="21113" y="21107"/>
                  <a:pt x="21344" y="21146"/>
                </a:cubicBezTo>
                <a:cubicBezTo>
                  <a:pt x="21434" y="21146"/>
                  <a:pt x="21600" y="21186"/>
                  <a:pt x="21600" y="21186"/>
                </a:cubicBezTo>
                <a:cubicBezTo>
                  <a:pt x="21600" y="21186"/>
                  <a:pt x="21600" y="16136"/>
                  <a:pt x="21600" y="16136"/>
                </a:cubicBezTo>
                <a:cubicBezTo>
                  <a:pt x="21600" y="16136"/>
                  <a:pt x="21113" y="15386"/>
                  <a:pt x="20908" y="14735"/>
                </a:cubicBezTo>
                <a:cubicBezTo>
                  <a:pt x="20839" y="14499"/>
                  <a:pt x="20785" y="14104"/>
                  <a:pt x="20659" y="13512"/>
                </a:cubicBezTo>
                <a:cubicBezTo>
                  <a:pt x="20522" y="12940"/>
                  <a:pt x="20342" y="13335"/>
                  <a:pt x="20154" y="13138"/>
                </a:cubicBezTo>
                <a:cubicBezTo>
                  <a:pt x="20013" y="12980"/>
                  <a:pt x="19891" y="12270"/>
                  <a:pt x="19739" y="11836"/>
                </a:cubicBezTo>
                <a:cubicBezTo>
                  <a:pt x="19591" y="11441"/>
                  <a:pt x="19426" y="11224"/>
                  <a:pt x="19271" y="10849"/>
                </a:cubicBezTo>
                <a:cubicBezTo>
                  <a:pt x="19029" y="10218"/>
                  <a:pt x="18784" y="9547"/>
                  <a:pt x="18549" y="8916"/>
                </a:cubicBezTo>
                <a:cubicBezTo>
                  <a:pt x="18160" y="7930"/>
                  <a:pt x="17763" y="6963"/>
                  <a:pt x="17374" y="5957"/>
                </a:cubicBezTo>
                <a:cubicBezTo>
                  <a:pt x="17125" y="5306"/>
                  <a:pt x="16865" y="4596"/>
                  <a:pt x="16616" y="3886"/>
                </a:cubicBezTo>
                <a:cubicBezTo>
                  <a:pt x="16202" y="2959"/>
                  <a:pt x="15838" y="2268"/>
                  <a:pt x="15495" y="1302"/>
                </a:cubicBezTo>
                <a:cubicBezTo>
                  <a:pt x="15333" y="848"/>
                  <a:pt x="15210" y="335"/>
                  <a:pt x="15077" y="178"/>
                </a:cubicBezTo>
                <a:cubicBezTo>
                  <a:pt x="14932" y="0"/>
                  <a:pt x="14777" y="178"/>
                  <a:pt x="14644" y="513"/>
                </a:cubicBezTo>
                <a:cubicBezTo>
                  <a:pt x="14316" y="1262"/>
                  <a:pt x="13995" y="2308"/>
                  <a:pt x="13685" y="3215"/>
                </a:cubicBezTo>
                <a:cubicBezTo>
                  <a:pt x="13386" y="4103"/>
                  <a:pt x="13072" y="4715"/>
                  <a:pt x="12754" y="4932"/>
                </a:cubicBezTo>
                <a:cubicBezTo>
                  <a:pt x="12614" y="5010"/>
                  <a:pt x="12470" y="4932"/>
                  <a:pt x="12329" y="4754"/>
                </a:cubicBezTo>
                <a:cubicBezTo>
                  <a:pt x="12206" y="4636"/>
                  <a:pt x="12073" y="4557"/>
                  <a:pt x="11954" y="4399"/>
                </a:cubicBezTo>
                <a:cubicBezTo>
                  <a:pt x="11806" y="4221"/>
                  <a:pt x="11741" y="4162"/>
                  <a:pt x="11673" y="4103"/>
                </a:cubicBezTo>
                <a:cubicBezTo>
                  <a:pt x="11521" y="3827"/>
                  <a:pt x="11442" y="3215"/>
                  <a:pt x="11330" y="2998"/>
                </a:cubicBezTo>
                <a:cubicBezTo>
                  <a:pt x="11229" y="2801"/>
                  <a:pt x="11125" y="2959"/>
                  <a:pt x="11024" y="3215"/>
                </a:cubicBezTo>
                <a:cubicBezTo>
                  <a:pt x="10796" y="3807"/>
                  <a:pt x="10227" y="5622"/>
                  <a:pt x="10227" y="5622"/>
                </a:cubicBezTo>
                <a:cubicBezTo>
                  <a:pt x="10227" y="5622"/>
                  <a:pt x="9812" y="6549"/>
                  <a:pt x="9617" y="7220"/>
                </a:cubicBezTo>
                <a:cubicBezTo>
                  <a:pt x="9412" y="7890"/>
                  <a:pt x="9091" y="9212"/>
                  <a:pt x="8748" y="10317"/>
                </a:cubicBezTo>
                <a:cubicBezTo>
                  <a:pt x="8438" y="11264"/>
                  <a:pt x="8063" y="12171"/>
                  <a:pt x="7692" y="13019"/>
                </a:cubicBezTo>
                <a:cubicBezTo>
                  <a:pt x="7363" y="13729"/>
                  <a:pt x="7035" y="14341"/>
                  <a:pt x="6707" y="15071"/>
                </a:cubicBezTo>
                <a:cubicBezTo>
                  <a:pt x="6448" y="15603"/>
                  <a:pt x="6181" y="16136"/>
                  <a:pt x="5954" y="16925"/>
                </a:cubicBezTo>
                <a:cubicBezTo>
                  <a:pt x="5770" y="17556"/>
                  <a:pt x="5604" y="18049"/>
                  <a:pt x="5420" y="18266"/>
                </a:cubicBezTo>
                <a:cubicBezTo>
                  <a:pt x="5265" y="18424"/>
                  <a:pt x="5131" y="18227"/>
                  <a:pt x="4973" y="18227"/>
                </a:cubicBezTo>
                <a:cubicBezTo>
                  <a:pt x="4857" y="18227"/>
                  <a:pt x="4717" y="18424"/>
                  <a:pt x="4605" y="18424"/>
                </a:cubicBezTo>
                <a:cubicBezTo>
                  <a:pt x="4360" y="18424"/>
                  <a:pt x="4071" y="18227"/>
                  <a:pt x="3790" y="18227"/>
                </a:cubicBezTo>
                <a:cubicBezTo>
                  <a:pt x="3592" y="18227"/>
                  <a:pt x="3379" y="18385"/>
                  <a:pt x="3173" y="18345"/>
                </a:cubicBezTo>
                <a:cubicBezTo>
                  <a:pt x="2961" y="18306"/>
                  <a:pt x="2755" y="18089"/>
                  <a:pt x="2542" y="18049"/>
                </a:cubicBezTo>
                <a:cubicBezTo>
                  <a:pt x="2384" y="18049"/>
                  <a:pt x="2182" y="18306"/>
                  <a:pt x="1983" y="18306"/>
                </a:cubicBezTo>
                <a:cubicBezTo>
                  <a:pt x="1825" y="18306"/>
                  <a:pt x="1666" y="18089"/>
                  <a:pt x="1507" y="17931"/>
                </a:cubicBezTo>
                <a:cubicBezTo>
                  <a:pt x="1406" y="17892"/>
                  <a:pt x="1302" y="17635"/>
                  <a:pt x="1208" y="17793"/>
                </a:cubicBezTo>
                <a:cubicBezTo>
                  <a:pt x="1125" y="17931"/>
                  <a:pt x="1093" y="18562"/>
                  <a:pt x="1002" y="18681"/>
                </a:cubicBezTo>
                <a:cubicBezTo>
                  <a:pt x="927" y="18759"/>
                  <a:pt x="865" y="18345"/>
                  <a:pt x="797" y="18227"/>
                </a:cubicBezTo>
                <a:cubicBezTo>
                  <a:pt x="707" y="18049"/>
                  <a:pt x="613" y="17892"/>
                  <a:pt x="516" y="17892"/>
                </a:cubicBezTo>
                <a:cubicBezTo>
                  <a:pt x="346" y="17892"/>
                  <a:pt x="0" y="18385"/>
                  <a:pt x="0" y="18385"/>
                </a:cubicBezTo>
                <a:cubicBezTo>
                  <a:pt x="0" y="18385"/>
                  <a:pt x="0" y="21442"/>
                  <a:pt x="0" y="21442"/>
                </a:cubicBezTo>
                <a:cubicBezTo>
                  <a:pt x="0" y="21442"/>
                  <a:pt x="584" y="20850"/>
                  <a:pt x="880" y="20890"/>
                </a:cubicBezTo>
                <a:cubicBezTo>
                  <a:pt x="1057" y="20890"/>
                  <a:pt x="1302" y="21008"/>
                  <a:pt x="1536" y="21048"/>
                </a:cubicBezTo>
                <a:cubicBezTo>
                  <a:pt x="1853" y="21146"/>
                  <a:pt x="2066" y="21225"/>
                  <a:pt x="2283" y="21186"/>
                </a:cubicBezTo>
                <a:cubicBezTo>
                  <a:pt x="2686" y="21107"/>
                  <a:pt x="3076" y="20988"/>
                  <a:pt x="3462" y="20811"/>
                </a:cubicBezTo>
                <a:cubicBezTo>
                  <a:pt x="4262" y="20476"/>
                  <a:pt x="5914" y="20693"/>
                  <a:pt x="5914" y="20693"/>
                </a:cubicBezTo>
                <a:cubicBezTo>
                  <a:pt x="5914" y="20693"/>
                  <a:pt x="6646" y="21107"/>
                  <a:pt x="7003" y="21146"/>
                </a:cubicBezTo>
                <a:cubicBezTo>
                  <a:pt x="7255" y="21186"/>
                  <a:pt x="7537" y="20712"/>
                  <a:pt x="7782" y="20653"/>
                </a:cubicBezTo>
                <a:cubicBezTo>
                  <a:pt x="8023" y="20594"/>
                  <a:pt x="8233" y="20988"/>
                  <a:pt x="8438" y="20811"/>
                </a:cubicBezTo>
                <a:cubicBezTo>
                  <a:pt x="8597" y="20693"/>
                  <a:pt x="8741" y="20259"/>
                  <a:pt x="8900" y="20140"/>
                </a:cubicBezTo>
                <a:cubicBezTo>
                  <a:pt x="9282" y="19825"/>
                  <a:pt x="9653" y="20180"/>
                  <a:pt x="10025" y="20693"/>
                </a:cubicBezTo>
                <a:cubicBezTo>
                  <a:pt x="10165" y="20850"/>
                  <a:pt x="10310" y="21304"/>
                  <a:pt x="10461" y="21284"/>
                </a:cubicBezTo>
                <a:cubicBezTo>
                  <a:pt x="10627" y="21225"/>
                  <a:pt x="10865" y="21225"/>
                  <a:pt x="11085" y="20890"/>
                </a:cubicBezTo>
                <a:cubicBezTo>
                  <a:pt x="11301" y="20555"/>
                  <a:pt x="11550" y="20594"/>
                  <a:pt x="11802" y="20653"/>
                </a:cubicBezTo>
                <a:cubicBezTo>
                  <a:pt x="12062" y="20693"/>
                  <a:pt x="12318" y="20712"/>
                  <a:pt x="12614" y="20712"/>
                </a:cubicBezTo>
                <a:cubicBezTo>
                  <a:pt x="12931" y="20712"/>
                  <a:pt x="13248" y="20555"/>
                  <a:pt x="13652" y="20653"/>
                </a:cubicBezTo>
                <a:cubicBezTo>
                  <a:pt x="13952" y="20693"/>
                  <a:pt x="14208" y="21284"/>
                  <a:pt x="14482" y="21304"/>
                </a:cubicBezTo>
              </a:path>
            </a:pathLst>
          </a:custGeom>
          <a:solidFill>
            <a:srgbClr val="00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2240" y="1608120"/>
            <a:ext cx="2811600" cy="87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" y="21489"/>
                </a:moveTo>
                <a:cubicBezTo>
                  <a:pt x="0" y="21489"/>
                  <a:pt x="104" y="21533"/>
                  <a:pt x="131" y="21489"/>
                </a:cubicBezTo>
                <a:cubicBezTo>
                  <a:pt x="581" y="21111"/>
                  <a:pt x="1037" y="20889"/>
                  <a:pt x="1479" y="20333"/>
                </a:cubicBezTo>
                <a:cubicBezTo>
                  <a:pt x="1783" y="19956"/>
                  <a:pt x="2433" y="19289"/>
                  <a:pt x="2993" y="18156"/>
                </a:cubicBezTo>
                <a:cubicBezTo>
                  <a:pt x="3228" y="17711"/>
                  <a:pt x="3795" y="17000"/>
                  <a:pt x="4368" y="16244"/>
                </a:cubicBezTo>
                <a:cubicBezTo>
                  <a:pt x="4859" y="15578"/>
                  <a:pt x="5357" y="14778"/>
                  <a:pt x="6027" y="13933"/>
                </a:cubicBezTo>
                <a:cubicBezTo>
                  <a:pt x="6407" y="13467"/>
                  <a:pt x="6801" y="12911"/>
                  <a:pt x="7168" y="12289"/>
                </a:cubicBezTo>
                <a:cubicBezTo>
                  <a:pt x="7769" y="11267"/>
                  <a:pt x="8329" y="10067"/>
                  <a:pt x="8916" y="8956"/>
                </a:cubicBezTo>
                <a:cubicBezTo>
                  <a:pt x="9255" y="8311"/>
                  <a:pt x="9532" y="7178"/>
                  <a:pt x="9926" y="6889"/>
                </a:cubicBezTo>
                <a:cubicBezTo>
                  <a:pt x="10174" y="6711"/>
                  <a:pt x="10423" y="7044"/>
                  <a:pt x="10638" y="6800"/>
                </a:cubicBezTo>
                <a:cubicBezTo>
                  <a:pt x="11011" y="6422"/>
                  <a:pt x="11239" y="5200"/>
                  <a:pt x="11605" y="4822"/>
                </a:cubicBezTo>
                <a:cubicBezTo>
                  <a:pt x="11958" y="4489"/>
                  <a:pt x="12338" y="4444"/>
                  <a:pt x="12684" y="4733"/>
                </a:cubicBezTo>
                <a:cubicBezTo>
                  <a:pt x="13209" y="5156"/>
                  <a:pt x="13630" y="6711"/>
                  <a:pt x="14170" y="6889"/>
                </a:cubicBezTo>
                <a:cubicBezTo>
                  <a:pt x="14439" y="7000"/>
                  <a:pt x="14681" y="6378"/>
                  <a:pt x="14951" y="6133"/>
                </a:cubicBezTo>
                <a:cubicBezTo>
                  <a:pt x="15441" y="5689"/>
                  <a:pt x="15953" y="5400"/>
                  <a:pt x="16451" y="4822"/>
                </a:cubicBezTo>
                <a:cubicBezTo>
                  <a:pt x="16651" y="4600"/>
                  <a:pt x="16858" y="4156"/>
                  <a:pt x="17038" y="3733"/>
                </a:cubicBezTo>
                <a:cubicBezTo>
                  <a:pt x="17197" y="3333"/>
                  <a:pt x="17301" y="2667"/>
                  <a:pt x="17474" y="2333"/>
                </a:cubicBezTo>
                <a:cubicBezTo>
                  <a:pt x="17619" y="2044"/>
                  <a:pt x="17826" y="2333"/>
                  <a:pt x="17971" y="2022"/>
                </a:cubicBezTo>
                <a:cubicBezTo>
                  <a:pt x="18116" y="1689"/>
                  <a:pt x="18096" y="889"/>
                  <a:pt x="18248" y="600"/>
                </a:cubicBezTo>
                <a:cubicBezTo>
                  <a:pt x="18483" y="178"/>
                  <a:pt x="18787" y="333"/>
                  <a:pt x="19049" y="178"/>
                </a:cubicBezTo>
                <a:cubicBezTo>
                  <a:pt x="19153" y="133"/>
                  <a:pt x="19250" y="0"/>
                  <a:pt x="19354" y="67"/>
                </a:cubicBezTo>
                <a:cubicBezTo>
                  <a:pt x="19506" y="222"/>
                  <a:pt x="19623" y="889"/>
                  <a:pt x="19810" y="1200"/>
                </a:cubicBezTo>
                <a:cubicBezTo>
                  <a:pt x="20681" y="2711"/>
                  <a:pt x="21600" y="2911"/>
                  <a:pt x="21496" y="4400"/>
                </a:cubicBezTo>
                <a:cubicBezTo>
                  <a:pt x="21310" y="7044"/>
                  <a:pt x="19837" y="5067"/>
                  <a:pt x="19049" y="5911"/>
                </a:cubicBezTo>
                <a:cubicBezTo>
                  <a:pt x="17999" y="7044"/>
                  <a:pt x="17128" y="9844"/>
                  <a:pt x="16029" y="10378"/>
                </a:cubicBezTo>
                <a:cubicBezTo>
                  <a:pt x="14653" y="11022"/>
                  <a:pt x="13236" y="8422"/>
                  <a:pt x="11882" y="9400"/>
                </a:cubicBezTo>
                <a:cubicBezTo>
                  <a:pt x="9753" y="10822"/>
                  <a:pt x="7838" y="14756"/>
                  <a:pt x="5827" y="17422"/>
                </a:cubicBezTo>
                <a:cubicBezTo>
                  <a:pt x="4949" y="18578"/>
                  <a:pt x="4113" y="20178"/>
                  <a:pt x="3193" y="20844"/>
                </a:cubicBezTo>
                <a:cubicBezTo>
                  <a:pt x="2157" y="21600"/>
                  <a:pt x="1078" y="21267"/>
                  <a:pt x="35" y="21489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5040" y="1660680"/>
            <a:ext cx="2989080" cy="90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97" y="18520"/>
                </a:moveTo>
                <a:cubicBezTo>
                  <a:pt x="0" y="17793"/>
                  <a:pt x="1261" y="17408"/>
                  <a:pt x="1632" y="16531"/>
                </a:cubicBezTo>
                <a:cubicBezTo>
                  <a:pt x="2198" y="15227"/>
                  <a:pt x="2594" y="13324"/>
                  <a:pt x="3173" y="12062"/>
                </a:cubicBezTo>
                <a:cubicBezTo>
                  <a:pt x="3557" y="11206"/>
                  <a:pt x="4012" y="10265"/>
                  <a:pt x="4473" y="10351"/>
                </a:cubicBezTo>
                <a:cubicBezTo>
                  <a:pt x="4805" y="10436"/>
                  <a:pt x="5124" y="11335"/>
                  <a:pt x="5208" y="12511"/>
                </a:cubicBezTo>
                <a:cubicBezTo>
                  <a:pt x="5299" y="13773"/>
                  <a:pt x="5130" y="15141"/>
                  <a:pt x="5371" y="14906"/>
                </a:cubicBezTo>
                <a:cubicBezTo>
                  <a:pt x="5845" y="14414"/>
                  <a:pt x="6203" y="12960"/>
                  <a:pt x="6385" y="11292"/>
                </a:cubicBezTo>
                <a:cubicBezTo>
                  <a:pt x="6457" y="10672"/>
                  <a:pt x="6470" y="9902"/>
                  <a:pt x="6489" y="9217"/>
                </a:cubicBezTo>
                <a:cubicBezTo>
                  <a:pt x="6535" y="8255"/>
                  <a:pt x="6457" y="7229"/>
                  <a:pt x="6587" y="6416"/>
                </a:cubicBezTo>
                <a:cubicBezTo>
                  <a:pt x="6684" y="5838"/>
                  <a:pt x="6931" y="5518"/>
                  <a:pt x="7139" y="5368"/>
                </a:cubicBezTo>
                <a:cubicBezTo>
                  <a:pt x="7562" y="5154"/>
                  <a:pt x="8017" y="5689"/>
                  <a:pt x="8440" y="5368"/>
                </a:cubicBezTo>
                <a:cubicBezTo>
                  <a:pt x="8622" y="5218"/>
                  <a:pt x="8719" y="4512"/>
                  <a:pt x="8869" y="4149"/>
                </a:cubicBezTo>
                <a:cubicBezTo>
                  <a:pt x="9031" y="3743"/>
                  <a:pt x="9213" y="3379"/>
                  <a:pt x="9396" y="3101"/>
                </a:cubicBezTo>
                <a:cubicBezTo>
                  <a:pt x="9649" y="2695"/>
                  <a:pt x="9942" y="2566"/>
                  <a:pt x="10202" y="2160"/>
                </a:cubicBezTo>
                <a:cubicBezTo>
                  <a:pt x="10371" y="1946"/>
                  <a:pt x="10501" y="1476"/>
                  <a:pt x="10670" y="1219"/>
                </a:cubicBezTo>
                <a:cubicBezTo>
                  <a:pt x="10885" y="855"/>
                  <a:pt x="11119" y="684"/>
                  <a:pt x="11340" y="364"/>
                </a:cubicBezTo>
                <a:cubicBezTo>
                  <a:pt x="11379" y="321"/>
                  <a:pt x="11411" y="0"/>
                  <a:pt x="11457" y="43"/>
                </a:cubicBezTo>
                <a:cubicBezTo>
                  <a:pt x="12243" y="1262"/>
                  <a:pt x="12991" y="2737"/>
                  <a:pt x="13771" y="4063"/>
                </a:cubicBezTo>
                <a:cubicBezTo>
                  <a:pt x="14539" y="5325"/>
                  <a:pt x="15338" y="6501"/>
                  <a:pt x="16106" y="7785"/>
                </a:cubicBezTo>
                <a:cubicBezTo>
                  <a:pt x="16762" y="8790"/>
                  <a:pt x="17400" y="9709"/>
                  <a:pt x="17920" y="11099"/>
                </a:cubicBezTo>
                <a:cubicBezTo>
                  <a:pt x="18264" y="11998"/>
                  <a:pt x="18505" y="13281"/>
                  <a:pt x="18713" y="12639"/>
                </a:cubicBezTo>
                <a:cubicBezTo>
                  <a:pt x="18921" y="12062"/>
                  <a:pt x="18089" y="10372"/>
                  <a:pt x="18089" y="10372"/>
                </a:cubicBezTo>
                <a:cubicBezTo>
                  <a:pt x="18089" y="10372"/>
                  <a:pt x="18908" y="11249"/>
                  <a:pt x="19292" y="11891"/>
                </a:cubicBezTo>
                <a:cubicBezTo>
                  <a:pt x="19883" y="12874"/>
                  <a:pt x="20313" y="14457"/>
                  <a:pt x="20826" y="15355"/>
                </a:cubicBezTo>
                <a:cubicBezTo>
                  <a:pt x="21268" y="16147"/>
                  <a:pt x="21600" y="16082"/>
                  <a:pt x="21587" y="16617"/>
                </a:cubicBezTo>
                <a:cubicBezTo>
                  <a:pt x="21515" y="20424"/>
                  <a:pt x="19883" y="19654"/>
                  <a:pt x="18251" y="19568"/>
                </a:cubicBezTo>
                <a:cubicBezTo>
                  <a:pt x="17465" y="19526"/>
                  <a:pt x="16671" y="19654"/>
                  <a:pt x="15885" y="19889"/>
                </a:cubicBezTo>
                <a:cubicBezTo>
                  <a:pt x="14682" y="20253"/>
                  <a:pt x="13401" y="21600"/>
                  <a:pt x="12256" y="20317"/>
                </a:cubicBezTo>
                <a:cubicBezTo>
                  <a:pt x="11860" y="19889"/>
                  <a:pt x="11574" y="18734"/>
                  <a:pt x="11190" y="18071"/>
                </a:cubicBezTo>
                <a:cubicBezTo>
                  <a:pt x="10481" y="16788"/>
                  <a:pt x="9636" y="16403"/>
                  <a:pt x="8817" y="16168"/>
                </a:cubicBezTo>
                <a:cubicBezTo>
                  <a:pt x="8069" y="15954"/>
                  <a:pt x="7315" y="15890"/>
                  <a:pt x="6567" y="15847"/>
                </a:cubicBezTo>
                <a:cubicBezTo>
                  <a:pt x="5754" y="15783"/>
                  <a:pt x="4968" y="15847"/>
                  <a:pt x="4213" y="16318"/>
                </a:cubicBezTo>
                <a:cubicBezTo>
                  <a:pt x="3583" y="16724"/>
                  <a:pt x="2952" y="17216"/>
                  <a:pt x="2360" y="17836"/>
                </a:cubicBezTo>
                <a:cubicBezTo>
                  <a:pt x="1658" y="18627"/>
                  <a:pt x="975" y="19568"/>
                  <a:pt x="397" y="18520"/>
                </a:cubicBezTo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1940040"/>
            <a:ext cx="1685880" cy="12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282"/>
                </a:moveTo>
                <a:cubicBezTo>
                  <a:pt x="21600" y="2282"/>
                  <a:pt x="21531" y="4868"/>
                  <a:pt x="21415" y="4868"/>
                </a:cubicBezTo>
                <a:cubicBezTo>
                  <a:pt x="21196" y="4868"/>
                  <a:pt x="21023" y="2282"/>
                  <a:pt x="20827" y="1521"/>
                </a:cubicBezTo>
                <a:cubicBezTo>
                  <a:pt x="20562" y="761"/>
                  <a:pt x="20262" y="2586"/>
                  <a:pt x="19778" y="2282"/>
                </a:cubicBezTo>
                <a:cubicBezTo>
                  <a:pt x="19247" y="1977"/>
                  <a:pt x="18532" y="0"/>
                  <a:pt x="18336" y="0"/>
                </a:cubicBezTo>
                <a:cubicBezTo>
                  <a:pt x="17691" y="0"/>
                  <a:pt x="16999" y="1065"/>
                  <a:pt x="16318" y="1369"/>
                </a:cubicBezTo>
                <a:cubicBezTo>
                  <a:pt x="15788" y="1521"/>
                  <a:pt x="15246" y="2282"/>
                  <a:pt x="14911" y="3651"/>
                </a:cubicBezTo>
                <a:cubicBezTo>
                  <a:pt x="14565" y="4563"/>
                  <a:pt x="13862" y="5628"/>
                  <a:pt x="13862" y="5628"/>
                </a:cubicBezTo>
                <a:cubicBezTo>
                  <a:pt x="13862" y="5628"/>
                  <a:pt x="13666" y="6845"/>
                  <a:pt x="13574" y="6845"/>
                </a:cubicBezTo>
                <a:cubicBezTo>
                  <a:pt x="13354" y="6845"/>
                  <a:pt x="13112" y="4563"/>
                  <a:pt x="12778" y="3651"/>
                </a:cubicBezTo>
                <a:cubicBezTo>
                  <a:pt x="12351" y="2282"/>
                  <a:pt x="11913" y="2282"/>
                  <a:pt x="11498" y="2282"/>
                </a:cubicBezTo>
                <a:cubicBezTo>
                  <a:pt x="10137" y="2282"/>
                  <a:pt x="8776" y="2282"/>
                  <a:pt x="7415" y="2282"/>
                </a:cubicBezTo>
                <a:cubicBezTo>
                  <a:pt x="5997" y="2282"/>
                  <a:pt x="4590" y="2586"/>
                  <a:pt x="3483" y="3042"/>
                </a:cubicBezTo>
                <a:cubicBezTo>
                  <a:pt x="2341" y="3346"/>
                  <a:pt x="0" y="4259"/>
                  <a:pt x="0" y="4259"/>
                </a:cubicBezTo>
                <a:cubicBezTo>
                  <a:pt x="0" y="4259"/>
                  <a:pt x="1857" y="6389"/>
                  <a:pt x="2733" y="7149"/>
                </a:cubicBezTo>
                <a:cubicBezTo>
                  <a:pt x="3633" y="7758"/>
                  <a:pt x="4417" y="7149"/>
                  <a:pt x="5166" y="7149"/>
                </a:cubicBezTo>
                <a:cubicBezTo>
                  <a:pt x="6020" y="7149"/>
                  <a:pt x="6896" y="7758"/>
                  <a:pt x="7750" y="7454"/>
                </a:cubicBezTo>
                <a:cubicBezTo>
                  <a:pt x="8730" y="7149"/>
                  <a:pt x="9802" y="8366"/>
                  <a:pt x="10748" y="8975"/>
                </a:cubicBezTo>
                <a:cubicBezTo>
                  <a:pt x="11336" y="9431"/>
                  <a:pt x="11936" y="11256"/>
                  <a:pt x="12270" y="11256"/>
                </a:cubicBezTo>
                <a:cubicBezTo>
                  <a:pt x="13008" y="11256"/>
                  <a:pt x="13770" y="14146"/>
                  <a:pt x="14104" y="13234"/>
                </a:cubicBezTo>
                <a:cubicBezTo>
                  <a:pt x="14473" y="12321"/>
                  <a:pt x="14854" y="12321"/>
                  <a:pt x="15280" y="12017"/>
                </a:cubicBezTo>
                <a:cubicBezTo>
                  <a:pt x="15926" y="11561"/>
                  <a:pt x="16607" y="12017"/>
                  <a:pt x="17368" y="11256"/>
                </a:cubicBezTo>
                <a:cubicBezTo>
                  <a:pt x="17714" y="10952"/>
                  <a:pt x="18083" y="10648"/>
                  <a:pt x="18394" y="10344"/>
                </a:cubicBezTo>
                <a:cubicBezTo>
                  <a:pt x="18636" y="10344"/>
                  <a:pt x="18878" y="10039"/>
                  <a:pt x="19051" y="10039"/>
                </a:cubicBezTo>
                <a:cubicBezTo>
                  <a:pt x="19294" y="10039"/>
                  <a:pt x="19467" y="10648"/>
                  <a:pt x="19443" y="12017"/>
                </a:cubicBezTo>
                <a:cubicBezTo>
                  <a:pt x="19386" y="14907"/>
                  <a:pt x="18982" y="14146"/>
                  <a:pt x="18705" y="14603"/>
                </a:cubicBezTo>
                <a:cubicBezTo>
                  <a:pt x="18302" y="15059"/>
                  <a:pt x="17460" y="19014"/>
                  <a:pt x="17460" y="19014"/>
                </a:cubicBezTo>
                <a:cubicBezTo>
                  <a:pt x="17460" y="19014"/>
                  <a:pt x="17910" y="18406"/>
                  <a:pt x="18590" y="19014"/>
                </a:cubicBezTo>
                <a:cubicBezTo>
                  <a:pt x="18855" y="19318"/>
                  <a:pt x="19097" y="21600"/>
                  <a:pt x="19386" y="21600"/>
                </a:cubicBezTo>
                <a:cubicBezTo>
                  <a:pt x="19686" y="21600"/>
                  <a:pt x="19974" y="19927"/>
                  <a:pt x="20297" y="18710"/>
                </a:cubicBezTo>
                <a:cubicBezTo>
                  <a:pt x="20562" y="17645"/>
                  <a:pt x="20804" y="17341"/>
                  <a:pt x="21023" y="17341"/>
                </a:cubicBezTo>
                <a:cubicBezTo>
                  <a:pt x="21219" y="17949"/>
                  <a:pt x="21600" y="19014"/>
                  <a:pt x="21600" y="19014"/>
                </a:cubicBezTo>
                <a:cubicBezTo>
                  <a:pt x="21600" y="19014"/>
                  <a:pt x="21600" y="2282"/>
                  <a:pt x="21600" y="2282"/>
                </a:cubicBezTo>
              </a:path>
            </a:pathLst>
          </a:custGeom>
          <a:solidFill>
            <a:srgbClr val="ffffff"/>
          </a:solidFill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19880" y="1727280"/>
            <a:ext cx="5936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45" y="20654"/>
                </a:moveTo>
                <a:cubicBezTo>
                  <a:pt x="18257" y="20181"/>
                  <a:pt x="17503" y="19393"/>
                  <a:pt x="16815" y="19393"/>
                </a:cubicBezTo>
                <a:cubicBezTo>
                  <a:pt x="16323" y="19393"/>
                  <a:pt x="15766" y="20181"/>
                  <a:pt x="15241" y="20969"/>
                </a:cubicBezTo>
                <a:cubicBezTo>
                  <a:pt x="14946" y="21285"/>
                  <a:pt x="14586" y="21600"/>
                  <a:pt x="14258" y="21600"/>
                </a:cubicBezTo>
                <a:cubicBezTo>
                  <a:pt x="13832" y="21285"/>
                  <a:pt x="13406" y="20969"/>
                  <a:pt x="13012" y="19866"/>
                </a:cubicBezTo>
                <a:cubicBezTo>
                  <a:pt x="12652" y="19393"/>
                  <a:pt x="12259" y="17816"/>
                  <a:pt x="11767" y="17343"/>
                </a:cubicBezTo>
                <a:cubicBezTo>
                  <a:pt x="10980" y="16239"/>
                  <a:pt x="10259" y="17501"/>
                  <a:pt x="9473" y="17343"/>
                </a:cubicBezTo>
                <a:cubicBezTo>
                  <a:pt x="8915" y="17028"/>
                  <a:pt x="8293" y="15609"/>
                  <a:pt x="7866" y="16555"/>
                </a:cubicBezTo>
                <a:cubicBezTo>
                  <a:pt x="7604" y="17343"/>
                  <a:pt x="7604" y="19393"/>
                  <a:pt x="7342" y="19866"/>
                </a:cubicBezTo>
                <a:cubicBezTo>
                  <a:pt x="7113" y="20654"/>
                  <a:pt x="6850" y="20654"/>
                  <a:pt x="6555" y="19866"/>
                </a:cubicBezTo>
                <a:cubicBezTo>
                  <a:pt x="6359" y="19708"/>
                  <a:pt x="6162" y="18289"/>
                  <a:pt x="5933" y="17501"/>
                </a:cubicBezTo>
                <a:cubicBezTo>
                  <a:pt x="5736" y="17028"/>
                  <a:pt x="5408" y="17028"/>
                  <a:pt x="5244" y="16239"/>
                </a:cubicBezTo>
                <a:cubicBezTo>
                  <a:pt x="5113" y="15609"/>
                  <a:pt x="5113" y="14347"/>
                  <a:pt x="4917" y="13559"/>
                </a:cubicBezTo>
                <a:cubicBezTo>
                  <a:pt x="4359" y="11982"/>
                  <a:pt x="3507" y="14663"/>
                  <a:pt x="2917" y="14978"/>
                </a:cubicBezTo>
                <a:cubicBezTo>
                  <a:pt x="2458" y="14978"/>
                  <a:pt x="1967" y="14347"/>
                  <a:pt x="1639" y="14663"/>
                </a:cubicBezTo>
                <a:cubicBezTo>
                  <a:pt x="983" y="14978"/>
                  <a:pt x="0" y="11982"/>
                  <a:pt x="0" y="11982"/>
                </a:cubicBezTo>
                <a:cubicBezTo>
                  <a:pt x="0" y="11982"/>
                  <a:pt x="885" y="11194"/>
                  <a:pt x="1311" y="10879"/>
                </a:cubicBezTo>
                <a:cubicBezTo>
                  <a:pt x="1639" y="10879"/>
                  <a:pt x="1967" y="11194"/>
                  <a:pt x="2360" y="11194"/>
                </a:cubicBezTo>
                <a:cubicBezTo>
                  <a:pt x="2753" y="11194"/>
                  <a:pt x="3245" y="9618"/>
                  <a:pt x="3671" y="8987"/>
                </a:cubicBezTo>
                <a:cubicBezTo>
                  <a:pt x="4917" y="6937"/>
                  <a:pt x="6359" y="5834"/>
                  <a:pt x="7113" y="5518"/>
                </a:cubicBezTo>
                <a:cubicBezTo>
                  <a:pt x="8096" y="5361"/>
                  <a:pt x="9046" y="5361"/>
                  <a:pt x="10095" y="5361"/>
                </a:cubicBezTo>
                <a:cubicBezTo>
                  <a:pt x="10718" y="5361"/>
                  <a:pt x="11341" y="5834"/>
                  <a:pt x="11898" y="5361"/>
                </a:cubicBezTo>
                <a:cubicBezTo>
                  <a:pt x="12357" y="4572"/>
                  <a:pt x="12750" y="3153"/>
                  <a:pt x="13209" y="2680"/>
                </a:cubicBezTo>
                <a:cubicBezTo>
                  <a:pt x="13832" y="1892"/>
                  <a:pt x="14520" y="2365"/>
                  <a:pt x="15405" y="1892"/>
                </a:cubicBezTo>
                <a:cubicBezTo>
                  <a:pt x="16126" y="1892"/>
                  <a:pt x="16880" y="1577"/>
                  <a:pt x="17568" y="1577"/>
                </a:cubicBezTo>
                <a:cubicBezTo>
                  <a:pt x="17995" y="1261"/>
                  <a:pt x="18486" y="631"/>
                  <a:pt x="18880" y="315"/>
                </a:cubicBezTo>
                <a:cubicBezTo>
                  <a:pt x="19437" y="0"/>
                  <a:pt x="19994" y="315"/>
                  <a:pt x="20551" y="631"/>
                </a:cubicBezTo>
                <a:cubicBezTo>
                  <a:pt x="20879" y="631"/>
                  <a:pt x="21600" y="0"/>
                  <a:pt x="21600" y="0"/>
                </a:cubicBezTo>
                <a:cubicBezTo>
                  <a:pt x="21600" y="0"/>
                  <a:pt x="21600" y="19866"/>
                  <a:pt x="21600" y="19866"/>
                </a:cubicBezTo>
                <a:cubicBezTo>
                  <a:pt x="21600" y="19866"/>
                  <a:pt x="19764" y="20969"/>
                  <a:pt x="18945" y="20654"/>
                </a:cubicBezTo>
              </a:path>
            </a:pathLst>
          </a:custGeom>
          <a:solidFill>
            <a:srgbClr val="ffffff"/>
          </a:solidFill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05040"/>
            <a:ext cx="45540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3" y="10667"/>
                </a:moveTo>
                <a:cubicBezTo>
                  <a:pt x="895" y="9867"/>
                  <a:pt x="0" y="9067"/>
                  <a:pt x="0" y="9067"/>
                </a:cubicBezTo>
                <a:cubicBezTo>
                  <a:pt x="0" y="9067"/>
                  <a:pt x="1619" y="7200"/>
                  <a:pt x="2428" y="6400"/>
                </a:cubicBezTo>
                <a:cubicBezTo>
                  <a:pt x="3323" y="4533"/>
                  <a:pt x="4218" y="1867"/>
                  <a:pt x="5198" y="1333"/>
                </a:cubicBezTo>
                <a:cubicBezTo>
                  <a:pt x="6220" y="0"/>
                  <a:pt x="7285" y="0"/>
                  <a:pt x="8308" y="1333"/>
                </a:cubicBezTo>
                <a:cubicBezTo>
                  <a:pt x="9032" y="2400"/>
                  <a:pt x="9799" y="5067"/>
                  <a:pt x="10523" y="5867"/>
                </a:cubicBezTo>
                <a:cubicBezTo>
                  <a:pt x="11886" y="6667"/>
                  <a:pt x="13250" y="4000"/>
                  <a:pt x="14485" y="3467"/>
                </a:cubicBezTo>
                <a:cubicBezTo>
                  <a:pt x="15295" y="2667"/>
                  <a:pt x="16189" y="3467"/>
                  <a:pt x="16999" y="4000"/>
                </a:cubicBezTo>
                <a:cubicBezTo>
                  <a:pt x="17638" y="4533"/>
                  <a:pt x="18277" y="4533"/>
                  <a:pt x="18873" y="5867"/>
                </a:cubicBezTo>
                <a:cubicBezTo>
                  <a:pt x="19811" y="6667"/>
                  <a:pt x="21600" y="9067"/>
                  <a:pt x="21600" y="9067"/>
                </a:cubicBezTo>
                <a:cubicBezTo>
                  <a:pt x="21600" y="9067"/>
                  <a:pt x="19512" y="10400"/>
                  <a:pt x="18533" y="11200"/>
                </a:cubicBezTo>
                <a:cubicBezTo>
                  <a:pt x="17723" y="12533"/>
                  <a:pt x="16999" y="16533"/>
                  <a:pt x="16189" y="16533"/>
                </a:cubicBezTo>
                <a:cubicBezTo>
                  <a:pt x="15550" y="16533"/>
                  <a:pt x="14911" y="13600"/>
                  <a:pt x="14315" y="14400"/>
                </a:cubicBezTo>
                <a:cubicBezTo>
                  <a:pt x="13761" y="14400"/>
                  <a:pt x="13335" y="17067"/>
                  <a:pt x="12781" y="18133"/>
                </a:cubicBezTo>
                <a:cubicBezTo>
                  <a:pt x="12057" y="19200"/>
                  <a:pt x="11333" y="18133"/>
                  <a:pt x="10608" y="17067"/>
                </a:cubicBezTo>
                <a:cubicBezTo>
                  <a:pt x="10267" y="16533"/>
                  <a:pt x="9799" y="14400"/>
                  <a:pt x="9373" y="14400"/>
                </a:cubicBezTo>
                <a:cubicBezTo>
                  <a:pt x="8521" y="14400"/>
                  <a:pt x="7754" y="18133"/>
                  <a:pt x="6859" y="19733"/>
                </a:cubicBezTo>
                <a:cubicBezTo>
                  <a:pt x="5922" y="21600"/>
                  <a:pt x="5070" y="19200"/>
                  <a:pt x="4133" y="17600"/>
                </a:cubicBezTo>
                <a:cubicBezTo>
                  <a:pt x="3280" y="15733"/>
                  <a:pt x="2343" y="12533"/>
                  <a:pt x="1363" y="10667"/>
                </a:cubicBezTo>
              </a:path>
            </a:pathLst>
          </a:custGeom>
          <a:solidFill>
            <a:srgbClr val="ffffff"/>
          </a:solidFill>
          <a:ln w="72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200" y="1914480"/>
            <a:ext cx="196056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336"/>
                </a:moveTo>
                <a:cubicBezTo>
                  <a:pt x="0" y="20336"/>
                  <a:pt x="327" y="21370"/>
                  <a:pt x="496" y="21370"/>
                </a:cubicBezTo>
                <a:cubicBezTo>
                  <a:pt x="912" y="21600"/>
                  <a:pt x="1338" y="21370"/>
                  <a:pt x="1755" y="21370"/>
                </a:cubicBezTo>
                <a:cubicBezTo>
                  <a:pt x="1943" y="21370"/>
                  <a:pt x="2151" y="21600"/>
                  <a:pt x="2339" y="21140"/>
                </a:cubicBezTo>
                <a:cubicBezTo>
                  <a:pt x="2548" y="20681"/>
                  <a:pt x="2716" y="18957"/>
                  <a:pt x="2924" y="18957"/>
                </a:cubicBezTo>
                <a:cubicBezTo>
                  <a:pt x="3321" y="18957"/>
                  <a:pt x="3697" y="20911"/>
                  <a:pt x="4094" y="21370"/>
                </a:cubicBezTo>
                <a:cubicBezTo>
                  <a:pt x="4312" y="21600"/>
                  <a:pt x="4510" y="21600"/>
                  <a:pt x="4728" y="21140"/>
                </a:cubicBezTo>
                <a:cubicBezTo>
                  <a:pt x="5046" y="20681"/>
                  <a:pt x="5333" y="18613"/>
                  <a:pt x="5650" y="18383"/>
                </a:cubicBezTo>
                <a:cubicBezTo>
                  <a:pt x="5948" y="18153"/>
                  <a:pt x="6235" y="19877"/>
                  <a:pt x="6533" y="20106"/>
                </a:cubicBezTo>
                <a:cubicBezTo>
                  <a:pt x="6731" y="20336"/>
                  <a:pt x="6919" y="20106"/>
                  <a:pt x="7137" y="19877"/>
                </a:cubicBezTo>
                <a:cubicBezTo>
                  <a:pt x="7316" y="19647"/>
                  <a:pt x="7504" y="18613"/>
                  <a:pt x="7702" y="18383"/>
                </a:cubicBezTo>
                <a:cubicBezTo>
                  <a:pt x="8069" y="18153"/>
                  <a:pt x="8436" y="17923"/>
                  <a:pt x="8803" y="18383"/>
                </a:cubicBezTo>
                <a:cubicBezTo>
                  <a:pt x="8912" y="18613"/>
                  <a:pt x="8971" y="20336"/>
                  <a:pt x="9080" y="20681"/>
                </a:cubicBezTo>
                <a:cubicBezTo>
                  <a:pt x="9288" y="21370"/>
                  <a:pt x="9496" y="18957"/>
                  <a:pt x="9705" y="18153"/>
                </a:cubicBezTo>
                <a:cubicBezTo>
                  <a:pt x="10111" y="16660"/>
                  <a:pt x="10567" y="17694"/>
                  <a:pt x="11013" y="17234"/>
                </a:cubicBezTo>
                <a:cubicBezTo>
                  <a:pt x="11281" y="17004"/>
                  <a:pt x="11548" y="16660"/>
                  <a:pt x="11826" y="16085"/>
                </a:cubicBezTo>
                <a:cubicBezTo>
                  <a:pt x="11925" y="15740"/>
                  <a:pt x="12014" y="14362"/>
                  <a:pt x="12113" y="14132"/>
                </a:cubicBezTo>
                <a:cubicBezTo>
                  <a:pt x="12411" y="13557"/>
                  <a:pt x="12718" y="14362"/>
                  <a:pt x="13016" y="13787"/>
                </a:cubicBezTo>
                <a:cubicBezTo>
                  <a:pt x="13164" y="13557"/>
                  <a:pt x="13303" y="12638"/>
                  <a:pt x="13481" y="12409"/>
                </a:cubicBezTo>
                <a:cubicBezTo>
                  <a:pt x="13769" y="11834"/>
                  <a:pt x="14086" y="12179"/>
                  <a:pt x="14374" y="11834"/>
                </a:cubicBezTo>
                <a:cubicBezTo>
                  <a:pt x="14730" y="11604"/>
                  <a:pt x="15087" y="11604"/>
                  <a:pt x="15444" y="11374"/>
                </a:cubicBezTo>
                <a:cubicBezTo>
                  <a:pt x="15652" y="11145"/>
                  <a:pt x="15841" y="10455"/>
                  <a:pt x="16059" y="10455"/>
                </a:cubicBezTo>
                <a:cubicBezTo>
                  <a:pt x="16158" y="10455"/>
                  <a:pt x="16257" y="10915"/>
                  <a:pt x="16366" y="10915"/>
                </a:cubicBezTo>
                <a:cubicBezTo>
                  <a:pt x="16743" y="10915"/>
                  <a:pt x="17109" y="9881"/>
                  <a:pt x="17476" y="10226"/>
                </a:cubicBezTo>
                <a:cubicBezTo>
                  <a:pt x="17793" y="10455"/>
                  <a:pt x="18101" y="11834"/>
                  <a:pt x="18438" y="11834"/>
                </a:cubicBezTo>
                <a:cubicBezTo>
                  <a:pt x="18854" y="12179"/>
                  <a:pt x="19251" y="11374"/>
                  <a:pt x="19667" y="10915"/>
                </a:cubicBezTo>
                <a:cubicBezTo>
                  <a:pt x="19905" y="10685"/>
                  <a:pt x="20153" y="9651"/>
                  <a:pt x="20381" y="9306"/>
                </a:cubicBezTo>
                <a:cubicBezTo>
                  <a:pt x="20569" y="8962"/>
                  <a:pt x="20787" y="9421"/>
                  <a:pt x="20975" y="8962"/>
                </a:cubicBezTo>
                <a:cubicBezTo>
                  <a:pt x="21203" y="8502"/>
                  <a:pt x="21600" y="5630"/>
                  <a:pt x="21600" y="5630"/>
                </a:cubicBezTo>
                <a:cubicBezTo>
                  <a:pt x="21600" y="5630"/>
                  <a:pt x="21104" y="5630"/>
                  <a:pt x="21104" y="5630"/>
                </a:cubicBezTo>
                <a:cubicBezTo>
                  <a:pt x="21104" y="5630"/>
                  <a:pt x="20619" y="5055"/>
                  <a:pt x="20381" y="5055"/>
                </a:cubicBezTo>
                <a:cubicBezTo>
                  <a:pt x="20113" y="5055"/>
                  <a:pt x="19816" y="5400"/>
                  <a:pt x="19548" y="5630"/>
                </a:cubicBezTo>
                <a:cubicBezTo>
                  <a:pt x="19340" y="5860"/>
                  <a:pt x="19132" y="5974"/>
                  <a:pt x="18914" y="5974"/>
                </a:cubicBezTo>
                <a:cubicBezTo>
                  <a:pt x="18497" y="5974"/>
                  <a:pt x="18041" y="5860"/>
                  <a:pt x="17595" y="4826"/>
                </a:cubicBezTo>
                <a:cubicBezTo>
                  <a:pt x="17308" y="4136"/>
                  <a:pt x="16991" y="2643"/>
                  <a:pt x="16644" y="1723"/>
                </a:cubicBezTo>
                <a:cubicBezTo>
                  <a:pt x="16386" y="919"/>
                  <a:pt x="16108" y="460"/>
                  <a:pt x="15860" y="230"/>
                </a:cubicBezTo>
                <a:cubicBezTo>
                  <a:pt x="15553" y="0"/>
                  <a:pt x="15236" y="460"/>
                  <a:pt x="14919" y="919"/>
                </a:cubicBezTo>
                <a:cubicBezTo>
                  <a:pt x="14621" y="1379"/>
                  <a:pt x="14334" y="1953"/>
                  <a:pt x="14037" y="2643"/>
                </a:cubicBezTo>
                <a:cubicBezTo>
                  <a:pt x="13749" y="3332"/>
                  <a:pt x="13501" y="5400"/>
                  <a:pt x="13204" y="5630"/>
                </a:cubicBezTo>
                <a:cubicBezTo>
                  <a:pt x="12966" y="5860"/>
                  <a:pt x="12748" y="5055"/>
                  <a:pt x="12510" y="4596"/>
                </a:cubicBezTo>
                <a:cubicBezTo>
                  <a:pt x="12332" y="4136"/>
                  <a:pt x="12163" y="3332"/>
                  <a:pt x="11965" y="2872"/>
                </a:cubicBezTo>
                <a:cubicBezTo>
                  <a:pt x="11776" y="2413"/>
                  <a:pt x="11400" y="1953"/>
                  <a:pt x="11400" y="1953"/>
                </a:cubicBezTo>
                <a:cubicBezTo>
                  <a:pt x="11400" y="1953"/>
                  <a:pt x="11281" y="4251"/>
                  <a:pt x="11172" y="4826"/>
                </a:cubicBezTo>
                <a:cubicBezTo>
                  <a:pt x="10964" y="5630"/>
                  <a:pt x="10755" y="3906"/>
                  <a:pt x="10508" y="3102"/>
                </a:cubicBezTo>
                <a:cubicBezTo>
                  <a:pt x="10270" y="2643"/>
                  <a:pt x="10042" y="3332"/>
                  <a:pt x="9814" y="3102"/>
                </a:cubicBezTo>
                <a:cubicBezTo>
                  <a:pt x="9606" y="2872"/>
                  <a:pt x="9387" y="1379"/>
                  <a:pt x="9209" y="1723"/>
                </a:cubicBezTo>
                <a:cubicBezTo>
                  <a:pt x="9159" y="1723"/>
                  <a:pt x="9100" y="2413"/>
                  <a:pt x="9040" y="2413"/>
                </a:cubicBezTo>
                <a:cubicBezTo>
                  <a:pt x="8931" y="2413"/>
                  <a:pt x="8822" y="1149"/>
                  <a:pt x="8723" y="1149"/>
                </a:cubicBezTo>
                <a:cubicBezTo>
                  <a:pt x="8485" y="1149"/>
                  <a:pt x="8307" y="3102"/>
                  <a:pt x="8099" y="3332"/>
                </a:cubicBezTo>
                <a:cubicBezTo>
                  <a:pt x="7891" y="3677"/>
                  <a:pt x="7682" y="2643"/>
                  <a:pt x="7464" y="2872"/>
                </a:cubicBezTo>
                <a:cubicBezTo>
                  <a:pt x="7316" y="3102"/>
                  <a:pt x="7197" y="4251"/>
                  <a:pt x="7048" y="4596"/>
                </a:cubicBezTo>
                <a:cubicBezTo>
                  <a:pt x="6860" y="4826"/>
                  <a:pt x="6651" y="4826"/>
                  <a:pt x="6463" y="4596"/>
                </a:cubicBezTo>
                <a:cubicBezTo>
                  <a:pt x="6275" y="4251"/>
                  <a:pt x="6086" y="3102"/>
                  <a:pt x="5878" y="3102"/>
                </a:cubicBezTo>
                <a:cubicBezTo>
                  <a:pt x="5690" y="3102"/>
                  <a:pt x="5482" y="3677"/>
                  <a:pt x="5293" y="4136"/>
                </a:cubicBezTo>
                <a:cubicBezTo>
                  <a:pt x="5145" y="4251"/>
                  <a:pt x="4996" y="5055"/>
                  <a:pt x="4847" y="5055"/>
                </a:cubicBezTo>
                <a:cubicBezTo>
                  <a:pt x="4709" y="5055"/>
                  <a:pt x="4560" y="4596"/>
                  <a:pt x="4431" y="4136"/>
                </a:cubicBezTo>
                <a:cubicBezTo>
                  <a:pt x="4074" y="3102"/>
                  <a:pt x="3697" y="2643"/>
                  <a:pt x="3341" y="2183"/>
                </a:cubicBezTo>
                <a:cubicBezTo>
                  <a:pt x="3093" y="1723"/>
                  <a:pt x="2825" y="1149"/>
                  <a:pt x="2567" y="1149"/>
                </a:cubicBezTo>
                <a:cubicBezTo>
                  <a:pt x="2419" y="1149"/>
                  <a:pt x="2270" y="1149"/>
                  <a:pt x="2171" y="1953"/>
                </a:cubicBezTo>
                <a:cubicBezTo>
                  <a:pt x="2092" y="2643"/>
                  <a:pt x="2022" y="4136"/>
                  <a:pt x="1943" y="4596"/>
                </a:cubicBezTo>
                <a:cubicBezTo>
                  <a:pt x="1794" y="5630"/>
                  <a:pt x="1606" y="4251"/>
                  <a:pt x="1437" y="4251"/>
                </a:cubicBezTo>
                <a:cubicBezTo>
                  <a:pt x="1229" y="4251"/>
                  <a:pt x="1120" y="4136"/>
                  <a:pt x="1041" y="4136"/>
                </a:cubicBezTo>
                <a:cubicBezTo>
                  <a:pt x="813" y="4136"/>
                  <a:pt x="565" y="3906"/>
                  <a:pt x="436" y="3677"/>
                </a:cubicBezTo>
                <a:cubicBezTo>
                  <a:pt x="287" y="3332"/>
                  <a:pt x="0" y="2872"/>
                  <a:pt x="0" y="2872"/>
                </a:cubicBezTo>
                <a:cubicBezTo>
                  <a:pt x="0" y="2872"/>
                  <a:pt x="0" y="20336"/>
                  <a:pt x="0" y="20336"/>
                </a:cubicBezTo>
              </a:path>
            </a:pathLst>
          </a:custGeom>
          <a:solidFill>
            <a:srgbClr val="ffffff"/>
          </a:solidFill>
          <a:ln w="72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00" y="1538280"/>
            <a:ext cx="1611360" cy="12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40"/>
                </a:moveTo>
                <a:cubicBezTo>
                  <a:pt x="0" y="8640"/>
                  <a:pt x="325" y="5600"/>
                  <a:pt x="530" y="5280"/>
                </a:cubicBezTo>
                <a:cubicBezTo>
                  <a:pt x="856" y="4640"/>
                  <a:pt x="1193" y="4640"/>
                  <a:pt x="1495" y="4640"/>
                </a:cubicBezTo>
                <a:cubicBezTo>
                  <a:pt x="1868" y="4640"/>
                  <a:pt x="2230" y="4000"/>
                  <a:pt x="2592" y="4320"/>
                </a:cubicBezTo>
                <a:cubicBezTo>
                  <a:pt x="2869" y="4640"/>
                  <a:pt x="3170" y="4960"/>
                  <a:pt x="3471" y="4960"/>
                </a:cubicBezTo>
                <a:cubicBezTo>
                  <a:pt x="3737" y="4960"/>
                  <a:pt x="4014" y="3520"/>
                  <a:pt x="4267" y="3520"/>
                </a:cubicBezTo>
                <a:cubicBezTo>
                  <a:pt x="4532" y="3520"/>
                  <a:pt x="4809" y="5600"/>
                  <a:pt x="5075" y="6720"/>
                </a:cubicBezTo>
                <a:cubicBezTo>
                  <a:pt x="5388" y="7680"/>
                  <a:pt x="5689" y="7680"/>
                  <a:pt x="5991" y="8000"/>
                </a:cubicBezTo>
                <a:cubicBezTo>
                  <a:pt x="6352" y="8320"/>
                  <a:pt x="6738" y="8960"/>
                  <a:pt x="7088" y="8640"/>
                </a:cubicBezTo>
                <a:cubicBezTo>
                  <a:pt x="7292" y="8320"/>
                  <a:pt x="7497" y="8000"/>
                  <a:pt x="7702" y="7680"/>
                </a:cubicBezTo>
                <a:cubicBezTo>
                  <a:pt x="8148" y="7360"/>
                  <a:pt x="8594" y="7360"/>
                  <a:pt x="9052" y="7360"/>
                </a:cubicBezTo>
                <a:cubicBezTo>
                  <a:pt x="9257" y="7360"/>
                  <a:pt x="9486" y="7680"/>
                  <a:pt x="9667" y="7680"/>
                </a:cubicBezTo>
                <a:cubicBezTo>
                  <a:pt x="9920" y="7360"/>
                  <a:pt x="10197" y="7040"/>
                  <a:pt x="10426" y="6240"/>
                </a:cubicBezTo>
                <a:cubicBezTo>
                  <a:pt x="10764" y="5600"/>
                  <a:pt x="11089" y="4000"/>
                  <a:pt x="11415" y="2880"/>
                </a:cubicBezTo>
                <a:cubicBezTo>
                  <a:pt x="11656" y="2240"/>
                  <a:pt x="11909" y="1920"/>
                  <a:pt x="12126" y="1920"/>
                </a:cubicBezTo>
                <a:cubicBezTo>
                  <a:pt x="12295" y="1920"/>
                  <a:pt x="12475" y="2720"/>
                  <a:pt x="12620" y="2720"/>
                </a:cubicBezTo>
                <a:cubicBezTo>
                  <a:pt x="12921" y="2720"/>
                  <a:pt x="13223" y="1920"/>
                  <a:pt x="13536" y="1600"/>
                </a:cubicBezTo>
                <a:cubicBezTo>
                  <a:pt x="13838" y="1280"/>
                  <a:pt x="14175" y="0"/>
                  <a:pt x="14476" y="0"/>
                </a:cubicBezTo>
                <a:cubicBezTo>
                  <a:pt x="14995" y="320"/>
                  <a:pt x="15501" y="2240"/>
                  <a:pt x="16007" y="2720"/>
                </a:cubicBezTo>
                <a:cubicBezTo>
                  <a:pt x="16393" y="2880"/>
                  <a:pt x="16767" y="1920"/>
                  <a:pt x="17152" y="1920"/>
                </a:cubicBezTo>
                <a:cubicBezTo>
                  <a:pt x="17719" y="1920"/>
                  <a:pt x="18273" y="2720"/>
                  <a:pt x="18828" y="2720"/>
                </a:cubicBezTo>
                <a:cubicBezTo>
                  <a:pt x="19117" y="2720"/>
                  <a:pt x="19382" y="3200"/>
                  <a:pt x="19671" y="3520"/>
                </a:cubicBezTo>
                <a:cubicBezTo>
                  <a:pt x="19876" y="3520"/>
                  <a:pt x="20093" y="3520"/>
                  <a:pt x="20298" y="4000"/>
                </a:cubicBezTo>
                <a:cubicBezTo>
                  <a:pt x="20455" y="4320"/>
                  <a:pt x="20636" y="4000"/>
                  <a:pt x="20792" y="3520"/>
                </a:cubicBezTo>
                <a:cubicBezTo>
                  <a:pt x="21046" y="3200"/>
                  <a:pt x="21600" y="3520"/>
                  <a:pt x="21600" y="3520"/>
                </a:cubicBezTo>
                <a:cubicBezTo>
                  <a:pt x="21600" y="3520"/>
                  <a:pt x="21154" y="6240"/>
                  <a:pt x="20949" y="7040"/>
                </a:cubicBezTo>
                <a:cubicBezTo>
                  <a:pt x="20612" y="8320"/>
                  <a:pt x="20274" y="8960"/>
                  <a:pt x="19925" y="8960"/>
                </a:cubicBezTo>
                <a:cubicBezTo>
                  <a:pt x="19563" y="8960"/>
                  <a:pt x="19177" y="7680"/>
                  <a:pt x="18816" y="7680"/>
                </a:cubicBezTo>
                <a:cubicBezTo>
                  <a:pt x="18526" y="7680"/>
                  <a:pt x="18225" y="8640"/>
                  <a:pt x="17912" y="8320"/>
                </a:cubicBezTo>
                <a:cubicBezTo>
                  <a:pt x="17719" y="8000"/>
                  <a:pt x="17478" y="7680"/>
                  <a:pt x="17273" y="7680"/>
                </a:cubicBezTo>
                <a:cubicBezTo>
                  <a:pt x="17068" y="7680"/>
                  <a:pt x="16863" y="7360"/>
                  <a:pt x="16658" y="8000"/>
                </a:cubicBezTo>
                <a:cubicBezTo>
                  <a:pt x="16393" y="8960"/>
                  <a:pt x="16176" y="11360"/>
                  <a:pt x="15911" y="12480"/>
                </a:cubicBezTo>
                <a:cubicBezTo>
                  <a:pt x="15646" y="13440"/>
                  <a:pt x="15368" y="13760"/>
                  <a:pt x="15091" y="13440"/>
                </a:cubicBezTo>
                <a:cubicBezTo>
                  <a:pt x="14886" y="13440"/>
                  <a:pt x="14681" y="12480"/>
                  <a:pt x="14500" y="11360"/>
                </a:cubicBezTo>
                <a:cubicBezTo>
                  <a:pt x="14296" y="10240"/>
                  <a:pt x="14115" y="8640"/>
                  <a:pt x="13922" y="8000"/>
                </a:cubicBezTo>
                <a:cubicBezTo>
                  <a:pt x="13753" y="7680"/>
                  <a:pt x="13584" y="8000"/>
                  <a:pt x="13428" y="8640"/>
                </a:cubicBezTo>
                <a:cubicBezTo>
                  <a:pt x="13283" y="8960"/>
                  <a:pt x="13187" y="11040"/>
                  <a:pt x="13030" y="11040"/>
                </a:cubicBezTo>
                <a:cubicBezTo>
                  <a:pt x="12825" y="11360"/>
                  <a:pt x="12644" y="9760"/>
                  <a:pt x="12439" y="9760"/>
                </a:cubicBezTo>
                <a:cubicBezTo>
                  <a:pt x="12271" y="9760"/>
                  <a:pt x="12090" y="10240"/>
                  <a:pt x="11909" y="10720"/>
                </a:cubicBezTo>
                <a:cubicBezTo>
                  <a:pt x="11620" y="11360"/>
                  <a:pt x="11318" y="13440"/>
                  <a:pt x="11041" y="13120"/>
                </a:cubicBezTo>
                <a:cubicBezTo>
                  <a:pt x="10908" y="12640"/>
                  <a:pt x="10764" y="11680"/>
                  <a:pt x="10631" y="11680"/>
                </a:cubicBezTo>
                <a:cubicBezTo>
                  <a:pt x="10402" y="11680"/>
                  <a:pt x="10221" y="13760"/>
                  <a:pt x="10017" y="14880"/>
                </a:cubicBezTo>
                <a:cubicBezTo>
                  <a:pt x="9872" y="15360"/>
                  <a:pt x="9691" y="16480"/>
                  <a:pt x="9510" y="16480"/>
                </a:cubicBezTo>
                <a:cubicBezTo>
                  <a:pt x="9161" y="16480"/>
                  <a:pt x="8823" y="15840"/>
                  <a:pt x="8474" y="15040"/>
                </a:cubicBezTo>
                <a:cubicBezTo>
                  <a:pt x="8293" y="14880"/>
                  <a:pt x="8088" y="13760"/>
                  <a:pt x="7907" y="13760"/>
                </a:cubicBezTo>
                <a:cubicBezTo>
                  <a:pt x="7558" y="13760"/>
                  <a:pt x="7196" y="15840"/>
                  <a:pt x="6871" y="15040"/>
                </a:cubicBezTo>
                <a:cubicBezTo>
                  <a:pt x="6642" y="14880"/>
                  <a:pt x="6461" y="12480"/>
                  <a:pt x="6256" y="12640"/>
                </a:cubicBezTo>
                <a:cubicBezTo>
                  <a:pt x="6135" y="13120"/>
                  <a:pt x="6027" y="15040"/>
                  <a:pt x="5870" y="15360"/>
                </a:cubicBezTo>
                <a:cubicBezTo>
                  <a:pt x="5641" y="15840"/>
                  <a:pt x="5424" y="14560"/>
                  <a:pt x="5183" y="14080"/>
                </a:cubicBezTo>
                <a:cubicBezTo>
                  <a:pt x="4858" y="13760"/>
                  <a:pt x="4496" y="14080"/>
                  <a:pt x="4146" y="14560"/>
                </a:cubicBezTo>
                <a:cubicBezTo>
                  <a:pt x="3917" y="14880"/>
                  <a:pt x="3652" y="15040"/>
                  <a:pt x="3435" y="15840"/>
                </a:cubicBezTo>
                <a:cubicBezTo>
                  <a:pt x="3122" y="16480"/>
                  <a:pt x="2796" y="18080"/>
                  <a:pt x="2495" y="18880"/>
                </a:cubicBezTo>
                <a:cubicBezTo>
                  <a:pt x="2254" y="19520"/>
                  <a:pt x="2025" y="19840"/>
                  <a:pt x="1808" y="19840"/>
                </a:cubicBezTo>
                <a:cubicBezTo>
                  <a:pt x="1458" y="19840"/>
                  <a:pt x="1109" y="20160"/>
                  <a:pt x="747" y="20480"/>
                </a:cubicBezTo>
                <a:cubicBezTo>
                  <a:pt x="506" y="20800"/>
                  <a:pt x="0" y="21600"/>
                  <a:pt x="0" y="21600"/>
                </a:cubicBezTo>
                <a:cubicBezTo>
                  <a:pt x="0" y="21600"/>
                  <a:pt x="0" y="8640"/>
                  <a:pt x="0" y="8640"/>
                </a:cubicBezTo>
              </a:path>
            </a:pathLst>
          </a:custGeom>
          <a:solidFill>
            <a:srgbClr val="ffffff"/>
          </a:solidFill>
          <a:ln w="72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21240" y="4454640"/>
            <a:ext cx="247788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3349" y="15508"/>
                  <a:pt x="5020" y="14400"/>
                </a:cubicBezTo>
                <a:cubicBezTo>
                  <a:pt x="6471" y="13292"/>
                  <a:pt x="7953" y="15508"/>
                  <a:pt x="9404" y="14400"/>
                </a:cubicBezTo>
                <a:cubicBezTo>
                  <a:pt x="10792" y="13292"/>
                  <a:pt x="12204" y="9415"/>
                  <a:pt x="13600" y="7200"/>
                </a:cubicBezTo>
                <a:cubicBezTo>
                  <a:pt x="15090" y="4985"/>
                  <a:pt x="16078" y="8308"/>
                  <a:pt x="17059" y="7200"/>
                </a:cubicBezTo>
                <a:cubicBezTo>
                  <a:pt x="18486" y="6092"/>
                  <a:pt x="19906" y="0"/>
                  <a:pt x="20784" y="2769"/>
                </a:cubicBezTo>
                <a:cubicBezTo>
                  <a:pt x="21349" y="3877"/>
                  <a:pt x="21600" y="2769"/>
                  <a:pt x="21600" y="2769"/>
                </a:cubicBezTo>
              </a:path>
            </a:pathLst>
          </a:custGeom>
          <a:noFill/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1800" y="5140440"/>
            <a:ext cx="103320" cy="11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496"/>
                </a:moveTo>
                <a:cubicBezTo>
                  <a:pt x="0" y="6496"/>
                  <a:pt x="13832" y="0"/>
                  <a:pt x="13832" y="0"/>
                </a:cubicBezTo>
                <a:cubicBezTo>
                  <a:pt x="13832" y="0"/>
                  <a:pt x="21600" y="16728"/>
                  <a:pt x="15158" y="19164"/>
                </a:cubicBezTo>
                <a:cubicBezTo>
                  <a:pt x="9095" y="21600"/>
                  <a:pt x="0" y="6496"/>
                  <a:pt x="0" y="6496"/>
                </a:cubicBezTo>
              </a:path>
            </a:pathLst>
          </a:custGeom>
          <a:solidFill>
            <a:srgbClr val="52cc5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8320" y="5716440"/>
            <a:ext cx="11124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703"/>
                </a:moveTo>
                <a:cubicBezTo>
                  <a:pt x="21600" y="6703"/>
                  <a:pt x="17245" y="21600"/>
                  <a:pt x="17245" y="21600"/>
                </a:cubicBezTo>
                <a:cubicBezTo>
                  <a:pt x="17245" y="21600"/>
                  <a:pt x="0" y="12290"/>
                  <a:pt x="2613" y="5959"/>
                </a:cubicBezTo>
                <a:cubicBezTo>
                  <a:pt x="4703" y="0"/>
                  <a:pt x="21600" y="6703"/>
                  <a:pt x="21600" y="6703"/>
                </a:cubicBezTo>
              </a:path>
            </a:pathLst>
          </a:custGeom>
          <a:solidFill>
            <a:srgbClr val="52cc5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94200" y="5775480"/>
            <a:ext cx="79200" cy="7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751"/>
                </a:moveTo>
                <a:cubicBezTo>
                  <a:pt x="0" y="14751"/>
                  <a:pt x="4664" y="0"/>
                  <a:pt x="4664" y="0"/>
                </a:cubicBezTo>
                <a:cubicBezTo>
                  <a:pt x="4664" y="0"/>
                  <a:pt x="21600" y="9220"/>
                  <a:pt x="19145" y="15541"/>
                </a:cubicBezTo>
                <a:cubicBezTo>
                  <a:pt x="17182" y="21600"/>
                  <a:pt x="0" y="14751"/>
                  <a:pt x="0" y="14751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27320" y="4876920"/>
            <a:ext cx="8424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409" y="21600"/>
                </a:moveTo>
                <a:cubicBezTo>
                  <a:pt x="12409" y="21600"/>
                  <a:pt x="0" y="14479"/>
                  <a:pt x="0" y="14479"/>
                </a:cubicBezTo>
                <a:cubicBezTo>
                  <a:pt x="0" y="14479"/>
                  <a:pt x="11719" y="0"/>
                  <a:pt x="16774" y="3323"/>
                </a:cubicBezTo>
                <a:cubicBezTo>
                  <a:pt x="21600" y="6884"/>
                  <a:pt x="12409" y="21600"/>
                  <a:pt x="12409" y="21600"/>
                </a:cubicBezTo>
              </a:path>
            </a:pathLst>
          </a:custGeom>
          <a:solidFill>
            <a:srgbClr val="99ff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28920" y="4614840"/>
            <a:ext cx="71280" cy="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00" y="0"/>
                </a:moveTo>
                <a:cubicBezTo>
                  <a:pt x="20000" y="0"/>
                  <a:pt x="21600" y="21600"/>
                  <a:pt x="21600" y="21600"/>
                </a:cubicBezTo>
                <a:cubicBezTo>
                  <a:pt x="21600" y="21600"/>
                  <a:pt x="0" y="20868"/>
                  <a:pt x="0" y="11349"/>
                </a:cubicBezTo>
                <a:cubicBezTo>
                  <a:pt x="0" y="2197"/>
                  <a:pt x="20000" y="0"/>
                  <a:pt x="20000" y="0"/>
                </a:cubicBezTo>
              </a:path>
            </a:pathLst>
          </a:custGeom>
          <a:solidFill>
            <a:srgbClr val="99ff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2732040"/>
            <a:ext cx="1398600" cy="1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7739"/>
                  <a:pt x="21600" y="17739"/>
                </a:cubicBezTo>
                <a:cubicBezTo>
                  <a:pt x="21600" y="17739"/>
                  <a:pt x="21600" y="0"/>
                  <a:pt x="21600" y="0"/>
                </a:cubicBezTo>
                <a:cubicBezTo>
                  <a:pt x="20168" y="845"/>
                  <a:pt x="18820" y="845"/>
                  <a:pt x="17388" y="1327"/>
                </a:cubicBezTo>
                <a:cubicBezTo>
                  <a:pt x="16179" y="1810"/>
                  <a:pt x="14900" y="2655"/>
                  <a:pt x="13677" y="3499"/>
                </a:cubicBezTo>
                <a:cubicBezTo>
                  <a:pt x="12162" y="4465"/>
                  <a:pt x="10605" y="6516"/>
                  <a:pt x="9202" y="7964"/>
                </a:cubicBezTo>
                <a:cubicBezTo>
                  <a:pt x="7520" y="10016"/>
                  <a:pt x="5824" y="11826"/>
                  <a:pt x="4212" y="14118"/>
                </a:cubicBezTo>
                <a:cubicBezTo>
                  <a:pt x="2877" y="15928"/>
                  <a:pt x="1543" y="17377"/>
                  <a:pt x="250" y="20755"/>
                </a:cubicBezTo>
                <a:cubicBezTo>
                  <a:pt x="250" y="20755"/>
                  <a:pt x="0" y="21600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62360" y="2865600"/>
            <a:ext cx="145260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8924"/>
                  <a:pt x="21600" y="18924"/>
                </a:cubicBezTo>
                <a:cubicBezTo>
                  <a:pt x="21600" y="18924"/>
                  <a:pt x="201" y="21600"/>
                  <a:pt x="201" y="21600"/>
                </a:cubicBezTo>
                <a:cubicBezTo>
                  <a:pt x="94" y="19688"/>
                  <a:pt x="0" y="17395"/>
                  <a:pt x="0" y="14910"/>
                </a:cubicBezTo>
                <a:cubicBezTo>
                  <a:pt x="27" y="9558"/>
                  <a:pt x="455" y="7073"/>
                  <a:pt x="816" y="6117"/>
                </a:cubicBezTo>
                <a:cubicBezTo>
                  <a:pt x="816" y="6117"/>
                  <a:pt x="21600" y="0"/>
                  <a:pt x="21600" y="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73520" y="2954160"/>
            <a:ext cx="144144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6800"/>
                  <a:pt x="21600" y="16800"/>
                </a:cubicBezTo>
                <a:cubicBezTo>
                  <a:pt x="21600" y="16800"/>
                  <a:pt x="2184" y="21600"/>
                  <a:pt x="2184" y="21600"/>
                </a:cubicBezTo>
                <a:cubicBezTo>
                  <a:pt x="1820" y="19800"/>
                  <a:pt x="1510" y="17600"/>
                  <a:pt x="1187" y="15200"/>
                </a:cubicBezTo>
                <a:cubicBezTo>
                  <a:pt x="715" y="11400"/>
                  <a:pt x="256" y="7600"/>
                  <a:pt x="0" y="2800"/>
                </a:cubicBezTo>
                <a:cubicBezTo>
                  <a:pt x="0" y="2800"/>
                  <a:pt x="21600" y="0"/>
                  <a:pt x="21600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19680" y="3029040"/>
            <a:ext cx="129528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9313"/>
                  <a:pt x="21600" y="19313"/>
                </a:cubicBezTo>
                <a:cubicBezTo>
                  <a:pt x="20760" y="19821"/>
                  <a:pt x="19575" y="19821"/>
                  <a:pt x="18540" y="19821"/>
                </a:cubicBezTo>
                <a:cubicBezTo>
                  <a:pt x="18030" y="19313"/>
                  <a:pt x="13050" y="21600"/>
                  <a:pt x="12270" y="21600"/>
                </a:cubicBezTo>
                <a:cubicBezTo>
                  <a:pt x="10110" y="21600"/>
                  <a:pt x="8085" y="20584"/>
                  <a:pt x="5925" y="19821"/>
                </a:cubicBezTo>
                <a:cubicBezTo>
                  <a:pt x="4230" y="19313"/>
                  <a:pt x="2580" y="18551"/>
                  <a:pt x="1020" y="11435"/>
                </a:cubicBezTo>
                <a:cubicBezTo>
                  <a:pt x="660" y="9656"/>
                  <a:pt x="330" y="7624"/>
                  <a:pt x="0" y="5336"/>
                </a:cubicBezTo>
                <a:cubicBezTo>
                  <a:pt x="0" y="5336"/>
                  <a:pt x="21600" y="0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60920" y="2732040"/>
            <a:ext cx="1454040" cy="37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21132"/>
                  <a:pt x="21600" y="21132"/>
                </a:cubicBezTo>
                <a:cubicBezTo>
                  <a:pt x="20852" y="21236"/>
                  <a:pt x="19797" y="21236"/>
                  <a:pt x="18875" y="21236"/>
                </a:cubicBezTo>
                <a:cubicBezTo>
                  <a:pt x="18421" y="21132"/>
                  <a:pt x="13986" y="21600"/>
                  <a:pt x="13291" y="21600"/>
                </a:cubicBezTo>
                <a:cubicBezTo>
                  <a:pt x="11368" y="21600"/>
                  <a:pt x="9564" y="21392"/>
                  <a:pt x="7641" y="21236"/>
                </a:cubicBezTo>
                <a:cubicBezTo>
                  <a:pt x="6131" y="21132"/>
                  <a:pt x="4662" y="20975"/>
                  <a:pt x="3273" y="19518"/>
                </a:cubicBezTo>
                <a:cubicBezTo>
                  <a:pt x="2538" y="18737"/>
                  <a:pt x="1924" y="17853"/>
                  <a:pt x="1376" y="16760"/>
                </a:cubicBezTo>
                <a:cubicBezTo>
                  <a:pt x="681" y="15354"/>
                  <a:pt x="0" y="13689"/>
                  <a:pt x="27" y="11711"/>
                </a:cubicBezTo>
                <a:cubicBezTo>
                  <a:pt x="53" y="10045"/>
                  <a:pt x="681" y="9369"/>
                  <a:pt x="1082" y="8952"/>
                </a:cubicBezTo>
                <a:cubicBezTo>
                  <a:pt x="2324" y="7495"/>
                  <a:pt x="3607" y="6870"/>
                  <a:pt x="4889" y="6090"/>
                </a:cubicBezTo>
                <a:cubicBezTo>
                  <a:pt x="6439" y="5101"/>
                  <a:pt x="8068" y="4320"/>
                  <a:pt x="9685" y="3435"/>
                </a:cubicBezTo>
                <a:cubicBezTo>
                  <a:pt x="11034" y="2811"/>
                  <a:pt x="12530" y="1926"/>
                  <a:pt x="13986" y="1509"/>
                </a:cubicBezTo>
                <a:cubicBezTo>
                  <a:pt x="15161" y="1145"/>
                  <a:pt x="16390" y="781"/>
                  <a:pt x="17553" y="573"/>
                </a:cubicBezTo>
                <a:cubicBezTo>
                  <a:pt x="18928" y="364"/>
                  <a:pt x="20224" y="364"/>
                  <a:pt x="21600" y="0"/>
                </a:cubicBezTo>
              </a:path>
            </a:pathLst>
          </a:custGeom>
          <a:noFill/>
          <a:ln w="7200">
            <a:solidFill>
              <a:srgbClr val="6666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0720" y="1265400"/>
            <a:ext cx="5394240" cy="671508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07:32:48Z</dcterms:created>
  <dc:creator>OfficeHamada</dc:creator>
  <dc:description/>
  <dc:language>en-US</dc:language>
  <cp:lastModifiedBy>OfficeHamada</cp:lastModifiedBy>
  <cp:lastPrinted>2016-03-01T17:00:50Z</cp:lastPrinted>
  <dcterms:modified xsi:type="dcterms:W3CDTF">2016-03-18T13:39:17Z</dcterms:modified>
  <cp:revision>41</cp:revision>
  <dc:subject/>
  <dc:title/>
</cp:coreProperties>
</file>