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40538" cy="9251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316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4680" y="21646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00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316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04680" y="4967280"/>
            <a:ext cx="19818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61556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000" y="369000"/>
            <a:ext cx="6155640" cy="71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53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96320" y="49672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000" y="369000"/>
            <a:ext cx="6155640" cy="15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00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96320" y="2164680"/>
            <a:ext cx="30038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000" y="4967280"/>
            <a:ext cx="615564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720720" y="3897360"/>
            <a:ext cx="4108320" cy="1415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0" y="137"/>
                  <a:pt x="0" y="137"/>
                </a:cubicBezTo>
                <a:cubicBezTo>
                  <a:pt x="4803" y="110"/>
                  <a:pt x="9615" y="69"/>
                  <a:pt x="14417" y="0"/>
                </a:cubicBezTo>
                <a:cubicBezTo>
                  <a:pt x="16812" y="0"/>
                  <a:pt x="19201" y="0"/>
                  <a:pt x="21600" y="0"/>
                </a:cubicBezTo>
                <a:cubicBezTo>
                  <a:pt x="21472" y="920"/>
                  <a:pt x="21292" y="1785"/>
                  <a:pt x="21070" y="2128"/>
                </a:cubicBezTo>
                <a:cubicBezTo>
                  <a:pt x="20890" y="2376"/>
                  <a:pt x="20663" y="1922"/>
                  <a:pt x="20393" y="1854"/>
                </a:cubicBezTo>
                <a:cubicBezTo>
                  <a:pt x="19982" y="1758"/>
                  <a:pt x="19201" y="2499"/>
                  <a:pt x="19201" y="2499"/>
                </a:cubicBezTo>
                <a:cubicBezTo>
                  <a:pt x="19201" y="2499"/>
                  <a:pt x="19698" y="3680"/>
                  <a:pt x="19556" y="4806"/>
                </a:cubicBezTo>
                <a:cubicBezTo>
                  <a:pt x="19471" y="5561"/>
                  <a:pt x="19012" y="4971"/>
                  <a:pt x="18629" y="4943"/>
                </a:cubicBezTo>
                <a:cubicBezTo>
                  <a:pt x="17753" y="4916"/>
                  <a:pt x="16916" y="6152"/>
                  <a:pt x="16050" y="6729"/>
                </a:cubicBezTo>
                <a:cubicBezTo>
                  <a:pt x="15118" y="7388"/>
                  <a:pt x="14157" y="7855"/>
                  <a:pt x="13211" y="8418"/>
                </a:cubicBezTo>
                <a:cubicBezTo>
                  <a:pt x="12033" y="9132"/>
                  <a:pt x="10850" y="9983"/>
                  <a:pt x="9676" y="10738"/>
                </a:cubicBezTo>
                <a:cubicBezTo>
                  <a:pt x="9037" y="11150"/>
                  <a:pt x="8384" y="11507"/>
                  <a:pt x="7807" y="12386"/>
                </a:cubicBezTo>
                <a:cubicBezTo>
                  <a:pt x="7485" y="12880"/>
                  <a:pt x="7216" y="13691"/>
                  <a:pt x="6875" y="13938"/>
                </a:cubicBezTo>
                <a:cubicBezTo>
                  <a:pt x="6246" y="14446"/>
                  <a:pt x="5569" y="13704"/>
                  <a:pt x="4930" y="14075"/>
                </a:cubicBezTo>
                <a:cubicBezTo>
                  <a:pt x="4746" y="14185"/>
                  <a:pt x="4580" y="14556"/>
                  <a:pt x="4481" y="15105"/>
                </a:cubicBezTo>
                <a:cubicBezTo>
                  <a:pt x="4296" y="16094"/>
                  <a:pt x="4258" y="17275"/>
                  <a:pt x="3998" y="18057"/>
                </a:cubicBezTo>
                <a:cubicBezTo>
                  <a:pt x="3738" y="18840"/>
                  <a:pt x="3312" y="18881"/>
                  <a:pt x="3019" y="18332"/>
                </a:cubicBezTo>
                <a:cubicBezTo>
                  <a:pt x="2697" y="17714"/>
                  <a:pt x="2617" y="16382"/>
                  <a:pt x="2262" y="15860"/>
                </a:cubicBezTo>
                <a:cubicBezTo>
                  <a:pt x="2058" y="15558"/>
                  <a:pt x="1812" y="15997"/>
                  <a:pt x="1680" y="16657"/>
                </a:cubicBezTo>
                <a:cubicBezTo>
                  <a:pt x="1457" y="17686"/>
                  <a:pt x="1457" y="19046"/>
                  <a:pt x="1159" y="19870"/>
                </a:cubicBezTo>
                <a:cubicBezTo>
                  <a:pt x="828" y="20735"/>
                  <a:pt x="435" y="21284"/>
                  <a:pt x="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"/>
          <p:cNvSpPr/>
          <p:nvPr/>
        </p:nvSpPr>
        <p:spPr>
          <a:xfrm>
            <a:off x="720720" y="3895560"/>
            <a:ext cx="4929120" cy="15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0" y="19779"/>
                  <a:pt x="0" y="19779"/>
                </a:cubicBezTo>
                <a:cubicBezTo>
                  <a:pt x="363" y="19490"/>
                  <a:pt x="690" y="18988"/>
                  <a:pt x="966" y="18197"/>
                </a:cubicBezTo>
                <a:cubicBezTo>
                  <a:pt x="1215" y="17443"/>
                  <a:pt x="1215" y="16200"/>
                  <a:pt x="1400" y="15258"/>
                </a:cubicBezTo>
                <a:cubicBezTo>
                  <a:pt x="1510" y="14655"/>
                  <a:pt x="1716" y="14253"/>
                  <a:pt x="1885" y="14530"/>
                </a:cubicBezTo>
                <a:cubicBezTo>
                  <a:pt x="2181" y="15007"/>
                  <a:pt x="2248" y="16225"/>
                  <a:pt x="2516" y="16790"/>
                </a:cubicBezTo>
                <a:cubicBezTo>
                  <a:pt x="2761" y="17293"/>
                  <a:pt x="3116" y="17255"/>
                  <a:pt x="3332" y="16539"/>
                </a:cubicBezTo>
                <a:cubicBezTo>
                  <a:pt x="3549" y="15823"/>
                  <a:pt x="3581" y="14743"/>
                  <a:pt x="3735" y="13839"/>
                </a:cubicBezTo>
                <a:cubicBezTo>
                  <a:pt x="3818" y="13337"/>
                  <a:pt x="3956" y="12998"/>
                  <a:pt x="4109" y="12897"/>
                </a:cubicBezTo>
                <a:cubicBezTo>
                  <a:pt x="4642" y="12558"/>
                  <a:pt x="5206" y="13236"/>
                  <a:pt x="5730" y="12772"/>
                </a:cubicBezTo>
                <a:cubicBezTo>
                  <a:pt x="6014" y="12546"/>
                  <a:pt x="6239" y="11805"/>
                  <a:pt x="6507" y="11353"/>
                </a:cubicBezTo>
                <a:cubicBezTo>
                  <a:pt x="6988" y="10549"/>
                  <a:pt x="7533" y="10222"/>
                  <a:pt x="8065" y="9846"/>
                </a:cubicBezTo>
                <a:cubicBezTo>
                  <a:pt x="9043" y="9155"/>
                  <a:pt x="10029" y="8376"/>
                  <a:pt x="11011" y="7723"/>
                </a:cubicBezTo>
                <a:cubicBezTo>
                  <a:pt x="11800" y="7208"/>
                  <a:pt x="12600" y="6781"/>
                  <a:pt x="13377" y="6179"/>
                </a:cubicBezTo>
                <a:cubicBezTo>
                  <a:pt x="14099" y="5651"/>
                  <a:pt x="14797" y="4521"/>
                  <a:pt x="15527" y="4546"/>
                </a:cubicBezTo>
                <a:cubicBezTo>
                  <a:pt x="15846" y="4571"/>
                  <a:pt x="16229" y="5111"/>
                  <a:pt x="16300" y="4420"/>
                </a:cubicBezTo>
                <a:cubicBezTo>
                  <a:pt x="16418" y="3391"/>
                  <a:pt x="16004" y="2311"/>
                  <a:pt x="16004" y="2311"/>
                </a:cubicBezTo>
                <a:cubicBezTo>
                  <a:pt x="16004" y="2311"/>
                  <a:pt x="16655" y="1633"/>
                  <a:pt x="16998" y="1720"/>
                </a:cubicBezTo>
                <a:cubicBezTo>
                  <a:pt x="17222" y="1783"/>
                  <a:pt x="17412" y="2198"/>
                  <a:pt x="17562" y="1972"/>
                </a:cubicBezTo>
                <a:cubicBezTo>
                  <a:pt x="17747" y="1658"/>
                  <a:pt x="17893" y="841"/>
                  <a:pt x="17991" y="0"/>
                </a:cubicBezTo>
                <a:cubicBezTo>
                  <a:pt x="19194" y="0"/>
                  <a:pt x="20401" y="25"/>
                  <a:pt x="21600" y="25"/>
                </a:cubicBezTo>
                <a:cubicBezTo>
                  <a:pt x="21505" y="502"/>
                  <a:pt x="21363" y="992"/>
                  <a:pt x="21186" y="1344"/>
                </a:cubicBezTo>
                <a:cubicBezTo>
                  <a:pt x="20851" y="2009"/>
                  <a:pt x="20046" y="2348"/>
                  <a:pt x="20046" y="2348"/>
                </a:cubicBezTo>
                <a:cubicBezTo>
                  <a:pt x="20046" y="2348"/>
                  <a:pt x="20441" y="2223"/>
                  <a:pt x="20468" y="2687"/>
                </a:cubicBezTo>
                <a:cubicBezTo>
                  <a:pt x="20496" y="3140"/>
                  <a:pt x="20251" y="3391"/>
                  <a:pt x="20105" y="3516"/>
                </a:cubicBezTo>
                <a:cubicBezTo>
                  <a:pt x="19620" y="4006"/>
                  <a:pt x="19135" y="4458"/>
                  <a:pt x="18626" y="4546"/>
                </a:cubicBezTo>
                <a:cubicBezTo>
                  <a:pt x="18133" y="4634"/>
                  <a:pt x="17648" y="4333"/>
                  <a:pt x="17491" y="5463"/>
                </a:cubicBezTo>
                <a:cubicBezTo>
                  <a:pt x="17431" y="5890"/>
                  <a:pt x="17629" y="6267"/>
                  <a:pt x="17542" y="6807"/>
                </a:cubicBezTo>
                <a:cubicBezTo>
                  <a:pt x="17392" y="7723"/>
                  <a:pt x="16998" y="7120"/>
                  <a:pt x="16564" y="6970"/>
                </a:cubicBezTo>
                <a:cubicBezTo>
                  <a:pt x="15964" y="6719"/>
                  <a:pt x="15349" y="7095"/>
                  <a:pt x="14750" y="7309"/>
                </a:cubicBezTo>
                <a:cubicBezTo>
                  <a:pt x="14237" y="7497"/>
                  <a:pt x="13724" y="7849"/>
                  <a:pt x="13219" y="8150"/>
                </a:cubicBezTo>
                <a:cubicBezTo>
                  <a:pt x="12238" y="8753"/>
                  <a:pt x="11248" y="9318"/>
                  <a:pt x="10285" y="10097"/>
                </a:cubicBezTo>
                <a:cubicBezTo>
                  <a:pt x="9355" y="10850"/>
                  <a:pt x="8400" y="11516"/>
                  <a:pt x="7521" y="12772"/>
                </a:cubicBezTo>
                <a:cubicBezTo>
                  <a:pt x="7032" y="13487"/>
                  <a:pt x="6594" y="14530"/>
                  <a:pt x="6231" y="15786"/>
                </a:cubicBezTo>
                <a:cubicBezTo>
                  <a:pt x="6014" y="16539"/>
                  <a:pt x="5849" y="17443"/>
                  <a:pt x="5592" y="17983"/>
                </a:cubicBezTo>
                <a:cubicBezTo>
                  <a:pt x="5198" y="18800"/>
                  <a:pt x="4681" y="18774"/>
                  <a:pt x="4220" y="19151"/>
                </a:cubicBezTo>
                <a:cubicBezTo>
                  <a:pt x="3912" y="19427"/>
                  <a:pt x="3628" y="19867"/>
                  <a:pt x="3321" y="19993"/>
                </a:cubicBezTo>
                <a:cubicBezTo>
                  <a:pt x="2611" y="20307"/>
                  <a:pt x="1885" y="20055"/>
                  <a:pt x="1183" y="20432"/>
                </a:cubicBezTo>
                <a:cubicBezTo>
                  <a:pt x="777" y="20646"/>
                  <a:pt x="386" y="21098"/>
                  <a:pt x="0" y="21600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"/>
          <p:cNvSpPr/>
          <p:nvPr/>
        </p:nvSpPr>
        <p:spPr>
          <a:xfrm>
            <a:off x="720720" y="3890880"/>
            <a:ext cx="5398920" cy="297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2206"/>
                  <a:pt x="21600" y="2206"/>
                </a:cubicBezTo>
                <a:cubicBezTo>
                  <a:pt x="21337" y="2304"/>
                  <a:pt x="21085" y="2402"/>
                  <a:pt x="20826" y="2533"/>
                </a:cubicBezTo>
                <a:cubicBezTo>
                  <a:pt x="19620" y="3122"/>
                  <a:pt x="18439" y="3888"/>
                  <a:pt x="17262" y="4706"/>
                </a:cubicBezTo>
                <a:cubicBezTo>
                  <a:pt x="15365" y="6022"/>
                  <a:pt x="13525" y="7508"/>
                  <a:pt x="11671" y="8948"/>
                </a:cubicBezTo>
                <a:cubicBezTo>
                  <a:pt x="10883" y="9569"/>
                  <a:pt x="10098" y="10159"/>
                  <a:pt x="9335" y="10813"/>
                </a:cubicBezTo>
                <a:cubicBezTo>
                  <a:pt x="8053" y="11913"/>
                  <a:pt x="6779" y="13091"/>
                  <a:pt x="5562" y="14433"/>
                </a:cubicBezTo>
                <a:cubicBezTo>
                  <a:pt x="4705" y="15395"/>
                  <a:pt x="3888" y="16495"/>
                  <a:pt x="3060" y="17555"/>
                </a:cubicBezTo>
                <a:cubicBezTo>
                  <a:pt x="2700" y="18013"/>
                  <a:pt x="2315" y="18458"/>
                  <a:pt x="1962" y="18929"/>
                </a:cubicBezTo>
                <a:cubicBezTo>
                  <a:pt x="1296" y="19793"/>
                  <a:pt x="648" y="20697"/>
                  <a:pt x="7" y="21600"/>
                </a:cubicBezTo>
                <a:cubicBezTo>
                  <a:pt x="7" y="21600"/>
                  <a:pt x="0" y="11291"/>
                  <a:pt x="0" y="11291"/>
                </a:cubicBezTo>
                <a:cubicBezTo>
                  <a:pt x="353" y="11029"/>
                  <a:pt x="709" y="10793"/>
                  <a:pt x="1080" y="10682"/>
                </a:cubicBezTo>
                <a:cubicBezTo>
                  <a:pt x="1721" y="10486"/>
                  <a:pt x="2383" y="10617"/>
                  <a:pt x="3031" y="10453"/>
                </a:cubicBezTo>
                <a:cubicBezTo>
                  <a:pt x="3312" y="10388"/>
                  <a:pt x="3571" y="10159"/>
                  <a:pt x="3852" y="10015"/>
                </a:cubicBezTo>
                <a:cubicBezTo>
                  <a:pt x="4273" y="9818"/>
                  <a:pt x="4745" y="9831"/>
                  <a:pt x="5105" y="9406"/>
                </a:cubicBezTo>
                <a:cubicBezTo>
                  <a:pt x="5339" y="9124"/>
                  <a:pt x="5490" y="8653"/>
                  <a:pt x="5688" y="8260"/>
                </a:cubicBezTo>
                <a:cubicBezTo>
                  <a:pt x="6019" y="7606"/>
                  <a:pt x="6419" y="7063"/>
                  <a:pt x="6865" y="6689"/>
                </a:cubicBezTo>
                <a:cubicBezTo>
                  <a:pt x="7668" y="6035"/>
                  <a:pt x="8539" y="5688"/>
                  <a:pt x="9389" y="5295"/>
                </a:cubicBezTo>
                <a:cubicBezTo>
                  <a:pt x="10267" y="4889"/>
                  <a:pt x="11171" y="4595"/>
                  <a:pt x="12067" y="4281"/>
                </a:cubicBezTo>
                <a:cubicBezTo>
                  <a:pt x="12528" y="4124"/>
                  <a:pt x="12996" y="3940"/>
                  <a:pt x="13464" y="3842"/>
                </a:cubicBezTo>
                <a:cubicBezTo>
                  <a:pt x="14011" y="3731"/>
                  <a:pt x="14573" y="3535"/>
                  <a:pt x="15120" y="3665"/>
                </a:cubicBezTo>
                <a:cubicBezTo>
                  <a:pt x="15516" y="3744"/>
                  <a:pt x="15876" y="4058"/>
                  <a:pt x="16013" y="3580"/>
                </a:cubicBezTo>
                <a:cubicBezTo>
                  <a:pt x="16092" y="3299"/>
                  <a:pt x="15912" y="3103"/>
                  <a:pt x="15966" y="2880"/>
                </a:cubicBezTo>
                <a:cubicBezTo>
                  <a:pt x="16110" y="2291"/>
                  <a:pt x="16553" y="2448"/>
                  <a:pt x="17003" y="2402"/>
                </a:cubicBezTo>
                <a:cubicBezTo>
                  <a:pt x="17467" y="2356"/>
                  <a:pt x="17910" y="2121"/>
                  <a:pt x="18353" y="1865"/>
                </a:cubicBezTo>
                <a:cubicBezTo>
                  <a:pt x="18486" y="1800"/>
                  <a:pt x="18709" y="1669"/>
                  <a:pt x="18684" y="1433"/>
                </a:cubicBezTo>
                <a:cubicBezTo>
                  <a:pt x="18684" y="1433"/>
                  <a:pt x="18299" y="1257"/>
                  <a:pt x="18299" y="1257"/>
                </a:cubicBezTo>
                <a:cubicBezTo>
                  <a:pt x="18299" y="1257"/>
                  <a:pt x="19033" y="1080"/>
                  <a:pt x="19339" y="733"/>
                </a:cubicBezTo>
                <a:cubicBezTo>
                  <a:pt x="19501" y="550"/>
                  <a:pt x="19627" y="275"/>
                  <a:pt x="19710" y="13"/>
                </a:cubicBezTo>
                <a:cubicBezTo>
                  <a:pt x="20333" y="13"/>
                  <a:pt x="20977" y="0"/>
                  <a:pt x="21600" y="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1219320" y="4194000"/>
            <a:ext cx="4900320" cy="335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5274"/>
                  <a:pt x="21600" y="5274"/>
                </a:cubicBezTo>
                <a:cubicBezTo>
                  <a:pt x="21263" y="5390"/>
                  <a:pt x="20926" y="5523"/>
                  <a:pt x="20596" y="5691"/>
                </a:cubicBezTo>
                <a:cubicBezTo>
                  <a:pt x="19371" y="6271"/>
                  <a:pt x="18177" y="7042"/>
                  <a:pt x="16979" y="7795"/>
                </a:cubicBezTo>
                <a:cubicBezTo>
                  <a:pt x="16046" y="8386"/>
                  <a:pt x="15114" y="8966"/>
                  <a:pt x="14170" y="9563"/>
                </a:cubicBezTo>
                <a:cubicBezTo>
                  <a:pt x="13099" y="10247"/>
                  <a:pt x="12028" y="10954"/>
                  <a:pt x="10969" y="11690"/>
                </a:cubicBezTo>
                <a:cubicBezTo>
                  <a:pt x="10084" y="12298"/>
                  <a:pt x="9191" y="12953"/>
                  <a:pt x="8311" y="13649"/>
                </a:cubicBezTo>
                <a:cubicBezTo>
                  <a:pt x="7418" y="14356"/>
                  <a:pt x="6538" y="15126"/>
                  <a:pt x="5673" y="15938"/>
                </a:cubicBezTo>
                <a:cubicBezTo>
                  <a:pt x="5026" y="16529"/>
                  <a:pt x="4395" y="17166"/>
                  <a:pt x="3788" y="17775"/>
                </a:cubicBezTo>
                <a:cubicBezTo>
                  <a:pt x="3146" y="18430"/>
                  <a:pt x="2519" y="19114"/>
                  <a:pt x="1932" y="19774"/>
                </a:cubicBezTo>
                <a:cubicBezTo>
                  <a:pt x="1428" y="20342"/>
                  <a:pt x="944" y="20962"/>
                  <a:pt x="476" y="21600"/>
                </a:cubicBezTo>
                <a:cubicBezTo>
                  <a:pt x="536" y="21339"/>
                  <a:pt x="587" y="21078"/>
                  <a:pt x="647" y="20818"/>
                </a:cubicBezTo>
                <a:cubicBezTo>
                  <a:pt x="853" y="19896"/>
                  <a:pt x="1020" y="19085"/>
                  <a:pt x="1039" y="18268"/>
                </a:cubicBezTo>
                <a:cubicBezTo>
                  <a:pt x="1051" y="17503"/>
                  <a:pt x="924" y="16720"/>
                  <a:pt x="682" y="16036"/>
                </a:cubicBezTo>
                <a:cubicBezTo>
                  <a:pt x="504" y="15549"/>
                  <a:pt x="270" y="15115"/>
                  <a:pt x="0" y="14750"/>
                </a:cubicBezTo>
                <a:cubicBezTo>
                  <a:pt x="377" y="14356"/>
                  <a:pt x="793" y="13985"/>
                  <a:pt x="1170" y="13591"/>
                </a:cubicBezTo>
                <a:cubicBezTo>
                  <a:pt x="2083" y="12652"/>
                  <a:pt x="2983" y="11678"/>
                  <a:pt x="3927" y="10826"/>
                </a:cubicBezTo>
                <a:cubicBezTo>
                  <a:pt x="5268" y="9638"/>
                  <a:pt x="6672" y="8595"/>
                  <a:pt x="8085" y="7621"/>
                </a:cubicBezTo>
                <a:cubicBezTo>
                  <a:pt x="8926" y="7042"/>
                  <a:pt x="9790" y="6520"/>
                  <a:pt x="10659" y="5969"/>
                </a:cubicBezTo>
                <a:cubicBezTo>
                  <a:pt x="12702" y="4694"/>
                  <a:pt x="14729" y="3379"/>
                  <a:pt x="16820" y="2214"/>
                </a:cubicBezTo>
                <a:cubicBezTo>
                  <a:pt x="18117" y="1489"/>
                  <a:pt x="19418" y="811"/>
                  <a:pt x="20747" y="290"/>
                </a:cubicBezTo>
                <a:cubicBezTo>
                  <a:pt x="21033" y="174"/>
                  <a:pt x="21310" y="87"/>
                  <a:pt x="21600" y="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720720" y="5013360"/>
            <a:ext cx="5398920" cy="33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21600"/>
                  <a:pt x="21600" y="21600"/>
                </a:cubicBezTo>
                <a:cubicBezTo>
                  <a:pt x="21600" y="21600"/>
                  <a:pt x="0" y="21600"/>
                  <a:pt x="0" y="21600"/>
                </a:cubicBezTo>
                <a:cubicBezTo>
                  <a:pt x="0" y="21600"/>
                  <a:pt x="0" y="20271"/>
                  <a:pt x="0" y="20271"/>
                </a:cubicBezTo>
                <a:cubicBezTo>
                  <a:pt x="349" y="19583"/>
                  <a:pt x="702" y="18907"/>
                  <a:pt x="1073" y="18260"/>
                </a:cubicBezTo>
                <a:cubicBezTo>
                  <a:pt x="1476" y="17561"/>
                  <a:pt x="1897" y="16885"/>
                  <a:pt x="2340" y="16243"/>
                </a:cubicBezTo>
                <a:cubicBezTo>
                  <a:pt x="2790" y="15584"/>
                  <a:pt x="3265" y="14937"/>
                  <a:pt x="3751" y="14335"/>
                </a:cubicBezTo>
                <a:cubicBezTo>
                  <a:pt x="4284" y="13682"/>
                  <a:pt x="4853" y="13006"/>
                  <a:pt x="5436" y="12358"/>
                </a:cubicBezTo>
                <a:cubicBezTo>
                  <a:pt x="5987" y="11757"/>
                  <a:pt x="6559" y="11127"/>
                  <a:pt x="7146" y="10542"/>
                </a:cubicBezTo>
                <a:cubicBezTo>
                  <a:pt x="7931" y="9740"/>
                  <a:pt x="8730" y="8978"/>
                  <a:pt x="9540" y="8279"/>
                </a:cubicBezTo>
                <a:cubicBezTo>
                  <a:pt x="10339" y="7592"/>
                  <a:pt x="11149" y="6944"/>
                  <a:pt x="11952" y="6342"/>
                </a:cubicBezTo>
                <a:cubicBezTo>
                  <a:pt x="12913" y="5615"/>
                  <a:pt x="13885" y="4916"/>
                  <a:pt x="14857" y="4240"/>
                </a:cubicBezTo>
                <a:cubicBezTo>
                  <a:pt x="15714" y="3650"/>
                  <a:pt x="16560" y="3077"/>
                  <a:pt x="17406" y="2492"/>
                </a:cubicBezTo>
                <a:cubicBezTo>
                  <a:pt x="18493" y="1747"/>
                  <a:pt x="19577" y="985"/>
                  <a:pt x="20689" y="413"/>
                </a:cubicBezTo>
                <a:cubicBezTo>
                  <a:pt x="20988" y="246"/>
                  <a:pt x="21294" y="115"/>
                  <a:pt x="21600" y="0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720720" y="846000"/>
            <a:ext cx="5398920" cy="2208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0"/>
                  <a:pt x="21600" y="0"/>
                </a:cubicBezTo>
                <a:cubicBezTo>
                  <a:pt x="21600" y="0"/>
                  <a:pt x="21600" y="17549"/>
                  <a:pt x="21600" y="17549"/>
                </a:cubicBezTo>
                <a:cubicBezTo>
                  <a:pt x="21445" y="17417"/>
                  <a:pt x="21301" y="17303"/>
                  <a:pt x="21143" y="17188"/>
                </a:cubicBezTo>
                <a:cubicBezTo>
                  <a:pt x="20621" y="16775"/>
                  <a:pt x="20095" y="16378"/>
                  <a:pt x="19555" y="16466"/>
                </a:cubicBezTo>
                <a:cubicBezTo>
                  <a:pt x="19285" y="16528"/>
                  <a:pt x="19033" y="16863"/>
                  <a:pt x="18774" y="17188"/>
                </a:cubicBezTo>
                <a:cubicBezTo>
                  <a:pt x="18353" y="17717"/>
                  <a:pt x="17921" y="18227"/>
                  <a:pt x="17471" y="18580"/>
                </a:cubicBezTo>
                <a:cubicBezTo>
                  <a:pt x="15743" y="19945"/>
                  <a:pt x="13925" y="20402"/>
                  <a:pt x="12125" y="20869"/>
                </a:cubicBezTo>
                <a:cubicBezTo>
                  <a:pt x="9900" y="21459"/>
                  <a:pt x="7650" y="21600"/>
                  <a:pt x="5569" y="20077"/>
                </a:cubicBezTo>
                <a:cubicBezTo>
                  <a:pt x="4997" y="19663"/>
                  <a:pt x="4507" y="18800"/>
                  <a:pt x="4079" y="17770"/>
                </a:cubicBezTo>
                <a:cubicBezTo>
                  <a:pt x="3827" y="17153"/>
                  <a:pt x="3564" y="16528"/>
                  <a:pt x="3265" y="16070"/>
                </a:cubicBezTo>
                <a:cubicBezTo>
                  <a:pt x="2664" y="15190"/>
                  <a:pt x="1937" y="14908"/>
                  <a:pt x="1224" y="14987"/>
                </a:cubicBezTo>
                <a:cubicBezTo>
                  <a:pt x="817" y="15040"/>
                  <a:pt x="407" y="15172"/>
                  <a:pt x="7" y="15366"/>
                </a:cubicBezTo>
                <a:cubicBezTo>
                  <a:pt x="7" y="15366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20720" y="2724120"/>
            <a:ext cx="5398920" cy="1181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895"/>
                </a:moveTo>
                <a:cubicBezTo>
                  <a:pt x="21600" y="2895"/>
                  <a:pt x="21600" y="21320"/>
                  <a:pt x="21600" y="21320"/>
                </a:cubicBezTo>
                <a:cubicBezTo>
                  <a:pt x="20977" y="21320"/>
                  <a:pt x="20340" y="21320"/>
                  <a:pt x="19717" y="21320"/>
                </a:cubicBezTo>
                <a:cubicBezTo>
                  <a:pt x="18623" y="21320"/>
                  <a:pt x="17525" y="21320"/>
                  <a:pt x="16434" y="21320"/>
                </a:cubicBezTo>
                <a:cubicBezTo>
                  <a:pt x="14609" y="21353"/>
                  <a:pt x="12791" y="21403"/>
                  <a:pt x="10969" y="21435"/>
                </a:cubicBezTo>
                <a:cubicBezTo>
                  <a:pt x="7315" y="21518"/>
                  <a:pt x="3654" y="21567"/>
                  <a:pt x="0" y="21600"/>
                </a:cubicBezTo>
                <a:cubicBezTo>
                  <a:pt x="0" y="21600"/>
                  <a:pt x="0" y="4902"/>
                  <a:pt x="0" y="4902"/>
                </a:cubicBezTo>
                <a:cubicBezTo>
                  <a:pt x="223" y="5067"/>
                  <a:pt x="457" y="5116"/>
                  <a:pt x="677" y="4985"/>
                </a:cubicBezTo>
                <a:cubicBezTo>
                  <a:pt x="1105" y="4688"/>
                  <a:pt x="1476" y="3636"/>
                  <a:pt x="1890" y="3307"/>
                </a:cubicBezTo>
                <a:cubicBezTo>
                  <a:pt x="2520" y="2813"/>
                  <a:pt x="3168" y="3504"/>
                  <a:pt x="3780" y="4244"/>
                </a:cubicBezTo>
                <a:cubicBezTo>
                  <a:pt x="4464" y="5034"/>
                  <a:pt x="5058" y="7041"/>
                  <a:pt x="5742" y="7946"/>
                </a:cubicBezTo>
                <a:cubicBezTo>
                  <a:pt x="7380" y="10002"/>
                  <a:pt x="9144" y="9229"/>
                  <a:pt x="10836" y="8851"/>
                </a:cubicBezTo>
                <a:cubicBezTo>
                  <a:pt x="12449" y="8489"/>
                  <a:pt x="14047" y="7090"/>
                  <a:pt x="15635" y="5725"/>
                </a:cubicBezTo>
                <a:cubicBezTo>
                  <a:pt x="16290" y="5149"/>
                  <a:pt x="16949" y="4573"/>
                  <a:pt x="17597" y="3915"/>
                </a:cubicBezTo>
                <a:cubicBezTo>
                  <a:pt x="18216" y="3290"/>
                  <a:pt x="18853" y="2714"/>
                  <a:pt x="19458" y="1694"/>
                </a:cubicBezTo>
                <a:cubicBezTo>
                  <a:pt x="19789" y="1119"/>
                  <a:pt x="20095" y="378"/>
                  <a:pt x="20437" y="181"/>
                </a:cubicBezTo>
                <a:cubicBezTo>
                  <a:pt x="20754" y="0"/>
                  <a:pt x="21060" y="345"/>
                  <a:pt x="21283" y="1234"/>
                </a:cubicBezTo>
                <a:cubicBezTo>
                  <a:pt x="21409" y="1727"/>
                  <a:pt x="21510" y="2303"/>
                  <a:pt x="21600" y="2895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0720" y="2370240"/>
            <a:ext cx="5398920" cy="90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467"/>
                </a:moveTo>
                <a:cubicBezTo>
                  <a:pt x="21600" y="6467"/>
                  <a:pt x="21600" y="12287"/>
                  <a:pt x="21600" y="12287"/>
                </a:cubicBezTo>
                <a:cubicBezTo>
                  <a:pt x="21510" y="11511"/>
                  <a:pt x="21409" y="10757"/>
                  <a:pt x="21283" y="10110"/>
                </a:cubicBezTo>
                <a:cubicBezTo>
                  <a:pt x="21060" y="8946"/>
                  <a:pt x="20754" y="8493"/>
                  <a:pt x="20437" y="8731"/>
                </a:cubicBezTo>
                <a:cubicBezTo>
                  <a:pt x="20095" y="8989"/>
                  <a:pt x="19789" y="9959"/>
                  <a:pt x="19458" y="10714"/>
                </a:cubicBezTo>
                <a:cubicBezTo>
                  <a:pt x="18853" y="12050"/>
                  <a:pt x="18216" y="12805"/>
                  <a:pt x="17597" y="13624"/>
                </a:cubicBezTo>
                <a:cubicBezTo>
                  <a:pt x="16949" y="14486"/>
                  <a:pt x="16290" y="15241"/>
                  <a:pt x="15635" y="15995"/>
                </a:cubicBezTo>
                <a:cubicBezTo>
                  <a:pt x="14047" y="17784"/>
                  <a:pt x="12449" y="19617"/>
                  <a:pt x="10836" y="20091"/>
                </a:cubicBezTo>
                <a:cubicBezTo>
                  <a:pt x="9144" y="20587"/>
                  <a:pt x="7380" y="21600"/>
                  <a:pt x="5742" y="18905"/>
                </a:cubicBezTo>
                <a:cubicBezTo>
                  <a:pt x="5058" y="17720"/>
                  <a:pt x="4464" y="15090"/>
                  <a:pt x="3780" y="14055"/>
                </a:cubicBezTo>
                <a:cubicBezTo>
                  <a:pt x="3168" y="13085"/>
                  <a:pt x="2520" y="12180"/>
                  <a:pt x="1890" y="12826"/>
                </a:cubicBezTo>
                <a:cubicBezTo>
                  <a:pt x="1476" y="13257"/>
                  <a:pt x="1105" y="14637"/>
                  <a:pt x="677" y="15025"/>
                </a:cubicBezTo>
                <a:cubicBezTo>
                  <a:pt x="457" y="15198"/>
                  <a:pt x="234" y="15090"/>
                  <a:pt x="7" y="14874"/>
                </a:cubicBezTo>
                <a:cubicBezTo>
                  <a:pt x="7" y="14874"/>
                  <a:pt x="0" y="1121"/>
                  <a:pt x="0" y="1121"/>
                </a:cubicBezTo>
                <a:cubicBezTo>
                  <a:pt x="403" y="647"/>
                  <a:pt x="817" y="323"/>
                  <a:pt x="1224" y="194"/>
                </a:cubicBezTo>
                <a:cubicBezTo>
                  <a:pt x="1937" y="0"/>
                  <a:pt x="2664" y="690"/>
                  <a:pt x="3265" y="2846"/>
                </a:cubicBezTo>
                <a:cubicBezTo>
                  <a:pt x="3564" y="3966"/>
                  <a:pt x="3827" y="5497"/>
                  <a:pt x="4079" y="7006"/>
                </a:cubicBezTo>
                <a:cubicBezTo>
                  <a:pt x="4507" y="9528"/>
                  <a:pt x="4997" y="11641"/>
                  <a:pt x="5569" y="12654"/>
                </a:cubicBezTo>
                <a:cubicBezTo>
                  <a:pt x="7650" y="16383"/>
                  <a:pt x="9900" y="16038"/>
                  <a:pt x="12125" y="14594"/>
                </a:cubicBezTo>
                <a:cubicBezTo>
                  <a:pt x="13925" y="13451"/>
                  <a:pt x="15743" y="12331"/>
                  <a:pt x="17471" y="8989"/>
                </a:cubicBezTo>
                <a:cubicBezTo>
                  <a:pt x="17921" y="8127"/>
                  <a:pt x="18353" y="6877"/>
                  <a:pt x="18774" y="5583"/>
                </a:cubicBezTo>
                <a:cubicBezTo>
                  <a:pt x="19033" y="4786"/>
                  <a:pt x="19285" y="3966"/>
                  <a:pt x="19555" y="3816"/>
                </a:cubicBezTo>
                <a:cubicBezTo>
                  <a:pt x="20095" y="3600"/>
                  <a:pt x="20621" y="4570"/>
                  <a:pt x="21143" y="5583"/>
                </a:cubicBezTo>
                <a:cubicBezTo>
                  <a:pt x="21301" y="5863"/>
                  <a:pt x="21445" y="6144"/>
                  <a:pt x="21600" y="6467"/>
                </a:cubicBezTo>
              </a:path>
            </a:pathLst>
          </a:custGeom>
          <a:solidFill>
            <a:srgbClr val="666666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0720" y="846000"/>
            <a:ext cx="5398920" cy="75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20720" y="1873080"/>
            <a:ext cx="5398920" cy="2032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12034"/>
                </a:moveTo>
                <a:cubicBezTo>
                  <a:pt x="21600" y="12034"/>
                  <a:pt x="21600" y="21437"/>
                  <a:pt x="21600" y="21437"/>
                </a:cubicBezTo>
                <a:cubicBezTo>
                  <a:pt x="18000" y="21457"/>
                  <a:pt x="14393" y="21485"/>
                  <a:pt x="10793" y="21504"/>
                </a:cubicBezTo>
                <a:cubicBezTo>
                  <a:pt x="7200" y="21552"/>
                  <a:pt x="3593" y="21581"/>
                  <a:pt x="0" y="21600"/>
                </a:cubicBezTo>
                <a:cubicBezTo>
                  <a:pt x="0" y="21600"/>
                  <a:pt x="0" y="16674"/>
                  <a:pt x="0" y="16674"/>
                </a:cubicBezTo>
                <a:cubicBezTo>
                  <a:pt x="439" y="16530"/>
                  <a:pt x="882" y="16291"/>
                  <a:pt x="1321" y="16033"/>
                </a:cubicBezTo>
                <a:cubicBezTo>
                  <a:pt x="2214" y="15478"/>
                  <a:pt x="3078" y="14636"/>
                  <a:pt x="3924" y="13689"/>
                </a:cubicBezTo>
                <a:cubicBezTo>
                  <a:pt x="4381" y="13201"/>
                  <a:pt x="4824" y="12560"/>
                  <a:pt x="5238" y="11843"/>
                </a:cubicBezTo>
                <a:cubicBezTo>
                  <a:pt x="5922" y="10647"/>
                  <a:pt x="6581" y="9308"/>
                  <a:pt x="7049" y="8303"/>
                </a:cubicBezTo>
                <a:cubicBezTo>
                  <a:pt x="7650" y="7031"/>
                  <a:pt x="8075" y="6084"/>
                  <a:pt x="8471" y="5070"/>
                </a:cubicBezTo>
                <a:cubicBezTo>
                  <a:pt x="8827" y="4123"/>
                  <a:pt x="9187" y="3205"/>
                  <a:pt x="9522" y="2210"/>
                </a:cubicBezTo>
                <a:cubicBezTo>
                  <a:pt x="9666" y="1779"/>
                  <a:pt x="9853" y="1368"/>
                  <a:pt x="10015" y="937"/>
                </a:cubicBezTo>
                <a:cubicBezTo>
                  <a:pt x="10177" y="488"/>
                  <a:pt x="10350" y="0"/>
                  <a:pt x="10548" y="105"/>
                </a:cubicBezTo>
                <a:cubicBezTo>
                  <a:pt x="10667" y="172"/>
                  <a:pt x="10728" y="574"/>
                  <a:pt x="10854" y="622"/>
                </a:cubicBezTo>
                <a:cubicBezTo>
                  <a:pt x="10944" y="631"/>
                  <a:pt x="11009" y="392"/>
                  <a:pt x="11099" y="287"/>
                </a:cubicBezTo>
                <a:cubicBezTo>
                  <a:pt x="11178" y="191"/>
                  <a:pt x="11365" y="172"/>
                  <a:pt x="11365" y="172"/>
                </a:cubicBezTo>
                <a:cubicBezTo>
                  <a:pt x="11365" y="172"/>
                  <a:pt x="11495" y="0"/>
                  <a:pt x="11556" y="48"/>
                </a:cubicBezTo>
                <a:cubicBezTo>
                  <a:pt x="11754" y="172"/>
                  <a:pt x="11887" y="679"/>
                  <a:pt x="12078" y="861"/>
                </a:cubicBezTo>
                <a:cubicBezTo>
                  <a:pt x="12283" y="1052"/>
                  <a:pt x="12503" y="1004"/>
                  <a:pt x="12672" y="717"/>
                </a:cubicBezTo>
                <a:cubicBezTo>
                  <a:pt x="12744" y="603"/>
                  <a:pt x="12827" y="430"/>
                  <a:pt x="12827" y="430"/>
                </a:cubicBezTo>
                <a:cubicBezTo>
                  <a:pt x="12827" y="430"/>
                  <a:pt x="14094" y="2755"/>
                  <a:pt x="14724" y="3874"/>
                </a:cubicBezTo>
                <a:cubicBezTo>
                  <a:pt x="14994" y="4353"/>
                  <a:pt x="15275" y="4840"/>
                  <a:pt x="15552" y="5338"/>
                </a:cubicBezTo>
                <a:cubicBezTo>
                  <a:pt x="16193" y="6486"/>
                  <a:pt x="16855" y="7634"/>
                  <a:pt x="17568" y="8571"/>
                </a:cubicBezTo>
                <a:cubicBezTo>
                  <a:pt x="18119" y="9308"/>
                  <a:pt x="18709" y="10025"/>
                  <a:pt x="19303" y="10599"/>
                </a:cubicBezTo>
                <a:cubicBezTo>
                  <a:pt x="19962" y="11250"/>
                  <a:pt x="20646" y="11795"/>
                  <a:pt x="21337" y="11986"/>
                </a:cubicBezTo>
                <a:cubicBezTo>
                  <a:pt x="21420" y="12015"/>
                  <a:pt x="21510" y="12034"/>
                  <a:pt x="21600" y="12034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4194000"/>
            <a:ext cx="4900320" cy="229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310" y="127"/>
                  <a:pt x="21033" y="255"/>
                  <a:pt x="20747" y="424"/>
                </a:cubicBezTo>
                <a:cubicBezTo>
                  <a:pt x="19418" y="1188"/>
                  <a:pt x="18117" y="2181"/>
                  <a:pt x="16820" y="3242"/>
                </a:cubicBezTo>
                <a:cubicBezTo>
                  <a:pt x="14729" y="4948"/>
                  <a:pt x="12702" y="6875"/>
                  <a:pt x="10659" y="8742"/>
                </a:cubicBezTo>
                <a:cubicBezTo>
                  <a:pt x="9790" y="9548"/>
                  <a:pt x="8926" y="10312"/>
                  <a:pt x="8085" y="11161"/>
                </a:cubicBezTo>
                <a:cubicBezTo>
                  <a:pt x="6672" y="12587"/>
                  <a:pt x="5268" y="14114"/>
                  <a:pt x="3927" y="15854"/>
                </a:cubicBezTo>
                <a:cubicBezTo>
                  <a:pt x="2983" y="17102"/>
                  <a:pt x="2083" y="18528"/>
                  <a:pt x="1170" y="19903"/>
                </a:cubicBezTo>
                <a:cubicBezTo>
                  <a:pt x="793" y="20480"/>
                  <a:pt x="377" y="21023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30280" y="4543560"/>
            <a:ext cx="4689360" cy="2296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198" y="229"/>
                  <a:pt x="20800" y="482"/>
                  <a:pt x="20398" y="762"/>
                </a:cubicBezTo>
                <a:cubicBezTo>
                  <a:pt x="19121" y="1650"/>
                  <a:pt x="18064" y="2429"/>
                  <a:pt x="17027" y="3318"/>
                </a:cubicBezTo>
                <a:cubicBezTo>
                  <a:pt x="16198" y="4020"/>
                  <a:pt x="15381" y="4799"/>
                  <a:pt x="14739" y="5417"/>
                </a:cubicBezTo>
                <a:cubicBezTo>
                  <a:pt x="13524" y="6602"/>
                  <a:pt x="12280" y="7846"/>
                  <a:pt x="11036" y="9073"/>
                </a:cubicBezTo>
                <a:cubicBezTo>
                  <a:pt x="10033" y="10047"/>
                  <a:pt x="9030" y="11020"/>
                  <a:pt x="8035" y="12036"/>
                </a:cubicBezTo>
                <a:cubicBezTo>
                  <a:pt x="6683" y="13415"/>
                  <a:pt x="5348" y="14854"/>
                  <a:pt x="4092" y="16335"/>
                </a:cubicBezTo>
                <a:cubicBezTo>
                  <a:pt x="3246" y="17343"/>
                  <a:pt x="2517" y="18130"/>
                  <a:pt x="1832" y="19018"/>
                </a:cubicBezTo>
                <a:cubicBezTo>
                  <a:pt x="1202" y="19839"/>
                  <a:pt x="551" y="20779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20720" y="6840360"/>
            <a:ext cx="735120" cy="135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9425"/>
                </a:moveTo>
                <a:cubicBezTo>
                  <a:pt x="528" y="9138"/>
                  <a:pt x="1003" y="8881"/>
                  <a:pt x="1532" y="8594"/>
                </a:cubicBezTo>
                <a:cubicBezTo>
                  <a:pt x="2324" y="8193"/>
                  <a:pt x="3116" y="7849"/>
                  <a:pt x="3908" y="7448"/>
                </a:cubicBezTo>
                <a:cubicBezTo>
                  <a:pt x="4568" y="7162"/>
                  <a:pt x="5281" y="6847"/>
                  <a:pt x="5941" y="6546"/>
                </a:cubicBezTo>
                <a:cubicBezTo>
                  <a:pt x="7658" y="5686"/>
                  <a:pt x="9321" y="4827"/>
                  <a:pt x="11143" y="4011"/>
                </a:cubicBezTo>
                <a:cubicBezTo>
                  <a:pt x="14259" y="2607"/>
                  <a:pt x="17613" y="1289"/>
                  <a:pt x="20940" y="0"/>
                </a:cubicBezTo>
                <a:cubicBezTo>
                  <a:pt x="21389" y="974"/>
                  <a:pt x="21600" y="2034"/>
                  <a:pt x="21574" y="3037"/>
                </a:cubicBezTo>
                <a:cubicBezTo>
                  <a:pt x="21442" y="5056"/>
                  <a:pt x="20333" y="7062"/>
                  <a:pt x="18959" y="9339"/>
                </a:cubicBezTo>
                <a:cubicBezTo>
                  <a:pt x="18616" y="9912"/>
                  <a:pt x="18352" y="10499"/>
                  <a:pt x="18009" y="11072"/>
                </a:cubicBezTo>
                <a:cubicBezTo>
                  <a:pt x="17692" y="11201"/>
                  <a:pt x="17428" y="11416"/>
                  <a:pt x="17164" y="11531"/>
                </a:cubicBezTo>
                <a:cubicBezTo>
                  <a:pt x="13916" y="13135"/>
                  <a:pt x="10826" y="14825"/>
                  <a:pt x="7869" y="16572"/>
                </a:cubicBezTo>
                <a:cubicBezTo>
                  <a:pt x="5149" y="18191"/>
                  <a:pt x="2561" y="19881"/>
                  <a:pt x="0" y="21600"/>
                </a:cubicBezTo>
                <a:cubicBezTo>
                  <a:pt x="0" y="21600"/>
                  <a:pt x="0" y="9425"/>
                  <a:pt x="0" y="9425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0720" y="6485040"/>
            <a:ext cx="712800" cy="94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103"/>
                </a:moveTo>
                <a:cubicBezTo>
                  <a:pt x="21191" y="6872"/>
                  <a:pt x="20565" y="5682"/>
                  <a:pt x="19802" y="4554"/>
                </a:cubicBezTo>
                <a:cubicBezTo>
                  <a:pt x="18577" y="2831"/>
                  <a:pt x="16969" y="1292"/>
                  <a:pt x="15117" y="0"/>
                </a:cubicBezTo>
                <a:cubicBezTo>
                  <a:pt x="14981" y="62"/>
                  <a:pt x="14927" y="144"/>
                  <a:pt x="14845" y="205"/>
                </a:cubicBezTo>
                <a:cubicBezTo>
                  <a:pt x="9806" y="2913"/>
                  <a:pt x="4903" y="5744"/>
                  <a:pt x="54" y="8574"/>
                </a:cubicBezTo>
                <a:cubicBezTo>
                  <a:pt x="54" y="8574"/>
                  <a:pt x="0" y="21600"/>
                  <a:pt x="0" y="21600"/>
                </a:cubicBezTo>
                <a:cubicBezTo>
                  <a:pt x="3732" y="18974"/>
                  <a:pt x="7545" y="16308"/>
                  <a:pt x="11495" y="13846"/>
                </a:cubicBezTo>
                <a:cubicBezTo>
                  <a:pt x="14709" y="11836"/>
                  <a:pt x="18168" y="9949"/>
                  <a:pt x="21600" y="8103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0720" y="5013360"/>
            <a:ext cx="5398920" cy="3184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294" y="122"/>
                  <a:pt x="20988" y="263"/>
                  <a:pt x="20689" y="440"/>
                </a:cubicBezTo>
                <a:cubicBezTo>
                  <a:pt x="19577" y="1050"/>
                  <a:pt x="18493" y="1862"/>
                  <a:pt x="17406" y="2656"/>
                </a:cubicBezTo>
                <a:cubicBezTo>
                  <a:pt x="16560" y="3278"/>
                  <a:pt x="15714" y="3889"/>
                  <a:pt x="14857" y="4518"/>
                </a:cubicBezTo>
                <a:cubicBezTo>
                  <a:pt x="13885" y="5238"/>
                  <a:pt x="12913" y="5983"/>
                  <a:pt x="11952" y="6758"/>
                </a:cubicBezTo>
                <a:cubicBezTo>
                  <a:pt x="11149" y="7399"/>
                  <a:pt x="10339" y="8089"/>
                  <a:pt x="9540" y="8822"/>
                </a:cubicBezTo>
                <a:cubicBezTo>
                  <a:pt x="8730" y="9567"/>
                  <a:pt x="7931" y="10379"/>
                  <a:pt x="7146" y="11233"/>
                </a:cubicBezTo>
                <a:cubicBezTo>
                  <a:pt x="6559" y="11856"/>
                  <a:pt x="5987" y="12528"/>
                  <a:pt x="5436" y="13169"/>
                </a:cubicBezTo>
                <a:cubicBezTo>
                  <a:pt x="4853" y="13859"/>
                  <a:pt x="4284" y="14579"/>
                  <a:pt x="3751" y="15275"/>
                </a:cubicBezTo>
                <a:cubicBezTo>
                  <a:pt x="3265" y="15916"/>
                  <a:pt x="2790" y="16606"/>
                  <a:pt x="2340" y="17308"/>
                </a:cubicBezTo>
                <a:cubicBezTo>
                  <a:pt x="1897" y="17992"/>
                  <a:pt x="1476" y="18712"/>
                  <a:pt x="1073" y="19457"/>
                </a:cubicBezTo>
                <a:cubicBezTo>
                  <a:pt x="702" y="20147"/>
                  <a:pt x="349" y="20867"/>
                  <a:pt x="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52760" y="1440000"/>
            <a:ext cx="397080" cy="554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29" y="19317"/>
                </a:moveTo>
                <a:cubicBezTo>
                  <a:pt x="0" y="18158"/>
                  <a:pt x="1518" y="16859"/>
                  <a:pt x="2106" y="15278"/>
                </a:cubicBezTo>
                <a:cubicBezTo>
                  <a:pt x="2253" y="14505"/>
                  <a:pt x="2106" y="13698"/>
                  <a:pt x="1861" y="12925"/>
                </a:cubicBezTo>
                <a:cubicBezTo>
                  <a:pt x="1616" y="12117"/>
                  <a:pt x="784" y="11344"/>
                  <a:pt x="784" y="10537"/>
                </a:cubicBezTo>
                <a:cubicBezTo>
                  <a:pt x="784" y="9483"/>
                  <a:pt x="2106" y="8605"/>
                  <a:pt x="2498" y="7446"/>
                </a:cubicBezTo>
                <a:cubicBezTo>
                  <a:pt x="2694" y="6779"/>
                  <a:pt x="2596" y="5971"/>
                  <a:pt x="2596" y="5268"/>
                </a:cubicBezTo>
                <a:cubicBezTo>
                  <a:pt x="2596" y="4566"/>
                  <a:pt x="3331" y="3969"/>
                  <a:pt x="3331" y="3337"/>
                </a:cubicBezTo>
                <a:cubicBezTo>
                  <a:pt x="3233" y="2353"/>
                  <a:pt x="1959" y="1405"/>
                  <a:pt x="2596" y="702"/>
                </a:cubicBezTo>
                <a:cubicBezTo>
                  <a:pt x="3086" y="0"/>
                  <a:pt x="4457" y="246"/>
                  <a:pt x="5780" y="527"/>
                </a:cubicBezTo>
                <a:cubicBezTo>
                  <a:pt x="7004" y="808"/>
                  <a:pt x="13127" y="2704"/>
                  <a:pt x="13861" y="3863"/>
                </a:cubicBezTo>
                <a:cubicBezTo>
                  <a:pt x="14841" y="5444"/>
                  <a:pt x="13959" y="7376"/>
                  <a:pt x="14008" y="9132"/>
                </a:cubicBezTo>
                <a:cubicBezTo>
                  <a:pt x="14008" y="9659"/>
                  <a:pt x="14596" y="10291"/>
                  <a:pt x="14743" y="10888"/>
                </a:cubicBezTo>
                <a:cubicBezTo>
                  <a:pt x="14988" y="11660"/>
                  <a:pt x="15086" y="13241"/>
                  <a:pt x="15086" y="13241"/>
                </a:cubicBezTo>
                <a:cubicBezTo>
                  <a:pt x="15086" y="13241"/>
                  <a:pt x="17192" y="12117"/>
                  <a:pt x="18759" y="11836"/>
                </a:cubicBezTo>
                <a:cubicBezTo>
                  <a:pt x="19984" y="11590"/>
                  <a:pt x="20963" y="12398"/>
                  <a:pt x="21306" y="13346"/>
                </a:cubicBezTo>
                <a:cubicBezTo>
                  <a:pt x="21600" y="14295"/>
                  <a:pt x="21306" y="15454"/>
                  <a:pt x="20865" y="16578"/>
                </a:cubicBezTo>
                <a:cubicBezTo>
                  <a:pt x="20473" y="17456"/>
                  <a:pt x="19837" y="18369"/>
                  <a:pt x="19004" y="19212"/>
                </a:cubicBezTo>
                <a:cubicBezTo>
                  <a:pt x="18024" y="20090"/>
                  <a:pt x="16898" y="21003"/>
                  <a:pt x="15429" y="21319"/>
                </a:cubicBezTo>
                <a:cubicBezTo>
                  <a:pt x="14008" y="21600"/>
                  <a:pt x="11020" y="21143"/>
                  <a:pt x="7984" y="20898"/>
                </a:cubicBezTo>
                <a:cubicBezTo>
                  <a:pt x="5045" y="20722"/>
                  <a:pt x="2106" y="20617"/>
                  <a:pt x="1029" y="19317"/>
                </a:cubicBezTo>
              </a:path>
            </a:pathLst>
          </a:custGeom>
          <a:solidFill>
            <a:srgbClr val="e5e5e5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1541520"/>
            <a:ext cx="164880" cy="317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87" y="20682"/>
                </a:moveTo>
                <a:cubicBezTo>
                  <a:pt x="590" y="18418"/>
                  <a:pt x="2951" y="15665"/>
                  <a:pt x="2951" y="13217"/>
                </a:cubicBezTo>
                <a:cubicBezTo>
                  <a:pt x="2951" y="11626"/>
                  <a:pt x="3541" y="9790"/>
                  <a:pt x="3187" y="8261"/>
                </a:cubicBezTo>
                <a:cubicBezTo>
                  <a:pt x="2951" y="6486"/>
                  <a:pt x="1416" y="4773"/>
                  <a:pt x="1180" y="3121"/>
                </a:cubicBezTo>
                <a:cubicBezTo>
                  <a:pt x="944" y="2203"/>
                  <a:pt x="0" y="918"/>
                  <a:pt x="2007" y="490"/>
                </a:cubicBezTo>
                <a:cubicBezTo>
                  <a:pt x="4485" y="0"/>
                  <a:pt x="8262" y="490"/>
                  <a:pt x="9797" y="1407"/>
                </a:cubicBezTo>
                <a:cubicBezTo>
                  <a:pt x="11803" y="2448"/>
                  <a:pt x="10859" y="4039"/>
                  <a:pt x="10977" y="5385"/>
                </a:cubicBezTo>
                <a:cubicBezTo>
                  <a:pt x="11567" y="6608"/>
                  <a:pt x="10859" y="8261"/>
                  <a:pt x="12039" y="9362"/>
                </a:cubicBezTo>
                <a:cubicBezTo>
                  <a:pt x="12748" y="10280"/>
                  <a:pt x="15344" y="10892"/>
                  <a:pt x="16879" y="11626"/>
                </a:cubicBezTo>
                <a:cubicBezTo>
                  <a:pt x="18649" y="12850"/>
                  <a:pt x="21600" y="13768"/>
                  <a:pt x="21600" y="15053"/>
                </a:cubicBezTo>
                <a:cubicBezTo>
                  <a:pt x="21600" y="16215"/>
                  <a:pt x="18649" y="17011"/>
                  <a:pt x="16289" y="17806"/>
                </a:cubicBezTo>
                <a:cubicBezTo>
                  <a:pt x="14400" y="18541"/>
                  <a:pt x="11803" y="18969"/>
                  <a:pt x="9443" y="19336"/>
                </a:cubicBezTo>
                <a:cubicBezTo>
                  <a:pt x="7436" y="19887"/>
                  <a:pt x="4131" y="21600"/>
                  <a:pt x="3187" y="20682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91040" y="938160"/>
            <a:ext cx="2039760" cy="74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58" y="2788"/>
                </a:moveTo>
                <a:cubicBezTo>
                  <a:pt x="3354" y="2788"/>
                  <a:pt x="3792" y="3622"/>
                  <a:pt x="4126" y="4221"/>
                </a:cubicBezTo>
                <a:cubicBezTo>
                  <a:pt x="4354" y="2996"/>
                  <a:pt x="4764" y="1407"/>
                  <a:pt x="5269" y="1485"/>
                </a:cubicBezTo>
                <a:cubicBezTo>
                  <a:pt x="5793" y="1615"/>
                  <a:pt x="6241" y="3439"/>
                  <a:pt x="6841" y="3309"/>
                </a:cubicBezTo>
                <a:cubicBezTo>
                  <a:pt x="7641" y="3048"/>
                  <a:pt x="8099" y="234"/>
                  <a:pt x="8928" y="104"/>
                </a:cubicBezTo>
                <a:cubicBezTo>
                  <a:pt x="9671" y="0"/>
                  <a:pt x="10195" y="2527"/>
                  <a:pt x="10910" y="2579"/>
                </a:cubicBezTo>
                <a:cubicBezTo>
                  <a:pt x="11367" y="2606"/>
                  <a:pt x="11881" y="52"/>
                  <a:pt x="12577" y="495"/>
                </a:cubicBezTo>
                <a:cubicBezTo>
                  <a:pt x="13244" y="964"/>
                  <a:pt x="13368" y="3908"/>
                  <a:pt x="14101" y="4351"/>
                </a:cubicBezTo>
                <a:cubicBezTo>
                  <a:pt x="14797" y="4794"/>
                  <a:pt x="15369" y="2006"/>
                  <a:pt x="16055" y="2658"/>
                </a:cubicBezTo>
                <a:cubicBezTo>
                  <a:pt x="16703" y="3361"/>
                  <a:pt x="16483" y="6358"/>
                  <a:pt x="17198" y="7217"/>
                </a:cubicBezTo>
                <a:cubicBezTo>
                  <a:pt x="17722" y="7817"/>
                  <a:pt x="18294" y="6827"/>
                  <a:pt x="18885" y="6748"/>
                </a:cubicBezTo>
                <a:cubicBezTo>
                  <a:pt x="19275" y="6696"/>
                  <a:pt x="19742" y="6358"/>
                  <a:pt x="20076" y="6957"/>
                </a:cubicBezTo>
                <a:cubicBezTo>
                  <a:pt x="20314" y="7426"/>
                  <a:pt x="20371" y="8442"/>
                  <a:pt x="20676" y="9224"/>
                </a:cubicBezTo>
                <a:cubicBezTo>
                  <a:pt x="21009" y="10005"/>
                  <a:pt x="21514" y="10083"/>
                  <a:pt x="21562" y="10995"/>
                </a:cubicBezTo>
                <a:cubicBezTo>
                  <a:pt x="21600" y="11986"/>
                  <a:pt x="21009" y="12220"/>
                  <a:pt x="21028" y="13210"/>
                </a:cubicBezTo>
                <a:cubicBezTo>
                  <a:pt x="21057" y="13914"/>
                  <a:pt x="21457" y="13914"/>
                  <a:pt x="21505" y="14695"/>
                </a:cubicBezTo>
                <a:cubicBezTo>
                  <a:pt x="21562" y="15868"/>
                  <a:pt x="21171" y="16285"/>
                  <a:pt x="20800" y="16728"/>
                </a:cubicBezTo>
                <a:cubicBezTo>
                  <a:pt x="20419" y="16676"/>
                  <a:pt x="20028" y="16285"/>
                  <a:pt x="19799" y="16910"/>
                </a:cubicBezTo>
                <a:cubicBezTo>
                  <a:pt x="19361" y="18083"/>
                  <a:pt x="19599" y="20245"/>
                  <a:pt x="19056" y="20766"/>
                </a:cubicBezTo>
                <a:cubicBezTo>
                  <a:pt x="18561" y="21209"/>
                  <a:pt x="18275" y="20115"/>
                  <a:pt x="17865" y="20037"/>
                </a:cubicBezTo>
                <a:cubicBezTo>
                  <a:pt x="17274" y="19932"/>
                  <a:pt x="16655" y="21600"/>
                  <a:pt x="15988" y="21366"/>
                </a:cubicBezTo>
                <a:cubicBezTo>
                  <a:pt x="15416" y="21209"/>
                  <a:pt x="14988" y="19776"/>
                  <a:pt x="14578" y="18291"/>
                </a:cubicBezTo>
                <a:cubicBezTo>
                  <a:pt x="14197" y="18630"/>
                  <a:pt x="13768" y="19021"/>
                  <a:pt x="13596" y="18421"/>
                </a:cubicBezTo>
                <a:cubicBezTo>
                  <a:pt x="13339" y="17431"/>
                  <a:pt x="13787" y="15946"/>
                  <a:pt x="13482" y="15425"/>
                </a:cubicBezTo>
                <a:cubicBezTo>
                  <a:pt x="13168" y="14904"/>
                  <a:pt x="12958" y="16415"/>
                  <a:pt x="12558" y="16519"/>
                </a:cubicBezTo>
                <a:cubicBezTo>
                  <a:pt x="12339" y="16597"/>
                  <a:pt x="12024" y="16024"/>
                  <a:pt x="11929" y="15112"/>
                </a:cubicBezTo>
                <a:cubicBezTo>
                  <a:pt x="11796" y="14122"/>
                  <a:pt x="11739" y="13393"/>
                  <a:pt x="11739" y="13393"/>
                </a:cubicBezTo>
                <a:cubicBezTo>
                  <a:pt x="11739" y="13393"/>
                  <a:pt x="11052" y="15894"/>
                  <a:pt x="10624" y="17118"/>
                </a:cubicBezTo>
                <a:cubicBezTo>
                  <a:pt x="10243" y="18161"/>
                  <a:pt x="9719" y="19333"/>
                  <a:pt x="9166" y="19021"/>
                </a:cubicBezTo>
                <a:cubicBezTo>
                  <a:pt x="8766" y="18864"/>
                  <a:pt x="8385" y="17770"/>
                  <a:pt x="8194" y="16467"/>
                </a:cubicBezTo>
                <a:cubicBezTo>
                  <a:pt x="7984" y="15242"/>
                  <a:pt x="7784" y="12559"/>
                  <a:pt x="7784" y="12559"/>
                </a:cubicBezTo>
                <a:cubicBezTo>
                  <a:pt x="7784" y="12559"/>
                  <a:pt x="7098" y="17587"/>
                  <a:pt x="6288" y="18291"/>
                </a:cubicBezTo>
                <a:cubicBezTo>
                  <a:pt x="5650" y="18864"/>
                  <a:pt x="5212" y="17822"/>
                  <a:pt x="4735" y="17040"/>
                </a:cubicBezTo>
                <a:cubicBezTo>
                  <a:pt x="4221" y="16207"/>
                  <a:pt x="3668" y="15425"/>
                  <a:pt x="3240" y="16024"/>
                </a:cubicBezTo>
                <a:cubicBezTo>
                  <a:pt x="2906" y="16519"/>
                  <a:pt x="2858" y="18030"/>
                  <a:pt x="2554" y="19073"/>
                </a:cubicBezTo>
                <a:cubicBezTo>
                  <a:pt x="2334" y="19854"/>
                  <a:pt x="1934" y="20037"/>
                  <a:pt x="1553" y="19802"/>
                </a:cubicBezTo>
                <a:cubicBezTo>
                  <a:pt x="1162" y="19594"/>
                  <a:pt x="791" y="18942"/>
                  <a:pt x="524" y="18030"/>
                </a:cubicBezTo>
                <a:cubicBezTo>
                  <a:pt x="238" y="17040"/>
                  <a:pt x="162" y="15868"/>
                  <a:pt x="333" y="14904"/>
                </a:cubicBezTo>
                <a:cubicBezTo>
                  <a:pt x="410" y="14461"/>
                  <a:pt x="734" y="13914"/>
                  <a:pt x="734" y="13914"/>
                </a:cubicBezTo>
                <a:cubicBezTo>
                  <a:pt x="734" y="13914"/>
                  <a:pt x="238" y="13158"/>
                  <a:pt x="124" y="12350"/>
                </a:cubicBezTo>
                <a:cubicBezTo>
                  <a:pt x="0" y="11386"/>
                  <a:pt x="381" y="10422"/>
                  <a:pt x="667" y="10344"/>
                </a:cubicBezTo>
                <a:cubicBezTo>
                  <a:pt x="1048" y="10162"/>
                  <a:pt x="1353" y="10943"/>
                  <a:pt x="1734" y="11048"/>
                </a:cubicBezTo>
                <a:cubicBezTo>
                  <a:pt x="2049" y="11126"/>
                  <a:pt x="2363" y="10605"/>
                  <a:pt x="2363" y="9614"/>
                </a:cubicBezTo>
                <a:cubicBezTo>
                  <a:pt x="2363" y="8598"/>
                  <a:pt x="1810" y="8077"/>
                  <a:pt x="1734" y="7530"/>
                </a:cubicBezTo>
                <a:cubicBezTo>
                  <a:pt x="1591" y="6488"/>
                  <a:pt x="1734" y="5081"/>
                  <a:pt x="2001" y="4221"/>
                </a:cubicBezTo>
                <a:cubicBezTo>
                  <a:pt x="2220" y="3517"/>
                  <a:pt x="2525" y="2788"/>
                  <a:pt x="2858" y="2788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97360" y="1558800"/>
            <a:ext cx="76320" cy="92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082" y="19059"/>
                  <a:pt x="9656" y="16306"/>
                  <a:pt x="13468" y="12706"/>
                </a:cubicBezTo>
                <a:cubicBezTo>
                  <a:pt x="17280" y="8894"/>
                  <a:pt x="19567" y="4659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81680" y="1554120"/>
            <a:ext cx="29880" cy="76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4400" y="19821"/>
                  <a:pt x="7855" y="17788"/>
                  <a:pt x="4582" y="15247"/>
                </a:cubicBezTo>
                <a:cubicBezTo>
                  <a:pt x="1964" y="11689"/>
                  <a:pt x="0" y="7878"/>
                  <a:pt x="3273" y="4574"/>
                </a:cubicBezTo>
                <a:cubicBezTo>
                  <a:pt x="6545" y="2541"/>
                  <a:pt x="13091" y="1525"/>
                  <a:pt x="18327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040360" y="1514520"/>
            <a:ext cx="7920" cy="15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280" y="17788"/>
                  <a:pt x="4320" y="6353"/>
                  <a:pt x="0" y="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11640" y="1454040"/>
            <a:ext cx="32040" cy="5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491" y="21600"/>
                </a:moveTo>
                <a:cubicBezTo>
                  <a:pt x="16663" y="18720"/>
                  <a:pt x="21600" y="15480"/>
                  <a:pt x="20366" y="11520"/>
                </a:cubicBezTo>
                <a:cubicBezTo>
                  <a:pt x="18514" y="6120"/>
                  <a:pt x="9257" y="288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62400" y="1433520"/>
            <a:ext cx="17640" cy="68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5600" y="17905"/>
                  <a:pt x="7200" y="14495"/>
                  <a:pt x="6000" y="10800"/>
                </a:cubicBezTo>
                <a:cubicBezTo>
                  <a:pt x="3600" y="7105"/>
                  <a:pt x="3600" y="3695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62200" y="1098720"/>
            <a:ext cx="59040" cy="7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975" y="790"/>
                </a:moveTo>
                <a:cubicBezTo>
                  <a:pt x="4652" y="1317"/>
                  <a:pt x="1662" y="3951"/>
                  <a:pt x="665" y="7902"/>
                </a:cubicBezTo>
                <a:cubicBezTo>
                  <a:pt x="0" y="13171"/>
                  <a:pt x="1662" y="18439"/>
                  <a:pt x="6646" y="19229"/>
                </a:cubicBezTo>
                <a:cubicBezTo>
                  <a:pt x="13957" y="21600"/>
                  <a:pt x="21600" y="15805"/>
                  <a:pt x="21600" y="10537"/>
                </a:cubicBezTo>
                <a:cubicBezTo>
                  <a:pt x="21600" y="5268"/>
                  <a:pt x="14954" y="0"/>
                  <a:pt x="7975" y="79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67000" y="1433520"/>
            <a:ext cx="150840" cy="14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29" y="1723"/>
                </a:moveTo>
                <a:cubicBezTo>
                  <a:pt x="1286" y="2783"/>
                  <a:pt x="0" y="5301"/>
                  <a:pt x="386" y="7288"/>
                </a:cubicBezTo>
                <a:cubicBezTo>
                  <a:pt x="900" y="11661"/>
                  <a:pt x="2314" y="15902"/>
                  <a:pt x="5143" y="18950"/>
                </a:cubicBezTo>
                <a:cubicBezTo>
                  <a:pt x="6686" y="20937"/>
                  <a:pt x="9386" y="21600"/>
                  <a:pt x="11957" y="21600"/>
                </a:cubicBezTo>
                <a:cubicBezTo>
                  <a:pt x="13886" y="21600"/>
                  <a:pt x="15814" y="20275"/>
                  <a:pt x="16971" y="18950"/>
                </a:cubicBezTo>
                <a:cubicBezTo>
                  <a:pt x="19029" y="15902"/>
                  <a:pt x="21600" y="12059"/>
                  <a:pt x="21214" y="8083"/>
                </a:cubicBezTo>
                <a:cubicBezTo>
                  <a:pt x="20957" y="5036"/>
                  <a:pt x="18000" y="2783"/>
                  <a:pt x="15429" y="1060"/>
                </a:cubicBezTo>
                <a:cubicBezTo>
                  <a:pt x="14143" y="0"/>
                  <a:pt x="11957" y="0"/>
                  <a:pt x="10286" y="0"/>
                </a:cubicBezTo>
                <a:cubicBezTo>
                  <a:pt x="7714" y="0"/>
                  <a:pt x="4757" y="133"/>
                  <a:pt x="2829" y="1723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317760" y="1434960"/>
            <a:ext cx="149400" cy="14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09" y="6933"/>
                </a:moveTo>
                <a:cubicBezTo>
                  <a:pt x="0" y="11333"/>
                  <a:pt x="3273" y="16400"/>
                  <a:pt x="6676" y="19333"/>
                </a:cubicBezTo>
                <a:cubicBezTo>
                  <a:pt x="8902" y="21333"/>
                  <a:pt x="13745" y="21600"/>
                  <a:pt x="15840" y="19600"/>
                </a:cubicBezTo>
                <a:cubicBezTo>
                  <a:pt x="19375" y="16400"/>
                  <a:pt x="21600" y="10667"/>
                  <a:pt x="20684" y="6000"/>
                </a:cubicBezTo>
                <a:cubicBezTo>
                  <a:pt x="20029" y="2667"/>
                  <a:pt x="15840" y="0"/>
                  <a:pt x="12567" y="400"/>
                </a:cubicBezTo>
                <a:cubicBezTo>
                  <a:pt x="8247" y="667"/>
                  <a:pt x="2749" y="2667"/>
                  <a:pt x="1309" y="6933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86040" y="1217520"/>
            <a:ext cx="208080" cy="22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793" y="19676"/>
                </a:moveTo>
                <a:cubicBezTo>
                  <a:pt x="1117" y="18539"/>
                  <a:pt x="0" y="15916"/>
                  <a:pt x="466" y="13904"/>
                </a:cubicBezTo>
                <a:cubicBezTo>
                  <a:pt x="1210" y="10232"/>
                  <a:pt x="3259" y="6471"/>
                  <a:pt x="6052" y="3673"/>
                </a:cubicBezTo>
                <a:cubicBezTo>
                  <a:pt x="8193" y="1487"/>
                  <a:pt x="11452" y="437"/>
                  <a:pt x="14617" y="175"/>
                </a:cubicBezTo>
                <a:cubicBezTo>
                  <a:pt x="16759" y="0"/>
                  <a:pt x="19831" y="787"/>
                  <a:pt x="20483" y="2623"/>
                </a:cubicBezTo>
                <a:cubicBezTo>
                  <a:pt x="21600" y="6296"/>
                  <a:pt x="20669" y="10406"/>
                  <a:pt x="18807" y="13730"/>
                </a:cubicBezTo>
                <a:cubicBezTo>
                  <a:pt x="17224" y="16790"/>
                  <a:pt x="14245" y="19414"/>
                  <a:pt x="10893" y="20726"/>
                </a:cubicBezTo>
                <a:cubicBezTo>
                  <a:pt x="8379" y="21600"/>
                  <a:pt x="5121" y="21163"/>
                  <a:pt x="2793" y="19676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89280" y="1244520"/>
            <a:ext cx="239760" cy="23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399" y="11514"/>
                </a:moveTo>
                <a:cubicBezTo>
                  <a:pt x="20377" y="9413"/>
                  <a:pt x="21600" y="7060"/>
                  <a:pt x="21600" y="4791"/>
                </a:cubicBezTo>
                <a:cubicBezTo>
                  <a:pt x="21600" y="3530"/>
                  <a:pt x="20377" y="2437"/>
                  <a:pt x="19155" y="1849"/>
                </a:cubicBezTo>
                <a:cubicBezTo>
                  <a:pt x="16709" y="1009"/>
                  <a:pt x="14101" y="0"/>
                  <a:pt x="11574" y="588"/>
                </a:cubicBezTo>
                <a:cubicBezTo>
                  <a:pt x="9211" y="1177"/>
                  <a:pt x="7336" y="3110"/>
                  <a:pt x="5706" y="4959"/>
                </a:cubicBezTo>
                <a:cubicBezTo>
                  <a:pt x="4238" y="6892"/>
                  <a:pt x="3016" y="9245"/>
                  <a:pt x="2282" y="11767"/>
                </a:cubicBezTo>
                <a:cubicBezTo>
                  <a:pt x="1630" y="14288"/>
                  <a:pt x="0" y="17818"/>
                  <a:pt x="1875" y="19667"/>
                </a:cubicBezTo>
                <a:cubicBezTo>
                  <a:pt x="4075" y="21600"/>
                  <a:pt x="7743" y="20171"/>
                  <a:pt x="10433" y="19667"/>
                </a:cubicBezTo>
                <a:cubicBezTo>
                  <a:pt x="12634" y="19331"/>
                  <a:pt x="14672" y="18238"/>
                  <a:pt x="16302" y="16809"/>
                </a:cubicBezTo>
                <a:cubicBezTo>
                  <a:pt x="17769" y="15296"/>
                  <a:pt x="18503" y="13363"/>
                  <a:pt x="19399" y="11514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44880" y="1224000"/>
            <a:ext cx="146160" cy="25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200" y="606"/>
                </a:moveTo>
                <a:cubicBezTo>
                  <a:pt x="4000" y="1667"/>
                  <a:pt x="2933" y="3941"/>
                  <a:pt x="1600" y="5684"/>
                </a:cubicBezTo>
                <a:cubicBezTo>
                  <a:pt x="533" y="7352"/>
                  <a:pt x="0" y="9246"/>
                  <a:pt x="933" y="10989"/>
                </a:cubicBezTo>
                <a:cubicBezTo>
                  <a:pt x="2533" y="14173"/>
                  <a:pt x="5200" y="17204"/>
                  <a:pt x="9333" y="19326"/>
                </a:cubicBezTo>
                <a:cubicBezTo>
                  <a:pt x="11600" y="20463"/>
                  <a:pt x="17200" y="21600"/>
                  <a:pt x="18533" y="19933"/>
                </a:cubicBezTo>
                <a:cubicBezTo>
                  <a:pt x="21600" y="16295"/>
                  <a:pt x="20267" y="11520"/>
                  <a:pt x="19200" y="7427"/>
                </a:cubicBezTo>
                <a:cubicBezTo>
                  <a:pt x="18533" y="5305"/>
                  <a:pt x="16267" y="3259"/>
                  <a:pt x="13600" y="1743"/>
                </a:cubicBezTo>
                <a:cubicBezTo>
                  <a:pt x="12000" y="758"/>
                  <a:pt x="9200" y="0"/>
                  <a:pt x="7200" y="606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46360" y="1531800"/>
            <a:ext cx="163800" cy="42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187" y="20689"/>
                </a:moveTo>
                <a:cubicBezTo>
                  <a:pt x="590" y="18456"/>
                  <a:pt x="2951" y="15722"/>
                  <a:pt x="2951" y="13306"/>
                </a:cubicBezTo>
                <a:cubicBezTo>
                  <a:pt x="2951" y="11620"/>
                  <a:pt x="3541" y="9889"/>
                  <a:pt x="3187" y="8203"/>
                </a:cubicBezTo>
                <a:cubicBezTo>
                  <a:pt x="2951" y="6562"/>
                  <a:pt x="1416" y="4876"/>
                  <a:pt x="1180" y="3144"/>
                </a:cubicBezTo>
                <a:cubicBezTo>
                  <a:pt x="944" y="2233"/>
                  <a:pt x="0" y="866"/>
                  <a:pt x="2007" y="456"/>
                </a:cubicBezTo>
                <a:cubicBezTo>
                  <a:pt x="4485" y="0"/>
                  <a:pt x="8262" y="547"/>
                  <a:pt x="9797" y="1458"/>
                </a:cubicBezTo>
                <a:cubicBezTo>
                  <a:pt x="11803" y="2506"/>
                  <a:pt x="10859" y="4101"/>
                  <a:pt x="10977" y="5332"/>
                </a:cubicBezTo>
                <a:cubicBezTo>
                  <a:pt x="11567" y="6699"/>
                  <a:pt x="10859" y="8203"/>
                  <a:pt x="12039" y="9433"/>
                </a:cubicBezTo>
                <a:cubicBezTo>
                  <a:pt x="12748" y="10344"/>
                  <a:pt x="15344" y="10937"/>
                  <a:pt x="16879" y="11711"/>
                </a:cubicBezTo>
                <a:cubicBezTo>
                  <a:pt x="18649" y="12759"/>
                  <a:pt x="21600" y="13762"/>
                  <a:pt x="21600" y="15038"/>
                </a:cubicBezTo>
                <a:cubicBezTo>
                  <a:pt x="21600" y="16177"/>
                  <a:pt x="18649" y="17089"/>
                  <a:pt x="16289" y="17863"/>
                </a:cubicBezTo>
                <a:cubicBezTo>
                  <a:pt x="14400" y="18547"/>
                  <a:pt x="11803" y="18911"/>
                  <a:pt x="9443" y="19458"/>
                </a:cubicBezTo>
                <a:cubicBezTo>
                  <a:pt x="7436" y="19914"/>
                  <a:pt x="4131" y="21600"/>
                  <a:pt x="3187" y="20689"/>
                </a:cubicBezTo>
              </a:path>
            </a:pathLst>
          </a:custGeom>
          <a:solidFill>
            <a:srgbClr val="999999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37000" y="1414440"/>
            <a:ext cx="44280" cy="519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6480" y="20813"/>
                  <a:pt x="12960" y="19913"/>
                  <a:pt x="15984" y="18975"/>
                </a:cubicBezTo>
                <a:cubicBezTo>
                  <a:pt x="19440" y="17663"/>
                  <a:pt x="18144" y="16313"/>
                  <a:pt x="18576" y="15038"/>
                </a:cubicBezTo>
                <a:cubicBezTo>
                  <a:pt x="18576" y="14063"/>
                  <a:pt x="19440" y="13050"/>
                  <a:pt x="18576" y="12038"/>
                </a:cubicBezTo>
                <a:cubicBezTo>
                  <a:pt x="18144" y="11250"/>
                  <a:pt x="14256" y="10425"/>
                  <a:pt x="12960" y="9675"/>
                </a:cubicBezTo>
                <a:cubicBezTo>
                  <a:pt x="12096" y="8738"/>
                  <a:pt x="10800" y="7988"/>
                  <a:pt x="11664" y="7050"/>
                </a:cubicBezTo>
                <a:cubicBezTo>
                  <a:pt x="11664" y="6488"/>
                  <a:pt x="15120" y="6038"/>
                  <a:pt x="15984" y="5550"/>
                </a:cubicBezTo>
                <a:cubicBezTo>
                  <a:pt x="21600" y="3113"/>
                  <a:pt x="19440" y="488"/>
                  <a:pt x="1944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4520" y="1471680"/>
            <a:ext cx="42840" cy="47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100" y="21600"/>
                </a:moveTo>
                <a:cubicBezTo>
                  <a:pt x="6750" y="20985"/>
                  <a:pt x="5850" y="20288"/>
                  <a:pt x="5850" y="19551"/>
                </a:cubicBezTo>
                <a:cubicBezTo>
                  <a:pt x="5850" y="18567"/>
                  <a:pt x="6750" y="17624"/>
                  <a:pt x="9000" y="16723"/>
                </a:cubicBezTo>
                <a:cubicBezTo>
                  <a:pt x="11700" y="15575"/>
                  <a:pt x="21600" y="14550"/>
                  <a:pt x="21600" y="13321"/>
                </a:cubicBezTo>
                <a:cubicBezTo>
                  <a:pt x="21600" y="12419"/>
                  <a:pt x="12600" y="11804"/>
                  <a:pt x="9450" y="11066"/>
                </a:cubicBezTo>
                <a:cubicBezTo>
                  <a:pt x="6750" y="10247"/>
                  <a:pt x="5850" y="9427"/>
                  <a:pt x="3600" y="8689"/>
                </a:cubicBezTo>
                <a:cubicBezTo>
                  <a:pt x="2250" y="7869"/>
                  <a:pt x="0" y="7091"/>
                  <a:pt x="0" y="6271"/>
                </a:cubicBezTo>
                <a:cubicBezTo>
                  <a:pt x="0" y="5861"/>
                  <a:pt x="1350" y="5533"/>
                  <a:pt x="2250" y="5041"/>
                </a:cubicBezTo>
                <a:cubicBezTo>
                  <a:pt x="2700" y="4713"/>
                  <a:pt x="2700" y="4427"/>
                  <a:pt x="3600" y="4099"/>
                </a:cubicBezTo>
                <a:cubicBezTo>
                  <a:pt x="4950" y="3771"/>
                  <a:pt x="5850" y="3197"/>
                  <a:pt x="6750" y="3074"/>
                </a:cubicBezTo>
                <a:cubicBezTo>
                  <a:pt x="10350" y="2459"/>
                  <a:pt x="5850" y="697"/>
                  <a:pt x="495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14760" y="1457280"/>
            <a:ext cx="52200" cy="48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979" y="21600"/>
                </a:moveTo>
                <a:cubicBezTo>
                  <a:pt x="2979" y="21600"/>
                  <a:pt x="2234" y="21600"/>
                  <a:pt x="2234" y="21600"/>
                </a:cubicBezTo>
                <a:cubicBezTo>
                  <a:pt x="2234" y="20546"/>
                  <a:pt x="0" y="19452"/>
                  <a:pt x="2979" y="18439"/>
                </a:cubicBezTo>
                <a:cubicBezTo>
                  <a:pt x="5586" y="17629"/>
                  <a:pt x="16014" y="17021"/>
                  <a:pt x="17876" y="16129"/>
                </a:cubicBezTo>
                <a:cubicBezTo>
                  <a:pt x="21600" y="15197"/>
                  <a:pt x="19738" y="14062"/>
                  <a:pt x="18993" y="12968"/>
                </a:cubicBezTo>
                <a:cubicBezTo>
                  <a:pt x="17876" y="12360"/>
                  <a:pt x="16014" y="11752"/>
                  <a:pt x="14152" y="11144"/>
                </a:cubicBezTo>
                <a:cubicBezTo>
                  <a:pt x="12290" y="10456"/>
                  <a:pt x="9310" y="9807"/>
                  <a:pt x="8566" y="8997"/>
                </a:cubicBezTo>
                <a:cubicBezTo>
                  <a:pt x="7821" y="8389"/>
                  <a:pt x="8566" y="7781"/>
                  <a:pt x="9310" y="7173"/>
                </a:cubicBezTo>
                <a:cubicBezTo>
                  <a:pt x="9310" y="6808"/>
                  <a:pt x="16014" y="5592"/>
                  <a:pt x="14897" y="4377"/>
                </a:cubicBezTo>
                <a:cubicBezTo>
                  <a:pt x="13407" y="2634"/>
                  <a:pt x="0" y="0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05120" y="1800360"/>
            <a:ext cx="61920" cy="72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3494" y="16595"/>
                  <a:pt x="6353" y="11327"/>
                  <a:pt x="7306" y="6585"/>
                </a:cubicBezTo>
                <a:cubicBezTo>
                  <a:pt x="8259" y="5268"/>
                  <a:pt x="4129" y="3424"/>
                  <a:pt x="5718" y="3161"/>
                </a:cubicBezTo>
                <a:cubicBezTo>
                  <a:pt x="10482" y="790"/>
                  <a:pt x="16200" y="790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43280" y="1811160"/>
            <a:ext cx="54000" cy="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720" y="18360"/>
                  <a:pt x="1800" y="14688"/>
                  <a:pt x="3600" y="11448"/>
                </a:cubicBezTo>
                <a:cubicBezTo>
                  <a:pt x="4680" y="9936"/>
                  <a:pt x="7200" y="9288"/>
                  <a:pt x="8280" y="8208"/>
                </a:cubicBezTo>
                <a:cubicBezTo>
                  <a:pt x="10800" y="6048"/>
                  <a:pt x="13320" y="3456"/>
                  <a:pt x="16200" y="1728"/>
                </a:cubicBezTo>
                <a:cubicBezTo>
                  <a:pt x="18000" y="648"/>
                  <a:pt x="19800" y="216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83200" y="1293840"/>
            <a:ext cx="120600" cy="133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964" y="1168"/>
                </a:moveTo>
                <a:cubicBezTo>
                  <a:pt x="2418" y="2627"/>
                  <a:pt x="806" y="6568"/>
                  <a:pt x="322" y="9632"/>
                </a:cubicBezTo>
                <a:cubicBezTo>
                  <a:pt x="0" y="13135"/>
                  <a:pt x="322" y="17951"/>
                  <a:pt x="3546" y="20141"/>
                </a:cubicBezTo>
                <a:cubicBezTo>
                  <a:pt x="5964" y="21600"/>
                  <a:pt x="9672" y="19119"/>
                  <a:pt x="12412" y="17514"/>
                </a:cubicBezTo>
                <a:cubicBezTo>
                  <a:pt x="15958" y="15762"/>
                  <a:pt x="19666" y="13135"/>
                  <a:pt x="20794" y="9632"/>
                </a:cubicBezTo>
                <a:cubicBezTo>
                  <a:pt x="21600" y="7297"/>
                  <a:pt x="19343" y="4086"/>
                  <a:pt x="16925" y="2919"/>
                </a:cubicBezTo>
                <a:cubicBezTo>
                  <a:pt x="14024" y="876"/>
                  <a:pt x="9510" y="0"/>
                  <a:pt x="5964" y="1168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65480" y="1360440"/>
            <a:ext cx="108000" cy="9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060" y="2600"/>
                </a:moveTo>
                <a:cubicBezTo>
                  <a:pt x="7200" y="5600"/>
                  <a:pt x="0" y="10200"/>
                  <a:pt x="1620" y="16000"/>
                </a:cubicBezTo>
                <a:cubicBezTo>
                  <a:pt x="3060" y="21000"/>
                  <a:pt x="12060" y="21600"/>
                  <a:pt x="16200" y="18600"/>
                </a:cubicBezTo>
                <a:cubicBezTo>
                  <a:pt x="20520" y="15600"/>
                  <a:pt x="21600" y="8200"/>
                  <a:pt x="20160" y="3000"/>
                </a:cubicBezTo>
                <a:cubicBezTo>
                  <a:pt x="19260" y="0"/>
                  <a:pt x="14220" y="1000"/>
                  <a:pt x="12060" y="2600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8640" y="1357200"/>
            <a:ext cx="265320" cy="18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661" y="738"/>
                </a:moveTo>
                <a:cubicBezTo>
                  <a:pt x="1831" y="2318"/>
                  <a:pt x="0" y="5479"/>
                  <a:pt x="0" y="8640"/>
                </a:cubicBezTo>
                <a:cubicBezTo>
                  <a:pt x="0" y="11485"/>
                  <a:pt x="2197" y="13592"/>
                  <a:pt x="3515" y="16016"/>
                </a:cubicBezTo>
                <a:cubicBezTo>
                  <a:pt x="4247" y="17596"/>
                  <a:pt x="4906" y="20230"/>
                  <a:pt x="6370" y="20757"/>
                </a:cubicBezTo>
                <a:cubicBezTo>
                  <a:pt x="8786" y="21600"/>
                  <a:pt x="11496" y="21284"/>
                  <a:pt x="13912" y="19914"/>
                </a:cubicBezTo>
                <a:cubicBezTo>
                  <a:pt x="15596" y="18650"/>
                  <a:pt x="16328" y="15805"/>
                  <a:pt x="17573" y="13698"/>
                </a:cubicBezTo>
                <a:cubicBezTo>
                  <a:pt x="18671" y="12012"/>
                  <a:pt x="20721" y="11063"/>
                  <a:pt x="21234" y="8640"/>
                </a:cubicBezTo>
                <a:cubicBezTo>
                  <a:pt x="21600" y="6322"/>
                  <a:pt x="21234" y="2002"/>
                  <a:pt x="19623" y="2002"/>
                </a:cubicBezTo>
                <a:cubicBezTo>
                  <a:pt x="16841" y="2002"/>
                  <a:pt x="15230" y="7060"/>
                  <a:pt x="12594" y="8640"/>
                </a:cubicBezTo>
                <a:cubicBezTo>
                  <a:pt x="10983" y="9483"/>
                  <a:pt x="9153" y="9904"/>
                  <a:pt x="7688" y="8851"/>
                </a:cubicBezTo>
                <a:cubicBezTo>
                  <a:pt x="6590" y="7902"/>
                  <a:pt x="6809" y="5479"/>
                  <a:pt x="6004" y="3899"/>
                </a:cubicBezTo>
                <a:cubicBezTo>
                  <a:pt x="5345" y="2529"/>
                  <a:pt x="4613" y="0"/>
                  <a:pt x="3661" y="738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79760" y="1327320"/>
            <a:ext cx="354240" cy="2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554" y="11046"/>
                </a:moveTo>
                <a:cubicBezTo>
                  <a:pt x="15444" y="11046"/>
                  <a:pt x="15554" y="10765"/>
                  <a:pt x="15554" y="10765"/>
                </a:cubicBezTo>
                <a:cubicBezTo>
                  <a:pt x="14730" y="9850"/>
                  <a:pt x="13466" y="9358"/>
                  <a:pt x="13081" y="8091"/>
                </a:cubicBezTo>
                <a:cubicBezTo>
                  <a:pt x="12531" y="5980"/>
                  <a:pt x="14290" y="3025"/>
                  <a:pt x="13081" y="1407"/>
                </a:cubicBezTo>
                <a:cubicBezTo>
                  <a:pt x="12147" y="0"/>
                  <a:pt x="10223" y="704"/>
                  <a:pt x="8959" y="2111"/>
                </a:cubicBezTo>
                <a:cubicBezTo>
                  <a:pt x="8134" y="3025"/>
                  <a:pt x="7695" y="4573"/>
                  <a:pt x="6595" y="4714"/>
                </a:cubicBezTo>
                <a:cubicBezTo>
                  <a:pt x="5771" y="4925"/>
                  <a:pt x="5221" y="3518"/>
                  <a:pt x="4562" y="2955"/>
                </a:cubicBezTo>
                <a:cubicBezTo>
                  <a:pt x="4122" y="2463"/>
                  <a:pt x="3902" y="1548"/>
                  <a:pt x="3463" y="1548"/>
                </a:cubicBezTo>
                <a:cubicBezTo>
                  <a:pt x="2473" y="1548"/>
                  <a:pt x="1264" y="1759"/>
                  <a:pt x="824" y="2814"/>
                </a:cubicBezTo>
                <a:cubicBezTo>
                  <a:pt x="165" y="4221"/>
                  <a:pt x="0" y="6192"/>
                  <a:pt x="330" y="7880"/>
                </a:cubicBezTo>
                <a:cubicBezTo>
                  <a:pt x="605" y="8936"/>
                  <a:pt x="1649" y="9358"/>
                  <a:pt x="2473" y="9498"/>
                </a:cubicBezTo>
                <a:cubicBezTo>
                  <a:pt x="3902" y="9850"/>
                  <a:pt x="5386" y="8302"/>
                  <a:pt x="6595" y="9287"/>
                </a:cubicBezTo>
                <a:cubicBezTo>
                  <a:pt x="7860" y="10202"/>
                  <a:pt x="8134" y="12524"/>
                  <a:pt x="8959" y="14212"/>
                </a:cubicBezTo>
                <a:cubicBezTo>
                  <a:pt x="9398" y="14986"/>
                  <a:pt x="9893" y="15690"/>
                  <a:pt x="10498" y="16323"/>
                </a:cubicBezTo>
                <a:cubicBezTo>
                  <a:pt x="11432" y="17379"/>
                  <a:pt x="12531" y="18293"/>
                  <a:pt x="13521" y="18997"/>
                </a:cubicBezTo>
                <a:cubicBezTo>
                  <a:pt x="14455" y="19841"/>
                  <a:pt x="15554" y="21600"/>
                  <a:pt x="16489" y="20967"/>
                </a:cubicBezTo>
                <a:cubicBezTo>
                  <a:pt x="18467" y="19700"/>
                  <a:pt x="20061" y="17097"/>
                  <a:pt x="20940" y="14423"/>
                </a:cubicBezTo>
                <a:cubicBezTo>
                  <a:pt x="21600" y="12664"/>
                  <a:pt x="21600" y="10554"/>
                  <a:pt x="20776" y="9147"/>
                </a:cubicBezTo>
                <a:cubicBezTo>
                  <a:pt x="20226" y="8232"/>
                  <a:pt x="19127" y="8936"/>
                  <a:pt x="18302" y="9287"/>
                </a:cubicBezTo>
                <a:cubicBezTo>
                  <a:pt x="17313" y="9498"/>
                  <a:pt x="16489" y="10554"/>
                  <a:pt x="15554" y="11046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4680" y="1449360"/>
            <a:ext cx="165240" cy="169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239" y="2501"/>
                </a:moveTo>
                <a:cubicBezTo>
                  <a:pt x="21600" y="5457"/>
                  <a:pt x="16761" y="9663"/>
                  <a:pt x="14990" y="12733"/>
                </a:cubicBezTo>
                <a:cubicBezTo>
                  <a:pt x="13220" y="15688"/>
                  <a:pt x="12039" y="19099"/>
                  <a:pt x="8852" y="20804"/>
                </a:cubicBezTo>
                <a:cubicBezTo>
                  <a:pt x="7436" y="21600"/>
                  <a:pt x="5075" y="20236"/>
                  <a:pt x="4367" y="18758"/>
                </a:cubicBezTo>
                <a:cubicBezTo>
                  <a:pt x="2125" y="15120"/>
                  <a:pt x="0" y="10800"/>
                  <a:pt x="590" y="6594"/>
                </a:cubicBezTo>
                <a:cubicBezTo>
                  <a:pt x="826" y="4775"/>
                  <a:pt x="4131" y="4206"/>
                  <a:pt x="6138" y="4547"/>
                </a:cubicBezTo>
                <a:cubicBezTo>
                  <a:pt x="7908" y="4775"/>
                  <a:pt x="8852" y="7617"/>
                  <a:pt x="10623" y="7389"/>
                </a:cubicBezTo>
                <a:cubicBezTo>
                  <a:pt x="13928" y="6821"/>
                  <a:pt x="17351" y="0"/>
                  <a:pt x="19239" y="2501"/>
                </a:cubicBez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57640" y="1265400"/>
            <a:ext cx="103320" cy="10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8460"/>
                </a:moveTo>
                <a:cubicBezTo>
                  <a:pt x="0" y="12060"/>
                  <a:pt x="3193" y="15300"/>
                  <a:pt x="6198" y="17460"/>
                </a:cubicBezTo>
                <a:cubicBezTo>
                  <a:pt x="9391" y="19800"/>
                  <a:pt x="14087" y="21600"/>
                  <a:pt x="17468" y="20340"/>
                </a:cubicBezTo>
                <a:cubicBezTo>
                  <a:pt x="20285" y="19800"/>
                  <a:pt x="21600" y="15300"/>
                  <a:pt x="21224" y="12600"/>
                </a:cubicBezTo>
                <a:cubicBezTo>
                  <a:pt x="20285" y="9000"/>
                  <a:pt x="17468" y="5760"/>
                  <a:pt x="14463" y="3060"/>
                </a:cubicBezTo>
                <a:cubicBezTo>
                  <a:pt x="12209" y="1440"/>
                  <a:pt x="9016" y="0"/>
                  <a:pt x="6574" y="900"/>
                </a:cubicBezTo>
                <a:cubicBezTo>
                  <a:pt x="3381" y="1800"/>
                  <a:pt x="0" y="5040"/>
                  <a:pt x="0" y="846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03640" y="1268280"/>
            <a:ext cx="109800" cy="123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16" y="4257"/>
                </a:moveTo>
                <a:cubicBezTo>
                  <a:pt x="0" y="7095"/>
                  <a:pt x="0" y="10721"/>
                  <a:pt x="885" y="13401"/>
                </a:cubicBezTo>
                <a:cubicBezTo>
                  <a:pt x="2656" y="16555"/>
                  <a:pt x="5311" y="19708"/>
                  <a:pt x="8852" y="20812"/>
                </a:cubicBezTo>
                <a:cubicBezTo>
                  <a:pt x="12393" y="21600"/>
                  <a:pt x="16289" y="19708"/>
                  <a:pt x="18590" y="17343"/>
                </a:cubicBezTo>
                <a:cubicBezTo>
                  <a:pt x="20715" y="14978"/>
                  <a:pt x="21600" y="11352"/>
                  <a:pt x="21600" y="7883"/>
                </a:cubicBezTo>
                <a:cubicBezTo>
                  <a:pt x="21600" y="5518"/>
                  <a:pt x="20361" y="3153"/>
                  <a:pt x="18059" y="1892"/>
                </a:cubicBezTo>
                <a:cubicBezTo>
                  <a:pt x="15403" y="315"/>
                  <a:pt x="12039" y="0"/>
                  <a:pt x="8852" y="315"/>
                </a:cubicBezTo>
                <a:cubicBezTo>
                  <a:pt x="5843" y="473"/>
                  <a:pt x="3010" y="1892"/>
                  <a:pt x="1416" y="4257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29240" y="1474920"/>
            <a:ext cx="135000" cy="139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96" y="13239"/>
                </a:moveTo>
                <a:cubicBezTo>
                  <a:pt x="3456" y="17001"/>
                  <a:pt x="7776" y="21600"/>
                  <a:pt x="12528" y="21600"/>
                </a:cubicBezTo>
                <a:cubicBezTo>
                  <a:pt x="16416" y="21600"/>
                  <a:pt x="18288" y="16583"/>
                  <a:pt x="20160" y="13239"/>
                </a:cubicBezTo>
                <a:cubicBezTo>
                  <a:pt x="21168" y="11148"/>
                  <a:pt x="21600" y="8222"/>
                  <a:pt x="20448" y="6271"/>
                </a:cubicBezTo>
                <a:cubicBezTo>
                  <a:pt x="18288" y="3345"/>
                  <a:pt x="14688" y="697"/>
                  <a:pt x="10656" y="279"/>
                </a:cubicBezTo>
                <a:cubicBezTo>
                  <a:pt x="7488" y="0"/>
                  <a:pt x="5040" y="2787"/>
                  <a:pt x="3168" y="5156"/>
                </a:cubicBezTo>
                <a:cubicBezTo>
                  <a:pt x="1728" y="7525"/>
                  <a:pt x="0" y="10730"/>
                  <a:pt x="1296" y="13239"/>
                </a:cubicBez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16480" y="1681200"/>
            <a:ext cx="25200" cy="14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029" y="21600"/>
                </a:moveTo>
                <a:cubicBezTo>
                  <a:pt x="4629" y="18267"/>
                  <a:pt x="0" y="14933"/>
                  <a:pt x="0" y="11333"/>
                </a:cubicBezTo>
                <a:cubicBezTo>
                  <a:pt x="0" y="8533"/>
                  <a:pt x="4629" y="5600"/>
                  <a:pt x="10029" y="2933"/>
                </a:cubicBezTo>
                <a:cubicBezTo>
                  <a:pt x="11571" y="1600"/>
                  <a:pt x="16200" y="933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10000" y="1441440"/>
            <a:ext cx="38160" cy="18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535" y="21600"/>
                </a:moveTo>
                <a:cubicBezTo>
                  <a:pt x="11051" y="19646"/>
                  <a:pt x="13563" y="17486"/>
                  <a:pt x="15070" y="15223"/>
                </a:cubicBezTo>
                <a:cubicBezTo>
                  <a:pt x="17581" y="13680"/>
                  <a:pt x="21600" y="12343"/>
                  <a:pt x="21098" y="10800"/>
                </a:cubicBezTo>
                <a:cubicBezTo>
                  <a:pt x="20093" y="8023"/>
                  <a:pt x="15070" y="5246"/>
                  <a:pt x="10047" y="2674"/>
                </a:cubicBezTo>
                <a:cubicBezTo>
                  <a:pt x="7535" y="1543"/>
                  <a:pt x="5023" y="823"/>
                  <a:pt x="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83160" y="1482840"/>
            <a:ext cx="36360" cy="301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754" y="21600"/>
                </a:moveTo>
                <a:cubicBezTo>
                  <a:pt x="4985" y="20181"/>
                  <a:pt x="2769" y="18763"/>
                  <a:pt x="1108" y="17409"/>
                </a:cubicBezTo>
                <a:cubicBezTo>
                  <a:pt x="0" y="15990"/>
                  <a:pt x="1108" y="14507"/>
                  <a:pt x="1108" y="13089"/>
                </a:cubicBezTo>
                <a:cubicBezTo>
                  <a:pt x="1108" y="11993"/>
                  <a:pt x="0" y="10961"/>
                  <a:pt x="0" y="9865"/>
                </a:cubicBezTo>
                <a:cubicBezTo>
                  <a:pt x="0" y="9414"/>
                  <a:pt x="0" y="9091"/>
                  <a:pt x="0" y="8704"/>
                </a:cubicBezTo>
                <a:cubicBezTo>
                  <a:pt x="1108" y="6770"/>
                  <a:pt x="0" y="4836"/>
                  <a:pt x="4985" y="2901"/>
                </a:cubicBezTo>
                <a:cubicBezTo>
                  <a:pt x="7754" y="1805"/>
                  <a:pt x="14954" y="967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16160" y="1960560"/>
            <a:ext cx="2141640" cy="193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197"/>
                </a:moveTo>
                <a:cubicBezTo>
                  <a:pt x="363" y="956"/>
                  <a:pt x="953" y="674"/>
                  <a:pt x="1316" y="443"/>
                </a:cubicBezTo>
                <a:cubicBezTo>
                  <a:pt x="1552" y="292"/>
                  <a:pt x="1770" y="0"/>
                  <a:pt x="2042" y="20"/>
                </a:cubicBezTo>
                <a:cubicBezTo>
                  <a:pt x="2614" y="91"/>
                  <a:pt x="3140" y="503"/>
                  <a:pt x="3703" y="674"/>
                </a:cubicBezTo>
                <a:cubicBezTo>
                  <a:pt x="4157" y="825"/>
                  <a:pt x="4610" y="1026"/>
                  <a:pt x="5064" y="996"/>
                </a:cubicBezTo>
                <a:cubicBezTo>
                  <a:pt x="5808" y="976"/>
                  <a:pt x="6534" y="724"/>
                  <a:pt x="7270" y="594"/>
                </a:cubicBezTo>
                <a:cubicBezTo>
                  <a:pt x="7542" y="543"/>
                  <a:pt x="7896" y="272"/>
                  <a:pt x="8059" y="473"/>
                </a:cubicBezTo>
                <a:cubicBezTo>
                  <a:pt x="8331" y="825"/>
                  <a:pt x="8331" y="1378"/>
                  <a:pt x="8241" y="1831"/>
                </a:cubicBezTo>
                <a:cubicBezTo>
                  <a:pt x="8123" y="2384"/>
                  <a:pt x="7487" y="2706"/>
                  <a:pt x="7469" y="3239"/>
                </a:cubicBezTo>
                <a:cubicBezTo>
                  <a:pt x="7442" y="3642"/>
                  <a:pt x="7850" y="3974"/>
                  <a:pt x="8150" y="4225"/>
                </a:cubicBezTo>
                <a:cubicBezTo>
                  <a:pt x="8495" y="4527"/>
                  <a:pt x="9121" y="4427"/>
                  <a:pt x="9330" y="4829"/>
                </a:cubicBezTo>
                <a:cubicBezTo>
                  <a:pt x="9620" y="5403"/>
                  <a:pt x="9121" y="6278"/>
                  <a:pt x="9511" y="6761"/>
                </a:cubicBezTo>
                <a:cubicBezTo>
                  <a:pt x="9784" y="7093"/>
                  <a:pt x="10464" y="6338"/>
                  <a:pt x="10764" y="6660"/>
                </a:cubicBezTo>
                <a:cubicBezTo>
                  <a:pt x="11172" y="7093"/>
                  <a:pt x="10809" y="7988"/>
                  <a:pt x="11145" y="8471"/>
                </a:cubicBezTo>
                <a:cubicBezTo>
                  <a:pt x="11372" y="8843"/>
                  <a:pt x="11980" y="8622"/>
                  <a:pt x="12279" y="8904"/>
                </a:cubicBezTo>
                <a:cubicBezTo>
                  <a:pt x="12688" y="9276"/>
                  <a:pt x="12851" y="9879"/>
                  <a:pt x="13205" y="10312"/>
                </a:cubicBezTo>
                <a:cubicBezTo>
                  <a:pt x="13505" y="10684"/>
                  <a:pt x="14113" y="10805"/>
                  <a:pt x="14276" y="11288"/>
                </a:cubicBezTo>
                <a:cubicBezTo>
                  <a:pt x="14621" y="12374"/>
                  <a:pt x="13777" y="14024"/>
                  <a:pt x="14594" y="14759"/>
                </a:cubicBezTo>
                <a:cubicBezTo>
                  <a:pt x="15202" y="15292"/>
                  <a:pt x="15383" y="13280"/>
                  <a:pt x="15610" y="12465"/>
                </a:cubicBezTo>
                <a:cubicBezTo>
                  <a:pt x="15728" y="12042"/>
                  <a:pt x="15229" y="10986"/>
                  <a:pt x="15610" y="11107"/>
                </a:cubicBezTo>
                <a:cubicBezTo>
                  <a:pt x="16427" y="11368"/>
                  <a:pt x="16890" y="12364"/>
                  <a:pt x="17452" y="13069"/>
                </a:cubicBezTo>
                <a:cubicBezTo>
                  <a:pt x="17788" y="13481"/>
                  <a:pt x="17906" y="14125"/>
                  <a:pt x="18315" y="14427"/>
                </a:cubicBezTo>
                <a:cubicBezTo>
                  <a:pt x="18877" y="14859"/>
                  <a:pt x="19658" y="14809"/>
                  <a:pt x="20266" y="15161"/>
                </a:cubicBezTo>
                <a:cubicBezTo>
                  <a:pt x="20702" y="15413"/>
                  <a:pt x="21310" y="15694"/>
                  <a:pt x="21428" y="16238"/>
                </a:cubicBezTo>
                <a:cubicBezTo>
                  <a:pt x="21600" y="17123"/>
                  <a:pt x="21446" y="18129"/>
                  <a:pt x="21019" y="18914"/>
                </a:cubicBezTo>
                <a:cubicBezTo>
                  <a:pt x="20674" y="19517"/>
                  <a:pt x="19903" y="19668"/>
                  <a:pt x="19331" y="19940"/>
                </a:cubicBezTo>
                <a:cubicBezTo>
                  <a:pt x="18814" y="20192"/>
                  <a:pt x="18269" y="20272"/>
                  <a:pt x="17770" y="20513"/>
                </a:cubicBezTo>
                <a:cubicBezTo>
                  <a:pt x="17498" y="20644"/>
                  <a:pt x="16999" y="20674"/>
                  <a:pt x="17017" y="20996"/>
                </a:cubicBezTo>
                <a:cubicBezTo>
                  <a:pt x="17026" y="21328"/>
                  <a:pt x="17707" y="21449"/>
                  <a:pt x="17970" y="21600"/>
                </a:cubicBezTo>
              </a:path>
            </a:pathLst>
          </a:custGeom>
          <a:noFill/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20720" y="1960560"/>
            <a:ext cx="4537080" cy="1944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0" y="21600"/>
                  <a:pt x="0" y="16455"/>
                  <a:pt x="0" y="16455"/>
                </a:cubicBezTo>
                <a:cubicBezTo>
                  <a:pt x="523" y="16305"/>
                  <a:pt x="1050" y="16055"/>
                  <a:pt x="1572" y="15785"/>
                </a:cubicBezTo>
                <a:cubicBezTo>
                  <a:pt x="2635" y="15206"/>
                  <a:pt x="3663" y="14327"/>
                  <a:pt x="4670" y="13338"/>
                </a:cubicBezTo>
                <a:cubicBezTo>
                  <a:pt x="5214" y="12828"/>
                  <a:pt x="5741" y="12159"/>
                  <a:pt x="6233" y="11409"/>
                </a:cubicBezTo>
                <a:cubicBezTo>
                  <a:pt x="7047" y="10161"/>
                  <a:pt x="7831" y="8762"/>
                  <a:pt x="8388" y="7713"/>
                </a:cubicBezTo>
                <a:cubicBezTo>
                  <a:pt x="9104" y="6384"/>
                  <a:pt x="9609" y="5395"/>
                  <a:pt x="10080" y="4336"/>
                </a:cubicBezTo>
                <a:cubicBezTo>
                  <a:pt x="10504" y="3347"/>
                  <a:pt x="10933" y="2388"/>
                  <a:pt x="11331" y="1349"/>
                </a:cubicBezTo>
                <a:cubicBezTo>
                  <a:pt x="11344" y="1319"/>
                  <a:pt x="11365" y="1269"/>
                  <a:pt x="11383" y="1219"/>
                </a:cubicBezTo>
                <a:cubicBezTo>
                  <a:pt x="11558" y="989"/>
                  <a:pt x="11854" y="669"/>
                  <a:pt x="12025" y="440"/>
                </a:cubicBezTo>
                <a:cubicBezTo>
                  <a:pt x="12137" y="290"/>
                  <a:pt x="12239" y="0"/>
                  <a:pt x="12368" y="20"/>
                </a:cubicBezTo>
                <a:cubicBezTo>
                  <a:pt x="12638" y="90"/>
                  <a:pt x="12886" y="500"/>
                  <a:pt x="13152" y="669"/>
                </a:cubicBezTo>
                <a:cubicBezTo>
                  <a:pt x="13366" y="819"/>
                  <a:pt x="13580" y="1019"/>
                  <a:pt x="13795" y="989"/>
                </a:cubicBezTo>
                <a:cubicBezTo>
                  <a:pt x="14146" y="969"/>
                  <a:pt x="14489" y="719"/>
                  <a:pt x="14836" y="589"/>
                </a:cubicBezTo>
                <a:cubicBezTo>
                  <a:pt x="14964" y="540"/>
                  <a:pt x="15131" y="270"/>
                  <a:pt x="15208" y="470"/>
                </a:cubicBezTo>
                <a:cubicBezTo>
                  <a:pt x="15337" y="819"/>
                  <a:pt x="15337" y="1369"/>
                  <a:pt x="15294" y="1818"/>
                </a:cubicBezTo>
                <a:cubicBezTo>
                  <a:pt x="15238" y="2368"/>
                  <a:pt x="14938" y="2688"/>
                  <a:pt x="14930" y="3217"/>
                </a:cubicBezTo>
                <a:cubicBezTo>
                  <a:pt x="14917" y="3617"/>
                  <a:pt x="15110" y="3946"/>
                  <a:pt x="15251" y="4196"/>
                </a:cubicBezTo>
                <a:cubicBezTo>
                  <a:pt x="15414" y="4496"/>
                  <a:pt x="15709" y="4396"/>
                  <a:pt x="15808" y="4796"/>
                </a:cubicBezTo>
                <a:cubicBezTo>
                  <a:pt x="15945" y="5365"/>
                  <a:pt x="15709" y="6234"/>
                  <a:pt x="15894" y="6714"/>
                </a:cubicBezTo>
                <a:cubicBezTo>
                  <a:pt x="16022" y="7043"/>
                  <a:pt x="16344" y="6294"/>
                  <a:pt x="16485" y="6614"/>
                </a:cubicBezTo>
                <a:cubicBezTo>
                  <a:pt x="16678" y="7043"/>
                  <a:pt x="16506" y="7933"/>
                  <a:pt x="16665" y="8412"/>
                </a:cubicBezTo>
                <a:cubicBezTo>
                  <a:pt x="16772" y="8782"/>
                  <a:pt x="17059" y="8562"/>
                  <a:pt x="17200" y="8842"/>
                </a:cubicBezTo>
                <a:cubicBezTo>
                  <a:pt x="17393" y="9211"/>
                  <a:pt x="17470" y="9811"/>
                  <a:pt x="17637" y="10241"/>
                </a:cubicBezTo>
                <a:cubicBezTo>
                  <a:pt x="17779" y="10610"/>
                  <a:pt x="18066" y="10730"/>
                  <a:pt x="18143" y="11210"/>
                </a:cubicBezTo>
                <a:cubicBezTo>
                  <a:pt x="18306" y="12289"/>
                  <a:pt x="17907" y="13927"/>
                  <a:pt x="18293" y="14656"/>
                </a:cubicBezTo>
                <a:cubicBezTo>
                  <a:pt x="18580" y="15186"/>
                  <a:pt x="18665" y="13188"/>
                  <a:pt x="18773" y="12379"/>
                </a:cubicBezTo>
                <a:cubicBezTo>
                  <a:pt x="18828" y="11959"/>
                  <a:pt x="18593" y="10910"/>
                  <a:pt x="18773" y="11030"/>
                </a:cubicBezTo>
                <a:cubicBezTo>
                  <a:pt x="19158" y="11290"/>
                  <a:pt x="19377" y="12279"/>
                  <a:pt x="19642" y="12978"/>
                </a:cubicBezTo>
                <a:cubicBezTo>
                  <a:pt x="19801" y="13388"/>
                  <a:pt x="19856" y="14027"/>
                  <a:pt x="20049" y="14327"/>
                </a:cubicBezTo>
                <a:cubicBezTo>
                  <a:pt x="20315" y="14756"/>
                  <a:pt x="20683" y="14706"/>
                  <a:pt x="20970" y="15056"/>
                </a:cubicBezTo>
                <a:cubicBezTo>
                  <a:pt x="21176" y="15306"/>
                  <a:pt x="21463" y="15586"/>
                  <a:pt x="21519" y="16125"/>
                </a:cubicBezTo>
                <a:cubicBezTo>
                  <a:pt x="21600" y="17004"/>
                  <a:pt x="21527" y="18003"/>
                  <a:pt x="21326" y="18783"/>
                </a:cubicBezTo>
                <a:cubicBezTo>
                  <a:pt x="21163" y="19382"/>
                  <a:pt x="20799" y="19532"/>
                  <a:pt x="20529" y="19802"/>
                </a:cubicBezTo>
                <a:cubicBezTo>
                  <a:pt x="20285" y="20051"/>
                  <a:pt x="20028" y="20131"/>
                  <a:pt x="19792" y="20371"/>
                </a:cubicBezTo>
                <a:cubicBezTo>
                  <a:pt x="19664" y="20501"/>
                  <a:pt x="19428" y="20531"/>
                  <a:pt x="19437" y="20851"/>
                </a:cubicBezTo>
                <a:cubicBezTo>
                  <a:pt x="19441" y="21180"/>
                  <a:pt x="19762" y="21300"/>
                  <a:pt x="19886" y="21450"/>
                </a:cubicBezTo>
                <a:cubicBezTo>
                  <a:pt x="17543" y="21480"/>
                  <a:pt x="15187" y="21480"/>
                  <a:pt x="12843" y="21500"/>
                </a:cubicBezTo>
                <a:cubicBezTo>
                  <a:pt x="8568" y="21550"/>
                  <a:pt x="4275" y="21580"/>
                  <a:pt x="0" y="21600"/>
                </a:cubicBezTo>
              </a:path>
            </a:pathLst>
          </a:custGeom>
          <a:solidFill>
            <a:srgbClr val="999999"/>
          </a:solidFill>
          <a:ln w="3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87880" y="1573200"/>
            <a:ext cx="782640" cy="5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284" y="6295"/>
                </a:moveTo>
                <a:cubicBezTo>
                  <a:pt x="3327" y="6042"/>
                  <a:pt x="4519" y="6766"/>
                  <a:pt x="5710" y="7200"/>
                </a:cubicBezTo>
                <a:cubicBezTo>
                  <a:pt x="6306" y="7417"/>
                  <a:pt x="7001" y="7670"/>
                  <a:pt x="7299" y="7128"/>
                </a:cubicBezTo>
                <a:cubicBezTo>
                  <a:pt x="7498" y="6766"/>
                  <a:pt x="7448" y="6042"/>
                  <a:pt x="7423" y="5427"/>
                </a:cubicBezTo>
                <a:cubicBezTo>
                  <a:pt x="7299" y="4414"/>
                  <a:pt x="7200" y="3329"/>
                  <a:pt x="7622" y="2858"/>
                </a:cubicBezTo>
                <a:cubicBezTo>
                  <a:pt x="8044" y="2424"/>
                  <a:pt x="8615" y="2714"/>
                  <a:pt x="9161" y="3075"/>
                </a:cubicBezTo>
                <a:cubicBezTo>
                  <a:pt x="9857" y="3618"/>
                  <a:pt x="10229" y="4161"/>
                  <a:pt x="10651" y="4414"/>
                </a:cubicBezTo>
                <a:cubicBezTo>
                  <a:pt x="11172" y="4667"/>
                  <a:pt x="11843" y="4595"/>
                  <a:pt x="12215" y="4052"/>
                </a:cubicBezTo>
                <a:cubicBezTo>
                  <a:pt x="12712" y="3148"/>
                  <a:pt x="12836" y="1881"/>
                  <a:pt x="13407" y="1158"/>
                </a:cubicBezTo>
                <a:cubicBezTo>
                  <a:pt x="14326" y="0"/>
                  <a:pt x="15766" y="72"/>
                  <a:pt x="16932" y="687"/>
                </a:cubicBezTo>
                <a:cubicBezTo>
                  <a:pt x="18174" y="1339"/>
                  <a:pt x="19366" y="2605"/>
                  <a:pt x="19788" y="4486"/>
                </a:cubicBezTo>
                <a:cubicBezTo>
                  <a:pt x="19961" y="5210"/>
                  <a:pt x="20086" y="5861"/>
                  <a:pt x="20110" y="6585"/>
                </a:cubicBezTo>
                <a:cubicBezTo>
                  <a:pt x="20160" y="7381"/>
                  <a:pt x="20160" y="9009"/>
                  <a:pt x="20160" y="9009"/>
                </a:cubicBezTo>
                <a:cubicBezTo>
                  <a:pt x="20160" y="9009"/>
                  <a:pt x="20334" y="6947"/>
                  <a:pt x="20855" y="6838"/>
                </a:cubicBezTo>
                <a:cubicBezTo>
                  <a:pt x="21228" y="6766"/>
                  <a:pt x="21451" y="7417"/>
                  <a:pt x="21526" y="8141"/>
                </a:cubicBezTo>
                <a:cubicBezTo>
                  <a:pt x="21600" y="9226"/>
                  <a:pt x="21575" y="10456"/>
                  <a:pt x="21352" y="11723"/>
                </a:cubicBezTo>
                <a:cubicBezTo>
                  <a:pt x="21153" y="12808"/>
                  <a:pt x="20706" y="14255"/>
                  <a:pt x="19912" y="14798"/>
                </a:cubicBezTo>
                <a:cubicBezTo>
                  <a:pt x="19589" y="15015"/>
                  <a:pt x="19117" y="14726"/>
                  <a:pt x="18794" y="14979"/>
                </a:cubicBezTo>
                <a:cubicBezTo>
                  <a:pt x="18472" y="15196"/>
                  <a:pt x="18223" y="16281"/>
                  <a:pt x="17628" y="16354"/>
                </a:cubicBezTo>
                <a:cubicBezTo>
                  <a:pt x="16510" y="16426"/>
                  <a:pt x="15766" y="14472"/>
                  <a:pt x="14698" y="15558"/>
                </a:cubicBezTo>
                <a:cubicBezTo>
                  <a:pt x="14152" y="16101"/>
                  <a:pt x="14648" y="18452"/>
                  <a:pt x="13903" y="20080"/>
                </a:cubicBezTo>
                <a:cubicBezTo>
                  <a:pt x="13581" y="20768"/>
                  <a:pt x="12141" y="21600"/>
                  <a:pt x="10775" y="21311"/>
                </a:cubicBezTo>
                <a:cubicBezTo>
                  <a:pt x="9534" y="21057"/>
                  <a:pt x="8690" y="20442"/>
                  <a:pt x="8119" y="19538"/>
                </a:cubicBezTo>
                <a:cubicBezTo>
                  <a:pt x="7796" y="18995"/>
                  <a:pt x="7498" y="18235"/>
                  <a:pt x="7200" y="17620"/>
                </a:cubicBezTo>
                <a:cubicBezTo>
                  <a:pt x="6927" y="17077"/>
                  <a:pt x="6554" y="16535"/>
                  <a:pt x="6083" y="16426"/>
                </a:cubicBezTo>
                <a:cubicBezTo>
                  <a:pt x="4966" y="16173"/>
                  <a:pt x="3898" y="16535"/>
                  <a:pt x="2830" y="16354"/>
                </a:cubicBezTo>
                <a:cubicBezTo>
                  <a:pt x="2234" y="16281"/>
                  <a:pt x="1415" y="15630"/>
                  <a:pt x="869" y="14545"/>
                </a:cubicBezTo>
                <a:cubicBezTo>
                  <a:pt x="348" y="13568"/>
                  <a:pt x="124" y="12555"/>
                  <a:pt x="50" y="11650"/>
                </a:cubicBezTo>
                <a:cubicBezTo>
                  <a:pt x="0" y="10927"/>
                  <a:pt x="124" y="9660"/>
                  <a:pt x="372" y="8683"/>
                </a:cubicBezTo>
                <a:cubicBezTo>
                  <a:pt x="720" y="7489"/>
                  <a:pt x="1415" y="6513"/>
                  <a:pt x="2284" y="6295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21360" y="1811160"/>
            <a:ext cx="201600" cy="128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60" y="0"/>
                </a:moveTo>
                <a:cubicBezTo>
                  <a:pt x="2208" y="0"/>
                  <a:pt x="672" y="761"/>
                  <a:pt x="480" y="2282"/>
                </a:cubicBezTo>
                <a:cubicBezTo>
                  <a:pt x="0" y="6845"/>
                  <a:pt x="480" y="12473"/>
                  <a:pt x="2112" y="16276"/>
                </a:cubicBezTo>
                <a:cubicBezTo>
                  <a:pt x="3360" y="19318"/>
                  <a:pt x="5760" y="19623"/>
                  <a:pt x="7872" y="20535"/>
                </a:cubicBezTo>
                <a:cubicBezTo>
                  <a:pt x="9888" y="21600"/>
                  <a:pt x="12192" y="21600"/>
                  <a:pt x="14208" y="21296"/>
                </a:cubicBezTo>
                <a:cubicBezTo>
                  <a:pt x="16032" y="20839"/>
                  <a:pt x="17760" y="20535"/>
                  <a:pt x="19392" y="19318"/>
                </a:cubicBezTo>
                <a:cubicBezTo>
                  <a:pt x="20352" y="18254"/>
                  <a:pt x="21600" y="17037"/>
                  <a:pt x="21600" y="15059"/>
                </a:cubicBezTo>
                <a:cubicBezTo>
                  <a:pt x="21600" y="13234"/>
                  <a:pt x="20160" y="11713"/>
                  <a:pt x="18912" y="11408"/>
                </a:cubicBezTo>
                <a:cubicBezTo>
                  <a:pt x="16320" y="10496"/>
                  <a:pt x="13152" y="12473"/>
                  <a:pt x="10560" y="11408"/>
                </a:cubicBezTo>
                <a:cubicBezTo>
                  <a:pt x="9120" y="10952"/>
                  <a:pt x="7968" y="8975"/>
                  <a:pt x="7008" y="7149"/>
                </a:cubicBezTo>
                <a:cubicBezTo>
                  <a:pt x="6432" y="5932"/>
                  <a:pt x="6528" y="4411"/>
                  <a:pt x="5952" y="3042"/>
                </a:cubicBezTo>
                <a:cubicBezTo>
                  <a:pt x="5280" y="1825"/>
                  <a:pt x="4320" y="0"/>
                  <a:pt x="3360" y="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489640" y="1881360"/>
            <a:ext cx="61920" cy="80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88" y="4320"/>
                </a:moveTo>
                <a:cubicBezTo>
                  <a:pt x="0" y="6720"/>
                  <a:pt x="0" y="10800"/>
                  <a:pt x="1588" y="13920"/>
                </a:cubicBezTo>
                <a:cubicBezTo>
                  <a:pt x="3812" y="17280"/>
                  <a:pt x="7306" y="21600"/>
                  <a:pt x="12071" y="21120"/>
                </a:cubicBezTo>
                <a:cubicBezTo>
                  <a:pt x="17471" y="20880"/>
                  <a:pt x="19694" y="15120"/>
                  <a:pt x="20647" y="11520"/>
                </a:cubicBezTo>
                <a:cubicBezTo>
                  <a:pt x="21600" y="8400"/>
                  <a:pt x="20012" y="4800"/>
                  <a:pt x="18106" y="2400"/>
                </a:cubicBezTo>
                <a:cubicBezTo>
                  <a:pt x="16835" y="720"/>
                  <a:pt x="14294" y="0"/>
                  <a:pt x="12071" y="720"/>
                </a:cubicBezTo>
                <a:cubicBezTo>
                  <a:pt x="8576" y="1200"/>
                  <a:pt x="3812" y="1680"/>
                  <a:pt x="1588" y="432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76960" y="1897200"/>
            <a:ext cx="214200" cy="16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87" y="1780"/>
                </a:moveTo>
                <a:cubicBezTo>
                  <a:pt x="908" y="2967"/>
                  <a:pt x="0" y="4747"/>
                  <a:pt x="0" y="6765"/>
                </a:cubicBezTo>
                <a:cubicBezTo>
                  <a:pt x="0" y="9969"/>
                  <a:pt x="726" y="12936"/>
                  <a:pt x="2087" y="15429"/>
                </a:cubicBezTo>
                <a:cubicBezTo>
                  <a:pt x="3449" y="18040"/>
                  <a:pt x="5445" y="20413"/>
                  <a:pt x="7714" y="20769"/>
                </a:cubicBezTo>
                <a:cubicBezTo>
                  <a:pt x="10709" y="21600"/>
                  <a:pt x="14067" y="20769"/>
                  <a:pt x="16790" y="19226"/>
                </a:cubicBezTo>
                <a:cubicBezTo>
                  <a:pt x="17697" y="18870"/>
                  <a:pt x="16971" y="16853"/>
                  <a:pt x="17516" y="15666"/>
                </a:cubicBezTo>
                <a:cubicBezTo>
                  <a:pt x="18424" y="14242"/>
                  <a:pt x="20874" y="13886"/>
                  <a:pt x="21146" y="11868"/>
                </a:cubicBezTo>
                <a:cubicBezTo>
                  <a:pt x="21600" y="9969"/>
                  <a:pt x="20602" y="7596"/>
                  <a:pt x="19694" y="6171"/>
                </a:cubicBezTo>
                <a:cubicBezTo>
                  <a:pt x="18333" y="4035"/>
                  <a:pt x="16336" y="2611"/>
                  <a:pt x="14339" y="1424"/>
                </a:cubicBezTo>
                <a:cubicBezTo>
                  <a:pt x="11617" y="237"/>
                  <a:pt x="8803" y="0"/>
                  <a:pt x="6081" y="0"/>
                </a:cubicBezTo>
                <a:cubicBezTo>
                  <a:pt x="4719" y="0"/>
                  <a:pt x="3176" y="475"/>
                  <a:pt x="2087" y="1780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627520" y="1687680"/>
            <a:ext cx="163800" cy="230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699" y="169"/>
                </a:moveTo>
                <a:cubicBezTo>
                  <a:pt x="10563" y="254"/>
                  <a:pt x="8782" y="2118"/>
                  <a:pt x="7714" y="3558"/>
                </a:cubicBezTo>
                <a:cubicBezTo>
                  <a:pt x="6765" y="5252"/>
                  <a:pt x="8189" y="7200"/>
                  <a:pt x="7714" y="8894"/>
                </a:cubicBezTo>
                <a:cubicBezTo>
                  <a:pt x="6765" y="11605"/>
                  <a:pt x="5578" y="14231"/>
                  <a:pt x="3442" y="16518"/>
                </a:cubicBezTo>
                <a:cubicBezTo>
                  <a:pt x="2848" y="17195"/>
                  <a:pt x="0" y="15925"/>
                  <a:pt x="0" y="16687"/>
                </a:cubicBezTo>
                <a:cubicBezTo>
                  <a:pt x="0" y="18042"/>
                  <a:pt x="1662" y="19482"/>
                  <a:pt x="3204" y="20584"/>
                </a:cubicBezTo>
                <a:cubicBezTo>
                  <a:pt x="4154" y="21346"/>
                  <a:pt x="5934" y="21600"/>
                  <a:pt x="7121" y="21346"/>
                </a:cubicBezTo>
                <a:cubicBezTo>
                  <a:pt x="10563" y="21007"/>
                  <a:pt x="14123" y="20499"/>
                  <a:pt x="16615" y="19059"/>
                </a:cubicBezTo>
                <a:cubicBezTo>
                  <a:pt x="18870" y="17788"/>
                  <a:pt x="19820" y="15501"/>
                  <a:pt x="21007" y="13553"/>
                </a:cubicBezTo>
                <a:cubicBezTo>
                  <a:pt x="21600" y="12113"/>
                  <a:pt x="21363" y="10588"/>
                  <a:pt x="21244" y="9148"/>
                </a:cubicBezTo>
                <a:cubicBezTo>
                  <a:pt x="21007" y="7031"/>
                  <a:pt x="21007" y="4659"/>
                  <a:pt x="19226" y="2795"/>
                </a:cubicBezTo>
                <a:cubicBezTo>
                  <a:pt x="17802" y="1440"/>
                  <a:pt x="15310" y="0"/>
                  <a:pt x="12699" y="169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53080" y="1792440"/>
            <a:ext cx="115920" cy="153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825" y="1642"/>
                </a:moveTo>
                <a:cubicBezTo>
                  <a:pt x="11138" y="1642"/>
                  <a:pt x="9281" y="632"/>
                  <a:pt x="7763" y="1011"/>
                </a:cubicBezTo>
                <a:cubicBezTo>
                  <a:pt x="5063" y="2526"/>
                  <a:pt x="1350" y="4421"/>
                  <a:pt x="506" y="6695"/>
                </a:cubicBezTo>
                <a:cubicBezTo>
                  <a:pt x="0" y="9474"/>
                  <a:pt x="2531" y="12126"/>
                  <a:pt x="3881" y="14653"/>
                </a:cubicBezTo>
                <a:cubicBezTo>
                  <a:pt x="5231" y="17053"/>
                  <a:pt x="6750" y="20337"/>
                  <a:pt x="10125" y="21221"/>
                </a:cubicBezTo>
                <a:cubicBezTo>
                  <a:pt x="12825" y="21600"/>
                  <a:pt x="15356" y="19326"/>
                  <a:pt x="17381" y="17684"/>
                </a:cubicBezTo>
                <a:cubicBezTo>
                  <a:pt x="19406" y="15789"/>
                  <a:pt x="21263" y="13011"/>
                  <a:pt x="21263" y="10484"/>
                </a:cubicBezTo>
                <a:cubicBezTo>
                  <a:pt x="21600" y="7326"/>
                  <a:pt x="20756" y="3789"/>
                  <a:pt x="18225" y="1011"/>
                </a:cubicBezTo>
                <a:cubicBezTo>
                  <a:pt x="17381" y="0"/>
                  <a:pt x="14850" y="1642"/>
                  <a:pt x="12825" y="1642"/>
                </a:cubicBez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8120" y="1289160"/>
            <a:ext cx="49536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1585" y="461"/>
                </a:moveTo>
                <a:cubicBezTo>
                  <a:pt x="10604" y="973"/>
                  <a:pt x="9936" y="2303"/>
                  <a:pt x="9425" y="3583"/>
                </a:cubicBezTo>
                <a:cubicBezTo>
                  <a:pt x="9151" y="4351"/>
                  <a:pt x="9151" y="5374"/>
                  <a:pt x="8561" y="5477"/>
                </a:cubicBezTo>
                <a:cubicBezTo>
                  <a:pt x="7658" y="5835"/>
                  <a:pt x="6991" y="3839"/>
                  <a:pt x="5930" y="3173"/>
                </a:cubicBezTo>
                <a:cubicBezTo>
                  <a:pt x="4438" y="2150"/>
                  <a:pt x="2592" y="2918"/>
                  <a:pt x="1492" y="4351"/>
                </a:cubicBezTo>
                <a:cubicBezTo>
                  <a:pt x="982" y="5067"/>
                  <a:pt x="982" y="6245"/>
                  <a:pt x="1492" y="7268"/>
                </a:cubicBezTo>
                <a:cubicBezTo>
                  <a:pt x="2396" y="8957"/>
                  <a:pt x="4124" y="9827"/>
                  <a:pt x="3770" y="11517"/>
                </a:cubicBezTo>
                <a:cubicBezTo>
                  <a:pt x="3456" y="12899"/>
                  <a:pt x="1571" y="12387"/>
                  <a:pt x="903" y="13922"/>
                </a:cubicBezTo>
                <a:cubicBezTo>
                  <a:pt x="0" y="16123"/>
                  <a:pt x="2160" y="18785"/>
                  <a:pt x="3927" y="19399"/>
                </a:cubicBezTo>
                <a:cubicBezTo>
                  <a:pt x="5341" y="19962"/>
                  <a:pt x="7069" y="18938"/>
                  <a:pt x="8758" y="19399"/>
                </a:cubicBezTo>
                <a:cubicBezTo>
                  <a:pt x="10015" y="19706"/>
                  <a:pt x="10996" y="21498"/>
                  <a:pt x="12292" y="21498"/>
                </a:cubicBezTo>
                <a:cubicBezTo>
                  <a:pt x="13667" y="21600"/>
                  <a:pt x="14845" y="19655"/>
                  <a:pt x="16220" y="18887"/>
                </a:cubicBezTo>
                <a:cubicBezTo>
                  <a:pt x="17398" y="18171"/>
                  <a:pt x="18851" y="18171"/>
                  <a:pt x="19754" y="17096"/>
                </a:cubicBezTo>
                <a:cubicBezTo>
                  <a:pt x="20422" y="16328"/>
                  <a:pt x="20618" y="15048"/>
                  <a:pt x="20265" y="13922"/>
                </a:cubicBezTo>
                <a:cubicBezTo>
                  <a:pt x="20068" y="13257"/>
                  <a:pt x="19558" y="12796"/>
                  <a:pt x="19558" y="12284"/>
                </a:cubicBezTo>
                <a:cubicBezTo>
                  <a:pt x="19676" y="10851"/>
                  <a:pt x="21011" y="10186"/>
                  <a:pt x="21247" y="8906"/>
                </a:cubicBezTo>
                <a:cubicBezTo>
                  <a:pt x="21600" y="7115"/>
                  <a:pt x="21325" y="5118"/>
                  <a:pt x="20618" y="3429"/>
                </a:cubicBezTo>
                <a:cubicBezTo>
                  <a:pt x="19833" y="1638"/>
                  <a:pt x="18497" y="205"/>
                  <a:pt x="17673" y="973"/>
                </a:cubicBezTo>
                <a:cubicBezTo>
                  <a:pt x="17201" y="1280"/>
                  <a:pt x="17476" y="2406"/>
                  <a:pt x="17476" y="2406"/>
                </a:cubicBezTo>
                <a:cubicBezTo>
                  <a:pt x="17476" y="2406"/>
                  <a:pt x="16612" y="1740"/>
                  <a:pt x="16141" y="1280"/>
                </a:cubicBezTo>
                <a:cubicBezTo>
                  <a:pt x="15552" y="768"/>
                  <a:pt x="14727" y="461"/>
                  <a:pt x="13942" y="102"/>
                </a:cubicBezTo>
                <a:cubicBezTo>
                  <a:pt x="13196" y="102"/>
                  <a:pt x="12371" y="0"/>
                  <a:pt x="11585" y="461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670120" y="1343160"/>
            <a:ext cx="257400" cy="29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6669" y="11337"/>
                </a:moveTo>
                <a:cubicBezTo>
                  <a:pt x="5154" y="11873"/>
                  <a:pt x="3411" y="11873"/>
                  <a:pt x="2349" y="12880"/>
                </a:cubicBezTo>
                <a:cubicBezTo>
                  <a:pt x="1364" y="14087"/>
                  <a:pt x="0" y="15898"/>
                  <a:pt x="1137" y="17106"/>
                </a:cubicBezTo>
                <a:cubicBezTo>
                  <a:pt x="2728" y="18783"/>
                  <a:pt x="6139" y="17911"/>
                  <a:pt x="8185" y="18917"/>
                </a:cubicBezTo>
                <a:cubicBezTo>
                  <a:pt x="9322" y="19588"/>
                  <a:pt x="9171" y="21600"/>
                  <a:pt x="10307" y="21600"/>
                </a:cubicBezTo>
                <a:cubicBezTo>
                  <a:pt x="12505" y="21600"/>
                  <a:pt x="13869" y="19789"/>
                  <a:pt x="15764" y="18917"/>
                </a:cubicBezTo>
                <a:cubicBezTo>
                  <a:pt x="17053" y="18380"/>
                  <a:pt x="18417" y="17911"/>
                  <a:pt x="19402" y="16904"/>
                </a:cubicBezTo>
                <a:cubicBezTo>
                  <a:pt x="20463" y="16099"/>
                  <a:pt x="20691" y="14758"/>
                  <a:pt x="21069" y="13684"/>
                </a:cubicBezTo>
                <a:cubicBezTo>
                  <a:pt x="21448" y="12209"/>
                  <a:pt x="21600" y="10733"/>
                  <a:pt x="21600" y="9324"/>
                </a:cubicBezTo>
                <a:cubicBezTo>
                  <a:pt x="21600" y="7647"/>
                  <a:pt x="21600" y="5635"/>
                  <a:pt x="20691" y="4025"/>
                </a:cubicBezTo>
                <a:cubicBezTo>
                  <a:pt x="20084" y="2616"/>
                  <a:pt x="18947" y="805"/>
                  <a:pt x="17128" y="470"/>
                </a:cubicBezTo>
                <a:cubicBezTo>
                  <a:pt x="15764" y="0"/>
                  <a:pt x="13718" y="805"/>
                  <a:pt x="12581" y="1811"/>
                </a:cubicBezTo>
                <a:cubicBezTo>
                  <a:pt x="11444" y="2817"/>
                  <a:pt x="11444" y="4494"/>
                  <a:pt x="11217" y="5702"/>
                </a:cubicBezTo>
                <a:cubicBezTo>
                  <a:pt x="10838" y="7043"/>
                  <a:pt x="11217" y="8653"/>
                  <a:pt x="10307" y="9660"/>
                </a:cubicBezTo>
                <a:cubicBezTo>
                  <a:pt x="9549" y="10666"/>
                  <a:pt x="7958" y="10733"/>
                  <a:pt x="6669" y="11337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39960" y="1420920"/>
            <a:ext cx="166680" cy="16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569" y="11559"/>
                </a:moveTo>
                <a:cubicBezTo>
                  <a:pt x="1168" y="12843"/>
                  <a:pt x="0" y="15062"/>
                  <a:pt x="350" y="17163"/>
                </a:cubicBezTo>
                <a:cubicBezTo>
                  <a:pt x="584" y="18915"/>
                  <a:pt x="2102" y="21016"/>
                  <a:pt x="4086" y="21250"/>
                </a:cubicBezTo>
                <a:cubicBezTo>
                  <a:pt x="7356" y="21600"/>
                  <a:pt x="10858" y="20316"/>
                  <a:pt x="13777" y="18564"/>
                </a:cubicBezTo>
                <a:cubicBezTo>
                  <a:pt x="14828" y="17747"/>
                  <a:pt x="13777" y="15645"/>
                  <a:pt x="14828" y="14828"/>
                </a:cubicBezTo>
                <a:cubicBezTo>
                  <a:pt x="16346" y="13894"/>
                  <a:pt x="19031" y="15062"/>
                  <a:pt x="20082" y="13661"/>
                </a:cubicBezTo>
                <a:cubicBezTo>
                  <a:pt x="21600" y="10742"/>
                  <a:pt x="21366" y="7239"/>
                  <a:pt x="21016" y="4086"/>
                </a:cubicBezTo>
                <a:cubicBezTo>
                  <a:pt x="20783" y="2569"/>
                  <a:pt x="20082" y="584"/>
                  <a:pt x="18681" y="234"/>
                </a:cubicBezTo>
                <a:cubicBezTo>
                  <a:pt x="16112" y="0"/>
                  <a:pt x="13427" y="1051"/>
                  <a:pt x="11676" y="2802"/>
                </a:cubicBezTo>
                <a:cubicBezTo>
                  <a:pt x="10275" y="4320"/>
                  <a:pt x="11909" y="6889"/>
                  <a:pt x="11092" y="8640"/>
                </a:cubicBezTo>
                <a:cubicBezTo>
                  <a:pt x="10508" y="9808"/>
                  <a:pt x="9107" y="10742"/>
                  <a:pt x="7823" y="11325"/>
                </a:cubicBezTo>
                <a:cubicBezTo>
                  <a:pt x="6071" y="11909"/>
                  <a:pt x="4086" y="10508"/>
                  <a:pt x="2569" y="11559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87480" y="1677960"/>
            <a:ext cx="1081080" cy="565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720" y="1204"/>
                </a:moveTo>
                <a:cubicBezTo>
                  <a:pt x="10152" y="1548"/>
                  <a:pt x="10530" y="2167"/>
                  <a:pt x="10746" y="2924"/>
                </a:cubicBezTo>
                <a:cubicBezTo>
                  <a:pt x="10980" y="3611"/>
                  <a:pt x="11286" y="5503"/>
                  <a:pt x="11286" y="5503"/>
                </a:cubicBezTo>
                <a:cubicBezTo>
                  <a:pt x="11286" y="5503"/>
                  <a:pt x="12276" y="3852"/>
                  <a:pt x="12852" y="3611"/>
                </a:cubicBezTo>
                <a:cubicBezTo>
                  <a:pt x="13392" y="3439"/>
                  <a:pt x="13932" y="4368"/>
                  <a:pt x="14472" y="4231"/>
                </a:cubicBezTo>
                <a:cubicBezTo>
                  <a:pt x="15066" y="4059"/>
                  <a:pt x="15516" y="2476"/>
                  <a:pt x="16110" y="2476"/>
                </a:cubicBezTo>
                <a:cubicBezTo>
                  <a:pt x="16902" y="2511"/>
                  <a:pt x="17406" y="4368"/>
                  <a:pt x="18162" y="4987"/>
                </a:cubicBezTo>
                <a:cubicBezTo>
                  <a:pt x="18846" y="5503"/>
                  <a:pt x="19836" y="5056"/>
                  <a:pt x="20376" y="6019"/>
                </a:cubicBezTo>
                <a:cubicBezTo>
                  <a:pt x="21132" y="7395"/>
                  <a:pt x="21600" y="9734"/>
                  <a:pt x="21492" y="11797"/>
                </a:cubicBezTo>
                <a:cubicBezTo>
                  <a:pt x="21402" y="13311"/>
                  <a:pt x="20826" y="14859"/>
                  <a:pt x="20142" y="15581"/>
                </a:cubicBezTo>
                <a:cubicBezTo>
                  <a:pt x="19512" y="16166"/>
                  <a:pt x="18666" y="15409"/>
                  <a:pt x="18000" y="15718"/>
                </a:cubicBezTo>
                <a:cubicBezTo>
                  <a:pt x="17460" y="15925"/>
                  <a:pt x="17010" y="17025"/>
                  <a:pt x="16470" y="17025"/>
                </a:cubicBezTo>
                <a:cubicBezTo>
                  <a:pt x="15930" y="17025"/>
                  <a:pt x="15462" y="15650"/>
                  <a:pt x="14886" y="15890"/>
                </a:cubicBezTo>
                <a:cubicBezTo>
                  <a:pt x="13950" y="16166"/>
                  <a:pt x="13446" y="18504"/>
                  <a:pt x="12636" y="19502"/>
                </a:cubicBezTo>
                <a:cubicBezTo>
                  <a:pt x="11952" y="20293"/>
                  <a:pt x="11142" y="21084"/>
                  <a:pt x="10332" y="21256"/>
                </a:cubicBezTo>
                <a:cubicBezTo>
                  <a:pt x="9630" y="21325"/>
                  <a:pt x="8532" y="21600"/>
                  <a:pt x="8226" y="20293"/>
                </a:cubicBezTo>
                <a:cubicBezTo>
                  <a:pt x="8136" y="19949"/>
                  <a:pt x="8316" y="19536"/>
                  <a:pt x="8262" y="19261"/>
                </a:cubicBezTo>
                <a:cubicBezTo>
                  <a:pt x="7902" y="18057"/>
                  <a:pt x="7056" y="17989"/>
                  <a:pt x="6282" y="18573"/>
                </a:cubicBezTo>
                <a:cubicBezTo>
                  <a:pt x="5796" y="18986"/>
                  <a:pt x="5310" y="19777"/>
                  <a:pt x="4770" y="20121"/>
                </a:cubicBezTo>
                <a:cubicBezTo>
                  <a:pt x="4122" y="20568"/>
                  <a:pt x="3402" y="21153"/>
                  <a:pt x="2646" y="21153"/>
                </a:cubicBezTo>
                <a:cubicBezTo>
                  <a:pt x="2160" y="21153"/>
                  <a:pt x="1620" y="20878"/>
                  <a:pt x="1206" y="20293"/>
                </a:cubicBezTo>
                <a:cubicBezTo>
                  <a:pt x="702" y="19536"/>
                  <a:pt x="342" y="18298"/>
                  <a:pt x="180" y="17025"/>
                </a:cubicBezTo>
                <a:cubicBezTo>
                  <a:pt x="72" y="15925"/>
                  <a:pt x="0" y="14377"/>
                  <a:pt x="450" y="13655"/>
                </a:cubicBezTo>
                <a:cubicBezTo>
                  <a:pt x="666" y="13311"/>
                  <a:pt x="1026" y="13517"/>
                  <a:pt x="1206" y="13070"/>
                </a:cubicBezTo>
                <a:cubicBezTo>
                  <a:pt x="1386" y="12554"/>
                  <a:pt x="1206" y="11591"/>
                  <a:pt x="1386" y="11006"/>
                </a:cubicBezTo>
                <a:cubicBezTo>
                  <a:pt x="1566" y="10422"/>
                  <a:pt x="1836" y="9803"/>
                  <a:pt x="2196" y="9527"/>
                </a:cubicBezTo>
                <a:cubicBezTo>
                  <a:pt x="2700" y="9183"/>
                  <a:pt x="3312" y="9699"/>
                  <a:pt x="3852" y="9390"/>
                </a:cubicBezTo>
                <a:cubicBezTo>
                  <a:pt x="3996" y="9287"/>
                  <a:pt x="4230" y="9115"/>
                  <a:pt x="4320" y="8771"/>
                </a:cubicBezTo>
                <a:cubicBezTo>
                  <a:pt x="4536" y="7911"/>
                  <a:pt x="4176" y="6535"/>
                  <a:pt x="4356" y="5572"/>
                </a:cubicBezTo>
                <a:cubicBezTo>
                  <a:pt x="4500" y="4815"/>
                  <a:pt x="4770" y="4059"/>
                  <a:pt x="5256" y="3955"/>
                </a:cubicBezTo>
                <a:cubicBezTo>
                  <a:pt x="5562" y="3852"/>
                  <a:pt x="5850" y="4299"/>
                  <a:pt x="6120" y="4024"/>
                </a:cubicBezTo>
                <a:cubicBezTo>
                  <a:pt x="6426" y="3611"/>
                  <a:pt x="6426" y="2580"/>
                  <a:pt x="6606" y="1892"/>
                </a:cubicBezTo>
                <a:cubicBezTo>
                  <a:pt x="6786" y="929"/>
                  <a:pt x="7200" y="241"/>
                  <a:pt x="7722" y="172"/>
                </a:cubicBezTo>
                <a:cubicBezTo>
                  <a:pt x="8406" y="0"/>
                  <a:pt x="9090" y="619"/>
                  <a:pt x="9720" y="1204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08240" y="1984320"/>
            <a:ext cx="342720" cy="21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3" y="11733"/>
                </a:moveTo>
                <a:cubicBezTo>
                  <a:pt x="0" y="13067"/>
                  <a:pt x="1357" y="14400"/>
                  <a:pt x="2205" y="14933"/>
                </a:cubicBezTo>
                <a:cubicBezTo>
                  <a:pt x="3675" y="15733"/>
                  <a:pt x="5485" y="14400"/>
                  <a:pt x="6785" y="15556"/>
                </a:cubicBezTo>
                <a:cubicBezTo>
                  <a:pt x="8029" y="16444"/>
                  <a:pt x="7634" y="20267"/>
                  <a:pt x="8991" y="20889"/>
                </a:cubicBezTo>
                <a:cubicBezTo>
                  <a:pt x="11139" y="21600"/>
                  <a:pt x="13571" y="20267"/>
                  <a:pt x="15663" y="18933"/>
                </a:cubicBezTo>
                <a:cubicBezTo>
                  <a:pt x="17076" y="18044"/>
                  <a:pt x="18207" y="16178"/>
                  <a:pt x="19169" y="14044"/>
                </a:cubicBezTo>
                <a:cubicBezTo>
                  <a:pt x="20299" y="11556"/>
                  <a:pt x="21600" y="9067"/>
                  <a:pt x="21600" y="6044"/>
                </a:cubicBezTo>
                <a:cubicBezTo>
                  <a:pt x="21600" y="3733"/>
                  <a:pt x="20639" y="0"/>
                  <a:pt x="19169" y="178"/>
                </a:cubicBezTo>
                <a:cubicBezTo>
                  <a:pt x="17755" y="267"/>
                  <a:pt x="17755" y="4267"/>
                  <a:pt x="17246" y="6667"/>
                </a:cubicBezTo>
                <a:cubicBezTo>
                  <a:pt x="16624" y="9511"/>
                  <a:pt x="17076" y="13333"/>
                  <a:pt x="15663" y="15378"/>
                </a:cubicBezTo>
                <a:cubicBezTo>
                  <a:pt x="14419" y="17067"/>
                  <a:pt x="12383" y="16444"/>
                  <a:pt x="10857" y="16178"/>
                </a:cubicBezTo>
                <a:cubicBezTo>
                  <a:pt x="9839" y="16000"/>
                  <a:pt x="9160" y="14667"/>
                  <a:pt x="8312" y="13778"/>
                </a:cubicBezTo>
                <a:cubicBezTo>
                  <a:pt x="6616" y="12444"/>
                  <a:pt x="5032" y="10400"/>
                  <a:pt x="3223" y="9778"/>
                </a:cubicBezTo>
                <a:cubicBezTo>
                  <a:pt x="2092" y="9600"/>
                  <a:pt x="509" y="10222"/>
                  <a:pt x="283" y="11733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66760" y="2073240"/>
            <a:ext cx="122400" cy="11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60" y="6794"/>
                </a:moveTo>
                <a:cubicBezTo>
                  <a:pt x="2880" y="3832"/>
                  <a:pt x="5760" y="1568"/>
                  <a:pt x="8960" y="697"/>
                </a:cubicBezTo>
                <a:cubicBezTo>
                  <a:pt x="12000" y="0"/>
                  <a:pt x="15680" y="0"/>
                  <a:pt x="18080" y="2090"/>
                </a:cubicBezTo>
                <a:cubicBezTo>
                  <a:pt x="20160" y="4181"/>
                  <a:pt x="21600" y="8187"/>
                  <a:pt x="20480" y="10800"/>
                </a:cubicBezTo>
                <a:cubicBezTo>
                  <a:pt x="19200" y="14632"/>
                  <a:pt x="15200" y="16374"/>
                  <a:pt x="12480" y="18987"/>
                </a:cubicBezTo>
                <a:cubicBezTo>
                  <a:pt x="10880" y="20032"/>
                  <a:pt x="10080" y="21600"/>
                  <a:pt x="8160" y="21600"/>
                </a:cubicBezTo>
                <a:cubicBezTo>
                  <a:pt x="6880" y="21600"/>
                  <a:pt x="5760" y="20032"/>
                  <a:pt x="4800" y="18987"/>
                </a:cubicBezTo>
                <a:cubicBezTo>
                  <a:pt x="3360" y="17419"/>
                  <a:pt x="1760" y="15677"/>
                  <a:pt x="960" y="13413"/>
                </a:cubicBezTo>
                <a:cubicBezTo>
                  <a:pt x="480" y="11148"/>
                  <a:pt x="0" y="8535"/>
                  <a:pt x="960" y="6794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09720" y="1852560"/>
            <a:ext cx="223920" cy="223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848" y="1214"/>
                </a:moveTo>
                <a:cubicBezTo>
                  <a:pt x="15811" y="607"/>
                  <a:pt x="13824" y="0"/>
                  <a:pt x="12960" y="1214"/>
                </a:cubicBezTo>
                <a:cubicBezTo>
                  <a:pt x="11923" y="2776"/>
                  <a:pt x="13392" y="5205"/>
                  <a:pt x="13219" y="7287"/>
                </a:cubicBezTo>
                <a:cubicBezTo>
                  <a:pt x="12960" y="9716"/>
                  <a:pt x="14256" y="13012"/>
                  <a:pt x="12269" y="14313"/>
                </a:cubicBezTo>
                <a:cubicBezTo>
                  <a:pt x="10627" y="15528"/>
                  <a:pt x="8813" y="11624"/>
                  <a:pt x="6739" y="11624"/>
                </a:cubicBezTo>
                <a:cubicBezTo>
                  <a:pt x="4752" y="11624"/>
                  <a:pt x="2160" y="12318"/>
                  <a:pt x="1037" y="14227"/>
                </a:cubicBezTo>
                <a:cubicBezTo>
                  <a:pt x="0" y="15788"/>
                  <a:pt x="1037" y="18217"/>
                  <a:pt x="2160" y="19692"/>
                </a:cubicBezTo>
                <a:cubicBezTo>
                  <a:pt x="3024" y="20819"/>
                  <a:pt x="4752" y="20733"/>
                  <a:pt x="6221" y="20733"/>
                </a:cubicBezTo>
                <a:cubicBezTo>
                  <a:pt x="7776" y="20733"/>
                  <a:pt x="9331" y="19518"/>
                  <a:pt x="10973" y="19692"/>
                </a:cubicBezTo>
                <a:cubicBezTo>
                  <a:pt x="12096" y="19952"/>
                  <a:pt x="12787" y="21600"/>
                  <a:pt x="13997" y="21427"/>
                </a:cubicBezTo>
                <a:cubicBezTo>
                  <a:pt x="16157" y="20819"/>
                  <a:pt x="18403" y="19518"/>
                  <a:pt x="19872" y="17957"/>
                </a:cubicBezTo>
                <a:cubicBezTo>
                  <a:pt x="20995" y="16655"/>
                  <a:pt x="21168" y="14487"/>
                  <a:pt x="21341" y="12925"/>
                </a:cubicBezTo>
                <a:cubicBezTo>
                  <a:pt x="21600" y="10843"/>
                  <a:pt x="21168" y="8848"/>
                  <a:pt x="20563" y="6680"/>
                </a:cubicBezTo>
                <a:cubicBezTo>
                  <a:pt x="20477" y="5812"/>
                  <a:pt x="19699" y="4945"/>
                  <a:pt x="19181" y="4077"/>
                </a:cubicBezTo>
                <a:cubicBezTo>
                  <a:pt x="18403" y="3036"/>
                  <a:pt x="17971" y="1735"/>
                  <a:pt x="16848" y="1214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23840" y="2054160"/>
            <a:ext cx="168480" cy="14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472" y="0"/>
                </a:moveTo>
                <a:cubicBezTo>
                  <a:pt x="6930" y="0"/>
                  <a:pt x="3696" y="667"/>
                  <a:pt x="2541" y="3200"/>
                </a:cubicBezTo>
                <a:cubicBezTo>
                  <a:pt x="809" y="6667"/>
                  <a:pt x="0" y="11867"/>
                  <a:pt x="1733" y="15600"/>
                </a:cubicBezTo>
                <a:cubicBezTo>
                  <a:pt x="3465" y="18933"/>
                  <a:pt x="7508" y="20933"/>
                  <a:pt x="10973" y="21200"/>
                </a:cubicBezTo>
                <a:cubicBezTo>
                  <a:pt x="14092" y="21600"/>
                  <a:pt x="17557" y="19600"/>
                  <a:pt x="19636" y="16267"/>
                </a:cubicBezTo>
                <a:cubicBezTo>
                  <a:pt x="21600" y="13200"/>
                  <a:pt x="21600" y="8667"/>
                  <a:pt x="21369" y="4667"/>
                </a:cubicBezTo>
                <a:cubicBezTo>
                  <a:pt x="21022" y="2667"/>
                  <a:pt x="19636" y="933"/>
                  <a:pt x="18135" y="267"/>
                </a:cubicBezTo>
                <a:cubicBezTo>
                  <a:pt x="16633" y="0"/>
                  <a:pt x="15478" y="2667"/>
                  <a:pt x="13861" y="2667"/>
                </a:cubicBezTo>
                <a:cubicBezTo>
                  <a:pt x="12128" y="2667"/>
                  <a:pt x="11204" y="0"/>
                  <a:pt x="9472" y="0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79680" y="1932120"/>
            <a:ext cx="287280" cy="20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915" y="11681"/>
                </a:moveTo>
                <a:cubicBezTo>
                  <a:pt x="2700" y="12793"/>
                  <a:pt x="675" y="13442"/>
                  <a:pt x="338" y="15574"/>
                </a:cubicBezTo>
                <a:cubicBezTo>
                  <a:pt x="0" y="17892"/>
                  <a:pt x="1350" y="21136"/>
                  <a:pt x="2903" y="21415"/>
                </a:cubicBezTo>
                <a:cubicBezTo>
                  <a:pt x="4725" y="21600"/>
                  <a:pt x="5265" y="17614"/>
                  <a:pt x="6548" y="16038"/>
                </a:cubicBezTo>
                <a:cubicBezTo>
                  <a:pt x="7290" y="15296"/>
                  <a:pt x="8100" y="14184"/>
                  <a:pt x="8978" y="13998"/>
                </a:cubicBezTo>
                <a:cubicBezTo>
                  <a:pt x="10125" y="13720"/>
                  <a:pt x="11340" y="14184"/>
                  <a:pt x="12488" y="14462"/>
                </a:cubicBezTo>
                <a:cubicBezTo>
                  <a:pt x="13635" y="14833"/>
                  <a:pt x="14850" y="16038"/>
                  <a:pt x="15998" y="15852"/>
                </a:cubicBezTo>
                <a:cubicBezTo>
                  <a:pt x="17685" y="15389"/>
                  <a:pt x="20048" y="15111"/>
                  <a:pt x="20925" y="12793"/>
                </a:cubicBezTo>
                <a:cubicBezTo>
                  <a:pt x="21600" y="11124"/>
                  <a:pt x="21060" y="8343"/>
                  <a:pt x="20048" y="6767"/>
                </a:cubicBezTo>
                <a:cubicBezTo>
                  <a:pt x="19103" y="5099"/>
                  <a:pt x="17415" y="4264"/>
                  <a:pt x="15998" y="4264"/>
                </a:cubicBezTo>
                <a:cubicBezTo>
                  <a:pt x="14850" y="4264"/>
                  <a:pt x="13973" y="7231"/>
                  <a:pt x="12960" y="6767"/>
                </a:cubicBezTo>
                <a:cubicBezTo>
                  <a:pt x="11610" y="5840"/>
                  <a:pt x="12015" y="2781"/>
                  <a:pt x="11003" y="1391"/>
                </a:cubicBezTo>
                <a:cubicBezTo>
                  <a:pt x="10125" y="278"/>
                  <a:pt x="8978" y="278"/>
                  <a:pt x="7898" y="278"/>
                </a:cubicBezTo>
                <a:cubicBezTo>
                  <a:pt x="6885" y="278"/>
                  <a:pt x="5738" y="0"/>
                  <a:pt x="4928" y="927"/>
                </a:cubicBezTo>
                <a:cubicBezTo>
                  <a:pt x="4050" y="2132"/>
                  <a:pt x="3510" y="4264"/>
                  <a:pt x="3713" y="6118"/>
                </a:cubicBezTo>
                <a:cubicBezTo>
                  <a:pt x="3848" y="7694"/>
                  <a:pt x="5400" y="8621"/>
                  <a:pt x="5535" y="10290"/>
                </a:cubicBezTo>
                <a:cubicBezTo>
                  <a:pt x="5535" y="11124"/>
                  <a:pt x="4388" y="11124"/>
                  <a:pt x="3915" y="11681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92160" y="1938240"/>
            <a:ext cx="109800" cy="13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895" y="5065"/>
                </a:moveTo>
                <a:cubicBezTo>
                  <a:pt x="2656" y="6703"/>
                  <a:pt x="1593" y="8193"/>
                  <a:pt x="1239" y="9981"/>
                </a:cubicBezTo>
                <a:cubicBezTo>
                  <a:pt x="708" y="12513"/>
                  <a:pt x="0" y="15194"/>
                  <a:pt x="1239" y="17876"/>
                </a:cubicBezTo>
                <a:cubicBezTo>
                  <a:pt x="1770" y="19217"/>
                  <a:pt x="4249" y="19217"/>
                  <a:pt x="6020" y="19366"/>
                </a:cubicBezTo>
                <a:cubicBezTo>
                  <a:pt x="9207" y="20110"/>
                  <a:pt x="12216" y="21600"/>
                  <a:pt x="15049" y="20706"/>
                </a:cubicBezTo>
                <a:cubicBezTo>
                  <a:pt x="17705" y="20110"/>
                  <a:pt x="18944" y="17429"/>
                  <a:pt x="20184" y="15641"/>
                </a:cubicBezTo>
                <a:cubicBezTo>
                  <a:pt x="21246" y="13705"/>
                  <a:pt x="21600" y="11768"/>
                  <a:pt x="21246" y="9981"/>
                </a:cubicBezTo>
                <a:cubicBezTo>
                  <a:pt x="20361" y="6703"/>
                  <a:pt x="19298" y="3277"/>
                  <a:pt x="16289" y="1341"/>
                </a:cubicBezTo>
                <a:cubicBezTo>
                  <a:pt x="14518" y="0"/>
                  <a:pt x="10977" y="596"/>
                  <a:pt x="8321" y="1341"/>
                </a:cubicBezTo>
                <a:cubicBezTo>
                  <a:pt x="6551" y="1788"/>
                  <a:pt x="4780" y="3575"/>
                  <a:pt x="3895" y="5065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51160" y="2749680"/>
            <a:ext cx="187200" cy="134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50" y="3312"/>
                </a:moveTo>
                <a:cubicBezTo>
                  <a:pt x="831" y="3600"/>
                  <a:pt x="1350" y="4320"/>
                  <a:pt x="1350" y="5040"/>
                </a:cubicBezTo>
                <a:cubicBezTo>
                  <a:pt x="1038" y="7200"/>
                  <a:pt x="0" y="9360"/>
                  <a:pt x="623" y="11088"/>
                </a:cubicBezTo>
                <a:cubicBezTo>
                  <a:pt x="1558" y="13680"/>
                  <a:pt x="3219" y="15408"/>
                  <a:pt x="4985" y="16560"/>
                </a:cubicBezTo>
                <a:cubicBezTo>
                  <a:pt x="7788" y="18720"/>
                  <a:pt x="10385" y="21600"/>
                  <a:pt x="13500" y="21312"/>
                </a:cubicBezTo>
                <a:cubicBezTo>
                  <a:pt x="16200" y="20880"/>
                  <a:pt x="19315" y="18432"/>
                  <a:pt x="20354" y="15120"/>
                </a:cubicBezTo>
                <a:cubicBezTo>
                  <a:pt x="21600" y="11952"/>
                  <a:pt x="20562" y="7920"/>
                  <a:pt x="19004" y="5328"/>
                </a:cubicBezTo>
                <a:cubicBezTo>
                  <a:pt x="17446" y="2448"/>
                  <a:pt x="14642" y="1440"/>
                  <a:pt x="12254" y="720"/>
                </a:cubicBezTo>
                <a:cubicBezTo>
                  <a:pt x="10696" y="0"/>
                  <a:pt x="9346" y="1152"/>
                  <a:pt x="7788" y="1440"/>
                </a:cubicBezTo>
                <a:cubicBezTo>
                  <a:pt x="5504" y="2160"/>
                  <a:pt x="3219" y="2160"/>
                  <a:pt x="1350" y="3312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84720" y="2701800"/>
            <a:ext cx="147600" cy="14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116" y="263"/>
                </a:moveTo>
                <a:cubicBezTo>
                  <a:pt x="5236" y="0"/>
                  <a:pt x="2618" y="2898"/>
                  <a:pt x="1309" y="5137"/>
                </a:cubicBezTo>
                <a:cubicBezTo>
                  <a:pt x="0" y="7507"/>
                  <a:pt x="0" y="10537"/>
                  <a:pt x="655" y="13039"/>
                </a:cubicBezTo>
                <a:cubicBezTo>
                  <a:pt x="1571" y="15805"/>
                  <a:pt x="3273" y="19624"/>
                  <a:pt x="6153" y="20415"/>
                </a:cubicBezTo>
                <a:cubicBezTo>
                  <a:pt x="10080" y="21600"/>
                  <a:pt x="14400" y="20678"/>
                  <a:pt x="18065" y="18702"/>
                </a:cubicBezTo>
                <a:cubicBezTo>
                  <a:pt x="20291" y="17649"/>
                  <a:pt x="21600" y="14751"/>
                  <a:pt x="21600" y="12117"/>
                </a:cubicBezTo>
                <a:cubicBezTo>
                  <a:pt x="21600" y="9878"/>
                  <a:pt x="20029" y="7902"/>
                  <a:pt x="18327" y="6585"/>
                </a:cubicBezTo>
                <a:cubicBezTo>
                  <a:pt x="15316" y="3951"/>
                  <a:pt x="12044" y="659"/>
                  <a:pt x="8116" y="263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11480" y="1871640"/>
            <a:ext cx="3008160" cy="2019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99"/>
                </a:moveTo>
                <a:cubicBezTo>
                  <a:pt x="265" y="1878"/>
                  <a:pt x="711" y="1570"/>
                  <a:pt x="969" y="1348"/>
                </a:cubicBezTo>
                <a:cubicBezTo>
                  <a:pt x="1137" y="1204"/>
                  <a:pt x="1292" y="934"/>
                  <a:pt x="1486" y="944"/>
                </a:cubicBezTo>
                <a:cubicBezTo>
                  <a:pt x="1893" y="1011"/>
                  <a:pt x="2268" y="1396"/>
                  <a:pt x="2669" y="1570"/>
                </a:cubicBezTo>
                <a:cubicBezTo>
                  <a:pt x="2992" y="1714"/>
                  <a:pt x="3315" y="1897"/>
                  <a:pt x="3638" y="1878"/>
                </a:cubicBezTo>
                <a:cubicBezTo>
                  <a:pt x="4168" y="1859"/>
                  <a:pt x="4684" y="1608"/>
                  <a:pt x="5208" y="1493"/>
                </a:cubicBezTo>
                <a:cubicBezTo>
                  <a:pt x="5402" y="1444"/>
                  <a:pt x="5654" y="1175"/>
                  <a:pt x="5770" y="1377"/>
                </a:cubicBezTo>
                <a:cubicBezTo>
                  <a:pt x="5964" y="1714"/>
                  <a:pt x="5964" y="2244"/>
                  <a:pt x="5899" y="2677"/>
                </a:cubicBezTo>
                <a:cubicBezTo>
                  <a:pt x="5815" y="3197"/>
                  <a:pt x="5363" y="3515"/>
                  <a:pt x="5350" y="4025"/>
                </a:cubicBezTo>
                <a:cubicBezTo>
                  <a:pt x="5331" y="4411"/>
                  <a:pt x="5621" y="4719"/>
                  <a:pt x="5835" y="4979"/>
                </a:cubicBezTo>
                <a:cubicBezTo>
                  <a:pt x="6080" y="5268"/>
                  <a:pt x="6526" y="5152"/>
                  <a:pt x="6674" y="5556"/>
                </a:cubicBezTo>
                <a:cubicBezTo>
                  <a:pt x="6881" y="6086"/>
                  <a:pt x="6526" y="6934"/>
                  <a:pt x="6804" y="7386"/>
                </a:cubicBezTo>
                <a:cubicBezTo>
                  <a:pt x="6998" y="7723"/>
                  <a:pt x="7482" y="7001"/>
                  <a:pt x="7695" y="7300"/>
                </a:cubicBezTo>
                <a:cubicBezTo>
                  <a:pt x="7986" y="7723"/>
                  <a:pt x="7728" y="8571"/>
                  <a:pt x="7967" y="9033"/>
                </a:cubicBezTo>
                <a:cubicBezTo>
                  <a:pt x="8128" y="9389"/>
                  <a:pt x="8561" y="9177"/>
                  <a:pt x="8774" y="9457"/>
                </a:cubicBezTo>
                <a:cubicBezTo>
                  <a:pt x="9065" y="9803"/>
                  <a:pt x="9181" y="10381"/>
                  <a:pt x="9433" y="10786"/>
                </a:cubicBezTo>
                <a:cubicBezTo>
                  <a:pt x="9647" y="11142"/>
                  <a:pt x="10080" y="11267"/>
                  <a:pt x="10196" y="11720"/>
                </a:cubicBezTo>
                <a:cubicBezTo>
                  <a:pt x="10441" y="12779"/>
                  <a:pt x="9841" y="14349"/>
                  <a:pt x="10422" y="15042"/>
                </a:cubicBezTo>
                <a:cubicBezTo>
                  <a:pt x="10855" y="15552"/>
                  <a:pt x="10984" y="13646"/>
                  <a:pt x="11146" y="12856"/>
                </a:cubicBezTo>
                <a:cubicBezTo>
                  <a:pt x="11230" y="12442"/>
                  <a:pt x="10874" y="11431"/>
                  <a:pt x="11146" y="11556"/>
                </a:cubicBezTo>
                <a:cubicBezTo>
                  <a:pt x="11727" y="11797"/>
                  <a:pt x="12057" y="12760"/>
                  <a:pt x="12457" y="13434"/>
                </a:cubicBezTo>
                <a:cubicBezTo>
                  <a:pt x="12696" y="13819"/>
                  <a:pt x="12780" y="14445"/>
                  <a:pt x="13071" y="14734"/>
                </a:cubicBezTo>
                <a:cubicBezTo>
                  <a:pt x="13472" y="15148"/>
                  <a:pt x="14027" y="15100"/>
                  <a:pt x="14460" y="15437"/>
                </a:cubicBezTo>
                <a:cubicBezTo>
                  <a:pt x="14770" y="15678"/>
                  <a:pt x="15203" y="15957"/>
                  <a:pt x="15287" y="16467"/>
                </a:cubicBezTo>
                <a:cubicBezTo>
                  <a:pt x="15410" y="17315"/>
                  <a:pt x="15300" y="18278"/>
                  <a:pt x="14997" y="19019"/>
                </a:cubicBezTo>
                <a:cubicBezTo>
                  <a:pt x="14751" y="19597"/>
                  <a:pt x="14202" y="19741"/>
                  <a:pt x="13795" y="20011"/>
                </a:cubicBezTo>
                <a:cubicBezTo>
                  <a:pt x="13427" y="20242"/>
                  <a:pt x="13039" y="20319"/>
                  <a:pt x="12683" y="20560"/>
                </a:cubicBezTo>
                <a:cubicBezTo>
                  <a:pt x="12490" y="20676"/>
                  <a:pt x="12134" y="20724"/>
                  <a:pt x="12147" y="21022"/>
                </a:cubicBezTo>
                <a:cubicBezTo>
                  <a:pt x="12154" y="21330"/>
                  <a:pt x="12638" y="21456"/>
                  <a:pt x="12826" y="21600"/>
                </a:cubicBezTo>
                <a:cubicBezTo>
                  <a:pt x="15753" y="21600"/>
                  <a:pt x="18660" y="21590"/>
                  <a:pt x="21600" y="21590"/>
                </a:cubicBezTo>
                <a:cubicBezTo>
                  <a:pt x="21600" y="21590"/>
                  <a:pt x="21600" y="12114"/>
                  <a:pt x="21600" y="12114"/>
                </a:cubicBezTo>
                <a:cubicBezTo>
                  <a:pt x="21438" y="12114"/>
                  <a:pt x="21277" y="12086"/>
                  <a:pt x="21128" y="12066"/>
                </a:cubicBezTo>
                <a:cubicBezTo>
                  <a:pt x="19888" y="11864"/>
                  <a:pt x="18660" y="11334"/>
                  <a:pt x="17478" y="10670"/>
                </a:cubicBezTo>
                <a:cubicBezTo>
                  <a:pt x="16412" y="10092"/>
                  <a:pt x="15352" y="9370"/>
                  <a:pt x="14363" y="8619"/>
                </a:cubicBezTo>
                <a:cubicBezTo>
                  <a:pt x="13084" y="7675"/>
                  <a:pt x="11895" y="6519"/>
                  <a:pt x="10745" y="5364"/>
                </a:cubicBezTo>
                <a:cubicBezTo>
                  <a:pt x="10248" y="4863"/>
                  <a:pt x="9744" y="4382"/>
                  <a:pt x="9259" y="3900"/>
                </a:cubicBezTo>
                <a:cubicBezTo>
                  <a:pt x="8128" y="2764"/>
                  <a:pt x="5854" y="433"/>
                  <a:pt x="5854" y="433"/>
                </a:cubicBezTo>
                <a:cubicBezTo>
                  <a:pt x="5854" y="433"/>
                  <a:pt x="5705" y="597"/>
                  <a:pt x="5576" y="722"/>
                </a:cubicBezTo>
                <a:cubicBezTo>
                  <a:pt x="5272" y="1011"/>
                  <a:pt x="4878" y="1059"/>
                  <a:pt x="4510" y="867"/>
                </a:cubicBezTo>
                <a:cubicBezTo>
                  <a:pt x="4168" y="674"/>
                  <a:pt x="3928" y="164"/>
                  <a:pt x="3573" y="48"/>
                </a:cubicBezTo>
                <a:cubicBezTo>
                  <a:pt x="3463" y="0"/>
                  <a:pt x="3231" y="164"/>
                  <a:pt x="3231" y="164"/>
                </a:cubicBezTo>
                <a:cubicBezTo>
                  <a:pt x="3231" y="164"/>
                  <a:pt x="2895" y="193"/>
                  <a:pt x="2752" y="289"/>
                </a:cubicBezTo>
                <a:cubicBezTo>
                  <a:pt x="2591" y="385"/>
                  <a:pt x="2475" y="645"/>
                  <a:pt x="2313" y="626"/>
                </a:cubicBezTo>
                <a:cubicBezTo>
                  <a:pt x="2087" y="578"/>
                  <a:pt x="1977" y="164"/>
                  <a:pt x="1764" y="96"/>
                </a:cubicBezTo>
                <a:cubicBezTo>
                  <a:pt x="1409" y="0"/>
                  <a:pt x="1098" y="501"/>
                  <a:pt x="808" y="944"/>
                </a:cubicBezTo>
                <a:cubicBezTo>
                  <a:pt x="536" y="1348"/>
                  <a:pt x="265" y="1714"/>
                  <a:pt x="0" y="2099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20720" y="1873080"/>
            <a:ext cx="5398920" cy="157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439" y="21414"/>
                  <a:pt x="882" y="21080"/>
                  <a:pt x="1321" y="20746"/>
                </a:cubicBezTo>
                <a:cubicBezTo>
                  <a:pt x="2214" y="20028"/>
                  <a:pt x="3078" y="18939"/>
                  <a:pt x="3924" y="17713"/>
                </a:cubicBezTo>
                <a:cubicBezTo>
                  <a:pt x="4381" y="17082"/>
                  <a:pt x="4824" y="16253"/>
                  <a:pt x="5238" y="15324"/>
                </a:cubicBezTo>
                <a:cubicBezTo>
                  <a:pt x="5922" y="13777"/>
                  <a:pt x="6581" y="12044"/>
                  <a:pt x="7049" y="10744"/>
                </a:cubicBezTo>
                <a:cubicBezTo>
                  <a:pt x="7650" y="9098"/>
                  <a:pt x="8075" y="7873"/>
                  <a:pt x="8471" y="6560"/>
                </a:cubicBezTo>
                <a:cubicBezTo>
                  <a:pt x="8827" y="5335"/>
                  <a:pt x="9187" y="4147"/>
                  <a:pt x="9522" y="2859"/>
                </a:cubicBezTo>
                <a:cubicBezTo>
                  <a:pt x="9666" y="2302"/>
                  <a:pt x="9853" y="1770"/>
                  <a:pt x="10015" y="1213"/>
                </a:cubicBezTo>
                <a:cubicBezTo>
                  <a:pt x="10177" y="631"/>
                  <a:pt x="10350" y="0"/>
                  <a:pt x="10548" y="136"/>
                </a:cubicBezTo>
                <a:cubicBezTo>
                  <a:pt x="10667" y="223"/>
                  <a:pt x="10728" y="743"/>
                  <a:pt x="10854" y="805"/>
                </a:cubicBezTo>
                <a:cubicBezTo>
                  <a:pt x="10944" y="817"/>
                  <a:pt x="11009" y="508"/>
                  <a:pt x="11099" y="371"/>
                </a:cubicBezTo>
                <a:cubicBezTo>
                  <a:pt x="11178" y="248"/>
                  <a:pt x="11365" y="223"/>
                  <a:pt x="11365" y="223"/>
                </a:cubicBezTo>
                <a:cubicBezTo>
                  <a:pt x="11365" y="223"/>
                  <a:pt x="11495" y="0"/>
                  <a:pt x="11556" y="62"/>
                </a:cubicBezTo>
                <a:cubicBezTo>
                  <a:pt x="11754" y="223"/>
                  <a:pt x="11887" y="879"/>
                  <a:pt x="12078" y="1114"/>
                </a:cubicBezTo>
                <a:cubicBezTo>
                  <a:pt x="12283" y="1362"/>
                  <a:pt x="12503" y="1300"/>
                  <a:pt x="12672" y="928"/>
                </a:cubicBezTo>
                <a:cubicBezTo>
                  <a:pt x="12744" y="780"/>
                  <a:pt x="12827" y="557"/>
                  <a:pt x="12827" y="557"/>
                </a:cubicBezTo>
                <a:cubicBezTo>
                  <a:pt x="12827" y="557"/>
                  <a:pt x="14094" y="3565"/>
                  <a:pt x="14724" y="5013"/>
                </a:cubicBezTo>
                <a:cubicBezTo>
                  <a:pt x="14994" y="5632"/>
                  <a:pt x="15275" y="6263"/>
                  <a:pt x="15552" y="6907"/>
                </a:cubicBezTo>
                <a:cubicBezTo>
                  <a:pt x="16193" y="8392"/>
                  <a:pt x="16855" y="9878"/>
                  <a:pt x="17568" y="11091"/>
                </a:cubicBezTo>
                <a:cubicBezTo>
                  <a:pt x="18119" y="12044"/>
                  <a:pt x="18709" y="12972"/>
                  <a:pt x="19303" y="13715"/>
                </a:cubicBezTo>
                <a:cubicBezTo>
                  <a:pt x="19962" y="14557"/>
                  <a:pt x="20646" y="15262"/>
                  <a:pt x="21337" y="15510"/>
                </a:cubicBezTo>
                <a:cubicBezTo>
                  <a:pt x="21420" y="15547"/>
                  <a:pt x="21510" y="15572"/>
                  <a:pt x="21600" y="15572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97360" y="6129360"/>
            <a:ext cx="1488960" cy="19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501" y="975"/>
                </a:moveTo>
                <a:cubicBezTo>
                  <a:pt x="1018" y="1213"/>
                  <a:pt x="0" y="1512"/>
                  <a:pt x="0" y="1512"/>
                </a:cubicBezTo>
                <a:cubicBezTo>
                  <a:pt x="0" y="1512"/>
                  <a:pt x="7309" y="13604"/>
                  <a:pt x="7309" y="13604"/>
                </a:cubicBezTo>
                <a:cubicBezTo>
                  <a:pt x="7309" y="13604"/>
                  <a:pt x="4960" y="16210"/>
                  <a:pt x="3785" y="17473"/>
                </a:cubicBezTo>
                <a:cubicBezTo>
                  <a:pt x="3067" y="18249"/>
                  <a:pt x="1201" y="19790"/>
                  <a:pt x="1697" y="20586"/>
                </a:cubicBezTo>
                <a:cubicBezTo>
                  <a:pt x="2193" y="21361"/>
                  <a:pt x="3850" y="21600"/>
                  <a:pt x="5482" y="21530"/>
                </a:cubicBezTo>
                <a:cubicBezTo>
                  <a:pt x="7961" y="21451"/>
                  <a:pt x="10676" y="20834"/>
                  <a:pt x="13182" y="19919"/>
                </a:cubicBezTo>
                <a:cubicBezTo>
                  <a:pt x="14683" y="19392"/>
                  <a:pt x="16158" y="18825"/>
                  <a:pt x="17580" y="18099"/>
                </a:cubicBezTo>
                <a:cubicBezTo>
                  <a:pt x="18363" y="17722"/>
                  <a:pt x="19146" y="17204"/>
                  <a:pt x="19734" y="16707"/>
                </a:cubicBezTo>
                <a:cubicBezTo>
                  <a:pt x="20465" y="16061"/>
                  <a:pt x="20987" y="15295"/>
                  <a:pt x="21208" y="14669"/>
                </a:cubicBezTo>
                <a:cubicBezTo>
                  <a:pt x="21378" y="14201"/>
                  <a:pt x="21600" y="13177"/>
                  <a:pt x="21600" y="13177"/>
                </a:cubicBezTo>
                <a:cubicBezTo>
                  <a:pt x="21600" y="13177"/>
                  <a:pt x="18468" y="12799"/>
                  <a:pt x="16797" y="12680"/>
                </a:cubicBezTo>
                <a:cubicBezTo>
                  <a:pt x="14839" y="12530"/>
                  <a:pt x="10898" y="12411"/>
                  <a:pt x="10898" y="12411"/>
                </a:cubicBezTo>
                <a:cubicBezTo>
                  <a:pt x="10898" y="12411"/>
                  <a:pt x="2976" y="0"/>
                  <a:pt x="2976" y="0"/>
                </a:cubicBezTo>
                <a:cubicBezTo>
                  <a:pt x="2976" y="0"/>
                  <a:pt x="2023" y="696"/>
                  <a:pt x="1501" y="975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16200" y="5867280"/>
            <a:ext cx="614520" cy="471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135" y="8467"/>
                </a:moveTo>
                <a:cubicBezTo>
                  <a:pt x="7284" y="9995"/>
                  <a:pt x="3135" y="8962"/>
                  <a:pt x="1235" y="12101"/>
                </a:cubicBezTo>
                <a:cubicBezTo>
                  <a:pt x="0" y="14249"/>
                  <a:pt x="2185" y="17635"/>
                  <a:pt x="3769" y="19411"/>
                </a:cubicBezTo>
                <a:cubicBezTo>
                  <a:pt x="5194" y="20980"/>
                  <a:pt x="7094" y="21600"/>
                  <a:pt x="8931" y="21476"/>
                </a:cubicBezTo>
                <a:cubicBezTo>
                  <a:pt x="10990" y="21393"/>
                  <a:pt x="13112" y="20526"/>
                  <a:pt x="14886" y="19494"/>
                </a:cubicBezTo>
                <a:cubicBezTo>
                  <a:pt x="17103" y="18172"/>
                  <a:pt x="18813" y="16396"/>
                  <a:pt x="19953" y="14166"/>
                </a:cubicBezTo>
                <a:cubicBezTo>
                  <a:pt x="20808" y="12720"/>
                  <a:pt x="21283" y="10862"/>
                  <a:pt x="21378" y="9003"/>
                </a:cubicBezTo>
                <a:cubicBezTo>
                  <a:pt x="21600" y="5163"/>
                  <a:pt x="20491" y="1156"/>
                  <a:pt x="19541" y="702"/>
                </a:cubicBezTo>
                <a:cubicBezTo>
                  <a:pt x="17958" y="0"/>
                  <a:pt x="16849" y="3387"/>
                  <a:pt x="15424" y="4543"/>
                </a:cubicBezTo>
                <a:cubicBezTo>
                  <a:pt x="13745" y="5906"/>
                  <a:pt x="12035" y="7517"/>
                  <a:pt x="10135" y="8467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249640" y="3760920"/>
            <a:ext cx="2225520" cy="2490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051" y="3580"/>
                </a:moveTo>
                <a:cubicBezTo>
                  <a:pt x="4692" y="4579"/>
                  <a:pt x="0" y="6467"/>
                  <a:pt x="0" y="6467"/>
                </a:cubicBezTo>
                <a:cubicBezTo>
                  <a:pt x="0" y="6467"/>
                  <a:pt x="629" y="8386"/>
                  <a:pt x="1284" y="9907"/>
                </a:cubicBezTo>
                <a:cubicBezTo>
                  <a:pt x="1617" y="10718"/>
                  <a:pt x="2595" y="13043"/>
                  <a:pt x="3845" y="15211"/>
                </a:cubicBezTo>
                <a:cubicBezTo>
                  <a:pt x="4413" y="16179"/>
                  <a:pt x="5112" y="17083"/>
                  <a:pt x="5811" y="17973"/>
                </a:cubicBezTo>
                <a:cubicBezTo>
                  <a:pt x="6317" y="18605"/>
                  <a:pt x="6964" y="19205"/>
                  <a:pt x="7646" y="19728"/>
                </a:cubicBezTo>
                <a:cubicBezTo>
                  <a:pt x="8345" y="20243"/>
                  <a:pt x="9114" y="20687"/>
                  <a:pt x="9900" y="21015"/>
                </a:cubicBezTo>
                <a:cubicBezTo>
                  <a:pt x="10617" y="21296"/>
                  <a:pt x="11359" y="21530"/>
                  <a:pt x="12146" y="21561"/>
                </a:cubicBezTo>
                <a:cubicBezTo>
                  <a:pt x="12993" y="21600"/>
                  <a:pt x="13850" y="21428"/>
                  <a:pt x="14653" y="21194"/>
                </a:cubicBezTo>
                <a:cubicBezTo>
                  <a:pt x="15798" y="20843"/>
                  <a:pt x="16908" y="20391"/>
                  <a:pt x="17895" y="19775"/>
                </a:cubicBezTo>
                <a:cubicBezTo>
                  <a:pt x="18769" y="19244"/>
                  <a:pt x="19547" y="18558"/>
                  <a:pt x="20123" y="17762"/>
                </a:cubicBezTo>
                <a:cubicBezTo>
                  <a:pt x="20665" y="17044"/>
                  <a:pt x="21015" y="16225"/>
                  <a:pt x="21303" y="15406"/>
                </a:cubicBezTo>
                <a:cubicBezTo>
                  <a:pt x="21539" y="14720"/>
                  <a:pt x="21600" y="14002"/>
                  <a:pt x="21583" y="13300"/>
                </a:cubicBezTo>
                <a:cubicBezTo>
                  <a:pt x="21565" y="12224"/>
                  <a:pt x="21434" y="11116"/>
                  <a:pt x="21146" y="10063"/>
                </a:cubicBezTo>
                <a:cubicBezTo>
                  <a:pt x="20910" y="9142"/>
                  <a:pt x="20490" y="8261"/>
                  <a:pt x="20080" y="7387"/>
                </a:cubicBezTo>
                <a:cubicBezTo>
                  <a:pt x="19660" y="6467"/>
                  <a:pt x="19136" y="5593"/>
                  <a:pt x="18629" y="4751"/>
                </a:cubicBezTo>
                <a:cubicBezTo>
                  <a:pt x="17712" y="3214"/>
                  <a:pt x="15728" y="0"/>
                  <a:pt x="15728" y="0"/>
                </a:cubicBezTo>
                <a:cubicBezTo>
                  <a:pt x="15728" y="0"/>
                  <a:pt x="9961" y="2340"/>
                  <a:pt x="7051" y="358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6320" y="3608280"/>
            <a:ext cx="1800360" cy="1024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714" y="3230"/>
                </a:moveTo>
                <a:cubicBezTo>
                  <a:pt x="21600" y="7124"/>
                  <a:pt x="17550" y="12671"/>
                  <a:pt x="12128" y="16756"/>
                </a:cubicBezTo>
                <a:cubicBezTo>
                  <a:pt x="7398" y="20327"/>
                  <a:pt x="2106" y="21600"/>
                  <a:pt x="1436" y="19719"/>
                </a:cubicBezTo>
                <a:cubicBezTo>
                  <a:pt x="0" y="15730"/>
                  <a:pt x="4104" y="8644"/>
                  <a:pt x="9590" y="4274"/>
                </a:cubicBezTo>
                <a:cubicBezTo>
                  <a:pt x="14958" y="0"/>
                  <a:pt x="20034" y="190"/>
                  <a:pt x="20714" y="323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58960" y="5178600"/>
            <a:ext cx="1683000" cy="89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324"/>
                </a:moveTo>
                <a:cubicBezTo>
                  <a:pt x="0" y="324"/>
                  <a:pt x="58" y="475"/>
                  <a:pt x="81" y="475"/>
                </a:cubicBezTo>
                <a:cubicBezTo>
                  <a:pt x="7185" y="410"/>
                  <a:pt x="21600" y="0"/>
                  <a:pt x="21600" y="0"/>
                </a:cubicBezTo>
                <a:cubicBezTo>
                  <a:pt x="21600" y="0"/>
                  <a:pt x="21461" y="5443"/>
                  <a:pt x="21103" y="8035"/>
                </a:cubicBezTo>
                <a:cubicBezTo>
                  <a:pt x="20618" y="11383"/>
                  <a:pt x="19556" y="14990"/>
                  <a:pt x="17961" y="17582"/>
                </a:cubicBezTo>
                <a:cubicBezTo>
                  <a:pt x="16367" y="20131"/>
                  <a:pt x="14346" y="21600"/>
                  <a:pt x="12279" y="21578"/>
                </a:cubicBezTo>
                <a:cubicBezTo>
                  <a:pt x="10257" y="21535"/>
                  <a:pt x="8282" y="20412"/>
                  <a:pt x="6642" y="18295"/>
                </a:cubicBezTo>
                <a:cubicBezTo>
                  <a:pt x="5082" y="16243"/>
                  <a:pt x="3789" y="13543"/>
                  <a:pt x="2749" y="10584"/>
                </a:cubicBezTo>
                <a:cubicBezTo>
                  <a:pt x="2079" y="8683"/>
                  <a:pt x="1525" y="6566"/>
                  <a:pt x="1005" y="4471"/>
                </a:cubicBezTo>
                <a:cubicBezTo>
                  <a:pt x="658" y="3110"/>
                  <a:pt x="0" y="324"/>
                  <a:pt x="0" y="324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76440" y="6230880"/>
            <a:ext cx="257040" cy="9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21600" y="21600"/>
                  <a:pt x="21600" y="2160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13160" y="5646600"/>
            <a:ext cx="122040" cy="946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2400" y="3333"/>
                  <a:pt x="19200" y="18309"/>
                  <a:pt x="21600" y="2160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02240" y="4714920"/>
            <a:ext cx="20520" cy="8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8100" y="8800"/>
                  <a:pt x="15300" y="15222"/>
                  <a:pt x="21600" y="2160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11800" y="4432320"/>
            <a:ext cx="14400" cy="86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0" y="0"/>
                  <a:pt x="11520" y="17646"/>
                  <a:pt x="21600" y="21600"/>
                </a:cubicBezTo>
              </a:path>
            </a:pathLst>
          </a:custGeom>
          <a:solidFill>
            <a:srgbClr val="000000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0440" y="4930920"/>
            <a:ext cx="649080" cy="344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417" y="3319"/>
                </a:moveTo>
                <a:cubicBezTo>
                  <a:pt x="17376" y="4894"/>
                  <a:pt x="18424" y="6188"/>
                  <a:pt x="19353" y="7706"/>
                </a:cubicBezTo>
                <a:cubicBezTo>
                  <a:pt x="20162" y="9113"/>
                  <a:pt x="20911" y="10406"/>
                  <a:pt x="21600" y="11644"/>
                </a:cubicBezTo>
                <a:cubicBezTo>
                  <a:pt x="20462" y="14344"/>
                  <a:pt x="19113" y="16425"/>
                  <a:pt x="17556" y="18113"/>
                </a:cubicBezTo>
                <a:cubicBezTo>
                  <a:pt x="15668" y="20250"/>
                  <a:pt x="13421" y="21375"/>
                  <a:pt x="11234" y="21488"/>
                </a:cubicBezTo>
                <a:cubicBezTo>
                  <a:pt x="8718" y="21600"/>
                  <a:pt x="6231" y="20644"/>
                  <a:pt x="4074" y="18394"/>
                </a:cubicBezTo>
                <a:cubicBezTo>
                  <a:pt x="2696" y="16819"/>
                  <a:pt x="1438" y="14344"/>
                  <a:pt x="839" y="11644"/>
                </a:cubicBezTo>
                <a:cubicBezTo>
                  <a:pt x="449" y="10069"/>
                  <a:pt x="180" y="8438"/>
                  <a:pt x="0" y="6863"/>
                </a:cubicBezTo>
                <a:cubicBezTo>
                  <a:pt x="2487" y="4613"/>
                  <a:pt x="5183" y="2363"/>
                  <a:pt x="7669" y="0"/>
                </a:cubicBezTo>
                <a:cubicBezTo>
                  <a:pt x="8029" y="1688"/>
                  <a:pt x="8538" y="3038"/>
                  <a:pt x="9077" y="4219"/>
                </a:cubicBezTo>
                <a:cubicBezTo>
                  <a:pt x="9976" y="6019"/>
                  <a:pt x="11264" y="6863"/>
                  <a:pt x="12672" y="6694"/>
                </a:cubicBezTo>
                <a:cubicBezTo>
                  <a:pt x="14021" y="6413"/>
                  <a:pt x="15309" y="5456"/>
                  <a:pt x="16417" y="3319"/>
                </a:cubicBezTo>
              </a:path>
            </a:pathLst>
          </a:custGeom>
          <a:solidFill>
            <a:srgbClr val="666666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27480" y="4896000"/>
            <a:ext cx="243000" cy="14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125"/>
                </a:moveTo>
                <a:cubicBezTo>
                  <a:pt x="160" y="14175"/>
                  <a:pt x="560" y="17955"/>
                  <a:pt x="1120" y="21600"/>
                </a:cubicBezTo>
                <a:cubicBezTo>
                  <a:pt x="7760" y="16200"/>
                  <a:pt x="14960" y="10800"/>
                  <a:pt x="21600" y="5130"/>
                </a:cubicBezTo>
                <a:cubicBezTo>
                  <a:pt x="21360" y="3375"/>
                  <a:pt x="21360" y="1755"/>
                  <a:pt x="21120" y="0"/>
                </a:cubicBezTo>
                <a:cubicBezTo>
                  <a:pt x="16800" y="2025"/>
                  <a:pt x="12960" y="4050"/>
                  <a:pt x="8560" y="6075"/>
                </a:cubicBezTo>
                <a:cubicBezTo>
                  <a:pt x="5760" y="7425"/>
                  <a:pt x="2960" y="8775"/>
                  <a:pt x="0" y="10125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27480" y="4405320"/>
            <a:ext cx="554040" cy="56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2553" y="1215"/>
                </a:moveTo>
                <a:cubicBezTo>
                  <a:pt x="8977" y="2535"/>
                  <a:pt x="6066" y="5105"/>
                  <a:pt x="3892" y="8057"/>
                </a:cubicBezTo>
                <a:cubicBezTo>
                  <a:pt x="1929" y="10765"/>
                  <a:pt x="526" y="13960"/>
                  <a:pt x="105" y="17294"/>
                </a:cubicBezTo>
                <a:cubicBezTo>
                  <a:pt x="0" y="18683"/>
                  <a:pt x="0" y="20211"/>
                  <a:pt x="35" y="21600"/>
                </a:cubicBezTo>
                <a:cubicBezTo>
                  <a:pt x="1332" y="21253"/>
                  <a:pt x="2560" y="20836"/>
                  <a:pt x="3787" y="20489"/>
                </a:cubicBezTo>
                <a:cubicBezTo>
                  <a:pt x="5716" y="19968"/>
                  <a:pt x="7574" y="19447"/>
                  <a:pt x="9468" y="18926"/>
                </a:cubicBezTo>
                <a:cubicBezTo>
                  <a:pt x="9292" y="18127"/>
                  <a:pt x="9152" y="17363"/>
                  <a:pt x="9292" y="16495"/>
                </a:cubicBezTo>
                <a:cubicBezTo>
                  <a:pt x="9573" y="14516"/>
                  <a:pt x="10730" y="12918"/>
                  <a:pt x="12097" y="11633"/>
                </a:cubicBezTo>
                <a:cubicBezTo>
                  <a:pt x="13079" y="10765"/>
                  <a:pt x="14412" y="9828"/>
                  <a:pt x="15814" y="9480"/>
                </a:cubicBezTo>
                <a:cubicBezTo>
                  <a:pt x="16586" y="9272"/>
                  <a:pt x="17357" y="9203"/>
                  <a:pt x="17988" y="9272"/>
                </a:cubicBezTo>
                <a:cubicBezTo>
                  <a:pt x="18690" y="7709"/>
                  <a:pt x="19391" y="6077"/>
                  <a:pt x="20022" y="4514"/>
                </a:cubicBezTo>
                <a:cubicBezTo>
                  <a:pt x="20548" y="3125"/>
                  <a:pt x="21074" y="1806"/>
                  <a:pt x="21600" y="521"/>
                </a:cubicBezTo>
                <a:cubicBezTo>
                  <a:pt x="21319" y="451"/>
                  <a:pt x="21074" y="417"/>
                  <a:pt x="20794" y="347"/>
                </a:cubicBezTo>
                <a:cubicBezTo>
                  <a:pt x="18514" y="0"/>
                  <a:pt x="15358" y="104"/>
                  <a:pt x="12553" y="1215"/>
                </a:cubicBezTo>
              </a:path>
            </a:pathLst>
          </a:custGeom>
          <a:solidFill>
            <a:srgbClr val="666666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9720" y="4419720"/>
            <a:ext cx="183960" cy="261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737"/>
                </a:moveTo>
                <a:cubicBezTo>
                  <a:pt x="18439" y="1479"/>
                  <a:pt x="14751" y="518"/>
                  <a:pt x="11063" y="0"/>
                </a:cubicBezTo>
                <a:cubicBezTo>
                  <a:pt x="9483" y="2737"/>
                  <a:pt x="7692" y="5548"/>
                  <a:pt x="6111" y="8507"/>
                </a:cubicBezTo>
                <a:cubicBezTo>
                  <a:pt x="4215" y="11836"/>
                  <a:pt x="2107" y="15164"/>
                  <a:pt x="0" y="18493"/>
                </a:cubicBezTo>
                <a:cubicBezTo>
                  <a:pt x="1054" y="18641"/>
                  <a:pt x="1897" y="18863"/>
                  <a:pt x="2845" y="19233"/>
                </a:cubicBezTo>
                <a:cubicBezTo>
                  <a:pt x="4741" y="19825"/>
                  <a:pt x="6638" y="20712"/>
                  <a:pt x="8219" y="21600"/>
                </a:cubicBezTo>
                <a:cubicBezTo>
                  <a:pt x="12644" y="15312"/>
                  <a:pt x="17069" y="9099"/>
                  <a:pt x="21600" y="2737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62560" y="4643280"/>
            <a:ext cx="347760" cy="3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79" y="14973"/>
                </a:moveTo>
                <a:cubicBezTo>
                  <a:pt x="19256" y="15562"/>
                  <a:pt x="18921" y="16053"/>
                  <a:pt x="18530" y="16593"/>
                </a:cubicBezTo>
                <a:cubicBezTo>
                  <a:pt x="18251" y="16936"/>
                  <a:pt x="17972" y="17182"/>
                  <a:pt x="17581" y="17525"/>
                </a:cubicBezTo>
                <a:cubicBezTo>
                  <a:pt x="17302" y="17820"/>
                  <a:pt x="17135" y="18164"/>
                  <a:pt x="16856" y="18507"/>
                </a:cubicBezTo>
                <a:cubicBezTo>
                  <a:pt x="14791" y="20373"/>
                  <a:pt x="12391" y="21207"/>
                  <a:pt x="9879" y="21453"/>
                </a:cubicBezTo>
                <a:cubicBezTo>
                  <a:pt x="7256" y="21600"/>
                  <a:pt x="4856" y="20864"/>
                  <a:pt x="3181" y="19293"/>
                </a:cubicBezTo>
                <a:cubicBezTo>
                  <a:pt x="2177" y="18262"/>
                  <a:pt x="1340" y="17035"/>
                  <a:pt x="670" y="15562"/>
                </a:cubicBezTo>
                <a:cubicBezTo>
                  <a:pt x="502" y="14973"/>
                  <a:pt x="391" y="14384"/>
                  <a:pt x="223" y="13745"/>
                </a:cubicBezTo>
                <a:cubicBezTo>
                  <a:pt x="0" y="12616"/>
                  <a:pt x="0" y="11438"/>
                  <a:pt x="223" y="10309"/>
                </a:cubicBezTo>
                <a:cubicBezTo>
                  <a:pt x="670" y="7511"/>
                  <a:pt x="2512" y="5253"/>
                  <a:pt x="4688" y="3436"/>
                </a:cubicBezTo>
                <a:cubicBezTo>
                  <a:pt x="6251" y="2209"/>
                  <a:pt x="8372" y="884"/>
                  <a:pt x="10605" y="393"/>
                </a:cubicBezTo>
                <a:cubicBezTo>
                  <a:pt x="11833" y="98"/>
                  <a:pt x="13060" y="0"/>
                  <a:pt x="14065" y="98"/>
                </a:cubicBezTo>
                <a:cubicBezTo>
                  <a:pt x="14623" y="147"/>
                  <a:pt x="15070" y="245"/>
                  <a:pt x="15572" y="491"/>
                </a:cubicBezTo>
                <a:cubicBezTo>
                  <a:pt x="16577" y="884"/>
                  <a:pt x="17581" y="1473"/>
                  <a:pt x="18419" y="2062"/>
                </a:cubicBezTo>
                <a:cubicBezTo>
                  <a:pt x="19758" y="3093"/>
                  <a:pt x="20595" y="4271"/>
                  <a:pt x="21042" y="5645"/>
                </a:cubicBezTo>
                <a:cubicBezTo>
                  <a:pt x="21600" y="7462"/>
                  <a:pt x="21600" y="9425"/>
                  <a:pt x="21153" y="11438"/>
                </a:cubicBezTo>
                <a:cubicBezTo>
                  <a:pt x="20930" y="12616"/>
                  <a:pt x="20316" y="13647"/>
                  <a:pt x="19479" y="14973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34000" y="4917960"/>
            <a:ext cx="227160" cy="1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770" y="21600"/>
                </a:moveTo>
                <a:cubicBezTo>
                  <a:pt x="15965" y="20107"/>
                  <a:pt x="17075" y="18614"/>
                  <a:pt x="17929" y="17121"/>
                </a:cubicBezTo>
                <a:cubicBezTo>
                  <a:pt x="19209" y="14732"/>
                  <a:pt x="20490" y="12442"/>
                  <a:pt x="21600" y="9954"/>
                </a:cubicBezTo>
                <a:cubicBezTo>
                  <a:pt x="18783" y="8461"/>
                  <a:pt x="15794" y="6968"/>
                  <a:pt x="12806" y="5176"/>
                </a:cubicBezTo>
                <a:cubicBezTo>
                  <a:pt x="9818" y="3484"/>
                  <a:pt x="7001" y="1792"/>
                  <a:pt x="4013" y="0"/>
                </a:cubicBezTo>
                <a:cubicBezTo>
                  <a:pt x="3159" y="2190"/>
                  <a:pt x="1878" y="4778"/>
                  <a:pt x="0" y="7167"/>
                </a:cubicBezTo>
                <a:cubicBezTo>
                  <a:pt x="2732" y="9954"/>
                  <a:pt x="5720" y="12243"/>
                  <a:pt x="8367" y="14931"/>
                </a:cubicBezTo>
                <a:cubicBezTo>
                  <a:pt x="10672" y="17419"/>
                  <a:pt x="12806" y="19410"/>
                  <a:pt x="14770" y="21600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56320" y="4449600"/>
            <a:ext cx="264960" cy="55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475" y="21600"/>
                </a:moveTo>
                <a:cubicBezTo>
                  <a:pt x="18525" y="19614"/>
                  <a:pt x="19989" y="17524"/>
                  <a:pt x="20721" y="15399"/>
                </a:cubicBezTo>
                <a:cubicBezTo>
                  <a:pt x="21600" y="12890"/>
                  <a:pt x="21600" y="10452"/>
                  <a:pt x="20502" y="8117"/>
                </a:cubicBezTo>
                <a:cubicBezTo>
                  <a:pt x="19184" y="5574"/>
                  <a:pt x="16841" y="3135"/>
                  <a:pt x="12960" y="1324"/>
                </a:cubicBezTo>
                <a:cubicBezTo>
                  <a:pt x="11862" y="801"/>
                  <a:pt x="10617" y="348"/>
                  <a:pt x="9299" y="0"/>
                </a:cubicBezTo>
                <a:cubicBezTo>
                  <a:pt x="6224" y="2961"/>
                  <a:pt x="3148" y="5923"/>
                  <a:pt x="0" y="8884"/>
                </a:cubicBezTo>
                <a:cubicBezTo>
                  <a:pt x="1831" y="9650"/>
                  <a:pt x="3075" y="10521"/>
                  <a:pt x="3661" y="11497"/>
                </a:cubicBezTo>
                <a:cubicBezTo>
                  <a:pt x="4393" y="12786"/>
                  <a:pt x="4393" y="14179"/>
                  <a:pt x="3807" y="15608"/>
                </a:cubicBezTo>
                <a:cubicBezTo>
                  <a:pt x="3515" y="16444"/>
                  <a:pt x="2929" y="17315"/>
                  <a:pt x="1831" y="18290"/>
                </a:cubicBezTo>
                <a:cubicBezTo>
                  <a:pt x="4247" y="18883"/>
                  <a:pt x="6590" y="19335"/>
                  <a:pt x="9153" y="19928"/>
                </a:cubicBezTo>
                <a:cubicBezTo>
                  <a:pt x="11715" y="20555"/>
                  <a:pt x="14132" y="21077"/>
                  <a:pt x="16475" y="21600"/>
                </a:cubicBezTo>
              </a:path>
            </a:pathLst>
          </a:custGeom>
          <a:solidFill>
            <a:srgbClr val="666666"/>
          </a:solidFill>
          <a:ln w="72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62400" y="4473720"/>
            <a:ext cx="433440" cy="43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0181"/>
                </a:moveTo>
                <a:cubicBezTo>
                  <a:pt x="0" y="17431"/>
                  <a:pt x="810" y="14637"/>
                  <a:pt x="1935" y="12197"/>
                </a:cubicBezTo>
                <a:cubicBezTo>
                  <a:pt x="2700" y="10556"/>
                  <a:pt x="3870" y="8871"/>
                  <a:pt x="5085" y="7629"/>
                </a:cubicBezTo>
                <a:cubicBezTo>
                  <a:pt x="6435" y="6298"/>
                  <a:pt x="8325" y="5322"/>
                  <a:pt x="9675" y="4125"/>
                </a:cubicBezTo>
                <a:cubicBezTo>
                  <a:pt x="11475" y="2439"/>
                  <a:pt x="13050" y="1464"/>
                  <a:pt x="14850" y="665"/>
                </a:cubicBezTo>
                <a:cubicBezTo>
                  <a:pt x="16470" y="0"/>
                  <a:pt x="19800" y="0"/>
                  <a:pt x="21510" y="310"/>
                </a:cubicBezTo>
                <a:cubicBezTo>
                  <a:pt x="21600" y="310"/>
                  <a:pt x="20520" y="3238"/>
                  <a:pt x="19935" y="4524"/>
                </a:cubicBezTo>
                <a:cubicBezTo>
                  <a:pt x="19710" y="5189"/>
                  <a:pt x="17145" y="5633"/>
                  <a:pt x="16470" y="5988"/>
                </a:cubicBezTo>
                <a:cubicBezTo>
                  <a:pt x="14175" y="7185"/>
                  <a:pt x="14085" y="7318"/>
                  <a:pt x="11835" y="8560"/>
                </a:cubicBezTo>
                <a:cubicBezTo>
                  <a:pt x="10395" y="9314"/>
                  <a:pt x="9360" y="11532"/>
                  <a:pt x="8100" y="12641"/>
                </a:cubicBezTo>
                <a:cubicBezTo>
                  <a:pt x="6975" y="13749"/>
                  <a:pt x="5985" y="14947"/>
                  <a:pt x="5625" y="16499"/>
                </a:cubicBezTo>
                <a:cubicBezTo>
                  <a:pt x="5220" y="17830"/>
                  <a:pt x="5760" y="19515"/>
                  <a:pt x="4950" y="20624"/>
                </a:cubicBezTo>
                <a:cubicBezTo>
                  <a:pt x="4410" y="21290"/>
                  <a:pt x="2295" y="21600"/>
                  <a:pt x="1575" y="21511"/>
                </a:cubicBezTo>
                <a:cubicBezTo>
                  <a:pt x="675" y="21423"/>
                  <a:pt x="0" y="21068"/>
                  <a:pt x="0" y="20181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97320" y="5010120"/>
            <a:ext cx="346320" cy="241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93" y="5319"/>
                </a:moveTo>
                <a:cubicBezTo>
                  <a:pt x="1403" y="9269"/>
                  <a:pt x="2805" y="12573"/>
                  <a:pt x="4601" y="15152"/>
                </a:cubicBezTo>
                <a:cubicBezTo>
                  <a:pt x="5610" y="16764"/>
                  <a:pt x="7013" y="18215"/>
                  <a:pt x="8247" y="19182"/>
                </a:cubicBezTo>
                <a:cubicBezTo>
                  <a:pt x="9650" y="19827"/>
                  <a:pt x="11221" y="19585"/>
                  <a:pt x="12455" y="20552"/>
                </a:cubicBezTo>
                <a:cubicBezTo>
                  <a:pt x="14306" y="21358"/>
                  <a:pt x="15709" y="21600"/>
                  <a:pt x="17112" y="21036"/>
                </a:cubicBezTo>
                <a:cubicBezTo>
                  <a:pt x="18346" y="20633"/>
                  <a:pt x="20478" y="18134"/>
                  <a:pt x="21432" y="16200"/>
                </a:cubicBezTo>
                <a:cubicBezTo>
                  <a:pt x="21600" y="16200"/>
                  <a:pt x="19749" y="12896"/>
                  <a:pt x="18907" y="11525"/>
                </a:cubicBezTo>
                <a:cubicBezTo>
                  <a:pt x="18514" y="10961"/>
                  <a:pt x="16719" y="12170"/>
                  <a:pt x="16158" y="12170"/>
                </a:cubicBezTo>
                <a:cubicBezTo>
                  <a:pt x="14194" y="12573"/>
                  <a:pt x="14138" y="12170"/>
                  <a:pt x="12175" y="12331"/>
                </a:cubicBezTo>
                <a:cubicBezTo>
                  <a:pt x="10940" y="12331"/>
                  <a:pt x="9538" y="9913"/>
                  <a:pt x="8303" y="9510"/>
                </a:cubicBezTo>
                <a:cubicBezTo>
                  <a:pt x="7125" y="8946"/>
                  <a:pt x="6171" y="7899"/>
                  <a:pt x="5218" y="6125"/>
                </a:cubicBezTo>
                <a:cubicBezTo>
                  <a:pt x="4601" y="4675"/>
                  <a:pt x="4208" y="1451"/>
                  <a:pt x="3254" y="645"/>
                </a:cubicBezTo>
                <a:cubicBezTo>
                  <a:pt x="2805" y="0"/>
                  <a:pt x="1234" y="1451"/>
                  <a:pt x="842" y="2015"/>
                </a:cubicBezTo>
                <a:cubicBezTo>
                  <a:pt x="281" y="3063"/>
                  <a:pt x="0" y="4110"/>
                  <a:pt x="393" y="5319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82720" y="2367000"/>
            <a:ext cx="1806480" cy="74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1" y="7148"/>
                </a:moveTo>
                <a:cubicBezTo>
                  <a:pt x="785" y="5367"/>
                  <a:pt x="1506" y="4058"/>
                  <a:pt x="2388" y="3718"/>
                </a:cubicBezTo>
                <a:cubicBezTo>
                  <a:pt x="3120" y="3456"/>
                  <a:pt x="3840" y="4503"/>
                  <a:pt x="4518" y="4503"/>
                </a:cubicBezTo>
                <a:cubicBezTo>
                  <a:pt x="5034" y="4503"/>
                  <a:pt x="5465" y="3665"/>
                  <a:pt x="5884" y="2828"/>
                </a:cubicBezTo>
                <a:cubicBezTo>
                  <a:pt x="6207" y="2095"/>
                  <a:pt x="6529" y="1361"/>
                  <a:pt x="6917" y="1309"/>
                </a:cubicBezTo>
                <a:cubicBezTo>
                  <a:pt x="7498" y="1178"/>
                  <a:pt x="8584" y="2618"/>
                  <a:pt x="8584" y="2618"/>
                </a:cubicBezTo>
                <a:cubicBezTo>
                  <a:pt x="8584" y="2618"/>
                  <a:pt x="9821" y="0"/>
                  <a:pt x="10520" y="340"/>
                </a:cubicBezTo>
                <a:cubicBezTo>
                  <a:pt x="10886" y="524"/>
                  <a:pt x="11402" y="576"/>
                  <a:pt x="11725" y="1309"/>
                </a:cubicBezTo>
                <a:cubicBezTo>
                  <a:pt x="12241" y="2435"/>
                  <a:pt x="12392" y="4320"/>
                  <a:pt x="12962" y="4660"/>
                </a:cubicBezTo>
                <a:cubicBezTo>
                  <a:pt x="13747" y="5184"/>
                  <a:pt x="14436" y="2828"/>
                  <a:pt x="15243" y="2618"/>
                </a:cubicBezTo>
                <a:cubicBezTo>
                  <a:pt x="15942" y="2435"/>
                  <a:pt x="16727" y="2540"/>
                  <a:pt x="17340" y="3404"/>
                </a:cubicBezTo>
                <a:cubicBezTo>
                  <a:pt x="17943" y="4189"/>
                  <a:pt x="18179" y="6284"/>
                  <a:pt x="18771" y="7148"/>
                </a:cubicBezTo>
                <a:cubicBezTo>
                  <a:pt x="19233" y="7802"/>
                  <a:pt x="19954" y="7383"/>
                  <a:pt x="20363" y="8247"/>
                </a:cubicBezTo>
                <a:cubicBezTo>
                  <a:pt x="20976" y="9556"/>
                  <a:pt x="21600" y="11729"/>
                  <a:pt x="21406" y="13667"/>
                </a:cubicBezTo>
                <a:cubicBezTo>
                  <a:pt x="21213" y="15447"/>
                  <a:pt x="20223" y="16285"/>
                  <a:pt x="19502" y="16835"/>
                </a:cubicBezTo>
                <a:cubicBezTo>
                  <a:pt x="19169" y="17149"/>
                  <a:pt x="18717" y="17071"/>
                  <a:pt x="18373" y="16756"/>
                </a:cubicBezTo>
                <a:cubicBezTo>
                  <a:pt x="18039" y="16416"/>
                  <a:pt x="17889" y="15238"/>
                  <a:pt x="17534" y="14924"/>
                </a:cubicBezTo>
                <a:cubicBezTo>
                  <a:pt x="17373" y="14845"/>
                  <a:pt x="17211" y="15264"/>
                  <a:pt x="16996" y="15238"/>
                </a:cubicBezTo>
                <a:cubicBezTo>
                  <a:pt x="16727" y="15185"/>
                  <a:pt x="16458" y="14531"/>
                  <a:pt x="16211" y="14662"/>
                </a:cubicBezTo>
                <a:cubicBezTo>
                  <a:pt x="15867" y="14845"/>
                  <a:pt x="15651" y="15788"/>
                  <a:pt x="15361" y="16180"/>
                </a:cubicBezTo>
                <a:cubicBezTo>
                  <a:pt x="15038" y="16573"/>
                  <a:pt x="14662" y="17201"/>
                  <a:pt x="14328" y="17018"/>
                </a:cubicBezTo>
                <a:cubicBezTo>
                  <a:pt x="13694" y="16756"/>
                  <a:pt x="12779" y="15631"/>
                  <a:pt x="12779" y="15631"/>
                </a:cubicBezTo>
                <a:cubicBezTo>
                  <a:pt x="12779" y="15631"/>
                  <a:pt x="12016" y="18144"/>
                  <a:pt x="11424" y="19191"/>
                </a:cubicBezTo>
                <a:cubicBezTo>
                  <a:pt x="11133" y="19715"/>
                  <a:pt x="10703" y="19898"/>
                  <a:pt x="10327" y="19767"/>
                </a:cubicBezTo>
                <a:cubicBezTo>
                  <a:pt x="9918" y="19636"/>
                  <a:pt x="9143" y="18537"/>
                  <a:pt x="9143" y="18537"/>
                </a:cubicBezTo>
                <a:cubicBezTo>
                  <a:pt x="9143" y="18537"/>
                  <a:pt x="8552" y="20422"/>
                  <a:pt x="8122" y="20893"/>
                </a:cubicBezTo>
                <a:cubicBezTo>
                  <a:pt x="7401" y="21600"/>
                  <a:pt x="6529" y="21286"/>
                  <a:pt x="5723" y="21155"/>
                </a:cubicBezTo>
                <a:cubicBezTo>
                  <a:pt x="5325" y="21129"/>
                  <a:pt x="4841" y="21155"/>
                  <a:pt x="4518" y="20605"/>
                </a:cubicBezTo>
                <a:cubicBezTo>
                  <a:pt x="4088" y="19898"/>
                  <a:pt x="3980" y="18380"/>
                  <a:pt x="3550" y="17594"/>
                </a:cubicBezTo>
                <a:cubicBezTo>
                  <a:pt x="3302" y="17149"/>
                  <a:pt x="2872" y="17620"/>
                  <a:pt x="2582" y="17149"/>
                </a:cubicBezTo>
                <a:cubicBezTo>
                  <a:pt x="2227" y="16442"/>
                  <a:pt x="2496" y="14609"/>
                  <a:pt x="2130" y="13824"/>
                </a:cubicBezTo>
                <a:cubicBezTo>
                  <a:pt x="1721" y="12881"/>
                  <a:pt x="882" y="13667"/>
                  <a:pt x="463" y="12698"/>
                </a:cubicBezTo>
                <a:cubicBezTo>
                  <a:pt x="161" y="12044"/>
                  <a:pt x="54" y="10918"/>
                  <a:pt x="32" y="9949"/>
                </a:cubicBezTo>
                <a:cubicBezTo>
                  <a:pt x="0" y="9033"/>
                  <a:pt x="108" y="7985"/>
                  <a:pt x="301" y="7148"/>
                </a:cubicBezTo>
              </a:path>
            </a:pathLst>
          </a:custGeom>
          <a:solidFill>
            <a:srgbClr val="ffffff"/>
          </a:solidFill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4320" y="2743200"/>
            <a:ext cx="1063800" cy="298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19" y="12687"/>
                </a:moveTo>
                <a:cubicBezTo>
                  <a:pt x="1699" y="12036"/>
                  <a:pt x="1334" y="11711"/>
                  <a:pt x="1188" y="10735"/>
                </a:cubicBezTo>
                <a:cubicBezTo>
                  <a:pt x="877" y="8588"/>
                  <a:pt x="0" y="5010"/>
                  <a:pt x="603" y="3513"/>
                </a:cubicBezTo>
                <a:cubicBezTo>
                  <a:pt x="1188" y="1952"/>
                  <a:pt x="1974" y="5660"/>
                  <a:pt x="2522" y="7287"/>
                </a:cubicBezTo>
                <a:cubicBezTo>
                  <a:pt x="3070" y="8913"/>
                  <a:pt x="3107" y="12687"/>
                  <a:pt x="3783" y="13598"/>
                </a:cubicBezTo>
                <a:cubicBezTo>
                  <a:pt x="4897" y="14964"/>
                  <a:pt x="6213" y="14118"/>
                  <a:pt x="7364" y="13272"/>
                </a:cubicBezTo>
                <a:cubicBezTo>
                  <a:pt x="7949" y="12817"/>
                  <a:pt x="8589" y="11711"/>
                  <a:pt x="8899" y="9889"/>
                </a:cubicBezTo>
                <a:cubicBezTo>
                  <a:pt x="9283" y="7742"/>
                  <a:pt x="8625" y="3513"/>
                  <a:pt x="9265" y="2407"/>
                </a:cubicBezTo>
                <a:cubicBezTo>
                  <a:pt x="10234" y="586"/>
                  <a:pt x="11458" y="2733"/>
                  <a:pt x="12518" y="3253"/>
                </a:cubicBezTo>
                <a:cubicBezTo>
                  <a:pt x="13121" y="3513"/>
                  <a:pt x="13706" y="5660"/>
                  <a:pt x="14345" y="5205"/>
                </a:cubicBezTo>
                <a:cubicBezTo>
                  <a:pt x="15131" y="4684"/>
                  <a:pt x="15570" y="781"/>
                  <a:pt x="16392" y="455"/>
                </a:cubicBezTo>
                <a:cubicBezTo>
                  <a:pt x="17269" y="0"/>
                  <a:pt x="18091" y="2407"/>
                  <a:pt x="18969" y="3253"/>
                </a:cubicBezTo>
                <a:cubicBezTo>
                  <a:pt x="19699" y="3904"/>
                  <a:pt x="20887" y="2407"/>
                  <a:pt x="21289" y="4814"/>
                </a:cubicBezTo>
                <a:cubicBezTo>
                  <a:pt x="21600" y="6636"/>
                  <a:pt x="20522" y="8718"/>
                  <a:pt x="19955" y="9108"/>
                </a:cubicBezTo>
                <a:cubicBezTo>
                  <a:pt x="18969" y="9889"/>
                  <a:pt x="17909" y="7612"/>
                  <a:pt x="16904" y="8263"/>
                </a:cubicBezTo>
                <a:cubicBezTo>
                  <a:pt x="16026" y="8783"/>
                  <a:pt x="15295" y="11060"/>
                  <a:pt x="14528" y="12817"/>
                </a:cubicBezTo>
                <a:cubicBezTo>
                  <a:pt x="14071" y="13988"/>
                  <a:pt x="13834" y="16590"/>
                  <a:pt x="13285" y="16916"/>
                </a:cubicBezTo>
                <a:cubicBezTo>
                  <a:pt x="12518" y="17371"/>
                  <a:pt x="11750" y="14443"/>
                  <a:pt x="10964" y="14769"/>
                </a:cubicBezTo>
                <a:cubicBezTo>
                  <a:pt x="9923" y="15419"/>
                  <a:pt x="9009" y="18152"/>
                  <a:pt x="8041" y="19648"/>
                </a:cubicBezTo>
                <a:cubicBezTo>
                  <a:pt x="7584" y="20429"/>
                  <a:pt x="7072" y="21600"/>
                  <a:pt x="6542" y="21600"/>
                </a:cubicBezTo>
                <a:cubicBezTo>
                  <a:pt x="5665" y="21470"/>
                  <a:pt x="4715" y="20819"/>
                  <a:pt x="3892" y="19323"/>
                </a:cubicBezTo>
                <a:cubicBezTo>
                  <a:pt x="3107" y="17696"/>
                  <a:pt x="2595" y="14769"/>
                  <a:pt x="1919" y="12687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6040" y="2797200"/>
            <a:ext cx="85680" cy="7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819" y="4966"/>
                </a:moveTo>
                <a:cubicBezTo>
                  <a:pt x="0" y="9186"/>
                  <a:pt x="455" y="16634"/>
                  <a:pt x="4547" y="18621"/>
                </a:cubicBezTo>
                <a:cubicBezTo>
                  <a:pt x="9095" y="21600"/>
                  <a:pt x="15461" y="17876"/>
                  <a:pt x="19326" y="14152"/>
                </a:cubicBezTo>
                <a:cubicBezTo>
                  <a:pt x="21600" y="11669"/>
                  <a:pt x="20008" y="7200"/>
                  <a:pt x="18644" y="4221"/>
                </a:cubicBezTo>
                <a:cubicBezTo>
                  <a:pt x="17507" y="2234"/>
                  <a:pt x="15461" y="0"/>
                  <a:pt x="13187" y="0"/>
                </a:cubicBezTo>
                <a:cubicBezTo>
                  <a:pt x="9095" y="0"/>
                  <a:pt x="3865" y="1241"/>
                  <a:pt x="1819" y="4966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33520" y="2728800"/>
            <a:ext cx="260280" cy="258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928" y="750"/>
                </a:moveTo>
                <a:cubicBezTo>
                  <a:pt x="10726" y="1725"/>
                  <a:pt x="12066" y="7350"/>
                  <a:pt x="10204" y="10125"/>
                </a:cubicBezTo>
                <a:cubicBezTo>
                  <a:pt x="8714" y="12600"/>
                  <a:pt x="5735" y="14250"/>
                  <a:pt x="3873" y="16500"/>
                </a:cubicBezTo>
                <a:cubicBezTo>
                  <a:pt x="2905" y="17625"/>
                  <a:pt x="0" y="20100"/>
                  <a:pt x="1490" y="20475"/>
                </a:cubicBezTo>
                <a:cubicBezTo>
                  <a:pt x="4841" y="21600"/>
                  <a:pt x="8491" y="19725"/>
                  <a:pt x="12066" y="19200"/>
                </a:cubicBezTo>
                <a:cubicBezTo>
                  <a:pt x="14450" y="18975"/>
                  <a:pt x="16908" y="19350"/>
                  <a:pt x="18993" y="18225"/>
                </a:cubicBezTo>
                <a:cubicBezTo>
                  <a:pt x="20259" y="17625"/>
                  <a:pt x="20781" y="15825"/>
                  <a:pt x="21004" y="14475"/>
                </a:cubicBezTo>
                <a:cubicBezTo>
                  <a:pt x="21228" y="12000"/>
                  <a:pt x="21600" y="9225"/>
                  <a:pt x="20483" y="6975"/>
                </a:cubicBezTo>
                <a:cubicBezTo>
                  <a:pt x="18993" y="4350"/>
                  <a:pt x="16759" y="0"/>
                  <a:pt x="13928" y="750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73360" y="2786040"/>
            <a:ext cx="114120" cy="109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50" y="15278"/>
                </a:moveTo>
                <a:cubicBezTo>
                  <a:pt x="0" y="18088"/>
                  <a:pt x="4762" y="20722"/>
                  <a:pt x="7654" y="21073"/>
                </a:cubicBezTo>
                <a:cubicBezTo>
                  <a:pt x="11906" y="21600"/>
                  <a:pt x="17008" y="21073"/>
                  <a:pt x="19049" y="17912"/>
                </a:cubicBezTo>
                <a:cubicBezTo>
                  <a:pt x="21600" y="14049"/>
                  <a:pt x="20920" y="8429"/>
                  <a:pt x="19049" y="4741"/>
                </a:cubicBezTo>
                <a:cubicBezTo>
                  <a:pt x="17858" y="2107"/>
                  <a:pt x="13946" y="0"/>
                  <a:pt x="11395" y="1756"/>
                </a:cubicBezTo>
                <a:cubicBezTo>
                  <a:pt x="6803" y="4741"/>
                  <a:pt x="2041" y="9659"/>
                  <a:pt x="850" y="15278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1240" y="2774880"/>
            <a:ext cx="103320" cy="96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15" y="10497"/>
                </a:moveTo>
                <a:cubicBezTo>
                  <a:pt x="0" y="14535"/>
                  <a:pt x="4696" y="21600"/>
                  <a:pt x="9203" y="21196"/>
                </a:cubicBezTo>
                <a:cubicBezTo>
                  <a:pt x="14838" y="20591"/>
                  <a:pt x="19158" y="14131"/>
                  <a:pt x="21037" y="8479"/>
                </a:cubicBezTo>
                <a:cubicBezTo>
                  <a:pt x="21600" y="5450"/>
                  <a:pt x="18783" y="0"/>
                  <a:pt x="15777" y="404"/>
                </a:cubicBezTo>
                <a:cubicBezTo>
                  <a:pt x="10143" y="807"/>
                  <a:pt x="3193" y="4441"/>
                  <a:pt x="1315" y="10497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60840" y="5224320"/>
            <a:ext cx="1558800" cy="187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1600" y="0"/>
                  <a:pt x="21600" y="14680"/>
                  <a:pt x="21600" y="14680"/>
                </a:cubicBezTo>
                <a:cubicBezTo>
                  <a:pt x="20827" y="14971"/>
                  <a:pt x="20041" y="15282"/>
                  <a:pt x="19293" y="15614"/>
                </a:cubicBezTo>
                <a:cubicBezTo>
                  <a:pt x="17235" y="16527"/>
                  <a:pt x="15514" y="17378"/>
                  <a:pt x="13369" y="18176"/>
                </a:cubicBezTo>
                <a:cubicBezTo>
                  <a:pt x="10563" y="19245"/>
                  <a:pt x="7657" y="21600"/>
                  <a:pt x="4602" y="21195"/>
                </a:cubicBezTo>
                <a:cubicBezTo>
                  <a:pt x="2893" y="20978"/>
                  <a:pt x="3367" y="18488"/>
                  <a:pt x="2494" y="17243"/>
                </a:cubicBezTo>
                <a:cubicBezTo>
                  <a:pt x="2045" y="16599"/>
                  <a:pt x="1147" y="16236"/>
                  <a:pt x="673" y="15614"/>
                </a:cubicBezTo>
                <a:cubicBezTo>
                  <a:pt x="337" y="15178"/>
                  <a:pt x="0" y="14659"/>
                  <a:pt x="25" y="14161"/>
                </a:cubicBezTo>
                <a:cubicBezTo>
                  <a:pt x="87" y="13093"/>
                  <a:pt x="187" y="11931"/>
                  <a:pt x="935" y="11070"/>
                </a:cubicBezTo>
                <a:cubicBezTo>
                  <a:pt x="1559" y="10354"/>
                  <a:pt x="3105" y="10603"/>
                  <a:pt x="3741" y="9908"/>
                </a:cubicBezTo>
                <a:cubicBezTo>
                  <a:pt x="4327" y="9285"/>
                  <a:pt x="5600" y="6484"/>
                  <a:pt x="5600" y="6484"/>
                </a:cubicBezTo>
                <a:cubicBezTo>
                  <a:pt x="5600" y="6484"/>
                  <a:pt x="11286" y="4388"/>
                  <a:pt x="14516" y="2677"/>
                </a:cubicBezTo>
                <a:cubicBezTo>
                  <a:pt x="16898" y="1899"/>
                  <a:pt x="19106" y="674"/>
                  <a:pt x="21600" y="0"/>
                </a:cubicBezTo>
              </a:path>
            </a:pathLst>
          </a:custGeom>
          <a:solidFill>
            <a:srgbClr val="e5e5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81520" y="5454720"/>
            <a:ext cx="1338120" cy="600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237" y="19078"/>
                  <a:pt x="4489" y="16588"/>
                  <a:pt x="6755" y="14325"/>
                </a:cubicBezTo>
                <a:cubicBezTo>
                  <a:pt x="8992" y="12126"/>
                  <a:pt x="11330" y="10250"/>
                  <a:pt x="13611" y="8084"/>
                </a:cubicBezTo>
                <a:cubicBezTo>
                  <a:pt x="15572" y="6208"/>
                  <a:pt x="17533" y="4430"/>
                  <a:pt x="19450" y="2328"/>
                </a:cubicBezTo>
                <a:cubicBezTo>
                  <a:pt x="20176" y="1552"/>
                  <a:pt x="20874" y="808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495680" y="5605560"/>
            <a:ext cx="1623960" cy="74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310" y="19636"/>
                  <a:pt x="4631" y="17673"/>
                  <a:pt x="6857" y="15316"/>
                </a:cubicBezTo>
                <a:cubicBezTo>
                  <a:pt x="7838" y="14269"/>
                  <a:pt x="8915" y="13274"/>
                  <a:pt x="9873" y="12175"/>
                </a:cubicBezTo>
                <a:cubicBezTo>
                  <a:pt x="11572" y="10394"/>
                  <a:pt x="13223" y="9033"/>
                  <a:pt x="14935" y="7436"/>
                </a:cubicBezTo>
                <a:cubicBezTo>
                  <a:pt x="16191" y="6257"/>
                  <a:pt x="17352" y="4844"/>
                  <a:pt x="18572" y="3587"/>
                </a:cubicBezTo>
                <a:cubicBezTo>
                  <a:pt x="19362" y="2801"/>
                  <a:pt x="20822" y="838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11800" y="5791320"/>
            <a:ext cx="1707840" cy="772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912" y="19334"/>
                  <a:pt x="3824" y="17043"/>
                  <a:pt x="5815" y="15155"/>
                </a:cubicBezTo>
                <a:cubicBezTo>
                  <a:pt x="7682" y="13343"/>
                  <a:pt x="9537" y="11757"/>
                  <a:pt x="11380" y="9944"/>
                </a:cubicBezTo>
                <a:cubicBezTo>
                  <a:pt x="12871" y="8559"/>
                  <a:pt x="14408" y="7175"/>
                  <a:pt x="15876" y="5589"/>
                </a:cubicBezTo>
                <a:cubicBezTo>
                  <a:pt x="17275" y="4078"/>
                  <a:pt x="18778" y="3071"/>
                  <a:pt x="20177" y="1561"/>
                </a:cubicBezTo>
                <a:cubicBezTo>
                  <a:pt x="20667" y="1057"/>
                  <a:pt x="21145" y="503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22680" y="5934240"/>
            <a:ext cx="159696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336" y="19432"/>
                  <a:pt x="4624" y="17265"/>
                  <a:pt x="6900" y="14842"/>
                </a:cubicBezTo>
                <a:cubicBezTo>
                  <a:pt x="8482" y="13184"/>
                  <a:pt x="10015" y="11476"/>
                  <a:pt x="11621" y="9818"/>
                </a:cubicBezTo>
                <a:cubicBezTo>
                  <a:pt x="12899" y="8518"/>
                  <a:pt x="14177" y="7191"/>
                  <a:pt x="15479" y="5993"/>
                </a:cubicBezTo>
                <a:cubicBezTo>
                  <a:pt x="16915" y="4692"/>
                  <a:pt x="18290" y="3239"/>
                  <a:pt x="19689" y="1836"/>
                </a:cubicBezTo>
                <a:cubicBezTo>
                  <a:pt x="20322" y="1250"/>
                  <a:pt x="20967" y="612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789440" y="6103800"/>
            <a:ext cx="1330200" cy="625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747" y="19020"/>
                  <a:pt x="5495" y="16317"/>
                  <a:pt x="8228" y="13675"/>
                </a:cubicBezTo>
                <a:cubicBezTo>
                  <a:pt x="10639" y="11344"/>
                  <a:pt x="13051" y="8920"/>
                  <a:pt x="15462" y="6496"/>
                </a:cubicBezTo>
                <a:cubicBezTo>
                  <a:pt x="16894" y="5035"/>
                  <a:pt x="18341" y="3419"/>
                  <a:pt x="19773" y="1865"/>
                </a:cubicBezTo>
                <a:cubicBezTo>
                  <a:pt x="20387" y="1305"/>
                  <a:pt x="21015" y="622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83240" y="6276960"/>
            <a:ext cx="1436400" cy="642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259" y="19631"/>
                  <a:pt x="4531" y="17722"/>
                  <a:pt x="6722" y="15511"/>
                </a:cubicBezTo>
                <a:cubicBezTo>
                  <a:pt x="8927" y="13269"/>
                  <a:pt x="11023" y="10542"/>
                  <a:pt x="13187" y="8240"/>
                </a:cubicBezTo>
                <a:cubicBezTo>
                  <a:pt x="14472" y="6877"/>
                  <a:pt x="15784" y="5695"/>
                  <a:pt x="17069" y="4453"/>
                </a:cubicBezTo>
                <a:cubicBezTo>
                  <a:pt x="18043" y="3544"/>
                  <a:pt x="18963" y="2636"/>
                  <a:pt x="19909" y="1666"/>
                </a:cubicBezTo>
                <a:cubicBezTo>
                  <a:pt x="20477" y="1060"/>
                  <a:pt x="21059" y="545"/>
                  <a:pt x="21600" y="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954680" y="6808680"/>
            <a:ext cx="60120" cy="13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093" y="6612"/>
                  <a:pt x="13540" y="13224"/>
                  <a:pt x="20310" y="19837"/>
                </a:cubicBezTo>
                <a:cubicBezTo>
                  <a:pt x="21600" y="21600"/>
                  <a:pt x="18699" y="18661"/>
                  <a:pt x="16119" y="15429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42040" y="6477120"/>
            <a:ext cx="55440" cy="128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6271" y="7250"/>
                  <a:pt x="21600" y="21600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81760" y="6416640"/>
            <a:ext cx="83880" cy="141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6039" y="5916"/>
                  <a:pt x="15329" y="15822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35440" y="6251400"/>
            <a:ext cx="68400" cy="11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6624" y="7256"/>
                  <a:pt x="14688" y="14344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53200" y="5791320"/>
            <a:ext cx="69840" cy="139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815" y="6271"/>
                  <a:pt x="15508" y="15329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859360" y="5904000"/>
            <a:ext cx="55800" cy="125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771"/>
                </a:moveTo>
                <a:cubicBezTo>
                  <a:pt x="2400" y="463"/>
                  <a:pt x="4114" y="0"/>
                  <a:pt x="4457" y="771"/>
                </a:cubicBezTo>
                <a:cubicBezTo>
                  <a:pt x="11314" y="7406"/>
                  <a:pt x="20571" y="21291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34160" y="5445000"/>
            <a:ext cx="58680" cy="114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7425" y="7143"/>
                  <a:pt x="14175" y="14797"/>
                  <a:pt x="21600" y="21600"/>
                </a:cubicBezTo>
              </a:path>
            </a:pathLst>
          </a:cu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20720" y="846000"/>
            <a:ext cx="5398920" cy="7559640"/>
          </a:xfrm>
          <a:prstGeom prst="rect">
            <a:avLst/>
          </a:prstGeom>
          <a:noFill/>
          <a:ln w="7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10320" y="4530600"/>
            <a:ext cx="187200" cy="435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7826" y="359"/>
                </a:moveTo>
                <a:cubicBezTo>
                  <a:pt x="12313" y="1344"/>
                  <a:pt x="15965" y="3002"/>
                  <a:pt x="18261" y="4616"/>
                </a:cubicBezTo>
                <a:cubicBezTo>
                  <a:pt x="19826" y="5602"/>
                  <a:pt x="20870" y="7080"/>
                  <a:pt x="21391" y="8380"/>
                </a:cubicBezTo>
                <a:cubicBezTo>
                  <a:pt x="21600" y="9724"/>
                  <a:pt x="20661" y="11203"/>
                  <a:pt x="20661" y="12682"/>
                </a:cubicBezTo>
                <a:cubicBezTo>
                  <a:pt x="21078" y="14430"/>
                  <a:pt x="20348" y="15685"/>
                  <a:pt x="19304" y="17119"/>
                </a:cubicBezTo>
                <a:cubicBezTo>
                  <a:pt x="18261" y="18373"/>
                  <a:pt x="13565" y="20524"/>
                  <a:pt x="10748" y="21510"/>
                </a:cubicBezTo>
                <a:cubicBezTo>
                  <a:pt x="10643" y="21600"/>
                  <a:pt x="7617" y="19852"/>
                  <a:pt x="6052" y="19046"/>
                </a:cubicBezTo>
                <a:cubicBezTo>
                  <a:pt x="5426" y="18598"/>
                  <a:pt x="7826" y="16715"/>
                  <a:pt x="8557" y="16357"/>
                </a:cubicBezTo>
                <a:cubicBezTo>
                  <a:pt x="9391" y="14430"/>
                  <a:pt x="9183" y="14116"/>
                  <a:pt x="10643" y="12324"/>
                </a:cubicBezTo>
                <a:cubicBezTo>
                  <a:pt x="11270" y="11114"/>
                  <a:pt x="9183" y="9724"/>
                  <a:pt x="9078" y="8425"/>
                </a:cubicBezTo>
                <a:cubicBezTo>
                  <a:pt x="8870" y="7305"/>
                  <a:pt x="8348" y="6139"/>
                  <a:pt x="6052" y="5378"/>
                </a:cubicBezTo>
                <a:cubicBezTo>
                  <a:pt x="4696" y="4616"/>
                  <a:pt x="1043" y="4257"/>
                  <a:pt x="313" y="3361"/>
                </a:cubicBezTo>
                <a:cubicBezTo>
                  <a:pt x="0" y="3002"/>
                  <a:pt x="2296" y="1344"/>
                  <a:pt x="3443" y="896"/>
                </a:cubicBezTo>
                <a:cubicBezTo>
                  <a:pt x="5009" y="314"/>
                  <a:pt x="6261" y="0"/>
                  <a:pt x="7826" y="359"/>
                </a:cubicBezTo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3T01:46:51Z</dcterms:created>
  <dc:creator>OfficeHamada</dc:creator>
  <dc:description/>
  <dc:language>en-US</dc:language>
  <cp:lastModifiedBy>OfficeHamada</cp:lastModifiedBy>
  <cp:lastPrinted>2016-03-03T11:15:20Z</cp:lastPrinted>
  <dcterms:modified xsi:type="dcterms:W3CDTF">2016-03-16T09:01:31Z</dcterms:modified>
  <cp:revision>25</cp:revision>
  <dc:subject/>
  <dc:title/>
</cp:coreProperties>
</file>