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2160" y="866880"/>
            <a:ext cx="5397480" cy="755640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2160" y="3916440"/>
            <a:ext cx="4106880" cy="1414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37"/>
                  <a:pt x="0" y="137"/>
                </a:cubicBezTo>
                <a:cubicBezTo>
                  <a:pt x="4805" y="110"/>
                  <a:pt x="9614" y="55"/>
                  <a:pt x="14419" y="0"/>
                </a:cubicBezTo>
                <a:cubicBezTo>
                  <a:pt x="16814" y="0"/>
                  <a:pt x="19205" y="0"/>
                  <a:pt x="21600" y="0"/>
                </a:cubicBezTo>
                <a:cubicBezTo>
                  <a:pt x="21477" y="907"/>
                  <a:pt x="21292" y="1786"/>
                  <a:pt x="21075" y="2116"/>
                </a:cubicBezTo>
                <a:cubicBezTo>
                  <a:pt x="20890" y="2377"/>
                  <a:pt x="20663" y="1910"/>
                  <a:pt x="20393" y="1855"/>
                </a:cubicBezTo>
                <a:cubicBezTo>
                  <a:pt x="19986" y="1759"/>
                  <a:pt x="19205" y="2501"/>
                  <a:pt x="19205" y="2501"/>
                </a:cubicBezTo>
                <a:cubicBezTo>
                  <a:pt x="19205" y="2501"/>
                  <a:pt x="19702" y="3682"/>
                  <a:pt x="19560" y="4795"/>
                </a:cubicBezTo>
                <a:cubicBezTo>
                  <a:pt x="19470" y="5565"/>
                  <a:pt x="19015" y="4960"/>
                  <a:pt x="18627" y="4947"/>
                </a:cubicBezTo>
                <a:cubicBezTo>
                  <a:pt x="17756" y="4919"/>
                  <a:pt x="16914" y="6156"/>
                  <a:pt x="16052" y="6733"/>
                </a:cubicBezTo>
                <a:cubicBezTo>
                  <a:pt x="15120" y="7392"/>
                  <a:pt x="14159" y="7846"/>
                  <a:pt x="13212" y="8423"/>
                </a:cubicBezTo>
                <a:cubicBezTo>
                  <a:pt x="12038" y="9124"/>
                  <a:pt x="10850" y="9976"/>
                  <a:pt x="9676" y="10731"/>
                </a:cubicBezTo>
                <a:cubicBezTo>
                  <a:pt x="9037" y="11144"/>
                  <a:pt x="8383" y="11515"/>
                  <a:pt x="7806" y="12380"/>
                </a:cubicBezTo>
                <a:cubicBezTo>
                  <a:pt x="7484" y="12889"/>
                  <a:pt x="7219" y="13685"/>
                  <a:pt x="6878" y="13947"/>
                </a:cubicBezTo>
                <a:cubicBezTo>
                  <a:pt x="6244" y="14441"/>
                  <a:pt x="5567" y="13713"/>
                  <a:pt x="4928" y="14070"/>
                </a:cubicBezTo>
                <a:cubicBezTo>
                  <a:pt x="4748" y="14180"/>
                  <a:pt x="4582" y="14565"/>
                  <a:pt x="4478" y="15101"/>
                </a:cubicBezTo>
                <a:cubicBezTo>
                  <a:pt x="4298" y="16090"/>
                  <a:pt x="4260" y="17272"/>
                  <a:pt x="3995" y="18069"/>
                </a:cubicBezTo>
                <a:cubicBezTo>
                  <a:pt x="3740" y="18838"/>
                  <a:pt x="3314" y="18893"/>
                  <a:pt x="3020" y="18330"/>
                </a:cubicBezTo>
                <a:cubicBezTo>
                  <a:pt x="2698" y="17711"/>
                  <a:pt x="2618" y="16392"/>
                  <a:pt x="2263" y="15856"/>
                </a:cubicBezTo>
                <a:cubicBezTo>
                  <a:pt x="2059" y="15568"/>
                  <a:pt x="1813" y="16008"/>
                  <a:pt x="1680" y="16653"/>
                </a:cubicBezTo>
                <a:cubicBezTo>
                  <a:pt x="1458" y="17684"/>
                  <a:pt x="1458" y="19044"/>
                  <a:pt x="1155" y="19869"/>
                </a:cubicBezTo>
                <a:cubicBezTo>
                  <a:pt x="828" y="20734"/>
                  <a:pt x="436" y="21284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2160" y="3914640"/>
            <a:ext cx="4927680" cy="15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9778"/>
                  <a:pt x="0" y="19778"/>
                </a:cubicBezTo>
                <a:cubicBezTo>
                  <a:pt x="363" y="19489"/>
                  <a:pt x="690" y="18986"/>
                  <a:pt x="963" y="18195"/>
                </a:cubicBezTo>
                <a:cubicBezTo>
                  <a:pt x="1215" y="17441"/>
                  <a:pt x="1215" y="16197"/>
                  <a:pt x="1401" y="15254"/>
                </a:cubicBezTo>
                <a:cubicBezTo>
                  <a:pt x="1511" y="14664"/>
                  <a:pt x="1716" y="14262"/>
                  <a:pt x="1886" y="14526"/>
                </a:cubicBezTo>
                <a:cubicBezTo>
                  <a:pt x="2182" y="15016"/>
                  <a:pt x="2249" y="16222"/>
                  <a:pt x="2517" y="16787"/>
                </a:cubicBezTo>
                <a:cubicBezTo>
                  <a:pt x="2762" y="17303"/>
                  <a:pt x="3117" y="17252"/>
                  <a:pt x="3330" y="16549"/>
                </a:cubicBezTo>
                <a:cubicBezTo>
                  <a:pt x="3551" y="15820"/>
                  <a:pt x="3582" y="14739"/>
                  <a:pt x="3732" y="13835"/>
                </a:cubicBezTo>
                <a:cubicBezTo>
                  <a:pt x="3819" y="13345"/>
                  <a:pt x="3957" y="12993"/>
                  <a:pt x="4107" y="12892"/>
                </a:cubicBezTo>
                <a:cubicBezTo>
                  <a:pt x="4640" y="12565"/>
                  <a:pt x="5204" y="13231"/>
                  <a:pt x="5732" y="12779"/>
                </a:cubicBezTo>
                <a:cubicBezTo>
                  <a:pt x="6016" y="12540"/>
                  <a:pt x="6237" y="11812"/>
                  <a:pt x="6506" y="11347"/>
                </a:cubicBezTo>
                <a:cubicBezTo>
                  <a:pt x="6987" y="10555"/>
                  <a:pt x="7531" y="10216"/>
                  <a:pt x="8064" y="9839"/>
                </a:cubicBezTo>
                <a:cubicBezTo>
                  <a:pt x="9042" y="9148"/>
                  <a:pt x="10033" y="8369"/>
                  <a:pt x="11011" y="7728"/>
                </a:cubicBezTo>
                <a:cubicBezTo>
                  <a:pt x="11800" y="7200"/>
                  <a:pt x="12601" y="6785"/>
                  <a:pt x="13378" y="6182"/>
                </a:cubicBezTo>
                <a:cubicBezTo>
                  <a:pt x="14096" y="5654"/>
                  <a:pt x="14798" y="4524"/>
                  <a:pt x="15524" y="4549"/>
                </a:cubicBezTo>
                <a:cubicBezTo>
                  <a:pt x="15848" y="4561"/>
                  <a:pt x="16227" y="5114"/>
                  <a:pt x="16302" y="4410"/>
                </a:cubicBezTo>
                <a:cubicBezTo>
                  <a:pt x="16420" y="3393"/>
                  <a:pt x="16006" y="2312"/>
                  <a:pt x="16006" y="2312"/>
                </a:cubicBezTo>
                <a:cubicBezTo>
                  <a:pt x="16006" y="2312"/>
                  <a:pt x="16657" y="1634"/>
                  <a:pt x="16996" y="1721"/>
                </a:cubicBezTo>
                <a:cubicBezTo>
                  <a:pt x="17221" y="1772"/>
                  <a:pt x="17410" y="2199"/>
                  <a:pt x="17564" y="1960"/>
                </a:cubicBezTo>
                <a:cubicBezTo>
                  <a:pt x="17746" y="1659"/>
                  <a:pt x="17892" y="829"/>
                  <a:pt x="17990" y="0"/>
                </a:cubicBezTo>
                <a:cubicBezTo>
                  <a:pt x="19193" y="0"/>
                  <a:pt x="20401" y="25"/>
                  <a:pt x="21600" y="25"/>
                </a:cubicBezTo>
                <a:cubicBezTo>
                  <a:pt x="21509" y="503"/>
                  <a:pt x="21363" y="993"/>
                  <a:pt x="21186" y="1345"/>
                </a:cubicBezTo>
                <a:cubicBezTo>
                  <a:pt x="20850" y="2010"/>
                  <a:pt x="20046" y="2337"/>
                  <a:pt x="20046" y="2337"/>
                </a:cubicBezTo>
                <a:cubicBezTo>
                  <a:pt x="20046" y="2337"/>
                  <a:pt x="20444" y="2224"/>
                  <a:pt x="20468" y="2689"/>
                </a:cubicBezTo>
                <a:cubicBezTo>
                  <a:pt x="20495" y="3141"/>
                  <a:pt x="20251" y="3393"/>
                  <a:pt x="20105" y="3518"/>
                </a:cubicBezTo>
                <a:cubicBezTo>
                  <a:pt x="19623" y="3996"/>
                  <a:pt x="19134" y="4461"/>
                  <a:pt x="18629" y="4549"/>
                </a:cubicBezTo>
                <a:cubicBezTo>
                  <a:pt x="18136" y="4624"/>
                  <a:pt x="17647" y="4335"/>
                  <a:pt x="17493" y="5466"/>
                </a:cubicBezTo>
                <a:cubicBezTo>
                  <a:pt x="17434" y="5881"/>
                  <a:pt x="17627" y="6258"/>
                  <a:pt x="17544" y="6810"/>
                </a:cubicBezTo>
                <a:cubicBezTo>
                  <a:pt x="17390" y="7728"/>
                  <a:pt x="16996" y="7125"/>
                  <a:pt x="16566" y="6974"/>
                </a:cubicBezTo>
                <a:cubicBezTo>
                  <a:pt x="15966" y="6723"/>
                  <a:pt x="15347" y="7099"/>
                  <a:pt x="14747" y="7313"/>
                </a:cubicBezTo>
                <a:cubicBezTo>
                  <a:pt x="14238" y="7502"/>
                  <a:pt x="13725" y="7853"/>
                  <a:pt x="13216" y="8142"/>
                </a:cubicBezTo>
                <a:cubicBezTo>
                  <a:pt x="12238" y="8746"/>
                  <a:pt x="11248" y="9311"/>
                  <a:pt x="10285" y="10090"/>
                </a:cubicBezTo>
                <a:cubicBezTo>
                  <a:pt x="9354" y="10844"/>
                  <a:pt x="8399" y="11510"/>
                  <a:pt x="7520" y="12779"/>
                </a:cubicBezTo>
                <a:cubicBezTo>
                  <a:pt x="7030" y="13483"/>
                  <a:pt x="6592" y="14526"/>
                  <a:pt x="6229" y="15795"/>
                </a:cubicBezTo>
                <a:cubicBezTo>
                  <a:pt x="6016" y="16549"/>
                  <a:pt x="5851" y="17441"/>
                  <a:pt x="5594" y="17981"/>
                </a:cubicBezTo>
                <a:cubicBezTo>
                  <a:pt x="5200" y="18798"/>
                  <a:pt x="4679" y="18785"/>
                  <a:pt x="4217" y="19162"/>
                </a:cubicBezTo>
                <a:cubicBezTo>
                  <a:pt x="3910" y="19426"/>
                  <a:pt x="3626" y="19866"/>
                  <a:pt x="3318" y="19992"/>
                </a:cubicBezTo>
                <a:cubicBezTo>
                  <a:pt x="2612" y="20306"/>
                  <a:pt x="1886" y="20054"/>
                  <a:pt x="1184" y="20431"/>
                </a:cubicBezTo>
                <a:cubicBezTo>
                  <a:pt x="777" y="20645"/>
                  <a:pt x="387" y="21097"/>
                  <a:pt x="0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722160" y="3909960"/>
            <a:ext cx="5397480" cy="297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206"/>
                  <a:pt x="21600" y="2206"/>
                </a:cubicBezTo>
                <a:cubicBezTo>
                  <a:pt x="21337" y="2305"/>
                  <a:pt x="21085" y="2403"/>
                  <a:pt x="20826" y="2527"/>
                </a:cubicBezTo>
                <a:cubicBezTo>
                  <a:pt x="19619" y="3117"/>
                  <a:pt x="18438" y="3883"/>
                  <a:pt x="17264" y="4701"/>
                </a:cubicBezTo>
                <a:cubicBezTo>
                  <a:pt x="15366" y="6017"/>
                  <a:pt x="13523" y="7503"/>
                  <a:pt x="11671" y="8950"/>
                </a:cubicBezTo>
                <a:cubicBezTo>
                  <a:pt x="10883" y="9566"/>
                  <a:pt x="10098" y="10155"/>
                  <a:pt x="9334" y="10810"/>
                </a:cubicBezTo>
                <a:cubicBezTo>
                  <a:pt x="8052" y="11910"/>
                  <a:pt x="6781" y="13088"/>
                  <a:pt x="5560" y="14431"/>
                </a:cubicBezTo>
                <a:cubicBezTo>
                  <a:pt x="4703" y="15386"/>
                  <a:pt x="3889" y="16493"/>
                  <a:pt x="3061" y="17547"/>
                </a:cubicBezTo>
                <a:cubicBezTo>
                  <a:pt x="2701" y="18012"/>
                  <a:pt x="2316" y="18457"/>
                  <a:pt x="1959" y="18922"/>
                </a:cubicBezTo>
                <a:cubicBezTo>
                  <a:pt x="1296" y="19786"/>
                  <a:pt x="648" y="20690"/>
                  <a:pt x="7" y="21600"/>
                </a:cubicBezTo>
                <a:cubicBezTo>
                  <a:pt x="7" y="21600"/>
                  <a:pt x="0" y="11288"/>
                  <a:pt x="0" y="11288"/>
                </a:cubicBezTo>
                <a:cubicBezTo>
                  <a:pt x="353" y="11026"/>
                  <a:pt x="709" y="10790"/>
                  <a:pt x="1080" y="10679"/>
                </a:cubicBezTo>
                <a:cubicBezTo>
                  <a:pt x="1721" y="10482"/>
                  <a:pt x="2384" y="10613"/>
                  <a:pt x="3029" y="10450"/>
                </a:cubicBezTo>
                <a:cubicBezTo>
                  <a:pt x="3310" y="10384"/>
                  <a:pt x="3569" y="10155"/>
                  <a:pt x="3850" y="10018"/>
                </a:cubicBezTo>
                <a:cubicBezTo>
                  <a:pt x="4271" y="9821"/>
                  <a:pt x="4746" y="9828"/>
                  <a:pt x="5107" y="9402"/>
                </a:cubicBezTo>
                <a:cubicBezTo>
                  <a:pt x="5341" y="9121"/>
                  <a:pt x="5492" y="8656"/>
                  <a:pt x="5686" y="8263"/>
                </a:cubicBezTo>
                <a:cubicBezTo>
                  <a:pt x="6018" y="7602"/>
                  <a:pt x="6417" y="7058"/>
                  <a:pt x="6864" y="6691"/>
                </a:cubicBezTo>
                <a:cubicBezTo>
                  <a:pt x="7667" y="6030"/>
                  <a:pt x="8538" y="5683"/>
                  <a:pt x="9388" y="5290"/>
                </a:cubicBezTo>
                <a:cubicBezTo>
                  <a:pt x="10267" y="4884"/>
                  <a:pt x="11171" y="4590"/>
                  <a:pt x="12064" y="4275"/>
                </a:cubicBezTo>
                <a:cubicBezTo>
                  <a:pt x="12529" y="4125"/>
                  <a:pt x="12997" y="3942"/>
                  <a:pt x="13461" y="3843"/>
                </a:cubicBezTo>
                <a:cubicBezTo>
                  <a:pt x="14009" y="3732"/>
                  <a:pt x="14574" y="3536"/>
                  <a:pt x="15121" y="3667"/>
                </a:cubicBezTo>
                <a:cubicBezTo>
                  <a:pt x="15514" y="3745"/>
                  <a:pt x="15874" y="4059"/>
                  <a:pt x="16015" y="3581"/>
                </a:cubicBezTo>
                <a:cubicBezTo>
                  <a:pt x="16090" y="3293"/>
                  <a:pt x="15914" y="3097"/>
                  <a:pt x="15968" y="2881"/>
                </a:cubicBezTo>
                <a:cubicBezTo>
                  <a:pt x="16108" y="2292"/>
                  <a:pt x="16555" y="2442"/>
                  <a:pt x="17005" y="2403"/>
                </a:cubicBezTo>
                <a:cubicBezTo>
                  <a:pt x="17466" y="2357"/>
                  <a:pt x="17912" y="2115"/>
                  <a:pt x="18352" y="1866"/>
                </a:cubicBezTo>
                <a:cubicBezTo>
                  <a:pt x="18485" y="1801"/>
                  <a:pt x="18708" y="1670"/>
                  <a:pt x="18683" y="1434"/>
                </a:cubicBezTo>
                <a:cubicBezTo>
                  <a:pt x="18683" y="1434"/>
                  <a:pt x="18298" y="1251"/>
                  <a:pt x="18298" y="1251"/>
                </a:cubicBezTo>
                <a:cubicBezTo>
                  <a:pt x="18298" y="1251"/>
                  <a:pt x="19032" y="1080"/>
                  <a:pt x="19338" y="733"/>
                </a:cubicBezTo>
                <a:cubicBezTo>
                  <a:pt x="19501" y="550"/>
                  <a:pt x="19627" y="268"/>
                  <a:pt x="19709" y="13"/>
                </a:cubicBezTo>
                <a:cubicBezTo>
                  <a:pt x="20336" y="13"/>
                  <a:pt x="20977" y="0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220760" y="4213080"/>
            <a:ext cx="4898880" cy="335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5277"/>
                  <a:pt x="21600" y="5277"/>
                </a:cubicBezTo>
                <a:cubicBezTo>
                  <a:pt x="21263" y="5387"/>
                  <a:pt x="20925" y="5526"/>
                  <a:pt x="20596" y="5688"/>
                </a:cubicBezTo>
                <a:cubicBezTo>
                  <a:pt x="19374" y="6268"/>
                  <a:pt x="18175" y="7040"/>
                  <a:pt x="16977" y="7793"/>
                </a:cubicBezTo>
                <a:cubicBezTo>
                  <a:pt x="16048" y="8385"/>
                  <a:pt x="15116" y="8965"/>
                  <a:pt x="14167" y="9562"/>
                </a:cubicBezTo>
                <a:cubicBezTo>
                  <a:pt x="13100" y="10246"/>
                  <a:pt x="12028" y="10954"/>
                  <a:pt x="10969" y="11684"/>
                </a:cubicBezTo>
                <a:cubicBezTo>
                  <a:pt x="10080" y="12293"/>
                  <a:pt x="9191" y="12954"/>
                  <a:pt x="8310" y="13650"/>
                </a:cubicBezTo>
                <a:cubicBezTo>
                  <a:pt x="7417" y="14352"/>
                  <a:pt x="6536" y="15129"/>
                  <a:pt x="5671" y="15935"/>
                </a:cubicBezTo>
                <a:cubicBezTo>
                  <a:pt x="5024" y="16526"/>
                  <a:pt x="4393" y="17164"/>
                  <a:pt x="3790" y="17773"/>
                </a:cubicBezTo>
                <a:cubicBezTo>
                  <a:pt x="3147" y="18428"/>
                  <a:pt x="2516" y="19112"/>
                  <a:pt x="1929" y="19773"/>
                </a:cubicBezTo>
                <a:cubicBezTo>
                  <a:pt x="1429" y="20342"/>
                  <a:pt x="944" y="20962"/>
                  <a:pt x="476" y="21600"/>
                </a:cubicBezTo>
                <a:cubicBezTo>
                  <a:pt x="536" y="21339"/>
                  <a:pt x="587" y="21078"/>
                  <a:pt x="647" y="20817"/>
                </a:cubicBezTo>
                <a:cubicBezTo>
                  <a:pt x="849" y="19895"/>
                  <a:pt x="1016" y="19089"/>
                  <a:pt x="1036" y="18266"/>
                </a:cubicBezTo>
                <a:cubicBezTo>
                  <a:pt x="1052" y="17500"/>
                  <a:pt x="925" y="16718"/>
                  <a:pt x="679" y="16033"/>
                </a:cubicBezTo>
                <a:cubicBezTo>
                  <a:pt x="500" y="15552"/>
                  <a:pt x="270" y="15117"/>
                  <a:pt x="0" y="14752"/>
                </a:cubicBezTo>
                <a:cubicBezTo>
                  <a:pt x="373" y="14352"/>
                  <a:pt x="790" y="13986"/>
                  <a:pt x="1171" y="13586"/>
                </a:cubicBezTo>
                <a:cubicBezTo>
                  <a:pt x="2083" y="12653"/>
                  <a:pt x="2980" y="11673"/>
                  <a:pt x="3925" y="10826"/>
                </a:cubicBezTo>
                <a:cubicBezTo>
                  <a:pt x="5270" y="9637"/>
                  <a:pt x="6671" y="8594"/>
                  <a:pt x="8084" y="7619"/>
                </a:cubicBezTo>
                <a:cubicBezTo>
                  <a:pt x="8925" y="7040"/>
                  <a:pt x="9790" y="6518"/>
                  <a:pt x="10659" y="5973"/>
                </a:cubicBezTo>
                <a:cubicBezTo>
                  <a:pt x="12699" y="4691"/>
                  <a:pt x="14731" y="3375"/>
                  <a:pt x="16822" y="2209"/>
                </a:cubicBezTo>
                <a:cubicBezTo>
                  <a:pt x="18116" y="1484"/>
                  <a:pt x="19417" y="806"/>
                  <a:pt x="20747" y="284"/>
                </a:cubicBezTo>
                <a:cubicBezTo>
                  <a:pt x="21033" y="174"/>
                  <a:pt x="21310" y="87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2160" y="5032440"/>
            <a:ext cx="5397480" cy="339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20270"/>
                  <a:pt x="0" y="20270"/>
                </a:cubicBezTo>
                <a:cubicBezTo>
                  <a:pt x="346" y="19582"/>
                  <a:pt x="702" y="18906"/>
                  <a:pt x="1073" y="18258"/>
                </a:cubicBezTo>
                <a:cubicBezTo>
                  <a:pt x="1473" y="17559"/>
                  <a:pt x="1898" y="16882"/>
                  <a:pt x="2337" y="16240"/>
                </a:cubicBezTo>
                <a:cubicBezTo>
                  <a:pt x="2791" y="15581"/>
                  <a:pt x="3263" y="14933"/>
                  <a:pt x="3749" y="14331"/>
                </a:cubicBezTo>
                <a:cubicBezTo>
                  <a:pt x="4282" y="13678"/>
                  <a:pt x="4854" y="13001"/>
                  <a:pt x="5438" y="12354"/>
                </a:cubicBezTo>
                <a:cubicBezTo>
                  <a:pt x="5985" y="11752"/>
                  <a:pt x="6558" y="11121"/>
                  <a:pt x="7145" y="10536"/>
                </a:cubicBezTo>
                <a:cubicBezTo>
                  <a:pt x="7930" y="9739"/>
                  <a:pt x="8729" y="8971"/>
                  <a:pt x="9540" y="8278"/>
                </a:cubicBezTo>
                <a:cubicBezTo>
                  <a:pt x="10339" y="7590"/>
                  <a:pt x="11146" y="6936"/>
                  <a:pt x="11952" y="6334"/>
                </a:cubicBezTo>
                <a:cubicBezTo>
                  <a:pt x="12914" y="5612"/>
                  <a:pt x="13886" y="4913"/>
                  <a:pt x="14855" y="4236"/>
                </a:cubicBezTo>
                <a:cubicBezTo>
                  <a:pt x="15716" y="3646"/>
                  <a:pt x="16562" y="3073"/>
                  <a:pt x="17405" y="2488"/>
                </a:cubicBezTo>
                <a:cubicBezTo>
                  <a:pt x="18492" y="1743"/>
                  <a:pt x="19580" y="980"/>
                  <a:pt x="20689" y="407"/>
                </a:cubicBezTo>
                <a:cubicBezTo>
                  <a:pt x="20988" y="246"/>
                  <a:pt x="21294" y="109"/>
                  <a:pt x="216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2160" y="866880"/>
            <a:ext cx="5397480" cy="220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17541"/>
                  <a:pt x="21600" y="17541"/>
                </a:cubicBezTo>
                <a:cubicBezTo>
                  <a:pt x="21445" y="17409"/>
                  <a:pt x="21301" y="17294"/>
                  <a:pt x="21143" y="17180"/>
                </a:cubicBezTo>
                <a:cubicBezTo>
                  <a:pt x="20620" y="16766"/>
                  <a:pt x="20095" y="16370"/>
                  <a:pt x="19555" y="16466"/>
                </a:cubicBezTo>
                <a:cubicBezTo>
                  <a:pt x="19284" y="16519"/>
                  <a:pt x="19032" y="16863"/>
                  <a:pt x="18777" y="17180"/>
                </a:cubicBezTo>
                <a:cubicBezTo>
                  <a:pt x="18352" y="17708"/>
                  <a:pt x="17920" y="18219"/>
                  <a:pt x="17473" y="18580"/>
                </a:cubicBezTo>
                <a:cubicBezTo>
                  <a:pt x="15744" y="19936"/>
                  <a:pt x="13926" y="20394"/>
                  <a:pt x="12125" y="20860"/>
                </a:cubicBezTo>
                <a:cubicBezTo>
                  <a:pt x="9900" y="21450"/>
                  <a:pt x="7653" y="21600"/>
                  <a:pt x="5567" y="20068"/>
                </a:cubicBezTo>
                <a:cubicBezTo>
                  <a:pt x="4998" y="19654"/>
                  <a:pt x="4505" y="18791"/>
                  <a:pt x="4080" y="17770"/>
                </a:cubicBezTo>
                <a:cubicBezTo>
                  <a:pt x="3828" y="17144"/>
                  <a:pt x="3565" y="16519"/>
                  <a:pt x="3263" y="16070"/>
                </a:cubicBezTo>
                <a:cubicBezTo>
                  <a:pt x="2661" y="15181"/>
                  <a:pt x="1937" y="14908"/>
                  <a:pt x="1224" y="14978"/>
                </a:cubicBezTo>
                <a:cubicBezTo>
                  <a:pt x="817" y="15040"/>
                  <a:pt x="407" y="15172"/>
                  <a:pt x="7" y="15357"/>
                </a:cubicBezTo>
                <a:cubicBezTo>
                  <a:pt x="7" y="15357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2160" y="2744640"/>
            <a:ext cx="5397480" cy="118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895"/>
                </a:moveTo>
                <a:cubicBezTo>
                  <a:pt x="21600" y="2895"/>
                  <a:pt x="21600" y="21320"/>
                  <a:pt x="21600" y="21320"/>
                </a:cubicBezTo>
                <a:cubicBezTo>
                  <a:pt x="20977" y="21320"/>
                  <a:pt x="20340" y="21320"/>
                  <a:pt x="19717" y="21320"/>
                </a:cubicBezTo>
                <a:cubicBezTo>
                  <a:pt x="18622" y="21320"/>
                  <a:pt x="17527" y="21320"/>
                  <a:pt x="16432" y="21320"/>
                </a:cubicBezTo>
                <a:cubicBezTo>
                  <a:pt x="14610" y="21353"/>
                  <a:pt x="12791" y="21403"/>
                  <a:pt x="10969" y="21435"/>
                </a:cubicBezTo>
                <a:cubicBezTo>
                  <a:pt x="7314" y="21501"/>
                  <a:pt x="3655" y="21567"/>
                  <a:pt x="0" y="21600"/>
                </a:cubicBezTo>
                <a:cubicBezTo>
                  <a:pt x="0" y="21600"/>
                  <a:pt x="0" y="4902"/>
                  <a:pt x="0" y="4902"/>
                </a:cubicBezTo>
                <a:cubicBezTo>
                  <a:pt x="223" y="5067"/>
                  <a:pt x="454" y="5116"/>
                  <a:pt x="677" y="4985"/>
                </a:cubicBezTo>
                <a:cubicBezTo>
                  <a:pt x="1102" y="4688"/>
                  <a:pt x="1473" y="3636"/>
                  <a:pt x="1891" y="3323"/>
                </a:cubicBezTo>
                <a:cubicBezTo>
                  <a:pt x="2521" y="2830"/>
                  <a:pt x="3169" y="3504"/>
                  <a:pt x="3781" y="4244"/>
                </a:cubicBezTo>
                <a:cubicBezTo>
                  <a:pt x="4465" y="5050"/>
                  <a:pt x="5060" y="7041"/>
                  <a:pt x="5740" y="7946"/>
                </a:cubicBezTo>
                <a:cubicBezTo>
                  <a:pt x="7382" y="10002"/>
                  <a:pt x="9143" y="9229"/>
                  <a:pt x="10836" y="8851"/>
                </a:cubicBezTo>
                <a:cubicBezTo>
                  <a:pt x="12449" y="8489"/>
                  <a:pt x="14048" y="7090"/>
                  <a:pt x="15636" y="5725"/>
                </a:cubicBezTo>
                <a:cubicBezTo>
                  <a:pt x="16292" y="5149"/>
                  <a:pt x="16951" y="4573"/>
                  <a:pt x="17595" y="3915"/>
                </a:cubicBezTo>
                <a:cubicBezTo>
                  <a:pt x="18215" y="3290"/>
                  <a:pt x="18852" y="2714"/>
                  <a:pt x="19457" y="1694"/>
                </a:cubicBezTo>
                <a:cubicBezTo>
                  <a:pt x="19789" y="1135"/>
                  <a:pt x="20095" y="395"/>
                  <a:pt x="20437" y="181"/>
                </a:cubicBezTo>
                <a:cubicBezTo>
                  <a:pt x="20754" y="0"/>
                  <a:pt x="21060" y="362"/>
                  <a:pt x="21283" y="1234"/>
                </a:cubicBezTo>
                <a:cubicBezTo>
                  <a:pt x="21409" y="1727"/>
                  <a:pt x="21510" y="2303"/>
                  <a:pt x="21600" y="2895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2160" y="2390760"/>
            <a:ext cx="539748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452"/>
                </a:moveTo>
                <a:cubicBezTo>
                  <a:pt x="21600" y="6452"/>
                  <a:pt x="21600" y="12278"/>
                  <a:pt x="21600" y="12278"/>
                </a:cubicBezTo>
                <a:cubicBezTo>
                  <a:pt x="21510" y="11501"/>
                  <a:pt x="21409" y="10746"/>
                  <a:pt x="21283" y="10099"/>
                </a:cubicBezTo>
                <a:cubicBezTo>
                  <a:pt x="21060" y="8955"/>
                  <a:pt x="20754" y="8480"/>
                  <a:pt x="20437" y="8718"/>
                </a:cubicBezTo>
                <a:cubicBezTo>
                  <a:pt x="20095" y="8998"/>
                  <a:pt x="19789" y="9969"/>
                  <a:pt x="19457" y="10703"/>
                </a:cubicBezTo>
                <a:cubicBezTo>
                  <a:pt x="18852" y="12041"/>
                  <a:pt x="18215" y="12796"/>
                  <a:pt x="17595" y="13616"/>
                </a:cubicBezTo>
                <a:cubicBezTo>
                  <a:pt x="16951" y="14479"/>
                  <a:pt x="16292" y="15234"/>
                  <a:pt x="15636" y="15990"/>
                </a:cubicBezTo>
                <a:cubicBezTo>
                  <a:pt x="14048" y="17781"/>
                  <a:pt x="12449" y="19615"/>
                  <a:pt x="10836" y="20090"/>
                </a:cubicBezTo>
                <a:cubicBezTo>
                  <a:pt x="9143" y="20586"/>
                  <a:pt x="7382" y="21600"/>
                  <a:pt x="5740" y="18903"/>
                </a:cubicBezTo>
                <a:cubicBezTo>
                  <a:pt x="5060" y="17716"/>
                  <a:pt x="4465" y="15105"/>
                  <a:pt x="3781" y="14048"/>
                </a:cubicBezTo>
                <a:cubicBezTo>
                  <a:pt x="3169" y="13077"/>
                  <a:pt x="2521" y="12192"/>
                  <a:pt x="1891" y="12839"/>
                </a:cubicBezTo>
                <a:cubicBezTo>
                  <a:pt x="1473" y="13249"/>
                  <a:pt x="1102" y="14630"/>
                  <a:pt x="677" y="15019"/>
                </a:cubicBezTo>
                <a:cubicBezTo>
                  <a:pt x="454" y="15191"/>
                  <a:pt x="234" y="15105"/>
                  <a:pt x="7" y="14868"/>
                </a:cubicBezTo>
                <a:cubicBezTo>
                  <a:pt x="7" y="14868"/>
                  <a:pt x="0" y="1100"/>
                  <a:pt x="0" y="1100"/>
                </a:cubicBezTo>
                <a:cubicBezTo>
                  <a:pt x="400" y="647"/>
                  <a:pt x="817" y="324"/>
                  <a:pt x="1224" y="173"/>
                </a:cubicBezTo>
                <a:cubicBezTo>
                  <a:pt x="1937" y="0"/>
                  <a:pt x="2661" y="669"/>
                  <a:pt x="3263" y="2848"/>
                </a:cubicBezTo>
                <a:cubicBezTo>
                  <a:pt x="3565" y="3949"/>
                  <a:pt x="3828" y="5481"/>
                  <a:pt x="4080" y="7013"/>
                </a:cubicBezTo>
                <a:cubicBezTo>
                  <a:pt x="4505" y="9516"/>
                  <a:pt x="4998" y="11631"/>
                  <a:pt x="5567" y="12645"/>
                </a:cubicBezTo>
                <a:cubicBezTo>
                  <a:pt x="7653" y="16400"/>
                  <a:pt x="9900" y="16033"/>
                  <a:pt x="12125" y="14587"/>
                </a:cubicBezTo>
                <a:cubicBezTo>
                  <a:pt x="13926" y="13443"/>
                  <a:pt x="15744" y="12321"/>
                  <a:pt x="17473" y="8998"/>
                </a:cubicBezTo>
                <a:cubicBezTo>
                  <a:pt x="17920" y="8113"/>
                  <a:pt x="18352" y="6862"/>
                  <a:pt x="18777" y="5567"/>
                </a:cubicBezTo>
                <a:cubicBezTo>
                  <a:pt x="19032" y="4790"/>
                  <a:pt x="19284" y="3949"/>
                  <a:pt x="19555" y="3819"/>
                </a:cubicBezTo>
                <a:cubicBezTo>
                  <a:pt x="20095" y="3582"/>
                  <a:pt x="20620" y="4553"/>
                  <a:pt x="21143" y="5567"/>
                </a:cubicBezTo>
                <a:cubicBezTo>
                  <a:pt x="21301" y="5848"/>
                  <a:pt x="21445" y="6128"/>
                  <a:pt x="21600" y="6452"/>
                </a:cubicBez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2160" y="1893960"/>
            <a:ext cx="5397480" cy="20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030"/>
                </a:moveTo>
                <a:cubicBezTo>
                  <a:pt x="21600" y="12030"/>
                  <a:pt x="21600" y="21437"/>
                  <a:pt x="21600" y="21437"/>
                </a:cubicBezTo>
                <a:cubicBezTo>
                  <a:pt x="17999" y="21456"/>
                  <a:pt x="14394" y="21485"/>
                  <a:pt x="10793" y="21504"/>
                </a:cubicBezTo>
                <a:cubicBezTo>
                  <a:pt x="7199" y="21543"/>
                  <a:pt x="3594" y="21581"/>
                  <a:pt x="0" y="21600"/>
                </a:cubicBezTo>
                <a:cubicBezTo>
                  <a:pt x="0" y="21600"/>
                  <a:pt x="0" y="16671"/>
                  <a:pt x="0" y="16671"/>
                </a:cubicBezTo>
                <a:cubicBezTo>
                  <a:pt x="439" y="16528"/>
                  <a:pt x="879" y="16289"/>
                  <a:pt x="1318" y="16030"/>
                </a:cubicBezTo>
                <a:cubicBezTo>
                  <a:pt x="2215" y="15475"/>
                  <a:pt x="3079" y="14633"/>
                  <a:pt x="3925" y="13695"/>
                </a:cubicBezTo>
                <a:cubicBezTo>
                  <a:pt x="4379" y="13197"/>
                  <a:pt x="4822" y="12556"/>
                  <a:pt x="5236" y="11838"/>
                </a:cubicBezTo>
                <a:cubicBezTo>
                  <a:pt x="5924" y="10642"/>
                  <a:pt x="6579" y="9302"/>
                  <a:pt x="7051" y="8297"/>
                </a:cubicBezTo>
                <a:cubicBezTo>
                  <a:pt x="7653" y="7025"/>
                  <a:pt x="8077" y="6087"/>
                  <a:pt x="8470" y="5063"/>
                </a:cubicBezTo>
                <a:cubicBezTo>
                  <a:pt x="8827" y="4125"/>
                  <a:pt x="9187" y="3196"/>
                  <a:pt x="9522" y="2211"/>
                </a:cubicBezTo>
                <a:cubicBezTo>
                  <a:pt x="9666" y="1780"/>
                  <a:pt x="9853" y="1369"/>
                  <a:pt x="10015" y="938"/>
                </a:cubicBezTo>
                <a:cubicBezTo>
                  <a:pt x="10177" y="488"/>
                  <a:pt x="10350" y="0"/>
                  <a:pt x="10548" y="105"/>
                </a:cubicBezTo>
                <a:cubicBezTo>
                  <a:pt x="10667" y="163"/>
                  <a:pt x="10728" y="565"/>
                  <a:pt x="10854" y="612"/>
                </a:cubicBezTo>
                <a:cubicBezTo>
                  <a:pt x="10944" y="632"/>
                  <a:pt x="11009" y="392"/>
                  <a:pt x="11099" y="287"/>
                </a:cubicBezTo>
                <a:cubicBezTo>
                  <a:pt x="11178" y="182"/>
                  <a:pt x="11362" y="163"/>
                  <a:pt x="11362" y="163"/>
                </a:cubicBezTo>
                <a:cubicBezTo>
                  <a:pt x="11362" y="163"/>
                  <a:pt x="11495" y="0"/>
                  <a:pt x="11556" y="38"/>
                </a:cubicBezTo>
                <a:cubicBezTo>
                  <a:pt x="11754" y="163"/>
                  <a:pt x="11888" y="679"/>
                  <a:pt x="12078" y="852"/>
                </a:cubicBezTo>
                <a:cubicBezTo>
                  <a:pt x="12280" y="1043"/>
                  <a:pt x="12503" y="995"/>
                  <a:pt x="12673" y="708"/>
                </a:cubicBezTo>
                <a:cubicBezTo>
                  <a:pt x="12745" y="593"/>
                  <a:pt x="12827" y="431"/>
                  <a:pt x="12827" y="431"/>
                </a:cubicBezTo>
                <a:cubicBezTo>
                  <a:pt x="12827" y="431"/>
                  <a:pt x="14095" y="2747"/>
                  <a:pt x="14725" y="3866"/>
                </a:cubicBezTo>
                <a:cubicBezTo>
                  <a:pt x="14995" y="4345"/>
                  <a:pt x="15276" y="4843"/>
                  <a:pt x="15554" y="5331"/>
                </a:cubicBezTo>
                <a:cubicBezTo>
                  <a:pt x="16195" y="6479"/>
                  <a:pt x="16854" y="7627"/>
                  <a:pt x="17567" y="8565"/>
                </a:cubicBezTo>
                <a:cubicBezTo>
                  <a:pt x="18121" y="9302"/>
                  <a:pt x="18708" y="10020"/>
                  <a:pt x="19302" y="10594"/>
                </a:cubicBezTo>
                <a:cubicBezTo>
                  <a:pt x="19961" y="11255"/>
                  <a:pt x="20646" y="11791"/>
                  <a:pt x="21337" y="11982"/>
                </a:cubicBezTo>
                <a:cubicBezTo>
                  <a:pt x="21420" y="12011"/>
                  <a:pt x="21510" y="12030"/>
                  <a:pt x="21600" y="1203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20760" y="4213080"/>
            <a:ext cx="489888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10" y="127"/>
                  <a:pt x="21033" y="255"/>
                  <a:pt x="20747" y="416"/>
                </a:cubicBezTo>
                <a:cubicBezTo>
                  <a:pt x="19417" y="1180"/>
                  <a:pt x="18116" y="2174"/>
                  <a:pt x="16822" y="3235"/>
                </a:cubicBezTo>
                <a:cubicBezTo>
                  <a:pt x="14731" y="4942"/>
                  <a:pt x="12699" y="6869"/>
                  <a:pt x="10659" y="8745"/>
                </a:cubicBezTo>
                <a:cubicBezTo>
                  <a:pt x="9790" y="9543"/>
                  <a:pt x="8925" y="10308"/>
                  <a:pt x="8084" y="11157"/>
                </a:cubicBezTo>
                <a:cubicBezTo>
                  <a:pt x="6671" y="12583"/>
                  <a:pt x="5270" y="14111"/>
                  <a:pt x="3925" y="15852"/>
                </a:cubicBezTo>
                <a:cubicBezTo>
                  <a:pt x="2980" y="17092"/>
                  <a:pt x="2083" y="18526"/>
                  <a:pt x="1171" y="19893"/>
                </a:cubicBezTo>
                <a:cubicBezTo>
                  <a:pt x="790" y="20479"/>
                  <a:pt x="373" y="21014"/>
                  <a:pt x="0" y="21600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33520" y="4562640"/>
            <a:ext cx="4686120" cy="22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198" y="229"/>
                  <a:pt x="20800" y="483"/>
                  <a:pt x="20397" y="762"/>
                </a:cubicBezTo>
                <a:cubicBezTo>
                  <a:pt x="19120" y="1643"/>
                  <a:pt x="18062" y="2423"/>
                  <a:pt x="17025" y="3312"/>
                </a:cubicBezTo>
                <a:cubicBezTo>
                  <a:pt x="16196" y="4024"/>
                  <a:pt x="15379" y="4803"/>
                  <a:pt x="14740" y="5421"/>
                </a:cubicBezTo>
                <a:cubicBezTo>
                  <a:pt x="13521" y="6599"/>
                  <a:pt x="12281" y="7844"/>
                  <a:pt x="11036" y="9072"/>
                </a:cubicBezTo>
                <a:cubicBezTo>
                  <a:pt x="10033" y="10046"/>
                  <a:pt x="9029" y="11020"/>
                  <a:pt x="8034" y="12037"/>
                </a:cubicBezTo>
                <a:cubicBezTo>
                  <a:pt x="6682" y="13417"/>
                  <a:pt x="5350" y="14857"/>
                  <a:pt x="4089" y="16340"/>
                </a:cubicBezTo>
                <a:cubicBezTo>
                  <a:pt x="3247" y="17339"/>
                  <a:pt x="2513" y="18136"/>
                  <a:pt x="1829" y="19025"/>
                </a:cubicBezTo>
                <a:cubicBezTo>
                  <a:pt x="1203" y="19838"/>
                  <a:pt x="552" y="20787"/>
                  <a:pt x="0" y="21600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2160" y="6858000"/>
            <a:ext cx="735120" cy="13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25"/>
                </a:moveTo>
                <a:cubicBezTo>
                  <a:pt x="528" y="9153"/>
                  <a:pt x="1003" y="8881"/>
                  <a:pt x="1532" y="8594"/>
                </a:cubicBezTo>
                <a:cubicBezTo>
                  <a:pt x="2324" y="8193"/>
                  <a:pt x="3116" y="7864"/>
                  <a:pt x="3908" y="7463"/>
                </a:cubicBezTo>
                <a:cubicBezTo>
                  <a:pt x="4568" y="7162"/>
                  <a:pt x="5255" y="6847"/>
                  <a:pt x="5941" y="6546"/>
                </a:cubicBezTo>
                <a:cubicBezTo>
                  <a:pt x="7631" y="5686"/>
                  <a:pt x="9321" y="4827"/>
                  <a:pt x="11143" y="4025"/>
                </a:cubicBezTo>
                <a:cubicBezTo>
                  <a:pt x="14259" y="2607"/>
                  <a:pt x="17586" y="1289"/>
                  <a:pt x="20940" y="0"/>
                </a:cubicBezTo>
                <a:cubicBezTo>
                  <a:pt x="21389" y="988"/>
                  <a:pt x="21600" y="2034"/>
                  <a:pt x="21547" y="3037"/>
                </a:cubicBezTo>
                <a:cubicBezTo>
                  <a:pt x="21415" y="5071"/>
                  <a:pt x="20306" y="7062"/>
                  <a:pt x="18959" y="9339"/>
                </a:cubicBezTo>
                <a:cubicBezTo>
                  <a:pt x="18616" y="9912"/>
                  <a:pt x="18326" y="10499"/>
                  <a:pt x="17982" y="11086"/>
                </a:cubicBezTo>
                <a:cubicBezTo>
                  <a:pt x="17692" y="11201"/>
                  <a:pt x="17428" y="11416"/>
                  <a:pt x="17137" y="11531"/>
                </a:cubicBezTo>
                <a:cubicBezTo>
                  <a:pt x="13916" y="13135"/>
                  <a:pt x="10800" y="14825"/>
                  <a:pt x="7869" y="16572"/>
                </a:cubicBezTo>
                <a:cubicBezTo>
                  <a:pt x="5149" y="18191"/>
                  <a:pt x="2535" y="19881"/>
                  <a:pt x="0" y="21600"/>
                </a:cubicBezTo>
                <a:cubicBezTo>
                  <a:pt x="0" y="21600"/>
                  <a:pt x="0" y="9425"/>
                  <a:pt x="0" y="942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2160" y="6504120"/>
            <a:ext cx="712800" cy="9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090"/>
                </a:moveTo>
                <a:cubicBezTo>
                  <a:pt x="21191" y="6858"/>
                  <a:pt x="20538" y="5667"/>
                  <a:pt x="19775" y="4538"/>
                </a:cubicBezTo>
                <a:cubicBezTo>
                  <a:pt x="18549" y="2833"/>
                  <a:pt x="16969" y="1294"/>
                  <a:pt x="15117" y="0"/>
                </a:cubicBezTo>
                <a:cubicBezTo>
                  <a:pt x="14981" y="62"/>
                  <a:pt x="14927" y="123"/>
                  <a:pt x="14818" y="185"/>
                </a:cubicBezTo>
                <a:cubicBezTo>
                  <a:pt x="9806" y="2895"/>
                  <a:pt x="4903" y="5729"/>
                  <a:pt x="54" y="8583"/>
                </a:cubicBezTo>
                <a:cubicBezTo>
                  <a:pt x="54" y="8583"/>
                  <a:pt x="0" y="21600"/>
                  <a:pt x="0" y="21600"/>
                </a:cubicBezTo>
                <a:cubicBezTo>
                  <a:pt x="3732" y="18972"/>
                  <a:pt x="7518" y="16323"/>
                  <a:pt x="11495" y="13859"/>
                </a:cubicBezTo>
                <a:cubicBezTo>
                  <a:pt x="14709" y="11827"/>
                  <a:pt x="18141" y="9938"/>
                  <a:pt x="21600" y="809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2160" y="5032440"/>
            <a:ext cx="5397480" cy="3182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294" y="116"/>
                  <a:pt x="20988" y="263"/>
                  <a:pt x="20689" y="434"/>
                </a:cubicBezTo>
                <a:cubicBezTo>
                  <a:pt x="19580" y="1045"/>
                  <a:pt x="18492" y="1857"/>
                  <a:pt x="17405" y="2651"/>
                </a:cubicBezTo>
                <a:cubicBezTo>
                  <a:pt x="16562" y="3274"/>
                  <a:pt x="15716" y="3885"/>
                  <a:pt x="14855" y="4514"/>
                </a:cubicBezTo>
                <a:cubicBezTo>
                  <a:pt x="13886" y="5235"/>
                  <a:pt x="12914" y="5980"/>
                  <a:pt x="11952" y="6750"/>
                </a:cubicBezTo>
                <a:cubicBezTo>
                  <a:pt x="11146" y="7391"/>
                  <a:pt x="10339" y="8088"/>
                  <a:pt x="9540" y="8821"/>
                </a:cubicBezTo>
                <a:cubicBezTo>
                  <a:pt x="8729" y="9560"/>
                  <a:pt x="7930" y="10379"/>
                  <a:pt x="7145" y="11228"/>
                </a:cubicBezTo>
                <a:cubicBezTo>
                  <a:pt x="6558" y="11851"/>
                  <a:pt x="5985" y="12523"/>
                  <a:pt x="5438" y="13164"/>
                </a:cubicBezTo>
                <a:cubicBezTo>
                  <a:pt x="4854" y="13854"/>
                  <a:pt x="4282" y="14575"/>
                  <a:pt x="3749" y="15271"/>
                </a:cubicBezTo>
                <a:cubicBezTo>
                  <a:pt x="3263" y="15913"/>
                  <a:pt x="2791" y="16603"/>
                  <a:pt x="2337" y="17306"/>
                </a:cubicBezTo>
                <a:cubicBezTo>
                  <a:pt x="1898" y="17990"/>
                  <a:pt x="1473" y="18711"/>
                  <a:pt x="1073" y="19456"/>
                </a:cubicBezTo>
                <a:cubicBezTo>
                  <a:pt x="702" y="20146"/>
                  <a:pt x="346" y="20867"/>
                  <a:pt x="0" y="21600"/>
                </a:cubicBezTo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16160" y="1981080"/>
            <a:ext cx="2141640" cy="1930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88"/>
                </a:moveTo>
                <a:cubicBezTo>
                  <a:pt x="363" y="956"/>
                  <a:pt x="953" y="674"/>
                  <a:pt x="1317" y="433"/>
                </a:cubicBezTo>
                <a:cubicBezTo>
                  <a:pt x="1553" y="282"/>
                  <a:pt x="1770" y="0"/>
                  <a:pt x="2043" y="20"/>
                </a:cubicBezTo>
                <a:cubicBezTo>
                  <a:pt x="2615" y="81"/>
                  <a:pt x="3141" y="503"/>
                  <a:pt x="3704" y="674"/>
                </a:cubicBezTo>
                <a:cubicBezTo>
                  <a:pt x="4158" y="825"/>
                  <a:pt x="4612" y="1017"/>
                  <a:pt x="5066" y="986"/>
                </a:cubicBezTo>
                <a:cubicBezTo>
                  <a:pt x="5811" y="976"/>
                  <a:pt x="6528" y="715"/>
                  <a:pt x="7273" y="584"/>
                </a:cubicBezTo>
                <a:cubicBezTo>
                  <a:pt x="7545" y="533"/>
                  <a:pt x="7890" y="262"/>
                  <a:pt x="8063" y="473"/>
                </a:cubicBezTo>
                <a:cubicBezTo>
                  <a:pt x="8335" y="825"/>
                  <a:pt x="8335" y="1379"/>
                  <a:pt x="8244" y="1832"/>
                </a:cubicBezTo>
                <a:cubicBezTo>
                  <a:pt x="8126" y="2375"/>
                  <a:pt x="7481" y="2697"/>
                  <a:pt x="7463" y="3231"/>
                </a:cubicBezTo>
                <a:cubicBezTo>
                  <a:pt x="7445" y="3644"/>
                  <a:pt x="7854" y="3976"/>
                  <a:pt x="8144" y="4227"/>
                </a:cubicBezTo>
                <a:cubicBezTo>
                  <a:pt x="8498" y="4529"/>
                  <a:pt x="9116" y="4429"/>
                  <a:pt x="9334" y="4831"/>
                </a:cubicBezTo>
                <a:cubicBezTo>
                  <a:pt x="9624" y="5395"/>
                  <a:pt x="9116" y="6271"/>
                  <a:pt x="9506" y="6754"/>
                </a:cubicBezTo>
                <a:cubicBezTo>
                  <a:pt x="9779" y="7096"/>
                  <a:pt x="10460" y="6341"/>
                  <a:pt x="10768" y="6663"/>
                </a:cubicBezTo>
                <a:cubicBezTo>
                  <a:pt x="11177" y="7096"/>
                  <a:pt x="10814" y="7982"/>
                  <a:pt x="11140" y="8475"/>
                </a:cubicBezTo>
                <a:cubicBezTo>
                  <a:pt x="11377" y="8837"/>
                  <a:pt x="11976" y="8626"/>
                  <a:pt x="12284" y="8908"/>
                </a:cubicBezTo>
                <a:cubicBezTo>
                  <a:pt x="12693" y="9270"/>
                  <a:pt x="12856" y="9874"/>
                  <a:pt x="13202" y="10307"/>
                </a:cubicBezTo>
                <a:cubicBezTo>
                  <a:pt x="13510" y="10679"/>
                  <a:pt x="14109" y="10800"/>
                  <a:pt x="14273" y="11283"/>
                </a:cubicBezTo>
                <a:cubicBezTo>
                  <a:pt x="14627" y="12380"/>
                  <a:pt x="13783" y="14021"/>
                  <a:pt x="14600" y="14756"/>
                </a:cubicBezTo>
                <a:cubicBezTo>
                  <a:pt x="15199" y="15289"/>
                  <a:pt x="15381" y="13286"/>
                  <a:pt x="15608" y="12461"/>
                </a:cubicBezTo>
                <a:cubicBezTo>
                  <a:pt x="15735" y="12038"/>
                  <a:pt x="15226" y="10981"/>
                  <a:pt x="15608" y="11102"/>
                </a:cubicBezTo>
                <a:cubicBezTo>
                  <a:pt x="16425" y="11364"/>
                  <a:pt x="16897" y="12360"/>
                  <a:pt x="17460" y="13065"/>
                </a:cubicBezTo>
                <a:cubicBezTo>
                  <a:pt x="17787" y="13477"/>
                  <a:pt x="17905" y="14122"/>
                  <a:pt x="18313" y="14423"/>
                </a:cubicBezTo>
                <a:cubicBezTo>
                  <a:pt x="18876" y="14856"/>
                  <a:pt x="19657" y="14806"/>
                  <a:pt x="20265" y="15158"/>
                </a:cubicBezTo>
                <a:cubicBezTo>
                  <a:pt x="20710" y="15410"/>
                  <a:pt x="21309" y="15692"/>
                  <a:pt x="21427" y="16235"/>
                </a:cubicBezTo>
                <a:cubicBezTo>
                  <a:pt x="21600" y="17121"/>
                  <a:pt x="21446" y="18127"/>
                  <a:pt x="21019" y="18913"/>
                </a:cubicBezTo>
                <a:cubicBezTo>
                  <a:pt x="20674" y="19516"/>
                  <a:pt x="19911" y="19667"/>
                  <a:pt x="19330" y="19939"/>
                </a:cubicBezTo>
                <a:cubicBezTo>
                  <a:pt x="18822" y="20181"/>
                  <a:pt x="18277" y="20271"/>
                  <a:pt x="17768" y="20503"/>
                </a:cubicBezTo>
                <a:cubicBezTo>
                  <a:pt x="17496" y="20634"/>
                  <a:pt x="16997" y="20674"/>
                  <a:pt x="17015" y="20996"/>
                </a:cubicBezTo>
                <a:cubicBezTo>
                  <a:pt x="17033" y="21328"/>
                  <a:pt x="17714" y="21449"/>
                  <a:pt x="17968" y="21600"/>
                </a:cubicBezTo>
              </a:path>
            </a:pathLst>
          </a:custGeom>
          <a:noFill/>
          <a:ln w="3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2160" y="1981080"/>
            <a:ext cx="453564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6452"/>
                  <a:pt x="0" y="16452"/>
                </a:cubicBezTo>
                <a:cubicBezTo>
                  <a:pt x="523" y="16302"/>
                  <a:pt x="1046" y="16053"/>
                  <a:pt x="1569" y="15783"/>
                </a:cubicBezTo>
                <a:cubicBezTo>
                  <a:pt x="2636" y="15203"/>
                  <a:pt x="3664" y="14323"/>
                  <a:pt x="4671" y="13344"/>
                </a:cubicBezTo>
                <a:cubicBezTo>
                  <a:pt x="5211" y="12824"/>
                  <a:pt x="5739" y="12154"/>
                  <a:pt x="6231" y="11405"/>
                </a:cubicBezTo>
                <a:cubicBezTo>
                  <a:pt x="7050" y="10155"/>
                  <a:pt x="7830" y="8756"/>
                  <a:pt x="8391" y="7706"/>
                </a:cubicBezTo>
                <a:cubicBezTo>
                  <a:pt x="9107" y="6377"/>
                  <a:pt x="9613" y="5398"/>
                  <a:pt x="10080" y="4328"/>
                </a:cubicBezTo>
                <a:cubicBezTo>
                  <a:pt x="10504" y="3348"/>
                  <a:pt x="10933" y="2379"/>
                  <a:pt x="11331" y="1349"/>
                </a:cubicBezTo>
                <a:cubicBezTo>
                  <a:pt x="11344" y="1309"/>
                  <a:pt x="11366" y="1269"/>
                  <a:pt x="11383" y="1219"/>
                </a:cubicBezTo>
                <a:cubicBezTo>
                  <a:pt x="11559" y="980"/>
                  <a:pt x="11854" y="670"/>
                  <a:pt x="12026" y="430"/>
                </a:cubicBezTo>
                <a:cubicBezTo>
                  <a:pt x="12137" y="280"/>
                  <a:pt x="12240" y="0"/>
                  <a:pt x="12369" y="20"/>
                </a:cubicBezTo>
                <a:cubicBezTo>
                  <a:pt x="12639" y="80"/>
                  <a:pt x="12887" y="500"/>
                  <a:pt x="13153" y="670"/>
                </a:cubicBezTo>
                <a:cubicBezTo>
                  <a:pt x="13367" y="820"/>
                  <a:pt x="13581" y="1010"/>
                  <a:pt x="13796" y="980"/>
                </a:cubicBezTo>
                <a:cubicBezTo>
                  <a:pt x="14147" y="970"/>
                  <a:pt x="14486" y="710"/>
                  <a:pt x="14837" y="580"/>
                </a:cubicBezTo>
                <a:cubicBezTo>
                  <a:pt x="14966" y="530"/>
                  <a:pt x="15129" y="260"/>
                  <a:pt x="15210" y="470"/>
                </a:cubicBezTo>
                <a:cubicBezTo>
                  <a:pt x="15339" y="820"/>
                  <a:pt x="15339" y="1369"/>
                  <a:pt x="15296" y="1819"/>
                </a:cubicBezTo>
                <a:cubicBezTo>
                  <a:pt x="15240" y="2359"/>
                  <a:pt x="14936" y="2679"/>
                  <a:pt x="14927" y="3209"/>
                </a:cubicBezTo>
                <a:cubicBezTo>
                  <a:pt x="14919" y="3618"/>
                  <a:pt x="15111" y="3948"/>
                  <a:pt x="15249" y="4198"/>
                </a:cubicBezTo>
                <a:cubicBezTo>
                  <a:pt x="15416" y="4498"/>
                  <a:pt x="15707" y="4398"/>
                  <a:pt x="15810" y="4798"/>
                </a:cubicBezTo>
                <a:cubicBezTo>
                  <a:pt x="15947" y="5358"/>
                  <a:pt x="15707" y="6227"/>
                  <a:pt x="15891" y="6707"/>
                </a:cubicBezTo>
                <a:cubicBezTo>
                  <a:pt x="16020" y="7047"/>
                  <a:pt x="16341" y="6297"/>
                  <a:pt x="16487" y="6617"/>
                </a:cubicBezTo>
                <a:cubicBezTo>
                  <a:pt x="16680" y="7047"/>
                  <a:pt x="16509" y="7926"/>
                  <a:pt x="16663" y="8416"/>
                </a:cubicBezTo>
                <a:cubicBezTo>
                  <a:pt x="16774" y="8776"/>
                  <a:pt x="17057" y="8566"/>
                  <a:pt x="17203" y="8846"/>
                </a:cubicBezTo>
                <a:cubicBezTo>
                  <a:pt x="17396" y="9206"/>
                  <a:pt x="17473" y="9805"/>
                  <a:pt x="17636" y="10235"/>
                </a:cubicBezTo>
                <a:cubicBezTo>
                  <a:pt x="17781" y="10605"/>
                  <a:pt x="18064" y="10725"/>
                  <a:pt x="18141" y="11205"/>
                </a:cubicBezTo>
                <a:cubicBezTo>
                  <a:pt x="18309" y="12294"/>
                  <a:pt x="17910" y="13924"/>
                  <a:pt x="18296" y="14653"/>
                </a:cubicBezTo>
                <a:cubicBezTo>
                  <a:pt x="18579" y="15183"/>
                  <a:pt x="18664" y="13194"/>
                  <a:pt x="18771" y="12374"/>
                </a:cubicBezTo>
                <a:cubicBezTo>
                  <a:pt x="18831" y="11954"/>
                  <a:pt x="18591" y="10905"/>
                  <a:pt x="18771" y="11025"/>
                </a:cubicBezTo>
                <a:cubicBezTo>
                  <a:pt x="19157" y="11285"/>
                  <a:pt x="19380" y="12274"/>
                  <a:pt x="19646" y="12974"/>
                </a:cubicBezTo>
                <a:cubicBezTo>
                  <a:pt x="19800" y="13384"/>
                  <a:pt x="19856" y="14024"/>
                  <a:pt x="20049" y="14323"/>
                </a:cubicBezTo>
                <a:cubicBezTo>
                  <a:pt x="20314" y="14753"/>
                  <a:pt x="20683" y="14703"/>
                  <a:pt x="20970" y="15053"/>
                </a:cubicBezTo>
                <a:cubicBezTo>
                  <a:pt x="21180" y="15303"/>
                  <a:pt x="21463" y="15583"/>
                  <a:pt x="21519" y="16123"/>
                </a:cubicBezTo>
                <a:cubicBezTo>
                  <a:pt x="21600" y="17002"/>
                  <a:pt x="21527" y="18002"/>
                  <a:pt x="21326" y="18781"/>
                </a:cubicBezTo>
                <a:cubicBezTo>
                  <a:pt x="21163" y="19381"/>
                  <a:pt x="20803" y="19531"/>
                  <a:pt x="20529" y="19801"/>
                </a:cubicBezTo>
                <a:cubicBezTo>
                  <a:pt x="20289" y="20041"/>
                  <a:pt x="20031" y="20131"/>
                  <a:pt x="19791" y="20361"/>
                </a:cubicBezTo>
                <a:cubicBezTo>
                  <a:pt x="19663" y="20491"/>
                  <a:pt x="19427" y="20530"/>
                  <a:pt x="19436" y="20850"/>
                </a:cubicBezTo>
                <a:cubicBezTo>
                  <a:pt x="19444" y="21180"/>
                  <a:pt x="19766" y="21300"/>
                  <a:pt x="19886" y="21450"/>
                </a:cubicBezTo>
                <a:cubicBezTo>
                  <a:pt x="17546" y="21480"/>
                  <a:pt x="15184" y="21480"/>
                  <a:pt x="12844" y="21500"/>
                </a:cubicBezTo>
                <a:cubicBezTo>
                  <a:pt x="8567" y="21540"/>
                  <a:pt x="4277" y="21580"/>
                  <a:pt x="0" y="21600"/>
                </a:cubicBezTo>
              </a:path>
            </a:pathLst>
          </a:custGeom>
          <a:solidFill>
            <a:srgbClr val="999999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87880" y="1593720"/>
            <a:ext cx="784440" cy="5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84" y="6259"/>
                </a:moveTo>
                <a:cubicBezTo>
                  <a:pt x="3302" y="6042"/>
                  <a:pt x="4519" y="6730"/>
                  <a:pt x="5686" y="7200"/>
                </a:cubicBezTo>
                <a:cubicBezTo>
                  <a:pt x="6281" y="7417"/>
                  <a:pt x="6977" y="7670"/>
                  <a:pt x="7274" y="7128"/>
                </a:cubicBezTo>
                <a:cubicBezTo>
                  <a:pt x="7498" y="6730"/>
                  <a:pt x="7448" y="6042"/>
                  <a:pt x="7399" y="5427"/>
                </a:cubicBezTo>
                <a:cubicBezTo>
                  <a:pt x="7274" y="4414"/>
                  <a:pt x="7175" y="3329"/>
                  <a:pt x="7597" y="2858"/>
                </a:cubicBezTo>
                <a:cubicBezTo>
                  <a:pt x="8019" y="2388"/>
                  <a:pt x="8615" y="2714"/>
                  <a:pt x="9137" y="3075"/>
                </a:cubicBezTo>
                <a:cubicBezTo>
                  <a:pt x="9832" y="3618"/>
                  <a:pt x="10204" y="4161"/>
                  <a:pt x="10626" y="4414"/>
                </a:cubicBezTo>
                <a:cubicBezTo>
                  <a:pt x="11172" y="4631"/>
                  <a:pt x="11818" y="4559"/>
                  <a:pt x="12190" y="4016"/>
                </a:cubicBezTo>
                <a:cubicBezTo>
                  <a:pt x="12712" y="3148"/>
                  <a:pt x="12811" y="1845"/>
                  <a:pt x="13407" y="1158"/>
                </a:cubicBezTo>
                <a:cubicBezTo>
                  <a:pt x="14301" y="0"/>
                  <a:pt x="15741" y="72"/>
                  <a:pt x="16908" y="687"/>
                </a:cubicBezTo>
                <a:cubicBezTo>
                  <a:pt x="18149" y="1303"/>
                  <a:pt x="19366" y="2605"/>
                  <a:pt x="19763" y="4486"/>
                </a:cubicBezTo>
                <a:cubicBezTo>
                  <a:pt x="19937" y="5174"/>
                  <a:pt x="20061" y="5861"/>
                  <a:pt x="20110" y="6585"/>
                </a:cubicBezTo>
                <a:cubicBezTo>
                  <a:pt x="20135" y="7345"/>
                  <a:pt x="20135" y="8973"/>
                  <a:pt x="20135" y="8973"/>
                </a:cubicBezTo>
                <a:cubicBezTo>
                  <a:pt x="20135" y="8973"/>
                  <a:pt x="20309" y="6947"/>
                  <a:pt x="20855" y="6802"/>
                </a:cubicBezTo>
                <a:cubicBezTo>
                  <a:pt x="21228" y="6730"/>
                  <a:pt x="21426" y="7417"/>
                  <a:pt x="21501" y="8141"/>
                </a:cubicBezTo>
                <a:cubicBezTo>
                  <a:pt x="21600" y="9226"/>
                  <a:pt x="21550" y="10456"/>
                  <a:pt x="21327" y="11686"/>
                </a:cubicBezTo>
                <a:cubicBezTo>
                  <a:pt x="21128" y="12772"/>
                  <a:pt x="20681" y="14219"/>
                  <a:pt x="19887" y="14762"/>
                </a:cubicBezTo>
                <a:cubicBezTo>
                  <a:pt x="19564" y="15015"/>
                  <a:pt x="19092" y="14726"/>
                  <a:pt x="18770" y="14943"/>
                </a:cubicBezTo>
                <a:cubicBezTo>
                  <a:pt x="18447" y="15196"/>
                  <a:pt x="18199" y="16281"/>
                  <a:pt x="17603" y="16354"/>
                </a:cubicBezTo>
                <a:cubicBezTo>
                  <a:pt x="16486" y="16390"/>
                  <a:pt x="15741" y="14472"/>
                  <a:pt x="14673" y="15558"/>
                </a:cubicBezTo>
                <a:cubicBezTo>
                  <a:pt x="14152" y="16101"/>
                  <a:pt x="14623" y="18452"/>
                  <a:pt x="13879" y="20080"/>
                </a:cubicBezTo>
                <a:cubicBezTo>
                  <a:pt x="13556" y="20732"/>
                  <a:pt x="12116" y="21600"/>
                  <a:pt x="10750" y="21274"/>
                </a:cubicBezTo>
                <a:cubicBezTo>
                  <a:pt x="9509" y="21057"/>
                  <a:pt x="8665" y="20442"/>
                  <a:pt x="8094" y="19538"/>
                </a:cubicBezTo>
                <a:cubicBezTo>
                  <a:pt x="7771" y="18995"/>
                  <a:pt x="7498" y="18199"/>
                  <a:pt x="7175" y="17584"/>
                </a:cubicBezTo>
                <a:cubicBezTo>
                  <a:pt x="6902" y="17041"/>
                  <a:pt x="6530" y="16498"/>
                  <a:pt x="6058" y="16390"/>
                </a:cubicBezTo>
                <a:cubicBezTo>
                  <a:pt x="4941" y="16173"/>
                  <a:pt x="3873" y="16498"/>
                  <a:pt x="2806" y="16354"/>
                </a:cubicBezTo>
                <a:cubicBezTo>
                  <a:pt x="2234" y="16281"/>
                  <a:pt x="1390" y="15630"/>
                  <a:pt x="844" y="14545"/>
                </a:cubicBezTo>
                <a:cubicBezTo>
                  <a:pt x="323" y="13568"/>
                  <a:pt x="99" y="12555"/>
                  <a:pt x="50" y="11614"/>
                </a:cubicBezTo>
                <a:cubicBezTo>
                  <a:pt x="0" y="10927"/>
                  <a:pt x="99" y="9660"/>
                  <a:pt x="372" y="8683"/>
                </a:cubicBezTo>
                <a:cubicBezTo>
                  <a:pt x="695" y="7489"/>
                  <a:pt x="1390" y="6513"/>
                  <a:pt x="2284" y="625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21360" y="1832040"/>
            <a:ext cx="20160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0" y="0"/>
                </a:moveTo>
                <a:cubicBezTo>
                  <a:pt x="2304" y="0"/>
                  <a:pt x="672" y="761"/>
                  <a:pt x="480" y="2282"/>
                </a:cubicBezTo>
                <a:cubicBezTo>
                  <a:pt x="0" y="6845"/>
                  <a:pt x="480" y="12473"/>
                  <a:pt x="2112" y="16276"/>
                </a:cubicBezTo>
                <a:cubicBezTo>
                  <a:pt x="3360" y="19318"/>
                  <a:pt x="5760" y="19470"/>
                  <a:pt x="7872" y="20535"/>
                </a:cubicBezTo>
                <a:cubicBezTo>
                  <a:pt x="9888" y="21600"/>
                  <a:pt x="12192" y="21600"/>
                  <a:pt x="14208" y="21296"/>
                </a:cubicBezTo>
                <a:cubicBezTo>
                  <a:pt x="16032" y="20839"/>
                  <a:pt x="17760" y="20535"/>
                  <a:pt x="19392" y="19318"/>
                </a:cubicBezTo>
                <a:cubicBezTo>
                  <a:pt x="20352" y="18254"/>
                  <a:pt x="21600" y="17037"/>
                  <a:pt x="21600" y="15059"/>
                </a:cubicBezTo>
                <a:cubicBezTo>
                  <a:pt x="21600" y="13082"/>
                  <a:pt x="20160" y="11713"/>
                  <a:pt x="18912" y="11408"/>
                </a:cubicBezTo>
                <a:cubicBezTo>
                  <a:pt x="16320" y="10496"/>
                  <a:pt x="13152" y="12473"/>
                  <a:pt x="10560" y="11408"/>
                </a:cubicBezTo>
                <a:cubicBezTo>
                  <a:pt x="9120" y="10800"/>
                  <a:pt x="8064" y="8823"/>
                  <a:pt x="7008" y="7149"/>
                </a:cubicBezTo>
                <a:cubicBezTo>
                  <a:pt x="6432" y="5932"/>
                  <a:pt x="6624" y="4259"/>
                  <a:pt x="5952" y="3042"/>
                </a:cubicBezTo>
                <a:cubicBezTo>
                  <a:pt x="5376" y="1673"/>
                  <a:pt x="4320" y="0"/>
                  <a:pt x="336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489640" y="1901880"/>
            <a:ext cx="61920" cy="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06" y="4320"/>
                </a:moveTo>
                <a:cubicBezTo>
                  <a:pt x="0" y="6720"/>
                  <a:pt x="0" y="10800"/>
                  <a:pt x="1906" y="13920"/>
                </a:cubicBezTo>
                <a:cubicBezTo>
                  <a:pt x="3812" y="17040"/>
                  <a:pt x="7306" y="21600"/>
                  <a:pt x="12071" y="21120"/>
                </a:cubicBezTo>
                <a:cubicBezTo>
                  <a:pt x="17471" y="20640"/>
                  <a:pt x="19694" y="15120"/>
                  <a:pt x="20965" y="11520"/>
                </a:cubicBezTo>
                <a:cubicBezTo>
                  <a:pt x="21600" y="8400"/>
                  <a:pt x="20329" y="4800"/>
                  <a:pt x="18106" y="2160"/>
                </a:cubicBezTo>
                <a:cubicBezTo>
                  <a:pt x="16835" y="720"/>
                  <a:pt x="14294" y="0"/>
                  <a:pt x="12071" y="720"/>
                </a:cubicBezTo>
                <a:cubicBezTo>
                  <a:pt x="8576" y="1200"/>
                  <a:pt x="3812" y="1680"/>
                  <a:pt x="1906" y="432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76960" y="1917720"/>
            <a:ext cx="21420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78" y="1780"/>
                </a:moveTo>
                <a:cubicBezTo>
                  <a:pt x="998" y="2967"/>
                  <a:pt x="0" y="4747"/>
                  <a:pt x="0" y="6765"/>
                </a:cubicBezTo>
                <a:cubicBezTo>
                  <a:pt x="0" y="9851"/>
                  <a:pt x="817" y="12818"/>
                  <a:pt x="2178" y="15429"/>
                </a:cubicBezTo>
                <a:cubicBezTo>
                  <a:pt x="3539" y="18040"/>
                  <a:pt x="5445" y="20295"/>
                  <a:pt x="7805" y="20769"/>
                </a:cubicBezTo>
                <a:cubicBezTo>
                  <a:pt x="10709" y="21600"/>
                  <a:pt x="14067" y="20769"/>
                  <a:pt x="16790" y="19226"/>
                </a:cubicBezTo>
                <a:cubicBezTo>
                  <a:pt x="17697" y="18752"/>
                  <a:pt x="16971" y="16734"/>
                  <a:pt x="17516" y="15666"/>
                </a:cubicBezTo>
                <a:cubicBezTo>
                  <a:pt x="18514" y="14242"/>
                  <a:pt x="20874" y="13886"/>
                  <a:pt x="21237" y="11868"/>
                </a:cubicBezTo>
                <a:cubicBezTo>
                  <a:pt x="21600" y="9851"/>
                  <a:pt x="20602" y="7477"/>
                  <a:pt x="19694" y="6053"/>
                </a:cubicBezTo>
                <a:cubicBezTo>
                  <a:pt x="18333" y="3916"/>
                  <a:pt x="16336" y="2492"/>
                  <a:pt x="14430" y="1424"/>
                </a:cubicBezTo>
                <a:cubicBezTo>
                  <a:pt x="11708" y="237"/>
                  <a:pt x="8803" y="0"/>
                  <a:pt x="6081" y="0"/>
                </a:cubicBezTo>
                <a:cubicBezTo>
                  <a:pt x="4719" y="0"/>
                  <a:pt x="3176" y="475"/>
                  <a:pt x="2178" y="178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29320" y="1706400"/>
            <a:ext cx="162000" cy="2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50" y="169"/>
                </a:moveTo>
                <a:cubicBezTo>
                  <a:pt x="10502" y="339"/>
                  <a:pt x="8712" y="2202"/>
                  <a:pt x="7638" y="3642"/>
                </a:cubicBezTo>
                <a:cubicBezTo>
                  <a:pt x="6683" y="5252"/>
                  <a:pt x="8115" y="7285"/>
                  <a:pt x="7638" y="8894"/>
                </a:cubicBezTo>
                <a:cubicBezTo>
                  <a:pt x="6683" y="11605"/>
                  <a:pt x="5490" y="14315"/>
                  <a:pt x="3341" y="16518"/>
                </a:cubicBezTo>
                <a:cubicBezTo>
                  <a:pt x="2745" y="17280"/>
                  <a:pt x="0" y="16009"/>
                  <a:pt x="0" y="16687"/>
                </a:cubicBezTo>
                <a:cubicBezTo>
                  <a:pt x="0" y="18127"/>
                  <a:pt x="1551" y="19567"/>
                  <a:pt x="3103" y="20668"/>
                </a:cubicBezTo>
                <a:cubicBezTo>
                  <a:pt x="4057" y="21431"/>
                  <a:pt x="5848" y="21600"/>
                  <a:pt x="7160" y="21431"/>
                </a:cubicBezTo>
                <a:cubicBezTo>
                  <a:pt x="10502" y="21092"/>
                  <a:pt x="14082" y="20499"/>
                  <a:pt x="16588" y="19059"/>
                </a:cubicBezTo>
                <a:cubicBezTo>
                  <a:pt x="18855" y="17788"/>
                  <a:pt x="19810" y="15586"/>
                  <a:pt x="21003" y="13638"/>
                </a:cubicBezTo>
                <a:cubicBezTo>
                  <a:pt x="21600" y="12198"/>
                  <a:pt x="21481" y="10673"/>
                  <a:pt x="21242" y="9233"/>
                </a:cubicBezTo>
                <a:cubicBezTo>
                  <a:pt x="21003" y="7115"/>
                  <a:pt x="21003" y="4744"/>
                  <a:pt x="19213" y="2880"/>
                </a:cubicBezTo>
                <a:cubicBezTo>
                  <a:pt x="17901" y="1440"/>
                  <a:pt x="15275" y="0"/>
                  <a:pt x="12650" y="16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1812960"/>
            <a:ext cx="115920" cy="1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94" y="1642"/>
                </a:moveTo>
                <a:cubicBezTo>
                  <a:pt x="11138" y="1642"/>
                  <a:pt x="9281" y="505"/>
                  <a:pt x="7931" y="1011"/>
                </a:cubicBezTo>
                <a:cubicBezTo>
                  <a:pt x="5063" y="2400"/>
                  <a:pt x="1350" y="4295"/>
                  <a:pt x="506" y="6695"/>
                </a:cubicBezTo>
                <a:cubicBezTo>
                  <a:pt x="0" y="9474"/>
                  <a:pt x="2531" y="12126"/>
                  <a:pt x="3881" y="14653"/>
                </a:cubicBezTo>
                <a:cubicBezTo>
                  <a:pt x="5400" y="17053"/>
                  <a:pt x="6750" y="20337"/>
                  <a:pt x="10125" y="21095"/>
                </a:cubicBezTo>
                <a:cubicBezTo>
                  <a:pt x="12994" y="21600"/>
                  <a:pt x="15525" y="19200"/>
                  <a:pt x="17381" y="17558"/>
                </a:cubicBezTo>
                <a:cubicBezTo>
                  <a:pt x="19406" y="15663"/>
                  <a:pt x="21263" y="13011"/>
                  <a:pt x="21263" y="10484"/>
                </a:cubicBezTo>
                <a:cubicBezTo>
                  <a:pt x="21600" y="7326"/>
                  <a:pt x="20756" y="3789"/>
                  <a:pt x="18225" y="1011"/>
                </a:cubicBezTo>
                <a:cubicBezTo>
                  <a:pt x="17381" y="0"/>
                  <a:pt x="14850" y="1642"/>
                  <a:pt x="12994" y="1642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920" y="1309680"/>
            <a:ext cx="49356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85" y="409"/>
                </a:moveTo>
                <a:cubicBezTo>
                  <a:pt x="10604" y="973"/>
                  <a:pt x="9936" y="2303"/>
                  <a:pt x="9425" y="3583"/>
                </a:cubicBezTo>
                <a:cubicBezTo>
                  <a:pt x="9151" y="4351"/>
                  <a:pt x="9151" y="5374"/>
                  <a:pt x="8561" y="5477"/>
                </a:cubicBezTo>
                <a:cubicBezTo>
                  <a:pt x="7658" y="5784"/>
                  <a:pt x="6991" y="3839"/>
                  <a:pt x="5969" y="3173"/>
                </a:cubicBezTo>
                <a:cubicBezTo>
                  <a:pt x="4438" y="2150"/>
                  <a:pt x="2592" y="2918"/>
                  <a:pt x="1492" y="4351"/>
                </a:cubicBezTo>
                <a:cubicBezTo>
                  <a:pt x="982" y="5016"/>
                  <a:pt x="982" y="6245"/>
                  <a:pt x="1492" y="7268"/>
                </a:cubicBezTo>
                <a:cubicBezTo>
                  <a:pt x="2435" y="8957"/>
                  <a:pt x="4124" y="9827"/>
                  <a:pt x="3770" y="11517"/>
                </a:cubicBezTo>
                <a:cubicBezTo>
                  <a:pt x="3456" y="12899"/>
                  <a:pt x="1571" y="12387"/>
                  <a:pt x="903" y="13922"/>
                </a:cubicBezTo>
                <a:cubicBezTo>
                  <a:pt x="0" y="16123"/>
                  <a:pt x="2160" y="18734"/>
                  <a:pt x="3927" y="19399"/>
                </a:cubicBezTo>
                <a:cubicBezTo>
                  <a:pt x="5380" y="19962"/>
                  <a:pt x="7069" y="18938"/>
                  <a:pt x="8758" y="19399"/>
                </a:cubicBezTo>
                <a:cubicBezTo>
                  <a:pt x="10015" y="19706"/>
                  <a:pt x="10996" y="21498"/>
                  <a:pt x="12292" y="21498"/>
                </a:cubicBezTo>
                <a:cubicBezTo>
                  <a:pt x="13667" y="21600"/>
                  <a:pt x="14845" y="19604"/>
                  <a:pt x="16220" y="18836"/>
                </a:cubicBezTo>
                <a:cubicBezTo>
                  <a:pt x="17398" y="18171"/>
                  <a:pt x="18851" y="18171"/>
                  <a:pt x="19754" y="17096"/>
                </a:cubicBezTo>
                <a:cubicBezTo>
                  <a:pt x="20422" y="16328"/>
                  <a:pt x="20618" y="14997"/>
                  <a:pt x="20265" y="13922"/>
                </a:cubicBezTo>
                <a:cubicBezTo>
                  <a:pt x="20108" y="13257"/>
                  <a:pt x="19558" y="12796"/>
                  <a:pt x="19558" y="12284"/>
                </a:cubicBezTo>
                <a:cubicBezTo>
                  <a:pt x="19676" y="10851"/>
                  <a:pt x="21011" y="10186"/>
                  <a:pt x="21286" y="8855"/>
                </a:cubicBezTo>
                <a:cubicBezTo>
                  <a:pt x="21600" y="7115"/>
                  <a:pt x="21325" y="5118"/>
                  <a:pt x="20618" y="3429"/>
                </a:cubicBezTo>
                <a:cubicBezTo>
                  <a:pt x="19833" y="1638"/>
                  <a:pt x="18497" y="205"/>
                  <a:pt x="17673" y="973"/>
                </a:cubicBezTo>
                <a:cubicBezTo>
                  <a:pt x="17201" y="1280"/>
                  <a:pt x="17476" y="2406"/>
                  <a:pt x="17476" y="2406"/>
                </a:cubicBezTo>
                <a:cubicBezTo>
                  <a:pt x="17476" y="2406"/>
                  <a:pt x="16612" y="1740"/>
                  <a:pt x="16141" y="1280"/>
                </a:cubicBezTo>
                <a:cubicBezTo>
                  <a:pt x="15552" y="768"/>
                  <a:pt x="14727" y="409"/>
                  <a:pt x="13942" y="102"/>
                </a:cubicBezTo>
                <a:cubicBezTo>
                  <a:pt x="13196" y="102"/>
                  <a:pt x="12371" y="0"/>
                  <a:pt x="11585" y="409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671920" y="1363680"/>
            <a:ext cx="25560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69" y="11372"/>
                </a:moveTo>
                <a:cubicBezTo>
                  <a:pt x="5154" y="11910"/>
                  <a:pt x="3411" y="11910"/>
                  <a:pt x="2425" y="12920"/>
                </a:cubicBezTo>
                <a:cubicBezTo>
                  <a:pt x="1440" y="14131"/>
                  <a:pt x="0" y="15948"/>
                  <a:pt x="1137" y="17159"/>
                </a:cubicBezTo>
                <a:cubicBezTo>
                  <a:pt x="2728" y="18841"/>
                  <a:pt x="6139" y="17966"/>
                  <a:pt x="8185" y="18976"/>
                </a:cubicBezTo>
                <a:cubicBezTo>
                  <a:pt x="9322" y="19581"/>
                  <a:pt x="9246" y="21600"/>
                  <a:pt x="10383" y="21600"/>
                </a:cubicBezTo>
                <a:cubicBezTo>
                  <a:pt x="12505" y="21600"/>
                  <a:pt x="13869" y="19850"/>
                  <a:pt x="15764" y="18976"/>
                </a:cubicBezTo>
                <a:cubicBezTo>
                  <a:pt x="17053" y="18437"/>
                  <a:pt x="18417" y="17966"/>
                  <a:pt x="19478" y="16957"/>
                </a:cubicBezTo>
                <a:cubicBezTo>
                  <a:pt x="20463" y="16150"/>
                  <a:pt x="20691" y="14804"/>
                  <a:pt x="21069" y="13660"/>
                </a:cubicBezTo>
                <a:cubicBezTo>
                  <a:pt x="21448" y="12247"/>
                  <a:pt x="21600" y="10766"/>
                  <a:pt x="21600" y="9353"/>
                </a:cubicBezTo>
                <a:cubicBezTo>
                  <a:pt x="21600" y="7604"/>
                  <a:pt x="21600" y="5585"/>
                  <a:pt x="20691" y="4037"/>
                </a:cubicBezTo>
                <a:cubicBezTo>
                  <a:pt x="20084" y="2557"/>
                  <a:pt x="18947" y="807"/>
                  <a:pt x="17204" y="471"/>
                </a:cubicBezTo>
                <a:cubicBezTo>
                  <a:pt x="15764" y="0"/>
                  <a:pt x="13794" y="807"/>
                  <a:pt x="12657" y="1817"/>
                </a:cubicBezTo>
                <a:cubicBezTo>
                  <a:pt x="11520" y="2826"/>
                  <a:pt x="11520" y="4508"/>
                  <a:pt x="11217" y="5720"/>
                </a:cubicBezTo>
                <a:cubicBezTo>
                  <a:pt x="10838" y="7065"/>
                  <a:pt x="11217" y="8613"/>
                  <a:pt x="10383" y="9622"/>
                </a:cubicBezTo>
                <a:cubicBezTo>
                  <a:pt x="9549" y="10632"/>
                  <a:pt x="7958" y="10766"/>
                  <a:pt x="6669" y="1137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41760" y="1441440"/>
            <a:ext cx="166680" cy="166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69" y="11559"/>
                </a:moveTo>
                <a:cubicBezTo>
                  <a:pt x="1168" y="12843"/>
                  <a:pt x="0" y="15062"/>
                  <a:pt x="350" y="17046"/>
                </a:cubicBezTo>
                <a:cubicBezTo>
                  <a:pt x="584" y="18798"/>
                  <a:pt x="2102" y="21016"/>
                  <a:pt x="4086" y="21250"/>
                </a:cubicBezTo>
                <a:cubicBezTo>
                  <a:pt x="7356" y="21600"/>
                  <a:pt x="10858" y="20316"/>
                  <a:pt x="13894" y="18564"/>
                </a:cubicBezTo>
                <a:cubicBezTo>
                  <a:pt x="14828" y="17747"/>
                  <a:pt x="13894" y="15529"/>
                  <a:pt x="14828" y="14828"/>
                </a:cubicBezTo>
                <a:cubicBezTo>
                  <a:pt x="16346" y="13777"/>
                  <a:pt x="19148" y="15062"/>
                  <a:pt x="20082" y="13544"/>
                </a:cubicBezTo>
                <a:cubicBezTo>
                  <a:pt x="21600" y="10742"/>
                  <a:pt x="21366" y="7239"/>
                  <a:pt x="21016" y="4086"/>
                </a:cubicBezTo>
                <a:cubicBezTo>
                  <a:pt x="20899" y="2569"/>
                  <a:pt x="20082" y="584"/>
                  <a:pt x="18681" y="234"/>
                </a:cubicBezTo>
                <a:cubicBezTo>
                  <a:pt x="16112" y="0"/>
                  <a:pt x="13427" y="1051"/>
                  <a:pt x="11676" y="2802"/>
                </a:cubicBezTo>
                <a:cubicBezTo>
                  <a:pt x="10391" y="4320"/>
                  <a:pt x="11909" y="6772"/>
                  <a:pt x="11092" y="8523"/>
                </a:cubicBezTo>
                <a:cubicBezTo>
                  <a:pt x="10508" y="9808"/>
                  <a:pt x="9107" y="10742"/>
                  <a:pt x="7823" y="11325"/>
                </a:cubicBezTo>
                <a:cubicBezTo>
                  <a:pt x="6071" y="11792"/>
                  <a:pt x="4086" y="10508"/>
                  <a:pt x="2569" y="1155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1698480"/>
            <a:ext cx="1079280" cy="5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20" y="1204"/>
                </a:moveTo>
                <a:cubicBezTo>
                  <a:pt x="10134" y="1548"/>
                  <a:pt x="10530" y="2167"/>
                  <a:pt x="10746" y="2889"/>
                </a:cubicBezTo>
                <a:cubicBezTo>
                  <a:pt x="10980" y="3611"/>
                  <a:pt x="11286" y="5469"/>
                  <a:pt x="11286" y="5469"/>
                </a:cubicBezTo>
                <a:cubicBezTo>
                  <a:pt x="11286" y="5469"/>
                  <a:pt x="12258" y="3852"/>
                  <a:pt x="12834" y="3611"/>
                </a:cubicBezTo>
                <a:cubicBezTo>
                  <a:pt x="13374" y="3405"/>
                  <a:pt x="13914" y="4368"/>
                  <a:pt x="14454" y="4231"/>
                </a:cubicBezTo>
                <a:cubicBezTo>
                  <a:pt x="15066" y="4059"/>
                  <a:pt x="15498" y="2442"/>
                  <a:pt x="16110" y="2442"/>
                </a:cubicBezTo>
                <a:cubicBezTo>
                  <a:pt x="16884" y="2511"/>
                  <a:pt x="17388" y="4368"/>
                  <a:pt x="18144" y="4953"/>
                </a:cubicBezTo>
                <a:cubicBezTo>
                  <a:pt x="18846" y="5469"/>
                  <a:pt x="19818" y="5022"/>
                  <a:pt x="20358" y="5985"/>
                </a:cubicBezTo>
                <a:cubicBezTo>
                  <a:pt x="21114" y="7395"/>
                  <a:pt x="21600" y="9734"/>
                  <a:pt x="21474" y="11797"/>
                </a:cubicBezTo>
                <a:cubicBezTo>
                  <a:pt x="21384" y="13276"/>
                  <a:pt x="20808" y="14824"/>
                  <a:pt x="20124" y="15581"/>
                </a:cubicBezTo>
                <a:cubicBezTo>
                  <a:pt x="19494" y="16166"/>
                  <a:pt x="18648" y="15409"/>
                  <a:pt x="18000" y="15684"/>
                </a:cubicBezTo>
                <a:cubicBezTo>
                  <a:pt x="17460" y="15925"/>
                  <a:pt x="17010" y="17025"/>
                  <a:pt x="16470" y="17025"/>
                </a:cubicBezTo>
                <a:cubicBezTo>
                  <a:pt x="15930" y="17025"/>
                  <a:pt x="15444" y="15650"/>
                  <a:pt x="14886" y="15856"/>
                </a:cubicBezTo>
                <a:cubicBezTo>
                  <a:pt x="13950" y="16166"/>
                  <a:pt x="13446" y="18504"/>
                  <a:pt x="12636" y="19468"/>
                </a:cubicBezTo>
                <a:cubicBezTo>
                  <a:pt x="11934" y="20259"/>
                  <a:pt x="11124" y="21084"/>
                  <a:pt x="10314" y="21256"/>
                </a:cubicBezTo>
                <a:cubicBezTo>
                  <a:pt x="9630" y="21290"/>
                  <a:pt x="8514" y="21600"/>
                  <a:pt x="8208" y="20259"/>
                </a:cubicBezTo>
                <a:cubicBezTo>
                  <a:pt x="8136" y="19915"/>
                  <a:pt x="8316" y="19536"/>
                  <a:pt x="8244" y="19261"/>
                </a:cubicBezTo>
                <a:cubicBezTo>
                  <a:pt x="7902" y="18057"/>
                  <a:pt x="7056" y="17989"/>
                  <a:pt x="6282" y="18573"/>
                </a:cubicBezTo>
                <a:cubicBezTo>
                  <a:pt x="5778" y="18952"/>
                  <a:pt x="5310" y="19777"/>
                  <a:pt x="4770" y="20121"/>
                </a:cubicBezTo>
                <a:cubicBezTo>
                  <a:pt x="4122" y="20568"/>
                  <a:pt x="3384" y="21153"/>
                  <a:pt x="2646" y="21153"/>
                </a:cubicBezTo>
                <a:cubicBezTo>
                  <a:pt x="2160" y="21153"/>
                  <a:pt x="1620" y="20843"/>
                  <a:pt x="1188" y="20259"/>
                </a:cubicBezTo>
                <a:cubicBezTo>
                  <a:pt x="684" y="19536"/>
                  <a:pt x="342" y="18264"/>
                  <a:pt x="180" y="17025"/>
                </a:cubicBezTo>
                <a:cubicBezTo>
                  <a:pt x="72" y="15925"/>
                  <a:pt x="0" y="14377"/>
                  <a:pt x="450" y="13620"/>
                </a:cubicBezTo>
                <a:cubicBezTo>
                  <a:pt x="648" y="13276"/>
                  <a:pt x="1026" y="13517"/>
                  <a:pt x="1188" y="13070"/>
                </a:cubicBezTo>
                <a:cubicBezTo>
                  <a:pt x="1386" y="12554"/>
                  <a:pt x="1188" y="11557"/>
                  <a:pt x="1386" y="11006"/>
                </a:cubicBezTo>
                <a:cubicBezTo>
                  <a:pt x="1566" y="10422"/>
                  <a:pt x="1836" y="9803"/>
                  <a:pt x="2196" y="9493"/>
                </a:cubicBezTo>
                <a:cubicBezTo>
                  <a:pt x="2700" y="9149"/>
                  <a:pt x="3312" y="9665"/>
                  <a:pt x="3852" y="9390"/>
                </a:cubicBezTo>
                <a:cubicBezTo>
                  <a:pt x="3996" y="9287"/>
                  <a:pt x="4230" y="9080"/>
                  <a:pt x="4320" y="8771"/>
                </a:cubicBezTo>
                <a:cubicBezTo>
                  <a:pt x="4536" y="7911"/>
                  <a:pt x="4158" y="6501"/>
                  <a:pt x="4356" y="5538"/>
                </a:cubicBezTo>
                <a:cubicBezTo>
                  <a:pt x="4500" y="4815"/>
                  <a:pt x="4770" y="4059"/>
                  <a:pt x="5238" y="3921"/>
                </a:cubicBezTo>
                <a:cubicBezTo>
                  <a:pt x="5544" y="3852"/>
                  <a:pt x="5850" y="4299"/>
                  <a:pt x="6120" y="3990"/>
                </a:cubicBezTo>
                <a:cubicBezTo>
                  <a:pt x="6426" y="3611"/>
                  <a:pt x="6426" y="2580"/>
                  <a:pt x="6588" y="1857"/>
                </a:cubicBezTo>
                <a:cubicBezTo>
                  <a:pt x="6786" y="894"/>
                  <a:pt x="7200" y="241"/>
                  <a:pt x="7704" y="172"/>
                </a:cubicBezTo>
                <a:cubicBezTo>
                  <a:pt x="8406" y="0"/>
                  <a:pt x="9090" y="619"/>
                  <a:pt x="9720" y="12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09680" y="2004840"/>
            <a:ext cx="34308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3" y="11685"/>
                </a:moveTo>
                <a:cubicBezTo>
                  <a:pt x="0" y="13013"/>
                  <a:pt x="1357" y="14341"/>
                  <a:pt x="2205" y="14961"/>
                </a:cubicBezTo>
                <a:cubicBezTo>
                  <a:pt x="3675" y="15669"/>
                  <a:pt x="5485" y="14341"/>
                  <a:pt x="6785" y="15580"/>
                </a:cubicBezTo>
                <a:cubicBezTo>
                  <a:pt x="8029" y="16466"/>
                  <a:pt x="7634" y="20272"/>
                  <a:pt x="8934" y="20892"/>
                </a:cubicBezTo>
                <a:cubicBezTo>
                  <a:pt x="11139" y="21600"/>
                  <a:pt x="13571" y="20272"/>
                  <a:pt x="15663" y="18944"/>
                </a:cubicBezTo>
                <a:cubicBezTo>
                  <a:pt x="17076" y="18059"/>
                  <a:pt x="18207" y="16111"/>
                  <a:pt x="19112" y="14075"/>
                </a:cubicBezTo>
                <a:cubicBezTo>
                  <a:pt x="20243" y="11597"/>
                  <a:pt x="21600" y="9030"/>
                  <a:pt x="21600" y="6108"/>
                </a:cubicBezTo>
                <a:cubicBezTo>
                  <a:pt x="21600" y="3718"/>
                  <a:pt x="20639" y="0"/>
                  <a:pt x="19112" y="177"/>
                </a:cubicBezTo>
                <a:cubicBezTo>
                  <a:pt x="17698" y="354"/>
                  <a:pt x="17698" y="4338"/>
                  <a:pt x="17246" y="6639"/>
                </a:cubicBezTo>
                <a:cubicBezTo>
                  <a:pt x="16568" y="9472"/>
                  <a:pt x="17076" y="13279"/>
                  <a:pt x="15663" y="15403"/>
                </a:cubicBezTo>
                <a:cubicBezTo>
                  <a:pt x="14419" y="16997"/>
                  <a:pt x="12327" y="16466"/>
                  <a:pt x="10800" y="16111"/>
                </a:cubicBezTo>
                <a:cubicBezTo>
                  <a:pt x="9782" y="15934"/>
                  <a:pt x="9104" y="14607"/>
                  <a:pt x="8255" y="13810"/>
                </a:cubicBezTo>
                <a:cubicBezTo>
                  <a:pt x="6559" y="12482"/>
                  <a:pt x="4976" y="10357"/>
                  <a:pt x="3166" y="9826"/>
                </a:cubicBezTo>
                <a:cubicBezTo>
                  <a:pt x="2092" y="9649"/>
                  <a:pt x="509" y="10269"/>
                  <a:pt x="283" y="1168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68560" y="2093760"/>
            <a:ext cx="122040" cy="1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60" y="6673"/>
                </a:moveTo>
                <a:cubicBezTo>
                  <a:pt x="2720" y="3688"/>
                  <a:pt x="5760" y="1405"/>
                  <a:pt x="8960" y="527"/>
                </a:cubicBezTo>
                <a:cubicBezTo>
                  <a:pt x="12000" y="0"/>
                  <a:pt x="15680" y="0"/>
                  <a:pt x="18080" y="2107"/>
                </a:cubicBezTo>
                <a:cubicBezTo>
                  <a:pt x="20160" y="4039"/>
                  <a:pt x="21600" y="8254"/>
                  <a:pt x="20480" y="10888"/>
                </a:cubicBezTo>
                <a:cubicBezTo>
                  <a:pt x="19200" y="14576"/>
                  <a:pt x="15040" y="16332"/>
                  <a:pt x="12320" y="18966"/>
                </a:cubicBezTo>
                <a:cubicBezTo>
                  <a:pt x="10880" y="20195"/>
                  <a:pt x="9920" y="21600"/>
                  <a:pt x="8160" y="21600"/>
                </a:cubicBezTo>
                <a:cubicBezTo>
                  <a:pt x="6880" y="21600"/>
                  <a:pt x="5760" y="20195"/>
                  <a:pt x="4800" y="18966"/>
                </a:cubicBezTo>
                <a:cubicBezTo>
                  <a:pt x="3360" y="17561"/>
                  <a:pt x="1760" y="15805"/>
                  <a:pt x="960" y="13522"/>
                </a:cubicBezTo>
                <a:cubicBezTo>
                  <a:pt x="320" y="11063"/>
                  <a:pt x="0" y="8429"/>
                  <a:pt x="960" y="667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11160" y="1873080"/>
            <a:ext cx="223920" cy="22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916" y="1132"/>
                </a:moveTo>
                <a:cubicBezTo>
                  <a:pt x="15875" y="610"/>
                  <a:pt x="13793" y="0"/>
                  <a:pt x="13012" y="1132"/>
                </a:cubicBezTo>
                <a:cubicBezTo>
                  <a:pt x="11971" y="2787"/>
                  <a:pt x="13359" y="5226"/>
                  <a:pt x="13272" y="7229"/>
                </a:cubicBezTo>
                <a:cubicBezTo>
                  <a:pt x="13012" y="9755"/>
                  <a:pt x="14313" y="13065"/>
                  <a:pt x="12231" y="14371"/>
                </a:cubicBezTo>
                <a:cubicBezTo>
                  <a:pt x="10670" y="15503"/>
                  <a:pt x="8761" y="11584"/>
                  <a:pt x="6766" y="11584"/>
                </a:cubicBezTo>
                <a:cubicBezTo>
                  <a:pt x="4684" y="11584"/>
                  <a:pt x="2082" y="12368"/>
                  <a:pt x="954" y="14197"/>
                </a:cubicBezTo>
                <a:cubicBezTo>
                  <a:pt x="0" y="15852"/>
                  <a:pt x="954" y="18290"/>
                  <a:pt x="2082" y="19771"/>
                </a:cubicBezTo>
                <a:cubicBezTo>
                  <a:pt x="2949" y="20903"/>
                  <a:pt x="4684" y="20729"/>
                  <a:pt x="6159" y="20729"/>
                </a:cubicBezTo>
                <a:cubicBezTo>
                  <a:pt x="7807" y="20729"/>
                  <a:pt x="9369" y="19597"/>
                  <a:pt x="10930" y="19771"/>
                </a:cubicBezTo>
                <a:cubicBezTo>
                  <a:pt x="12058" y="20032"/>
                  <a:pt x="12839" y="21600"/>
                  <a:pt x="13966" y="21513"/>
                </a:cubicBezTo>
                <a:cubicBezTo>
                  <a:pt x="16135" y="20903"/>
                  <a:pt x="18477" y="19597"/>
                  <a:pt x="19865" y="17942"/>
                </a:cubicBezTo>
                <a:cubicBezTo>
                  <a:pt x="21080" y="16635"/>
                  <a:pt x="21166" y="14545"/>
                  <a:pt x="21340" y="12890"/>
                </a:cubicBezTo>
                <a:cubicBezTo>
                  <a:pt x="21600" y="10887"/>
                  <a:pt x="21166" y="8797"/>
                  <a:pt x="20646" y="6706"/>
                </a:cubicBezTo>
                <a:cubicBezTo>
                  <a:pt x="20472" y="5835"/>
                  <a:pt x="19778" y="4877"/>
                  <a:pt x="19171" y="4094"/>
                </a:cubicBezTo>
                <a:cubicBezTo>
                  <a:pt x="18477" y="3048"/>
                  <a:pt x="18043" y="1742"/>
                  <a:pt x="16916" y="1132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25640" y="2075040"/>
            <a:ext cx="16812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72" y="0"/>
                </a:moveTo>
                <a:cubicBezTo>
                  <a:pt x="6930" y="0"/>
                  <a:pt x="3696" y="671"/>
                  <a:pt x="2541" y="3086"/>
                </a:cubicBezTo>
                <a:cubicBezTo>
                  <a:pt x="809" y="6708"/>
                  <a:pt x="0" y="11806"/>
                  <a:pt x="1733" y="15563"/>
                </a:cubicBezTo>
                <a:cubicBezTo>
                  <a:pt x="3465" y="19051"/>
                  <a:pt x="7508" y="21063"/>
                  <a:pt x="10973" y="21198"/>
                </a:cubicBezTo>
                <a:cubicBezTo>
                  <a:pt x="14092" y="21600"/>
                  <a:pt x="17557" y="19588"/>
                  <a:pt x="19636" y="16368"/>
                </a:cubicBezTo>
                <a:cubicBezTo>
                  <a:pt x="21600" y="13148"/>
                  <a:pt x="21600" y="8720"/>
                  <a:pt x="21369" y="4696"/>
                </a:cubicBezTo>
                <a:cubicBezTo>
                  <a:pt x="21022" y="2683"/>
                  <a:pt x="19636" y="939"/>
                  <a:pt x="18135" y="268"/>
                </a:cubicBezTo>
                <a:cubicBezTo>
                  <a:pt x="16633" y="0"/>
                  <a:pt x="15363" y="2683"/>
                  <a:pt x="13861" y="2683"/>
                </a:cubicBezTo>
                <a:cubicBezTo>
                  <a:pt x="12128" y="2683"/>
                  <a:pt x="11204" y="0"/>
                  <a:pt x="9472" y="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581120" y="1952640"/>
            <a:ext cx="2872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927" y="11723"/>
                </a:moveTo>
                <a:cubicBezTo>
                  <a:pt x="2641" y="12831"/>
                  <a:pt x="609" y="13385"/>
                  <a:pt x="339" y="15600"/>
                </a:cubicBezTo>
                <a:cubicBezTo>
                  <a:pt x="0" y="17815"/>
                  <a:pt x="1354" y="21138"/>
                  <a:pt x="2912" y="21415"/>
                </a:cubicBezTo>
                <a:cubicBezTo>
                  <a:pt x="4672" y="21600"/>
                  <a:pt x="5282" y="17538"/>
                  <a:pt x="6500" y="16062"/>
                </a:cubicBezTo>
                <a:cubicBezTo>
                  <a:pt x="7313" y="15231"/>
                  <a:pt x="8125" y="14215"/>
                  <a:pt x="9006" y="14031"/>
                </a:cubicBezTo>
                <a:cubicBezTo>
                  <a:pt x="10157" y="13662"/>
                  <a:pt x="11376" y="14215"/>
                  <a:pt x="12527" y="14492"/>
                </a:cubicBezTo>
                <a:cubicBezTo>
                  <a:pt x="13610" y="14769"/>
                  <a:pt x="14829" y="16062"/>
                  <a:pt x="15980" y="15877"/>
                </a:cubicBezTo>
                <a:cubicBezTo>
                  <a:pt x="17673" y="15415"/>
                  <a:pt x="20043" y="15046"/>
                  <a:pt x="20923" y="12831"/>
                </a:cubicBezTo>
                <a:cubicBezTo>
                  <a:pt x="21600" y="11077"/>
                  <a:pt x="21058" y="8308"/>
                  <a:pt x="20043" y="6738"/>
                </a:cubicBezTo>
                <a:cubicBezTo>
                  <a:pt x="19162" y="5077"/>
                  <a:pt x="17470" y="4338"/>
                  <a:pt x="15980" y="4338"/>
                </a:cubicBezTo>
                <a:cubicBezTo>
                  <a:pt x="14829" y="4338"/>
                  <a:pt x="13949" y="7292"/>
                  <a:pt x="12933" y="6738"/>
                </a:cubicBezTo>
                <a:cubicBezTo>
                  <a:pt x="11579" y="5908"/>
                  <a:pt x="12053" y="2769"/>
                  <a:pt x="11037" y="1385"/>
                </a:cubicBezTo>
                <a:cubicBezTo>
                  <a:pt x="10157" y="369"/>
                  <a:pt x="9006" y="369"/>
                  <a:pt x="7855" y="369"/>
                </a:cubicBezTo>
                <a:cubicBezTo>
                  <a:pt x="6839" y="369"/>
                  <a:pt x="5688" y="0"/>
                  <a:pt x="4943" y="923"/>
                </a:cubicBezTo>
                <a:cubicBezTo>
                  <a:pt x="4063" y="2215"/>
                  <a:pt x="3453" y="4338"/>
                  <a:pt x="3656" y="6185"/>
                </a:cubicBezTo>
                <a:cubicBezTo>
                  <a:pt x="3792" y="7754"/>
                  <a:pt x="5417" y="8677"/>
                  <a:pt x="5485" y="10338"/>
                </a:cubicBezTo>
                <a:cubicBezTo>
                  <a:pt x="5485" y="11077"/>
                  <a:pt x="4401" y="11077"/>
                  <a:pt x="3927" y="1172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93960" y="1959120"/>
            <a:ext cx="109440" cy="12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49" y="4916"/>
                </a:moveTo>
                <a:cubicBezTo>
                  <a:pt x="2678" y="6703"/>
                  <a:pt x="1428" y="8193"/>
                  <a:pt x="1071" y="9832"/>
                </a:cubicBezTo>
                <a:cubicBezTo>
                  <a:pt x="536" y="12364"/>
                  <a:pt x="0" y="15194"/>
                  <a:pt x="1071" y="17876"/>
                </a:cubicBezTo>
                <a:cubicBezTo>
                  <a:pt x="1785" y="19068"/>
                  <a:pt x="4106" y="19068"/>
                  <a:pt x="5891" y="19366"/>
                </a:cubicBezTo>
                <a:cubicBezTo>
                  <a:pt x="9104" y="20110"/>
                  <a:pt x="12139" y="21600"/>
                  <a:pt x="15174" y="20557"/>
                </a:cubicBezTo>
                <a:cubicBezTo>
                  <a:pt x="17851" y="20110"/>
                  <a:pt x="18922" y="17429"/>
                  <a:pt x="20172" y="15641"/>
                </a:cubicBezTo>
                <a:cubicBezTo>
                  <a:pt x="21421" y="13705"/>
                  <a:pt x="21600" y="11619"/>
                  <a:pt x="21421" y="9832"/>
                </a:cubicBezTo>
                <a:cubicBezTo>
                  <a:pt x="20529" y="6703"/>
                  <a:pt x="19279" y="3128"/>
                  <a:pt x="16245" y="1192"/>
                </a:cubicBezTo>
                <a:cubicBezTo>
                  <a:pt x="14460" y="0"/>
                  <a:pt x="10889" y="447"/>
                  <a:pt x="8212" y="1192"/>
                </a:cubicBezTo>
                <a:cubicBezTo>
                  <a:pt x="6426" y="1788"/>
                  <a:pt x="4820" y="3426"/>
                  <a:pt x="3749" y="4916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51160" y="2768760"/>
            <a:ext cx="187200" cy="134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50" y="3456"/>
                </a:moveTo>
                <a:cubicBezTo>
                  <a:pt x="831" y="3744"/>
                  <a:pt x="1350" y="4320"/>
                  <a:pt x="1350" y="5040"/>
                </a:cubicBezTo>
                <a:cubicBezTo>
                  <a:pt x="1038" y="7200"/>
                  <a:pt x="0" y="9360"/>
                  <a:pt x="623" y="11088"/>
                </a:cubicBezTo>
                <a:cubicBezTo>
                  <a:pt x="1558" y="13680"/>
                  <a:pt x="3219" y="15408"/>
                  <a:pt x="4985" y="16704"/>
                </a:cubicBezTo>
                <a:cubicBezTo>
                  <a:pt x="7788" y="18864"/>
                  <a:pt x="10385" y="21600"/>
                  <a:pt x="13500" y="21312"/>
                </a:cubicBezTo>
                <a:cubicBezTo>
                  <a:pt x="16200" y="21024"/>
                  <a:pt x="19315" y="18576"/>
                  <a:pt x="20354" y="15120"/>
                </a:cubicBezTo>
                <a:cubicBezTo>
                  <a:pt x="21600" y="12096"/>
                  <a:pt x="20562" y="8064"/>
                  <a:pt x="19004" y="5328"/>
                </a:cubicBezTo>
                <a:cubicBezTo>
                  <a:pt x="17446" y="2448"/>
                  <a:pt x="14642" y="1584"/>
                  <a:pt x="12254" y="720"/>
                </a:cubicBezTo>
                <a:cubicBezTo>
                  <a:pt x="10696" y="0"/>
                  <a:pt x="9346" y="1296"/>
                  <a:pt x="7788" y="1584"/>
                </a:cubicBezTo>
                <a:cubicBezTo>
                  <a:pt x="5504" y="2160"/>
                  <a:pt x="3219" y="2160"/>
                  <a:pt x="1350" y="3456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84720" y="2724120"/>
            <a:ext cx="14904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85" y="265"/>
                </a:moveTo>
                <a:cubicBezTo>
                  <a:pt x="5236" y="0"/>
                  <a:pt x="2618" y="2783"/>
                  <a:pt x="1309" y="5036"/>
                </a:cubicBezTo>
                <a:cubicBezTo>
                  <a:pt x="0" y="7421"/>
                  <a:pt x="0" y="10469"/>
                  <a:pt x="655" y="12987"/>
                </a:cubicBezTo>
                <a:cubicBezTo>
                  <a:pt x="1571" y="15902"/>
                  <a:pt x="3273" y="19612"/>
                  <a:pt x="6022" y="20407"/>
                </a:cubicBezTo>
                <a:cubicBezTo>
                  <a:pt x="9949" y="21600"/>
                  <a:pt x="14400" y="20672"/>
                  <a:pt x="18065" y="18685"/>
                </a:cubicBezTo>
                <a:cubicBezTo>
                  <a:pt x="20291" y="17625"/>
                  <a:pt x="21600" y="14709"/>
                  <a:pt x="21600" y="12191"/>
                </a:cubicBezTo>
                <a:cubicBezTo>
                  <a:pt x="21600" y="9939"/>
                  <a:pt x="20029" y="7951"/>
                  <a:pt x="18327" y="6493"/>
                </a:cubicBezTo>
                <a:cubicBezTo>
                  <a:pt x="15316" y="3975"/>
                  <a:pt x="11913" y="530"/>
                  <a:pt x="7985" y="265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11480" y="1892160"/>
            <a:ext cx="3008160" cy="2017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00"/>
                </a:moveTo>
                <a:cubicBezTo>
                  <a:pt x="265" y="1879"/>
                  <a:pt x="711" y="1570"/>
                  <a:pt x="969" y="1339"/>
                </a:cubicBezTo>
                <a:cubicBezTo>
                  <a:pt x="1138" y="1195"/>
                  <a:pt x="1293" y="925"/>
                  <a:pt x="1487" y="944"/>
                </a:cubicBezTo>
                <a:cubicBezTo>
                  <a:pt x="1894" y="1012"/>
                  <a:pt x="2269" y="1397"/>
                  <a:pt x="2669" y="1570"/>
                </a:cubicBezTo>
                <a:cubicBezTo>
                  <a:pt x="2992" y="1715"/>
                  <a:pt x="3316" y="1888"/>
                  <a:pt x="3639" y="1879"/>
                </a:cubicBezTo>
                <a:cubicBezTo>
                  <a:pt x="4169" y="1859"/>
                  <a:pt x="4679" y="1599"/>
                  <a:pt x="5209" y="1484"/>
                </a:cubicBezTo>
                <a:cubicBezTo>
                  <a:pt x="5403" y="1445"/>
                  <a:pt x="5649" y="1166"/>
                  <a:pt x="5772" y="1378"/>
                </a:cubicBezTo>
                <a:cubicBezTo>
                  <a:pt x="5966" y="1715"/>
                  <a:pt x="5966" y="2245"/>
                  <a:pt x="5901" y="2678"/>
                </a:cubicBezTo>
                <a:cubicBezTo>
                  <a:pt x="5817" y="3189"/>
                  <a:pt x="5358" y="3507"/>
                  <a:pt x="5345" y="4027"/>
                </a:cubicBezTo>
                <a:cubicBezTo>
                  <a:pt x="5332" y="4412"/>
                  <a:pt x="5623" y="4721"/>
                  <a:pt x="5830" y="4971"/>
                </a:cubicBezTo>
                <a:cubicBezTo>
                  <a:pt x="6082" y="5260"/>
                  <a:pt x="6521" y="5154"/>
                  <a:pt x="6676" y="5549"/>
                </a:cubicBezTo>
                <a:cubicBezTo>
                  <a:pt x="6883" y="6079"/>
                  <a:pt x="6521" y="6927"/>
                  <a:pt x="6799" y="7380"/>
                </a:cubicBezTo>
                <a:cubicBezTo>
                  <a:pt x="6993" y="7717"/>
                  <a:pt x="7478" y="6994"/>
                  <a:pt x="7698" y="7303"/>
                </a:cubicBezTo>
                <a:cubicBezTo>
                  <a:pt x="7989" y="7717"/>
                  <a:pt x="7730" y="8565"/>
                  <a:pt x="7963" y="9037"/>
                </a:cubicBezTo>
                <a:cubicBezTo>
                  <a:pt x="8131" y="9384"/>
                  <a:pt x="8557" y="9181"/>
                  <a:pt x="8777" y="9451"/>
                </a:cubicBezTo>
                <a:cubicBezTo>
                  <a:pt x="9068" y="9798"/>
                  <a:pt x="9184" y="10376"/>
                  <a:pt x="9430" y="10790"/>
                </a:cubicBezTo>
                <a:cubicBezTo>
                  <a:pt x="9650" y="11137"/>
                  <a:pt x="10076" y="11262"/>
                  <a:pt x="10192" y="11715"/>
                </a:cubicBezTo>
                <a:cubicBezTo>
                  <a:pt x="10445" y="12775"/>
                  <a:pt x="9843" y="14345"/>
                  <a:pt x="10425" y="15039"/>
                </a:cubicBezTo>
                <a:cubicBezTo>
                  <a:pt x="10852" y="15550"/>
                  <a:pt x="10981" y="13642"/>
                  <a:pt x="11143" y="12852"/>
                </a:cubicBezTo>
                <a:cubicBezTo>
                  <a:pt x="11233" y="12438"/>
                  <a:pt x="10871" y="11426"/>
                  <a:pt x="11143" y="11551"/>
                </a:cubicBezTo>
                <a:cubicBezTo>
                  <a:pt x="11724" y="11792"/>
                  <a:pt x="12060" y="12756"/>
                  <a:pt x="12461" y="13430"/>
                </a:cubicBezTo>
                <a:cubicBezTo>
                  <a:pt x="12694" y="13816"/>
                  <a:pt x="12778" y="14442"/>
                  <a:pt x="13069" y="14731"/>
                </a:cubicBezTo>
                <a:cubicBezTo>
                  <a:pt x="13469" y="15145"/>
                  <a:pt x="14025" y="15097"/>
                  <a:pt x="14458" y="15434"/>
                </a:cubicBezTo>
                <a:cubicBezTo>
                  <a:pt x="14775" y="15675"/>
                  <a:pt x="15201" y="15954"/>
                  <a:pt x="15285" y="16465"/>
                </a:cubicBezTo>
                <a:cubicBezTo>
                  <a:pt x="15408" y="17313"/>
                  <a:pt x="15298" y="18276"/>
                  <a:pt x="14995" y="19018"/>
                </a:cubicBezTo>
                <a:cubicBezTo>
                  <a:pt x="14749" y="19596"/>
                  <a:pt x="14206" y="19741"/>
                  <a:pt x="13792" y="20010"/>
                </a:cubicBezTo>
                <a:cubicBezTo>
                  <a:pt x="13431" y="20242"/>
                  <a:pt x="13043" y="20319"/>
                  <a:pt x="12681" y="20550"/>
                </a:cubicBezTo>
                <a:cubicBezTo>
                  <a:pt x="12487" y="20675"/>
                  <a:pt x="12131" y="20714"/>
                  <a:pt x="12144" y="21022"/>
                </a:cubicBezTo>
                <a:cubicBezTo>
                  <a:pt x="12157" y="21330"/>
                  <a:pt x="12642" y="21455"/>
                  <a:pt x="12823" y="21600"/>
                </a:cubicBezTo>
                <a:cubicBezTo>
                  <a:pt x="15757" y="21600"/>
                  <a:pt x="18659" y="21581"/>
                  <a:pt x="21600" y="21581"/>
                </a:cubicBezTo>
                <a:cubicBezTo>
                  <a:pt x="21600" y="21581"/>
                  <a:pt x="21600" y="12110"/>
                  <a:pt x="21600" y="12110"/>
                </a:cubicBezTo>
                <a:cubicBezTo>
                  <a:pt x="21438" y="12110"/>
                  <a:pt x="21277" y="12081"/>
                  <a:pt x="21128" y="12072"/>
                </a:cubicBezTo>
                <a:cubicBezTo>
                  <a:pt x="19887" y="11860"/>
                  <a:pt x="18659" y="11330"/>
                  <a:pt x="17476" y="10665"/>
                </a:cubicBezTo>
                <a:cubicBezTo>
                  <a:pt x="16410" y="10087"/>
                  <a:pt x="15357" y="9364"/>
                  <a:pt x="14361" y="8623"/>
                </a:cubicBezTo>
                <a:cubicBezTo>
                  <a:pt x="13082" y="7669"/>
                  <a:pt x="11899" y="6513"/>
                  <a:pt x="10748" y="5357"/>
                </a:cubicBezTo>
                <a:cubicBezTo>
                  <a:pt x="10251" y="4865"/>
                  <a:pt x="9746" y="4374"/>
                  <a:pt x="9262" y="3892"/>
                </a:cubicBezTo>
                <a:cubicBezTo>
                  <a:pt x="8131" y="2755"/>
                  <a:pt x="5856" y="434"/>
                  <a:pt x="5856" y="434"/>
                </a:cubicBezTo>
                <a:cubicBezTo>
                  <a:pt x="5856" y="434"/>
                  <a:pt x="5707" y="588"/>
                  <a:pt x="5578" y="723"/>
                </a:cubicBezTo>
                <a:cubicBezTo>
                  <a:pt x="5274" y="1012"/>
                  <a:pt x="4873" y="1050"/>
                  <a:pt x="4511" y="867"/>
                </a:cubicBezTo>
                <a:cubicBezTo>
                  <a:pt x="4169" y="674"/>
                  <a:pt x="3930" y="164"/>
                  <a:pt x="3574" y="39"/>
                </a:cubicBezTo>
                <a:cubicBezTo>
                  <a:pt x="3464" y="0"/>
                  <a:pt x="3225" y="164"/>
                  <a:pt x="3225" y="164"/>
                </a:cubicBezTo>
                <a:cubicBezTo>
                  <a:pt x="3225" y="164"/>
                  <a:pt x="2896" y="183"/>
                  <a:pt x="2753" y="289"/>
                </a:cubicBezTo>
                <a:cubicBezTo>
                  <a:pt x="2592" y="385"/>
                  <a:pt x="2475" y="636"/>
                  <a:pt x="2314" y="617"/>
                </a:cubicBezTo>
                <a:cubicBezTo>
                  <a:pt x="2088" y="578"/>
                  <a:pt x="1978" y="164"/>
                  <a:pt x="1764" y="96"/>
                </a:cubicBezTo>
                <a:cubicBezTo>
                  <a:pt x="1409" y="0"/>
                  <a:pt x="1099" y="491"/>
                  <a:pt x="808" y="944"/>
                </a:cubicBezTo>
                <a:cubicBezTo>
                  <a:pt x="536" y="1339"/>
                  <a:pt x="265" y="1715"/>
                  <a:pt x="0" y="210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22160" y="1893960"/>
            <a:ext cx="5397480" cy="15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39" y="21414"/>
                  <a:pt x="879" y="21080"/>
                  <a:pt x="1318" y="20745"/>
                </a:cubicBezTo>
                <a:cubicBezTo>
                  <a:pt x="2215" y="20027"/>
                  <a:pt x="3079" y="18937"/>
                  <a:pt x="3925" y="17723"/>
                </a:cubicBezTo>
                <a:cubicBezTo>
                  <a:pt x="4379" y="17079"/>
                  <a:pt x="4822" y="16250"/>
                  <a:pt x="5236" y="15321"/>
                </a:cubicBezTo>
                <a:cubicBezTo>
                  <a:pt x="5924" y="13772"/>
                  <a:pt x="6579" y="12039"/>
                  <a:pt x="7051" y="10738"/>
                </a:cubicBezTo>
                <a:cubicBezTo>
                  <a:pt x="7653" y="9091"/>
                  <a:pt x="8077" y="7877"/>
                  <a:pt x="8470" y="6552"/>
                </a:cubicBezTo>
                <a:cubicBezTo>
                  <a:pt x="8827" y="5338"/>
                  <a:pt x="9187" y="4137"/>
                  <a:pt x="9522" y="2861"/>
                </a:cubicBezTo>
                <a:cubicBezTo>
                  <a:pt x="9666" y="2304"/>
                  <a:pt x="9853" y="1771"/>
                  <a:pt x="10015" y="1214"/>
                </a:cubicBezTo>
                <a:cubicBezTo>
                  <a:pt x="10177" y="632"/>
                  <a:pt x="10350" y="0"/>
                  <a:pt x="10548" y="136"/>
                </a:cubicBezTo>
                <a:cubicBezTo>
                  <a:pt x="10667" y="211"/>
                  <a:pt x="10728" y="731"/>
                  <a:pt x="10854" y="793"/>
                </a:cubicBezTo>
                <a:cubicBezTo>
                  <a:pt x="10944" y="817"/>
                  <a:pt x="11009" y="508"/>
                  <a:pt x="11099" y="372"/>
                </a:cubicBezTo>
                <a:cubicBezTo>
                  <a:pt x="11178" y="235"/>
                  <a:pt x="11362" y="211"/>
                  <a:pt x="11362" y="211"/>
                </a:cubicBezTo>
                <a:cubicBezTo>
                  <a:pt x="11362" y="211"/>
                  <a:pt x="11495" y="0"/>
                  <a:pt x="11556" y="50"/>
                </a:cubicBezTo>
                <a:cubicBezTo>
                  <a:pt x="11754" y="211"/>
                  <a:pt x="11888" y="879"/>
                  <a:pt x="12078" y="1102"/>
                </a:cubicBezTo>
                <a:cubicBezTo>
                  <a:pt x="12280" y="1350"/>
                  <a:pt x="12503" y="1288"/>
                  <a:pt x="12673" y="917"/>
                </a:cubicBezTo>
                <a:cubicBezTo>
                  <a:pt x="12745" y="768"/>
                  <a:pt x="12827" y="557"/>
                  <a:pt x="12827" y="557"/>
                </a:cubicBezTo>
                <a:cubicBezTo>
                  <a:pt x="12827" y="557"/>
                  <a:pt x="14095" y="3555"/>
                  <a:pt x="14725" y="5004"/>
                </a:cubicBezTo>
                <a:cubicBezTo>
                  <a:pt x="14995" y="5623"/>
                  <a:pt x="15276" y="6267"/>
                  <a:pt x="15554" y="6899"/>
                </a:cubicBezTo>
                <a:cubicBezTo>
                  <a:pt x="16195" y="8385"/>
                  <a:pt x="16854" y="9871"/>
                  <a:pt x="17567" y="11085"/>
                </a:cubicBezTo>
                <a:cubicBezTo>
                  <a:pt x="18121" y="12039"/>
                  <a:pt x="18708" y="12967"/>
                  <a:pt x="19302" y="13711"/>
                </a:cubicBezTo>
                <a:cubicBezTo>
                  <a:pt x="19961" y="14565"/>
                  <a:pt x="20646" y="15259"/>
                  <a:pt x="21337" y="15506"/>
                </a:cubicBezTo>
                <a:cubicBezTo>
                  <a:pt x="21420" y="15544"/>
                  <a:pt x="21510" y="15568"/>
                  <a:pt x="21600" y="15568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77880" y="6249960"/>
            <a:ext cx="25560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665680"/>
            <a:ext cx="122400" cy="9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400" y="3312"/>
                  <a:pt x="19200" y="18309"/>
                  <a:pt x="21600" y="21600"/>
                </a:cubicBezTo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02240" y="4734000"/>
            <a:ext cx="20520" cy="8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513" y="8809"/>
                  <a:pt x="15965" y="15215"/>
                  <a:pt x="21600" y="21600"/>
                </a:cubicBezTo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11800" y="4452840"/>
            <a:ext cx="14400" cy="86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2960" y="17642"/>
                  <a:pt x="21600" y="21600"/>
                </a:cubicBezTo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0440" y="4950000"/>
            <a:ext cx="650880" cy="34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394" y="3271"/>
                </a:moveTo>
                <a:cubicBezTo>
                  <a:pt x="17352" y="4850"/>
                  <a:pt x="18399" y="6147"/>
                  <a:pt x="19356" y="7726"/>
                </a:cubicBezTo>
                <a:cubicBezTo>
                  <a:pt x="20134" y="9080"/>
                  <a:pt x="20882" y="10377"/>
                  <a:pt x="21600" y="11618"/>
                </a:cubicBezTo>
                <a:cubicBezTo>
                  <a:pt x="20433" y="14381"/>
                  <a:pt x="19087" y="16411"/>
                  <a:pt x="17561" y="18103"/>
                </a:cubicBezTo>
                <a:cubicBezTo>
                  <a:pt x="15647" y="20303"/>
                  <a:pt x="13403" y="21374"/>
                  <a:pt x="11219" y="21487"/>
                </a:cubicBezTo>
                <a:cubicBezTo>
                  <a:pt x="8706" y="21600"/>
                  <a:pt x="6223" y="20641"/>
                  <a:pt x="4099" y="18385"/>
                </a:cubicBezTo>
                <a:cubicBezTo>
                  <a:pt x="2693" y="16806"/>
                  <a:pt x="1466" y="14381"/>
                  <a:pt x="838" y="11618"/>
                </a:cubicBezTo>
                <a:cubicBezTo>
                  <a:pt x="449" y="10039"/>
                  <a:pt x="180" y="8460"/>
                  <a:pt x="0" y="6880"/>
                </a:cubicBezTo>
                <a:cubicBezTo>
                  <a:pt x="2483" y="4568"/>
                  <a:pt x="5176" y="2312"/>
                  <a:pt x="7689" y="0"/>
                </a:cubicBezTo>
                <a:cubicBezTo>
                  <a:pt x="8018" y="1692"/>
                  <a:pt x="8526" y="2989"/>
                  <a:pt x="9095" y="4230"/>
                </a:cubicBezTo>
                <a:cubicBezTo>
                  <a:pt x="9992" y="6034"/>
                  <a:pt x="11279" y="6880"/>
                  <a:pt x="12685" y="6655"/>
                </a:cubicBezTo>
                <a:cubicBezTo>
                  <a:pt x="14031" y="6373"/>
                  <a:pt x="15317" y="5414"/>
                  <a:pt x="16394" y="3271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129280" y="4915080"/>
            <a:ext cx="24300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062"/>
                </a:moveTo>
                <a:cubicBezTo>
                  <a:pt x="160" y="14087"/>
                  <a:pt x="480" y="17843"/>
                  <a:pt x="1040" y="21600"/>
                </a:cubicBezTo>
                <a:cubicBezTo>
                  <a:pt x="7680" y="16099"/>
                  <a:pt x="14880" y="10733"/>
                  <a:pt x="21600" y="5232"/>
                </a:cubicBezTo>
                <a:cubicBezTo>
                  <a:pt x="21280" y="3488"/>
                  <a:pt x="21280" y="1744"/>
                  <a:pt x="21040" y="0"/>
                </a:cubicBezTo>
                <a:cubicBezTo>
                  <a:pt x="16800" y="2012"/>
                  <a:pt x="12880" y="4025"/>
                  <a:pt x="8560" y="6037"/>
                </a:cubicBezTo>
                <a:cubicBezTo>
                  <a:pt x="5680" y="7513"/>
                  <a:pt x="2880" y="8720"/>
                  <a:pt x="0" y="1006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27480" y="4425840"/>
            <a:ext cx="555840" cy="55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33" y="1217"/>
                </a:moveTo>
                <a:cubicBezTo>
                  <a:pt x="8997" y="2539"/>
                  <a:pt x="6056" y="5078"/>
                  <a:pt x="3886" y="8035"/>
                </a:cubicBezTo>
                <a:cubicBezTo>
                  <a:pt x="1925" y="10748"/>
                  <a:pt x="525" y="13948"/>
                  <a:pt x="140" y="17287"/>
                </a:cubicBezTo>
                <a:cubicBezTo>
                  <a:pt x="0" y="18713"/>
                  <a:pt x="0" y="20209"/>
                  <a:pt x="70" y="21600"/>
                </a:cubicBezTo>
                <a:cubicBezTo>
                  <a:pt x="1330" y="21252"/>
                  <a:pt x="2556" y="20870"/>
                  <a:pt x="3816" y="20487"/>
                </a:cubicBezTo>
                <a:cubicBezTo>
                  <a:pt x="5706" y="19965"/>
                  <a:pt x="7562" y="19443"/>
                  <a:pt x="9452" y="18922"/>
                </a:cubicBezTo>
                <a:cubicBezTo>
                  <a:pt x="9277" y="18122"/>
                  <a:pt x="9137" y="17357"/>
                  <a:pt x="9277" y="16487"/>
                </a:cubicBezTo>
                <a:cubicBezTo>
                  <a:pt x="9592" y="14539"/>
                  <a:pt x="10712" y="12904"/>
                  <a:pt x="12078" y="11617"/>
                </a:cubicBezTo>
                <a:cubicBezTo>
                  <a:pt x="13058" y="10748"/>
                  <a:pt x="14388" y="9843"/>
                  <a:pt x="15824" y="9496"/>
                </a:cubicBezTo>
                <a:cubicBezTo>
                  <a:pt x="16559" y="9252"/>
                  <a:pt x="17329" y="9183"/>
                  <a:pt x="17959" y="9252"/>
                </a:cubicBezTo>
                <a:cubicBezTo>
                  <a:pt x="18659" y="7687"/>
                  <a:pt x="19359" y="6052"/>
                  <a:pt x="20025" y="4487"/>
                </a:cubicBezTo>
                <a:cubicBezTo>
                  <a:pt x="20550" y="3130"/>
                  <a:pt x="21075" y="1774"/>
                  <a:pt x="21600" y="522"/>
                </a:cubicBezTo>
                <a:cubicBezTo>
                  <a:pt x="21285" y="452"/>
                  <a:pt x="21075" y="383"/>
                  <a:pt x="20760" y="313"/>
                </a:cubicBezTo>
                <a:cubicBezTo>
                  <a:pt x="18484" y="0"/>
                  <a:pt x="15369" y="104"/>
                  <a:pt x="12533" y="1217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9720" y="4438800"/>
            <a:ext cx="183960" cy="26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672"/>
                </a:moveTo>
                <a:cubicBezTo>
                  <a:pt x="18439" y="1485"/>
                  <a:pt x="14751" y="445"/>
                  <a:pt x="11063" y="0"/>
                </a:cubicBezTo>
                <a:cubicBezTo>
                  <a:pt x="9483" y="2672"/>
                  <a:pt x="7797" y="5567"/>
                  <a:pt x="6217" y="8462"/>
                </a:cubicBezTo>
                <a:cubicBezTo>
                  <a:pt x="4215" y="11802"/>
                  <a:pt x="2107" y="15142"/>
                  <a:pt x="0" y="18482"/>
                </a:cubicBezTo>
                <a:cubicBezTo>
                  <a:pt x="1054" y="18631"/>
                  <a:pt x="1897" y="18928"/>
                  <a:pt x="2845" y="19225"/>
                </a:cubicBezTo>
                <a:cubicBezTo>
                  <a:pt x="4741" y="19893"/>
                  <a:pt x="6638" y="20709"/>
                  <a:pt x="8219" y="21600"/>
                </a:cubicBezTo>
                <a:cubicBezTo>
                  <a:pt x="12644" y="15291"/>
                  <a:pt x="17069" y="9130"/>
                  <a:pt x="21600" y="2672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362560" y="4662360"/>
            <a:ext cx="347760" cy="3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79" y="14988"/>
                </a:moveTo>
                <a:cubicBezTo>
                  <a:pt x="19256" y="15527"/>
                  <a:pt x="18921" y="16016"/>
                  <a:pt x="18530" y="16555"/>
                </a:cubicBezTo>
                <a:cubicBezTo>
                  <a:pt x="18251" y="16898"/>
                  <a:pt x="17972" y="17192"/>
                  <a:pt x="17581" y="17486"/>
                </a:cubicBezTo>
                <a:cubicBezTo>
                  <a:pt x="17358" y="17829"/>
                  <a:pt x="17135" y="18122"/>
                  <a:pt x="16856" y="18465"/>
                </a:cubicBezTo>
                <a:cubicBezTo>
                  <a:pt x="14847" y="20327"/>
                  <a:pt x="12447" y="21159"/>
                  <a:pt x="9935" y="21404"/>
                </a:cubicBezTo>
                <a:cubicBezTo>
                  <a:pt x="7312" y="21600"/>
                  <a:pt x="4912" y="20865"/>
                  <a:pt x="3237" y="19298"/>
                </a:cubicBezTo>
                <a:cubicBezTo>
                  <a:pt x="2177" y="18220"/>
                  <a:pt x="1340" y="16996"/>
                  <a:pt x="726" y="15527"/>
                </a:cubicBezTo>
                <a:cubicBezTo>
                  <a:pt x="502" y="14988"/>
                  <a:pt x="391" y="14351"/>
                  <a:pt x="223" y="13714"/>
                </a:cubicBezTo>
                <a:cubicBezTo>
                  <a:pt x="0" y="12588"/>
                  <a:pt x="0" y="11412"/>
                  <a:pt x="223" y="10286"/>
                </a:cubicBezTo>
                <a:cubicBezTo>
                  <a:pt x="726" y="7543"/>
                  <a:pt x="2512" y="5241"/>
                  <a:pt x="4688" y="3429"/>
                </a:cubicBezTo>
                <a:cubicBezTo>
                  <a:pt x="6251" y="2204"/>
                  <a:pt x="8372" y="931"/>
                  <a:pt x="10660" y="441"/>
                </a:cubicBezTo>
                <a:cubicBezTo>
                  <a:pt x="11833" y="98"/>
                  <a:pt x="13060" y="0"/>
                  <a:pt x="14065" y="98"/>
                </a:cubicBezTo>
                <a:cubicBezTo>
                  <a:pt x="14623" y="196"/>
                  <a:pt x="15070" y="294"/>
                  <a:pt x="15572" y="490"/>
                </a:cubicBezTo>
                <a:cubicBezTo>
                  <a:pt x="16577" y="931"/>
                  <a:pt x="17581" y="1469"/>
                  <a:pt x="18419" y="2057"/>
                </a:cubicBezTo>
                <a:cubicBezTo>
                  <a:pt x="19758" y="3135"/>
                  <a:pt x="20595" y="4261"/>
                  <a:pt x="21042" y="5633"/>
                </a:cubicBezTo>
                <a:cubicBezTo>
                  <a:pt x="21600" y="7445"/>
                  <a:pt x="21600" y="9404"/>
                  <a:pt x="21153" y="11412"/>
                </a:cubicBezTo>
                <a:cubicBezTo>
                  <a:pt x="20930" y="12588"/>
                  <a:pt x="20316" y="13616"/>
                  <a:pt x="19479" y="1498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634000" y="4938840"/>
            <a:ext cx="227160" cy="193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855" y="21600"/>
                </a:moveTo>
                <a:cubicBezTo>
                  <a:pt x="15965" y="20100"/>
                  <a:pt x="17075" y="18600"/>
                  <a:pt x="17929" y="17100"/>
                </a:cubicBezTo>
                <a:cubicBezTo>
                  <a:pt x="19209" y="14800"/>
                  <a:pt x="20490" y="12400"/>
                  <a:pt x="21600" y="9900"/>
                </a:cubicBezTo>
                <a:cubicBezTo>
                  <a:pt x="18783" y="8400"/>
                  <a:pt x="15794" y="6900"/>
                  <a:pt x="12806" y="5100"/>
                </a:cubicBezTo>
                <a:cubicBezTo>
                  <a:pt x="9818" y="3400"/>
                  <a:pt x="7001" y="1700"/>
                  <a:pt x="4013" y="0"/>
                </a:cubicBezTo>
                <a:cubicBezTo>
                  <a:pt x="3159" y="2100"/>
                  <a:pt x="1878" y="4700"/>
                  <a:pt x="0" y="7100"/>
                </a:cubicBezTo>
                <a:cubicBezTo>
                  <a:pt x="2732" y="9900"/>
                  <a:pt x="5720" y="12200"/>
                  <a:pt x="8452" y="15000"/>
                </a:cubicBezTo>
                <a:cubicBezTo>
                  <a:pt x="10672" y="17400"/>
                  <a:pt x="12806" y="19500"/>
                  <a:pt x="14855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56320" y="4468680"/>
            <a:ext cx="264960" cy="55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475" y="21600"/>
                </a:moveTo>
                <a:cubicBezTo>
                  <a:pt x="18598" y="19649"/>
                  <a:pt x="19989" y="17559"/>
                  <a:pt x="20795" y="15399"/>
                </a:cubicBezTo>
                <a:cubicBezTo>
                  <a:pt x="21600" y="12925"/>
                  <a:pt x="21600" y="10452"/>
                  <a:pt x="20502" y="8152"/>
                </a:cubicBezTo>
                <a:cubicBezTo>
                  <a:pt x="19184" y="5609"/>
                  <a:pt x="16841" y="3135"/>
                  <a:pt x="12960" y="1359"/>
                </a:cubicBezTo>
                <a:cubicBezTo>
                  <a:pt x="11862" y="836"/>
                  <a:pt x="10617" y="383"/>
                  <a:pt x="9299" y="0"/>
                </a:cubicBezTo>
                <a:cubicBezTo>
                  <a:pt x="6224" y="2996"/>
                  <a:pt x="3222" y="5923"/>
                  <a:pt x="0" y="8884"/>
                </a:cubicBezTo>
                <a:cubicBezTo>
                  <a:pt x="1831" y="9650"/>
                  <a:pt x="3075" y="10521"/>
                  <a:pt x="3661" y="11497"/>
                </a:cubicBezTo>
                <a:cubicBezTo>
                  <a:pt x="4393" y="12786"/>
                  <a:pt x="4393" y="14179"/>
                  <a:pt x="3807" y="15608"/>
                </a:cubicBezTo>
                <a:cubicBezTo>
                  <a:pt x="3515" y="16444"/>
                  <a:pt x="2929" y="17315"/>
                  <a:pt x="1831" y="18290"/>
                </a:cubicBezTo>
                <a:cubicBezTo>
                  <a:pt x="4320" y="18883"/>
                  <a:pt x="6590" y="19335"/>
                  <a:pt x="9153" y="19928"/>
                </a:cubicBezTo>
                <a:cubicBezTo>
                  <a:pt x="11715" y="20555"/>
                  <a:pt x="14205" y="21077"/>
                  <a:pt x="16475" y="21600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62400" y="4492800"/>
            <a:ext cx="43344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178"/>
                </a:moveTo>
                <a:cubicBezTo>
                  <a:pt x="0" y="17422"/>
                  <a:pt x="810" y="14667"/>
                  <a:pt x="1935" y="12178"/>
                </a:cubicBezTo>
                <a:cubicBezTo>
                  <a:pt x="2700" y="10578"/>
                  <a:pt x="3870" y="8844"/>
                  <a:pt x="5130" y="7600"/>
                </a:cubicBezTo>
                <a:cubicBezTo>
                  <a:pt x="6480" y="6267"/>
                  <a:pt x="8325" y="5333"/>
                  <a:pt x="9675" y="4133"/>
                </a:cubicBezTo>
                <a:cubicBezTo>
                  <a:pt x="11475" y="2400"/>
                  <a:pt x="13050" y="1467"/>
                  <a:pt x="14850" y="667"/>
                </a:cubicBezTo>
                <a:cubicBezTo>
                  <a:pt x="16515" y="0"/>
                  <a:pt x="19800" y="0"/>
                  <a:pt x="21510" y="267"/>
                </a:cubicBezTo>
                <a:cubicBezTo>
                  <a:pt x="21600" y="267"/>
                  <a:pt x="20565" y="3244"/>
                  <a:pt x="19980" y="4489"/>
                </a:cubicBezTo>
                <a:cubicBezTo>
                  <a:pt x="19710" y="5156"/>
                  <a:pt x="17190" y="5600"/>
                  <a:pt x="16515" y="6000"/>
                </a:cubicBezTo>
                <a:cubicBezTo>
                  <a:pt x="14175" y="7156"/>
                  <a:pt x="14085" y="7333"/>
                  <a:pt x="11880" y="8578"/>
                </a:cubicBezTo>
                <a:cubicBezTo>
                  <a:pt x="10440" y="9333"/>
                  <a:pt x="9360" y="11511"/>
                  <a:pt x="8100" y="12667"/>
                </a:cubicBezTo>
                <a:cubicBezTo>
                  <a:pt x="6975" y="13733"/>
                  <a:pt x="5985" y="14933"/>
                  <a:pt x="5625" y="16489"/>
                </a:cubicBezTo>
                <a:cubicBezTo>
                  <a:pt x="5220" y="17822"/>
                  <a:pt x="5805" y="19511"/>
                  <a:pt x="4950" y="20667"/>
                </a:cubicBezTo>
                <a:cubicBezTo>
                  <a:pt x="4455" y="21333"/>
                  <a:pt x="2340" y="21600"/>
                  <a:pt x="1575" y="21511"/>
                </a:cubicBezTo>
                <a:cubicBezTo>
                  <a:pt x="675" y="21422"/>
                  <a:pt x="0" y="21067"/>
                  <a:pt x="0" y="20178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99120" y="5029200"/>
            <a:ext cx="34452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8" y="5319"/>
                </a:moveTo>
                <a:cubicBezTo>
                  <a:pt x="1350" y="9269"/>
                  <a:pt x="2756" y="12573"/>
                  <a:pt x="4556" y="15152"/>
                </a:cubicBezTo>
                <a:cubicBezTo>
                  <a:pt x="5569" y="16764"/>
                  <a:pt x="6975" y="18296"/>
                  <a:pt x="8213" y="19182"/>
                </a:cubicBezTo>
                <a:cubicBezTo>
                  <a:pt x="9619" y="19827"/>
                  <a:pt x="11194" y="19585"/>
                  <a:pt x="12431" y="20552"/>
                </a:cubicBezTo>
                <a:cubicBezTo>
                  <a:pt x="14344" y="21358"/>
                  <a:pt x="15694" y="21600"/>
                  <a:pt x="17100" y="21036"/>
                </a:cubicBezTo>
                <a:cubicBezTo>
                  <a:pt x="18338" y="20713"/>
                  <a:pt x="20475" y="18134"/>
                  <a:pt x="21431" y="16200"/>
                </a:cubicBezTo>
                <a:cubicBezTo>
                  <a:pt x="21600" y="16200"/>
                  <a:pt x="19744" y="12896"/>
                  <a:pt x="18900" y="11525"/>
                </a:cubicBezTo>
                <a:cubicBezTo>
                  <a:pt x="18563" y="11042"/>
                  <a:pt x="16763" y="12251"/>
                  <a:pt x="16144" y="12251"/>
                </a:cubicBezTo>
                <a:cubicBezTo>
                  <a:pt x="14231" y="12573"/>
                  <a:pt x="14119" y="12251"/>
                  <a:pt x="12150" y="12331"/>
                </a:cubicBezTo>
                <a:cubicBezTo>
                  <a:pt x="10969" y="12331"/>
                  <a:pt x="9506" y="9994"/>
                  <a:pt x="8325" y="9510"/>
                </a:cubicBezTo>
                <a:cubicBezTo>
                  <a:pt x="7088" y="8946"/>
                  <a:pt x="6131" y="7899"/>
                  <a:pt x="5175" y="6206"/>
                </a:cubicBezTo>
                <a:cubicBezTo>
                  <a:pt x="4556" y="4675"/>
                  <a:pt x="4219" y="1531"/>
                  <a:pt x="3263" y="645"/>
                </a:cubicBezTo>
                <a:cubicBezTo>
                  <a:pt x="2756" y="0"/>
                  <a:pt x="1181" y="1531"/>
                  <a:pt x="844" y="2015"/>
                </a:cubicBezTo>
                <a:cubicBezTo>
                  <a:pt x="225" y="3063"/>
                  <a:pt x="0" y="4110"/>
                  <a:pt x="338" y="531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62640" y="5243400"/>
            <a:ext cx="1557000" cy="187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4687"/>
                  <a:pt x="21600" y="14687"/>
                </a:cubicBezTo>
                <a:cubicBezTo>
                  <a:pt x="20826" y="14978"/>
                  <a:pt x="20040" y="15289"/>
                  <a:pt x="19292" y="15621"/>
                </a:cubicBezTo>
                <a:cubicBezTo>
                  <a:pt x="17233" y="16535"/>
                  <a:pt x="15511" y="17375"/>
                  <a:pt x="13364" y="18175"/>
                </a:cubicBezTo>
                <a:cubicBezTo>
                  <a:pt x="10557" y="19244"/>
                  <a:pt x="7649" y="21600"/>
                  <a:pt x="4592" y="21206"/>
                </a:cubicBezTo>
                <a:cubicBezTo>
                  <a:pt x="2882" y="20977"/>
                  <a:pt x="3369" y="18486"/>
                  <a:pt x="2496" y="17241"/>
                </a:cubicBezTo>
                <a:cubicBezTo>
                  <a:pt x="2034" y="16607"/>
                  <a:pt x="1148" y="16244"/>
                  <a:pt x="661" y="15621"/>
                </a:cubicBezTo>
                <a:cubicBezTo>
                  <a:pt x="324" y="15185"/>
                  <a:pt x="0" y="14666"/>
                  <a:pt x="25" y="14158"/>
                </a:cubicBezTo>
                <a:cubicBezTo>
                  <a:pt x="87" y="13089"/>
                  <a:pt x="187" y="11937"/>
                  <a:pt x="936" y="11065"/>
                </a:cubicBezTo>
                <a:cubicBezTo>
                  <a:pt x="1560" y="10359"/>
                  <a:pt x="3095" y="10598"/>
                  <a:pt x="3744" y="9913"/>
                </a:cubicBezTo>
                <a:cubicBezTo>
                  <a:pt x="4330" y="9290"/>
                  <a:pt x="5590" y="6487"/>
                  <a:pt x="5590" y="6487"/>
                </a:cubicBezTo>
                <a:cubicBezTo>
                  <a:pt x="5590" y="6487"/>
                  <a:pt x="11280" y="4391"/>
                  <a:pt x="14512" y="2678"/>
                </a:cubicBezTo>
                <a:cubicBezTo>
                  <a:pt x="16896" y="1910"/>
                  <a:pt x="19104" y="675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0320" y="4549680"/>
            <a:ext cx="187200" cy="43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26" y="403"/>
                </a:moveTo>
                <a:cubicBezTo>
                  <a:pt x="12417" y="1344"/>
                  <a:pt x="15965" y="3002"/>
                  <a:pt x="18261" y="4661"/>
                </a:cubicBezTo>
                <a:cubicBezTo>
                  <a:pt x="19826" y="5602"/>
                  <a:pt x="20870" y="7125"/>
                  <a:pt x="21391" y="8380"/>
                </a:cubicBezTo>
                <a:cubicBezTo>
                  <a:pt x="21600" y="9724"/>
                  <a:pt x="20661" y="11248"/>
                  <a:pt x="20661" y="12682"/>
                </a:cubicBezTo>
                <a:cubicBezTo>
                  <a:pt x="21078" y="14430"/>
                  <a:pt x="20348" y="15685"/>
                  <a:pt x="19304" y="17119"/>
                </a:cubicBezTo>
                <a:cubicBezTo>
                  <a:pt x="18261" y="18373"/>
                  <a:pt x="13565" y="20569"/>
                  <a:pt x="10852" y="21510"/>
                </a:cubicBezTo>
                <a:cubicBezTo>
                  <a:pt x="10643" y="21600"/>
                  <a:pt x="7722" y="19897"/>
                  <a:pt x="6157" y="19046"/>
                </a:cubicBezTo>
                <a:cubicBezTo>
                  <a:pt x="5426" y="18642"/>
                  <a:pt x="7826" y="16715"/>
                  <a:pt x="8557" y="16357"/>
                </a:cubicBezTo>
                <a:cubicBezTo>
                  <a:pt x="9391" y="14430"/>
                  <a:pt x="9287" y="14116"/>
                  <a:pt x="10643" y="12324"/>
                </a:cubicBezTo>
                <a:cubicBezTo>
                  <a:pt x="11270" y="11159"/>
                  <a:pt x="9287" y="9724"/>
                  <a:pt x="9078" y="8470"/>
                </a:cubicBezTo>
                <a:cubicBezTo>
                  <a:pt x="8870" y="7349"/>
                  <a:pt x="8348" y="6139"/>
                  <a:pt x="6157" y="5378"/>
                </a:cubicBezTo>
                <a:cubicBezTo>
                  <a:pt x="4696" y="4661"/>
                  <a:pt x="1043" y="4257"/>
                  <a:pt x="313" y="3361"/>
                </a:cubicBezTo>
                <a:cubicBezTo>
                  <a:pt x="0" y="3002"/>
                  <a:pt x="2296" y="1344"/>
                  <a:pt x="3443" y="896"/>
                </a:cubicBezTo>
                <a:cubicBezTo>
                  <a:pt x="5009" y="314"/>
                  <a:pt x="6261" y="0"/>
                  <a:pt x="7826" y="40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00600" y="6148440"/>
            <a:ext cx="1490400" cy="195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13" y="984"/>
                </a:moveTo>
                <a:cubicBezTo>
                  <a:pt x="1043" y="1213"/>
                  <a:pt x="0" y="1511"/>
                  <a:pt x="0" y="1511"/>
                </a:cubicBezTo>
                <a:cubicBezTo>
                  <a:pt x="0" y="1511"/>
                  <a:pt x="7330" y="13608"/>
                  <a:pt x="7330" y="13608"/>
                </a:cubicBezTo>
                <a:cubicBezTo>
                  <a:pt x="7330" y="13608"/>
                  <a:pt x="4983" y="16202"/>
                  <a:pt x="3809" y="17455"/>
                </a:cubicBezTo>
                <a:cubicBezTo>
                  <a:pt x="3078" y="18250"/>
                  <a:pt x="1200" y="19781"/>
                  <a:pt x="1709" y="20566"/>
                </a:cubicBezTo>
                <a:cubicBezTo>
                  <a:pt x="2217" y="21351"/>
                  <a:pt x="3861" y="21600"/>
                  <a:pt x="5478" y="21530"/>
                </a:cubicBezTo>
                <a:cubicBezTo>
                  <a:pt x="7970" y="21451"/>
                  <a:pt x="10670" y="20825"/>
                  <a:pt x="13187" y="19910"/>
                </a:cubicBezTo>
                <a:cubicBezTo>
                  <a:pt x="14674" y="19383"/>
                  <a:pt x="16148" y="18817"/>
                  <a:pt x="17583" y="18101"/>
                </a:cubicBezTo>
                <a:cubicBezTo>
                  <a:pt x="18365" y="17723"/>
                  <a:pt x="19148" y="17206"/>
                  <a:pt x="19735" y="16699"/>
                </a:cubicBezTo>
                <a:cubicBezTo>
                  <a:pt x="20452" y="16053"/>
                  <a:pt x="20987" y="15288"/>
                  <a:pt x="21209" y="14672"/>
                </a:cubicBezTo>
                <a:cubicBezTo>
                  <a:pt x="21378" y="14195"/>
                  <a:pt x="21600" y="13181"/>
                  <a:pt x="21600" y="13181"/>
                </a:cubicBezTo>
                <a:cubicBezTo>
                  <a:pt x="21600" y="13181"/>
                  <a:pt x="18470" y="12803"/>
                  <a:pt x="16800" y="12674"/>
                </a:cubicBezTo>
                <a:cubicBezTo>
                  <a:pt x="14843" y="12525"/>
                  <a:pt x="10904" y="12415"/>
                  <a:pt x="10904" y="12415"/>
                </a:cubicBezTo>
                <a:cubicBezTo>
                  <a:pt x="10904" y="12415"/>
                  <a:pt x="3000" y="0"/>
                  <a:pt x="3000" y="0"/>
                </a:cubicBezTo>
                <a:cubicBezTo>
                  <a:pt x="3000" y="0"/>
                  <a:pt x="2048" y="706"/>
                  <a:pt x="1513" y="984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621240" y="5888160"/>
            <a:ext cx="612720" cy="47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118" y="8508"/>
                </a:moveTo>
                <a:cubicBezTo>
                  <a:pt x="7263" y="9995"/>
                  <a:pt x="3108" y="8921"/>
                  <a:pt x="1205" y="12101"/>
                </a:cubicBezTo>
                <a:cubicBezTo>
                  <a:pt x="0" y="14249"/>
                  <a:pt x="2157" y="17594"/>
                  <a:pt x="3711" y="19370"/>
                </a:cubicBezTo>
                <a:cubicBezTo>
                  <a:pt x="5138" y="20980"/>
                  <a:pt x="7041" y="21600"/>
                  <a:pt x="8881" y="21517"/>
                </a:cubicBezTo>
                <a:cubicBezTo>
                  <a:pt x="11006" y="21393"/>
                  <a:pt x="13100" y="20526"/>
                  <a:pt x="14876" y="19452"/>
                </a:cubicBezTo>
                <a:cubicBezTo>
                  <a:pt x="17128" y="18131"/>
                  <a:pt x="18809" y="16355"/>
                  <a:pt x="19982" y="14166"/>
                </a:cubicBezTo>
                <a:cubicBezTo>
                  <a:pt x="20775" y="12720"/>
                  <a:pt x="21251" y="10862"/>
                  <a:pt x="21410" y="9003"/>
                </a:cubicBezTo>
                <a:cubicBezTo>
                  <a:pt x="21600" y="5121"/>
                  <a:pt x="20522" y="1156"/>
                  <a:pt x="19570" y="743"/>
                </a:cubicBezTo>
                <a:cubicBezTo>
                  <a:pt x="17921" y="0"/>
                  <a:pt x="16842" y="3345"/>
                  <a:pt x="15415" y="4502"/>
                </a:cubicBezTo>
                <a:cubicBezTo>
                  <a:pt x="13702" y="5906"/>
                  <a:pt x="12021" y="7517"/>
                  <a:pt x="10118" y="8508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4320" y="3781440"/>
            <a:ext cx="2225520" cy="2490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60" y="3575"/>
                </a:moveTo>
                <a:cubicBezTo>
                  <a:pt x="4701" y="4574"/>
                  <a:pt x="0" y="6471"/>
                  <a:pt x="0" y="6471"/>
                </a:cubicBezTo>
                <a:cubicBezTo>
                  <a:pt x="0" y="6471"/>
                  <a:pt x="638" y="8392"/>
                  <a:pt x="1293" y="9914"/>
                </a:cubicBezTo>
                <a:cubicBezTo>
                  <a:pt x="1625" y="10718"/>
                  <a:pt x="2604" y="13044"/>
                  <a:pt x="3853" y="15214"/>
                </a:cubicBezTo>
                <a:cubicBezTo>
                  <a:pt x="4421" y="16190"/>
                  <a:pt x="5112" y="17088"/>
                  <a:pt x="5819" y="17970"/>
                </a:cubicBezTo>
                <a:cubicBezTo>
                  <a:pt x="6326" y="18610"/>
                  <a:pt x="6955" y="19211"/>
                  <a:pt x="7654" y="19726"/>
                </a:cubicBezTo>
                <a:cubicBezTo>
                  <a:pt x="8353" y="20250"/>
                  <a:pt x="9114" y="20702"/>
                  <a:pt x="9900" y="21015"/>
                </a:cubicBezTo>
                <a:cubicBezTo>
                  <a:pt x="10608" y="21303"/>
                  <a:pt x="11368" y="21538"/>
                  <a:pt x="12154" y="21569"/>
                </a:cubicBezTo>
                <a:cubicBezTo>
                  <a:pt x="12984" y="21600"/>
                  <a:pt x="13858" y="21436"/>
                  <a:pt x="14653" y="21202"/>
                </a:cubicBezTo>
                <a:cubicBezTo>
                  <a:pt x="15798" y="20851"/>
                  <a:pt x="16899" y="20398"/>
                  <a:pt x="17895" y="19781"/>
                </a:cubicBezTo>
                <a:cubicBezTo>
                  <a:pt x="18778" y="19243"/>
                  <a:pt x="19538" y="18556"/>
                  <a:pt x="20115" y="17775"/>
                </a:cubicBezTo>
                <a:cubicBezTo>
                  <a:pt x="20665" y="17049"/>
                  <a:pt x="21023" y="16229"/>
                  <a:pt x="21294" y="15410"/>
                </a:cubicBezTo>
                <a:cubicBezTo>
                  <a:pt x="21548" y="14730"/>
                  <a:pt x="21600" y="14004"/>
                  <a:pt x="21583" y="13302"/>
                </a:cubicBezTo>
                <a:cubicBezTo>
                  <a:pt x="21556" y="12225"/>
                  <a:pt x="21425" y="11116"/>
                  <a:pt x="21154" y="10062"/>
                </a:cubicBezTo>
                <a:cubicBezTo>
                  <a:pt x="20901" y="9141"/>
                  <a:pt x="20499" y="8259"/>
                  <a:pt x="20088" y="7385"/>
                </a:cubicBezTo>
                <a:cubicBezTo>
                  <a:pt x="19651" y="6471"/>
                  <a:pt x="19127" y="5605"/>
                  <a:pt x="18620" y="4746"/>
                </a:cubicBezTo>
                <a:cubicBezTo>
                  <a:pt x="17703" y="3208"/>
                  <a:pt x="15719" y="0"/>
                  <a:pt x="15719" y="0"/>
                </a:cubicBezTo>
                <a:cubicBezTo>
                  <a:pt x="15719" y="0"/>
                  <a:pt x="9952" y="2342"/>
                  <a:pt x="7060" y="3575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52800" y="3632040"/>
            <a:ext cx="1798560" cy="102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25" y="3216"/>
                </a:moveTo>
                <a:cubicBezTo>
                  <a:pt x="21600" y="7137"/>
                  <a:pt x="17559" y="12675"/>
                  <a:pt x="12134" y="16747"/>
                </a:cubicBezTo>
                <a:cubicBezTo>
                  <a:pt x="7391" y="20325"/>
                  <a:pt x="2107" y="21600"/>
                  <a:pt x="1437" y="19716"/>
                </a:cubicBezTo>
                <a:cubicBezTo>
                  <a:pt x="0" y="15739"/>
                  <a:pt x="4106" y="8640"/>
                  <a:pt x="9584" y="4282"/>
                </a:cubicBezTo>
                <a:cubicBezTo>
                  <a:pt x="14965" y="0"/>
                  <a:pt x="20022" y="152"/>
                  <a:pt x="20725" y="3216"/>
                </a:cubicBezTo>
              </a:path>
            </a:pathLst>
          </a:custGeom>
          <a:solidFill>
            <a:srgbClr val="c30000"/>
          </a:solidFill>
          <a:ln w="72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5440" y="5199120"/>
            <a:ext cx="168120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24"/>
                </a:moveTo>
                <a:cubicBezTo>
                  <a:pt x="0" y="324"/>
                  <a:pt x="58" y="475"/>
                  <a:pt x="81" y="475"/>
                </a:cubicBezTo>
                <a:cubicBezTo>
                  <a:pt x="7192" y="432"/>
                  <a:pt x="21600" y="0"/>
                  <a:pt x="21600" y="0"/>
                </a:cubicBezTo>
                <a:cubicBezTo>
                  <a:pt x="21600" y="0"/>
                  <a:pt x="21484" y="5465"/>
                  <a:pt x="21103" y="8057"/>
                </a:cubicBezTo>
                <a:cubicBezTo>
                  <a:pt x="20640" y="11383"/>
                  <a:pt x="19576" y="15012"/>
                  <a:pt x="17958" y="17604"/>
                </a:cubicBezTo>
                <a:cubicBezTo>
                  <a:pt x="16373" y="20131"/>
                  <a:pt x="14338" y="21600"/>
                  <a:pt x="12292" y="21557"/>
                </a:cubicBezTo>
                <a:cubicBezTo>
                  <a:pt x="10257" y="21514"/>
                  <a:pt x="8268" y="20412"/>
                  <a:pt x="6649" y="18274"/>
                </a:cubicBezTo>
                <a:cubicBezTo>
                  <a:pt x="5088" y="16243"/>
                  <a:pt x="3793" y="13565"/>
                  <a:pt x="2752" y="10584"/>
                </a:cubicBezTo>
                <a:cubicBezTo>
                  <a:pt x="2081" y="8705"/>
                  <a:pt x="1503" y="6588"/>
                  <a:pt x="983" y="4493"/>
                </a:cubicBezTo>
                <a:cubicBezTo>
                  <a:pt x="636" y="3110"/>
                  <a:pt x="0" y="324"/>
                  <a:pt x="0" y="324"/>
                </a:cubicBezTo>
              </a:path>
            </a:pathLst>
          </a:custGeom>
          <a:solidFill>
            <a:srgbClr val="cc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52760" y="1460520"/>
            <a:ext cx="398520" cy="55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75" y="19317"/>
                </a:moveTo>
                <a:cubicBezTo>
                  <a:pt x="0" y="18123"/>
                  <a:pt x="1564" y="16859"/>
                  <a:pt x="2150" y="15278"/>
                </a:cubicBezTo>
                <a:cubicBezTo>
                  <a:pt x="2297" y="14505"/>
                  <a:pt x="2150" y="13698"/>
                  <a:pt x="1906" y="12925"/>
                </a:cubicBezTo>
                <a:cubicBezTo>
                  <a:pt x="1662" y="12117"/>
                  <a:pt x="831" y="11344"/>
                  <a:pt x="831" y="10537"/>
                </a:cubicBezTo>
                <a:cubicBezTo>
                  <a:pt x="831" y="9483"/>
                  <a:pt x="2150" y="8570"/>
                  <a:pt x="2541" y="7446"/>
                </a:cubicBezTo>
                <a:cubicBezTo>
                  <a:pt x="2737" y="6779"/>
                  <a:pt x="2639" y="5936"/>
                  <a:pt x="2639" y="5268"/>
                </a:cubicBezTo>
                <a:cubicBezTo>
                  <a:pt x="2639" y="4566"/>
                  <a:pt x="3372" y="3969"/>
                  <a:pt x="3372" y="3301"/>
                </a:cubicBezTo>
                <a:cubicBezTo>
                  <a:pt x="3274" y="2318"/>
                  <a:pt x="2004" y="1405"/>
                  <a:pt x="2639" y="702"/>
                </a:cubicBezTo>
                <a:cubicBezTo>
                  <a:pt x="3128" y="0"/>
                  <a:pt x="4496" y="211"/>
                  <a:pt x="5815" y="527"/>
                </a:cubicBezTo>
                <a:cubicBezTo>
                  <a:pt x="7037" y="808"/>
                  <a:pt x="13146" y="2704"/>
                  <a:pt x="13879" y="3828"/>
                </a:cubicBezTo>
                <a:cubicBezTo>
                  <a:pt x="14856" y="5409"/>
                  <a:pt x="13928" y="7376"/>
                  <a:pt x="14025" y="9097"/>
                </a:cubicBezTo>
                <a:cubicBezTo>
                  <a:pt x="14025" y="9623"/>
                  <a:pt x="14612" y="10291"/>
                  <a:pt x="14758" y="10888"/>
                </a:cubicBezTo>
                <a:cubicBezTo>
                  <a:pt x="15003" y="11660"/>
                  <a:pt x="15100" y="13241"/>
                  <a:pt x="15100" y="13241"/>
                </a:cubicBezTo>
                <a:cubicBezTo>
                  <a:pt x="15100" y="13241"/>
                  <a:pt x="17202" y="12117"/>
                  <a:pt x="18766" y="11801"/>
                </a:cubicBezTo>
                <a:cubicBezTo>
                  <a:pt x="19987" y="11590"/>
                  <a:pt x="20965" y="12398"/>
                  <a:pt x="21258" y="13311"/>
                </a:cubicBezTo>
                <a:cubicBezTo>
                  <a:pt x="21600" y="14295"/>
                  <a:pt x="21258" y="15419"/>
                  <a:pt x="20867" y="16542"/>
                </a:cubicBezTo>
                <a:cubicBezTo>
                  <a:pt x="20427" y="17456"/>
                  <a:pt x="19792" y="18369"/>
                  <a:pt x="18961" y="19177"/>
                </a:cubicBezTo>
                <a:cubicBezTo>
                  <a:pt x="18033" y="20055"/>
                  <a:pt x="16860" y="21003"/>
                  <a:pt x="15394" y="21284"/>
                </a:cubicBezTo>
                <a:cubicBezTo>
                  <a:pt x="14025" y="21600"/>
                  <a:pt x="10995" y="21108"/>
                  <a:pt x="8014" y="20898"/>
                </a:cubicBezTo>
                <a:cubicBezTo>
                  <a:pt x="5082" y="20687"/>
                  <a:pt x="2150" y="20581"/>
                  <a:pt x="1075" y="19317"/>
                </a:cubicBezTo>
              </a:path>
            </a:pathLst>
          </a:custGeom>
          <a:solidFill>
            <a:srgbClr val="ff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06760" y="1560600"/>
            <a:ext cx="165240" cy="318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87" y="20685"/>
                </a:moveTo>
                <a:cubicBezTo>
                  <a:pt x="590" y="18427"/>
                  <a:pt x="2951" y="15681"/>
                  <a:pt x="2951" y="13241"/>
                </a:cubicBezTo>
                <a:cubicBezTo>
                  <a:pt x="2951" y="11654"/>
                  <a:pt x="3541" y="9824"/>
                  <a:pt x="3187" y="8237"/>
                </a:cubicBezTo>
                <a:cubicBezTo>
                  <a:pt x="2951" y="6529"/>
                  <a:pt x="1416" y="4820"/>
                  <a:pt x="1180" y="3173"/>
                </a:cubicBezTo>
                <a:cubicBezTo>
                  <a:pt x="944" y="2258"/>
                  <a:pt x="0" y="915"/>
                  <a:pt x="1889" y="549"/>
                </a:cubicBezTo>
                <a:cubicBezTo>
                  <a:pt x="4485" y="0"/>
                  <a:pt x="8262" y="549"/>
                  <a:pt x="9797" y="1464"/>
                </a:cubicBezTo>
                <a:cubicBezTo>
                  <a:pt x="11803" y="2502"/>
                  <a:pt x="10741" y="4088"/>
                  <a:pt x="10977" y="5369"/>
                </a:cubicBezTo>
                <a:cubicBezTo>
                  <a:pt x="11567" y="6651"/>
                  <a:pt x="10741" y="8237"/>
                  <a:pt x="12039" y="9397"/>
                </a:cubicBezTo>
                <a:cubicBezTo>
                  <a:pt x="12748" y="10312"/>
                  <a:pt x="15344" y="10861"/>
                  <a:pt x="16879" y="11654"/>
                </a:cubicBezTo>
                <a:cubicBezTo>
                  <a:pt x="18649" y="12814"/>
                  <a:pt x="21600" y="13729"/>
                  <a:pt x="21600" y="15071"/>
                </a:cubicBezTo>
                <a:cubicBezTo>
                  <a:pt x="21600" y="16231"/>
                  <a:pt x="18649" y="17024"/>
                  <a:pt x="16289" y="17817"/>
                </a:cubicBezTo>
                <a:cubicBezTo>
                  <a:pt x="14282" y="18549"/>
                  <a:pt x="11803" y="18976"/>
                  <a:pt x="9443" y="19342"/>
                </a:cubicBezTo>
                <a:cubicBezTo>
                  <a:pt x="7436" y="19892"/>
                  <a:pt x="4131" y="21600"/>
                  <a:pt x="3187" y="20685"/>
                </a:cubicBezTo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91040" y="958680"/>
            <a:ext cx="2039760" cy="74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60" y="2788"/>
                </a:moveTo>
                <a:cubicBezTo>
                  <a:pt x="3346" y="2788"/>
                  <a:pt x="3794" y="3622"/>
                  <a:pt x="4127" y="4221"/>
                </a:cubicBezTo>
                <a:cubicBezTo>
                  <a:pt x="4347" y="2996"/>
                  <a:pt x="4766" y="1407"/>
                  <a:pt x="5271" y="1485"/>
                </a:cubicBezTo>
                <a:cubicBezTo>
                  <a:pt x="5796" y="1615"/>
                  <a:pt x="6244" y="3439"/>
                  <a:pt x="6844" y="3309"/>
                </a:cubicBezTo>
                <a:cubicBezTo>
                  <a:pt x="7635" y="3048"/>
                  <a:pt x="8102" y="234"/>
                  <a:pt x="8922" y="104"/>
                </a:cubicBezTo>
                <a:cubicBezTo>
                  <a:pt x="9675" y="0"/>
                  <a:pt x="10190" y="2527"/>
                  <a:pt x="10905" y="2579"/>
                </a:cubicBezTo>
                <a:cubicBezTo>
                  <a:pt x="11372" y="2606"/>
                  <a:pt x="11887" y="52"/>
                  <a:pt x="12583" y="495"/>
                </a:cubicBezTo>
                <a:cubicBezTo>
                  <a:pt x="13250" y="964"/>
                  <a:pt x="13374" y="3908"/>
                  <a:pt x="14108" y="4351"/>
                </a:cubicBezTo>
                <a:cubicBezTo>
                  <a:pt x="14804" y="4794"/>
                  <a:pt x="15375" y="2006"/>
                  <a:pt x="16052" y="2658"/>
                </a:cubicBezTo>
                <a:cubicBezTo>
                  <a:pt x="16710" y="3361"/>
                  <a:pt x="16481" y="6358"/>
                  <a:pt x="17196" y="7217"/>
                </a:cubicBezTo>
                <a:cubicBezTo>
                  <a:pt x="17720" y="7817"/>
                  <a:pt x="18292" y="6827"/>
                  <a:pt x="18883" y="6748"/>
                </a:cubicBezTo>
                <a:cubicBezTo>
                  <a:pt x="19284" y="6696"/>
                  <a:pt x="19741" y="6358"/>
                  <a:pt x="20075" y="6957"/>
                </a:cubicBezTo>
                <a:cubicBezTo>
                  <a:pt x="20313" y="7426"/>
                  <a:pt x="20380" y="8416"/>
                  <a:pt x="20685" y="9198"/>
                </a:cubicBezTo>
                <a:cubicBezTo>
                  <a:pt x="21009" y="9979"/>
                  <a:pt x="21524" y="10083"/>
                  <a:pt x="21562" y="10995"/>
                </a:cubicBezTo>
                <a:cubicBezTo>
                  <a:pt x="21600" y="11986"/>
                  <a:pt x="21009" y="12220"/>
                  <a:pt x="21028" y="13210"/>
                </a:cubicBezTo>
                <a:cubicBezTo>
                  <a:pt x="21057" y="13888"/>
                  <a:pt x="21457" y="13888"/>
                  <a:pt x="21505" y="14669"/>
                </a:cubicBezTo>
                <a:cubicBezTo>
                  <a:pt x="21562" y="15842"/>
                  <a:pt x="21171" y="16285"/>
                  <a:pt x="20809" y="16728"/>
                </a:cubicBezTo>
                <a:cubicBezTo>
                  <a:pt x="20418" y="16676"/>
                  <a:pt x="20027" y="16285"/>
                  <a:pt x="19808" y="16910"/>
                </a:cubicBezTo>
                <a:cubicBezTo>
                  <a:pt x="19360" y="18083"/>
                  <a:pt x="19598" y="20245"/>
                  <a:pt x="19055" y="20766"/>
                </a:cubicBezTo>
                <a:cubicBezTo>
                  <a:pt x="18569" y="21209"/>
                  <a:pt x="18283" y="20089"/>
                  <a:pt x="17863" y="20037"/>
                </a:cubicBezTo>
                <a:cubicBezTo>
                  <a:pt x="17282" y="19932"/>
                  <a:pt x="16662" y="21600"/>
                  <a:pt x="15995" y="21366"/>
                </a:cubicBezTo>
                <a:cubicBezTo>
                  <a:pt x="15423" y="21209"/>
                  <a:pt x="14994" y="19750"/>
                  <a:pt x="14584" y="18291"/>
                </a:cubicBezTo>
                <a:cubicBezTo>
                  <a:pt x="14193" y="18630"/>
                  <a:pt x="13765" y="19021"/>
                  <a:pt x="13593" y="18421"/>
                </a:cubicBezTo>
                <a:cubicBezTo>
                  <a:pt x="13336" y="17405"/>
                  <a:pt x="13784" y="15946"/>
                  <a:pt x="13479" y="15425"/>
                </a:cubicBezTo>
                <a:cubicBezTo>
                  <a:pt x="13164" y="14904"/>
                  <a:pt x="12964" y="16415"/>
                  <a:pt x="12563" y="16519"/>
                </a:cubicBezTo>
                <a:cubicBezTo>
                  <a:pt x="12335" y="16571"/>
                  <a:pt x="12020" y="16024"/>
                  <a:pt x="11925" y="15112"/>
                </a:cubicBezTo>
                <a:cubicBezTo>
                  <a:pt x="11801" y="14122"/>
                  <a:pt x="11744" y="13393"/>
                  <a:pt x="11744" y="13393"/>
                </a:cubicBezTo>
                <a:cubicBezTo>
                  <a:pt x="11744" y="13393"/>
                  <a:pt x="11048" y="15894"/>
                  <a:pt x="10619" y="17118"/>
                </a:cubicBezTo>
                <a:cubicBezTo>
                  <a:pt x="10247" y="18135"/>
                  <a:pt x="9723" y="19307"/>
                  <a:pt x="9170" y="19021"/>
                </a:cubicBezTo>
                <a:cubicBezTo>
                  <a:pt x="8760" y="18864"/>
                  <a:pt x="8388" y="17744"/>
                  <a:pt x="8188" y="16467"/>
                </a:cubicBezTo>
                <a:cubicBezTo>
                  <a:pt x="7988" y="15242"/>
                  <a:pt x="7778" y="12559"/>
                  <a:pt x="7778" y="12559"/>
                </a:cubicBezTo>
                <a:cubicBezTo>
                  <a:pt x="7778" y="12559"/>
                  <a:pt x="7102" y="17587"/>
                  <a:pt x="6291" y="18291"/>
                </a:cubicBezTo>
                <a:cubicBezTo>
                  <a:pt x="5653" y="18864"/>
                  <a:pt x="5205" y="17796"/>
                  <a:pt x="4738" y="17014"/>
                </a:cubicBezTo>
                <a:cubicBezTo>
                  <a:pt x="4223" y="16207"/>
                  <a:pt x="3670" y="15425"/>
                  <a:pt x="3241" y="16024"/>
                </a:cubicBezTo>
                <a:cubicBezTo>
                  <a:pt x="2907" y="16519"/>
                  <a:pt x="2860" y="18030"/>
                  <a:pt x="2555" y="19073"/>
                </a:cubicBezTo>
                <a:cubicBezTo>
                  <a:pt x="2335" y="19854"/>
                  <a:pt x="1935" y="20037"/>
                  <a:pt x="1554" y="19802"/>
                </a:cubicBezTo>
                <a:cubicBezTo>
                  <a:pt x="1163" y="19594"/>
                  <a:pt x="791" y="18916"/>
                  <a:pt x="524" y="18030"/>
                </a:cubicBezTo>
                <a:cubicBezTo>
                  <a:pt x="238" y="17014"/>
                  <a:pt x="162" y="15842"/>
                  <a:pt x="334" y="14904"/>
                </a:cubicBezTo>
                <a:cubicBezTo>
                  <a:pt x="410" y="14461"/>
                  <a:pt x="734" y="13888"/>
                  <a:pt x="734" y="13888"/>
                </a:cubicBezTo>
                <a:cubicBezTo>
                  <a:pt x="734" y="13888"/>
                  <a:pt x="238" y="13158"/>
                  <a:pt x="124" y="12324"/>
                </a:cubicBezTo>
                <a:cubicBezTo>
                  <a:pt x="0" y="11386"/>
                  <a:pt x="381" y="10422"/>
                  <a:pt x="667" y="10344"/>
                </a:cubicBezTo>
                <a:cubicBezTo>
                  <a:pt x="1049" y="10162"/>
                  <a:pt x="1354" y="10943"/>
                  <a:pt x="1735" y="11048"/>
                </a:cubicBezTo>
                <a:cubicBezTo>
                  <a:pt x="2049" y="11126"/>
                  <a:pt x="2364" y="10605"/>
                  <a:pt x="2364" y="9588"/>
                </a:cubicBezTo>
                <a:cubicBezTo>
                  <a:pt x="2364" y="8598"/>
                  <a:pt x="1811" y="8077"/>
                  <a:pt x="1735" y="7530"/>
                </a:cubicBezTo>
                <a:cubicBezTo>
                  <a:pt x="1592" y="6488"/>
                  <a:pt x="1735" y="5081"/>
                  <a:pt x="2002" y="4221"/>
                </a:cubicBezTo>
                <a:cubicBezTo>
                  <a:pt x="2221" y="3517"/>
                  <a:pt x="2526" y="2788"/>
                  <a:pt x="2860" y="2788"/>
                </a:cubicBezTo>
              </a:path>
            </a:pathLst>
          </a:custGeom>
          <a:solidFill>
            <a:srgbClr val="ff9933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97360" y="1581120"/>
            <a:ext cx="76320" cy="9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023" y="19059"/>
                  <a:pt x="9795" y="16306"/>
                  <a:pt x="13563" y="12706"/>
                </a:cubicBezTo>
                <a:cubicBezTo>
                  <a:pt x="17330" y="8894"/>
                  <a:pt x="19340" y="444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983120" y="1574640"/>
            <a:ext cx="2844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3745" y="19842"/>
                  <a:pt x="7200" y="17833"/>
                  <a:pt x="3927" y="15070"/>
                </a:cubicBezTo>
                <a:cubicBezTo>
                  <a:pt x="1964" y="11805"/>
                  <a:pt x="0" y="8037"/>
                  <a:pt x="2618" y="4772"/>
                </a:cubicBezTo>
                <a:cubicBezTo>
                  <a:pt x="5891" y="2763"/>
                  <a:pt x="12436" y="1758"/>
                  <a:pt x="18327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40360" y="1535040"/>
            <a:ext cx="9360" cy="1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673" y="16518"/>
                  <a:pt x="3927" y="6353"/>
                  <a:pt x="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11640" y="1474920"/>
            <a:ext cx="3348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200" y="21600"/>
                </a:moveTo>
                <a:cubicBezTo>
                  <a:pt x="16200" y="18360"/>
                  <a:pt x="21600" y="15480"/>
                  <a:pt x="20400" y="11520"/>
                </a:cubicBezTo>
                <a:cubicBezTo>
                  <a:pt x="18000" y="6120"/>
                  <a:pt x="9000" y="288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62400" y="1452600"/>
            <a:ext cx="17640" cy="6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5600" y="17953"/>
                  <a:pt x="8400" y="14587"/>
                  <a:pt x="6000" y="10940"/>
                </a:cubicBezTo>
                <a:cubicBezTo>
                  <a:pt x="3600" y="7294"/>
                  <a:pt x="3600" y="3927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2200" y="1119240"/>
            <a:ext cx="59040" cy="7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75" y="790"/>
                </a:moveTo>
                <a:cubicBezTo>
                  <a:pt x="4320" y="1317"/>
                  <a:pt x="1662" y="3951"/>
                  <a:pt x="665" y="7902"/>
                </a:cubicBezTo>
                <a:cubicBezTo>
                  <a:pt x="0" y="13171"/>
                  <a:pt x="1662" y="18439"/>
                  <a:pt x="6646" y="19229"/>
                </a:cubicBezTo>
                <a:cubicBezTo>
                  <a:pt x="13957" y="21600"/>
                  <a:pt x="21600" y="15805"/>
                  <a:pt x="21600" y="10537"/>
                </a:cubicBezTo>
                <a:cubicBezTo>
                  <a:pt x="21600" y="5268"/>
                  <a:pt x="14954" y="0"/>
                  <a:pt x="7975" y="790"/>
                </a:cubicBezTo>
              </a:path>
            </a:pathLst>
          </a:custGeom>
          <a:solidFill>
            <a:srgbClr val="c3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68800" y="1452600"/>
            <a:ext cx="15084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29" y="1855"/>
                </a:moveTo>
                <a:cubicBezTo>
                  <a:pt x="1286" y="2915"/>
                  <a:pt x="0" y="5433"/>
                  <a:pt x="386" y="7421"/>
                </a:cubicBezTo>
                <a:cubicBezTo>
                  <a:pt x="900" y="11661"/>
                  <a:pt x="2314" y="15902"/>
                  <a:pt x="5143" y="19082"/>
                </a:cubicBezTo>
                <a:cubicBezTo>
                  <a:pt x="6686" y="21070"/>
                  <a:pt x="9386" y="21600"/>
                  <a:pt x="11957" y="21600"/>
                </a:cubicBezTo>
                <a:cubicBezTo>
                  <a:pt x="13886" y="21600"/>
                  <a:pt x="15814" y="20407"/>
                  <a:pt x="16971" y="19082"/>
                </a:cubicBezTo>
                <a:cubicBezTo>
                  <a:pt x="19029" y="15902"/>
                  <a:pt x="21600" y="12191"/>
                  <a:pt x="21214" y="8216"/>
                </a:cubicBezTo>
                <a:cubicBezTo>
                  <a:pt x="20957" y="5168"/>
                  <a:pt x="18000" y="2915"/>
                  <a:pt x="15429" y="1193"/>
                </a:cubicBezTo>
                <a:cubicBezTo>
                  <a:pt x="14143" y="0"/>
                  <a:pt x="11957" y="0"/>
                  <a:pt x="10286" y="0"/>
                </a:cubicBezTo>
                <a:cubicBezTo>
                  <a:pt x="7714" y="0"/>
                  <a:pt x="4757" y="265"/>
                  <a:pt x="2829" y="1855"/>
                </a:cubicBezTo>
              </a:path>
            </a:pathLst>
          </a:custGeom>
          <a:solidFill>
            <a:srgbClr val="ff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319560" y="1455840"/>
            <a:ext cx="147600" cy="14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17" y="6976"/>
                </a:moveTo>
                <a:cubicBezTo>
                  <a:pt x="0" y="11270"/>
                  <a:pt x="3293" y="16502"/>
                  <a:pt x="6717" y="19319"/>
                </a:cubicBezTo>
                <a:cubicBezTo>
                  <a:pt x="8956" y="21332"/>
                  <a:pt x="13829" y="21600"/>
                  <a:pt x="15937" y="19588"/>
                </a:cubicBezTo>
                <a:cubicBezTo>
                  <a:pt x="19493" y="16502"/>
                  <a:pt x="21600" y="10733"/>
                  <a:pt x="20810" y="6037"/>
                </a:cubicBezTo>
                <a:cubicBezTo>
                  <a:pt x="20151" y="2683"/>
                  <a:pt x="15937" y="0"/>
                  <a:pt x="12644" y="402"/>
                </a:cubicBezTo>
                <a:cubicBezTo>
                  <a:pt x="8298" y="671"/>
                  <a:pt x="2766" y="2683"/>
                  <a:pt x="1317" y="6976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86040" y="1238400"/>
            <a:ext cx="209520" cy="22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93" y="19676"/>
                </a:moveTo>
                <a:cubicBezTo>
                  <a:pt x="1024" y="18539"/>
                  <a:pt x="0" y="15916"/>
                  <a:pt x="466" y="13904"/>
                </a:cubicBezTo>
                <a:cubicBezTo>
                  <a:pt x="1210" y="10232"/>
                  <a:pt x="3259" y="6384"/>
                  <a:pt x="6052" y="3673"/>
                </a:cubicBezTo>
                <a:cubicBezTo>
                  <a:pt x="8193" y="1487"/>
                  <a:pt x="11452" y="437"/>
                  <a:pt x="14617" y="175"/>
                </a:cubicBezTo>
                <a:cubicBezTo>
                  <a:pt x="16759" y="0"/>
                  <a:pt x="19831" y="787"/>
                  <a:pt x="20390" y="2623"/>
                </a:cubicBezTo>
                <a:cubicBezTo>
                  <a:pt x="21600" y="6296"/>
                  <a:pt x="20576" y="10319"/>
                  <a:pt x="18807" y="13730"/>
                </a:cubicBezTo>
                <a:cubicBezTo>
                  <a:pt x="17224" y="16790"/>
                  <a:pt x="14245" y="19414"/>
                  <a:pt x="10800" y="20726"/>
                </a:cubicBezTo>
                <a:cubicBezTo>
                  <a:pt x="8379" y="21600"/>
                  <a:pt x="5121" y="21163"/>
                  <a:pt x="2793" y="19676"/>
                </a:cubicBezTo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91080" y="1265400"/>
            <a:ext cx="237960" cy="23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99" y="11514"/>
                </a:moveTo>
                <a:cubicBezTo>
                  <a:pt x="20377" y="9413"/>
                  <a:pt x="21600" y="7060"/>
                  <a:pt x="21600" y="4791"/>
                </a:cubicBezTo>
                <a:cubicBezTo>
                  <a:pt x="21600" y="3530"/>
                  <a:pt x="20377" y="2353"/>
                  <a:pt x="19155" y="1849"/>
                </a:cubicBezTo>
                <a:cubicBezTo>
                  <a:pt x="16709" y="1009"/>
                  <a:pt x="14101" y="0"/>
                  <a:pt x="11493" y="588"/>
                </a:cubicBezTo>
                <a:cubicBezTo>
                  <a:pt x="9211" y="1093"/>
                  <a:pt x="7336" y="3110"/>
                  <a:pt x="5706" y="4875"/>
                </a:cubicBezTo>
                <a:cubicBezTo>
                  <a:pt x="4157" y="6892"/>
                  <a:pt x="2934" y="9245"/>
                  <a:pt x="2282" y="11767"/>
                </a:cubicBezTo>
                <a:cubicBezTo>
                  <a:pt x="1630" y="14288"/>
                  <a:pt x="0" y="17818"/>
                  <a:pt x="1875" y="19667"/>
                </a:cubicBezTo>
                <a:cubicBezTo>
                  <a:pt x="4075" y="21600"/>
                  <a:pt x="7743" y="20171"/>
                  <a:pt x="10433" y="19667"/>
                </a:cubicBezTo>
                <a:cubicBezTo>
                  <a:pt x="12552" y="19331"/>
                  <a:pt x="14672" y="18238"/>
                  <a:pt x="16220" y="16809"/>
                </a:cubicBezTo>
                <a:cubicBezTo>
                  <a:pt x="17769" y="15296"/>
                  <a:pt x="18503" y="13363"/>
                  <a:pt x="19399" y="11514"/>
                </a:cubicBezTo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44880" y="1244520"/>
            <a:ext cx="146160" cy="257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67" y="606"/>
                </a:moveTo>
                <a:cubicBezTo>
                  <a:pt x="4000" y="1592"/>
                  <a:pt x="2800" y="3865"/>
                  <a:pt x="1600" y="5684"/>
                </a:cubicBezTo>
                <a:cubicBezTo>
                  <a:pt x="533" y="7276"/>
                  <a:pt x="0" y="9246"/>
                  <a:pt x="800" y="10989"/>
                </a:cubicBezTo>
                <a:cubicBezTo>
                  <a:pt x="2533" y="14097"/>
                  <a:pt x="5067" y="17204"/>
                  <a:pt x="9333" y="19326"/>
                </a:cubicBezTo>
                <a:cubicBezTo>
                  <a:pt x="11600" y="20463"/>
                  <a:pt x="17067" y="21600"/>
                  <a:pt x="18533" y="19933"/>
                </a:cubicBezTo>
                <a:cubicBezTo>
                  <a:pt x="21600" y="16295"/>
                  <a:pt x="20267" y="11520"/>
                  <a:pt x="19067" y="7427"/>
                </a:cubicBezTo>
                <a:cubicBezTo>
                  <a:pt x="18533" y="5305"/>
                  <a:pt x="16267" y="3259"/>
                  <a:pt x="13600" y="1743"/>
                </a:cubicBezTo>
                <a:cubicBezTo>
                  <a:pt x="12000" y="758"/>
                  <a:pt x="9067" y="0"/>
                  <a:pt x="7067" y="606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46360" y="1554120"/>
            <a:ext cx="165240" cy="42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87" y="20687"/>
                </a:moveTo>
                <a:cubicBezTo>
                  <a:pt x="590" y="18495"/>
                  <a:pt x="2951" y="15755"/>
                  <a:pt x="2951" y="13289"/>
                </a:cubicBezTo>
                <a:cubicBezTo>
                  <a:pt x="2951" y="11645"/>
                  <a:pt x="3541" y="9864"/>
                  <a:pt x="3187" y="8220"/>
                </a:cubicBezTo>
                <a:cubicBezTo>
                  <a:pt x="2951" y="6530"/>
                  <a:pt x="1416" y="4886"/>
                  <a:pt x="1180" y="3105"/>
                </a:cubicBezTo>
                <a:cubicBezTo>
                  <a:pt x="944" y="2238"/>
                  <a:pt x="0" y="868"/>
                  <a:pt x="1889" y="457"/>
                </a:cubicBezTo>
                <a:cubicBezTo>
                  <a:pt x="4485" y="0"/>
                  <a:pt x="8262" y="548"/>
                  <a:pt x="9797" y="1461"/>
                </a:cubicBezTo>
                <a:cubicBezTo>
                  <a:pt x="11803" y="2512"/>
                  <a:pt x="10741" y="4110"/>
                  <a:pt x="10977" y="5343"/>
                </a:cubicBezTo>
                <a:cubicBezTo>
                  <a:pt x="11567" y="6713"/>
                  <a:pt x="10741" y="8220"/>
                  <a:pt x="12039" y="9453"/>
                </a:cubicBezTo>
                <a:cubicBezTo>
                  <a:pt x="12748" y="10366"/>
                  <a:pt x="15344" y="10960"/>
                  <a:pt x="16879" y="11736"/>
                </a:cubicBezTo>
                <a:cubicBezTo>
                  <a:pt x="18649" y="12786"/>
                  <a:pt x="21600" y="13791"/>
                  <a:pt x="21600" y="15070"/>
                </a:cubicBezTo>
                <a:cubicBezTo>
                  <a:pt x="21600" y="16211"/>
                  <a:pt x="18649" y="17125"/>
                  <a:pt x="16289" y="17901"/>
                </a:cubicBezTo>
                <a:cubicBezTo>
                  <a:pt x="14282" y="18586"/>
                  <a:pt x="11803" y="18951"/>
                  <a:pt x="9443" y="19454"/>
                </a:cubicBezTo>
                <a:cubicBezTo>
                  <a:pt x="7436" y="19956"/>
                  <a:pt x="4131" y="21600"/>
                  <a:pt x="3187" y="20687"/>
                </a:cubicBezTo>
              </a:path>
            </a:pathLst>
          </a:custGeom>
          <a:solidFill>
            <a:srgbClr val="ff9900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38440" y="1434960"/>
            <a:ext cx="44640" cy="51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480" y="20813"/>
                  <a:pt x="12960" y="19913"/>
                  <a:pt x="15984" y="18975"/>
                </a:cubicBezTo>
                <a:cubicBezTo>
                  <a:pt x="19440" y="17663"/>
                  <a:pt x="17712" y="16313"/>
                  <a:pt x="18576" y="15038"/>
                </a:cubicBezTo>
                <a:cubicBezTo>
                  <a:pt x="18576" y="14063"/>
                  <a:pt x="19440" y="13013"/>
                  <a:pt x="18576" y="12038"/>
                </a:cubicBezTo>
                <a:cubicBezTo>
                  <a:pt x="17712" y="11250"/>
                  <a:pt x="14256" y="10425"/>
                  <a:pt x="12960" y="9638"/>
                </a:cubicBezTo>
                <a:cubicBezTo>
                  <a:pt x="12096" y="8738"/>
                  <a:pt x="10800" y="7950"/>
                  <a:pt x="11232" y="7050"/>
                </a:cubicBezTo>
                <a:cubicBezTo>
                  <a:pt x="11232" y="6488"/>
                  <a:pt x="15120" y="6038"/>
                  <a:pt x="15984" y="5550"/>
                </a:cubicBezTo>
                <a:cubicBezTo>
                  <a:pt x="21600" y="3113"/>
                  <a:pt x="19440" y="488"/>
                  <a:pt x="1944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4520" y="1492200"/>
            <a:ext cx="4284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100" y="21600"/>
                </a:moveTo>
                <a:cubicBezTo>
                  <a:pt x="6750" y="20984"/>
                  <a:pt x="5850" y="20286"/>
                  <a:pt x="5850" y="19588"/>
                </a:cubicBezTo>
                <a:cubicBezTo>
                  <a:pt x="5850" y="18602"/>
                  <a:pt x="6750" y="17658"/>
                  <a:pt x="8550" y="16754"/>
                </a:cubicBezTo>
                <a:cubicBezTo>
                  <a:pt x="11700" y="15605"/>
                  <a:pt x="21600" y="14578"/>
                  <a:pt x="21600" y="13346"/>
                </a:cubicBezTo>
                <a:cubicBezTo>
                  <a:pt x="21600" y="12443"/>
                  <a:pt x="12600" y="11827"/>
                  <a:pt x="9450" y="11046"/>
                </a:cubicBezTo>
                <a:cubicBezTo>
                  <a:pt x="6750" y="10266"/>
                  <a:pt x="5850" y="9445"/>
                  <a:pt x="3600" y="8665"/>
                </a:cubicBezTo>
                <a:cubicBezTo>
                  <a:pt x="1800" y="7884"/>
                  <a:pt x="0" y="7104"/>
                  <a:pt x="0" y="6283"/>
                </a:cubicBezTo>
                <a:cubicBezTo>
                  <a:pt x="0" y="5872"/>
                  <a:pt x="1350" y="5503"/>
                  <a:pt x="1800" y="5051"/>
                </a:cubicBezTo>
                <a:cubicBezTo>
                  <a:pt x="2700" y="4722"/>
                  <a:pt x="2700" y="4435"/>
                  <a:pt x="3600" y="4106"/>
                </a:cubicBezTo>
                <a:cubicBezTo>
                  <a:pt x="4950" y="3737"/>
                  <a:pt x="5850" y="3203"/>
                  <a:pt x="6750" y="3039"/>
                </a:cubicBezTo>
                <a:cubicBezTo>
                  <a:pt x="10350" y="2423"/>
                  <a:pt x="5850" y="657"/>
                  <a:pt x="495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14760" y="1477800"/>
            <a:ext cx="54000" cy="481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295" y="21600"/>
                </a:moveTo>
                <a:cubicBezTo>
                  <a:pt x="3295" y="21600"/>
                  <a:pt x="2563" y="21600"/>
                  <a:pt x="2563" y="21600"/>
                </a:cubicBezTo>
                <a:cubicBezTo>
                  <a:pt x="2563" y="20546"/>
                  <a:pt x="0" y="19412"/>
                  <a:pt x="3295" y="18439"/>
                </a:cubicBezTo>
                <a:cubicBezTo>
                  <a:pt x="5492" y="17588"/>
                  <a:pt x="16108" y="16980"/>
                  <a:pt x="17939" y="16129"/>
                </a:cubicBezTo>
                <a:cubicBezTo>
                  <a:pt x="21600" y="15156"/>
                  <a:pt x="19769" y="14022"/>
                  <a:pt x="19037" y="12968"/>
                </a:cubicBezTo>
                <a:cubicBezTo>
                  <a:pt x="17939" y="12360"/>
                  <a:pt x="16108" y="11752"/>
                  <a:pt x="14278" y="11144"/>
                </a:cubicBezTo>
                <a:cubicBezTo>
                  <a:pt x="12447" y="10456"/>
                  <a:pt x="9519" y="9767"/>
                  <a:pt x="8786" y="8997"/>
                </a:cubicBezTo>
                <a:cubicBezTo>
                  <a:pt x="8054" y="8389"/>
                  <a:pt x="8786" y="7781"/>
                  <a:pt x="9519" y="7173"/>
                </a:cubicBezTo>
                <a:cubicBezTo>
                  <a:pt x="9519" y="6808"/>
                  <a:pt x="16108" y="5592"/>
                  <a:pt x="15010" y="4377"/>
                </a:cubicBezTo>
                <a:cubicBezTo>
                  <a:pt x="13546" y="2634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84640" y="1314360"/>
            <a:ext cx="119160" cy="133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009" y="1168"/>
                </a:moveTo>
                <a:cubicBezTo>
                  <a:pt x="2436" y="2627"/>
                  <a:pt x="812" y="6568"/>
                  <a:pt x="325" y="9632"/>
                </a:cubicBezTo>
                <a:cubicBezTo>
                  <a:pt x="0" y="13135"/>
                  <a:pt x="325" y="17951"/>
                  <a:pt x="3573" y="20141"/>
                </a:cubicBezTo>
                <a:cubicBezTo>
                  <a:pt x="6009" y="21600"/>
                  <a:pt x="9744" y="19119"/>
                  <a:pt x="12505" y="17514"/>
                </a:cubicBezTo>
                <a:cubicBezTo>
                  <a:pt x="16078" y="15762"/>
                  <a:pt x="19814" y="13135"/>
                  <a:pt x="20950" y="9632"/>
                </a:cubicBezTo>
                <a:cubicBezTo>
                  <a:pt x="21600" y="7151"/>
                  <a:pt x="19489" y="4086"/>
                  <a:pt x="17053" y="2773"/>
                </a:cubicBezTo>
                <a:cubicBezTo>
                  <a:pt x="13967" y="876"/>
                  <a:pt x="9420" y="0"/>
                  <a:pt x="6009" y="1168"/>
                </a:cubicBezTo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1380960"/>
            <a:ext cx="10800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880" y="2600"/>
                </a:moveTo>
                <a:cubicBezTo>
                  <a:pt x="7200" y="5600"/>
                  <a:pt x="0" y="10200"/>
                  <a:pt x="1440" y="15800"/>
                </a:cubicBezTo>
                <a:cubicBezTo>
                  <a:pt x="3060" y="21000"/>
                  <a:pt x="11880" y="21600"/>
                  <a:pt x="16200" y="18600"/>
                </a:cubicBezTo>
                <a:cubicBezTo>
                  <a:pt x="20340" y="15600"/>
                  <a:pt x="21600" y="8200"/>
                  <a:pt x="19980" y="3000"/>
                </a:cubicBezTo>
                <a:cubicBezTo>
                  <a:pt x="19260" y="0"/>
                  <a:pt x="14220" y="800"/>
                  <a:pt x="11880" y="2600"/>
                </a:cubicBezTo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70440" y="1378080"/>
            <a:ext cx="263520" cy="183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73" y="738"/>
                </a:moveTo>
                <a:cubicBezTo>
                  <a:pt x="1763" y="2318"/>
                  <a:pt x="0" y="5479"/>
                  <a:pt x="0" y="8640"/>
                </a:cubicBezTo>
                <a:cubicBezTo>
                  <a:pt x="0" y="11485"/>
                  <a:pt x="2204" y="13487"/>
                  <a:pt x="3527" y="16016"/>
                </a:cubicBezTo>
                <a:cubicBezTo>
                  <a:pt x="4261" y="17596"/>
                  <a:pt x="4922" y="20230"/>
                  <a:pt x="6318" y="20757"/>
                </a:cubicBezTo>
                <a:cubicBezTo>
                  <a:pt x="8816" y="21600"/>
                  <a:pt x="11535" y="21179"/>
                  <a:pt x="13886" y="19809"/>
                </a:cubicBezTo>
                <a:cubicBezTo>
                  <a:pt x="15649" y="18650"/>
                  <a:pt x="16384" y="15805"/>
                  <a:pt x="17633" y="13698"/>
                </a:cubicBezTo>
                <a:cubicBezTo>
                  <a:pt x="18735" y="11906"/>
                  <a:pt x="20792" y="11063"/>
                  <a:pt x="21306" y="8640"/>
                </a:cubicBezTo>
                <a:cubicBezTo>
                  <a:pt x="21600" y="6322"/>
                  <a:pt x="21306" y="2002"/>
                  <a:pt x="19690" y="2002"/>
                </a:cubicBezTo>
                <a:cubicBezTo>
                  <a:pt x="16898" y="2002"/>
                  <a:pt x="15282" y="7060"/>
                  <a:pt x="12637" y="8640"/>
                </a:cubicBezTo>
                <a:cubicBezTo>
                  <a:pt x="11020" y="9483"/>
                  <a:pt x="9184" y="9904"/>
                  <a:pt x="7714" y="8745"/>
                </a:cubicBezTo>
                <a:cubicBezTo>
                  <a:pt x="6612" y="7902"/>
                  <a:pt x="6833" y="5479"/>
                  <a:pt x="6024" y="3899"/>
                </a:cubicBezTo>
                <a:cubicBezTo>
                  <a:pt x="5363" y="2423"/>
                  <a:pt x="4629" y="0"/>
                  <a:pt x="3673" y="738"/>
                </a:cubicBezTo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79760" y="1347840"/>
            <a:ext cx="35424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609" y="11046"/>
                </a:moveTo>
                <a:cubicBezTo>
                  <a:pt x="15499" y="11046"/>
                  <a:pt x="15609" y="10765"/>
                  <a:pt x="15609" y="10765"/>
                </a:cubicBezTo>
                <a:cubicBezTo>
                  <a:pt x="14785" y="9850"/>
                  <a:pt x="13466" y="9358"/>
                  <a:pt x="13136" y="8091"/>
                </a:cubicBezTo>
                <a:cubicBezTo>
                  <a:pt x="12531" y="5980"/>
                  <a:pt x="14290" y="3025"/>
                  <a:pt x="13136" y="1407"/>
                </a:cubicBezTo>
                <a:cubicBezTo>
                  <a:pt x="12202" y="0"/>
                  <a:pt x="10278" y="704"/>
                  <a:pt x="9014" y="2111"/>
                </a:cubicBezTo>
                <a:cubicBezTo>
                  <a:pt x="8189" y="3025"/>
                  <a:pt x="7695" y="4573"/>
                  <a:pt x="6595" y="4714"/>
                </a:cubicBezTo>
                <a:cubicBezTo>
                  <a:pt x="5771" y="4925"/>
                  <a:pt x="5221" y="3518"/>
                  <a:pt x="4617" y="2885"/>
                </a:cubicBezTo>
                <a:cubicBezTo>
                  <a:pt x="4122" y="2463"/>
                  <a:pt x="3957" y="1548"/>
                  <a:pt x="3463" y="1548"/>
                </a:cubicBezTo>
                <a:cubicBezTo>
                  <a:pt x="2473" y="1548"/>
                  <a:pt x="1319" y="1759"/>
                  <a:pt x="824" y="2814"/>
                </a:cubicBezTo>
                <a:cubicBezTo>
                  <a:pt x="165" y="4221"/>
                  <a:pt x="0" y="6192"/>
                  <a:pt x="385" y="7880"/>
                </a:cubicBezTo>
                <a:cubicBezTo>
                  <a:pt x="660" y="8936"/>
                  <a:pt x="1649" y="9358"/>
                  <a:pt x="2473" y="9498"/>
                </a:cubicBezTo>
                <a:cubicBezTo>
                  <a:pt x="3957" y="9850"/>
                  <a:pt x="5441" y="8302"/>
                  <a:pt x="6595" y="9217"/>
                </a:cubicBezTo>
                <a:cubicBezTo>
                  <a:pt x="7915" y="10202"/>
                  <a:pt x="8189" y="12524"/>
                  <a:pt x="9014" y="14212"/>
                </a:cubicBezTo>
                <a:cubicBezTo>
                  <a:pt x="9453" y="14986"/>
                  <a:pt x="9893" y="15690"/>
                  <a:pt x="10553" y="16323"/>
                </a:cubicBezTo>
                <a:cubicBezTo>
                  <a:pt x="11487" y="17379"/>
                  <a:pt x="12531" y="18293"/>
                  <a:pt x="13576" y="18997"/>
                </a:cubicBezTo>
                <a:cubicBezTo>
                  <a:pt x="14510" y="19771"/>
                  <a:pt x="15609" y="21600"/>
                  <a:pt x="16489" y="20967"/>
                </a:cubicBezTo>
                <a:cubicBezTo>
                  <a:pt x="18522" y="19630"/>
                  <a:pt x="20061" y="17097"/>
                  <a:pt x="20995" y="14353"/>
                </a:cubicBezTo>
                <a:cubicBezTo>
                  <a:pt x="21600" y="12664"/>
                  <a:pt x="21600" y="10554"/>
                  <a:pt x="20776" y="9147"/>
                </a:cubicBezTo>
                <a:cubicBezTo>
                  <a:pt x="20281" y="8162"/>
                  <a:pt x="19127" y="8936"/>
                  <a:pt x="18302" y="9217"/>
                </a:cubicBezTo>
                <a:cubicBezTo>
                  <a:pt x="17313" y="9498"/>
                  <a:pt x="16489" y="10554"/>
                  <a:pt x="15609" y="11046"/>
                </a:cubicBezTo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84680" y="1469880"/>
            <a:ext cx="16524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39" y="2514"/>
                </a:moveTo>
                <a:cubicBezTo>
                  <a:pt x="21600" y="5486"/>
                  <a:pt x="16643" y="9600"/>
                  <a:pt x="14872" y="12800"/>
                </a:cubicBezTo>
                <a:cubicBezTo>
                  <a:pt x="13102" y="15771"/>
                  <a:pt x="11921" y="19200"/>
                  <a:pt x="8852" y="20914"/>
                </a:cubicBezTo>
                <a:cubicBezTo>
                  <a:pt x="7436" y="21600"/>
                  <a:pt x="5075" y="20343"/>
                  <a:pt x="4249" y="18857"/>
                </a:cubicBezTo>
                <a:cubicBezTo>
                  <a:pt x="2125" y="15200"/>
                  <a:pt x="0" y="10857"/>
                  <a:pt x="472" y="6629"/>
                </a:cubicBezTo>
                <a:cubicBezTo>
                  <a:pt x="708" y="4686"/>
                  <a:pt x="4013" y="4229"/>
                  <a:pt x="6020" y="4571"/>
                </a:cubicBezTo>
                <a:cubicBezTo>
                  <a:pt x="7790" y="4686"/>
                  <a:pt x="8852" y="7657"/>
                  <a:pt x="10623" y="7429"/>
                </a:cubicBezTo>
                <a:cubicBezTo>
                  <a:pt x="13928" y="6857"/>
                  <a:pt x="17233" y="0"/>
                  <a:pt x="19239" y="2514"/>
                </a:cubicBezTo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057640" y="1285920"/>
            <a:ext cx="103320" cy="10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60"/>
                </a:moveTo>
                <a:cubicBezTo>
                  <a:pt x="0" y="11880"/>
                  <a:pt x="3193" y="15300"/>
                  <a:pt x="6386" y="17280"/>
                </a:cubicBezTo>
                <a:cubicBezTo>
                  <a:pt x="9579" y="19800"/>
                  <a:pt x="14087" y="21600"/>
                  <a:pt x="17656" y="20340"/>
                </a:cubicBezTo>
                <a:cubicBezTo>
                  <a:pt x="20473" y="19800"/>
                  <a:pt x="21600" y="15300"/>
                  <a:pt x="21224" y="12600"/>
                </a:cubicBezTo>
                <a:cubicBezTo>
                  <a:pt x="20473" y="9000"/>
                  <a:pt x="17656" y="5760"/>
                  <a:pt x="14463" y="3060"/>
                </a:cubicBezTo>
                <a:cubicBezTo>
                  <a:pt x="12397" y="1440"/>
                  <a:pt x="9203" y="0"/>
                  <a:pt x="6762" y="900"/>
                </a:cubicBezTo>
                <a:cubicBezTo>
                  <a:pt x="3569" y="1800"/>
                  <a:pt x="0" y="5040"/>
                  <a:pt x="0" y="846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289160"/>
            <a:ext cx="1098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93" y="4288"/>
                </a:moveTo>
                <a:cubicBezTo>
                  <a:pt x="0" y="7147"/>
                  <a:pt x="0" y="10800"/>
                  <a:pt x="1062" y="13500"/>
                </a:cubicBezTo>
                <a:cubicBezTo>
                  <a:pt x="2656" y="16676"/>
                  <a:pt x="5311" y="19853"/>
                  <a:pt x="9030" y="20965"/>
                </a:cubicBezTo>
                <a:cubicBezTo>
                  <a:pt x="12393" y="21600"/>
                  <a:pt x="16289" y="19853"/>
                  <a:pt x="18590" y="17471"/>
                </a:cubicBezTo>
                <a:cubicBezTo>
                  <a:pt x="20715" y="15088"/>
                  <a:pt x="21600" y="11435"/>
                  <a:pt x="21600" y="7941"/>
                </a:cubicBezTo>
                <a:cubicBezTo>
                  <a:pt x="21600" y="5559"/>
                  <a:pt x="20361" y="3176"/>
                  <a:pt x="18059" y="1906"/>
                </a:cubicBezTo>
                <a:cubicBezTo>
                  <a:pt x="15403" y="159"/>
                  <a:pt x="12039" y="0"/>
                  <a:pt x="9030" y="159"/>
                </a:cubicBezTo>
                <a:cubicBezTo>
                  <a:pt x="6020" y="476"/>
                  <a:pt x="3010" y="1906"/>
                  <a:pt x="1593" y="4288"/>
                </a:cubicBezTo>
              </a:path>
            </a:pathLst>
          </a:custGeom>
          <a:solidFill>
            <a:srgbClr val="ff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29240" y="1495440"/>
            <a:ext cx="13500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2" y="13239"/>
                </a:moveTo>
                <a:cubicBezTo>
                  <a:pt x="3312" y="17001"/>
                  <a:pt x="7632" y="21600"/>
                  <a:pt x="12384" y="21600"/>
                </a:cubicBezTo>
                <a:cubicBezTo>
                  <a:pt x="16272" y="21600"/>
                  <a:pt x="18144" y="16444"/>
                  <a:pt x="20160" y="13239"/>
                </a:cubicBezTo>
                <a:cubicBezTo>
                  <a:pt x="21024" y="11148"/>
                  <a:pt x="21600" y="8083"/>
                  <a:pt x="20304" y="6271"/>
                </a:cubicBezTo>
                <a:cubicBezTo>
                  <a:pt x="18144" y="3345"/>
                  <a:pt x="14544" y="697"/>
                  <a:pt x="10512" y="279"/>
                </a:cubicBezTo>
                <a:cubicBezTo>
                  <a:pt x="7488" y="0"/>
                  <a:pt x="5040" y="2787"/>
                  <a:pt x="3168" y="5156"/>
                </a:cubicBezTo>
                <a:cubicBezTo>
                  <a:pt x="1584" y="7525"/>
                  <a:pt x="0" y="10730"/>
                  <a:pt x="1152" y="13239"/>
                </a:cubicBez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17920" y="1701720"/>
            <a:ext cx="2376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9" y="21600"/>
                </a:moveTo>
                <a:cubicBezTo>
                  <a:pt x="4629" y="18267"/>
                  <a:pt x="0" y="14800"/>
                  <a:pt x="0" y="11333"/>
                </a:cubicBezTo>
                <a:cubicBezTo>
                  <a:pt x="0" y="8533"/>
                  <a:pt x="4629" y="5600"/>
                  <a:pt x="10029" y="2800"/>
                </a:cubicBezTo>
                <a:cubicBezTo>
                  <a:pt x="11571" y="1600"/>
                  <a:pt x="16200" y="80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11440" y="1461960"/>
            <a:ext cx="3816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5" y="21600"/>
                </a:moveTo>
                <a:cubicBezTo>
                  <a:pt x="11051" y="19646"/>
                  <a:pt x="13060" y="17383"/>
                  <a:pt x="15070" y="15223"/>
                </a:cubicBezTo>
                <a:cubicBezTo>
                  <a:pt x="17581" y="13680"/>
                  <a:pt x="21600" y="12343"/>
                  <a:pt x="20595" y="10800"/>
                </a:cubicBezTo>
                <a:cubicBezTo>
                  <a:pt x="20093" y="7920"/>
                  <a:pt x="15070" y="5246"/>
                  <a:pt x="10047" y="2674"/>
                </a:cubicBezTo>
                <a:cubicBezTo>
                  <a:pt x="7535" y="1543"/>
                  <a:pt x="5023" y="823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84600" y="1503360"/>
            <a:ext cx="34920" cy="29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00" y="21600"/>
                </a:moveTo>
                <a:cubicBezTo>
                  <a:pt x="4985" y="20242"/>
                  <a:pt x="2769" y="18819"/>
                  <a:pt x="1108" y="17461"/>
                </a:cubicBezTo>
                <a:cubicBezTo>
                  <a:pt x="0" y="16038"/>
                  <a:pt x="1108" y="14551"/>
                  <a:pt x="1108" y="13128"/>
                </a:cubicBezTo>
                <a:cubicBezTo>
                  <a:pt x="1108" y="12029"/>
                  <a:pt x="0" y="10929"/>
                  <a:pt x="0" y="9830"/>
                </a:cubicBezTo>
                <a:cubicBezTo>
                  <a:pt x="0" y="9442"/>
                  <a:pt x="0" y="9119"/>
                  <a:pt x="0" y="8731"/>
                </a:cubicBezTo>
                <a:cubicBezTo>
                  <a:pt x="1108" y="6790"/>
                  <a:pt x="0" y="4850"/>
                  <a:pt x="4985" y="2910"/>
                </a:cubicBezTo>
                <a:cubicBezTo>
                  <a:pt x="7200" y="1811"/>
                  <a:pt x="14954" y="97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22160" y="866880"/>
            <a:ext cx="5397480" cy="755640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84520" y="2387520"/>
            <a:ext cx="1804680" cy="74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1" y="7130"/>
                </a:moveTo>
                <a:cubicBezTo>
                  <a:pt x="786" y="5348"/>
                  <a:pt x="1496" y="4037"/>
                  <a:pt x="2378" y="3696"/>
                </a:cubicBezTo>
                <a:cubicBezTo>
                  <a:pt x="3110" y="3434"/>
                  <a:pt x="3831" y="4483"/>
                  <a:pt x="4520" y="4483"/>
                </a:cubicBezTo>
                <a:cubicBezTo>
                  <a:pt x="5026" y="4483"/>
                  <a:pt x="5467" y="3644"/>
                  <a:pt x="5876" y="2831"/>
                </a:cubicBezTo>
                <a:cubicBezTo>
                  <a:pt x="6199" y="2071"/>
                  <a:pt x="6522" y="1337"/>
                  <a:pt x="6920" y="1284"/>
                </a:cubicBezTo>
                <a:cubicBezTo>
                  <a:pt x="7491" y="1180"/>
                  <a:pt x="8578" y="2595"/>
                  <a:pt x="8578" y="2595"/>
                </a:cubicBezTo>
                <a:cubicBezTo>
                  <a:pt x="8578" y="2595"/>
                  <a:pt x="9826" y="0"/>
                  <a:pt x="10515" y="341"/>
                </a:cubicBezTo>
                <a:cubicBezTo>
                  <a:pt x="10881" y="498"/>
                  <a:pt x="11397" y="550"/>
                  <a:pt x="11720" y="1284"/>
                </a:cubicBezTo>
                <a:cubicBezTo>
                  <a:pt x="12248" y="2438"/>
                  <a:pt x="12387" y="4325"/>
                  <a:pt x="12958" y="4666"/>
                </a:cubicBezTo>
                <a:cubicBezTo>
                  <a:pt x="13743" y="5164"/>
                  <a:pt x="14432" y="2831"/>
                  <a:pt x="15239" y="2595"/>
                </a:cubicBezTo>
                <a:cubicBezTo>
                  <a:pt x="15939" y="2438"/>
                  <a:pt x="16725" y="2517"/>
                  <a:pt x="17338" y="3382"/>
                </a:cubicBezTo>
                <a:cubicBezTo>
                  <a:pt x="17941" y="4168"/>
                  <a:pt x="18178" y="6291"/>
                  <a:pt x="18770" y="7130"/>
                </a:cubicBezTo>
                <a:cubicBezTo>
                  <a:pt x="19232" y="7812"/>
                  <a:pt x="19953" y="7366"/>
                  <a:pt x="20362" y="8257"/>
                </a:cubicBezTo>
                <a:cubicBezTo>
                  <a:pt x="20976" y="9542"/>
                  <a:pt x="21600" y="11744"/>
                  <a:pt x="21406" y="13657"/>
                </a:cubicBezTo>
                <a:cubicBezTo>
                  <a:pt x="21213" y="15440"/>
                  <a:pt x="20222" y="16279"/>
                  <a:pt x="19501" y="16855"/>
                </a:cubicBezTo>
                <a:cubicBezTo>
                  <a:pt x="19168" y="17144"/>
                  <a:pt x="18716" y="17065"/>
                  <a:pt x="18371" y="16750"/>
                </a:cubicBezTo>
                <a:cubicBezTo>
                  <a:pt x="18038" y="16410"/>
                  <a:pt x="17887" y="15230"/>
                  <a:pt x="17532" y="14942"/>
                </a:cubicBezTo>
                <a:cubicBezTo>
                  <a:pt x="17370" y="14837"/>
                  <a:pt x="17209" y="15283"/>
                  <a:pt x="16994" y="15230"/>
                </a:cubicBezTo>
                <a:cubicBezTo>
                  <a:pt x="16725" y="15178"/>
                  <a:pt x="16456" y="14549"/>
                  <a:pt x="16208" y="14653"/>
                </a:cubicBezTo>
                <a:cubicBezTo>
                  <a:pt x="15864" y="14837"/>
                  <a:pt x="15648" y="15781"/>
                  <a:pt x="15358" y="16174"/>
                </a:cubicBezTo>
                <a:cubicBezTo>
                  <a:pt x="15035" y="16567"/>
                  <a:pt x="14669" y="17196"/>
                  <a:pt x="14325" y="17013"/>
                </a:cubicBezTo>
                <a:cubicBezTo>
                  <a:pt x="13700" y="16750"/>
                  <a:pt x="12775" y="15623"/>
                  <a:pt x="12775" y="15623"/>
                </a:cubicBezTo>
                <a:cubicBezTo>
                  <a:pt x="12775" y="15623"/>
                  <a:pt x="12011" y="18140"/>
                  <a:pt x="11419" y="19215"/>
                </a:cubicBezTo>
                <a:cubicBezTo>
                  <a:pt x="11128" y="19713"/>
                  <a:pt x="10698" y="19896"/>
                  <a:pt x="10332" y="19765"/>
                </a:cubicBezTo>
                <a:cubicBezTo>
                  <a:pt x="9912" y="19634"/>
                  <a:pt x="9137" y="18533"/>
                  <a:pt x="9137" y="18533"/>
                </a:cubicBezTo>
                <a:cubicBezTo>
                  <a:pt x="9137" y="18533"/>
                  <a:pt x="8556" y="20420"/>
                  <a:pt x="8115" y="20892"/>
                </a:cubicBezTo>
                <a:cubicBezTo>
                  <a:pt x="7404" y="21600"/>
                  <a:pt x="6522" y="21285"/>
                  <a:pt x="5715" y="21181"/>
                </a:cubicBezTo>
                <a:cubicBezTo>
                  <a:pt x="5327" y="21128"/>
                  <a:pt x="4843" y="21181"/>
                  <a:pt x="4520" y="20604"/>
                </a:cubicBezTo>
                <a:cubicBezTo>
                  <a:pt x="4079" y="19896"/>
                  <a:pt x="3971" y="18376"/>
                  <a:pt x="3552" y="17589"/>
                </a:cubicBezTo>
                <a:cubicBezTo>
                  <a:pt x="3293" y="17144"/>
                  <a:pt x="2863" y="17642"/>
                  <a:pt x="2583" y="17144"/>
                </a:cubicBezTo>
                <a:cubicBezTo>
                  <a:pt x="2217" y="16462"/>
                  <a:pt x="2486" y="14601"/>
                  <a:pt x="2131" y="13815"/>
                </a:cubicBezTo>
                <a:cubicBezTo>
                  <a:pt x="1711" y="12871"/>
                  <a:pt x="872" y="13657"/>
                  <a:pt x="463" y="12687"/>
                </a:cubicBezTo>
                <a:cubicBezTo>
                  <a:pt x="161" y="12032"/>
                  <a:pt x="54" y="10905"/>
                  <a:pt x="32" y="9935"/>
                </a:cubicBezTo>
                <a:cubicBezTo>
                  <a:pt x="0" y="9044"/>
                  <a:pt x="97" y="7969"/>
                  <a:pt x="301" y="713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6120" y="2763720"/>
            <a:ext cx="106344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0" y="12725"/>
                </a:moveTo>
                <a:cubicBezTo>
                  <a:pt x="1701" y="12007"/>
                  <a:pt x="1335" y="11746"/>
                  <a:pt x="1171" y="10767"/>
                </a:cubicBezTo>
                <a:cubicBezTo>
                  <a:pt x="878" y="8549"/>
                  <a:pt x="0" y="5025"/>
                  <a:pt x="604" y="3459"/>
                </a:cubicBezTo>
                <a:cubicBezTo>
                  <a:pt x="1171" y="1958"/>
                  <a:pt x="1975" y="5612"/>
                  <a:pt x="2524" y="7244"/>
                </a:cubicBezTo>
                <a:cubicBezTo>
                  <a:pt x="3073" y="8940"/>
                  <a:pt x="3091" y="12725"/>
                  <a:pt x="3768" y="13573"/>
                </a:cubicBezTo>
                <a:cubicBezTo>
                  <a:pt x="4902" y="14944"/>
                  <a:pt x="6200" y="14095"/>
                  <a:pt x="7371" y="13247"/>
                </a:cubicBezTo>
                <a:cubicBezTo>
                  <a:pt x="7956" y="12790"/>
                  <a:pt x="8578" y="11746"/>
                  <a:pt x="8889" y="9919"/>
                </a:cubicBezTo>
                <a:cubicBezTo>
                  <a:pt x="9291" y="7700"/>
                  <a:pt x="8614" y="3459"/>
                  <a:pt x="9255" y="2349"/>
                </a:cubicBezTo>
                <a:cubicBezTo>
                  <a:pt x="10224" y="522"/>
                  <a:pt x="11449" y="2676"/>
                  <a:pt x="12510" y="3198"/>
                </a:cubicBezTo>
                <a:cubicBezTo>
                  <a:pt x="13132" y="3459"/>
                  <a:pt x="13717" y="5612"/>
                  <a:pt x="14339" y="5155"/>
                </a:cubicBezTo>
                <a:cubicBezTo>
                  <a:pt x="15125" y="4633"/>
                  <a:pt x="15564" y="718"/>
                  <a:pt x="16387" y="392"/>
                </a:cubicBezTo>
                <a:cubicBezTo>
                  <a:pt x="17265" y="0"/>
                  <a:pt x="18088" y="2349"/>
                  <a:pt x="18966" y="3198"/>
                </a:cubicBezTo>
                <a:cubicBezTo>
                  <a:pt x="19716" y="3915"/>
                  <a:pt x="20887" y="2349"/>
                  <a:pt x="21289" y="4764"/>
                </a:cubicBezTo>
                <a:cubicBezTo>
                  <a:pt x="21600" y="6591"/>
                  <a:pt x="20539" y="8679"/>
                  <a:pt x="19954" y="9071"/>
                </a:cubicBezTo>
                <a:cubicBezTo>
                  <a:pt x="18966" y="9919"/>
                  <a:pt x="17906" y="7570"/>
                  <a:pt x="16900" y="8222"/>
                </a:cubicBezTo>
                <a:cubicBezTo>
                  <a:pt x="16022" y="8810"/>
                  <a:pt x="15290" y="11028"/>
                  <a:pt x="14522" y="12790"/>
                </a:cubicBezTo>
                <a:cubicBezTo>
                  <a:pt x="14065" y="13965"/>
                  <a:pt x="13827" y="16640"/>
                  <a:pt x="13278" y="16902"/>
                </a:cubicBezTo>
                <a:cubicBezTo>
                  <a:pt x="12510" y="17358"/>
                  <a:pt x="11760" y="14422"/>
                  <a:pt x="10974" y="14748"/>
                </a:cubicBezTo>
                <a:cubicBezTo>
                  <a:pt x="9913" y="15401"/>
                  <a:pt x="9017" y="18141"/>
                  <a:pt x="8029" y="19642"/>
                </a:cubicBezTo>
                <a:cubicBezTo>
                  <a:pt x="7572" y="20425"/>
                  <a:pt x="7060" y="21600"/>
                  <a:pt x="6548" y="21600"/>
                </a:cubicBezTo>
                <a:cubicBezTo>
                  <a:pt x="5651" y="21535"/>
                  <a:pt x="4700" y="20817"/>
                  <a:pt x="3877" y="19316"/>
                </a:cubicBezTo>
                <a:cubicBezTo>
                  <a:pt x="3091" y="17685"/>
                  <a:pt x="2579" y="14748"/>
                  <a:pt x="1920" y="1272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6040" y="2817720"/>
            <a:ext cx="8568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9" y="4772"/>
                </a:moveTo>
                <a:cubicBezTo>
                  <a:pt x="0" y="9042"/>
                  <a:pt x="455" y="16577"/>
                  <a:pt x="4547" y="18837"/>
                </a:cubicBezTo>
                <a:cubicBezTo>
                  <a:pt x="9095" y="21600"/>
                  <a:pt x="15461" y="17833"/>
                  <a:pt x="19326" y="14065"/>
                </a:cubicBezTo>
                <a:cubicBezTo>
                  <a:pt x="21600" y="11805"/>
                  <a:pt x="20008" y="7033"/>
                  <a:pt x="18644" y="4270"/>
                </a:cubicBezTo>
                <a:cubicBezTo>
                  <a:pt x="17507" y="2009"/>
                  <a:pt x="15461" y="0"/>
                  <a:pt x="13187" y="0"/>
                </a:cubicBezTo>
                <a:cubicBezTo>
                  <a:pt x="9095" y="0"/>
                  <a:pt x="3865" y="1005"/>
                  <a:pt x="1819" y="4772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35320" y="2747880"/>
            <a:ext cx="260280" cy="260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02" y="750"/>
                </a:moveTo>
                <a:cubicBezTo>
                  <a:pt x="10688" y="1725"/>
                  <a:pt x="12033" y="7350"/>
                  <a:pt x="10239" y="10125"/>
                </a:cubicBezTo>
                <a:cubicBezTo>
                  <a:pt x="8670" y="12675"/>
                  <a:pt x="5755" y="14250"/>
                  <a:pt x="3812" y="16500"/>
                </a:cubicBezTo>
                <a:cubicBezTo>
                  <a:pt x="2840" y="17625"/>
                  <a:pt x="0" y="20100"/>
                  <a:pt x="1420" y="20475"/>
                </a:cubicBezTo>
                <a:cubicBezTo>
                  <a:pt x="4783" y="21600"/>
                  <a:pt x="8446" y="19725"/>
                  <a:pt x="12033" y="19275"/>
                </a:cubicBezTo>
                <a:cubicBezTo>
                  <a:pt x="14425" y="18975"/>
                  <a:pt x="16966" y="19350"/>
                  <a:pt x="19059" y="18225"/>
                </a:cubicBezTo>
                <a:cubicBezTo>
                  <a:pt x="20329" y="17625"/>
                  <a:pt x="20778" y="15900"/>
                  <a:pt x="21002" y="14475"/>
                </a:cubicBezTo>
                <a:cubicBezTo>
                  <a:pt x="21301" y="12000"/>
                  <a:pt x="21600" y="9300"/>
                  <a:pt x="20479" y="7050"/>
                </a:cubicBezTo>
                <a:cubicBezTo>
                  <a:pt x="19059" y="4350"/>
                  <a:pt x="16817" y="0"/>
                  <a:pt x="13902" y="75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74800" y="2806560"/>
            <a:ext cx="112680" cy="10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86" y="15226"/>
                </a:moveTo>
                <a:cubicBezTo>
                  <a:pt x="0" y="18236"/>
                  <a:pt x="4800" y="20892"/>
                  <a:pt x="7543" y="21246"/>
                </a:cubicBezTo>
                <a:cubicBezTo>
                  <a:pt x="11829" y="21600"/>
                  <a:pt x="16971" y="21246"/>
                  <a:pt x="19029" y="17882"/>
                </a:cubicBezTo>
                <a:cubicBezTo>
                  <a:pt x="21600" y="13987"/>
                  <a:pt x="20914" y="8321"/>
                  <a:pt x="19029" y="4603"/>
                </a:cubicBezTo>
                <a:cubicBezTo>
                  <a:pt x="17829" y="1948"/>
                  <a:pt x="13886" y="0"/>
                  <a:pt x="11314" y="1593"/>
                </a:cubicBezTo>
                <a:cubicBezTo>
                  <a:pt x="6686" y="4603"/>
                  <a:pt x="1886" y="9561"/>
                  <a:pt x="686" y="15226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1240" y="2793960"/>
            <a:ext cx="1033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15" y="10497"/>
                </a:moveTo>
                <a:cubicBezTo>
                  <a:pt x="0" y="14736"/>
                  <a:pt x="4696" y="21600"/>
                  <a:pt x="9203" y="21196"/>
                </a:cubicBezTo>
                <a:cubicBezTo>
                  <a:pt x="14838" y="20793"/>
                  <a:pt x="19158" y="14333"/>
                  <a:pt x="21037" y="8680"/>
                </a:cubicBezTo>
                <a:cubicBezTo>
                  <a:pt x="21600" y="5652"/>
                  <a:pt x="18783" y="0"/>
                  <a:pt x="15590" y="404"/>
                </a:cubicBezTo>
                <a:cubicBezTo>
                  <a:pt x="10143" y="807"/>
                  <a:pt x="3193" y="4441"/>
                  <a:pt x="1315" y="10497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1520" y="5433840"/>
            <a:ext cx="1336680" cy="60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24" y="19078"/>
                  <a:pt x="4477" y="16588"/>
                  <a:pt x="6759" y="14325"/>
                </a:cubicBezTo>
                <a:cubicBezTo>
                  <a:pt x="8983" y="12093"/>
                  <a:pt x="11323" y="10218"/>
                  <a:pt x="13605" y="8084"/>
                </a:cubicBezTo>
                <a:cubicBezTo>
                  <a:pt x="15568" y="6208"/>
                  <a:pt x="17530" y="4398"/>
                  <a:pt x="19449" y="2328"/>
                </a:cubicBezTo>
                <a:cubicBezTo>
                  <a:pt x="20176" y="1552"/>
                  <a:pt x="20873" y="80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4240" y="5584680"/>
            <a:ext cx="1623960" cy="74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11" y="19636"/>
                  <a:pt x="4622" y="17673"/>
                  <a:pt x="6861" y="15316"/>
                </a:cubicBezTo>
                <a:cubicBezTo>
                  <a:pt x="7831" y="14269"/>
                  <a:pt x="8908" y="13248"/>
                  <a:pt x="9878" y="12175"/>
                </a:cubicBezTo>
                <a:cubicBezTo>
                  <a:pt x="11566" y="10394"/>
                  <a:pt x="13219" y="9033"/>
                  <a:pt x="14931" y="7409"/>
                </a:cubicBezTo>
                <a:cubicBezTo>
                  <a:pt x="16188" y="6231"/>
                  <a:pt x="17349" y="4844"/>
                  <a:pt x="18571" y="3587"/>
                </a:cubicBezTo>
                <a:cubicBezTo>
                  <a:pt x="19373" y="2801"/>
                  <a:pt x="20822" y="83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0000" y="5770440"/>
            <a:ext cx="1708200" cy="77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923" y="19337"/>
                  <a:pt x="3835" y="17024"/>
                  <a:pt x="5827" y="15138"/>
                </a:cubicBezTo>
                <a:cubicBezTo>
                  <a:pt x="7682" y="13352"/>
                  <a:pt x="9537" y="11743"/>
                  <a:pt x="11380" y="9958"/>
                </a:cubicBezTo>
                <a:cubicBezTo>
                  <a:pt x="12871" y="8575"/>
                  <a:pt x="14408" y="7166"/>
                  <a:pt x="15876" y="5607"/>
                </a:cubicBezTo>
                <a:cubicBezTo>
                  <a:pt x="17287" y="4099"/>
                  <a:pt x="18778" y="3068"/>
                  <a:pt x="20177" y="1559"/>
                </a:cubicBezTo>
                <a:cubicBezTo>
                  <a:pt x="20678" y="1081"/>
                  <a:pt x="21145" y="52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21240" y="5913360"/>
            <a:ext cx="1596960" cy="76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26" y="19455"/>
                  <a:pt x="4627" y="17260"/>
                  <a:pt x="6892" y="14860"/>
                </a:cubicBezTo>
                <a:cubicBezTo>
                  <a:pt x="8474" y="13174"/>
                  <a:pt x="10021" y="11489"/>
                  <a:pt x="11616" y="9830"/>
                </a:cubicBezTo>
                <a:cubicBezTo>
                  <a:pt x="12894" y="8502"/>
                  <a:pt x="14173" y="7200"/>
                  <a:pt x="15476" y="6000"/>
                </a:cubicBezTo>
                <a:cubicBezTo>
                  <a:pt x="16912" y="4698"/>
                  <a:pt x="18288" y="3217"/>
                  <a:pt x="19701" y="1838"/>
                </a:cubicBezTo>
                <a:cubicBezTo>
                  <a:pt x="20322" y="1251"/>
                  <a:pt x="20979" y="58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8000" y="6084720"/>
            <a:ext cx="1330200" cy="62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762" y="19017"/>
                  <a:pt x="5510" y="16340"/>
                  <a:pt x="8228" y="13695"/>
                </a:cubicBezTo>
                <a:cubicBezTo>
                  <a:pt x="10639" y="11360"/>
                  <a:pt x="13051" y="8933"/>
                  <a:pt x="15462" y="6474"/>
                </a:cubicBezTo>
                <a:cubicBezTo>
                  <a:pt x="16909" y="5011"/>
                  <a:pt x="18341" y="3424"/>
                  <a:pt x="19773" y="1867"/>
                </a:cubicBezTo>
                <a:cubicBezTo>
                  <a:pt x="20387" y="1276"/>
                  <a:pt x="21015" y="62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1440" y="6256440"/>
            <a:ext cx="143676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60" y="19661"/>
                  <a:pt x="4534" y="17722"/>
                  <a:pt x="6726" y="15511"/>
                </a:cubicBezTo>
                <a:cubicBezTo>
                  <a:pt x="8932" y="13299"/>
                  <a:pt x="11017" y="10573"/>
                  <a:pt x="13195" y="8240"/>
                </a:cubicBezTo>
                <a:cubicBezTo>
                  <a:pt x="14468" y="6877"/>
                  <a:pt x="15780" y="5726"/>
                  <a:pt x="17080" y="4453"/>
                </a:cubicBezTo>
                <a:cubicBezTo>
                  <a:pt x="18041" y="3544"/>
                  <a:pt x="18961" y="2636"/>
                  <a:pt x="19908" y="1696"/>
                </a:cubicBezTo>
                <a:cubicBezTo>
                  <a:pt x="20477" y="1091"/>
                  <a:pt x="21059" y="57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2880" y="6788160"/>
            <a:ext cx="6048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873" y="6658"/>
                  <a:pt x="13418" y="13315"/>
                  <a:pt x="20618" y="19973"/>
                </a:cubicBezTo>
                <a:cubicBezTo>
                  <a:pt x="21600" y="21600"/>
                  <a:pt x="18982" y="18641"/>
                  <a:pt x="16364" y="1553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0240" y="6456240"/>
            <a:ext cx="55800" cy="1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619" y="720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9960" y="6397560"/>
            <a:ext cx="8424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271" y="5954"/>
                  <a:pt x="15561" y="15785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4000" y="6230880"/>
            <a:ext cx="68040" cy="117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912" y="7200"/>
                  <a:pt x="14976" y="14233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49960" y="5770440"/>
            <a:ext cx="7128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092" y="6231"/>
                  <a:pt x="15508" y="15369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57920" y="5884920"/>
            <a:ext cx="55440" cy="12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71"/>
                </a:moveTo>
                <a:cubicBezTo>
                  <a:pt x="2090" y="463"/>
                  <a:pt x="3832" y="0"/>
                  <a:pt x="4529" y="771"/>
                </a:cubicBezTo>
                <a:cubicBezTo>
                  <a:pt x="11148" y="7406"/>
                  <a:pt x="20903" y="2129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2360" y="5424480"/>
            <a:ext cx="58680" cy="1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425" y="6973"/>
                  <a:pt x="14513" y="1462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" y="828720"/>
            <a:ext cx="5397480" cy="75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01:46:51Z</dcterms:created>
  <dc:creator>OfficeHamada</dc:creator>
  <dc:description/>
  <dc:language>en-US</dc:language>
  <cp:lastModifiedBy>OfficeHamada</cp:lastModifiedBy>
  <cp:lastPrinted>2016-03-03T11:15:20Z</cp:lastPrinted>
  <dcterms:modified xsi:type="dcterms:W3CDTF">2016-03-17T09:56:34Z</dcterms:modified>
  <cp:revision>30</cp:revision>
  <dc:subject/>
  <dc:title/>
</cp:coreProperties>
</file>