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281240"/>
            <a:ext cx="5398920" cy="6689520"/>
          </a:xfrm>
          <a:prstGeom prst="rect">
            <a:avLst/>
          </a:pr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4200480" y="4199040"/>
            <a:ext cx="566640" cy="11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583"/>
                </a:moveTo>
                <a:cubicBezTo>
                  <a:pt x="21531" y="21249"/>
                  <a:pt x="17006" y="1236"/>
                  <a:pt x="17246" y="0"/>
                </a:cubicBezTo>
                <a:cubicBezTo>
                  <a:pt x="17246" y="0"/>
                  <a:pt x="10149" y="1086"/>
                  <a:pt x="10149" y="1086"/>
                </a:cubicBezTo>
                <a:cubicBezTo>
                  <a:pt x="10149" y="1086"/>
                  <a:pt x="0" y="2606"/>
                  <a:pt x="0" y="2606"/>
                </a:cubicBezTo>
                <a:cubicBezTo>
                  <a:pt x="0" y="2606"/>
                  <a:pt x="926" y="4527"/>
                  <a:pt x="1371" y="5479"/>
                </a:cubicBezTo>
                <a:cubicBezTo>
                  <a:pt x="1749" y="6432"/>
                  <a:pt x="2537" y="8353"/>
                  <a:pt x="2537" y="8353"/>
                </a:cubicBezTo>
                <a:cubicBezTo>
                  <a:pt x="2537" y="8353"/>
                  <a:pt x="1886" y="8470"/>
                  <a:pt x="1131" y="8570"/>
                </a:cubicBezTo>
                <a:cubicBezTo>
                  <a:pt x="2194" y="9706"/>
                  <a:pt x="3291" y="10825"/>
                  <a:pt x="4491" y="11894"/>
                </a:cubicBezTo>
                <a:cubicBezTo>
                  <a:pt x="8194" y="15035"/>
                  <a:pt x="13200" y="17875"/>
                  <a:pt x="18857" y="20264"/>
                </a:cubicBezTo>
                <a:cubicBezTo>
                  <a:pt x="19474" y="20514"/>
                  <a:pt x="21531" y="21600"/>
                  <a:pt x="21600" y="21583"/>
                </a:cubicBezTo>
              </a:path>
            </a:pathLst>
          </a:custGeom>
          <a:solidFill>
            <a:srgbClr val="cccccc"/>
          </a:solidFill>
          <a:ln w="7200">
            <a:solidFill>
              <a:srgbClr val="e6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327320" y="3762360"/>
            <a:ext cx="162684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32"/>
                </a:moveTo>
                <a:cubicBezTo>
                  <a:pt x="0" y="9232"/>
                  <a:pt x="1278" y="21600"/>
                  <a:pt x="1278" y="21600"/>
                </a:cubicBezTo>
                <a:cubicBezTo>
                  <a:pt x="1278" y="21600"/>
                  <a:pt x="21600" y="12700"/>
                  <a:pt x="21600" y="12700"/>
                </a:cubicBezTo>
                <a:cubicBezTo>
                  <a:pt x="21600" y="12700"/>
                  <a:pt x="20251" y="0"/>
                  <a:pt x="20251" y="0"/>
                </a:cubicBezTo>
                <a:cubicBezTo>
                  <a:pt x="20251" y="0"/>
                  <a:pt x="18018" y="1020"/>
                  <a:pt x="18018" y="1020"/>
                </a:cubicBezTo>
                <a:cubicBezTo>
                  <a:pt x="18018" y="1020"/>
                  <a:pt x="2185" y="8237"/>
                  <a:pt x="2185" y="8237"/>
                </a:cubicBezTo>
                <a:cubicBezTo>
                  <a:pt x="2185" y="8237"/>
                  <a:pt x="0" y="9232"/>
                  <a:pt x="0" y="9232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353960" y="3171960"/>
            <a:ext cx="1332000" cy="88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361"/>
                </a:moveTo>
                <a:cubicBezTo>
                  <a:pt x="0" y="6361"/>
                  <a:pt x="19307" y="0"/>
                  <a:pt x="19307" y="0"/>
                </a:cubicBezTo>
                <a:cubicBezTo>
                  <a:pt x="19307" y="0"/>
                  <a:pt x="21600" y="15350"/>
                  <a:pt x="21600" y="15350"/>
                </a:cubicBezTo>
                <a:cubicBezTo>
                  <a:pt x="21600" y="15350"/>
                  <a:pt x="2220" y="21600"/>
                  <a:pt x="2220" y="21600"/>
                </a:cubicBezTo>
                <a:cubicBezTo>
                  <a:pt x="2220" y="21600"/>
                  <a:pt x="0" y="6361"/>
                  <a:pt x="0" y="6361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353960" y="2919240"/>
            <a:ext cx="1190880" cy="51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0686"/>
                  <a:pt x="21600" y="10686"/>
                </a:cubicBezTo>
                <a:cubicBezTo>
                  <a:pt x="21600" y="10686"/>
                  <a:pt x="20865" y="6783"/>
                  <a:pt x="20260" y="5267"/>
                </a:cubicBezTo>
                <a:cubicBezTo>
                  <a:pt x="19541" y="3486"/>
                  <a:pt x="18594" y="2160"/>
                  <a:pt x="17646" y="1175"/>
                </a:cubicBezTo>
                <a:cubicBezTo>
                  <a:pt x="16845" y="341"/>
                  <a:pt x="15930" y="152"/>
                  <a:pt x="15064" y="114"/>
                </a:cubicBezTo>
                <a:cubicBezTo>
                  <a:pt x="13071" y="0"/>
                  <a:pt x="11061" y="568"/>
                  <a:pt x="9133" y="1705"/>
                </a:cubicBezTo>
                <a:cubicBezTo>
                  <a:pt x="7189" y="2842"/>
                  <a:pt x="5147" y="3752"/>
                  <a:pt x="3415" y="6063"/>
                </a:cubicBezTo>
                <a:cubicBezTo>
                  <a:pt x="2745" y="6935"/>
                  <a:pt x="2206" y="8261"/>
                  <a:pt x="1716" y="9549"/>
                </a:cubicBezTo>
                <a:cubicBezTo>
                  <a:pt x="1225" y="10876"/>
                  <a:pt x="882" y="12543"/>
                  <a:pt x="588" y="14211"/>
                </a:cubicBezTo>
                <a:cubicBezTo>
                  <a:pt x="180" y="16560"/>
                  <a:pt x="0" y="21600"/>
                  <a:pt x="0" y="21600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28680" y="4179960"/>
            <a:ext cx="2014560" cy="10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013"/>
                </a:moveTo>
                <a:cubicBezTo>
                  <a:pt x="0" y="8013"/>
                  <a:pt x="1544" y="21600"/>
                  <a:pt x="1544" y="21600"/>
                </a:cubicBezTo>
                <a:cubicBezTo>
                  <a:pt x="1544" y="21600"/>
                  <a:pt x="21600" y="13624"/>
                  <a:pt x="21600" y="13624"/>
                </a:cubicBezTo>
                <a:cubicBezTo>
                  <a:pt x="21600" y="13624"/>
                  <a:pt x="20104" y="0"/>
                  <a:pt x="20104" y="0"/>
                </a:cubicBezTo>
                <a:cubicBezTo>
                  <a:pt x="20104" y="0"/>
                  <a:pt x="0" y="8013"/>
                  <a:pt x="0" y="8013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76800" y="4633920"/>
            <a:ext cx="94464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" y="0"/>
                </a:moveTo>
                <a:cubicBezTo>
                  <a:pt x="41" y="2239"/>
                  <a:pt x="0" y="5729"/>
                  <a:pt x="288" y="7837"/>
                </a:cubicBezTo>
                <a:cubicBezTo>
                  <a:pt x="391" y="8583"/>
                  <a:pt x="515" y="9307"/>
                  <a:pt x="680" y="10032"/>
                </a:cubicBezTo>
                <a:cubicBezTo>
                  <a:pt x="1441" y="10559"/>
                  <a:pt x="2203" y="11173"/>
                  <a:pt x="3006" y="11744"/>
                </a:cubicBezTo>
                <a:cubicBezTo>
                  <a:pt x="3439" y="12073"/>
                  <a:pt x="3953" y="12468"/>
                  <a:pt x="4098" y="12995"/>
                </a:cubicBezTo>
                <a:cubicBezTo>
                  <a:pt x="4365" y="14137"/>
                  <a:pt x="4098" y="15893"/>
                  <a:pt x="3768" y="17341"/>
                </a:cubicBezTo>
                <a:cubicBezTo>
                  <a:pt x="4118" y="17868"/>
                  <a:pt x="4468" y="18395"/>
                  <a:pt x="4859" y="18878"/>
                </a:cubicBezTo>
                <a:cubicBezTo>
                  <a:pt x="6507" y="19976"/>
                  <a:pt x="8401" y="21029"/>
                  <a:pt x="9843" y="21315"/>
                </a:cubicBezTo>
                <a:cubicBezTo>
                  <a:pt x="11490" y="21600"/>
                  <a:pt x="13219" y="20963"/>
                  <a:pt x="14929" y="20217"/>
                </a:cubicBezTo>
                <a:cubicBezTo>
                  <a:pt x="15361" y="20020"/>
                  <a:pt x="15896" y="19756"/>
                  <a:pt x="16452" y="19493"/>
                </a:cubicBezTo>
                <a:cubicBezTo>
                  <a:pt x="16782" y="19141"/>
                  <a:pt x="17132" y="18702"/>
                  <a:pt x="17502" y="18198"/>
                </a:cubicBezTo>
                <a:cubicBezTo>
                  <a:pt x="17441" y="17802"/>
                  <a:pt x="17379" y="17451"/>
                  <a:pt x="17338" y="17166"/>
                </a:cubicBezTo>
                <a:cubicBezTo>
                  <a:pt x="17214" y="16310"/>
                  <a:pt x="17132" y="15410"/>
                  <a:pt x="17296" y="14663"/>
                </a:cubicBezTo>
                <a:cubicBezTo>
                  <a:pt x="17482" y="14005"/>
                  <a:pt x="18223" y="13698"/>
                  <a:pt x="19026" y="13149"/>
                </a:cubicBezTo>
                <a:cubicBezTo>
                  <a:pt x="19809" y="12644"/>
                  <a:pt x="20756" y="11788"/>
                  <a:pt x="21579" y="10954"/>
                </a:cubicBezTo>
                <a:cubicBezTo>
                  <a:pt x="21538" y="10976"/>
                  <a:pt x="21497" y="11020"/>
                  <a:pt x="21456" y="11041"/>
                </a:cubicBezTo>
                <a:cubicBezTo>
                  <a:pt x="21456" y="11041"/>
                  <a:pt x="21579" y="10822"/>
                  <a:pt x="21579" y="10822"/>
                </a:cubicBezTo>
                <a:cubicBezTo>
                  <a:pt x="21579" y="10822"/>
                  <a:pt x="21600" y="2985"/>
                  <a:pt x="21600" y="2985"/>
                </a:cubicBezTo>
                <a:cubicBezTo>
                  <a:pt x="20941" y="3293"/>
                  <a:pt x="20344" y="3556"/>
                  <a:pt x="19829" y="3688"/>
                </a:cubicBezTo>
                <a:cubicBezTo>
                  <a:pt x="17132" y="4302"/>
                  <a:pt x="14352" y="4193"/>
                  <a:pt x="11510" y="3885"/>
                </a:cubicBezTo>
                <a:cubicBezTo>
                  <a:pt x="9039" y="3578"/>
                  <a:pt x="6610" y="2876"/>
                  <a:pt x="4283" y="2020"/>
                </a:cubicBezTo>
                <a:cubicBezTo>
                  <a:pt x="2800" y="1427"/>
                  <a:pt x="1380" y="812"/>
                  <a:pt x="103" y="0"/>
                </a:cubicBezTo>
              </a:path>
            </a:pathLst>
          </a:custGeom>
          <a:solidFill>
            <a:srgbClr val="eb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6902280"/>
            <a:ext cx="5398920" cy="10684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67040" y="7315200"/>
            <a:ext cx="1814400" cy="58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418" y="0"/>
                </a:moveTo>
                <a:cubicBezTo>
                  <a:pt x="21493" y="1165"/>
                  <a:pt x="21557" y="2130"/>
                  <a:pt x="21600" y="2796"/>
                </a:cubicBezTo>
                <a:cubicBezTo>
                  <a:pt x="21536" y="6956"/>
                  <a:pt x="21225" y="17140"/>
                  <a:pt x="19994" y="18904"/>
                </a:cubicBezTo>
                <a:cubicBezTo>
                  <a:pt x="19041" y="20302"/>
                  <a:pt x="19116" y="13146"/>
                  <a:pt x="19148" y="9585"/>
                </a:cubicBezTo>
                <a:cubicBezTo>
                  <a:pt x="18676" y="10517"/>
                  <a:pt x="18184" y="11349"/>
                  <a:pt x="17713" y="12248"/>
                </a:cubicBezTo>
                <a:cubicBezTo>
                  <a:pt x="16331" y="14511"/>
                  <a:pt x="14939" y="16641"/>
                  <a:pt x="13440" y="18072"/>
                </a:cubicBezTo>
                <a:cubicBezTo>
                  <a:pt x="12219" y="19237"/>
                  <a:pt x="10966" y="20402"/>
                  <a:pt x="9702" y="20934"/>
                </a:cubicBezTo>
                <a:cubicBezTo>
                  <a:pt x="8385" y="21533"/>
                  <a:pt x="7089" y="21600"/>
                  <a:pt x="5654" y="21367"/>
                </a:cubicBezTo>
                <a:cubicBezTo>
                  <a:pt x="4294" y="21134"/>
                  <a:pt x="3116" y="20136"/>
                  <a:pt x="2110" y="18272"/>
                </a:cubicBezTo>
                <a:cubicBezTo>
                  <a:pt x="1167" y="16641"/>
                  <a:pt x="246" y="14378"/>
                  <a:pt x="118" y="11216"/>
                </a:cubicBezTo>
                <a:cubicBezTo>
                  <a:pt x="0" y="8886"/>
                  <a:pt x="428" y="6656"/>
                  <a:pt x="1017" y="4826"/>
                </a:cubicBezTo>
                <a:cubicBezTo>
                  <a:pt x="1146" y="4460"/>
                  <a:pt x="1360" y="3961"/>
                  <a:pt x="1585" y="3561"/>
                </a:cubicBezTo>
                <a:cubicBezTo>
                  <a:pt x="1874" y="3728"/>
                  <a:pt x="2174" y="3894"/>
                  <a:pt x="2463" y="4027"/>
                </a:cubicBezTo>
                <a:cubicBezTo>
                  <a:pt x="4434" y="4826"/>
                  <a:pt x="6425" y="5259"/>
                  <a:pt x="8385" y="5325"/>
                </a:cubicBezTo>
                <a:cubicBezTo>
                  <a:pt x="10216" y="5392"/>
                  <a:pt x="12058" y="5325"/>
                  <a:pt x="13868" y="4693"/>
                </a:cubicBezTo>
                <a:cubicBezTo>
                  <a:pt x="15507" y="4194"/>
                  <a:pt x="17038" y="3561"/>
                  <a:pt x="18505" y="2463"/>
                </a:cubicBezTo>
                <a:cubicBezTo>
                  <a:pt x="19415" y="1864"/>
                  <a:pt x="20572" y="865"/>
                  <a:pt x="21418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8440" y="4309920"/>
            <a:ext cx="1206720" cy="117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81" y="9728"/>
                </a:moveTo>
                <a:cubicBezTo>
                  <a:pt x="13417" y="8673"/>
                  <a:pt x="12902" y="7568"/>
                  <a:pt x="12403" y="6447"/>
                </a:cubicBezTo>
                <a:cubicBezTo>
                  <a:pt x="12113" y="6546"/>
                  <a:pt x="11807" y="6661"/>
                  <a:pt x="11597" y="6744"/>
                </a:cubicBezTo>
                <a:cubicBezTo>
                  <a:pt x="10921" y="7041"/>
                  <a:pt x="9487" y="7700"/>
                  <a:pt x="9487" y="7700"/>
                </a:cubicBezTo>
                <a:cubicBezTo>
                  <a:pt x="9487" y="7700"/>
                  <a:pt x="8940" y="5606"/>
                  <a:pt x="8714" y="4617"/>
                </a:cubicBezTo>
                <a:cubicBezTo>
                  <a:pt x="8585" y="3941"/>
                  <a:pt x="8311" y="2572"/>
                  <a:pt x="8311" y="2572"/>
                </a:cubicBezTo>
                <a:cubicBezTo>
                  <a:pt x="8311" y="2572"/>
                  <a:pt x="7136" y="2853"/>
                  <a:pt x="6604" y="3001"/>
                </a:cubicBezTo>
                <a:cubicBezTo>
                  <a:pt x="5928" y="3215"/>
                  <a:pt x="4478" y="3677"/>
                  <a:pt x="4478" y="3677"/>
                </a:cubicBezTo>
                <a:cubicBezTo>
                  <a:pt x="4478" y="3677"/>
                  <a:pt x="4059" y="2539"/>
                  <a:pt x="3946" y="2028"/>
                </a:cubicBezTo>
                <a:cubicBezTo>
                  <a:pt x="3817" y="1352"/>
                  <a:pt x="3672" y="0"/>
                  <a:pt x="3672" y="0"/>
                </a:cubicBezTo>
                <a:cubicBezTo>
                  <a:pt x="3672" y="0"/>
                  <a:pt x="1820" y="676"/>
                  <a:pt x="918" y="841"/>
                </a:cubicBezTo>
                <a:cubicBezTo>
                  <a:pt x="660" y="907"/>
                  <a:pt x="338" y="973"/>
                  <a:pt x="0" y="1055"/>
                </a:cubicBezTo>
                <a:cubicBezTo>
                  <a:pt x="387" y="2737"/>
                  <a:pt x="789" y="4501"/>
                  <a:pt x="1498" y="6101"/>
                </a:cubicBezTo>
                <a:cubicBezTo>
                  <a:pt x="2690" y="8788"/>
                  <a:pt x="4107" y="11394"/>
                  <a:pt x="5847" y="13735"/>
                </a:cubicBezTo>
                <a:cubicBezTo>
                  <a:pt x="7426" y="15829"/>
                  <a:pt x="9326" y="17725"/>
                  <a:pt x="11307" y="19308"/>
                </a:cubicBezTo>
                <a:cubicBezTo>
                  <a:pt x="12354" y="20116"/>
                  <a:pt x="13434" y="20875"/>
                  <a:pt x="14529" y="21600"/>
                </a:cubicBezTo>
                <a:cubicBezTo>
                  <a:pt x="15077" y="21353"/>
                  <a:pt x="15640" y="21122"/>
                  <a:pt x="16188" y="20891"/>
                </a:cubicBezTo>
                <a:cubicBezTo>
                  <a:pt x="17493" y="20330"/>
                  <a:pt x="18813" y="19819"/>
                  <a:pt x="20150" y="19292"/>
                </a:cubicBezTo>
                <a:cubicBezTo>
                  <a:pt x="20634" y="19094"/>
                  <a:pt x="21133" y="18945"/>
                  <a:pt x="21600" y="18731"/>
                </a:cubicBezTo>
                <a:cubicBezTo>
                  <a:pt x="21310" y="18500"/>
                  <a:pt x="21004" y="18236"/>
                  <a:pt x="20730" y="17989"/>
                </a:cubicBezTo>
                <a:cubicBezTo>
                  <a:pt x="18072" y="15631"/>
                  <a:pt x="15721" y="12828"/>
                  <a:pt x="13981" y="9728"/>
                </a:cubicBezTo>
              </a:path>
            </a:pathLst>
          </a:custGeom>
          <a:solidFill>
            <a:srgbClr val="aaaaaa"/>
          </a:solidFill>
          <a:ln w="3600">
            <a:solidFill>
              <a:srgbClr val="77777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19560" y="4367160"/>
            <a:ext cx="1031760" cy="285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76" y="0"/>
                </a:moveTo>
                <a:cubicBezTo>
                  <a:pt x="5028" y="695"/>
                  <a:pt x="5499" y="1424"/>
                  <a:pt x="6327" y="2084"/>
                </a:cubicBezTo>
                <a:cubicBezTo>
                  <a:pt x="7721" y="3195"/>
                  <a:pt x="9378" y="4271"/>
                  <a:pt x="11412" y="5238"/>
                </a:cubicBezTo>
                <a:cubicBezTo>
                  <a:pt x="13258" y="6103"/>
                  <a:pt x="15480" y="6887"/>
                  <a:pt x="17796" y="7541"/>
                </a:cubicBezTo>
                <a:cubicBezTo>
                  <a:pt x="19020" y="7881"/>
                  <a:pt x="20301" y="8195"/>
                  <a:pt x="21600" y="8494"/>
                </a:cubicBezTo>
                <a:cubicBezTo>
                  <a:pt x="20376" y="8692"/>
                  <a:pt x="19152" y="8910"/>
                  <a:pt x="18022" y="9175"/>
                </a:cubicBezTo>
                <a:cubicBezTo>
                  <a:pt x="16666" y="9475"/>
                  <a:pt x="15442" y="9850"/>
                  <a:pt x="15273" y="9938"/>
                </a:cubicBezTo>
                <a:cubicBezTo>
                  <a:pt x="15028" y="10081"/>
                  <a:pt x="14971" y="10265"/>
                  <a:pt x="14877" y="10436"/>
                </a:cubicBezTo>
                <a:cubicBezTo>
                  <a:pt x="13653" y="12711"/>
                  <a:pt x="12052" y="14965"/>
                  <a:pt x="10904" y="17240"/>
                </a:cubicBezTo>
                <a:cubicBezTo>
                  <a:pt x="10150" y="18691"/>
                  <a:pt x="9548" y="20142"/>
                  <a:pt x="8964" y="21600"/>
                </a:cubicBezTo>
                <a:cubicBezTo>
                  <a:pt x="8964" y="21600"/>
                  <a:pt x="7194" y="18732"/>
                  <a:pt x="7194" y="18732"/>
                </a:cubicBezTo>
                <a:cubicBezTo>
                  <a:pt x="5405" y="15681"/>
                  <a:pt x="3691" y="12615"/>
                  <a:pt x="1959" y="9564"/>
                </a:cubicBezTo>
                <a:cubicBezTo>
                  <a:pt x="1318" y="8440"/>
                  <a:pt x="659" y="7316"/>
                  <a:pt x="0" y="6192"/>
                </a:cubicBezTo>
                <a:cubicBezTo>
                  <a:pt x="565" y="6131"/>
                  <a:pt x="1092" y="6076"/>
                  <a:pt x="1507" y="6035"/>
                </a:cubicBezTo>
                <a:cubicBezTo>
                  <a:pt x="3145" y="5885"/>
                  <a:pt x="6459" y="5531"/>
                  <a:pt x="6459" y="5531"/>
                </a:cubicBezTo>
                <a:cubicBezTo>
                  <a:pt x="6459" y="5531"/>
                  <a:pt x="4576" y="3460"/>
                  <a:pt x="3823" y="2411"/>
                </a:cubicBezTo>
                <a:cubicBezTo>
                  <a:pt x="3314" y="1696"/>
                  <a:pt x="2429" y="177"/>
                  <a:pt x="2429" y="177"/>
                </a:cubicBezTo>
                <a:cubicBezTo>
                  <a:pt x="2429" y="177"/>
                  <a:pt x="3540" y="82"/>
                  <a:pt x="4576" y="0"/>
                </a:cubicBezTo>
              </a:path>
            </a:pathLst>
          </a:custGeom>
          <a:solidFill>
            <a:srgbClr val="888888"/>
          </a:solidFill>
          <a:ln w="3600">
            <a:solidFill>
              <a:srgbClr val="bbbb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265720" y="5369040"/>
            <a:ext cx="712800" cy="533160"/>
            <a:chOff x="5265720" y="5369040"/>
            <a:chExt cx="712800" cy="533160"/>
          </a:xfrm>
        </p:grpSpPr>
        <p:sp>
          <p:nvSpPr>
            <p:cNvPr id="48" name=""/>
            <p:cNvSpPr/>
            <p:nvPr/>
          </p:nvSpPr>
          <p:spPr>
            <a:xfrm>
              <a:off x="5680080" y="5407200"/>
              <a:ext cx="29844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462"/>
                  </a:moveTo>
                  <a:cubicBezTo>
                    <a:pt x="0" y="5462"/>
                    <a:pt x="10311" y="14996"/>
                    <a:pt x="10311" y="14996"/>
                  </a:cubicBezTo>
                  <a:cubicBezTo>
                    <a:pt x="11942" y="16188"/>
                    <a:pt x="13508" y="17379"/>
                    <a:pt x="15140" y="18571"/>
                  </a:cubicBezTo>
                  <a:cubicBezTo>
                    <a:pt x="16575" y="19614"/>
                    <a:pt x="18011" y="20607"/>
                    <a:pt x="19512" y="21600"/>
                  </a:cubicBezTo>
                  <a:cubicBezTo>
                    <a:pt x="20686" y="18968"/>
                    <a:pt x="21600" y="16337"/>
                    <a:pt x="21535" y="13606"/>
                  </a:cubicBezTo>
                  <a:cubicBezTo>
                    <a:pt x="21535" y="13308"/>
                    <a:pt x="21535" y="12960"/>
                    <a:pt x="21469" y="12612"/>
                  </a:cubicBezTo>
                  <a:cubicBezTo>
                    <a:pt x="21143" y="8988"/>
                    <a:pt x="19969" y="3575"/>
                    <a:pt x="19969" y="3575"/>
                  </a:cubicBezTo>
                  <a:cubicBezTo>
                    <a:pt x="19969" y="3575"/>
                    <a:pt x="19577" y="1887"/>
                    <a:pt x="19185" y="0"/>
                  </a:cubicBezTo>
                  <a:cubicBezTo>
                    <a:pt x="16314" y="1092"/>
                    <a:pt x="13051" y="2284"/>
                    <a:pt x="10767" y="3029"/>
                  </a:cubicBezTo>
                  <a:cubicBezTo>
                    <a:pt x="7178" y="4121"/>
                    <a:pt x="3524" y="5065"/>
                    <a:pt x="0" y="5462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65720" y="5369040"/>
              <a:ext cx="3510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540" y="13464"/>
                  </a:moveTo>
                  <a:cubicBezTo>
                    <a:pt x="12540" y="13464"/>
                    <a:pt x="20771" y="6458"/>
                    <a:pt x="20771" y="6458"/>
                  </a:cubicBezTo>
                  <a:cubicBezTo>
                    <a:pt x="20882" y="6349"/>
                    <a:pt x="21103" y="6239"/>
                    <a:pt x="21213" y="6130"/>
                  </a:cubicBezTo>
                  <a:cubicBezTo>
                    <a:pt x="21379" y="5947"/>
                    <a:pt x="21490" y="5765"/>
                    <a:pt x="21600" y="5582"/>
                  </a:cubicBezTo>
                  <a:cubicBezTo>
                    <a:pt x="21379" y="5582"/>
                    <a:pt x="21213" y="5619"/>
                    <a:pt x="20992" y="5582"/>
                  </a:cubicBezTo>
                  <a:cubicBezTo>
                    <a:pt x="16020" y="4962"/>
                    <a:pt x="9060" y="2189"/>
                    <a:pt x="4198" y="0"/>
                  </a:cubicBezTo>
                  <a:cubicBezTo>
                    <a:pt x="3480" y="1751"/>
                    <a:pt x="2873" y="3065"/>
                    <a:pt x="2873" y="3065"/>
                  </a:cubicBezTo>
                  <a:cubicBezTo>
                    <a:pt x="2873" y="3065"/>
                    <a:pt x="663" y="7845"/>
                    <a:pt x="110" y="11092"/>
                  </a:cubicBezTo>
                  <a:cubicBezTo>
                    <a:pt x="55" y="11384"/>
                    <a:pt x="0" y="11639"/>
                    <a:pt x="0" y="11858"/>
                  </a:cubicBezTo>
                  <a:cubicBezTo>
                    <a:pt x="0" y="12041"/>
                    <a:pt x="0" y="12223"/>
                    <a:pt x="0" y="12405"/>
                  </a:cubicBezTo>
                  <a:cubicBezTo>
                    <a:pt x="55" y="14923"/>
                    <a:pt x="1271" y="18572"/>
                    <a:pt x="2486" y="21600"/>
                  </a:cubicBezTo>
                  <a:cubicBezTo>
                    <a:pt x="4198" y="20250"/>
                    <a:pt x="5911" y="18900"/>
                    <a:pt x="7624" y="17514"/>
                  </a:cubicBezTo>
                  <a:cubicBezTo>
                    <a:pt x="9281" y="16164"/>
                    <a:pt x="10938" y="14814"/>
                    <a:pt x="12540" y="13464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403280" y="4971960"/>
            <a:ext cx="2363760" cy="248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475"/>
                </a:moveTo>
                <a:cubicBezTo>
                  <a:pt x="0" y="3475"/>
                  <a:pt x="3545" y="2780"/>
                  <a:pt x="3545" y="2780"/>
                </a:cubicBezTo>
                <a:cubicBezTo>
                  <a:pt x="3545" y="2780"/>
                  <a:pt x="7263" y="1991"/>
                  <a:pt x="7263" y="1991"/>
                </a:cubicBezTo>
                <a:cubicBezTo>
                  <a:pt x="7263" y="1991"/>
                  <a:pt x="10381" y="1398"/>
                  <a:pt x="10381" y="1398"/>
                </a:cubicBezTo>
                <a:cubicBezTo>
                  <a:pt x="10381" y="1398"/>
                  <a:pt x="13473" y="765"/>
                  <a:pt x="13473" y="765"/>
                </a:cubicBezTo>
                <a:cubicBezTo>
                  <a:pt x="13473" y="765"/>
                  <a:pt x="17084" y="0"/>
                  <a:pt x="17084" y="0"/>
                </a:cubicBezTo>
                <a:cubicBezTo>
                  <a:pt x="17084" y="0"/>
                  <a:pt x="17940" y="3826"/>
                  <a:pt x="18359" y="5724"/>
                </a:cubicBezTo>
                <a:cubicBezTo>
                  <a:pt x="19116" y="9223"/>
                  <a:pt x="19864" y="12737"/>
                  <a:pt x="20646" y="16235"/>
                </a:cubicBezTo>
                <a:cubicBezTo>
                  <a:pt x="20909" y="17352"/>
                  <a:pt x="21345" y="19218"/>
                  <a:pt x="21600" y="20335"/>
                </a:cubicBezTo>
                <a:cubicBezTo>
                  <a:pt x="20950" y="20538"/>
                  <a:pt x="20062" y="20772"/>
                  <a:pt x="19363" y="20913"/>
                </a:cubicBezTo>
                <a:cubicBezTo>
                  <a:pt x="18236" y="21170"/>
                  <a:pt x="17060" y="21319"/>
                  <a:pt x="15801" y="21436"/>
                </a:cubicBezTo>
                <a:cubicBezTo>
                  <a:pt x="14411" y="21584"/>
                  <a:pt x="12996" y="21600"/>
                  <a:pt x="11590" y="21584"/>
                </a:cubicBezTo>
                <a:cubicBezTo>
                  <a:pt x="10084" y="21569"/>
                  <a:pt x="8554" y="21467"/>
                  <a:pt x="7041" y="21280"/>
                </a:cubicBezTo>
                <a:cubicBezTo>
                  <a:pt x="6819" y="21249"/>
                  <a:pt x="6589" y="21210"/>
                  <a:pt x="6366" y="21170"/>
                </a:cubicBezTo>
                <a:cubicBezTo>
                  <a:pt x="5741" y="21030"/>
                  <a:pt x="5149" y="20811"/>
                  <a:pt x="4606" y="20538"/>
                </a:cubicBezTo>
                <a:cubicBezTo>
                  <a:pt x="4285" y="20366"/>
                  <a:pt x="3882" y="20038"/>
                  <a:pt x="3512" y="19702"/>
                </a:cubicBezTo>
                <a:cubicBezTo>
                  <a:pt x="3076" y="17570"/>
                  <a:pt x="2575" y="15095"/>
                  <a:pt x="2204" y="13400"/>
                </a:cubicBezTo>
                <a:cubicBezTo>
                  <a:pt x="1604" y="10574"/>
                  <a:pt x="946" y="7731"/>
                  <a:pt x="321" y="4904"/>
                </a:cubicBezTo>
                <a:cubicBezTo>
                  <a:pt x="214" y="4420"/>
                  <a:pt x="0" y="3475"/>
                  <a:pt x="0" y="3475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82760" y="3193920"/>
            <a:ext cx="1303200" cy="858960"/>
            <a:chOff x="1382760" y="3193920"/>
            <a:chExt cx="1303200" cy="858960"/>
          </a:xfrm>
        </p:grpSpPr>
        <p:sp>
          <p:nvSpPr>
            <p:cNvPr id="52" name=""/>
            <p:cNvSpPr/>
            <p:nvPr/>
          </p:nvSpPr>
          <p:spPr>
            <a:xfrm>
              <a:off x="1382760" y="3193920"/>
              <a:ext cx="1303200" cy="85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1" y="21600"/>
                  </a:moveTo>
                  <a:cubicBezTo>
                    <a:pt x="1791" y="21600"/>
                    <a:pt x="21600" y="15192"/>
                    <a:pt x="21600" y="15192"/>
                  </a:cubicBezTo>
                  <a:cubicBezTo>
                    <a:pt x="21600" y="15192"/>
                    <a:pt x="19779" y="2943"/>
                    <a:pt x="19779" y="2943"/>
                  </a:cubicBezTo>
                  <a:cubicBezTo>
                    <a:pt x="19779" y="2943"/>
                    <a:pt x="19003" y="974"/>
                    <a:pt x="18391" y="385"/>
                  </a:cubicBezTo>
                  <a:cubicBezTo>
                    <a:pt x="17973" y="0"/>
                    <a:pt x="17420" y="23"/>
                    <a:pt x="16958" y="272"/>
                  </a:cubicBezTo>
                  <a:cubicBezTo>
                    <a:pt x="16480" y="521"/>
                    <a:pt x="16151" y="951"/>
                    <a:pt x="15957" y="1472"/>
                  </a:cubicBezTo>
                  <a:cubicBezTo>
                    <a:pt x="15763" y="1970"/>
                    <a:pt x="15614" y="2536"/>
                    <a:pt x="15525" y="3125"/>
                  </a:cubicBezTo>
                  <a:cubicBezTo>
                    <a:pt x="15375" y="4098"/>
                    <a:pt x="15301" y="5117"/>
                    <a:pt x="15256" y="6136"/>
                  </a:cubicBezTo>
                  <a:cubicBezTo>
                    <a:pt x="15226" y="6657"/>
                    <a:pt x="15196" y="7721"/>
                    <a:pt x="15196" y="7721"/>
                  </a:cubicBezTo>
                  <a:cubicBezTo>
                    <a:pt x="15196" y="7721"/>
                    <a:pt x="14853" y="5321"/>
                    <a:pt x="14778" y="4936"/>
                  </a:cubicBezTo>
                  <a:cubicBezTo>
                    <a:pt x="14704" y="4619"/>
                    <a:pt x="14644" y="4257"/>
                    <a:pt x="14524" y="3962"/>
                  </a:cubicBezTo>
                  <a:cubicBezTo>
                    <a:pt x="13972" y="2626"/>
                    <a:pt x="13136" y="1562"/>
                    <a:pt x="12240" y="1879"/>
                  </a:cubicBezTo>
                  <a:cubicBezTo>
                    <a:pt x="11494" y="2128"/>
                    <a:pt x="10942" y="3034"/>
                    <a:pt x="10598" y="4121"/>
                  </a:cubicBezTo>
                  <a:cubicBezTo>
                    <a:pt x="10106" y="5660"/>
                    <a:pt x="9583" y="9057"/>
                    <a:pt x="9583" y="9057"/>
                  </a:cubicBezTo>
                  <a:cubicBezTo>
                    <a:pt x="9583" y="9057"/>
                    <a:pt x="9180" y="6747"/>
                    <a:pt x="8733" y="5796"/>
                  </a:cubicBezTo>
                  <a:cubicBezTo>
                    <a:pt x="8121" y="4483"/>
                    <a:pt x="7135" y="3645"/>
                    <a:pt x="6150" y="3940"/>
                  </a:cubicBezTo>
                  <a:cubicBezTo>
                    <a:pt x="5508" y="4143"/>
                    <a:pt x="4986" y="4823"/>
                    <a:pt x="4613" y="5638"/>
                  </a:cubicBezTo>
                  <a:cubicBezTo>
                    <a:pt x="4284" y="6340"/>
                    <a:pt x="4060" y="8264"/>
                    <a:pt x="4060" y="8264"/>
                  </a:cubicBezTo>
                  <a:cubicBezTo>
                    <a:pt x="4060" y="8264"/>
                    <a:pt x="3508" y="6543"/>
                    <a:pt x="3045" y="5955"/>
                  </a:cubicBezTo>
                  <a:cubicBezTo>
                    <a:pt x="2553" y="5321"/>
                    <a:pt x="1941" y="5094"/>
                    <a:pt x="1418" y="5457"/>
                  </a:cubicBezTo>
                  <a:cubicBezTo>
                    <a:pt x="1030" y="5728"/>
                    <a:pt x="702" y="6272"/>
                    <a:pt x="478" y="6838"/>
                  </a:cubicBezTo>
                  <a:cubicBezTo>
                    <a:pt x="194" y="7540"/>
                    <a:pt x="0" y="9260"/>
                    <a:pt x="0" y="9260"/>
                  </a:cubicBezTo>
                  <a:cubicBezTo>
                    <a:pt x="0" y="9260"/>
                    <a:pt x="1791" y="21600"/>
                    <a:pt x="1791" y="21600"/>
                  </a:cubicBezTo>
                </a:path>
              </a:pathLst>
            </a:custGeom>
            <a:solidFill>
              <a:srgbClr val="777777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8640" y="3522600"/>
              <a:ext cx="100080" cy="47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0" y="0"/>
                    <a:pt x="21600" y="21600"/>
                    <a:pt x="21600" y="21600"/>
                  </a:cubicBezTo>
                </a:path>
              </a:pathLst>
            </a:custGeom>
            <a:solidFill>
              <a:srgbClr val="777777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60560" y="3554280"/>
              <a:ext cx="8748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0" y="0"/>
                    <a:pt x="21600" y="21600"/>
                    <a:pt x="21600" y="21600"/>
                  </a:cubicBezTo>
                </a:path>
              </a:pathLst>
            </a:custGeom>
            <a:solidFill>
              <a:srgbClr val="777777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00400" y="3500280"/>
              <a:ext cx="85680" cy="3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126" y="7200"/>
                    <a:pt x="21600" y="21600"/>
                    <a:pt x="21600" y="21600"/>
                  </a:cubicBezTo>
                </a:path>
              </a:pathLst>
            </a:custGeom>
            <a:solidFill>
              <a:srgbClr val="777777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31800" y="1641600"/>
            <a:ext cx="322560" cy="10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575" y="21600"/>
                </a:moveTo>
                <a:cubicBezTo>
                  <a:pt x="12188" y="19490"/>
                  <a:pt x="8688" y="14365"/>
                  <a:pt x="6878" y="11509"/>
                </a:cubicBezTo>
                <a:cubicBezTo>
                  <a:pt x="4465" y="7697"/>
                  <a:pt x="0" y="0"/>
                  <a:pt x="0" y="0"/>
                </a:cubicBezTo>
                <a:cubicBezTo>
                  <a:pt x="0" y="0"/>
                  <a:pt x="6154" y="5852"/>
                  <a:pt x="8930" y="8672"/>
                </a:cubicBezTo>
                <a:cubicBezTo>
                  <a:pt x="11041" y="10729"/>
                  <a:pt x="18885" y="18443"/>
                  <a:pt x="21600" y="21086"/>
                </a:cubicBezTo>
                <a:cubicBezTo>
                  <a:pt x="21600" y="21086"/>
                  <a:pt x="13575" y="21600"/>
                  <a:pt x="13575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8680" y="4179960"/>
            <a:ext cx="2562120" cy="324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78" y="12804"/>
                </a:moveTo>
                <a:cubicBezTo>
                  <a:pt x="2444" y="11546"/>
                  <a:pt x="2102" y="10288"/>
                  <a:pt x="1768" y="9035"/>
                </a:cubicBezTo>
                <a:cubicBezTo>
                  <a:pt x="1381" y="7550"/>
                  <a:pt x="949" y="6070"/>
                  <a:pt x="562" y="4608"/>
                </a:cubicBezTo>
                <a:cubicBezTo>
                  <a:pt x="387" y="3925"/>
                  <a:pt x="0" y="2558"/>
                  <a:pt x="0" y="2558"/>
                </a:cubicBezTo>
                <a:cubicBezTo>
                  <a:pt x="0" y="2558"/>
                  <a:pt x="15809" y="0"/>
                  <a:pt x="15809" y="0"/>
                </a:cubicBezTo>
                <a:cubicBezTo>
                  <a:pt x="15809" y="0"/>
                  <a:pt x="16257" y="1672"/>
                  <a:pt x="16485" y="2505"/>
                </a:cubicBezTo>
                <a:cubicBezTo>
                  <a:pt x="17145" y="4901"/>
                  <a:pt x="17782" y="7286"/>
                  <a:pt x="18412" y="9665"/>
                </a:cubicBezTo>
                <a:cubicBezTo>
                  <a:pt x="19111" y="12349"/>
                  <a:pt x="19801" y="15045"/>
                  <a:pt x="20522" y="17729"/>
                </a:cubicBezTo>
                <a:cubicBezTo>
                  <a:pt x="20879" y="19018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5800" y="1733400"/>
            <a:ext cx="1978200" cy="3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0"/>
                </a:moveTo>
                <a:cubicBezTo>
                  <a:pt x="246" y="20010"/>
                  <a:pt x="521" y="18829"/>
                  <a:pt x="845" y="18522"/>
                </a:cubicBezTo>
                <a:cubicBezTo>
                  <a:pt x="1042" y="18316"/>
                  <a:pt x="1228" y="18727"/>
                  <a:pt x="1474" y="18624"/>
                </a:cubicBezTo>
                <a:cubicBezTo>
                  <a:pt x="1700" y="18522"/>
                  <a:pt x="1936" y="17906"/>
                  <a:pt x="2123" y="17649"/>
                </a:cubicBezTo>
                <a:cubicBezTo>
                  <a:pt x="2467" y="17701"/>
                  <a:pt x="2830" y="17803"/>
                  <a:pt x="3056" y="17906"/>
                </a:cubicBezTo>
                <a:cubicBezTo>
                  <a:pt x="3597" y="17701"/>
                  <a:pt x="4137" y="17393"/>
                  <a:pt x="4668" y="16880"/>
                </a:cubicBezTo>
                <a:cubicBezTo>
                  <a:pt x="5425" y="16162"/>
                  <a:pt x="6171" y="14930"/>
                  <a:pt x="6820" y="13134"/>
                </a:cubicBezTo>
                <a:cubicBezTo>
                  <a:pt x="7154" y="12314"/>
                  <a:pt x="7439" y="10928"/>
                  <a:pt x="7793" y="10261"/>
                </a:cubicBezTo>
                <a:cubicBezTo>
                  <a:pt x="8265" y="9492"/>
                  <a:pt x="8785" y="10005"/>
                  <a:pt x="9287" y="9851"/>
                </a:cubicBezTo>
                <a:cubicBezTo>
                  <a:pt x="9690" y="9697"/>
                  <a:pt x="10132" y="9081"/>
                  <a:pt x="10486" y="6721"/>
                </a:cubicBezTo>
                <a:cubicBezTo>
                  <a:pt x="10594" y="5952"/>
                  <a:pt x="10692" y="4669"/>
                  <a:pt x="10692" y="4669"/>
                </a:cubicBezTo>
                <a:cubicBezTo>
                  <a:pt x="10692" y="4669"/>
                  <a:pt x="11213" y="4566"/>
                  <a:pt x="11429" y="3848"/>
                </a:cubicBezTo>
                <a:cubicBezTo>
                  <a:pt x="11606" y="3335"/>
                  <a:pt x="11714" y="2155"/>
                  <a:pt x="11861" y="2052"/>
                </a:cubicBezTo>
                <a:cubicBezTo>
                  <a:pt x="12313" y="1847"/>
                  <a:pt x="12608" y="4925"/>
                  <a:pt x="13080" y="5438"/>
                </a:cubicBezTo>
                <a:cubicBezTo>
                  <a:pt x="13493" y="5952"/>
                  <a:pt x="13876" y="3848"/>
                  <a:pt x="14190" y="2309"/>
                </a:cubicBezTo>
                <a:cubicBezTo>
                  <a:pt x="14407" y="1129"/>
                  <a:pt x="14623" y="0"/>
                  <a:pt x="14819" y="308"/>
                </a:cubicBezTo>
                <a:cubicBezTo>
                  <a:pt x="15409" y="1129"/>
                  <a:pt x="15576" y="5336"/>
                  <a:pt x="16136" y="5952"/>
                </a:cubicBezTo>
                <a:cubicBezTo>
                  <a:pt x="16362" y="6157"/>
                  <a:pt x="16863" y="4669"/>
                  <a:pt x="16863" y="4669"/>
                </a:cubicBezTo>
                <a:cubicBezTo>
                  <a:pt x="16863" y="4669"/>
                  <a:pt x="17571" y="8825"/>
                  <a:pt x="17984" y="10928"/>
                </a:cubicBezTo>
                <a:cubicBezTo>
                  <a:pt x="18052" y="11133"/>
                  <a:pt x="18131" y="11390"/>
                  <a:pt x="18210" y="11493"/>
                </a:cubicBezTo>
                <a:cubicBezTo>
                  <a:pt x="18524" y="12006"/>
                  <a:pt x="18780" y="13134"/>
                  <a:pt x="19045" y="14212"/>
                </a:cubicBezTo>
                <a:cubicBezTo>
                  <a:pt x="19163" y="14622"/>
                  <a:pt x="19310" y="14828"/>
                  <a:pt x="19458" y="15084"/>
                </a:cubicBezTo>
                <a:cubicBezTo>
                  <a:pt x="19585" y="15187"/>
                  <a:pt x="19703" y="15289"/>
                  <a:pt x="19831" y="15289"/>
                </a:cubicBezTo>
                <a:cubicBezTo>
                  <a:pt x="20254" y="16777"/>
                  <a:pt x="20666" y="18419"/>
                  <a:pt x="21079" y="19856"/>
                </a:cubicBezTo>
                <a:cubicBezTo>
                  <a:pt x="21246" y="20369"/>
                  <a:pt x="21413" y="20882"/>
                  <a:pt x="21600" y="21292"/>
                </a:cubicBezTo>
                <a:cubicBezTo>
                  <a:pt x="21600" y="21292"/>
                  <a:pt x="20578" y="21292"/>
                  <a:pt x="20578" y="21292"/>
                </a:cubicBezTo>
                <a:cubicBezTo>
                  <a:pt x="20421" y="20625"/>
                  <a:pt x="20254" y="19958"/>
                  <a:pt x="20057" y="19240"/>
                </a:cubicBezTo>
                <a:cubicBezTo>
                  <a:pt x="19870" y="18522"/>
                  <a:pt x="19625" y="18214"/>
                  <a:pt x="19399" y="17495"/>
                </a:cubicBezTo>
                <a:cubicBezTo>
                  <a:pt x="19143" y="16675"/>
                  <a:pt x="18947" y="15495"/>
                  <a:pt x="18652" y="14828"/>
                </a:cubicBezTo>
                <a:cubicBezTo>
                  <a:pt x="18485" y="14520"/>
                  <a:pt x="18298" y="14930"/>
                  <a:pt x="18131" y="14622"/>
                </a:cubicBezTo>
                <a:cubicBezTo>
                  <a:pt x="17905" y="14212"/>
                  <a:pt x="17738" y="12981"/>
                  <a:pt x="17502" y="12416"/>
                </a:cubicBezTo>
                <a:cubicBezTo>
                  <a:pt x="17325" y="12006"/>
                  <a:pt x="17070" y="12416"/>
                  <a:pt x="16903" y="11903"/>
                </a:cubicBezTo>
                <a:cubicBezTo>
                  <a:pt x="16736" y="11390"/>
                  <a:pt x="16775" y="9338"/>
                  <a:pt x="16588" y="9492"/>
                </a:cubicBezTo>
                <a:cubicBezTo>
                  <a:pt x="16166" y="9594"/>
                  <a:pt x="15497" y="10159"/>
                  <a:pt x="15497" y="12314"/>
                </a:cubicBezTo>
                <a:cubicBezTo>
                  <a:pt x="15497" y="14622"/>
                  <a:pt x="16608" y="13494"/>
                  <a:pt x="16588" y="15802"/>
                </a:cubicBezTo>
                <a:cubicBezTo>
                  <a:pt x="16578" y="17701"/>
                  <a:pt x="15802" y="14058"/>
                  <a:pt x="15468" y="15084"/>
                </a:cubicBezTo>
                <a:cubicBezTo>
                  <a:pt x="15379" y="15289"/>
                  <a:pt x="15379" y="15700"/>
                  <a:pt x="15429" y="16213"/>
                </a:cubicBezTo>
                <a:cubicBezTo>
                  <a:pt x="15379" y="16162"/>
                  <a:pt x="15330" y="16059"/>
                  <a:pt x="15281" y="15956"/>
                </a:cubicBezTo>
                <a:cubicBezTo>
                  <a:pt x="15114" y="15495"/>
                  <a:pt x="15114" y="13801"/>
                  <a:pt x="14937" y="13750"/>
                </a:cubicBezTo>
                <a:cubicBezTo>
                  <a:pt x="14721" y="13596"/>
                  <a:pt x="14642" y="15392"/>
                  <a:pt x="14456" y="15597"/>
                </a:cubicBezTo>
                <a:cubicBezTo>
                  <a:pt x="14023" y="16162"/>
                  <a:pt x="13512" y="16777"/>
                  <a:pt x="13080" y="16162"/>
                </a:cubicBezTo>
                <a:cubicBezTo>
                  <a:pt x="12815" y="15802"/>
                  <a:pt x="12765" y="13596"/>
                  <a:pt x="12520" y="12981"/>
                </a:cubicBezTo>
                <a:cubicBezTo>
                  <a:pt x="11901" y="11390"/>
                  <a:pt x="11242" y="9492"/>
                  <a:pt x="10525" y="9492"/>
                </a:cubicBezTo>
                <a:cubicBezTo>
                  <a:pt x="10181" y="9492"/>
                  <a:pt x="10033" y="12416"/>
                  <a:pt x="9680" y="12878"/>
                </a:cubicBezTo>
                <a:cubicBezTo>
                  <a:pt x="9139" y="13596"/>
                  <a:pt x="8540" y="12262"/>
                  <a:pt x="7999" y="12981"/>
                </a:cubicBezTo>
                <a:cubicBezTo>
                  <a:pt x="7685" y="13391"/>
                  <a:pt x="7537" y="15289"/>
                  <a:pt x="7262" y="16162"/>
                </a:cubicBezTo>
                <a:cubicBezTo>
                  <a:pt x="6899" y="17393"/>
                  <a:pt x="6545" y="18829"/>
                  <a:pt x="6112" y="19394"/>
                </a:cubicBezTo>
                <a:cubicBezTo>
                  <a:pt x="5562" y="20112"/>
                  <a:pt x="4933" y="18522"/>
                  <a:pt x="4422" y="19856"/>
                </a:cubicBezTo>
                <a:cubicBezTo>
                  <a:pt x="4255" y="20266"/>
                  <a:pt x="4137" y="20882"/>
                  <a:pt x="4029" y="21600"/>
                </a:cubicBezTo>
                <a:cubicBezTo>
                  <a:pt x="4029" y="21600"/>
                  <a:pt x="0" y="21190"/>
                  <a:pt x="0" y="21190"/>
                </a:cubicBezTo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2320" y="1897200"/>
            <a:ext cx="478080" cy="21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" y="12264"/>
                </a:moveTo>
                <a:cubicBezTo>
                  <a:pt x="1749" y="13088"/>
                  <a:pt x="3336" y="12539"/>
                  <a:pt x="4678" y="14369"/>
                </a:cubicBezTo>
                <a:cubicBezTo>
                  <a:pt x="5980" y="16383"/>
                  <a:pt x="7078" y="18946"/>
                  <a:pt x="8136" y="21600"/>
                </a:cubicBezTo>
                <a:cubicBezTo>
                  <a:pt x="8136" y="21600"/>
                  <a:pt x="21600" y="21325"/>
                  <a:pt x="21600" y="21325"/>
                </a:cubicBezTo>
                <a:cubicBezTo>
                  <a:pt x="20949" y="20136"/>
                  <a:pt x="20258" y="18946"/>
                  <a:pt x="19444" y="17664"/>
                </a:cubicBezTo>
                <a:cubicBezTo>
                  <a:pt x="18671" y="16383"/>
                  <a:pt x="17654" y="15834"/>
                  <a:pt x="16719" y="14553"/>
                </a:cubicBezTo>
                <a:cubicBezTo>
                  <a:pt x="15661" y="13088"/>
                  <a:pt x="14847" y="10983"/>
                  <a:pt x="13627" y="9793"/>
                </a:cubicBezTo>
                <a:cubicBezTo>
                  <a:pt x="12936" y="9244"/>
                  <a:pt x="12163" y="9976"/>
                  <a:pt x="11471" y="9427"/>
                </a:cubicBezTo>
                <a:cubicBezTo>
                  <a:pt x="10536" y="8695"/>
                  <a:pt x="9844" y="6498"/>
                  <a:pt x="8868" y="5492"/>
                </a:cubicBezTo>
                <a:cubicBezTo>
                  <a:pt x="8136" y="4759"/>
                  <a:pt x="7078" y="5492"/>
                  <a:pt x="6386" y="4576"/>
                </a:cubicBezTo>
                <a:cubicBezTo>
                  <a:pt x="5695" y="3661"/>
                  <a:pt x="5858" y="0"/>
                  <a:pt x="5085" y="275"/>
                </a:cubicBezTo>
                <a:cubicBezTo>
                  <a:pt x="3336" y="458"/>
                  <a:pt x="569" y="1464"/>
                  <a:pt x="569" y="5308"/>
                </a:cubicBezTo>
                <a:cubicBezTo>
                  <a:pt x="569" y="9427"/>
                  <a:pt x="5166" y="7414"/>
                  <a:pt x="5085" y="11532"/>
                </a:cubicBezTo>
                <a:cubicBezTo>
                  <a:pt x="5044" y="14919"/>
                  <a:pt x="1831" y="8420"/>
                  <a:pt x="447" y="10251"/>
                </a:cubicBezTo>
                <a:cubicBezTo>
                  <a:pt x="81" y="10617"/>
                  <a:pt x="0" y="11349"/>
                  <a:pt x="203" y="12264"/>
                </a:cubicBezTo>
              </a:path>
            </a:pathLst>
          </a:custGeom>
          <a:solidFill>
            <a:srgbClr val="006600"/>
          </a:solidFill>
          <a:ln w="3600">
            <a:solidFill>
              <a:srgbClr val="0066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94080" y="1900080"/>
            <a:ext cx="1217880" cy="21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76" y="20319"/>
                  <a:pt x="367" y="19220"/>
                  <a:pt x="639" y="18488"/>
                </a:cubicBezTo>
                <a:cubicBezTo>
                  <a:pt x="1469" y="16108"/>
                  <a:pt x="2490" y="18946"/>
                  <a:pt x="3384" y="17664"/>
                </a:cubicBezTo>
                <a:cubicBezTo>
                  <a:pt x="4087" y="16658"/>
                  <a:pt x="4662" y="14095"/>
                  <a:pt x="5252" y="11898"/>
                </a:cubicBezTo>
                <a:cubicBezTo>
                  <a:pt x="5699" y="10342"/>
                  <a:pt x="5939" y="6956"/>
                  <a:pt x="6450" y="6224"/>
                </a:cubicBezTo>
                <a:cubicBezTo>
                  <a:pt x="7328" y="4942"/>
                  <a:pt x="8302" y="7322"/>
                  <a:pt x="9180" y="6041"/>
                </a:cubicBezTo>
                <a:cubicBezTo>
                  <a:pt x="9754" y="5217"/>
                  <a:pt x="9994" y="0"/>
                  <a:pt x="10553" y="0"/>
                </a:cubicBezTo>
                <a:cubicBezTo>
                  <a:pt x="11718" y="0"/>
                  <a:pt x="12788" y="3386"/>
                  <a:pt x="13793" y="6224"/>
                </a:cubicBezTo>
                <a:cubicBezTo>
                  <a:pt x="14192" y="7322"/>
                  <a:pt x="14272" y="11258"/>
                  <a:pt x="14703" y="11898"/>
                </a:cubicBezTo>
                <a:cubicBezTo>
                  <a:pt x="15406" y="12997"/>
                  <a:pt x="16236" y="11898"/>
                  <a:pt x="16938" y="10892"/>
                </a:cubicBezTo>
                <a:cubicBezTo>
                  <a:pt x="17242" y="10525"/>
                  <a:pt x="17369" y="7322"/>
                  <a:pt x="17721" y="7597"/>
                </a:cubicBezTo>
                <a:cubicBezTo>
                  <a:pt x="18008" y="7688"/>
                  <a:pt x="18008" y="10708"/>
                  <a:pt x="18279" y="11532"/>
                </a:cubicBezTo>
                <a:cubicBezTo>
                  <a:pt x="18359" y="11715"/>
                  <a:pt x="18407" y="11898"/>
                  <a:pt x="18487" y="11990"/>
                </a:cubicBezTo>
                <a:cubicBezTo>
                  <a:pt x="19094" y="12814"/>
                  <a:pt x="19716" y="12264"/>
                  <a:pt x="20243" y="14095"/>
                </a:cubicBezTo>
                <a:cubicBezTo>
                  <a:pt x="20754" y="16108"/>
                  <a:pt x="21185" y="18671"/>
                  <a:pt x="21600" y="21325"/>
                </a:cubicBezTo>
                <a:cubicBezTo>
                  <a:pt x="21600" y="21325"/>
                  <a:pt x="19844" y="21417"/>
                  <a:pt x="19844" y="21417"/>
                </a:cubicBezTo>
                <a:cubicBezTo>
                  <a:pt x="19493" y="20136"/>
                  <a:pt x="19173" y="18946"/>
                  <a:pt x="18758" y="18488"/>
                </a:cubicBezTo>
                <a:cubicBezTo>
                  <a:pt x="17242" y="16108"/>
                  <a:pt x="15613" y="18031"/>
                  <a:pt x="14033" y="17664"/>
                </a:cubicBezTo>
                <a:cubicBezTo>
                  <a:pt x="12740" y="17298"/>
                  <a:pt x="11447" y="16658"/>
                  <a:pt x="10153" y="16475"/>
                </a:cubicBezTo>
                <a:cubicBezTo>
                  <a:pt x="9196" y="16292"/>
                  <a:pt x="8222" y="15285"/>
                  <a:pt x="7328" y="16658"/>
                </a:cubicBezTo>
                <a:cubicBezTo>
                  <a:pt x="6593" y="17847"/>
                  <a:pt x="5907" y="19403"/>
                  <a:pt x="5204" y="21325"/>
                </a:cubicBezTo>
                <a:cubicBezTo>
                  <a:pt x="5204" y="21325"/>
                  <a:pt x="0" y="21600"/>
                  <a:pt x="0" y="21600"/>
                </a:cubicBezTo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7840" y="2049480"/>
            <a:ext cx="8272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34" y="14727"/>
                  <a:pt x="2045" y="9164"/>
                  <a:pt x="3126" y="4909"/>
                </a:cubicBezTo>
                <a:cubicBezTo>
                  <a:pt x="4442" y="0"/>
                  <a:pt x="5876" y="3600"/>
                  <a:pt x="7286" y="4255"/>
                </a:cubicBezTo>
                <a:cubicBezTo>
                  <a:pt x="9190" y="4909"/>
                  <a:pt x="11094" y="7200"/>
                  <a:pt x="12998" y="8509"/>
                </a:cubicBezTo>
                <a:cubicBezTo>
                  <a:pt x="15324" y="9818"/>
                  <a:pt x="17722" y="2945"/>
                  <a:pt x="19955" y="11455"/>
                </a:cubicBezTo>
                <a:cubicBezTo>
                  <a:pt x="20566" y="13091"/>
                  <a:pt x="21083" y="17018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733400"/>
            <a:ext cx="1976400" cy="37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96"/>
                </a:moveTo>
                <a:cubicBezTo>
                  <a:pt x="246" y="20299"/>
                  <a:pt x="521" y="19102"/>
                  <a:pt x="855" y="18789"/>
                </a:cubicBezTo>
                <a:cubicBezTo>
                  <a:pt x="1042" y="18581"/>
                  <a:pt x="1219" y="18998"/>
                  <a:pt x="1475" y="18893"/>
                </a:cubicBezTo>
                <a:cubicBezTo>
                  <a:pt x="1701" y="18789"/>
                  <a:pt x="1937" y="18165"/>
                  <a:pt x="2114" y="17905"/>
                </a:cubicBezTo>
                <a:cubicBezTo>
                  <a:pt x="2468" y="17957"/>
                  <a:pt x="2831" y="18061"/>
                  <a:pt x="3048" y="18165"/>
                </a:cubicBezTo>
                <a:cubicBezTo>
                  <a:pt x="3589" y="17957"/>
                  <a:pt x="4129" y="17644"/>
                  <a:pt x="4670" y="17124"/>
                </a:cubicBezTo>
                <a:cubicBezTo>
                  <a:pt x="5417" y="16395"/>
                  <a:pt x="6164" y="15146"/>
                  <a:pt x="6813" y="13324"/>
                </a:cubicBezTo>
                <a:cubicBezTo>
                  <a:pt x="7138" y="12492"/>
                  <a:pt x="7433" y="11086"/>
                  <a:pt x="7787" y="10410"/>
                </a:cubicBezTo>
                <a:cubicBezTo>
                  <a:pt x="8268" y="9629"/>
                  <a:pt x="8780" y="10149"/>
                  <a:pt x="9291" y="9993"/>
                </a:cubicBezTo>
                <a:cubicBezTo>
                  <a:pt x="9704" y="9837"/>
                  <a:pt x="10136" y="9213"/>
                  <a:pt x="10490" y="6818"/>
                </a:cubicBezTo>
                <a:cubicBezTo>
                  <a:pt x="10589" y="6038"/>
                  <a:pt x="10697" y="4736"/>
                  <a:pt x="10697" y="4736"/>
                </a:cubicBezTo>
                <a:cubicBezTo>
                  <a:pt x="10697" y="4736"/>
                  <a:pt x="11218" y="4632"/>
                  <a:pt x="11414" y="3904"/>
                </a:cubicBezTo>
                <a:cubicBezTo>
                  <a:pt x="11611" y="3383"/>
                  <a:pt x="11709" y="2186"/>
                  <a:pt x="11857" y="2082"/>
                </a:cubicBezTo>
                <a:cubicBezTo>
                  <a:pt x="12319" y="1874"/>
                  <a:pt x="12604" y="4997"/>
                  <a:pt x="13086" y="5517"/>
                </a:cubicBezTo>
                <a:cubicBezTo>
                  <a:pt x="13499" y="6038"/>
                  <a:pt x="13872" y="3904"/>
                  <a:pt x="14187" y="2342"/>
                </a:cubicBezTo>
                <a:cubicBezTo>
                  <a:pt x="14413" y="1145"/>
                  <a:pt x="14620" y="0"/>
                  <a:pt x="14826" y="312"/>
                </a:cubicBezTo>
                <a:cubicBezTo>
                  <a:pt x="15406" y="1145"/>
                  <a:pt x="15573" y="5413"/>
                  <a:pt x="16134" y="6038"/>
                </a:cubicBezTo>
                <a:cubicBezTo>
                  <a:pt x="16370" y="6246"/>
                  <a:pt x="16861" y="4736"/>
                  <a:pt x="16861" y="4736"/>
                </a:cubicBezTo>
                <a:cubicBezTo>
                  <a:pt x="16861" y="4736"/>
                  <a:pt x="17579" y="8952"/>
                  <a:pt x="17992" y="11086"/>
                </a:cubicBezTo>
                <a:cubicBezTo>
                  <a:pt x="18041" y="11294"/>
                  <a:pt x="18139" y="11555"/>
                  <a:pt x="18218" y="11659"/>
                </a:cubicBezTo>
                <a:cubicBezTo>
                  <a:pt x="18523" y="12179"/>
                  <a:pt x="18769" y="13324"/>
                  <a:pt x="19054" y="14417"/>
                </a:cubicBezTo>
                <a:cubicBezTo>
                  <a:pt x="19172" y="14834"/>
                  <a:pt x="19319" y="15042"/>
                  <a:pt x="19467" y="15302"/>
                </a:cubicBezTo>
                <a:cubicBezTo>
                  <a:pt x="19585" y="15406"/>
                  <a:pt x="19712" y="15510"/>
                  <a:pt x="19830" y="15510"/>
                </a:cubicBezTo>
                <a:cubicBezTo>
                  <a:pt x="20243" y="17020"/>
                  <a:pt x="20666" y="18685"/>
                  <a:pt x="21079" y="20143"/>
                </a:cubicBezTo>
                <a:cubicBezTo>
                  <a:pt x="21256" y="20663"/>
                  <a:pt x="21413" y="21184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5241960"/>
            <a:ext cx="610920" cy="2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4" y="1262"/>
                </a:moveTo>
                <a:cubicBezTo>
                  <a:pt x="1366" y="2665"/>
                  <a:pt x="1969" y="3997"/>
                  <a:pt x="2605" y="5260"/>
                </a:cubicBezTo>
                <a:cubicBezTo>
                  <a:pt x="4796" y="9818"/>
                  <a:pt x="7433" y="13044"/>
                  <a:pt x="10196" y="12834"/>
                </a:cubicBezTo>
                <a:cubicBezTo>
                  <a:pt x="13373" y="12694"/>
                  <a:pt x="16422" y="8766"/>
                  <a:pt x="19376" y="3436"/>
                </a:cubicBezTo>
                <a:cubicBezTo>
                  <a:pt x="19980" y="2314"/>
                  <a:pt x="20552" y="1192"/>
                  <a:pt x="21124" y="0"/>
                </a:cubicBezTo>
                <a:cubicBezTo>
                  <a:pt x="20933" y="2174"/>
                  <a:pt x="21028" y="4909"/>
                  <a:pt x="21219" y="7434"/>
                </a:cubicBezTo>
                <a:cubicBezTo>
                  <a:pt x="21314" y="8906"/>
                  <a:pt x="21473" y="11010"/>
                  <a:pt x="21600" y="12904"/>
                </a:cubicBezTo>
                <a:cubicBezTo>
                  <a:pt x="20202" y="14447"/>
                  <a:pt x="18614" y="16130"/>
                  <a:pt x="17502" y="17182"/>
                </a:cubicBezTo>
                <a:cubicBezTo>
                  <a:pt x="14866" y="19566"/>
                  <a:pt x="12198" y="21600"/>
                  <a:pt x="9656" y="20688"/>
                </a:cubicBezTo>
                <a:cubicBezTo>
                  <a:pt x="6798" y="19496"/>
                  <a:pt x="2795" y="14166"/>
                  <a:pt x="0" y="9958"/>
                </a:cubicBezTo>
                <a:cubicBezTo>
                  <a:pt x="318" y="7364"/>
                  <a:pt x="635" y="4278"/>
                  <a:pt x="794" y="12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562720"/>
            <a:ext cx="588960" cy="73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14"/>
                </a:moveTo>
                <a:cubicBezTo>
                  <a:pt x="0" y="1714"/>
                  <a:pt x="8330" y="0"/>
                  <a:pt x="8330" y="0"/>
                </a:cubicBezTo>
                <a:cubicBezTo>
                  <a:pt x="8330" y="0"/>
                  <a:pt x="12809" y="13134"/>
                  <a:pt x="12809" y="13134"/>
                </a:cubicBezTo>
                <a:cubicBezTo>
                  <a:pt x="12809" y="13134"/>
                  <a:pt x="19987" y="11631"/>
                  <a:pt x="19987" y="11631"/>
                </a:cubicBezTo>
                <a:cubicBezTo>
                  <a:pt x="19987" y="11631"/>
                  <a:pt x="21600" y="17538"/>
                  <a:pt x="21600" y="17538"/>
                </a:cubicBezTo>
                <a:cubicBezTo>
                  <a:pt x="15048" y="18778"/>
                  <a:pt x="6552" y="20360"/>
                  <a:pt x="0" y="21600"/>
                </a:cubicBezTo>
                <a:cubicBezTo>
                  <a:pt x="0" y="21600"/>
                  <a:pt x="0" y="1714"/>
                  <a:pt x="0" y="1714"/>
                </a:cubicBezTo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562720"/>
            <a:ext cx="588960" cy="59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1"/>
                </a:moveTo>
                <a:cubicBezTo>
                  <a:pt x="0" y="2111"/>
                  <a:pt x="8330" y="0"/>
                  <a:pt x="8330" y="0"/>
                </a:cubicBezTo>
                <a:cubicBezTo>
                  <a:pt x="8330" y="0"/>
                  <a:pt x="12809" y="16176"/>
                  <a:pt x="12809" y="16176"/>
                </a:cubicBezTo>
                <a:cubicBezTo>
                  <a:pt x="12809" y="16176"/>
                  <a:pt x="19987" y="14324"/>
                  <a:pt x="19987" y="14324"/>
                </a:cubicBezTo>
                <a:cubicBezTo>
                  <a:pt x="19987" y="14324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095880"/>
            <a:ext cx="1236600" cy="187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345"/>
                </a:moveTo>
                <a:lnTo>
                  <a:pt x="15096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2345"/>
                </a:lnTo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6095880"/>
            <a:ext cx="1197000" cy="167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626"/>
                </a:moveTo>
                <a:cubicBezTo>
                  <a:pt x="6102" y="1603"/>
                  <a:pt x="15595" y="0"/>
                  <a:pt x="15595" y="0"/>
                </a:cubicBezTo>
                <a:cubicBezTo>
                  <a:pt x="1559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440" y="7682040"/>
            <a:ext cx="65412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124" y="21600"/>
                </a:moveTo>
                <a:cubicBezTo>
                  <a:pt x="21124" y="21600"/>
                  <a:pt x="0" y="21600"/>
                  <a:pt x="0" y="21600"/>
                </a:cubicBezTo>
                <a:cubicBezTo>
                  <a:pt x="1250" y="17280"/>
                  <a:pt x="2707" y="13163"/>
                  <a:pt x="4403" y="9653"/>
                </a:cubicBezTo>
                <a:cubicBezTo>
                  <a:pt x="7349" y="3645"/>
                  <a:pt x="11127" y="0"/>
                  <a:pt x="15084" y="0"/>
                </a:cubicBezTo>
                <a:cubicBezTo>
                  <a:pt x="17583" y="0"/>
                  <a:pt x="19993" y="2768"/>
                  <a:pt x="20797" y="7425"/>
                </a:cubicBezTo>
                <a:cubicBezTo>
                  <a:pt x="21600" y="11948"/>
                  <a:pt x="21540" y="16673"/>
                  <a:pt x="21124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68760" y="5505480"/>
            <a:ext cx="354240" cy="13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16" y="0"/>
                </a:moveTo>
                <a:cubicBezTo>
                  <a:pt x="12916" y="0"/>
                  <a:pt x="21600" y="2761"/>
                  <a:pt x="21600" y="2761"/>
                </a:cubicBezTo>
                <a:cubicBezTo>
                  <a:pt x="21600" y="2761"/>
                  <a:pt x="13521" y="4731"/>
                  <a:pt x="13521" y="4731"/>
                </a:cubicBezTo>
                <a:cubicBezTo>
                  <a:pt x="13521" y="4731"/>
                  <a:pt x="19402" y="12468"/>
                  <a:pt x="19402" y="12468"/>
                </a:cubicBezTo>
                <a:cubicBezTo>
                  <a:pt x="19402" y="12468"/>
                  <a:pt x="8959" y="21600"/>
                  <a:pt x="8959" y="21600"/>
                </a:cubicBezTo>
                <a:cubicBezTo>
                  <a:pt x="8959" y="21600"/>
                  <a:pt x="1154" y="15387"/>
                  <a:pt x="1154" y="15387"/>
                </a:cubicBezTo>
                <a:cubicBezTo>
                  <a:pt x="1154" y="15387"/>
                  <a:pt x="605" y="14956"/>
                  <a:pt x="605" y="14956"/>
                </a:cubicBezTo>
                <a:cubicBezTo>
                  <a:pt x="605" y="14956"/>
                  <a:pt x="8024" y="4760"/>
                  <a:pt x="8024" y="4760"/>
                </a:cubicBezTo>
                <a:cubicBezTo>
                  <a:pt x="8024" y="4760"/>
                  <a:pt x="0" y="3121"/>
                  <a:pt x="0" y="3121"/>
                </a:cubicBezTo>
                <a:cubicBezTo>
                  <a:pt x="0" y="3121"/>
                  <a:pt x="8189" y="360"/>
                  <a:pt x="8189" y="360"/>
                </a:cubicBezTo>
                <a:cubicBezTo>
                  <a:pt x="8299" y="316"/>
                  <a:pt x="8519" y="273"/>
                  <a:pt x="8629" y="230"/>
                </a:cubicBezTo>
                <a:cubicBezTo>
                  <a:pt x="8794" y="158"/>
                  <a:pt x="8904" y="86"/>
                  <a:pt x="9014" y="14"/>
                </a:cubicBezTo>
                <a:cubicBezTo>
                  <a:pt x="10278" y="58"/>
                  <a:pt x="11597" y="43"/>
                  <a:pt x="12916" y="0"/>
                </a:cubicBezTo>
              </a:path>
            </a:pathLst>
          </a:custGeom>
          <a:solidFill>
            <a:srgbClr val="c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05320" y="5678640"/>
            <a:ext cx="646200" cy="765000"/>
            <a:chOff x="5305320" y="5678640"/>
            <a:chExt cx="646200" cy="765000"/>
          </a:xfrm>
        </p:grpSpPr>
        <p:sp>
          <p:nvSpPr>
            <p:cNvPr id="71" name=""/>
            <p:cNvSpPr/>
            <p:nvPr/>
          </p:nvSpPr>
          <p:spPr>
            <a:xfrm>
              <a:off x="5305320" y="5700600"/>
              <a:ext cx="295560" cy="74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0" y="21600"/>
                  </a:moveTo>
                  <a:cubicBezTo>
                    <a:pt x="12710" y="21600"/>
                    <a:pt x="21600" y="2988"/>
                    <a:pt x="21600" y="2988"/>
                  </a:cubicBezTo>
                  <a:cubicBezTo>
                    <a:pt x="21600" y="2988"/>
                    <a:pt x="11985" y="0"/>
                    <a:pt x="11985" y="0"/>
                  </a:cubicBezTo>
                  <a:cubicBezTo>
                    <a:pt x="10076" y="970"/>
                    <a:pt x="8100" y="1940"/>
                    <a:pt x="6124" y="2910"/>
                  </a:cubicBezTo>
                  <a:cubicBezTo>
                    <a:pt x="4083" y="3906"/>
                    <a:pt x="2041" y="4876"/>
                    <a:pt x="0" y="5846"/>
                  </a:cubicBezTo>
                  <a:cubicBezTo>
                    <a:pt x="1515" y="8048"/>
                    <a:pt x="2963" y="9830"/>
                    <a:pt x="2963" y="9830"/>
                  </a:cubicBezTo>
                  <a:cubicBezTo>
                    <a:pt x="2963" y="9830"/>
                    <a:pt x="12710" y="21600"/>
                    <a:pt x="12710" y="2160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91240" y="5678640"/>
              <a:ext cx="260280" cy="60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87" y="0"/>
                  </a:moveTo>
                  <a:cubicBezTo>
                    <a:pt x="10987" y="0"/>
                    <a:pt x="0" y="4384"/>
                    <a:pt x="0" y="4384"/>
                  </a:cubicBezTo>
                  <a:cubicBezTo>
                    <a:pt x="0" y="4384"/>
                    <a:pt x="7997" y="21600"/>
                    <a:pt x="7997" y="21600"/>
                  </a:cubicBezTo>
                  <a:cubicBezTo>
                    <a:pt x="7997" y="21600"/>
                    <a:pt x="11510" y="16640"/>
                    <a:pt x="11510" y="16640"/>
                  </a:cubicBezTo>
                  <a:cubicBezTo>
                    <a:pt x="11510" y="16640"/>
                    <a:pt x="16518" y="10304"/>
                    <a:pt x="19059" y="7200"/>
                  </a:cubicBezTo>
                  <a:cubicBezTo>
                    <a:pt x="19881" y="6208"/>
                    <a:pt x="20778" y="5216"/>
                    <a:pt x="21600" y="4224"/>
                  </a:cubicBezTo>
                  <a:cubicBezTo>
                    <a:pt x="19881" y="3584"/>
                    <a:pt x="18162" y="2976"/>
                    <a:pt x="16518" y="2304"/>
                  </a:cubicBezTo>
                  <a:cubicBezTo>
                    <a:pt x="14649" y="1536"/>
                    <a:pt x="12855" y="768"/>
                    <a:pt x="10987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680080" y="5505480"/>
            <a:ext cx="142920" cy="78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4783"/>
                  <a:pt x="21600" y="4783"/>
                </a:cubicBezTo>
                <a:cubicBezTo>
                  <a:pt x="21600" y="4783"/>
                  <a:pt x="1504" y="8197"/>
                  <a:pt x="1504" y="8197"/>
                </a:cubicBezTo>
                <a:cubicBezTo>
                  <a:pt x="1504" y="8197"/>
                  <a:pt x="16132" y="21600"/>
                  <a:pt x="16132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54680" y="6626160"/>
            <a:ext cx="1440" cy="180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68760" y="5508720"/>
            <a:ext cx="14940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1" y="21600"/>
                </a:moveTo>
                <a:cubicBezTo>
                  <a:pt x="1431" y="21600"/>
                  <a:pt x="18998" y="6825"/>
                  <a:pt x="18998" y="6825"/>
                </a:cubicBezTo>
                <a:cubicBezTo>
                  <a:pt x="18998" y="6825"/>
                  <a:pt x="0" y="4453"/>
                  <a:pt x="0" y="4453"/>
                </a:cubicBezTo>
                <a:cubicBezTo>
                  <a:pt x="0" y="4453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43200" y="4876920"/>
            <a:ext cx="2476440" cy="30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600" y="1433"/>
                  <a:pt x="21600" y="1433"/>
                </a:cubicBezTo>
                <a:cubicBezTo>
                  <a:pt x="21286" y="1672"/>
                  <a:pt x="20925" y="1911"/>
                  <a:pt x="20627" y="2055"/>
                </a:cubicBezTo>
                <a:cubicBezTo>
                  <a:pt x="20321" y="2212"/>
                  <a:pt x="20038" y="2300"/>
                  <a:pt x="19967" y="2489"/>
                </a:cubicBezTo>
                <a:cubicBezTo>
                  <a:pt x="19905" y="2702"/>
                  <a:pt x="19936" y="2960"/>
                  <a:pt x="19983" y="3205"/>
                </a:cubicBezTo>
                <a:cubicBezTo>
                  <a:pt x="20038" y="3513"/>
                  <a:pt x="20172" y="4148"/>
                  <a:pt x="20172" y="4148"/>
                </a:cubicBezTo>
                <a:cubicBezTo>
                  <a:pt x="20172" y="4148"/>
                  <a:pt x="20344" y="4977"/>
                  <a:pt x="20360" y="5417"/>
                </a:cubicBezTo>
                <a:cubicBezTo>
                  <a:pt x="20368" y="5970"/>
                  <a:pt x="20093" y="6492"/>
                  <a:pt x="19858" y="7007"/>
                </a:cubicBezTo>
                <a:cubicBezTo>
                  <a:pt x="19591" y="7617"/>
                  <a:pt x="19065" y="8861"/>
                  <a:pt x="19065" y="8861"/>
                </a:cubicBezTo>
                <a:cubicBezTo>
                  <a:pt x="19065" y="8861"/>
                  <a:pt x="17205" y="13832"/>
                  <a:pt x="17205" y="13832"/>
                </a:cubicBezTo>
                <a:cubicBezTo>
                  <a:pt x="17205" y="13832"/>
                  <a:pt x="16090" y="11111"/>
                  <a:pt x="16090" y="11111"/>
                </a:cubicBezTo>
                <a:cubicBezTo>
                  <a:pt x="16090" y="11111"/>
                  <a:pt x="14850" y="8107"/>
                  <a:pt x="14850" y="8107"/>
                </a:cubicBezTo>
                <a:cubicBezTo>
                  <a:pt x="14850" y="8107"/>
                  <a:pt x="14159" y="6442"/>
                  <a:pt x="14144" y="5568"/>
                </a:cubicBezTo>
                <a:cubicBezTo>
                  <a:pt x="14144" y="5028"/>
                  <a:pt x="14552" y="3959"/>
                  <a:pt x="14552" y="3959"/>
                </a:cubicBezTo>
                <a:cubicBezTo>
                  <a:pt x="14552" y="3959"/>
                  <a:pt x="15133" y="2646"/>
                  <a:pt x="14936" y="2011"/>
                </a:cubicBezTo>
                <a:cubicBezTo>
                  <a:pt x="14881" y="1860"/>
                  <a:pt x="14685" y="1747"/>
                  <a:pt x="14520" y="1653"/>
                </a:cubicBezTo>
                <a:cubicBezTo>
                  <a:pt x="14073" y="1414"/>
                  <a:pt x="13641" y="1175"/>
                  <a:pt x="13210" y="955"/>
                </a:cubicBezTo>
                <a:cubicBezTo>
                  <a:pt x="12644" y="647"/>
                  <a:pt x="11522" y="0"/>
                  <a:pt x="11522" y="0"/>
                </a:cubicBezTo>
                <a:cubicBezTo>
                  <a:pt x="11522" y="0"/>
                  <a:pt x="10706" y="1804"/>
                  <a:pt x="10706" y="1804"/>
                </a:cubicBezTo>
                <a:cubicBezTo>
                  <a:pt x="10706" y="1804"/>
                  <a:pt x="10408" y="2338"/>
                  <a:pt x="10266" y="2583"/>
                </a:cubicBezTo>
                <a:cubicBezTo>
                  <a:pt x="10196" y="2734"/>
                  <a:pt x="10109" y="2897"/>
                  <a:pt x="9976" y="2985"/>
                </a:cubicBezTo>
                <a:cubicBezTo>
                  <a:pt x="9678" y="3186"/>
                  <a:pt x="9285" y="3262"/>
                  <a:pt x="8901" y="3387"/>
                </a:cubicBezTo>
                <a:cubicBezTo>
                  <a:pt x="8249" y="3588"/>
                  <a:pt x="7606" y="3790"/>
                  <a:pt x="6970" y="4003"/>
                </a:cubicBezTo>
                <a:cubicBezTo>
                  <a:pt x="6193" y="4255"/>
                  <a:pt x="5400" y="4531"/>
                  <a:pt x="4686" y="4902"/>
                </a:cubicBezTo>
                <a:cubicBezTo>
                  <a:pt x="4121" y="5178"/>
                  <a:pt x="3610" y="5530"/>
                  <a:pt x="3540" y="5612"/>
                </a:cubicBezTo>
                <a:cubicBezTo>
                  <a:pt x="3438" y="5744"/>
                  <a:pt x="3414" y="5907"/>
                  <a:pt x="3375" y="6065"/>
                </a:cubicBezTo>
                <a:cubicBezTo>
                  <a:pt x="2865" y="8164"/>
                  <a:pt x="2198" y="10244"/>
                  <a:pt x="1719" y="12343"/>
                </a:cubicBezTo>
                <a:cubicBezTo>
                  <a:pt x="1405" y="13681"/>
                  <a:pt x="1154" y="15020"/>
                  <a:pt x="910" y="16365"/>
                </a:cubicBezTo>
                <a:cubicBezTo>
                  <a:pt x="753" y="17088"/>
                  <a:pt x="612" y="17836"/>
                  <a:pt x="487" y="18577"/>
                </a:cubicBezTo>
                <a:cubicBezTo>
                  <a:pt x="306" y="19589"/>
                  <a:pt x="157" y="20594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369040"/>
            <a:ext cx="61272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791" y="7807"/>
                  <a:pt x="6788" y="17696"/>
                  <a:pt x="9642" y="19908"/>
                </a:cubicBezTo>
                <a:cubicBezTo>
                  <a:pt x="12180" y="21600"/>
                  <a:pt x="14844" y="17827"/>
                  <a:pt x="17477" y="13402"/>
                </a:cubicBezTo>
                <a:cubicBezTo>
                  <a:pt x="18587" y="11451"/>
                  <a:pt x="20204" y="8458"/>
                  <a:pt x="21600" y="559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05320" y="5700600"/>
            <a:ext cx="16344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8" y="7265"/>
                  <a:pt x="7358" y="14529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23000" y="5678640"/>
            <a:ext cx="12708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471"/>
                  <a:pt x="14247" y="14779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4876920"/>
            <a:ext cx="2476440" cy="30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33"/>
                </a:moveTo>
                <a:cubicBezTo>
                  <a:pt x="21600" y="1433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157" y="20594"/>
                  <a:pt x="306" y="19589"/>
                  <a:pt x="487" y="18577"/>
                </a:cubicBezTo>
                <a:cubicBezTo>
                  <a:pt x="612" y="17836"/>
                  <a:pt x="753" y="17088"/>
                  <a:pt x="910" y="16365"/>
                </a:cubicBezTo>
                <a:cubicBezTo>
                  <a:pt x="1154" y="15020"/>
                  <a:pt x="1405" y="13681"/>
                  <a:pt x="1719" y="12343"/>
                </a:cubicBezTo>
                <a:cubicBezTo>
                  <a:pt x="2198" y="10244"/>
                  <a:pt x="2865" y="8164"/>
                  <a:pt x="3375" y="6065"/>
                </a:cubicBezTo>
                <a:cubicBezTo>
                  <a:pt x="3414" y="5907"/>
                  <a:pt x="3438" y="5744"/>
                  <a:pt x="3540" y="5612"/>
                </a:cubicBezTo>
                <a:cubicBezTo>
                  <a:pt x="3610" y="5530"/>
                  <a:pt x="4121" y="5178"/>
                  <a:pt x="4686" y="4902"/>
                </a:cubicBezTo>
                <a:cubicBezTo>
                  <a:pt x="5400" y="4531"/>
                  <a:pt x="6193" y="4255"/>
                  <a:pt x="6970" y="4003"/>
                </a:cubicBezTo>
                <a:cubicBezTo>
                  <a:pt x="7606" y="3790"/>
                  <a:pt x="8249" y="3588"/>
                  <a:pt x="8901" y="3387"/>
                </a:cubicBezTo>
                <a:cubicBezTo>
                  <a:pt x="9285" y="3262"/>
                  <a:pt x="9678" y="3186"/>
                  <a:pt x="9976" y="2985"/>
                </a:cubicBezTo>
                <a:cubicBezTo>
                  <a:pt x="10109" y="2897"/>
                  <a:pt x="10196" y="2734"/>
                  <a:pt x="10266" y="2583"/>
                </a:cubicBezTo>
                <a:cubicBezTo>
                  <a:pt x="10408" y="2338"/>
                  <a:pt x="10706" y="1804"/>
                  <a:pt x="10706" y="1804"/>
                </a:cubicBezTo>
                <a:cubicBezTo>
                  <a:pt x="10706" y="1804"/>
                  <a:pt x="11522" y="0"/>
                  <a:pt x="11522" y="0"/>
                </a:cubicBezTo>
                <a:cubicBezTo>
                  <a:pt x="11522" y="0"/>
                  <a:pt x="12644" y="647"/>
                  <a:pt x="13210" y="955"/>
                </a:cubicBezTo>
                <a:cubicBezTo>
                  <a:pt x="13641" y="1175"/>
                  <a:pt x="14073" y="1414"/>
                  <a:pt x="14520" y="1653"/>
                </a:cubicBezTo>
                <a:cubicBezTo>
                  <a:pt x="14685" y="1747"/>
                  <a:pt x="14881" y="1860"/>
                  <a:pt x="14936" y="2011"/>
                </a:cubicBezTo>
                <a:cubicBezTo>
                  <a:pt x="15133" y="2646"/>
                  <a:pt x="14552" y="3959"/>
                  <a:pt x="14552" y="3959"/>
                </a:cubicBezTo>
                <a:cubicBezTo>
                  <a:pt x="14552" y="3959"/>
                  <a:pt x="14144" y="5028"/>
                  <a:pt x="14144" y="5568"/>
                </a:cubicBezTo>
                <a:cubicBezTo>
                  <a:pt x="14159" y="6442"/>
                  <a:pt x="14850" y="8107"/>
                  <a:pt x="14850" y="8107"/>
                </a:cubicBezTo>
                <a:cubicBezTo>
                  <a:pt x="14850" y="8107"/>
                  <a:pt x="16090" y="11111"/>
                  <a:pt x="16090" y="11111"/>
                </a:cubicBezTo>
                <a:cubicBezTo>
                  <a:pt x="16090" y="11111"/>
                  <a:pt x="17205" y="13832"/>
                  <a:pt x="17205" y="13832"/>
                </a:cubicBezTo>
                <a:cubicBezTo>
                  <a:pt x="17205" y="13832"/>
                  <a:pt x="19065" y="8861"/>
                  <a:pt x="19065" y="8861"/>
                </a:cubicBezTo>
                <a:cubicBezTo>
                  <a:pt x="19065" y="8861"/>
                  <a:pt x="19591" y="7617"/>
                  <a:pt x="19858" y="7007"/>
                </a:cubicBezTo>
                <a:cubicBezTo>
                  <a:pt x="20093" y="6492"/>
                  <a:pt x="20368" y="5970"/>
                  <a:pt x="20360" y="5417"/>
                </a:cubicBezTo>
                <a:cubicBezTo>
                  <a:pt x="20344" y="4977"/>
                  <a:pt x="20172" y="4148"/>
                  <a:pt x="20172" y="4148"/>
                </a:cubicBezTo>
                <a:cubicBezTo>
                  <a:pt x="20172" y="4148"/>
                  <a:pt x="20038" y="3513"/>
                  <a:pt x="19983" y="3205"/>
                </a:cubicBezTo>
                <a:cubicBezTo>
                  <a:pt x="19936" y="2960"/>
                  <a:pt x="19905" y="2702"/>
                  <a:pt x="19967" y="2489"/>
                </a:cubicBezTo>
                <a:cubicBezTo>
                  <a:pt x="20038" y="2300"/>
                  <a:pt x="20321" y="2212"/>
                  <a:pt x="20627" y="2055"/>
                </a:cubicBezTo>
                <a:cubicBezTo>
                  <a:pt x="20925" y="1911"/>
                  <a:pt x="21286" y="1672"/>
                  <a:pt x="21600" y="1433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5662440"/>
            <a:ext cx="701640" cy="11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86" y="0"/>
                </a:moveTo>
                <a:cubicBezTo>
                  <a:pt x="10786" y="81"/>
                  <a:pt x="10786" y="163"/>
                  <a:pt x="10786" y="228"/>
                </a:cubicBezTo>
                <a:cubicBezTo>
                  <a:pt x="10842" y="2487"/>
                  <a:pt x="13282" y="6794"/>
                  <a:pt x="13282" y="6794"/>
                </a:cubicBezTo>
                <a:cubicBezTo>
                  <a:pt x="13282" y="6794"/>
                  <a:pt x="17663" y="14563"/>
                  <a:pt x="17663" y="14563"/>
                </a:cubicBezTo>
                <a:cubicBezTo>
                  <a:pt x="17663" y="14563"/>
                  <a:pt x="21600" y="21600"/>
                  <a:pt x="21600" y="21600"/>
                </a:cubicBezTo>
                <a:cubicBezTo>
                  <a:pt x="18245" y="19601"/>
                  <a:pt x="14557" y="17878"/>
                  <a:pt x="11757" y="15651"/>
                </a:cubicBezTo>
                <a:cubicBezTo>
                  <a:pt x="7902" y="12596"/>
                  <a:pt x="1275" y="9410"/>
                  <a:pt x="139" y="5835"/>
                </a:cubicBezTo>
                <a:cubicBezTo>
                  <a:pt x="111" y="5721"/>
                  <a:pt x="83" y="5607"/>
                  <a:pt x="55" y="5493"/>
                </a:cubicBezTo>
                <a:cubicBezTo>
                  <a:pt x="28" y="5363"/>
                  <a:pt x="0" y="5233"/>
                  <a:pt x="0" y="5103"/>
                </a:cubicBezTo>
                <a:cubicBezTo>
                  <a:pt x="0" y="4957"/>
                  <a:pt x="0" y="4811"/>
                  <a:pt x="0" y="4665"/>
                </a:cubicBezTo>
                <a:cubicBezTo>
                  <a:pt x="0" y="4535"/>
                  <a:pt x="28" y="4405"/>
                  <a:pt x="55" y="4274"/>
                </a:cubicBezTo>
                <a:cubicBezTo>
                  <a:pt x="83" y="4144"/>
                  <a:pt x="111" y="4014"/>
                  <a:pt x="166" y="3884"/>
                </a:cubicBezTo>
                <a:cubicBezTo>
                  <a:pt x="222" y="3738"/>
                  <a:pt x="277" y="3592"/>
                  <a:pt x="360" y="3446"/>
                </a:cubicBezTo>
                <a:cubicBezTo>
                  <a:pt x="499" y="3169"/>
                  <a:pt x="693" y="2926"/>
                  <a:pt x="943" y="2714"/>
                </a:cubicBezTo>
                <a:cubicBezTo>
                  <a:pt x="1220" y="2470"/>
                  <a:pt x="1580" y="2275"/>
                  <a:pt x="1996" y="2097"/>
                </a:cubicBezTo>
                <a:cubicBezTo>
                  <a:pt x="2329" y="1934"/>
                  <a:pt x="2690" y="1788"/>
                  <a:pt x="3078" y="1658"/>
                </a:cubicBezTo>
                <a:cubicBezTo>
                  <a:pt x="3133" y="1642"/>
                  <a:pt x="3189" y="1625"/>
                  <a:pt x="3244" y="1609"/>
                </a:cubicBezTo>
                <a:cubicBezTo>
                  <a:pt x="5490" y="943"/>
                  <a:pt x="8485" y="634"/>
                  <a:pt x="1078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49640" y="5307120"/>
            <a:ext cx="2070000" cy="26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01" y="2744"/>
                </a:moveTo>
                <a:cubicBezTo>
                  <a:pt x="12701" y="2736"/>
                  <a:pt x="12701" y="2736"/>
                  <a:pt x="12701" y="2729"/>
                </a:cubicBezTo>
                <a:cubicBezTo>
                  <a:pt x="12476" y="2671"/>
                  <a:pt x="12241" y="2620"/>
                  <a:pt x="12006" y="2561"/>
                </a:cubicBezTo>
                <a:cubicBezTo>
                  <a:pt x="11462" y="2430"/>
                  <a:pt x="10927" y="2277"/>
                  <a:pt x="10570" y="2102"/>
                </a:cubicBezTo>
                <a:cubicBezTo>
                  <a:pt x="9453" y="1562"/>
                  <a:pt x="8608" y="722"/>
                  <a:pt x="7660" y="0"/>
                </a:cubicBezTo>
                <a:cubicBezTo>
                  <a:pt x="7303" y="234"/>
                  <a:pt x="6871" y="299"/>
                  <a:pt x="6411" y="445"/>
                </a:cubicBezTo>
                <a:cubicBezTo>
                  <a:pt x="5632" y="679"/>
                  <a:pt x="4863" y="912"/>
                  <a:pt x="4102" y="1160"/>
                </a:cubicBezTo>
                <a:cubicBezTo>
                  <a:pt x="3173" y="1452"/>
                  <a:pt x="2225" y="1773"/>
                  <a:pt x="1371" y="2204"/>
                </a:cubicBezTo>
                <a:cubicBezTo>
                  <a:pt x="695" y="2525"/>
                  <a:pt x="84" y="2934"/>
                  <a:pt x="0" y="3028"/>
                </a:cubicBezTo>
                <a:cubicBezTo>
                  <a:pt x="704" y="2839"/>
                  <a:pt x="1371" y="2452"/>
                  <a:pt x="2084" y="2576"/>
                </a:cubicBezTo>
                <a:cubicBezTo>
                  <a:pt x="3426" y="2802"/>
                  <a:pt x="4496" y="3765"/>
                  <a:pt x="5210" y="4685"/>
                </a:cubicBezTo>
                <a:cubicBezTo>
                  <a:pt x="5951" y="5641"/>
                  <a:pt x="6120" y="6838"/>
                  <a:pt x="6177" y="7961"/>
                </a:cubicBezTo>
                <a:cubicBezTo>
                  <a:pt x="6271" y="9888"/>
                  <a:pt x="5585" y="11792"/>
                  <a:pt x="5088" y="13675"/>
                </a:cubicBezTo>
                <a:cubicBezTo>
                  <a:pt x="4374" y="16353"/>
                  <a:pt x="3342" y="18966"/>
                  <a:pt x="2394" y="21600"/>
                </a:cubicBezTo>
                <a:cubicBezTo>
                  <a:pt x="2394" y="21600"/>
                  <a:pt x="21600" y="21593"/>
                  <a:pt x="21600" y="21593"/>
                </a:cubicBezTo>
                <a:cubicBezTo>
                  <a:pt x="21600" y="21593"/>
                  <a:pt x="21600" y="2277"/>
                  <a:pt x="21600" y="2277"/>
                </a:cubicBezTo>
                <a:cubicBezTo>
                  <a:pt x="21112" y="2423"/>
                  <a:pt x="20605" y="2539"/>
                  <a:pt x="20117" y="2671"/>
                </a:cubicBezTo>
                <a:cubicBezTo>
                  <a:pt x="20117" y="2715"/>
                  <a:pt x="20117" y="2758"/>
                  <a:pt x="20117" y="2802"/>
                </a:cubicBezTo>
                <a:cubicBezTo>
                  <a:pt x="20126" y="3444"/>
                  <a:pt x="19798" y="4050"/>
                  <a:pt x="19516" y="4648"/>
                </a:cubicBezTo>
                <a:cubicBezTo>
                  <a:pt x="19197" y="5356"/>
                  <a:pt x="18568" y="6801"/>
                  <a:pt x="18568" y="6801"/>
                </a:cubicBezTo>
                <a:cubicBezTo>
                  <a:pt x="18568" y="6801"/>
                  <a:pt x="16343" y="12573"/>
                  <a:pt x="16343" y="12573"/>
                </a:cubicBezTo>
                <a:cubicBezTo>
                  <a:pt x="15217" y="11698"/>
                  <a:pt x="13959" y="10902"/>
                  <a:pt x="13011" y="9902"/>
                </a:cubicBezTo>
                <a:cubicBezTo>
                  <a:pt x="11415" y="8231"/>
                  <a:pt x="8411" y="6422"/>
                  <a:pt x="9153" y="4422"/>
                </a:cubicBezTo>
                <a:cubicBezTo>
                  <a:pt x="9481" y="3532"/>
                  <a:pt x="10983" y="3364"/>
                  <a:pt x="12203" y="3028"/>
                </a:cubicBezTo>
                <a:cubicBezTo>
                  <a:pt x="12372" y="2985"/>
                  <a:pt x="12551" y="2934"/>
                  <a:pt x="12701" y="287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46440" y="5610240"/>
            <a:ext cx="1006560" cy="236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28" y="21600"/>
                </a:moveTo>
                <a:cubicBezTo>
                  <a:pt x="13628" y="21600"/>
                  <a:pt x="0" y="21600"/>
                  <a:pt x="0" y="21600"/>
                </a:cubicBezTo>
                <a:cubicBezTo>
                  <a:pt x="386" y="20282"/>
                  <a:pt x="753" y="18965"/>
                  <a:pt x="1197" y="17639"/>
                </a:cubicBezTo>
                <a:cubicBezTo>
                  <a:pt x="1506" y="16667"/>
                  <a:pt x="1853" y="15687"/>
                  <a:pt x="2239" y="14740"/>
                </a:cubicBezTo>
                <a:cubicBezTo>
                  <a:pt x="2838" y="12978"/>
                  <a:pt x="3455" y="11224"/>
                  <a:pt x="4227" y="9470"/>
                </a:cubicBezTo>
                <a:cubicBezTo>
                  <a:pt x="5405" y="6720"/>
                  <a:pt x="7046" y="3994"/>
                  <a:pt x="8300" y="1243"/>
                </a:cubicBezTo>
                <a:cubicBezTo>
                  <a:pt x="8397" y="1038"/>
                  <a:pt x="8455" y="823"/>
                  <a:pt x="8706" y="651"/>
                </a:cubicBezTo>
                <a:cubicBezTo>
                  <a:pt x="10153" y="436"/>
                  <a:pt x="11524" y="0"/>
                  <a:pt x="12991" y="140"/>
                </a:cubicBezTo>
                <a:cubicBezTo>
                  <a:pt x="15751" y="395"/>
                  <a:pt x="17952" y="1482"/>
                  <a:pt x="19419" y="2520"/>
                </a:cubicBezTo>
                <a:cubicBezTo>
                  <a:pt x="20944" y="3599"/>
                  <a:pt x="21291" y="4949"/>
                  <a:pt x="21407" y="6217"/>
                </a:cubicBezTo>
                <a:cubicBezTo>
                  <a:pt x="21600" y="8391"/>
                  <a:pt x="20191" y="10541"/>
                  <a:pt x="19168" y="12665"/>
                </a:cubicBezTo>
                <a:cubicBezTo>
                  <a:pt x="17701" y="15687"/>
                  <a:pt x="15577" y="18627"/>
                  <a:pt x="13628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4760" y="4878360"/>
            <a:ext cx="593640" cy="76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6" y="12028"/>
                </a:moveTo>
                <a:cubicBezTo>
                  <a:pt x="623" y="11674"/>
                  <a:pt x="983" y="11015"/>
                  <a:pt x="1278" y="10408"/>
                </a:cubicBezTo>
                <a:cubicBezTo>
                  <a:pt x="1868" y="9420"/>
                  <a:pt x="3114" y="7268"/>
                  <a:pt x="3114" y="7268"/>
                </a:cubicBezTo>
                <a:cubicBezTo>
                  <a:pt x="3114" y="7268"/>
                  <a:pt x="6523" y="0"/>
                  <a:pt x="6523" y="0"/>
                </a:cubicBezTo>
                <a:cubicBezTo>
                  <a:pt x="6523" y="0"/>
                  <a:pt x="11210" y="2608"/>
                  <a:pt x="13570" y="3849"/>
                </a:cubicBezTo>
                <a:cubicBezTo>
                  <a:pt x="15372" y="4735"/>
                  <a:pt x="17175" y="5698"/>
                  <a:pt x="19043" y="6660"/>
                </a:cubicBezTo>
                <a:cubicBezTo>
                  <a:pt x="19732" y="7040"/>
                  <a:pt x="20551" y="7495"/>
                  <a:pt x="20781" y="8103"/>
                </a:cubicBezTo>
                <a:cubicBezTo>
                  <a:pt x="21600" y="10661"/>
                  <a:pt x="19175" y="15953"/>
                  <a:pt x="19175" y="15953"/>
                </a:cubicBezTo>
                <a:cubicBezTo>
                  <a:pt x="19175" y="15953"/>
                  <a:pt x="17831" y="19296"/>
                  <a:pt x="17536" y="21600"/>
                </a:cubicBezTo>
                <a:cubicBezTo>
                  <a:pt x="14946" y="20967"/>
                  <a:pt x="11898" y="20283"/>
                  <a:pt x="10095" y="19397"/>
                </a:cubicBezTo>
                <a:cubicBezTo>
                  <a:pt x="5834" y="17346"/>
                  <a:pt x="3671" y="14763"/>
                  <a:pt x="0" y="12129"/>
                </a:cubicBezTo>
                <a:cubicBezTo>
                  <a:pt x="0" y="12129"/>
                  <a:pt x="66" y="12028"/>
                  <a:pt x="66" y="120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659560"/>
            <a:ext cx="502920" cy="11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91"/>
                </a:moveTo>
                <a:cubicBezTo>
                  <a:pt x="21600" y="891"/>
                  <a:pt x="21600" y="11797"/>
                  <a:pt x="21600" y="11797"/>
                </a:cubicBezTo>
                <a:cubicBezTo>
                  <a:pt x="18939" y="13093"/>
                  <a:pt x="16161" y="14357"/>
                  <a:pt x="14001" y="15572"/>
                </a:cubicBezTo>
                <a:cubicBezTo>
                  <a:pt x="9874" y="17922"/>
                  <a:pt x="0" y="21600"/>
                  <a:pt x="0" y="21600"/>
                </a:cubicBezTo>
                <a:cubicBezTo>
                  <a:pt x="0" y="21600"/>
                  <a:pt x="9141" y="8783"/>
                  <a:pt x="9141" y="8783"/>
                </a:cubicBezTo>
                <a:cubicBezTo>
                  <a:pt x="9141" y="8783"/>
                  <a:pt x="11726" y="5574"/>
                  <a:pt x="13037" y="4002"/>
                </a:cubicBezTo>
                <a:cubicBezTo>
                  <a:pt x="14156" y="2706"/>
                  <a:pt x="15467" y="1394"/>
                  <a:pt x="15506" y="0"/>
                </a:cubicBezTo>
                <a:cubicBezTo>
                  <a:pt x="17396" y="340"/>
                  <a:pt x="19517" y="632"/>
                  <a:pt x="21600" y="89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78600" y="4630680"/>
            <a:ext cx="942840" cy="77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4" y="12175"/>
                </a:moveTo>
                <a:cubicBezTo>
                  <a:pt x="1979" y="12575"/>
                  <a:pt x="2473" y="13000"/>
                  <a:pt x="2989" y="13425"/>
                </a:cubicBezTo>
                <a:cubicBezTo>
                  <a:pt x="3421" y="13800"/>
                  <a:pt x="3937" y="14250"/>
                  <a:pt x="4081" y="14850"/>
                </a:cubicBezTo>
                <a:cubicBezTo>
                  <a:pt x="4225" y="15550"/>
                  <a:pt x="4205" y="16450"/>
                  <a:pt x="4122" y="17400"/>
                </a:cubicBezTo>
                <a:cubicBezTo>
                  <a:pt x="4493" y="17900"/>
                  <a:pt x="4844" y="18375"/>
                  <a:pt x="5256" y="18825"/>
                </a:cubicBezTo>
                <a:cubicBezTo>
                  <a:pt x="6678" y="20450"/>
                  <a:pt x="8389" y="21600"/>
                  <a:pt x="10182" y="21525"/>
                </a:cubicBezTo>
                <a:cubicBezTo>
                  <a:pt x="12243" y="21475"/>
                  <a:pt x="14221" y="20075"/>
                  <a:pt x="16138" y="18175"/>
                </a:cubicBezTo>
                <a:cubicBezTo>
                  <a:pt x="16963" y="17350"/>
                  <a:pt x="17725" y="16450"/>
                  <a:pt x="18426" y="15500"/>
                </a:cubicBezTo>
                <a:cubicBezTo>
                  <a:pt x="19498" y="14025"/>
                  <a:pt x="20446" y="12325"/>
                  <a:pt x="21023" y="10675"/>
                </a:cubicBezTo>
                <a:cubicBezTo>
                  <a:pt x="21229" y="10050"/>
                  <a:pt x="21415" y="9350"/>
                  <a:pt x="21579" y="8700"/>
                </a:cubicBezTo>
                <a:cubicBezTo>
                  <a:pt x="21579" y="7825"/>
                  <a:pt x="21600" y="6950"/>
                  <a:pt x="21600" y="6075"/>
                </a:cubicBezTo>
                <a:cubicBezTo>
                  <a:pt x="21600" y="5225"/>
                  <a:pt x="21600" y="4375"/>
                  <a:pt x="21600" y="3525"/>
                </a:cubicBezTo>
                <a:cubicBezTo>
                  <a:pt x="20940" y="3875"/>
                  <a:pt x="20343" y="4100"/>
                  <a:pt x="19827" y="4250"/>
                </a:cubicBezTo>
                <a:cubicBezTo>
                  <a:pt x="17127" y="4950"/>
                  <a:pt x="14345" y="4825"/>
                  <a:pt x="11501" y="4475"/>
                </a:cubicBezTo>
                <a:cubicBezTo>
                  <a:pt x="9027" y="4125"/>
                  <a:pt x="6595" y="3325"/>
                  <a:pt x="4266" y="2350"/>
                </a:cubicBezTo>
                <a:cubicBezTo>
                  <a:pt x="2762" y="1675"/>
                  <a:pt x="1319" y="975"/>
                  <a:pt x="41" y="0"/>
                </a:cubicBezTo>
                <a:cubicBezTo>
                  <a:pt x="0" y="2250"/>
                  <a:pt x="0" y="5200"/>
                  <a:pt x="247" y="7025"/>
                </a:cubicBezTo>
                <a:cubicBezTo>
                  <a:pt x="474" y="8825"/>
                  <a:pt x="907" y="10550"/>
                  <a:pt x="1484" y="1217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8200" y="5616720"/>
            <a:ext cx="601560" cy="235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19"/>
                </a:moveTo>
                <a:cubicBezTo>
                  <a:pt x="2680" y="314"/>
                  <a:pt x="5650" y="0"/>
                  <a:pt x="7200" y="91"/>
                </a:cubicBezTo>
                <a:cubicBezTo>
                  <a:pt x="11817" y="347"/>
                  <a:pt x="15498" y="1436"/>
                  <a:pt x="17952" y="2475"/>
                </a:cubicBezTo>
                <a:cubicBezTo>
                  <a:pt x="20502" y="3556"/>
                  <a:pt x="21083" y="4909"/>
                  <a:pt x="21277" y="6180"/>
                </a:cubicBezTo>
                <a:cubicBezTo>
                  <a:pt x="21600" y="8358"/>
                  <a:pt x="19243" y="10511"/>
                  <a:pt x="17532" y="12640"/>
                </a:cubicBezTo>
                <a:cubicBezTo>
                  <a:pt x="15078" y="15668"/>
                  <a:pt x="11559" y="18622"/>
                  <a:pt x="8298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2960" y="5308560"/>
            <a:ext cx="484200" cy="33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505" y="6023"/>
                  <a:pt x="7240" y="11929"/>
                  <a:pt x="12469" y="16620"/>
                </a:cubicBezTo>
                <a:cubicBezTo>
                  <a:pt x="14682" y="18589"/>
                  <a:pt x="18422" y="2021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77080" y="5589720"/>
            <a:ext cx="14256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36" y="8308"/>
                  <a:pt x="7064" y="1412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18160" y="6861240"/>
            <a:ext cx="11160" cy="11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7200"/>
                  <a:pt x="16200" y="144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16720" y="6315120"/>
            <a:ext cx="502920" cy="54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939" y="2851"/>
                  <a:pt x="16161" y="5632"/>
                  <a:pt x="14001" y="8305"/>
                </a:cubicBezTo>
                <a:cubicBezTo>
                  <a:pt x="10029" y="13259"/>
                  <a:pt x="4744" y="17145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6040" y="5662440"/>
            <a:ext cx="762120" cy="11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629" y="0"/>
                </a:moveTo>
                <a:cubicBezTo>
                  <a:pt x="8186" y="1024"/>
                  <a:pt x="3035" y="1186"/>
                  <a:pt x="2015" y="3446"/>
                </a:cubicBezTo>
                <a:cubicBezTo>
                  <a:pt x="0" y="7899"/>
                  <a:pt x="8161" y="11930"/>
                  <a:pt x="12496" y="15651"/>
                </a:cubicBezTo>
                <a:cubicBezTo>
                  <a:pt x="15072" y="17878"/>
                  <a:pt x="18514" y="1960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9000" y="3236760"/>
            <a:ext cx="1252440" cy="15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04"/>
                </a:moveTo>
                <a:cubicBezTo>
                  <a:pt x="20809" y="1050"/>
                  <a:pt x="19955" y="1409"/>
                  <a:pt x="19303" y="1594"/>
                </a:cubicBezTo>
                <a:cubicBezTo>
                  <a:pt x="18884" y="1730"/>
                  <a:pt x="18372" y="1742"/>
                  <a:pt x="17891" y="1730"/>
                </a:cubicBezTo>
                <a:cubicBezTo>
                  <a:pt x="17286" y="1681"/>
                  <a:pt x="16603" y="1545"/>
                  <a:pt x="15998" y="1409"/>
                </a:cubicBezTo>
                <a:cubicBezTo>
                  <a:pt x="14524" y="1075"/>
                  <a:pt x="13081" y="704"/>
                  <a:pt x="11638" y="371"/>
                </a:cubicBezTo>
                <a:cubicBezTo>
                  <a:pt x="10955" y="210"/>
                  <a:pt x="10226" y="0"/>
                  <a:pt x="9574" y="185"/>
                </a:cubicBezTo>
                <a:cubicBezTo>
                  <a:pt x="9047" y="309"/>
                  <a:pt x="8690" y="704"/>
                  <a:pt x="8488" y="1124"/>
                </a:cubicBezTo>
                <a:cubicBezTo>
                  <a:pt x="8022" y="2162"/>
                  <a:pt x="7790" y="3324"/>
                  <a:pt x="7603" y="4436"/>
                </a:cubicBezTo>
                <a:cubicBezTo>
                  <a:pt x="7433" y="5351"/>
                  <a:pt x="7371" y="6351"/>
                  <a:pt x="7107" y="7266"/>
                </a:cubicBezTo>
                <a:cubicBezTo>
                  <a:pt x="6828" y="8143"/>
                  <a:pt x="6378" y="9008"/>
                  <a:pt x="6036" y="9923"/>
                </a:cubicBezTo>
                <a:cubicBezTo>
                  <a:pt x="5928" y="10133"/>
                  <a:pt x="5834" y="10368"/>
                  <a:pt x="5586" y="10429"/>
                </a:cubicBezTo>
                <a:cubicBezTo>
                  <a:pt x="4950" y="10553"/>
                  <a:pt x="4128" y="10528"/>
                  <a:pt x="3336" y="10491"/>
                </a:cubicBezTo>
                <a:cubicBezTo>
                  <a:pt x="2747" y="10466"/>
                  <a:pt x="2095" y="10466"/>
                  <a:pt x="1474" y="10442"/>
                </a:cubicBezTo>
                <a:cubicBezTo>
                  <a:pt x="1040" y="10429"/>
                  <a:pt x="621" y="10368"/>
                  <a:pt x="388" y="10578"/>
                </a:cubicBezTo>
                <a:cubicBezTo>
                  <a:pt x="31" y="10886"/>
                  <a:pt x="0" y="11430"/>
                  <a:pt x="62" y="11949"/>
                </a:cubicBezTo>
                <a:cubicBezTo>
                  <a:pt x="264" y="13444"/>
                  <a:pt x="807" y="14878"/>
                  <a:pt x="1567" y="16027"/>
                </a:cubicBezTo>
                <a:cubicBezTo>
                  <a:pt x="2188" y="16991"/>
                  <a:pt x="3336" y="18066"/>
                  <a:pt x="4748" y="18832"/>
                </a:cubicBezTo>
                <a:cubicBezTo>
                  <a:pt x="5866" y="19487"/>
                  <a:pt x="7169" y="19907"/>
                  <a:pt x="8550" y="20315"/>
                </a:cubicBezTo>
                <a:cubicBezTo>
                  <a:pt x="10303" y="20797"/>
                  <a:pt x="12134" y="21192"/>
                  <a:pt x="13997" y="21365"/>
                </a:cubicBezTo>
                <a:cubicBezTo>
                  <a:pt x="16138" y="21538"/>
                  <a:pt x="18233" y="21600"/>
                  <a:pt x="20266" y="21254"/>
                </a:cubicBezTo>
                <a:cubicBezTo>
                  <a:pt x="20653" y="21180"/>
                  <a:pt x="21103" y="21069"/>
                  <a:pt x="21600" y="20896"/>
                </a:cubicBezTo>
                <a:cubicBezTo>
                  <a:pt x="21600" y="20896"/>
                  <a:pt x="21600" y="704"/>
                  <a:pt x="21600" y="7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67160" y="3236760"/>
            <a:ext cx="854280" cy="8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51"/>
                </a:moveTo>
                <a:cubicBezTo>
                  <a:pt x="20439" y="1866"/>
                  <a:pt x="19187" y="2502"/>
                  <a:pt x="18231" y="2832"/>
                </a:cubicBezTo>
                <a:cubicBezTo>
                  <a:pt x="17617" y="3073"/>
                  <a:pt x="16866" y="3095"/>
                  <a:pt x="16160" y="3073"/>
                </a:cubicBezTo>
                <a:cubicBezTo>
                  <a:pt x="15272" y="2985"/>
                  <a:pt x="14271" y="2744"/>
                  <a:pt x="13383" y="2502"/>
                </a:cubicBezTo>
                <a:cubicBezTo>
                  <a:pt x="11221" y="1910"/>
                  <a:pt x="9104" y="1251"/>
                  <a:pt x="6988" y="659"/>
                </a:cubicBezTo>
                <a:cubicBezTo>
                  <a:pt x="5986" y="373"/>
                  <a:pt x="4916" y="0"/>
                  <a:pt x="3960" y="329"/>
                </a:cubicBezTo>
                <a:cubicBezTo>
                  <a:pt x="3187" y="549"/>
                  <a:pt x="2663" y="1251"/>
                  <a:pt x="2367" y="1998"/>
                </a:cubicBezTo>
                <a:cubicBezTo>
                  <a:pt x="1684" y="3841"/>
                  <a:pt x="1343" y="5905"/>
                  <a:pt x="1070" y="7880"/>
                </a:cubicBezTo>
                <a:cubicBezTo>
                  <a:pt x="819" y="9505"/>
                  <a:pt x="728" y="11283"/>
                  <a:pt x="341" y="12907"/>
                </a:cubicBezTo>
                <a:cubicBezTo>
                  <a:pt x="250" y="13302"/>
                  <a:pt x="137" y="13676"/>
                  <a:pt x="0" y="14071"/>
                </a:cubicBezTo>
                <a:cubicBezTo>
                  <a:pt x="615" y="14817"/>
                  <a:pt x="1252" y="15673"/>
                  <a:pt x="2094" y="16332"/>
                </a:cubicBezTo>
                <a:cubicBezTo>
                  <a:pt x="4074" y="17890"/>
                  <a:pt x="6282" y="19273"/>
                  <a:pt x="8672" y="20195"/>
                </a:cubicBezTo>
                <a:cubicBezTo>
                  <a:pt x="10288" y="20810"/>
                  <a:pt x="12086" y="21095"/>
                  <a:pt x="13839" y="21293"/>
                </a:cubicBezTo>
                <a:cubicBezTo>
                  <a:pt x="16661" y="21600"/>
                  <a:pt x="19552" y="21315"/>
                  <a:pt x="20644" y="20898"/>
                </a:cubicBezTo>
                <a:cubicBezTo>
                  <a:pt x="20781" y="20854"/>
                  <a:pt x="21190" y="20722"/>
                  <a:pt x="21577" y="20590"/>
                </a:cubicBezTo>
                <a:cubicBezTo>
                  <a:pt x="21577" y="20590"/>
                  <a:pt x="21600" y="1251"/>
                  <a:pt x="21600" y="12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9000" y="3990960"/>
            <a:ext cx="1252440" cy="81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76" y="214"/>
                </a:moveTo>
                <a:cubicBezTo>
                  <a:pt x="4702" y="356"/>
                  <a:pt x="4003" y="309"/>
                  <a:pt x="3336" y="238"/>
                </a:cubicBezTo>
                <a:cubicBezTo>
                  <a:pt x="2747" y="190"/>
                  <a:pt x="2095" y="190"/>
                  <a:pt x="1474" y="143"/>
                </a:cubicBezTo>
                <a:cubicBezTo>
                  <a:pt x="1040" y="119"/>
                  <a:pt x="621" y="0"/>
                  <a:pt x="388" y="404"/>
                </a:cubicBezTo>
                <a:cubicBezTo>
                  <a:pt x="31" y="998"/>
                  <a:pt x="0" y="2044"/>
                  <a:pt x="62" y="3042"/>
                </a:cubicBezTo>
                <a:cubicBezTo>
                  <a:pt x="264" y="5917"/>
                  <a:pt x="807" y="8673"/>
                  <a:pt x="1567" y="10883"/>
                </a:cubicBezTo>
                <a:cubicBezTo>
                  <a:pt x="2188" y="12737"/>
                  <a:pt x="3336" y="14804"/>
                  <a:pt x="4748" y="16277"/>
                </a:cubicBezTo>
                <a:cubicBezTo>
                  <a:pt x="5866" y="17537"/>
                  <a:pt x="7169" y="18345"/>
                  <a:pt x="8550" y="19129"/>
                </a:cubicBezTo>
                <a:cubicBezTo>
                  <a:pt x="10303" y="20055"/>
                  <a:pt x="12134" y="20816"/>
                  <a:pt x="13997" y="21149"/>
                </a:cubicBezTo>
                <a:cubicBezTo>
                  <a:pt x="16138" y="21481"/>
                  <a:pt x="18233" y="21600"/>
                  <a:pt x="20266" y="20935"/>
                </a:cubicBezTo>
                <a:cubicBezTo>
                  <a:pt x="20653" y="20792"/>
                  <a:pt x="21103" y="20578"/>
                  <a:pt x="21600" y="20246"/>
                </a:cubicBezTo>
                <a:cubicBezTo>
                  <a:pt x="21600" y="20246"/>
                  <a:pt x="21584" y="10455"/>
                  <a:pt x="21584" y="10455"/>
                </a:cubicBezTo>
                <a:cubicBezTo>
                  <a:pt x="21336" y="10622"/>
                  <a:pt x="21057" y="10836"/>
                  <a:pt x="20917" y="10883"/>
                </a:cubicBezTo>
                <a:cubicBezTo>
                  <a:pt x="19940" y="11406"/>
                  <a:pt x="18574" y="11691"/>
                  <a:pt x="17224" y="11572"/>
                </a:cubicBezTo>
                <a:cubicBezTo>
                  <a:pt x="15921" y="11453"/>
                  <a:pt x="14617" y="11240"/>
                  <a:pt x="13360" y="10693"/>
                </a:cubicBezTo>
                <a:cubicBezTo>
                  <a:pt x="12134" y="10147"/>
                  <a:pt x="10971" y="9291"/>
                  <a:pt x="9869" y="8293"/>
                </a:cubicBezTo>
                <a:cubicBezTo>
                  <a:pt x="8814" y="7343"/>
                  <a:pt x="7898" y="6059"/>
                  <a:pt x="7107" y="4729"/>
                </a:cubicBezTo>
                <a:cubicBezTo>
                  <a:pt x="6362" y="3446"/>
                  <a:pt x="5276" y="214"/>
                  <a:pt x="5276" y="21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9000" y="3236760"/>
            <a:ext cx="1252440" cy="15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04"/>
                </a:moveTo>
                <a:cubicBezTo>
                  <a:pt x="20809" y="1050"/>
                  <a:pt x="19955" y="1409"/>
                  <a:pt x="19303" y="1594"/>
                </a:cubicBezTo>
                <a:cubicBezTo>
                  <a:pt x="18884" y="1730"/>
                  <a:pt x="18372" y="1742"/>
                  <a:pt x="17891" y="1730"/>
                </a:cubicBezTo>
                <a:cubicBezTo>
                  <a:pt x="17286" y="1681"/>
                  <a:pt x="16603" y="1545"/>
                  <a:pt x="15998" y="1409"/>
                </a:cubicBezTo>
                <a:cubicBezTo>
                  <a:pt x="14524" y="1075"/>
                  <a:pt x="13081" y="704"/>
                  <a:pt x="11638" y="371"/>
                </a:cubicBezTo>
                <a:cubicBezTo>
                  <a:pt x="10955" y="210"/>
                  <a:pt x="10226" y="0"/>
                  <a:pt x="9574" y="185"/>
                </a:cubicBezTo>
                <a:cubicBezTo>
                  <a:pt x="9047" y="309"/>
                  <a:pt x="8690" y="704"/>
                  <a:pt x="8488" y="1124"/>
                </a:cubicBezTo>
                <a:cubicBezTo>
                  <a:pt x="8022" y="2162"/>
                  <a:pt x="7790" y="3324"/>
                  <a:pt x="7603" y="4436"/>
                </a:cubicBezTo>
                <a:cubicBezTo>
                  <a:pt x="7433" y="5351"/>
                  <a:pt x="7371" y="6351"/>
                  <a:pt x="7107" y="7266"/>
                </a:cubicBezTo>
                <a:cubicBezTo>
                  <a:pt x="6828" y="8143"/>
                  <a:pt x="6378" y="9008"/>
                  <a:pt x="6036" y="9923"/>
                </a:cubicBezTo>
                <a:cubicBezTo>
                  <a:pt x="5928" y="10133"/>
                  <a:pt x="5834" y="10368"/>
                  <a:pt x="5586" y="10429"/>
                </a:cubicBezTo>
                <a:cubicBezTo>
                  <a:pt x="4950" y="10553"/>
                  <a:pt x="4128" y="10528"/>
                  <a:pt x="3336" y="10491"/>
                </a:cubicBezTo>
                <a:cubicBezTo>
                  <a:pt x="2747" y="10466"/>
                  <a:pt x="2095" y="10466"/>
                  <a:pt x="1474" y="10442"/>
                </a:cubicBezTo>
                <a:cubicBezTo>
                  <a:pt x="1040" y="10429"/>
                  <a:pt x="621" y="10368"/>
                  <a:pt x="388" y="10578"/>
                </a:cubicBezTo>
                <a:cubicBezTo>
                  <a:pt x="31" y="10886"/>
                  <a:pt x="0" y="11430"/>
                  <a:pt x="62" y="11949"/>
                </a:cubicBezTo>
                <a:cubicBezTo>
                  <a:pt x="264" y="13444"/>
                  <a:pt x="807" y="14878"/>
                  <a:pt x="1567" y="16027"/>
                </a:cubicBezTo>
                <a:cubicBezTo>
                  <a:pt x="2188" y="16991"/>
                  <a:pt x="3336" y="18066"/>
                  <a:pt x="4748" y="18832"/>
                </a:cubicBezTo>
                <a:cubicBezTo>
                  <a:pt x="5866" y="19487"/>
                  <a:pt x="7169" y="19907"/>
                  <a:pt x="8550" y="20315"/>
                </a:cubicBezTo>
                <a:cubicBezTo>
                  <a:pt x="10303" y="20797"/>
                  <a:pt x="12134" y="21192"/>
                  <a:pt x="13997" y="21365"/>
                </a:cubicBezTo>
                <a:cubicBezTo>
                  <a:pt x="16138" y="21538"/>
                  <a:pt x="18233" y="21600"/>
                  <a:pt x="20266" y="21254"/>
                </a:cubicBezTo>
                <a:cubicBezTo>
                  <a:pt x="20653" y="21180"/>
                  <a:pt x="21103" y="21069"/>
                  <a:pt x="21600" y="20896"/>
                </a:cubicBezTo>
                <a:cubicBezTo>
                  <a:pt x="21600" y="20896"/>
                  <a:pt x="21600" y="704"/>
                  <a:pt x="21600" y="704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3813120"/>
            <a:ext cx="94752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9972"/>
                </a:moveTo>
                <a:cubicBezTo>
                  <a:pt x="21272" y="20191"/>
                  <a:pt x="20903" y="20473"/>
                  <a:pt x="20718" y="20536"/>
                </a:cubicBezTo>
                <a:cubicBezTo>
                  <a:pt x="19426" y="21224"/>
                  <a:pt x="17621" y="21600"/>
                  <a:pt x="15836" y="21443"/>
                </a:cubicBezTo>
                <a:cubicBezTo>
                  <a:pt x="14113" y="21287"/>
                  <a:pt x="12390" y="21005"/>
                  <a:pt x="10728" y="20285"/>
                </a:cubicBezTo>
                <a:cubicBezTo>
                  <a:pt x="9108" y="19565"/>
                  <a:pt x="7569" y="18438"/>
                  <a:pt x="6113" y="17123"/>
                </a:cubicBezTo>
                <a:cubicBezTo>
                  <a:pt x="4718" y="15871"/>
                  <a:pt x="3508" y="14181"/>
                  <a:pt x="2462" y="12428"/>
                </a:cubicBezTo>
                <a:cubicBezTo>
                  <a:pt x="1477" y="10737"/>
                  <a:pt x="0" y="6386"/>
                  <a:pt x="0" y="6386"/>
                </a:cubicBezTo>
                <a:cubicBezTo>
                  <a:pt x="144" y="6355"/>
                  <a:pt x="328" y="6417"/>
                  <a:pt x="451" y="6355"/>
                </a:cubicBezTo>
                <a:cubicBezTo>
                  <a:pt x="779" y="6198"/>
                  <a:pt x="903" y="5603"/>
                  <a:pt x="1046" y="5071"/>
                </a:cubicBezTo>
                <a:cubicBezTo>
                  <a:pt x="1395" y="3318"/>
                  <a:pt x="1805" y="1659"/>
                  <a:pt x="2154" y="0"/>
                </a:cubicBezTo>
                <a:cubicBezTo>
                  <a:pt x="2708" y="1064"/>
                  <a:pt x="3282" y="2285"/>
                  <a:pt x="4041" y="3224"/>
                </a:cubicBezTo>
                <a:cubicBezTo>
                  <a:pt x="5826" y="5447"/>
                  <a:pt x="7815" y="7419"/>
                  <a:pt x="9969" y="8734"/>
                </a:cubicBezTo>
                <a:cubicBezTo>
                  <a:pt x="11426" y="9610"/>
                  <a:pt x="13046" y="10017"/>
                  <a:pt x="14626" y="10299"/>
                </a:cubicBezTo>
                <a:cubicBezTo>
                  <a:pt x="17169" y="10737"/>
                  <a:pt x="19774" y="10330"/>
                  <a:pt x="20759" y="9736"/>
                </a:cubicBezTo>
                <a:cubicBezTo>
                  <a:pt x="20882" y="9673"/>
                  <a:pt x="21251" y="9485"/>
                  <a:pt x="21600" y="9297"/>
                </a:cubicBezTo>
                <a:cubicBezTo>
                  <a:pt x="21600" y="9297"/>
                  <a:pt x="21600" y="19972"/>
                  <a:pt x="21600" y="19972"/>
                </a:cubicBezTo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72120" y="3813120"/>
            <a:ext cx="94752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9972"/>
                </a:moveTo>
                <a:cubicBezTo>
                  <a:pt x="21272" y="20191"/>
                  <a:pt x="20903" y="20473"/>
                  <a:pt x="20718" y="20536"/>
                </a:cubicBezTo>
                <a:cubicBezTo>
                  <a:pt x="19426" y="21224"/>
                  <a:pt x="17621" y="21600"/>
                  <a:pt x="15836" y="21443"/>
                </a:cubicBezTo>
                <a:cubicBezTo>
                  <a:pt x="14113" y="21287"/>
                  <a:pt x="12390" y="21005"/>
                  <a:pt x="10728" y="20285"/>
                </a:cubicBezTo>
                <a:cubicBezTo>
                  <a:pt x="9108" y="19565"/>
                  <a:pt x="7569" y="18438"/>
                  <a:pt x="6113" y="17123"/>
                </a:cubicBezTo>
                <a:cubicBezTo>
                  <a:pt x="4718" y="15871"/>
                  <a:pt x="3508" y="14181"/>
                  <a:pt x="2462" y="12428"/>
                </a:cubicBezTo>
                <a:cubicBezTo>
                  <a:pt x="1477" y="10737"/>
                  <a:pt x="0" y="6386"/>
                  <a:pt x="0" y="6386"/>
                </a:cubicBezTo>
                <a:cubicBezTo>
                  <a:pt x="144" y="6355"/>
                  <a:pt x="328" y="6417"/>
                  <a:pt x="451" y="6355"/>
                </a:cubicBezTo>
                <a:cubicBezTo>
                  <a:pt x="779" y="6198"/>
                  <a:pt x="903" y="5603"/>
                  <a:pt x="1046" y="5071"/>
                </a:cubicBezTo>
                <a:cubicBezTo>
                  <a:pt x="1395" y="3318"/>
                  <a:pt x="1805" y="1659"/>
                  <a:pt x="2154" y="0"/>
                </a:cubicBezTo>
                <a:cubicBezTo>
                  <a:pt x="2708" y="1064"/>
                  <a:pt x="3282" y="2285"/>
                  <a:pt x="4041" y="3224"/>
                </a:cubicBezTo>
                <a:cubicBezTo>
                  <a:pt x="5826" y="5447"/>
                  <a:pt x="7815" y="7419"/>
                  <a:pt x="9969" y="8734"/>
                </a:cubicBezTo>
                <a:cubicBezTo>
                  <a:pt x="11426" y="9610"/>
                  <a:pt x="13046" y="10017"/>
                  <a:pt x="14626" y="10299"/>
                </a:cubicBezTo>
                <a:cubicBezTo>
                  <a:pt x="17169" y="10737"/>
                  <a:pt x="19774" y="10330"/>
                  <a:pt x="20759" y="9736"/>
                </a:cubicBezTo>
                <a:cubicBezTo>
                  <a:pt x="20882" y="9673"/>
                  <a:pt x="21251" y="9485"/>
                  <a:pt x="21600" y="9297"/>
                </a:cubicBezTo>
                <a:cubicBezTo>
                  <a:pt x="21600" y="9297"/>
                  <a:pt x="21600" y="19972"/>
                  <a:pt x="21600" y="19972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1281240"/>
            <a:ext cx="5398920" cy="668952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19560" y="4253040"/>
            <a:ext cx="11476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08" y="21413"/>
                  <a:pt x="983" y="21246"/>
                  <a:pt x="1355" y="21121"/>
                </a:cubicBezTo>
                <a:cubicBezTo>
                  <a:pt x="2829" y="20663"/>
                  <a:pt x="5811" y="19580"/>
                  <a:pt x="5811" y="19580"/>
                </a:cubicBezTo>
                <a:cubicBezTo>
                  <a:pt x="5811" y="19580"/>
                  <a:pt x="4117" y="13247"/>
                  <a:pt x="3439" y="10040"/>
                </a:cubicBezTo>
                <a:cubicBezTo>
                  <a:pt x="2982" y="7853"/>
                  <a:pt x="2185" y="3208"/>
                  <a:pt x="2185" y="3208"/>
                </a:cubicBezTo>
                <a:cubicBezTo>
                  <a:pt x="2185" y="3208"/>
                  <a:pt x="4117" y="2666"/>
                  <a:pt x="5082" y="2395"/>
                </a:cubicBezTo>
                <a:cubicBezTo>
                  <a:pt x="6031" y="2187"/>
                  <a:pt x="7979" y="1333"/>
                  <a:pt x="7979" y="1333"/>
                </a:cubicBezTo>
                <a:cubicBezTo>
                  <a:pt x="7979" y="1333"/>
                  <a:pt x="8132" y="3041"/>
                  <a:pt x="8267" y="3895"/>
                </a:cubicBezTo>
                <a:cubicBezTo>
                  <a:pt x="8386" y="4541"/>
                  <a:pt x="8826" y="5978"/>
                  <a:pt x="8826" y="5978"/>
                </a:cubicBezTo>
                <a:cubicBezTo>
                  <a:pt x="8826" y="5978"/>
                  <a:pt x="10351" y="5395"/>
                  <a:pt x="11063" y="5124"/>
                </a:cubicBezTo>
                <a:cubicBezTo>
                  <a:pt x="11622" y="4937"/>
                  <a:pt x="12858" y="4582"/>
                  <a:pt x="12858" y="4582"/>
                </a:cubicBezTo>
                <a:cubicBezTo>
                  <a:pt x="12858" y="4582"/>
                  <a:pt x="13146" y="6311"/>
                  <a:pt x="13282" y="7165"/>
                </a:cubicBezTo>
                <a:cubicBezTo>
                  <a:pt x="13519" y="8415"/>
                  <a:pt x="14095" y="11060"/>
                  <a:pt x="14095" y="11060"/>
                </a:cubicBezTo>
                <a:cubicBezTo>
                  <a:pt x="14095" y="11060"/>
                  <a:pt x="15603" y="10227"/>
                  <a:pt x="16314" y="9852"/>
                </a:cubicBezTo>
                <a:cubicBezTo>
                  <a:pt x="16823" y="9602"/>
                  <a:pt x="17771" y="9123"/>
                  <a:pt x="17771" y="9123"/>
                </a:cubicBezTo>
                <a:cubicBezTo>
                  <a:pt x="17771" y="9123"/>
                  <a:pt x="17382" y="6832"/>
                  <a:pt x="17195" y="5645"/>
                </a:cubicBezTo>
                <a:cubicBezTo>
                  <a:pt x="16975" y="4457"/>
                  <a:pt x="16535" y="1937"/>
                  <a:pt x="16535" y="1937"/>
                </a:cubicBezTo>
                <a:cubicBezTo>
                  <a:pt x="16535" y="1937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5083200"/>
            <a:ext cx="193680" cy="55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9706"/>
                  <a:pt x="21600" y="19706"/>
                </a:cubicBezTo>
                <a:cubicBezTo>
                  <a:pt x="16400" y="20408"/>
                  <a:pt x="11000" y="20969"/>
                  <a:pt x="5800" y="21600"/>
                </a:cubicBezTo>
                <a:cubicBezTo>
                  <a:pt x="5200" y="19040"/>
                  <a:pt x="3400" y="15148"/>
                  <a:pt x="3400" y="15148"/>
                </a:cubicBezTo>
                <a:cubicBezTo>
                  <a:pt x="3400" y="15148"/>
                  <a:pt x="1700" y="11606"/>
                  <a:pt x="1000" y="9888"/>
                </a:cubicBezTo>
                <a:cubicBezTo>
                  <a:pt x="400" y="8521"/>
                  <a:pt x="0" y="7083"/>
                  <a:pt x="800" y="5891"/>
                </a:cubicBezTo>
                <a:cubicBezTo>
                  <a:pt x="1700" y="4839"/>
                  <a:pt x="5300" y="4348"/>
                  <a:pt x="9200" y="3471"/>
                </a:cubicBezTo>
                <a:cubicBezTo>
                  <a:pt x="13000" y="2665"/>
                  <a:pt x="17600" y="1332"/>
                  <a:pt x="2160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3200" y="4878360"/>
            <a:ext cx="2476440" cy="309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33"/>
                </a:moveTo>
                <a:cubicBezTo>
                  <a:pt x="21600" y="1433"/>
                  <a:pt x="21600" y="21600"/>
                  <a:pt x="21600" y="21600"/>
                </a:cubicBezTo>
                <a:cubicBezTo>
                  <a:pt x="21600" y="21600"/>
                  <a:pt x="0" y="21594"/>
                  <a:pt x="0" y="21594"/>
                </a:cubicBezTo>
                <a:cubicBezTo>
                  <a:pt x="157" y="20588"/>
                  <a:pt x="306" y="19589"/>
                  <a:pt x="487" y="18577"/>
                </a:cubicBezTo>
                <a:cubicBezTo>
                  <a:pt x="612" y="17836"/>
                  <a:pt x="753" y="17088"/>
                  <a:pt x="910" y="16365"/>
                </a:cubicBezTo>
                <a:cubicBezTo>
                  <a:pt x="1154" y="15020"/>
                  <a:pt x="1405" y="13681"/>
                  <a:pt x="1719" y="12343"/>
                </a:cubicBezTo>
                <a:cubicBezTo>
                  <a:pt x="2198" y="10244"/>
                  <a:pt x="2865" y="8164"/>
                  <a:pt x="3375" y="6065"/>
                </a:cubicBezTo>
                <a:cubicBezTo>
                  <a:pt x="3414" y="5907"/>
                  <a:pt x="3438" y="5744"/>
                  <a:pt x="3540" y="5612"/>
                </a:cubicBezTo>
                <a:cubicBezTo>
                  <a:pt x="3610" y="5530"/>
                  <a:pt x="4121" y="5178"/>
                  <a:pt x="4686" y="4902"/>
                </a:cubicBezTo>
                <a:cubicBezTo>
                  <a:pt x="5400" y="4531"/>
                  <a:pt x="6193" y="4255"/>
                  <a:pt x="6970" y="4003"/>
                </a:cubicBezTo>
                <a:cubicBezTo>
                  <a:pt x="7606" y="3790"/>
                  <a:pt x="8249" y="3588"/>
                  <a:pt x="8901" y="3387"/>
                </a:cubicBezTo>
                <a:cubicBezTo>
                  <a:pt x="9285" y="3262"/>
                  <a:pt x="9678" y="3186"/>
                  <a:pt x="9976" y="2985"/>
                </a:cubicBezTo>
                <a:cubicBezTo>
                  <a:pt x="10109" y="2897"/>
                  <a:pt x="10196" y="2734"/>
                  <a:pt x="10266" y="2583"/>
                </a:cubicBezTo>
                <a:cubicBezTo>
                  <a:pt x="10408" y="2338"/>
                  <a:pt x="10706" y="1804"/>
                  <a:pt x="10706" y="1804"/>
                </a:cubicBezTo>
                <a:cubicBezTo>
                  <a:pt x="10706" y="1804"/>
                  <a:pt x="11522" y="0"/>
                  <a:pt x="11522" y="0"/>
                </a:cubicBezTo>
                <a:cubicBezTo>
                  <a:pt x="11522" y="0"/>
                  <a:pt x="12644" y="647"/>
                  <a:pt x="13210" y="955"/>
                </a:cubicBezTo>
                <a:cubicBezTo>
                  <a:pt x="13641" y="1175"/>
                  <a:pt x="14073" y="1414"/>
                  <a:pt x="14520" y="1653"/>
                </a:cubicBezTo>
                <a:cubicBezTo>
                  <a:pt x="14685" y="1747"/>
                  <a:pt x="14881" y="1860"/>
                  <a:pt x="14936" y="2011"/>
                </a:cubicBezTo>
                <a:cubicBezTo>
                  <a:pt x="15133" y="2646"/>
                  <a:pt x="14552" y="3959"/>
                  <a:pt x="14552" y="3959"/>
                </a:cubicBezTo>
                <a:cubicBezTo>
                  <a:pt x="14552" y="3959"/>
                  <a:pt x="14144" y="5028"/>
                  <a:pt x="14144" y="5568"/>
                </a:cubicBezTo>
                <a:cubicBezTo>
                  <a:pt x="14159" y="6442"/>
                  <a:pt x="14850" y="8107"/>
                  <a:pt x="14850" y="8107"/>
                </a:cubicBezTo>
                <a:cubicBezTo>
                  <a:pt x="14850" y="8107"/>
                  <a:pt x="16090" y="11111"/>
                  <a:pt x="16090" y="11111"/>
                </a:cubicBezTo>
                <a:cubicBezTo>
                  <a:pt x="16090" y="11111"/>
                  <a:pt x="17205" y="13832"/>
                  <a:pt x="17205" y="13832"/>
                </a:cubicBezTo>
                <a:cubicBezTo>
                  <a:pt x="17205" y="13832"/>
                  <a:pt x="19065" y="8861"/>
                  <a:pt x="19065" y="8861"/>
                </a:cubicBezTo>
                <a:cubicBezTo>
                  <a:pt x="19065" y="8861"/>
                  <a:pt x="19591" y="7617"/>
                  <a:pt x="19858" y="7007"/>
                </a:cubicBezTo>
                <a:cubicBezTo>
                  <a:pt x="20093" y="6492"/>
                  <a:pt x="20368" y="5970"/>
                  <a:pt x="20360" y="5417"/>
                </a:cubicBezTo>
                <a:cubicBezTo>
                  <a:pt x="20344" y="4977"/>
                  <a:pt x="20172" y="4148"/>
                  <a:pt x="20172" y="4148"/>
                </a:cubicBezTo>
                <a:cubicBezTo>
                  <a:pt x="20172" y="4148"/>
                  <a:pt x="20038" y="3513"/>
                  <a:pt x="19983" y="3205"/>
                </a:cubicBezTo>
                <a:cubicBezTo>
                  <a:pt x="19936" y="2960"/>
                  <a:pt x="19905" y="2702"/>
                  <a:pt x="19967" y="2489"/>
                </a:cubicBezTo>
                <a:cubicBezTo>
                  <a:pt x="20038" y="2300"/>
                  <a:pt x="20321" y="2212"/>
                  <a:pt x="20627" y="2055"/>
                </a:cubicBezTo>
                <a:cubicBezTo>
                  <a:pt x="20925" y="1911"/>
                  <a:pt x="21286" y="1672"/>
                  <a:pt x="21600" y="143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4832280"/>
            <a:ext cx="190044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275"/>
                </a:moveTo>
                <a:cubicBezTo>
                  <a:pt x="0" y="15275"/>
                  <a:pt x="358" y="21600"/>
                  <a:pt x="358" y="21600"/>
                </a:cubicBezTo>
                <a:cubicBezTo>
                  <a:pt x="358" y="21600"/>
                  <a:pt x="21600" y="5607"/>
                  <a:pt x="21600" y="5607"/>
                </a:cubicBezTo>
                <a:cubicBezTo>
                  <a:pt x="21600" y="5607"/>
                  <a:pt x="21252" y="0"/>
                  <a:pt x="21252" y="0"/>
                </a:cubicBezTo>
                <a:cubicBezTo>
                  <a:pt x="21252" y="0"/>
                  <a:pt x="0" y="15275"/>
                  <a:pt x="0" y="15275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4880" y="2801880"/>
            <a:ext cx="49212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951"/>
                </a:moveTo>
                <a:cubicBezTo>
                  <a:pt x="18046" y="12305"/>
                  <a:pt x="14532" y="13544"/>
                  <a:pt x="11096" y="15492"/>
                </a:cubicBezTo>
                <a:cubicBezTo>
                  <a:pt x="7819" y="17351"/>
                  <a:pt x="4423" y="18944"/>
                  <a:pt x="1264" y="21600"/>
                </a:cubicBezTo>
                <a:cubicBezTo>
                  <a:pt x="1264" y="21600"/>
                  <a:pt x="0" y="9915"/>
                  <a:pt x="0" y="9915"/>
                </a:cubicBezTo>
                <a:cubicBezTo>
                  <a:pt x="0" y="9915"/>
                  <a:pt x="20297" y="0"/>
                  <a:pt x="20297" y="0"/>
                </a:cubicBezTo>
                <a:cubicBezTo>
                  <a:pt x="20297" y="0"/>
                  <a:pt x="21600" y="11951"/>
                  <a:pt x="21600" y="11951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7972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-1" y="-1"/>
                </a:moveTo>
                <a:cubicBezTo>
                  <a:pt x="-1" y="-1"/>
                  <a:pt x="-1" y="-1"/>
                  <a:pt x="-1" y="-1"/>
                </a:cubicBezTo>
              </a:path>
            </a:pathLst>
          </a:custGeom>
          <a:noFill/>
          <a:ln w="72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90760" y="40528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-1" y="-1"/>
                </a:moveTo>
                <a:cubicBezTo>
                  <a:pt x="-1" y="-1"/>
                  <a:pt x="-1" y="-1"/>
                  <a:pt x="-1" y="-1"/>
                </a:cubicBezTo>
              </a:path>
            </a:pathLst>
          </a:custGeom>
          <a:noFill/>
          <a:ln w="72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66800" y="2695680"/>
            <a:ext cx="293760" cy="1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954"/>
                </a:moveTo>
                <a:cubicBezTo>
                  <a:pt x="21600" y="14954"/>
                  <a:pt x="2319" y="21600"/>
                  <a:pt x="2319" y="21600"/>
                </a:cubicBezTo>
                <a:cubicBezTo>
                  <a:pt x="2319" y="21600"/>
                  <a:pt x="0" y="6542"/>
                  <a:pt x="0" y="6542"/>
                </a:cubicBezTo>
                <a:cubicBezTo>
                  <a:pt x="0" y="6542"/>
                  <a:pt x="19215" y="0"/>
                  <a:pt x="19215" y="0"/>
                </a:cubicBezTo>
                <a:cubicBezTo>
                  <a:pt x="19215" y="0"/>
                  <a:pt x="21600" y="14954"/>
                  <a:pt x="21600" y="14954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31800" y="1641600"/>
            <a:ext cx="322560" cy="10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55" y="21600"/>
                </a:moveTo>
                <a:cubicBezTo>
                  <a:pt x="12067" y="19490"/>
                  <a:pt x="8688" y="14365"/>
                  <a:pt x="6878" y="11509"/>
                </a:cubicBezTo>
                <a:cubicBezTo>
                  <a:pt x="4465" y="7697"/>
                  <a:pt x="0" y="0"/>
                  <a:pt x="0" y="0"/>
                </a:cubicBezTo>
                <a:cubicBezTo>
                  <a:pt x="0" y="0"/>
                  <a:pt x="6154" y="5852"/>
                  <a:pt x="8930" y="8672"/>
                </a:cubicBezTo>
                <a:cubicBezTo>
                  <a:pt x="11041" y="10729"/>
                  <a:pt x="18885" y="18443"/>
                  <a:pt x="21600" y="21086"/>
                </a:cubicBezTo>
                <a:cubicBezTo>
                  <a:pt x="21600" y="21086"/>
                  <a:pt x="13455" y="21600"/>
                  <a:pt x="13455" y="21600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1800" y="1641600"/>
            <a:ext cx="322560" cy="10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55" y="21600"/>
                </a:moveTo>
                <a:cubicBezTo>
                  <a:pt x="12067" y="19490"/>
                  <a:pt x="8688" y="14365"/>
                  <a:pt x="6878" y="11509"/>
                </a:cubicBezTo>
                <a:cubicBezTo>
                  <a:pt x="4465" y="7697"/>
                  <a:pt x="0" y="0"/>
                  <a:pt x="0" y="0"/>
                </a:cubicBezTo>
                <a:cubicBezTo>
                  <a:pt x="0" y="0"/>
                  <a:pt x="6154" y="5852"/>
                  <a:pt x="8930" y="8672"/>
                </a:cubicBezTo>
                <a:cubicBezTo>
                  <a:pt x="11041" y="10729"/>
                  <a:pt x="18885" y="18443"/>
                  <a:pt x="21600" y="2108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3040" y="4832280"/>
            <a:ext cx="190044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275"/>
                </a:moveTo>
                <a:cubicBezTo>
                  <a:pt x="0" y="15275"/>
                  <a:pt x="358" y="21600"/>
                  <a:pt x="358" y="21600"/>
                </a:cubicBezTo>
                <a:cubicBezTo>
                  <a:pt x="358" y="21600"/>
                  <a:pt x="21600" y="5607"/>
                  <a:pt x="21600" y="5607"/>
                </a:cubicBezTo>
                <a:cubicBezTo>
                  <a:pt x="21600" y="5607"/>
                  <a:pt x="21252" y="0"/>
                  <a:pt x="21252" y="0"/>
                </a:cubicBezTo>
                <a:cubicBezTo>
                  <a:pt x="21252" y="0"/>
                  <a:pt x="0" y="15275"/>
                  <a:pt x="0" y="15275"/>
                </a:cubicBezTo>
              </a:path>
            </a:pathLst>
          </a:custGeom>
          <a:solidFill>
            <a:srgbClr val="777777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53960" y="3171960"/>
            <a:ext cx="11908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21600"/>
                  <a:pt x="0" y="21600"/>
                </a:cubicBez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9b9b9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3960" y="2919240"/>
            <a:ext cx="133200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20" y="21600"/>
                </a:moveTo>
                <a:cubicBezTo>
                  <a:pt x="2220" y="21600"/>
                  <a:pt x="0" y="9771"/>
                  <a:pt x="0" y="9771"/>
                </a:cubicBezTo>
                <a:cubicBezTo>
                  <a:pt x="0" y="9771"/>
                  <a:pt x="161" y="7491"/>
                  <a:pt x="526" y="6429"/>
                </a:cubicBezTo>
                <a:cubicBezTo>
                  <a:pt x="789" y="5674"/>
                  <a:pt x="1095" y="4920"/>
                  <a:pt x="1533" y="4320"/>
                </a:cubicBezTo>
                <a:cubicBezTo>
                  <a:pt x="1972" y="3737"/>
                  <a:pt x="2454" y="3137"/>
                  <a:pt x="3052" y="2743"/>
                </a:cubicBezTo>
                <a:cubicBezTo>
                  <a:pt x="4600" y="1697"/>
                  <a:pt x="6426" y="1286"/>
                  <a:pt x="8164" y="771"/>
                </a:cubicBezTo>
                <a:cubicBezTo>
                  <a:pt x="9887" y="257"/>
                  <a:pt x="11684" y="0"/>
                  <a:pt x="13465" y="51"/>
                </a:cubicBezTo>
                <a:cubicBezTo>
                  <a:pt x="14239" y="69"/>
                  <a:pt x="15057" y="154"/>
                  <a:pt x="15773" y="531"/>
                </a:cubicBezTo>
                <a:cubicBezTo>
                  <a:pt x="16620" y="977"/>
                  <a:pt x="17467" y="1577"/>
                  <a:pt x="18110" y="2383"/>
                </a:cubicBezTo>
                <a:cubicBezTo>
                  <a:pt x="18650" y="3069"/>
                  <a:pt x="19307" y="4834"/>
                  <a:pt x="19307" y="4834"/>
                </a:cubicBezTo>
                <a:cubicBezTo>
                  <a:pt x="19307" y="4834"/>
                  <a:pt x="21600" y="16749"/>
                  <a:pt x="21600" y="16749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4880" y="2801880"/>
            <a:ext cx="49212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862"/>
                </a:moveTo>
                <a:cubicBezTo>
                  <a:pt x="21600" y="11862"/>
                  <a:pt x="20297" y="0"/>
                  <a:pt x="20297" y="0"/>
                </a:cubicBezTo>
                <a:cubicBezTo>
                  <a:pt x="20297" y="0"/>
                  <a:pt x="0" y="9915"/>
                  <a:pt x="0" y="9915"/>
                </a:cubicBezTo>
                <a:cubicBezTo>
                  <a:pt x="0" y="9915"/>
                  <a:pt x="1303" y="21600"/>
                  <a:pt x="1303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66800" y="2695680"/>
            <a:ext cx="29376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5026"/>
                </a:moveTo>
                <a:cubicBezTo>
                  <a:pt x="21600" y="15026"/>
                  <a:pt x="19215" y="0"/>
                  <a:pt x="19215" y="0"/>
                </a:cubicBezTo>
                <a:cubicBezTo>
                  <a:pt x="19215" y="0"/>
                  <a:pt x="0" y="6574"/>
                  <a:pt x="0" y="6574"/>
                </a:cubicBezTo>
                <a:cubicBezTo>
                  <a:pt x="0" y="6574"/>
                  <a:pt x="2319" y="21600"/>
                  <a:pt x="2319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28680" y="4179960"/>
            <a:ext cx="2014560" cy="10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013"/>
                </a:moveTo>
                <a:cubicBezTo>
                  <a:pt x="0" y="8013"/>
                  <a:pt x="1544" y="21600"/>
                  <a:pt x="1544" y="21600"/>
                </a:cubicBezTo>
                <a:cubicBezTo>
                  <a:pt x="1544" y="21600"/>
                  <a:pt x="21600" y="13624"/>
                  <a:pt x="21600" y="13624"/>
                </a:cubicBezTo>
                <a:cubicBezTo>
                  <a:pt x="21600" y="13624"/>
                  <a:pt x="20104" y="0"/>
                  <a:pt x="20104" y="0"/>
                </a:cubicBezTo>
                <a:cubicBezTo>
                  <a:pt x="20104" y="0"/>
                  <a:pt x="0" y="8013"/>
                  <a:pt x="0" y="8013"/>
                </a:cubicBezTo>
              </a:path>
            </a:pathLst>
          </a:custGeom>
          <a:solidFill>
            <a:srgbClr val="777777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27320" y="3762360"/>
            <a:ext cx="162684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32"/>
                </a:moveTo>
                <a:cubicBezTo>
                  <a:pt x="0" y="9232"/>
                  <a:pt x="1278" y="21600"/>
                  <a:pt x="1278" y="21600"/>
                </a:cubicBezTo>
                <a:cubicBezTo>
                  <a:pt x="1278" y="21600"/>
                  <a:pt x="21600" y="12700"/>
                  <a:pt x="21600" y="12700"/>
                </a:cubicBezTo>
                <a:cubicBezTo>
                  <a:pt x="21600" y="12700"/>
                  <a:pt x="20251" y="0"/>
                  <a:pt x="20251" y="0"/>
                </a:cubicBezTo>
                <a:cubicBezTo>
                  <a:pt x="20251" y="0"/>
                  <a:pt x="0" y="9232"/>
                  <a:pt x="0" y="923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62040" y="4400640"/>
            <a:ext cx="1517760" cy="774720"/>
            <a:chOff x="1562040" y="4400640"/>
            <a:chExt cx="1517760" cy="774720"/>
          </a:xfrm>
        </p:grpSpPr>
        <p:sp>
          <p:nvSpPr>
            <p:cNvPr id="118" name=""/>
            <p:cNvSpPr/>
            <p:nvPr/>
          </p:nvSpPr>
          <p:spPr>
            <a:xfrm>
              <a:off x="1562040" y="4775040"/>
              <a:ext cx="127080" cy="40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337" y="0"/>
                  </a:moveTo>
                  <a:cubicBezTo>
                    <a:pt x="9103" y="728"/>
                    <a:pt x="7714" y="1311"/>
                    <a:pt x="7714" y="1990"/>
                  </a:cubicBezTo>
                  <a:cubicBezTo>
                    <a:pt x="7251" y="6310"/>
                    <a:pt x="13886" y="10630"/>
                    <a:pt x="10800" y="14853"/>
                  </a:cubicBezTo>
                  <a:cubicBezTo>
                    <a:pt x="9566" y="16503"/>
                    <a:pt x="5091" y="17717"/>
                    <a:pt x="0" y="18688"/>
                  </a:cubicBezTo>
                  <a:cubicBezTo>
                    <a:pt x="617" y="19756"/>
                    <a:pt x="1234" y="20726"/>
                    <a:pt x="2006" y="21600"/>
                  </a:cubicBezTo>
                  <a:cubicBezTo>
                    <a:pt x="8794" y="21163"/>
                    <a:pt x="15429" y="20823"/>
                    <a:pt x="21600" y="20435"/>
                  </a:cubicBezTo>
                  <a:cubicBezTo>
                    <a:pt x="21600" y="20435"/>
                    <a:pt x="10337" y="0"/>
                    <a:pt x="10337" y="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3640" y="4400640"/>
              <a:ext cx="146160" cy="48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71" y="318"/>
                  </a:moveTo>
                  <a:cubicBezTo>
                    <a:pt x="5168" y="794"/>
                    <a:pt x="5301" y="1191"/>
                    <a:pt x="5036" y="1668"/>
                  </a:cubicBezTo>
                  <a:cubicBezTo>
                    <a:pt x="5036" y="1826"/>
                    <a:pt x="4903" y="1866"/>
                    <a:pt x="4771" y="2025"/>
                  </a:cubicBezTo>
                  <a:cubicBezTo>
                    <a:pt x="4240" y="2978"/>
                    <a:pt x="663" y="3851"/>
                    <a:pt x="663" y="4884"/>
                  </a:cubicBezTo>
                  <a:cubicBezTo>
                    <a:pt x="0" y="8378"/>
                    <a:pt x="5831" y="11872"/>
                    <a:pt x="3180" y="15287"/>
                  </a:cubicBezTo>
                  <a:cubicBezTo>
                    <a:pt x="3180" y="15406"/>
                    <a:pt x="3048" y="15485"/>
                    <a:pt x="2915" y="15565"/>
                  </a:cubicBezTo>
                  <a:cubicBezTo>
                    <a:pt x="2650" y="15882"/>
                    <a:pt x="2385" y="16160"/>
                    <a:pt x="1723" y="16438"/>
                  </a:cubicBezTo>
                  <a:cubicBezTo>
                    <a:pt x="1855" y="16518"/>
                    <a:pt x="1855" y="16557"/>
                    <a:pt x="1855" y="16637"/>
                  </a:cubicBezTo>
                  <a:cubicBezTo>
                    <a:pt x="3048" y="18384"/>
                    <a:pt x="4240" y="20091"/>
                    <a:pt x="5301" y="21600"/>
                  </a:cubicBezTo>
                  <a:cubicBezTo>
                    <a:pt x="7951" y="21441"/>
                    <a:pt x="10601" y="21282"/>
                    <a:pt x="13252" y="21124"/>
                  </a:cubicBezTo>
                  <a:cubicBezTo>
                    <a:pt x="16034" y="20965"/>
                    <a:pt x="18817" y="20766"/>
                    <a:pt x="21600" y="20607"/>
                  </a:cubicBezTo>
                  <a:cubicBezTo>
                    <a:pt x="21600" y="20607"/>
                    <a:pt x="9541" y="0"/>
                    <a:pt x="9541" y="0"/>
                  </a:cubicBezTo>
                  <a:cubicBezTo>
                    <a:pt x="9541" y="0"/>
                    <a:pt x="4771" y="318"/>
                    <a:pt x="4771" y="318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0520" y="4527720"/>
              <a:ext cx="127080" cy="42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607"/>
                  </a:moveTo>
                  <a:cubicBezTo>
                    <a:pt x="4715" y="16745"/>
                    <a:pt x="8366" y="15565"/>
                    <a:pt x="9431" y="14158"/>
                  </a:cubicBezTo>
                  <a:cubicBezTo>
                    <a:pt x="12777" y="10210"/>
                    <a:pt x="5932" y="6171"/>
                    <a:pt x="6693" y="2178"/>
                  </a:cubicBezTo>
                  <a:cubicBezTo>
                    <a:pt x="6693" y="1407"/>
                    <a:pt x="8062" y="771"/>
                    <a:pt x="9431" y="0"/>
                  </a:cubicBezTo>
                  <a:cubicBezTo>
                    <a:pt x="9431" y="0"/>
                    <a:pt x="21600" y="20466"/>
                    <a:pt x="21600" y="20466"/>
                  </a:cubicBezTo>
                  <a:cubicBezTo>
                    <a:pt x="15211" y="20874"/>
                    <a:pt x="8823" y="21192"/>
                    <a:pt x="2586" y="21600"/>
                  </a:cubicBezTo>
                  <a:cubicBezTo>
                    <a:pt x="1673" y="20420"/>
                    <a:pt x="913" y="18968"/>
                    <a:pt x="0" y="17607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19160" y="4705200"/>
              <a:ext cx="123840" cy="39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8753"/>
                  </a:moveTo>
                  <a:cubicBezTo>
                    <a:pt x="5322" y="17673"/>
                    <a:pt x="9548" y="16495"/>
                    <a:pt x="10957" y="14776"/>
                  </a:cubicBezTo>
                  <a:cubicBezTo>
                    <a:pt x="14243" y="10555"/>
                    <a:pt x="7357" y="6185"/>
                    <a:pt x="7983" y="1816"/>
                  </a:cubicBezTo>
                  <a:cubicBezTo>
                    <a:pt x="7983" y="1276"/>
                    <a:pt x="9235" y="589"/>
                    <a:pt x="10643" y="0"/>
                  </a:cubicBezTo>
                  <a:cubicBezTo>
                    <a:pt x="10643" y="0"/>
                    <a:pt x="21600" y="20324"/>
                    <a:pt x="21600" y="20324"/>
                  </a:cubicBezTo>
                  <a:cubicBezTo>
                    <a:pt x="15183" y="20765"/>
                    <a:pt x="8609" y="21158"/>
                    <a:pt x="1878" y="21600"/>
                  </a:cubicBezTo>
                  <a:cubicBezTo>
                    <a:pt x="1252" y="20716"/>
                    <a:pt x="626" y="19784"/>
                    <a:pt x="0" y="18753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8080" y="4567320"/>
              <a:ext cx="135000" cy="45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6550"/>
                  </a:moveTo>
                  <a:cubicBezTo>
                    <a:pt x="4176" y="15744"/>
                    <a:pt x="7488" y="14725"/>
                    <a:pt x="8496" y="13410"/>
                  </a:cubicBezTo>
                  <a:cubicBezTo>
                    <a:pt x="11376" y="9760"/>
                    <a:pt x="4896" y="5983"/>
                    <a:pt x="5616" y="2207"/>
                  </a:cubicBezTo>
                  <a:cubicBezTo>
                    <a:pt x="5616" y="1358"/>
                    <a:pt x="7776" y="806"/>
                    <a:pt x="8928" y="0"/>
                  </a:cubicBezTo>
                  <a:cubicBezTo>
                    <a:pt x="8928" y="0"/>
                    <a:pt x="21600" y="20624"/>
                    <a:pt x="21600" y="20624"/>
                  </a:cubicBezTo>
                  <a:cubicBezTo>
                    <a:pt x="15408" y="20963"/>
                    <a:pt x="9360" y="21261"/>
                    <a:pt x="3456" y="21600"/>
                  </a:cubicBezTo>
                  <a:cubicBezTo>
                    <a:pt x="2448" y="20072"/>
                    <a:pt x="1296" y="18290"/>
                    <a:pt x="0" y="1655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82840" y="4406760"/>
            <a:ext cx="1490400" cy="714600"/>
            <a:chOff x="1482840" y="4406760"/>
            <a:chExt cx="1490400" cy="714600"/>
          </a:xfrm>
        </p:grpSpPr>
        <p:sp>
          <p:nvSpPr>
            <p:cNvPr id="124" name=""/>
            <p:cNvSpPr/>
            <p:nvPr/>
          </p:nvSpPr>
          <p:spPr>
            <a:xfrm>
              <a:off x="2871720" y="4406760"/>
              <a:ext cx="101520" cy="36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101" y="21600"/>
                  </a:moveTo>
                  <a:cubicBezTo>
                    <a:pt x="8028" y="11970"/>
                    <a:pt x="0" y="1383"/>
                    <a:pt x="0" y="1383"/>
                  </a:cubicBezTo>
                  <a:cubicBezTo>
                    <a:pt x="0" y="1383"/>
                    <a:pt x="20071" y="0"/>
                    <a:pt x="20071" y="0"/>
                  </a:cubicBezTo>
                  <a:cubicBezTo>
                    <a:pt x="20835" y="798"/>
                    <a:pt x="20835" y="1490"/>
                    <a:pt x="20071" y="2288"/>
                  </a:cubicBezTo>
                  <a:cubicBezTo>
                    <a:pt x="19306" y="3565"/>
                    <a:pt x="14145" y="4735"/>
                    <a:pt x="14145" y="6118"/>
                  </a:cubicBezTo>
                  <a:cubicBezTo>
                    <a:pt x="13189" y="10800"/>
                    <a:pt x="21600" y="15482"/>
                    <a:pt x="17777" y="20057"/>
                  </a:cubicBezTo>
                  <a:cubicBezTo>
                    <a:pt x="17395" y="20642"/>
                    <a:pt x="16439" y="21121"/>
                    <a:pt x="15101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49520" y="4468680"/>
              <a:ext cx="155520" cy="40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12" y="21600"/>
                  </a:moveTo>
                  <a:cubicBezTo>
                    <a:pt x="5993" y="12540"/>
                    <a:pt x="0" y="1621"/>
                    <a:pt x="0" y="1621"/>
                  </a:cubicBezTo>
                  <a:cubicBezTo>
                    <a:pt x="0" y="1621"/>
                    <a:pt x="17605" y="0"/>
                    <a:pt x="17605" y="0"/>
                  </a:cubicBezTo>
                  <a:cubicBezTo>
                    <a:pt x="17605" y="0"/>
                    <a:pt x="18853" y="3099"/>
                    <a:pt x="18853" y="3099"/>
                  </a:cubicBezTo>
                  <a:cubicBezTo>
                    <a:pt x="17729" y="3910"/>
                    <a:pt x="16606" y="4577"/>
                    <a:pt x="16606" y="5388"/>
                  </a:cubicBezTo>
                  <a:cubicBezTo>
                    <a:pt x="15982" y="9584"/>
                    <a:pt x="21600" y="13828"/>
                    <a:pt x="18853" y="17976"/>
                  </a:cubicBezTo>
                  <a:cubicBezTo>
                    <a:pt x="17979" y="19454"/>
                    <a:pt x="14983" y="20694"/>
                    <a:pt x="11112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2840" y="4705200"/>
              <a:ext cx="160200" cy="41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79" y="21600"/>
                  </a:moveTo>
                  <a:cubicBezTo>
                    <a:pt x="6067" y="12604"/>
                    <a:pt x="0" y="1546"/>
                    <a:pt x="0" y="1546"/>
                  </a:cubicBezTo>
                  <a:cubicBezTo>
                    <a:pt x="0" y="1546"/>
                    <a:pt x="17110" y="0"/>
                    <a:pt x="17110" y="0"/>
                  </a:cubicBezTo>
                  <a:cubicBezTo>
                    <a:pt x="17110" y="0"/>
                    <a:pt x="18809" y="3561"/>
                    <a:pt x="18809" y="3561"/>
                  </a:cubicBezTo>
                  <a:cubicBezTo>
                    <a:pt x="17838" y="4264"/>
                    <a:pt x="16746" y="4826"/>
                    <a:pt x="16746" y="5482"/>
                  </a:cubicBezTo>
                  <a:cubicBezTo>
                    <a:pt x="16382" y="9652"/>
                    <a:pt x="21600" y="13822"/>
                    <a:pt x="19173" y="17898"/>
                  </a:cubicBezTo>
                  <a:cubicBezTo>
                    <a:pt x="18202" y="19492"/>
                    <a:pt x="14683" y="20663"/>
                    <a:pt x="1067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36720" y="4618080"/>
              <a:ext cx="1652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52" y="21600"/>
                  </a:moveTo>
                  <a:cubicBezTo>
                    <a:pt x="6222" y="12780"/>
                    <a:pt x="0" y="1530"/>
                    <a:pt x="0" y="1530"/>
                  </a:cubicBezTo>
                  <a:cubicBezTo>
                    <a:pt x="0" y="1530"/>
                    <a:pt x="16670" y="0"/>
                    <a:pt x="16670" y="0"/>
                  </a:cubicBezTo>
                  <a:cubicBezTo>
                    <a:pt x="16670" y="0"/>
                    <a:pt x="18665" y="4500"/>
                    <a:pt x="18665" y="4500"/>
                  </a:cubicBezTo>
                  <a:cubicBezTo>
                    <a:pt x="17609" y="5085"/>
                    <a:pt x="16904" y="5580"/>
                    <a:pt x="16904" y="6075"/>
                  </a:cubicBezTo>
                  <a:cubicBezTo>
                    <a:pt x="16435" y="10080"/>
                    <a:pt x="21600" y="14085"/>
                    <a:pt x="19135" y="17955"/>
                  </a:cubicBezTo>
                  <a:cubicBezTo>
                    <a:pt x="18078" y="19530"/>
                    <a:pt x="15143" y="20610"/>
                    <a:pt x="11152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3560" y="4535640"/>
              <a:ext cx="145800" cy="38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67" y="21600"/>
                  </a:moveTo>
                  <a:cubicBezTo>
                    <a:pt x="5867" y="12248"/>
                    <a:pt x="0" y="1779"/>
                    <a:pt x="0" y="1779"/>
                  </a:cubicBezTo>
                  <a:cubicBezTo>
                    <a:pt x="0" y="1779"/>
                    <a:pt x="18933" y="0"/>
                    <a:pt x="18933" y="0"/>
                  </a:cubicBezTo>
                  <a:cubicBezTo>
                    <a:pt x="18933" y="0"/>
                    <a:pt x="19600" y="1779"/>
                    <a:pt x="19600" y="1779"/>
                  </a:cubicBezTo>
                  <a:cubicBezTo>
                    <a:pt x="18533" y="2744"/>
                    <a:pt x="16267" y="3405"/>
                    <a:pt x="16267" y="4422"/>
                  </a:cubicBezTo>
                  <a:cubicBezTo>
                    <a:pt x="15600" y="8945"/>
                    <a:pt x="21600" y="13468"/>
                    <a:pt x="18933" y="17839"/>
                  </a:cubicBezTo>
                  <a:cubicBezTo>
                    <a:pt x="18000" y="19415"/>
                    <a:pt x="14933" y="20634"/>
                    <a:pt x="11067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25760" y="5121360"/>
            <a:ext cx="1892160" cy="2109600"/>
            <a:chOff x="1625760" y="5121360"/>
            <a:chExt cx="1892160" cy="2109600"/>
          </a:xfrm>
        </p:grpSpPr>
        <p:sp>
          <p:nvSpPr>
            <p:cNvPr id="130" name=""/>
            <p:cNvSpPr/>
            <p:nvPr/>
          </p:nvSpPr>
          <p:spPr>
            <a:xfrm>
              <a:off x="2139840" y="6311880"/>
              <a:ext cx="19368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30" y="21600"/>
                  </a:moveTo>
                  <a:cubicBezTo>
                    <a:pt x="5023" y="18193"/>
                    <a:pt x="4019" y="14786"/>
                    <a:pt x="3014" y="11379"/>
                  </a:cubicBezTo>
                  <a:cubicBezTo>
                    <a:pt x="2110" y="9000"/>
                    <a:pt x="1105" y="5979"/>
                    <a:pt x="0" y="2700"/>
                  </a:cubicBezTo>
                  <a:cubicBezTo>
                    <a:pt x="2813" y="2186"/>
                    <a:pt x="5927" y="1543"/>
                    <a:pt x="8238" y="1221"/>
                  </a:cubicBezTo>
                  <a:cubicBezTo>
                    <a:pt x="11453" y="836"/>
                    <a:pt x="16577" y="321"/>
                    <a:pt x="19591" y="0"/>
                  </a:cubicBezTo>
                  <a:cubicBezTo>
                    <a:pt x="20093" y="1736"/>
                    <a:pt x="20997" y="3664"/>
                    <a:pt x="21600" y="5464"/>
                  </a:cubicBezTo>
                  <a:cubicBezTo>
                    <a:pt x="20093" y="8679"/>
                    <a:pt x="18084" y="12150"/>
                    <a:pt x="15572" y="15043"/>
                  </a:cubicBezTo>
                  <a:cubicBezTo>
                    <a:pt x="13362" y="17679"/>
                    <a:pt x="9946" y="19671"/>
                    <a:pt x="6430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2920" y="6649920"/>
              <a:ext cx="1954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39" y="21600"/>
                  </a:moveTo>
                  <a:cubicBezTo>
                    <a:pt x="4261" y="15146"/>
                    <a:pt x="1883" y="8819"/>
                    <a:pt x="0" y="2556"/>
                  </a:cubicBezTo>
                  <a:cubicBezTo>
                    <a:pt x="2774" y="2045"/>
                    <a:pt x="5747" y="1470"/>
                    <a:pt x="7728" y="1150"/>
                  </a:cubicBezTo>
                  <a:cubicBezTo>
                    <a:pt x="10899" y="767"/>
                    <a:pt x="15952" y="320"/>
                    <a:pt x="18826" y="0"/>
                  </a:cubicBezTo>
                  <a:cubicBezTo>
                    <a:pt x="19717" y="2876"/>
                    <a:pt x="20807" y="5751"/>
                    <a:pt x="21600" y="8627"/>
                  </a:cubicBezTo>
                  <a:cubicBezTo>
                    <a:pt x="20807" y="10225"/>
                    <a:pt x="20114" y="12142"/>
                    <a:pt x="18826" y="13676"/>
                  </a:cubicBezTo>
                  <a:cubicBezTo>
                    <a:pt x="16250" y="16871"/>
                    <a:pt x="11593" y="19491"/>
                    <a:pt x="65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2760" y="6970680"/>
              <a:ext cx="182520" cy="1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88" y="21600"/>
                  </a:moveTo>
                  <a:cubicBezTo>
                    <a:pt x="2329" y="16173"/>
                    <a:pt x="1271" y="10854"/>
                    <a:pt x="0" y="5427"/>
                  </a:cubicBezTo>
                  <a:cubicBezTo>
                    <a:pt x="0" y="4993"/>
                    <a:pt x="0" y="4667"/>
                    <a:pt x="0" y="4233"/>
                  </a:cubicBezTo>
                  <a:cubicBezTo>
                    <a:pt x="2753" y="3256"/>
                    <a:pt x="5929" y="2605"/>
                    <a:pt x="8365" y="2062"/>
                  </a:cubicBezTo>
                  <a:cubicBezTo>
                    <a:pt x="11435" y="1411"/>
                    <a:pt x="16412" y="760"/>
                    <a:pt x="19482" y="0"/>
                  </a:cubicBezTo>
                  <a:cubicBezTo>
                    <a:pt x="20224" y="3473"/>
                    <a:pt x="20859" y="6838"/>
                    <a:pt x="21600" y="10312"/>
                  </a:cubicBezTo>
                  <a:cubicBezTo>
                    <a:pt x="20012" y="12808"/>
                    <a:pt x="18000" y="15087"/>
                    <a:pt x="15565" y="16716"/>
                  </a:cubicBezTo>
                  <a:cubicBezTo>
                    <a:pt x="11647" y="19321"/>
                    <a:pt x="7624" y="20515"/>
                    <a:pt x="338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05040" y="6392880"/>
              <a:ext cx="191880" cy="30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59" y="21600"/>
                  </a:moveTo>
                  <a:cubicBezTo>
                    <a:pt x="5047" y="18193"/>
                    <a:pt x="3936" y="14850"/>
                    <a:pt x="2927" y="11379"/>
                  </a:cubicBezTo>
                  <a:cubicBezTo>
                    <a:pt x="2019" y="8936"/>
                    <a:pt x="1009" y="5979"/>
                    <a:pt x="0" y="2700"/>
                  </a:cubicBezTo>
                  <a:cubicBezTo>
                    <a:pt x="2725" y="2186"/>
                    <a:pt x="5955" y="1543"/>
                    <a:pt x="8176" y="1221"/>
                  </a:cubicBezTo>
                  <a:cubicBezTo>
                    <a:pt x="11406" y="771"/>
                    <a:pt x="16553" y="257"/>
                    <a:pt x="19581" y="0"/>
                  </a:cubicBezTo>
                  <a:cubicBezTo>
                    <a:pt x="20187" y="1736"/>
                    <a:pt x="21095" y="3600"/>
                    <a:pt x="21600" y="5464"/>
                  </a:cubicBezTo>
                  <a:cubicBezTo>
                    <a:pt x="20187" y="8614"/>
                    <a:pt x="18067" y="12150"/>
                    <a:pt x="15443" y="15107"/>
                  </a:cubicBezTo>
                  <a:cubicBezTo>
                    <a:pt x="13323" y="17679"/>
                    <a:pt x="9892" y="19671"/>
                    <a:pt x="635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74880" y="6730920"/>
              <a:ext cx="1969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39" y="21600"/>
                  </a:moveTo>
                  <a:cubicBezTo>
                    <a:pt x="4261" y="15037"/>
                    <a:pt x="1883" y="8857"/>
                    <a:pt x="0" y="2612"/>
                  </a:cubicBezTo>
                  <a:cubicBezTo>
                    <a:pt x="2774" y="2103"/>
                    <a:pt x="5747" y="1593"/>
                    <a:pt x="7828" y="1274"/>
                  </a:cubicBezTo>
                  <a:cubicBezTo>
                    <a:pt x="10899" y="828"/>
                    <a:pt x="15952" y="319"/>
                    <a:pt x="18925" y="0"/>
                  </a:cubicBezTo>
                  <a:cubicBezTo>
                    <a:pt x="19717" y="2867"/>
                    <a:pt x="20708" y="5798"/>
                    <a:pt x="21600" y="8665"/>
                  </a:cubicBezTo>
                  <a:cubicBezTo>
                    <a:pt x="20708" y="10195"/>
                    <a:pt x="20114" y="12170"/>
                    <a:pt x="18925" y="13699"/>
                  </a:cubicBezTo>
                  <a:cubicBezTo>
                    <a:pt x="16250" y="16885"/>
                    <a:pt x="11593" y="19497"/>
                    <a:pt x="65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46160" y="7053120"/>
              <a:ext cx="182520" cy="1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99" y="21600"/>
                  </a:moveTo>
                  <a:cubicBezTo>
                    <a:pt x="2234" y="16364"/>
                    <a:pt x="1064" y="10909"/>
                    <a:pt x="0" y="5455"/>
                  </a:cubicBezTo>
                  <a:cubicBezTo>
                    <a:pt x="0" y="5018"/>
                    <a:pt x="0" y="4473"/>
                    <a:pt x="0" y="4145"/>
                  </a:cubicBezTo>
                  <a:cubicBezTo>
                    <a:pt x="2660" y="3164"/>
                    <a:pt x="5852" y="2618"/>
                    <a:pt x="8300" y="2073"/>
                  </a:cubicBezTo>
                  <a:cubicBezTo>
                    <a:pt x="11385" y="1309"/>
                    <a:pt x="16386" y="764"/>
                    <a:pt x="19578" y="0"/>
                  </a:cubicBezTo>
                  <a:cubicBezTo>
                    <a:pt x="20217" y="3491"/>
                    <a:pt x="20855" y="6873"/>
                    <a:pt x="21600" y="10364"/>
                  </a:cubicBezTo>
                  <a:cubicBezTo>
                    <a:pt x="20004" y="12764"/>
                    <a:pt x="17982" y="15164"/>
                    <a:pt x="15429" y="16800"/>
                  </a:cubicBezTo>
                  <a:cubicBezTo>
                    <a:pt x="11704" y="19309"/>
                    <a:pt x="7555" y="20618"/>
                    <a:pt x="329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21080" y="6242040"/>
              <a:ext cx="19368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29" y="21600"/>
                  </a:moveTo>
                  <a:cubicBezTo>
                    <a:pt x="5023" y="18257"/>
                    <a:pt x="4019" y="14721"/>
                    <a:pt x="3014" y="11443"/>
                  </a:cubicBezTo>
                  <a:cubicBezTo>
                    <a:pt x="2110" y="8936"/>
                    <a:pt x="904" y="5979"/>
                    <a:pt x="0" y="2764"/>
                  </a:cubicBezTo>
                  <a:cubicBezTo>
                    <a:pt x="2713" y="2186"/>
                    <a:pt x="5927" y="1479"/>
                    <a:pt x="8238" y="1221"/>
                  </a:cubicBezTo>
                  <a:cubicBezTo>
                    <a:pt x="11453" y="836"/>
                    <a:pt x="16577" y="257"/>
                    <a:pt x="19490" y="0"/>
                  </a:cubicBezTo>
                  <a:cubicBezTo>
                    <a:pt x="20093" y="1800"/>
                    <a:pt x="20997" y="3729"/>
                    <a:pt x="21600" y="5464"/>
                  </a:cubicBezTo>
                  <a:cubicBezTo>
                    <a:pt x="20093" y="8679"/>
                    <a:pt x="18084" y="12086"/>
                    <a:pt x="15472" y="15107"/>
                  </a:cubicBezTo>
                  <a:cubicBezTo>
                    <a:pt x="13362" y="17679"/>
                    <a:pt x="9946" y="19607"/>
                    <a:pt x="632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6580080"/>
              <a:ext cx="196920" cy="30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39" y="21600"/>
                  </a:moveTo>
                  <a:cubicBezTo>
                    <a:pt x="4161" y="15191"/>
                    <a:pt x="1883" y="8781"/>
                    <a:pt x="0" y="2628"/>
                  </a:cubicBezTo>
                  <a:cubicBezTo>
                    <a:pt x="2675" y="2051"/>
                    <a:pt x="5648" y="1538"/>
                    <a:pt x="7728" y="1154"/>
                  </a:cubicBezTo>
                  <a:cubicBezTo>
                    <a:pt x="10899" y="769"/>
                    <a:pt x="15952" y="256"/>
                    <a:pt x="18925" y="0"/>
                  </a:cubicBezTo>
                  <a:cubicBezTo>
                    <a:pt x="19717" y="2820"/>
                    <a:pt x="20708" y="5769"/>
                    <a:pt x="21600" y="8653"/>
                  </a:cubicBezTo>
                  <a:cubicBezTo>
                    <a:pt x="20708" y="10319"/>
                    <a:pt x="20114" y="12242"/>
                    <a:pt x="18925" y="13652"/>
                  </a:cubicBezTo>
                  <a:cubicBezTo>
                    <a:pt x="16051" y="16921"/>
                    <a:pt x="11593" y="19485"/>
                    <a:pt x="65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4000" y="6902280"/>
              <a:ext cx="182520" cy="17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05" y="21600"/>
                  </a:moveTo>
                  <a:cubicBezTo>
                    <a:pt x="2341" y="16337"/>
                    <a:pt x="1064" y="10855"/>
                    <a:pt x="0" y="5373"/>
                  </a:cubicBezTo>
                  <a:cubicBezTo>
                    <a:pt x="0" y="4824"/>
                    <a:pt x="0" y="4605"/>
                    <a:pt x="0" y="4057"/>
                  </a:cubicBezTo>
                  <a:cubicBezTo>
                    <a:pt x="2660" y="3180"/>
                    <a:pt x="5852" y="2412"/>
                    <a:pt x="8300" y="1974"/>
                  </a:cubicBezTo>
                  <a:cubicBezTo>
                    <a:pt x="11492" y="1316"/>
                    <a:pt x="16493" y="548"/>
                    <a:pt x="19578" y="0"/>
                  </a:cubicBezTo>
                  <a:cubicBezTo>
                    <a:pt x="20217" y="3289"/>
                    <a:pt x="20962" y="6688"/>
                    <a:pt x="21600" y="10307"/>
                  </a:cubicBezTo>
                  <a:cubicBezTo>
                    <a:pt x="20110" y="12938"/>
                    <a:pt x="17982" y="15021"/>
                    <a:pt x="15535" y="16776"/>
                  </a:cubicBezTo>
                  <a:cubicBezTo>
                    <a:pt x="11704" y="19407"/>
                    <a:pt x="7661" y="20504"/>
                    <a:pt x="3405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1200" y="6148440"/>
              <a:ext cx="19368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00" y="21600"/>
                  </a:moveTo>
                  <a:cubicBezTo>
                    <a:pt x="5100" y="18193"/>
                    <a:pt x="4000" y="14850"/>
                    <a:pt x="3000" y="11443"/>
                  </a:cubicBezTo>
                  <a:cubicBezTo>
                    <a:pt x="2200" y="9000"/>
                    <a:pt x="1000" y="5914"/>
                    <a:pt x="0" y="2764"/>
                  </a:cubicBezTo>
                  <a:cubicBezTo>
                    <a:pt x="2700" y="2186"/>
                    <a:pt x="5900" y="1543"/>
                    <a:pt x="8300" y="1286"/>
                  </a:cubicBezTo>
                  <a:cubicBezTo>
                    <a:pt x="11500" y="836"/>
                    <a:pt x="16500" y="321"/>
                    <a:pt x="19500" y="0"/>
                  </a:cubicBezTo>
                  <a:cubicBezTo>
                    <a:pt x="20100" y="1800"/>
                    <a:pt x="20900" y="3729"/>
                    <a:pt x="21600" y="5464"/>
                  </a:cubicBezTo>
                  <a:cubicBezTo>
                    <a:pt x="20100" y="8679"/>
                    <a:pt x="18000" y="12150"/>
                    <a:pt x="15500" y="15107"/>
                  </a:cubicBezTo>
                  <a:cubicBezTo>
                    <a:pt x="13300" y="17679"/>
                    <a:pt x="10000" y="19736"/>
                    <a:pt x="6400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24280" y="6486480"/>
              <a:ext cx="1951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70" y="21600"/>
                  </a:moveTo>
                  <a:cubicBezTo>
                    <a:pt x="4181" y="15101"/>
                    <a:pt x="1891" y="8793"/>
                    <a:pt x="0" y="2549"/>
                  </a:cubicBezTo>
                  <a:cubicBezTo>
                    <a:pt x="2688" y="1975"/>
                    <a:pt x="5574" y="1529"/>
                    <a:pt x="7764" y="1274"/>
                  </a:cubicBezTo>
                  <a:cubicBezTo>
                    <a:pt x="10850" y="828"/>
                    <a:pt x="15926" y="319"/>
                    <a:pt x="18912" y="0"/>
                  </a:cubicBezTo>
                  <a:cubicBezTo>
                    <a:pt x="19808" y="2867"/>
                    <a:pt x="20804" y="5798"/>
                    <a:pt x="21600" y="8665"/>
                  </a:cubicBezTo>
                  <a:cubicBezTo>
                    <a:pt x="20804" y="10322"/>
                    <a:pt x="20107" y="12106"/>
                    <a:pt x="18912" y="13635"/>
                  </a:cubicBezTo>
                  <a:cubicBezTo>
                    <a:pt x="16125" y="16885"/>
                    <a:pt x="11547" y="19434"/>
                    <a:pt x="6470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94120" y="6807240"/>
              <a:ext cx="182520" cy="1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99" y="21600"/>
                  </a:moveTo>
                  <a:cubicBezTo>
                    <a:pt x="2234" y="16200"/>
                    <a:pt x="1064" y="10908"/>
                    <a:pt x="0" y="5616"/>
                  </a:cubicBezTo>
                  <a:cubicBezTo>
                    <a:pt x="0" y="5184"/>
                    <a:pt x="0" y="4752"/>
                    <a:pt x="0" y="4320"/>
                  </a:cubicBezTo>
                  <a:cubicBezTo>
                    <a:pt x="2660" y="3348"/>
                    <a:pt x="5852" y="2700"/>
                    <a:pt x="8300" y="2268"/>
                  </a:cubicBezTo>
                  <a:cubicBezTo>
                    <a:pt x="11385" y="1620"/>
                    <a:pt x="16386" y="756"/>
                    <a:pt x="19472" y="0"/>
                  </a:cubicBezTo>
                  <a:cubicBezTo>
                    <a:pt x="20217" y="3564"/>
                    <a:pt x="20855" y="7020"/>
                    <a:pt x="21600" y="10476"/>
                  </a:cubicBezTo>
                  <a:cubicBezTo>
                    <a:pt x="20004" y="12960"/>
                    <a:pt x="17876" y="15228"/>
                    <a:pt x="15535" y="16740"/>
                  </a:cubicBezTo>
                  <a:cubicBezTo>
                    <a:pt x="11598" y="19440"/>
                    <a:pt x="7661" y="20520"/>
                    <a:pt x="329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2000" y="5334120"/>
              <a:ext cx="139680" cy="29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8" y="21600"/>
                  </a:moveTo>
                  <a:cubicBezTo>
                    <a:pt x="3185" y="16282"/>
                    <a:pt x="1662" y="11161"/>
                    <a:pt x="554" y="6303"/>
                  </a:cubicBezTo>
                  <a:cubicBezTo>
                    <a:pt x="0" y="4005"/>
                    <a:pt x="3462" y="1313"/>
                    <a:pt x="8446" y="525"/>
                  </a:cubicBezTo>
                  <a:cubicBezTo>
                    <a:pt x="11631" y="0"/>
                    <a:pt x="15231" y="197"/>
                    <a:pt x="17723" y="919"/>
                  </a:cubicBezTo>
                  <a:cubicBezTo>
                    <a:pt x="19800" y="4661"/>
                    <a:pt x="21600" y="8272"/>
                    <a:pt x="21046" y="12212"/>
                  </a:cubicBezTo>
                  <a:cubicBezTo>
                    <a:pt x="20354" y="14838"/>
                    <a:pt x="16615" y="17267"/>
                    <a:pt x="12462" y="19040"/>
                  </a:cubicBezTo>
                  <a:cubicBezTo>
                    <a:pt x="10108" y="20024"/>
                    <a:pt x="7338" y="21009"/>
                    <a:pt x="470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00160" y="5641920"/>
              <a:ext cx="18252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682" y="18984"/>
                    <a:pt x="3831" y="16301"/>
                    <a:pt x="2873" y="13550"/>
                  </a:cubicBezTo>
                  <a:cubicBezTo>
                    <a:pt x="1809" y="9861"/>
                    <a:pt x="958" y="6306"/>
                    <a:pt x="0" y="2616"/>
                  </a:cubicBezTo>
                  <a:cubicBezTo>
                    <a:pt x="3086" y="2080"/>
                    <a:pt x="7767" y="1342"/>
                    <a:pt x="10747" y="872"/>
                  </a:cubicBezTo>
                  <a:cubicBezTo>
                    <a:pt x="13300" y="604"/>
                    <a:pt x="16918" y="268"/>
                    <a:pt x="19791" y="0"/>
                  </a:cubicBezTo>
                  <a:cubicBezTo>
                    <a:pt x="20217" y="1409"/>
                    <a:pt x="20855" y="2482"/>
                    <a:pt x="21387" y="3958"/>
                  </a:cubicBezTo>
                  <a:cubicBezTo>
                    <a:pt x="21387" y="4226"/>
                    <a:pt x="21387" y="4494"/>
                    <a:pt x="21387" y="4763"/>
                  </a:cubicBezTo>
                  <a:cubicBezTo>
                    <a:pt x="21387" y="5098"/>
                    <a:pt x="21600" y="5366"/>
                    <a:pt x="21600" y="5635"/>
                  </a:cubicBezTo>
                  <a:cubicBezTo>
                    <a:pt x="21068" y="8184"/>
                    <a:pt x="20855" y="11202"/>
                    <a:pt x="18727" y="13282"/>
                  </a:cubicBezTo>
                  <a:cubicBezTo>
                    <a:pt x="15322" y="16502"/>
                    <a:pt x="10640" y="19252"/>
                    <a:pt x="56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62080" y="5975280"/>
              <a:ext cx="212760" cy="29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49" y="21600"/>
                  </a:moveTo>
                  <a:cubicBezTo>
                    <a:pt x="4210" y="15884"/>
                    <a:pt x="2105" y="9570"/>
                    <a:pt x="0" y="2991"/>
                  </a:cubicBezTo>
                  <a:cubicBezTo>
                    <a:pt x="2380" y="2459"/>
                    <a:pt x="5949" y="1662"/>
                    <a:pt x="8146" y="1263"/>
                  </a:cubicBezTo>
                  <a:cubicBezTo>
                    <a:pt x="10983" y="864"/>
                    <a:pt x="15834" y="332"/>
                    <a:pt x="18488" y="0"/>
                  </a:cubicBezTo>
                  <a:cubicBezTo>
                    <a:pt x="19495" y="3589"/>
                    <a:pt x="20685" y="7178"/>
                    <a:pt x="21600" y="10634"/>
                  </a:cubicBezTo>
                  <a:cubicBezTo>
                    <a:pt x="21051" y="12229"/>
                    <a:pt x="20044" y="13625"/>
                    <a:pt x="18763" y="14887"/>
                  </a:cubicBezTo>
                  <a:cubicBezTo>
                    <a:pt x="16200" y="17280"/>
                    <a:pt x="10068" y="19938"/>
                    <a:pt x="594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25760" y="5415120"/>
              <a:ext cx="139680" cy="29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8" y="21600"/>
                  </a:moveTo>
                  <a:cubicBezTo>
                    <a:pt x="3046" y="16298"/>
                    <a:pt x="1662" y="11193"/>
                    <a:pt x="554" y="6415"/>
                  </a:cubicBezTo>
                  <a:cubicBezTo>
                    <a:pt x="0" y="4058"/>
                    <a:pt x="3462" y="1440"/>
                    <a:pt x="8446" y="524"/>
                  </a:cubicBezTo>
                  <a:cubicBezTo>
                    <a:pt x="11631" y="0"/>
                    <a:pt x="15231" y="262"/>
                    <a:pt x="17723" y="1047"/>
                  </a:cubicBezTo>
                  <a:cubicBezTo>
                    <a:pt x="19800" y="4713"/>
                    <a:pt x="21600" y="8313"/>
                    <a:pt x="21046" y="12240"/>
                  </a:cubicBezTo>
                  <a:cubicBezTo>
                    <a:pt x="20354" y="14858"/>
                    <a:pt x="16615" y="17345"/>
                    <a:pt x="12600" y="19047"/>
                  </a:cubicBezTo>
                  <a:cubicBezTo>
                    <a:pt x="10246" y="20029"/>
                    <a:pt x="7200" y="21011"/>
                    <a:pt x="470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63560" y="5722920"/>
              <a:ext cx="18288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682" y="18858"/>
                    <a:pt x="3831" y="16317"/>
                    <a:pt x="2873" y="13508"/>
                  </a:cubicBezTo>
                  <a:cubicBezTo>
                    <a:pt x="1809" y="9830"/>
                    <a:pt x="958" y="6219"/>
                    <a:pt x="0" y="2608"/>
                  </a:cubicBezTo>
                  <a:cubicBezTo>
                    <a:pt x="3086" y="2073"/>
                    <a:pt x="7874" y="1271"/>
                    <a:pt x="10747" y="802"/>
                  </a:cubicBezTo>
                  <a:cubicBezTo>
                    <a:pt x="13300" y="535"/>
                    <a:pt x="16918" y="334"/>
                    <a:pt x="19791" y="0"/>
                  </a:cubicBezTo>
                  <a:cubicBezTo>
                    <a:pt x="20217" y="1337"/>
                    <a:pt x="20855" y="2474"/>
                    <a:pt x="21387" y="3946"/>
                  </a:cubicBezTo>
                  <a:cubicBezTo>
                    <a:pt x="21387" y="4213"/>
                    <a:pt x="21387" y="4480"/>
                    <a:pt x="21387" y="4748"/>
                  </a:cubicBezTo>
                  <a:cubicBezTo>
                    <a:pt x="21387" y="5082"/>
                    <a:pt x="21600" y="5417"/>
                    <a:pt x="21600" y="5684"/>
                  </a:cubicBezTo>
                  <a:cubicBezTo>
                    <a:pt x="21174" y="8159"/>
                    <a:pt x="20855" y="11168"/>
                    <a:pt x="18621" y="13241"/>
                  </a:cubicBezTo>
                  <a:cubicBezTo>
                    <a:pt x="15216" y="16451"/>
                    <a:pt x="10640" y="19193"/>
                    <a:pt x="56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25480" y="6056280"/>
              <a:ext cx="212760" cy="29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49" y="21600"/>
                  </a:moveTo>
                  <a:cubicBezTo>
                    <a:pt x="4210" y="15884"/>
                    <a:pt x="2105" y="9570"/>
                    <a:pt x="0" y="2924"/>
                  </a:cubicBezTo>
                  <a:cubicBezTo>
                    <a:pt x="2471" y="2393"/>
                    <a:pt x="5949" y="1662"/>
                    <a:pt x="8146" y="1263"/>
                  </a:cubicBezTo>
                  <a:cubicBezTo>
                    <a:pt x="10983" y="864"/>
                    <a:pt x="15834" y="332"/>
                    <a:pt x="18488" y="0"/>
                  </a:cubicBezTo>
                  <a:cubicBezTo>
                    <a:pt x="19495" y="3522"/>
                    <a:pt x="20593" y="7178"/>
                    <a:pt x="21600" y="10634"/>
                  </a:cubicBezTo>
                  <a:cubicBezTo>
                    <a:pt x="21051" y="12229"/>
                    <a:pt x="20044" y="13625"/>
                    <a:pt x="18763" y="14887"/>
                  </a:cubicBezTo>
                  <a:cubicBezTo>
                    <a:pt x="16200" y="17280"/>
                    <a:pt x="10251" y="19938"/>
                    <a:pt x="594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1440" y="5262480"/>
              <a:ext cx="141480" cy="29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8" y="21600"/>
                  </a:moveTo>
                  <a:cubicBezTo>
                    <a:pt x="3185" y="16298"/>
                    <a:pt x="1800" y="11258"/>
                    <a:pt x="692" y="6349"/>
                  </a:cubicBezTo>
                  <a:cubicBezTo>
                    <a:pt x="0" y="3993"/>
                    <a:pt x="3462" y="1505"/>
                    <a:pt x="8585" y="524"/>
                  </a:cubicBezTo>
                  <a:cubicBezTo>
                    <a:pt x="11631" y="0"/>
                    <a:pt x="15231" y="327"/>
                    <a:pt x="17723" y="982"/>
                  </a:cubicBezTo>
                  <a:cubicBezTo>
                    <a:pt x="19800" y="4713"/>
                    <a:pt x="21600" y="8313"/>
                    <a:pt x="21185" y="12240"/>
                  </a:cubicBezTo>
                  <a:cubicBezTo>
                    <a:pt x="20492" y="14793"/>
                    <a:pt x="16754" y="17345"/>
                    <a:pt x="12600" y="19113"/>
                  </a:cubicBezTo>
                  <a:cubicBezTo>
                    <a:pt x="10246" y="20095"/>
                    <a:pt x="7338" y="21076"/>
                    <a:pt x="470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9600" y="5570640"/>
              <a:ext cx="18432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718" y="21600"/>
                  </a:moveTo>
                  <a:cubicBezTo>
                    <a:pt x="4765" y="18867"/>
                    <a:pt x="3918" y="16200"/>
                    <a:pt x="2965" y="13600"/>
                  </a:cubicBezTo>
                  <a:cubicBezTo>
                    <a:pt x="1800" y="9867"/>
                    <a:pt x="953" y="6267"/>
                    <a:pt x="0" y="2667"/>
                  </a:cubicBezTo>
                  <a:cubicBezTo>
                    <a:pt x="3176" y="2133"/>
                    <a:pt x="7835" y="1333"/>
                    <a:pt x="10694" y="933"/>
                  </a:cubicBezTo>
                  <a:cubicBezTo>
                    <a:pt x="13235" y="667"/>
                    <a:pt x="16835" y="400"/>
                    <a:pt x="19800" y="0"/>
                  </a:cubicBezTo>
                  <a:cubicBezTo>
                    <a:pt x="20118" y="1467"/>
                    <a:pt x="20859" y="2600"/>
                    <a:pt x="21282" y="3933"/>
                  </a:cubicBezTo>
                  <a:cubicBezTo>
                    <a:pt x="21282" y="4267"/>
                    <a:pt x="21282" y="4533"/>
                    <a:pt x="21282" y="4800"/>
                  </a:cubicBezTo>
                  <a:cubicBezTo>
                    <a:pt x="21282" y="5067"/>
                    <a:pt x="21600" y="5400"/>
                    <a:pt x="21600" y="5733"/>
                  </a:cubicBezTo>
                  <a:cubicBezTo>
                    <a:pt x="21071" y="8200"/>
                    <a:pt x="20859" y="11200"/>
                    <a:pt x="18529" y="13267"/>
                  </a:cubicBezTo>
                  <a:cubicBezTo>
                    <a:pt x="15247" y="16600"/>
                    <a:pt x="10482" y="19200"/>
                    <a:pt x="571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43320" y="5905440"/>
              <a:ext cx="212400" cy="29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015" y="21600"/>
                  </a:moveTo>
                  <a:cubicBezTo>
                    <a:pt x="4192" y="15769"/>
                    <a:pt x="2096" y="9541"/>
                    <a:pt x="0" y="2915"/>
                  </a:cubicBezTo>
                  <a:cubicBezTo>
                    <a:pt x="2552" y="2385"/>
                    <a:pt x="6015" y="1723"/>
                    <a:pt x="8111" y="1259"/>
                  </a:cubicBezTo>
                  <a:cubicBezTo>
                    <a:pt x="10937" y="861"/>
                    <a:pt x="15767" y="265"/>
                    <a:pt x="18501" y="0"/>
                  </a:cubicBezTo>
                  <a:cubicBezTo>
                    <a:pt x="19413" y="3512"/>
                    <a:pt x="20597" y="7156"/>
                    <a:pt x="21600" y="10667"/>
                  </a:cubicBezTo>
                  <a:cubicBezTo>
                    <a:pt x="20962" y="12191"/>
                    <a:pt x="20051" y="13583"/>
                    <a:pt x="18684" y="14842"/>
                  </a:cubicBezTo>
                  <a:cubicBezTo>
                    <a:pt x="16223" y="17227"/>
                    <a:pt x="10208" y="19877"/>
                    <a:pt x="6015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1920" y="5168880"/>
              <a:ext cx="141120" cy="29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78" y="21600"/>
                  </a:moveTo>
                  <a:cubicBezTo>
                    <a:pt x="3302" y="16348"/>
                    <a:pt x="1926" y="11161"/>
                    <a:pt x="688" y="6303"/>
                  </a:cubicBezTo>
                  <a:cubicBezTo>
                    <a:pt x="0" y="4071"/>
                    <a:pt x="3577" y="1313"/>
                    <a:pt x="8530" y="525"/>
                  </a:cubicBezTo>
                  <a:cubicBezTo>
                    <a:pt x="11832" y="0"/>
                    <a:pt x="15271" y="263"/>
                    <a:pt x="17885" y="919"/>
                  </a:cubicBezTo>
                  <a:cubicBezTo>
                    <a:pt x="19949" y="4661"/>
                    <a:pt x="21600" y="8338"/>
                    <a:pt x="21050" y="12146"/>
                  </a:cubicBezTo>
                  <a:cubicBezTo>
                    <a:pt x="20499" y="14903"/>
                    <a:pt x="16647" y="17267"/>
                    <a:pt x="12382" y="19171"/>
                  </a:cubicBezTo>
                  <a:cubicBezTo>
                    <a:pt x="10181" y="20090"/>
                    <a:pt x="7429" y="21009"/>
                    <a:pt x="467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11520" y="5477040"/>
              <a:ext cx="18252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788" y="18925"/>
                    <a:pt x="3831" y="16250"/>
                    <a:pt x="2979" y="13575"/>
                  </a:cubicBezTo>
                  <a:cubicBezTo>
                    <a:pt x="1702" y="9897"/>
                    <a:pt x="851" y="6219"/>
                    <a:pt x="0" y="2742"/>
                  </a:cubicBezTo>
                  <a:cubicBezTo>
                    <a:pt x="3192" y="2207"/>
                    <a:pt x="7874" y="1271"/>
                    <a:pt x="10853" y="802"/>
                  </a:cubicBezTo>
                  <a:cubicBezTo>
                    <a:pt x="13194" y="535"/>
                    <a:pt x="16812" y="267"/>
                    <a:pt x="19791" y="0"/>
                  </a:cubicBezTo>
                  <a:cubicBezTo>
                    <a:pt x="20217" y="1404"/>
                    <a:pt x="20855" y="2608"/>
                    <a:pt x="21387" y="3946"/>
                  </a:cubicBezTo>
                  <a:cubicBezTo>
                    <a:pt x="21387" y="4213"/>
                    <a:pt x="21387" y="4547"/>
                    <a:pt x="21387" y="4748"/>
                  </a:cubicBezTo>
                  <a:cubicBezTo>
                    <a:pt x="21387" y="5082"/>
                    <a:pt x="21600" y="5350"/>
                    <a:pt x="21600" y="5617"/>
                  </a:cubicBezTo>
                  <a:cubicBezTo>
                    <a:pt x="21068" y="8225"/>
                    <a:pt x="20855" y="11168"/>
                    <a:pt x="18621" y="13375"/>
                  </a:cubicBezTo>
                  <a:cubicBezTo>
                    <a:pt x="15322" y="16518"/>
                    <a:pt x="10534" y="19193"/>
                    <a:pt x="56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73440" y="5811840"/>
              <a:ext cx="212760" cy="2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041" y="21600"/>
                  </a:moveTo>
                  <a:cubicBezTo>
                    <a:pt x="4210" y="15836"/>
                    <a:pt x="2105" y="9674"/>
                    <a:pt x="0" y="2982"/>
                  </a:cubicBezTo>
                  <a:cubicBezTo>
                    <a:pt x="2471" y="2452"/>
                    <a:pt x="6041" y="1723"/>
                    <a:pt x="8054" y="1325"/>
                  </a:cubicBezTo>
                  <a:cubicBezTo>
                    <a:pt x="10983" y="861"/>
                    <a:pt x="15834" y="331"/>
                    <a:pt x="18488" y="0"/>
                  </a:cubicBezTo>
                  <a:cubicBezTo>
                    <a:pt x="19495" y="3578"/>
                    <a:pt x="20685" y="7156"/>
                    <a:pt x="21600" y="10734"/>
                  </a:cubicBezTo>
                  <a:cubicBezTo>
                    <a:pt x="21051" y="12191"/>
                    <a:pt x="20044" y="13649"/>
                    <a:pt x="18671" y="14908"/>
                  </a:cubicBezTo>
                  <a:cubicBezTo>
                    <a:pt x="16200" y="17293"/>
                    <a:pt x="10159" y="19877"/>
                    <a:pt x="6041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3200" y="5121360"/>
              <a:ext cx="141120" cy="29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78" y="21600"/>
                  </a:moveTo>
                  <a:cubicBezTo>
                    <a:pt x="3302" y="16364"/>
                    <a:pt x="1651" y="11258"/>
                    <a:pt x="550" y="6480"/>
                  </a:cubicBezTo>
                  <a:cubicBezTo>
                    <a:pt x="0" y="4058"/>
                    <a:pt x="3439" y="1505"/>
                    <a:pt x="8392" y="589"/>
                  </a:cubicBezTo>
                  <a:cubicBezTo>
                    <a:pt x="11694" y="0"/>
                    <a:pt x="15134" y="327"/>
                    <a:pt x="17748" y="1047"/>
                  </a:cubicBezTo>
                  <a:cubicBezTo>
                    <a:pt x="19811" y="4778"/>
                    <a:pt x="21600" y="8378"/>
                    <a:pt x="20912" y="12305"/>
                  </a:cubicBezTo>
                  <a:cubicBezTo>
                    <a:pt x="20224" y="14793"/>
                    <a:pt x="16372" y="17411"/>
                    <a:pt x="12520" y="19113"/>
                  </a:cubicBezTo>
                  <a:cubicBezTo>
                    <a:pt x="10181" y="20095"/>
                    <a:pt x="7292" y="21076"/>
                    <a:pt x="4678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51000" y="5430960"/>
              <a:ext cx="18288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682" y="18858"/>
                    <a:pt x="3831" y="16250"/>
                    <a:pt x="2979" y="13508"/>
                  </a:cubicBezTo>
                  <a:cubicBezTo>
                    <a:pt x="1809" y="9830"/>
                    <a:pt x="958" y="6219"/>
                    <a:pt x="0" y="2608"/>
                  </a:cubicBezTo>
                  <a:cubicBezTo>
                    <a:pt x="3086" y="2006"/>
                    <a:pt x="7874" y="1204"/>
                    <a:pt x="10853" y="869"/>
                  </a:cubicBezTo>
                  <a:cubicBezTo>
                    <a:pt x="13300" y="535"/>
                    <a:pt x="16918" y="267"/>
                    <a:pt x="19791" y="0"/>
                  </a:cubicBezTo>
                  <a:cubicBezTo>
                    <a:pt x="20323" y="1337"/>
                    <a:pt x="20855" y="2474"/>
                    <a:pt x="21387" y="3946"/>
                  </a:cubicBezTo>
                  <a:cubicBezTo>
                    <a:pt x="21387" y="4146"/>
                    <a:pt x="21387" y="4480"/>
                    <a:pt x="21387" y="4748"/>
                  </a:cubicBezTo>
                  <a:cubicBezTo>
                    <a:pt x="21387" y="5015"/>
                    <a:pt x="21600" y="5350"/>
                    <a:pt x="21600" y="5684"/>
                  </a:cubicBezTo>
                  <a:cubicBezTo>
                    <a:pt x="21174" y="8092"/>
                    <a:pt x="20855" y="11101"/>
                    <a:pt x="18727" y="13174"/>
                  </a:cubicBezTo>
                  <a:cubicBezTo>
                    <a:pt x="15322" y="16518"/>
                    <a:pt x="10640" y="19126"/>
                    <a:pt x="563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4720" y="5764320"/>
              <a:ext cx="212760" cy="2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24" y="21600"/>
                  </a:moveTo>
                  <a:cubicBezTo>
                    <a:pt x="4284" y="15884"/>
                    <a:pt x="2096" y="9504"/>
                    <a:pt x="0" y="2924"/>
                  </a:cubicBezTo>
                  <a:cubicBezTo>
                    <a:pt x="2461" y="2393"/>
                    <a:pt x="5924" y="1662"/>
                    <a:pt x="8111" y="1263"/>
                  </a:cubicBezTo>
                  <a:cubicBezTo>
                    <a:pt x="11028" y="864"/>
                    <a:pt x="15676" y="266"/>
                    <a:pt x="18501" y="0"/>
                  </a:cubicBezTo>
                  <a:cubicBezTo>
                    <a:pt x="19413" y="3456"/>
                    <a:pt x="20597" y="7178"/>
                    <a:pt x="21600" y="10634"/>
                  </a:cubicBezTo>
                  <a:cubicBezTo>
                    <a:pt x="20962" y="12229"/>
                    <a:pt x="20051" y="13625"/>
                    <a:pt x="18684" y="14887"/>
                  </a:cubicBezTo>
                  <a:cubicBezTo>
                    <a:pt x="16132" y="17214"/>
                    <a:pt x="10208" y="19938"/>
                    <a:pt x="5924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2480" y="6100920"/>
              <a:ext cx="19368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29" y="21600"/>
                  </a:moveTo>
                  <a:cubicBezTo>
                    <a:pt x="5124" y="18247"/>
                    <a:pt x="3918" y="14830"/>
                    <a:pt x="2913" y="11413"/>
                  </a:cubicBezTo>
                  <a:cubicBezTo>
                    <a:pt x="2110" y="9027"/>
                    <a:pt x="1005" y="5996"/>
                    <a:pt x="0" y="2708"/>
                  </a:cubicBezTo>
                  <a:cubicBezTo>
                    <a:pt x="2713" y="2192"/>
                    <a:pt x="5927" y="1483"/>
                    <a:pt x="8138" y="1225"/>
                  </a:cubicBezTo>
                  <a:cubicBezTo>
                    <a:pt x="11353" y="774"/>
                    <a:pt x="16476" y="258"/>
                    <a:pt x="19490" y="0"/>
                  </a:cubicBezTo>
                  <a:cubicBezTo>
                    <a:pt x="20193" y="1741"/>
                    <a:pt x="20997" y="3675"/>
                    <a:pt x="21600" y="5416"/>
                  </a:cubicBezTo>
                  <a:cubicBezTo>
                    <a:pt x="20193" y="8704"/>
                    <a:pt x="17983" y="12057"/>
                    <a:pt x="15472" y="15088"/>
                  </a:cubicBezTo>
                  <a:cubicBezTo>
                    <a:pt x="13362" y="17731"/>
                    <a:pt x="9846" y="19666"/>
                    <a:pt x="632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3760" y="6438960"/>
              <a:ext cx="195480" cy="30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70" y="21600"/>
                  </a:moveTo>
                  <a:cubicBezTo>
                    <a:pt x="4181" y="15126"/>
                    <a:pt x="1792" y="8845"/>
                    <a:pt x="0" y="2564"/>
                  </a:cubicBezTo>
                  <a:cubicBezTo>
                    <a:pt x="2787" y="2051"/>
                    <a:pt x="5674" y="1474"/>
                    <a:pt x="7764" y="1218"/>
                  </a:cubicBezTo>
                  <a:cubicBezTo>
                    <a:pt x="10850" y="769"/>
                    <a:pt x="15926" y="192"/>
                    <a:pt x="18912" y="0"/>
                  </a:cubicBezTo>
                  <a:cubicBezTo>
                    <a:pt x="19709" y="2820"/>
                    <a:pt x="20804" y="5769"/>
                    <a:pt x="21600" y="8653"/>
                  </a:cubicBezTo>
                  <a:cubicBezTo>
                    <a:pt x="20804" y="10255"/>
                    <a:pt x="20206" y="12178"/>
                    <a:pt x="18912" y="13716"/>
                  </a:cubicBezTo>
                  <a:cubicBezTo>
                    <a:pt x="16225" y="16921"/>
                    <a:pt x="11547" y="19485"/>
                    <a:pt x="6470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33600" y="6761160"/>
              <a:ext cx="184320" cy="1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99" y="21600"/>
                  </a:moveTo>
                  <a:cubicBezTo>
                    <a:pt x="2234" y="16281"/>
                    <a:pt x="1064" y="10746"/>
                    <a:pt x="0" y="5427"/>
                  </a:cubicBezTo>
                  <a:cubicBezTo>
                    <a:pt x="0" y="4884"/>
                    <a:pt x="0" y="4559"/>
                    <a:pt x="0" y="4016"/>
                  </a:cubicBezTo>
                  <a:cubicBezTo>
                    <a:pt x="2767" y="3148"/>
                    <a:pt x="5852" y="2496"/>
                    <a:pt x="8300" y="2062"/>
                  </a:cubicBezTo>
                  <a:cubicBezTo>
                    <a:pt x="11492" y="1303"/>
                    <a:pt x="16386" y="760"/>
                    <a:pt x="19578" y="0"/>
                  </a:cubicBezTo>
                  <a:cubicBezTo>
                    <a:pt x="20217" y="3473"/>
                    <a:pt x="20855" y="6838"/>
                    <a:pt x="21600" y="10312"/>
                  </a:cubicBezTo>
                  <a:cubicBezTo>
                    <a:pt x="20004" y="12808"/>
                    <a:pt x="17982" y="15087"/>
                    <a:pt x="15535" y="16716"/>
                  </a:cubicBezTo>
                  <a:cubicBezTo>
                    <a:pt x="11704" y="19212"/>
                    <a:pt x="7661" y="20297"/>
                    <a:pt x="3299" y="2160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2760" y="5133960"/>
            <a:ext cx="1888920" cy="2136960"/>
            <a:chOff x="1652760" y="5133960"/>
            <a:chExt cx="1888920" cy="2136960"/>
          </a:xfrm>
        </p:grpSpPr>
        <p:sp>
          <p:nvSpPr>
            <p:cNvPr id="161" name=""/>
            <p:cNvSpPr/>
            <p:nvPr/>
          </p:nvSpPr>
          <p:spPr>
            <a:xfrm>
              <a:off x="1974960" y="7139160"/>
              <a:ext cx="179280" cy="13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" y="18937"/>
                  </a:moveTo>
                  <a:cubicBezTo>
                    <a:pt x="543" y="17753"/>
                    <a:pt x="326" y="16422"/>
                    <a:pt x="0" y="15238"/>
                  </a:cubicBezTo>
                  <a:cubicBezTo>
                    <a:pt x="4342" y="13907"/>
                    <a:pt x="8575" y="12132"/>
                    <a:pt x="12374" y="8729"/>
                  </a:cubicBezTo>
                  <a:cubicBezTo>
                    <a:pt x="14979" y="6510"/>
                    <a:pt x="16824" y="3255"/>
                    <a:pt x="18452" y="0"/>
                  </a:cubicBezTo>
                  <a:cubicBezTo>
                    <a:pt x="19538" y="7101"/>
                    <a:pt x="20515" y="14351"/>
                    <a:pt x="21600" y="21600"/>
                  </a:cubicBezTo>
                  <a:cubicBezTo>
                    <a:pt x="17692" y="20121"/>
                    <a:pt x="13351" y="18641"/>
                    <a:pt x="9118" y="18345"/>
                  </a:cubicBezTo>
                  <a:cubicBezTo>
                    <a:pt x="6187" y="18049"/>
                    <a:pt x="3690" y="18345"/>
                    <a:pt x="760" y="18937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9000" y="5343480"/>
              <a:ext cx="173160" cy="3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2" y="21600"/>
                  </a:moveTo>
                  <a:cubicBezTo>
                    <a:pt x="565" y="21033"/>
                    <a:pt x="339" y="20466"/>
                    <a:pt x="0" y="19963"/>
                  </a:cubicBezTo>
                  <a:cubicBezTo>
                    <a:pt x="2262" y="19396"/>
                    <a:pt x="4750" y="18451"/>
                    <a:pt x="6672" y="17507"/>
                  </a:cubicBezTo>
                  <a:cubicBezTo>
                    <a:pt x="10065" y="15806"/>
                    <a:pt x="13118" y="13476"/>
                    <a:pt x="13684" y="10957"/>
                  </a:cubicBezTo>
                  <a:cubicBezTo>
                    <a:pt x="14136" y="7179"/>
                    <a:pt x="12892" y="3590"/>
                    <a:pt x="11196" y="0"/>
                  </a:cubicBezTo>
                  <a:cubicBezTo>
                    <a:pt x="13458" y="504"/>
                    <a:pt x="14588" y="1637"/>
                    <a:pt x="15041" y="2771"/>
                  </a:cubicBezTo>
                  <a:cubicBezTo>
                    <a:pt x="16963" y="8061"/>
                    <a:pt x="19451" y="13476"/>
                    <a:pt x="21600" y="18766"/>
                  </a:cubicBezTo>
                  <a:cubicBezTo>
                    <a:pt x="18660" y="19018"/>
                    <a:pt x="14815" y="19396"/>
                    <a:pt x="12101" y="19711"/>
                  </a:cubicBezTo>
                  <a:cubicBezTo>
                    <a:pt x="9160" y="20089"/>
                    <a:pt x="4184" y="21033"/>
                    <a:pt x="792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46240" y="5716440"/>
              <a:ext cx="19548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4" y="21600"/>
                  </a:moveTo>
                  <a:cubicBezTo>
                    <a:pt x="796" y="20232"/>
                    <a:pt x="398" y="18720"/>
                    <a:pt x="0" y="17136"/>
                  </a:cubicBezTo>
                  <a:cubicBezTo>
                    <a:pt x="4479" y="14616"/>
                    <a:pt x="9257" y="11664"/>
                    <a:pt x="12442" y="8208"/>
                  </a:cubicBezTo>
                  <a:cubicBezTo>
                    <a:pt x="14433" y="5976"/>
                    <a:pt x="14632" y="2736"/>
                    <a:pt x="15130" y="0"/>
                  </a:cubicBezTo>
                  <a:cubicBezTo>
                    <a:pt x="17121" y="6336"/>
                    <a:pt x="19510" y="12528"/>
                    <a:pt x="21600" y="18576"/>
                  </a:cubicBezTo>
                  <a:cubicBezTo>
                    <a:pt x="18614" y="18864"/>
                    <a:pt x="13438" y="19440"/>
                    <a:pt x="10253" y="19944"/>
                  </a:cubicBezTo>
                  <a:cubicBezTo>
                    <a:pt x="7764" y="20376"/>
                    <a:pt x="3982" y="21024"/>
                    <a:pt x="119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2560" y="6119640"/>
              <a:ext cx="189000" cy="2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930" y="19792"/>
                    <a:pt x="517" y="17794"/>
                    <a:pt x="0" y="15700"/>
                  </a:cubicBezTo>
                  <a:cubicBezTo>
                    <a:pt x="4857" y="13322"/>
                    <a:pt x="11368" y="9515"/>
                    <a:pt x="14262" y="6090"/>
                  </a:cubicBezTo>
                  <a:cubicBezTo>
                    <a:pt x="15709" y="4282"/>
                    <a:pt x="16536" y="2284"/>
                    <a:pt x="17259" y="0"/>
                  </a:cubicBezTo>
                  <a:cubicBezTo>
                    <a:pt x="18810" y="5900"/>
                    <a:pt x="20360" y="11609"/>
                    <a:pt x="21600" y="17604"/>
                  </a:cubicBezTo>
                  <a:cubicBezTo>
                    <a:pt x="18603" y="17984"/>
                    <a:pt x="13332" y="18745"/>
                    <a:pt x="10128" y="19316"/>
                  </a:cubicBezTo>
                  <a:cubicBezTo>
                    <a:pt x="7648" y="19982"/>
                    <a:pt x="4134" y="20839"/>
                    <a:pt x="134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5640" y="6391440"/>
              <a:ext cx="183960" cy="26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" y="21600"/>
                  </a:moveTo>
                  <a:cubicBezTo>
                    <a:pt x="847" y="20505"/>
                    <a:pt x="318" y="19265"/>
                    <a:pt x="0" y="18024"/>
                  </a:cubicBezTo>
                  <a:cubicBezTo>
                    <a:pt x="3706" y="15835"/>
                    <a:pt x="7518" y="13573"/>
                    <a:pt x="9847" y="10581"/>
                  </a:cubicBezTo>
                  <a:cubicBezTo>
                    <a:pt x="12494" y="7297"/>
                    <a:pt x="14506" y="3722"/>
                    <a:pt x="16094" y="0"/>
                  </a:cubicBezTo>
                  <a:cubicBezTo>
                    <a:pt x="17788" y="6057"/>
                    <a:pt x="19800" y="12843"/>
                    <a:pt x="21600" y="18827"/>
                  </a:cubicBezTo>
                  <a:cubicBezTo>
                    <a:pt x="18529" y="19119"/>
                    <a:pt x="13129" y="19703"/>
                    <a:pt x="9847" y="20214"/>
                  </a:cubicBezTo>
                  <a:cubicBezTo>
                    <a:pt x="7306" y="20505"/>
                    <a:pt x="3918" y="21089"/>
                    <a:pt x="1271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11560" y="7056360"/>
              <a:ext cx="191880" cy="16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07" y="16813"/>
                  </a:moveTo>
                  <a:cubicBezTo>
                    <a:pt x="505" y="15762"/>
                    <a:pt x="202" y="12843"/>
                    <a:pt x="0" y="11909"/>
                  </a:cubicBezTo>
                  <a:cubicBezTo>
                    <a:pt x="3735" y="11209"/>
                    <a:pt x="7065" y="10158"/>
                    <a:pt x="10699" y="7706"/>
                  </a:cubicBezTo>
                  <a:cubicBezTo>
                    <a:pt x="13222" y="5604"/>
                    <a:pt x="14938" y="2919"/>
                    <a:pt x="16351" y="0"/>
                  </a:cubicBezTo>
                  <a:cubicBezTo>
                    <a:pt x="18168" y="6538"/>
                    <a:pt x="19682" y="13777"/>
                    <a:pt x="21600" y="21600"/>
                  </a:cubicBezTo>
                  <a:cubicBezTo>
                    <a:pt x="16856" y="19031"/>
                    <a:pt x="12617" y="15996"/>
                    <a:pt x="7873" y="15762"/>
                  </a:cubicBezTo>
                  <a:cubicBezTo>
                    <a:pt x="5551" y="15412"/>
                    <a:pt x="3028" y="16813"/>
                    <a:pt x="707" y="16813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52760" y="5427720"/>
              <a:ext cx="174600" cy="30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2" y="21600"/>
                  </a:moveTo>
                  <a:cubicBezTo>
                    <a:pt x="560" y="21157"/>
                    <a:pt x="336" y="20587"/>
                    <a:pt x="0" y="20016"/>
                  </a:cubicBezTo>
                  <a:cubicBezTo>
                    <a:pt x="2238" y="19446"/>
                    <a:pt x="4812" y="18496"/>
                    <a:pt x="6715" y="17546"/>
                  </a:cubicBezTo>
                  <a:cubicBezTo>
                    <a:pt x="9961" y="15899"/>
                    <a:pt x="12982" y="13492"/>
                    <a:pt x="13542" y="10958"/>
                  </a:cubicBezTo>
                  <a:cubicBezTo>
                    <a:pt x="13990" y="7158"/>
                    <a:pt x="12759" y="3547"/>
                    <a:pt x="11080" y="0"/>
                  </a:cubicBezTo>
                  <a:cubicBezTo>
                    <a:pt x="13318" y="507"/>
                    <a:pt x="14437" y="1520"/>
                    <a:pt x="14885" y="2724"/>
                  </a:cubicBezTo>
                  <a:cubicBezTo>
                    <a:pt x="16788" y="8045"/>
                    <a:pt x="19138" y="13492"/>
                    <a:pt x="21600" y="18813"/>
                  </a:cubicBezTo>
                  <a:cubicBezTo>
                    <a:pt x="18466" y="19066"/>
                    <a:pt x="14661" y="19446"/>
                    <a:pt x="12087" y="19700"/>
                  </a:cubicBezTo>
                  <a:cubicBezTo>
                    <a:pt x="9065" y="20143"/>
                    <a:pt x="4029" y="21157"/>
                    <a:pt x="672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9640" y="5799240"/>
              <a:ext cx="195480" cy="26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4" y="21600"/>
                  </a:moveTo>
                  <a:cubicBezTo>
                    <a:pt x="796" y="20227"/>
                    <a:pt x="398" y="18710"/>
                    <a:pt x="0" y="17193"/>
                  </a:cubicBezTo>
                  <a:cubicBezTo>
                    <a:pt x="4579" y="14593"/>
                    <a:pt x="9158" y="11631"/>
                    <a:pt x="12343" y="8163"/>
                  </a:cubicBezTo>
                  <a:cubicBezTo>
                    <a:pt x="14433" y="5924"/>
                    <a:pt x="14732" y="2673"/>
                    <a:pt x="15130" y="0"/>
                  </a:cubicBezTo>
                  <a:cubicBezTo>
                    <a:pt x="17220" y="6140"/>
                    <a:pt x="19510" y="12425"/>
                    <a:pt x="21600" y="18566"/>
                  </a:cubicBezTo>
                  <a:cubicBezTo>
                    <a:pt x="18614" y="18855"/>
                    <a:pt x="13438" y="19433"/>
                    <a:pt x="10253" y="19938"/>
                  </a:cubicBezTo>
                  <a:cubicBezTo>
                    <a:pt x="7764" y="20372"/>
                    <a:pt x="3982" y="21022"/>
                    <a:pt x="119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85960" y="6200640"/>
              <a:ext cx="189000" cy="2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827" y="19880"/>
                    <a:pt x="517" y="17873"/>
                    <a:pt x="0" y="15770"/>
                  </a:cubicBezTo>
                  <a:cubicBezTo>
                    <a:pt x="4857" y="13381"/>
                    <a:pt x="11368" y="9558"/>
                    <a:pt x="14262" y="6117"/>
                  </a:cubicBezTo>
                  <a:cubicBezTo>
                    <a:pt x="15709" y="4301"/>
                    <a:pt x="16536" y="2294"/>
                    <a:pt x="17259" y="0"/>
                  </a:cubicBezTo>
                  <a:cubicBezTo>
                    <a:pt x="18810" y="5926"/>
                    <a:pt x="20360" y="11756"/>
                    <a:pt x="21600" y="17586"/>
                  </a:cubicBezTo>
                  <a:cubicBezTo>
                    <a:pt x="18603" y="18064"/>
                    <a:pt x="13332" y="18733"/>
                    <a:pt x="10128" y="19497"/>
                  </a:cubicBezTo>
                  <a:cubicBezTo>
                    <a:pt x="7648" y="19975"/>
                    <a:pt x="4134" y="20835"/>
                    <a:pt x="134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9040" y="6473880"/>
              <a:ext cx="18396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" y="21600"/>
                  </a:moveTo>
                  <a:cubicBezTo>
                    <a:pt x="741" y="20505"/>
                    <a:pt x="318" y="19265"/>
                    <a:pt x="0" y="18024"/>
                  </a:cubicBezTo>
                  <a:cubicBezTo>
                    <a:pt x="3706" y="15835"/>
                    <a:pt x="7518" y="13573"/>
                    <a:pt x="9741" y="10654"/>
                  </a:cubicBezTo>
                  <a:cubicBezTo>
                    <a:pt x="12494" y="7297"/>
                    <a:pt x="14506" y="3649"/>
                    <a:pt x="16094" y="0"/>
                  </a:cubicBezTo>
                  <a:cubicBezTo>
                    <a:pt x="17788" y="6057"/>
                    <a:pt x="19800" y="12843"/>
                    <a:pt x="21600" y="18827"/>
                  </a:cubicBezTo>
                  <a:cubicBezTo>
                    <a:pt x="18529" y="19119"/>
                    <a:pt x="13129" y="19703"/>
                    <a:pt x="9741" y="20214"/>
                  </a:cubicBezTo>
                  <a:cubicBezTo>
                    <a:pt x="7306" y="20505"/>
                    <a:pt x="3918" y="21016"/>
                    <a:pt x="1271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35000" y="6858000"/>
              <a:ext cx="173160" cy="20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450" y="20657"/>
                    <a:pt x="225" y="19714"/>
                    <a:pt x="0" y="18676"/>
                  </a:cubicBezTo>
                  <a:cubicBezTo>
                    <a:pt x="5738" y="15563"/>
                    <a:pt x="11025" y="11696"/>
                    <a:pt x="14063" y="6980"/>
                  </a:cubicBezTo>
                  <a:cubicBezTo>
                    <a:pt x="15413" y="4716"/>
                    <a:pt x="16313" y="2264"/>
                    <a:pt x="17438" y="0"/>
                  </a:cubicBezTo>
                  <a:cubicBezTo>
                    <a:pt x="18338" y="4339"/>
                    <a:pt x="19350" y="8300"/>
                    <a:pt x="20250" y="12734"/>
                  </a:cubicBezTo>
                  <a:cubicBezTo>
                    <a:pt x="20700" y="14526"/>
                    <a:pt x="21150" y="16224"/>
                    <a:pt x="21600" y="18016"/>
                  </a:cubicBezTo>
                  <a:cubicBezTo>
                    <a:pt x="18338" y="18393"/>
                    <a:pt x="13050" y="19053"/>
                    <a:pt x="9675" y="19525"/>
                  </a:cubicBezTo>
                  <a:cubicBezTo>
                    <a:pt x="7200" y="19902"/>
                    <a:pt x="3825" y="20845"/>
                    <a:pt x="788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70240" y="5273640"/>
              <a:ext cx="172800" cy="3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21096"/>
                    <a:pt x="225" y="20466"/>
                    <a:pt x="0" y="19963"/>
                  </a:cubicBezTo>
                  <a:cubicBezTo>
                    <a:pt x="2138" y="19459"/>
                    <a:pt x="4725" y="18514"/>
                    <a:pt x="6638" y="17570"/>
                  </a:cubicBezTo>
                  <a:cubicBezTo>
                    <a:pt x="10013" y="15869"/>
                    <a:pt x="13050" y="13413"/>
                    <a:pt x="13613" y="10957"/>
                  </a:cubicBezTo>
                  <a:cubicBezTo>
                    <a:pt x="13950" y="7179"/>
                    <a:pt x="12825" y="3527"/>
                    <a:pt x="11138" y="0"/>
                  </a:cubicBezTo>
                  <a:cubicBezTo>
                    <a:pt x="13275" y="630"/>
                    <a:pt x="14513" y="1637"/>
                    <a:pt x="14963" y="2771"/>
                  </a:cubicBezTo>
                  <a:cubicBezTo>
                    <a:pt x="16875" y="8124"/>
                    <a:pt x="19238" y="13413"/>
                    <a:pt x="21600" y="18703"/>
                  </a:cubicBezTo>
                  <a:cubicBezTo>
                    <a:pt x="18563" y="19018"/>
                    <a:pt x="14738" y="19459"/>
                    <a:pt x="12150" y="19648"/>
                  </a:cubicBezTo>
                  <a:cubicBezTo>
                    <a:pt x="9000" y="20089"/>
                    <a:pt x="3938" y="21096"/>
                    <a:pt x="675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25680" y="5646600"/>
              <a:ext cx="19512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8" y="21600"/>
                  </a:moveTo>
                  <a:cubicBezTo>
                    <a:pt x="793" y="20227"/>
                    <a:pt x="396" y="18710"/>
                    <a:pt x="0" y="17193"/>
                  </a:cubicBezTo>
                  <a:cubicBezTo>
                    <a:pt x="4657" y="14593"/>
                    <a:pt x="9215" y="11775"/>
                    <a:pt x="12286" y="8163"/>
                  </a:cubicBezTo>
                  <a:cubicBezTo>
                    <a:pt x="14466" y="5924"/>
                    <a:pt x="14664" y="2673"/>
                    <a:pt x="15160" y="0"/>
                  </a:cubicBezTo>
                  <a:cubicBezTo>
                    <a:pt x="17141" y="6285"/>
                    <a:pt x="19519" y="12425"/>
                    <a:pt x="21600" y="18494"/>
                  </a:cubicBezTo>
                  <a:cubicBezTo>
                    <a:pt x="18628" y="18855"/>
                    <a:pt x="13475" y="19433"/>
                    <a:pt x="10305" y="19938"/>
                  </a:cubicBezTo>
                  <a:cubicBezTo>
                    <a:pt x="7728" y="20372"/>
                    <a:pt x="3963" y="20950"/>
                    <a:pt x="1288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3440" y="6049800"/>
              <a:ext cx="189000" cy="2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0" y="21600"/>
                  </a:moveTo>
                  <a:cubicBezTo>
                    <a:pt x="827" y="19784"/>
                    <a:pt x="413" y="17681"/>
                    <a:pt x="0" y="15770"/>
                  </a:cubicBezTo>
                  <a:cubicBezTo>
                    <a:pt x="4754" y="13285"/>
                    <a:pt x="11368" y="9462"/>
                    <a:pt x="14159" y="6021"/>
                  </a:cubicBezTo>
                  <a:cubicBezTo>
                    <a:pt x="15709" y="4205"/>
                    <a:pt x="16536" y="2198"/>
                    <a:pt x="17259" y="0"/>
                  </a:cubicBezTo>
                  <a:cubicBezTo>
                    <a:pt x="18810" y="5830"/>
                    <a:pt x="20153" y="11660"/>
                    <a:pt x="21600" y="17490"/>
                  </a:cubicBezTo>
                  <a:cubicBezTo>
                    <a:pt x="18500" y="17968"/>
                    <a:pt x="13229" y="18828"/>
                    <a:pt x="9922" y="19211"/>
                  </a:cubicBezTo>
                  <a:cubicBezTo>
                    <a:pt x="7648" y="19975"/>
                    <a:pt x="4134" y="20740"/>
                    <a:pt x="1240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76520" y="6321600"/>
              <a:ext cx="184320" cy="26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70" y="21600"/>
                  </a:moveTo>
                  <a:cubicBezTo>
                    <a:pt x="843" y="20436"/>
                    <a:pt x="421" y="19200"/>
                    <a:pt x="0" y="17964"/>
                  </a:cubicBezTo>
                  <a:cubicBezTo>
                    <a:pt x="3793" y="15709"/>
                    <a:pt x="7586" y="13527"/>
                    <a:pt x="9799" y="10618"/>
                  </a:cubicBezTo>
                  <a:cubicBezTo>
                    <a:pt x="12539" y="7200"/>
                    <a:pt x="14435" y="3636"/>
                    <a:pt x="16016" y="0"/>
                  </a:cubicBezTo>
                  <a:cubicBezTo>
                    <a:pt x="17807" y="5964"/>
                    <a:pt x="19809" y="12727"/>
                    <a:pt x="21600" y="18691"/>
                  </a:cubicBezTo>
                  <a:cubicBezTo>
                    <a:pt x="18439" y="19055"/>
                    <a:pt x="13065" y="19636"/>
                    <a:pt x="9799" y="20145"/>
                  </a:cubicBezTo>
                  <a:cubicBezTo>
                    <a:pt x="7376" y="20436"/>
                    <a:pt x="4004" y="21018"/>
                    <a:pt x="1370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2840" y="6705720"/>
              <a:ext cx="17280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20567"/>
                    <a:pt x="225" y="19628"/>
                    <a:pt x="0" y="18501"/>
                  </a:cubicBezTo>
                  <a:cubicBezTo>
                    <a:pt x="5738" y="15402"/>
                    <a:pt x="10800" y="11645"/>
                    <a:pt x="14063" y="6856"/>
                  </a:cubicBezTo>
                  <a:cubicBezTo>
                    <a:pt x="15413" y="4790"/>
                    <a:pt x="16313" y="2254"/>
                    <a:pt x="17325" y="0"/>
                  </a:cubicBezTo>
                  <a:cubicBezTo>
                    <a:pt x="18225" y="4320"/>
                    <a:pt x="19238" y="8264"/>
                    <a:pt x="20138" y="12678"/>
                  </a:cubicBezTo>
                  <a:cubicBezTo>
                    <a:pt x="20700" y="14463"/>
                    <a:pt x="21038" y="16247"/>
                    <a:pt x="21600" y="17937"/>
                  </a:cubicBezTo>
                  <a:cubicBezTo>
                    <a:pt x="18225" y="18313"/>
                    <a:pt x="13050" y="18970"/>
                    <a:pt x="9675" y="19252"/>
                  </a:cubicBezTo>
                  <a:cubicBezTo>
                    <a:pt x="7088" y="19816"/>
                    <a:pt x="3825" y="20755"/>
                    <a:pt x="675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2440" y="6986520"/>
              <a:ext cx="189000" cy="20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6" y="19137"/>
                  </a:moveTo>
                  <a:cubicBezTo>
                    <a:pt x="1536" y="18284"/>
                    <a:pt x="205" y="10611"/>
                    <a:pt x="0" y="9568"/>
                  </a:cubicBezTo>
                  <a:cubicBezTo>
                    <a:pt x="3276" y="9284"/>
                    <a:pt x="6756" y="8621"/>
                    <a:pt x="10339" y="6442"/>
                  </a:cubicBezTo>
                  <a:cubicBezTo>
                    <a:pt x="12796" y="4926"/>
                    <a:pt x="14639" y="2558"/>
                    <a:pt x="16379" y="0"/>
                  </a:cubicBezTo>
                  <a:cubicBezTo>
                    <a:pt x="18119" y="6063"/>
                    <a:pt x="19655" y="14874"/>
                    <a:pt x="21600" y="21600"/>
                  </a:cubicBezTo>
                  <a:cubicBezTo>
                    <a:pt x="16584" y="18947"/>
                    <a:pt x="13103" y="17621"/>
                    <a:pt x="9930" y="17811"/>
                  </a:cubicBezTo>
                  <a:cubicBezTo>
                    <a:pt x="6756" y="18000"/>
                    <a:pt x="3788" y="19421"/>
                    <a:pt x="1536" y="19137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0360" y="5180040"/>
              <a:ext cx="173160" cy="30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563" y="21095"/>
                    <a:pt x="225" y="20526"/>
                    <a:pt x="0" y="20021"/>
                  </a:cubicBezTo>
                  <a:cubicBezTo>
                    <a:pt x="2138" y="19453"/>
                    <a:pt x="4725" y="18568"/>
                    <a:pt x="6525" y="17684"/>
                  </a:cubicBezTo>
                  <a:cubicBezTo>
                    <a:pt x="10013" y="15853"/>
                    <a:pt x="13163" y="13579"/>
                    <a:pt x="13613" y="10926"/>
                  </a:cubicBezTo>
                  <a:cubicBezTo>
                    <a:pt x="14063" y="7263"/>
                    <a:pt x="12938" y="3663"/>
                    <a:pt x="11250" y="0"/>
                  </a:cubicBezTo>
                  <a:cubicBezTo>
                    <a:pt x="13275" y="505"/>
                    <a:pt x="14625" y="1579"/>
                    <a:pt x="14963" y="2905"/>
                  </a:cubicBezTo>
                  <a:cubicBezTo>
                    <a:pt x="16875" y="8211"/>
                    <a:pt x="19350" y="13579"/>
                    <a:pt x="21600" y="18821"/>
                  </a:cubicBezTo>
                  <a:cubicBezTo>
                    <a:pt x="18563" y="19074"/>
                    <a:pt x="14850" y="19453"/>
                    <a:pt x="12150" y="19768"/>
                  </a:cubicBezTo>
                  <a:cubicBezTo>
                    <a:pt x="9113" y="20211"/>
                    <a:pt x="4050" y="21095"/>
                    <a:pt x="788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57600" y="5553000"/>
              <a:ext cx="19512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9" y="21600"/>
                  </a:moveTo>
                  <a:cubicBezTo>
                    <a:pt x="892" y="20304"/>
                    <a:pt x="396" y="18720"/>
                    <a:pt x="0" y="17208"/>
                  </a:cubicBezTo>
                  <a:cubicBezTo>
                    <a:pt x="4558" y="14616"/>
                    <a:pt x="9215" y="11736"/>
                    <a:pt x="12286" y="8352"/>
                  </a:cubicBezTo>
                  <a:cubicBezTo>
                    <a:pt x="14367" y="5976"/>
                    <a:pt x="14565" y="2808"/>
                    <a:pt x="15061" y="0"/>
                  </a:cubicBezTo>
                  <a:cubicBezTo>
                    <a:pt x="17141" y="6264"/>
                    <a:pt x="19420" y="12528"/>
                    <a:pt x="21600" y="18576"/>
                  </a:cubicBezTo>
                  <a:cubicBezTo>
                    <a:pt x="18628" y="18864"/>
                    <a:pt x="13376" y="19512"/>
                    <a:pt x="10206" y="19944"/>
                  </a:cubicBezTo>
                  <a:cubicBezTo>
                    <a:pt x="7629" y="20448"/>
                    <a:pt x="3963" y="21024"/>
                    <a:pt x="1189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3560" y="5958000"/>
              <a:ext cx="189000" cy="20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930" y="19872"/>
                    <a:pt x="413" y="17760"/>
                    <a:pt x="0" y="15744"/>
                  </a:cubicBezTo>
                  <a:cubicBezTo>
                    <a:pt x="4754" y="13248"/>
                    <a:pt x="11368" y="9504"/>
                    <a:pt x="14159" y="6048"/>
                  </a:cubicBezTo>
                  <a:cubicBezTo>
                    <a:pt x="15709" y="4224"/>
                    <a:pt x="16639" y="2112"/>
                    <a:pt x="17259" y="0"/>
                  </a:cubicBezTo>
                  <a:cubicBezTo>
                    <a:pt x="18810" y="5760"/>
                    <a:pt x="20256" y="11616"/>
                    <a:pt x="21600" y="17568"/>
                  </a:cubicBezTo>
                  <a:cubicBezTo>
                    <a:pt x="18500" y="17952"/>
                    <a:pt x="13332" y="18720"/>
                    <a:pt x="10128" y="19392"/>
                  </a:cubicBezTo>
                  <a:cubicBezTo>
                    <a:pt x="7544" y="20064"/>
                    <a:pt x="4237" y="20832"/>
                    <a:pt x="134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06640" y="6227640"/>
              <a:ext cx="18432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" y="21600"/>
                  </a:moveTo>
                  <a:cubicBezTo>
                    <a:pt x="847" y="20372"/>
                    <a:pt x="424" y="19144"/>
                    <a:pt x="0" y="17843"/>
                  </a:cubicBezTo>
                  <a:cubicBezTo>
                    <a:pt x="3812" y="15748"/>
                    <a:pt x="7518" y="13437"/>
                    <a:pt x="9847" y="10547"/>
                  </a:cubicBezTo>
                  <a:cubicBezTo>
                    <a:pt x="12494" y="7224"/>
                    <a:pt x="14506" y="3684"/>
                    <a:pt x="16094" y="0"/>
                  </a:cubicBezTo>
                  <a:cubicBezTo>
                    <a:pt x="17894" y="5924"/>
                    <a:pt x="19906" y="12714"/>
                    <a:pt x="21600" y="18638"/>
                  </a:cubicBezTo>
                  <a:cubicBezTo>
                    <a:pt x="18529" y="18927"/>
                    <a:pt x="13235" y="19505"/>
                    <a:pt x="9847" y="20011"/>
                  </a:cubicBezTo>
                  <a:cubicBezTo>
                    <a:pt x="7306" y="20372"/>
                    <a:pt x="4024" y="20950"/>
                    <a:pt x="1271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82960" y="6611760"/>
              <a:ext cx="17316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2" y="21600"/>
                  </a:moveTo>
                  <a:cubicBezTo>
                    <a:pt x="448" y="20384"/>
                    <a:pt x="224" y="19449"/>
                    <a:pt x="0" y="18608"/>
                  </a:cubicBezTo>
                  <a:cubicBezTo>
                    <a:pt x="5708" y="15429"/>
                    <a:pt x="10856" y="11688"/>
                    <a:pt x="13990" y="6919"/>
                  </a:cubicBezTo>
                  <a:cubicBezTo>
                    <a:pt x="15333" y="4675"/>
                    <a:pt x="16340" y="2338"/>
                    <a:pt x="17123" y="0"/>
                  </a:cubicBezTo>
                  <a:cubicBezTo>
                    <a:pt x="18242" y="4395"/>
                    <a:pt x="19138" y="8322"/>
                    <a:pt x="20033" y="12530"/>
                  </a:cubicBezTo>
                  <a:cubicBezTo>
                    <a:pt x="20593" y="14494"/>
                    <a:pt x="21040" y="16177"/>
                    <a:pt x="21600" y="17953"/>
                  </a:cubicBezTo>
                  <a:cubicBezTo>
                    <a:pt x="18242" y="18421"/>
                    <a:pt x="13094" y="18888"/>
                    <a:pt x="9737" y="19356"/>
                  </a:cubicBezTo>
                  <a:cubicBezTo>
                    <a:pt x="7051" y="19636"/>
                    <a:pt x="3805" y="20665"/>
                    <a:pt x="672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22560" y="6894360"/>
              <a:ext cx="201600" cy="24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56" y="19872"/>
                  </a:moveTo>
                  <a:cubicBezTo>
                    <a:pt x="3264" y="19244"/>
                    <a:pt x="192" y="8797"/>
                    <a:pt x="0" y="8090"/>
                  </a:cubicBezTo>
                  <a:cubicBezTo>
                    <a:pt x="3936" y="7305"/>
                    <a:pt x="7488" y="6519"/>
                    <a:pt x="11040" y="4556"/>
                  </a:cubicBezTo>
                  <a:cubicBezTo>
                    <a:pt x="13152" y="3456"/>
                    <a:pt x="14880" y="1807"/>
                    <a:pt x="16224" y="0"/>
                  </a:cubicBezTo>
                  <a:cubicBezTo>
                    <a:pt x="17280" y="3770"/>
                    <a:pt x="20544" y="17673"/>
                    <a:pt x="21600" y="21600"/>
                  </a:cubicBezTo>
                  <a:cubicBezTo>
                    <a:pt x="18144" y="20736"/>
                    <a:pt x="13632" y="18223"/>
                    <a:pt x="9984" y="17987"/>
                  </a:cubicBezTo>
                  <a:cubicBezTo>
                    <a:pt x="7296" y="17830"/>
                    <a:pt x="6144" y="19558"/>
                    <a:pt x="3456" y="19872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1640" y="5133960"/>
              <a:ext cx="173160" cy="30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" y="21600"/>
                  </a:moveTo>
                  <a:cubicBezTo>
                    <a:pt x="450" y="21032"/>
                    <a:pt x="225" y="20526"/>
                    <a:pt x="0" y="19895"/>
                  </a:cubicBezTo>
                  <a:cubicBezTo>
                    <a:pt x="2138" y="19389"/>
                    <a:pt x="4725" y="18442"/>
                    <a:pt x="6638" y="17495"/>
                  </a:cubicBezTo>
                  <a:cubicBezTo>
                    <a:pt x="9788" y="15853"/>
                    <a:pt x="12938" y="13326"/>
                    <a:pt x="13500" y="10926"/>
                  </a:cubicBezTo>
                  <a:cubicBezTo>
                    <a:pt x="14063" y="7137"/>
                    <a:pt x="12713" y="3537"/>
                    <a:pt x="11025" y="0"/>
                  </a:cubicBezTo>
                  <a:cubicBezTo>
                    <a:pt x="13275" y="505"/>
                    <a:pt x="14400" y="1579"/>
                    <a:pt x="14963" y="2716"/>
                  </a:cubicBezTo>
                  <a:cubicBezTo>
                    <a:pt x="16875" y="8021"/>
                    <a:pt x="19125" y="13326"/>
                    <a:pt x="21600" y="18758"/>
                  </a:cubicBezTo>
                  <a:cubicBezTo>
                    <a:pt x="18450" y="18947"/>
                    <a:pt x="14625" y="19389"/>
                    <a:pt x="12038" y="19642"/>
                  </a:cubicBezTo>
                  <a:cubicBezTo>
                    <a:pt x="9000" y="20021"/>
                    <a:pt x="4050" y="21032"/>
                    <a:pt x="563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7080" y="5506920"/>
              <a:ext cx="19548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4" y="21600"/>
                  </a:moveTo>
                  <a:cubicBezTo>
                    <a:pt x="796" y="20155"/>
                    <a:pt x="398" y="18710"/>
                    <a:pt x="0" y="17193"/>
                  </a:cubicBezTo>
                  <a:cubicBezTo>
                    <a:pt x="4579" y="14520"/>
                    <a:pt x="9257" y="11703"/>
                    <a:pt x="12442" y="8091"/>
                  </a:cubicBezTo>
                  <a:cubicBezTo>
                    <a:pt x="14433" y="5852"/>
                    <a:pt x="14732" y="2601"/>
                    <a:pt x="15130" y="0"/>
                  </a:cubicBezTo>
                  <a:cubicBezTo>
                    <a:pt x="17220" y="6213"/>
                    <a:pt x="19510" y="12353"/>
                    <a:pt x="21600" y="18566"/>
                  </a:cubicBezTo>
                  <a:cubicBezTo>
                    <a:pt x="18614" y="18783"/>
                    <a:pt x="13438" y="19433"/>
                    <a:pt x="10253" y="19866"/>
                  </a:cubicBezTo>
                  <a:cubicBezTo>
                    <a:pt x="7764" y="20372"/>
                    <a:pt x="3982" y="20950"/>
                    <a:pt x="119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74840" y="5908680"/>
              <a:ext cx="18756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930" y="19784"/>
                    <a:pt x="517" y="17873"/>
                    <a:pt x="0" y="15770"/>
                  </a:cubicBezTo>
                  <a:cubicBezTo>
                    <a:pt x="4857" y="13381"/>
                    <a:pt x="11368" y="9462"/>
                    <a:pt x="14262" y="6117"/>
                  </a:cubicBezTo>
                  <a:cubicBezTo>
                    <a:pt x="15812" y="4301"/>
                    <a:pt x="16639" y="2294"/>
                    <a:pt x="17259" y="0"/>
                  </a:cubicBezTo>
                  <a:cubicBezTo>
                    <a:pt x="18810" y="5926"/>
                    <a:pt x="20360" y="11756"/>
                    <a:pt x="21600" y="17586"/>
                  </a:cubicBezTo>
                  <a:cubicBezTo>
                    <a:pt x="18603" y="18064"/>
                    <a:pt x="13435" y="18924"/>
                    <a:pt x="10128" y="19497"/>
                  </a:cubicBezTo>
                  <a:cubicBezTo>
                    <a:pt x="7648" y="19975"/>
                    <a:pt x="4237" y="20835"/>
                    <a:pt x="134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6480" y="6181560"/>
              <a:ext cx="185760" cy="26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64" y="21600"/>
                  </a:moveTo>
                  <a:cubicBezTo>
                    <a:pt x="843" y="20432"/>
                    <a:pt x="421" y="19192"/>
                    <a:pt x="0" y="17951"/>
                  </a:cubicBezTo>
                  <a:cubicBezTo>
                    <a:pt x="3688" y="15762"/>
                    <a:pt x="7586" y="13573"/>
                    <a:pt x="9799" y="10581"/>
                  </a:cubicBezTo>
                  <a:cubicBezTo>
                    <a:pt x="12433" y="7151"/>
                    <a:pt x="14435" y="3722"/>
                    <a:pt x="16016" y="0"/>
                  </a:cubicBezTo>
                  <a:cubicBezTo>
                    <a:pt x="17807" y="5911"/>
                    <a:pt x="19703" y="12770"/>
                    <a:pt x="21600" y="18827"/>
                  </a:cubicBezTo>
                  <a:cubicBezTo>
                    <a:pt x="18439" y="19046"/>
                    <a:pt x="13171" y="19703"/>
                    <a:pt x="9799" y="20141"/>
                  </a:cubicBezTo>
                  <a:cubicBezTo>
                    <a:pt x="7270" y="20432"/>
                    <a:pt x="3899" y="21089"/>
                    <a:pt x="1264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2800" y="6564240"/>
              <a:ext cx="17280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563" y="20661"/>
                    <a:pt x="225" y="19722"/>
                    <a:pt x="0" y="18595"/>
                  </a:cubicBezTo>
                  <a:cubicBezTo>
                    <a:pt x="5738" y="15496"/>
                    <a:pt x="11025" y="11739"/>
                    <a:pt x="14063" y="7043"/>
                  </a:cubicBezTo>
                  <a:cubicBezTo>
                    <a:pt x="15525" y="4790"/>
                    <a:pt x="16425" y="2348"/>
                    <a:pt x="17438" y="0"/>
                  </a:cubicBezTo>
                  <a:cubicBezTo>
                    <a:pt x="18338" y="4320"/>
                    <a:pt x="19350" y="8358"/>
                    <a:pt x="20250" y="12678"/>
                  </a:cubicBezTo>
                  <a:cubicBezTo>
                    <a:pt x="20700" y="14463"/>
                    <a:pt x="21150" y="16341"/>
                    <a:pt x="21600" y="18031"/>
                  </a:cubicBezTo>
                  <a:cubicBezTo>
                    <a:pt x="18338" y="18313"/>
                    <a:pt x="13050" y="19064"/>
                    <a:pt x="9675" y="19534"/>
                  </a:cubicBezTo>
                  <a:cubicBezTo>
                    <a:pt x="7200" y="19816"/>
                    <a:pt x="3825" y="20849"/>
                    <a:pt x="788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2400" y="6846840"/>
              <a:ext cx="179280" cy="26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536" y="21600"/>
                  </a:moveTo>
                  <a:cubicBezTo>
                    <a:pt x="5319" y="21004"/>
                    <a:pt x="326" y="8268"/>
                    <a:pt x="0" y="7746"/>
                  </a:cubicBezTo>
                  <a:cubicBezTo>
                    <a:pt x="4450" y="6852"/>
                    <a:pt x="8575" y="6108"/>
                    <a:pt x="12482" y="4394"/>
                  </a:cubicBezTo>
                  <a:cubicBezTo>
                    <a:pt x="14979" y="3277"/>
                    <a:pt x="16824" y="1713"/>
                    <a:pt x="18452" y="0"/>
                  </a:cubicBezTo>
                  <a:cubicBezTo>
                    <a:pt x="19538" y="3501"/>
                    <a:pt x="20515" y="7225"/>
                    <a:pt x="21600" y="10874"/>
                  </a:cubicBezTo>
                  <a:cubicBezTo>
                    <a:pt x="17692" y="10130"/>
                    <a:pt x="14979" y="11992"/>
                    <a:pt x="13134" y="13928"/>
                  </a:cubicBezTo>
                  <a:cubicBezTo>
                    <a:pt x="10203" y="17280"/>
                    <a:pt x="8575" y="21302"/>
                    <a:pt x="5536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70160" y="6775560"/>
              <a:ext cx="17316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450" y="20567"/>
                    <a:pt x="225" y="19534"/>
                    <a:pt x="0" y="18595"/>
                  </a:cubicBezTo>
                  <a:cubicBezTo>
                    <a:pt x="5738" y="15496"/>
                    <a:pt x="11025" y="11645"/>
                    <a:pt x="13950" y="6950"/>
                  </a:cubicBezTo>
                  <a:cubicBezTo>
                    <a:pt x="15413" y="4696"/>
                    <a:pt x="16313" y="2348"/>
                    <a:pt x="17325" y="0"/>
                  </a:cubicBezTo>
                  <a:cubicBezTo>
                    <a:pt x="18225" y="4320"/>
                    <a:pt x="19238" y="8358"/>
                    <a:pt x="20138" y="12678"/>
                  </a:cubicBezTo>
                  <a:cubicBezTo>
                    <a:pt x="20700" y="14463"/>
                    <a:pt x="21150" y="16247"/>
                    <a:pt x="21600" y="17937"/>
                  </a:cubicBezTo>
                  <a:cubicBezTo>
                    <a:pt x="18225" y="18407"/>
                    <a:pt x="13050" y="18877"/>
                    <a:pt x="9675" y="19346"/>
                  </a:cubicBezTo>
                  <a:cubicBezTo>
                    <a:pt x="7088" y="19722"/>
                    <a:pt x="3825" y="20849"/>
                    <a:pt x="788" y="2160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61960" y="3417840"/>
            <a:ext cx="1055880" cy="484200"/>
            <a:chOff x="1461960" y="3417840"/>
            <a:chExt cx="1055880" cy="484200"/>
          </a:xfrm>
        </p:grpSpPr>
        <p:sp>
          <p:nvSpPr>
            <p:cNvPr id="192" name=""/>
            <p:cNvSpPr/>
            <p:nvPr/>
          </p:nvSpPr>
          <p:spPr>
            <a:xfrm>
              <a:off x="1461960" y="3629160"/>
              <a:ext cx="11592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09"/>
                  </a:moveTo>
                  <a:cubicBezTo>
                    <a:pt x="0" y="2709"/>
                    <a:pt x="19423" y="0"/>
                    <a:pt x="19423" y="0"/>
                  </a:cubicBezTo>
                  <a:cubicBezTo>
                    <a:pt x="19423" y="0"/>
                    <a:pt x="21600" y="4063"/>
                    <a:pt x="21600" y="4063"/>
                  </a:cubicBezTo>
                  <a:cubicBezTo>
                    <a:pt x="20595" y="4705"/>
                    <a:pt x="19088" y="5275"/>
                    <a:pt x="18084" y="5846"/>
                  </a:cubicBezTo>
                  <a:cubicBezTo>
                    <a:pt x="16577" y="6701"/>
                    <a:pt x="12391" y="6844"/>
                    <a:pt x="12726" y="7913"/>
                  </a:cubicBezTo>
                  <a:cubicBezTo>
                    <a:pt x="13060" y="9695"/>
                    <a:pt x="18419" y="10693"/>
                    <a:pt x="19423" y="12333"/>
                  </a:cubicBezTo>
                  <a:cubicBezTo>
                    <a:pt x="19926" y="13331"/>
                    <a:pt x="17749" y="14115"/>
                    <a:pt x="17247" y="15255"/>
                  </a:cubicBezTo>
                  <a:cubicBezTo>
                    <a:pt x="16912" y="15968"/>
                    <a:pt x="16577" y="16895"/>
                    <a:pt x="17247" y="17608"/>
                  </a:cubicBezTo>
                  <a:cubicBezTo>
                    <a:pt x="18419" y="18677"/>
                    <a:pt x="19758" y="19604"/>
                    <a:pt x="21600" y="20531"/>
                  </a:cubicBezTo>
                  <a:cubicBezTo>
                    <a:pt x="21600" y="20531"/>
                    <a:pt x="10549" y="21600"/>
                    <a:pt x="10549" y="21600"/>
                  </a:cubicBezTo>
                  <a:cubicBezTo>
                    <a:pt x="10549" y="21600"/>
                    <a:pt x="0" y="2709"/>
                    <a:pt x="0" y="2709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9880" y="3573360"/>
              <a:ext cx="11736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18"/>
                  </a:moveTo>
                  <a:cubicBezTo>
                    <a:pt x="0" y="2718"/>
                    <a:pt x="19440" y="0"/>
                    <a:pt x="19440" y="0"/>
                  </a:cubicBezTo>
                  <a:cubicBezTo>
                    <a:pt x="19440" y="0"/>
                    <a:pt x="21600" y="4077"/>
                    <a:pt x="21600" y="4077"/>
                  </a:cubicBezTo>
                  <a:cubicBezTo>
                    <a:pt x="20437" y="4721"/>
                    <a:pt x="19108" y="5293"/>
                    <a:pt x="17945" y="5936"/>
                  </a:cubicBezTo>
                  <a:cubicBezTo>
                    <a:pt x="16615" y="6652"/>
                    <a:pt x="12295" y="6795"/>
                    <a:pt x="12628" y="7868"/>
                  </a:cubicBezTo>
                  <a:cubicBezTo>
                    <a:pt x="13126" y="9656"/>
                    <a:pt x="18277" y="10728"/>
                    <a:pt x="19440" y="12445"/>
                  </a:cubicBezTo>
                  <a:cubicBezTo>
                    <a:pt x="20105" y="13303"/>
                    <a:pt x="17612" y="14233"/>
                    <a:pt x="17280" y="15234"/>
                  </a:cubicBezTo>
                  <a:cubicBezTo>
                    <a:pt x="16948" y="16021"/>
                    <a:pt x="16615" y="16879"/>
                    <a:pt x="17280" y="17666"/>
                  </a:cubicBezTo>
                  <a:cubicBezTo>
                    <a:pt x="18277" y="18668"/>
                    <a:pt x="19772" y="19669"/>
                    <a:pt x="21600" y="20527"/>
                  </a:cubicBezTo>
                  <a:cubicBezTo>
                    <a:pt x="21600" y="20527"/>
                    <a:pt x="10634" y="21600"/>
                    <a:pt x="10634" y="21600"/>
                  </a:cubicBezTo>
                  <a:cubicBezTo>
                    <a:pt x="10634" y="21600"/>
                    <a:pt x="0" y="2718"/>
                    <a:pt x="0" y="2718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3880" y="3500280"/>
              <a:ext cx="117360" cy="27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27"/>
                  </a:moveTo>
                  <a:cubicBezTo>
                    <a:pt x="0" y="2727"/>
                    <a:pt x="19440" y="0"/>
                    <a:pt x="19440" y="0"/>
                  </a:cubicBezTo>
                  <a:cubicBezTo>
                    <a:pt x="19440" y="0"/>
                    <a:pt x="21600" y="4090"/>
                    <a:pt x="21600" y="4090"/>
                  </a:cubicBezTo>
                  <a:cubicBezTo>
                    <a:pt x="20437" y="4664"/>
                    <a:pt x="19108" y="5310"/>
                    <a:pt x="17778" y="5884"/>
                  </a:cubicBezTo>
                  <a:cubicBezTo>
                    <a:pt x="16615" y="6602"/>
                    <a:pt x="12462" y="6817"/>
                    <a:pt x="12628" y="7822"/>
                  </a:cubicBezTo>
                  <a:cubicBezTo>
                    <a:pt x="13126" y="9688"/>
                    <a:pt x="18111" y="10764"/>
                    <a:pt x="19440" y="12415"/>
                  </a:cubicBezTo>
                  <a:cubicBezTo>
                    <a:pt x="20105" y="13276"/>
                    <a:pt x="17612" y="14209"/>
                    <a:pt x="17446" y="15285"/>
                  </a:cubicBezTo>
                  <a:cubicBezTo>
                    <a:pt x="16948" y="16074"/>
                    <a:pt x="16615" y="17007"/>
                    <a:pt x="17446" y="17725"/>
                  </a:cubicBezTo>
                  <a:cubicBezTo>
                    <a:pt x="18111" y="18801"/>
                    <a:pt x="19772" y="19662"/>
                    <a:pt x="21600" y="20595"/>
                  </a:cubicBezTo>
                  <a:cubicBezTo>
                    <a:pt x="21600" y="20595"/>
                    <a:pt x="10634" y="21600"/>
                    <a:pt x="10634" y="21600"/>
                  </a:cubicBezTo>
                  <a:cubicBezTo>
                    <a:pt x="10634" y="21600"/>
                    <a:pt x="0" y="2727"/>
                    <a:pt x="0" y="2727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01920" y="3417840"/>
              <a:ext cx="11592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89"/>
                  </a:moveTo>
                  <a:cubicBezTo>
                    <a:pt x="0" y="2789"/>
                    <a:pt x="19423" y="0"/>
                    <a:pt x="19423" y="0"/>
                  </a:cubicBezTo>
                  <a:cubicBezTo>
                    <a:pt x="19423" y="0"/>
                    <a:pt x="21600" y="4077"/>
                    <a:pt x="21600" y="4077"/>
                  </a:cubicBezTo>
                  <a:cubicBezTo>
                    <a:pt x="20428" y="4649"/>
                    <a:pt x="19088" y="5293"/>
                    <a:pt x="17916" y="5865"/>
                  </a:cubicBezTo>
                  <a:cubicBezTo>
                    <a:pt x="16577" y="6652"/>
                    <a:pt x="12391" y="6723"/>
                    <a:pt x="12558" y="7796"/>
                  </a:cubicBezTo>
                  <a:cubicBezTo>
                    <a:pt x="12893" y="9656"/>
                    <a:pt x="18251" y="10728"/>
                    <a:pt x="19423" y="12374"/>
                  </a:cubicBezTo>
                  <a:cubicBezTo>
                    <a:pt x="20093" y="13232"/>
                    <a:pt x="17581" y="14162"/>
                    <a:pt x="17414" y="15234"/>
                  </a:cubicBezTo>
                  <a:cubicBezTo>
                    <a:pt x="16912" y="16021"/>
                    <a:pt x="16577" y="16879"/>
                    <a:pt x="17414" y="17666"/>
                  </a:cubicBezTo>
                  <a:cubicBezTo>
                    <a:pt x="18251" y="18668"/>
                    <a:pt x="19758" y="19597"/>
                    <a:pt x="21600" y="20527"/>
                  </a:cubicBezTo>
                  <a:cubicBezTo>
                    <a:pt x="21600" y="20527"/>
                    <a:pt x="10381" y="21600"/>
                    <a:pt x="10381" y="21600"/>
                  </a:cubicBezTo>
                  <a:cubicBezTo>
                    <a:pt x="10381" y="21600"/>
                    <a:pt x="0" y="2789"/>
                    <a:pt x="0" y="2789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28920" y="3468600"/>
            <a:ext cx="1031760" cy="420840"/>
            <a:chOff x="1528920" y="3468600"/>
            <a:chExt cx="1031760" cy="420840"/>
          </a:xfrm>
        </p:grpSpPr>
        <p:sp>
          <p:nvSpPr>
            <p:cNvPr id="197" name=""/>
            <p:cNvSpPr/>
            <p:nvPr/>
          </p:nvSpPr>
          <p:spPr>
            <a:xfrm>
              <a:off x="1528920" y="3681360"/>
              <a:ext cx="9180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534" y="0"/>
                  </a:moveTo>
                  <a:cubicBezTo>
                    <a:pt x="11534" y="0"/>
                    <a:pt x="21600" y="20571"/>
                    <a:pt x="21600" y="20571"/>
                  </a:cubicBezTo>
                  <a:cubicBezTo>
                    <a:pt x="21600" y="20571"/>
                    <a:pt x="11534" y="21600"/>
                    <a:pt x="11534" y="21600"/>
                  </a:cubicBezTo>
                  <a:cubicBezTo>
                    <a:pt x="9227" y="20384"/>
                    <a:pt x="7550" y="19169"/>
                    <a:pt x="6082" y="17766"/>
                  </a:cubicBezTo>
                  <a:cubicBezTo>
                    <a:pt x="5243" y="16831"/>
                    <a:pt x="5662" y="15616"/>
                    <a:pt x="6082" y="14681"/>
                  </a:cubicBezTo>
                  <a:cubicBezTo>
                    <a:pt x="6711" y="13184"/>
                    <a:pt x="9437" y="12156"/>
                    <a:pt x="8808" y="10847"/>
                  </a:cubicBezTo>
                  <a:cubicBezTo>
                    <a:pt x="7550" y="8696"/>
                    <a:pt x="839" y="7387"/>
                    <a:pt x="419" y="5049"/>
                  </a:cubicBezTo>
                  <a:cubicBezTo>
                    <a:pt x="0" y="3647"/>
                    <a:pt x="5243" y="3460"/>
                    <a:pt x="7130" y="2338"/>
                  </a:cubicBezTo>
                  <a:cubicBezTo>
                    <a:pt x="8388" y="1590"/>
                    <a:pt x="10276" y="842"/>
                    <a:pt x="11534" y="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06480" y="3624120"/>
              <a:ext cx="93600" cy="20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631" y="0"/>
                  </a:moveTo>
                  <a:cubicBezTo>
                    <a:pt x="11631" y="0"/>
                    <a:pt x="21600" y="20661"/>
                    <a:pt x="21600" y="20661"/>
                  </a:cubicBezTo>
                  <a:cubicBezTo>
                    <a:pt x="21600" y="20661"/>
                    <a:pt x="11631" y="21600"/>
                    <a:pt x="11631" y="21600"/>
                  </a:cubicBezTo>
                  <a:cubicBezTo>
                    <a:pt x="9346" y="20473"/>
                    <a:pt x="7477" y="19158"/>
                    <a:pt x="6231" y="17843"/>
                  </a:cubicBezTo>
                  <a:cubicBezTo>
                    <a:pt x="5400" y="16810"/>
                    <a:pt x="5815" y="15683"/>
                    <a:pt x="6231" y="14650"/>
                  </a:cubicBezTo>
                  <a:cubicBezTo>
                    <a:pt x="6646" y="13336"/>
                    <a:pt x="9762" y="12115"/>
                    <a:pt x="8931" y="10988"/>
                  </a:cubicBezTo>
                  <a:cubicBezTo>
                    <a:pt x="7477" y="8734"/>
                    <a:pt x="1038" y="7325"/>
                    <a:pt x="415" y="4977"/>
                  </a:cubicBezTo>
                  <a:cubicBezTo>
                    <a:pt x="0" y="3569"/>
                    <a:pt x="5400" y="3381"/>
                    <a:pt x="7062" y="2442"/>
                  </a:cubicBezTo>
                  <a:cubicBezTo>
                    <a:pt x="8515" y="1597"/>
                    <a:pt x="10177" y="845"/>
                    <a:pt x="11631" y="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30480" y="3552840"/>
              <a:ext cx="93600" cy="20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23" y="0"/>
                  </a:moveTo>
                  <a:cubicBezTo>
                    <a:pt x="11423" y="0"/>
                    <a:pt x="21600" y="20567"/>
                    <a:pt x="21600" y="20567"/>
                  </a:cubicBezTo>
                  <a:cubicBezTo>
                    <a:pt x="21600" y="20567"/>
                    <a:pt x="11423" y="21600"/>
                    <a:pt x="11423" y="21600"/>
                  </a:cubicBezTo>
                  <a:cubicBezTo>
                    <a:pt x="9138" y="20379"/>
                    <a:pt x="7062" y="19252"/>
                    <a:pt x="6231" y="17843"/>
                  </a:cubicBezTo>
                  <a:cubicBezTo>
                    <a:pt x="5192" y="16904"/>
                    <a:pt x="5608" y="15683"/>
                    <a:pt x="6231" y="14650"/>
                  </a:cubicBezTo>
                  <a:cubicBezTo>
                    <a:pt x="6438" y="13242"/>
                    <a:pt x="9554" y="12021"/>
                    <a:pt x="8723" y="10894"/>
                  </a:cubicBezTo>
                  <a:cubicBezTo>
                    <a:pt x="7062" y="8734"/>
                    <a:pt x="831" y="7325"/>
                    <a:pt x="208" y="4883"/>
                  </a:cubicBezTo>
                  <a:cubicBezTo>
                    <a:pt x="0" y="3569"/>
                    <a:pt x="5192" y="3287"/>
                    <a:pt x="6646" y="2348"/>
                  </a:cubicBezTo>
                  <a:cubicBezTo>
                    <a:pt x="8308" y="1597"/>
                    <a:pt x="9969" y="751"/>
                    <a:pt x="11423" y="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68520" y="3468600"/>
              <a:ext cx="92160" cy="20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534" y="0"/>
                  </a:moveTo>
                  <a:cubicBezTo>
                    <a:pt x="11534" y="0"/>
                    <a:pt x="21600" y="20661"/>
                    <a:pt x="21600" y="20661"/>
                  </a:cubicBezTo>
                  <a:cubicBezTo>
                    <a:pt x="21600" y="20661"/>
                    <a:pt x="11534" y="21600"/>
                    <a:pt x="11534" y="21600"/>
                  </a:cubicBezTo>
                  <a:cubicBezTo>
                    <a:pt x="9227" y="20379"/>
                    <a:pt x="7340" y="19158"/>
                    <a:pt x="6291" y="17843"/>
                  </a:cubicBezTo>
                  <a:cubicBezTo>
                    <a:pt x="5243" y="16810"/>
                    <a:pt x="5662" y="15683"/>
                    <a:pt x="6291" y="14650"/>
                  </a:cubicBezTo>
                  <a:cubicBezTo>
                    <a:pt x="6501" y="13242"/>
                    <a:pt x="9647" y="12021"/>
                    <a:pt x="8808" y="10894"/>
                  </a:cubicBezTo>
                  <a:cubicBezTo>
                    <a:pt x="7340" y="8734"/>
                    <a:pt x="629" y="7325"/>
                    <a:pt x="210" y="4883"/>
                  </a:cubicBezTo>
                  <a:cubicBezTo>
                    <a:pt x="0" y="3475"/>
                    <a:pt x="5243" y="3381"/>
                    <a:pt x="6920" y="2348"/>
                  </a:cubicBezTo>
                  <a:cubicBezTo>
                    <a:pt x="8388" y="1597"/>
                    <a:pt x="10066" y="751"/>
                    <a:pt x="11534" y="0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12720" y="4025880"/>
            <a:ext cx="1265400" cy="365040"/>
            <a:chOff x="1512720" y="4025880"/>
            <a:chExt cx="1265400" cy="365040"/>
          </a:xfrm>
        </p:grpSpPr>
        <p:sp>
          <p:nvSpPr>
            <p:cNvPr id="202" name=""/>
            <p:cNvSpPr/>
            <p:nvPr/>
          </p:nvSpPr>
          <p:spPr>
            <a:xfrm>
              <a:off x="1512720" y="4297320"/>
              <a:ext cx="12564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94" y="3115"/>
                  </a:moveTo>
                  <a:cubicBezTo>
                    <a:pt x="16783" y="3738"/>
                    <a:pt x="16317" y="4154"/>
                    <a:pt x="16006" y="4569"/>
                  </a:cubicBezTo>
                  <a:cubicBezTo>
                    <a:pt x="15073" y="6023"/>
                    <a:pt x="14141" y="7477"/>
                    <a:pt x="12898" y="8308"/>
                  </a:cubicBezTo>
                  <a:cubicBezTo>
                    <a:pt x="8858" y="11838"/>
                    <a:pt x="4506" y="13915"/>
                    <a:pt x="0" y="15577"/>
                  </a:cubicBezTo>
                  <a:cubicBezTo>
                    <a:pt x="0" y="15577"/>
                    <a:pt x="932" y="21600"/>
                    <a:pt x="932" y="21600"/>
                  </a:cubicBezTo>
                  <a:cubicBezTo>
                    <a:pt x="932" y="21600"/>
                    <a:pt x="21600" y="16200"/>
                    <a:pt x="21600" y="16200"/>
                  </a:cubicBezTo>
                  <a:cubicBezTo>
                    <a:pt x="21600" y="16200"/>
                    <a:pt x="19424" y="0"/>
                    <a:pt x="19424" y="0"/>
                  </a:cubicBezTo>
                  <a:cubicBezTo>
                    <a:pt x="19424" y="0"/>
                    <a:pt x="17094" y="3115"/>
                    <a:pt x="17094" y="3115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0360" y="4226040"/>
              <a:ext cx="12528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71" y="3323"/>
                  </a:moveTo>
                  <a:cubicBezTo>
                    <a:pt x="16663" y="3738"/>
                    <a:pt x="16354" y="3946"/>
                    <a:pt x="15891" y="4362"/>
                  </a:cubicBezTo>
                  <a:cubicBezTo>
                    <a:pt x="15120" y="5815"/>
                    <a:pt x="14040" y="7269"/>
                    <a:pt x="12806" y="8308"/>
                  </a:cubicBezTo>
                  <a:cubicBezTo>
                    <a:pt x="8794" y="11838"/>
                    <a:pt x="4629" y="13915"/>
                    <a:pt x="0" y="15785"/>
                  </a:cubicBezTo>
                  <a:cubicBezTo>
                    <a:pt x="0" y="15785"/>
                    <a:pt x="1080" y="21600"/>
                    <a:pt x="1080" y="21600"/>
                  </a:cubicBezTo>
                  <a:cubicBezTo>
                    <a:pt x="1080" y="21600"/>
                    <a:pt x="21600" y="16200"/>
                    <a:pt x="21600" y="16200"/>
                  </a:cubicBezTo>
                  <a:cubicBezTo>
                    <a:pt x="21600" y="16200"/>
                    <a:pt x="19286" y="0"/>
                    <a:pt x="19286" y="0"/>
                  </a:cubicBezTo>
                  <a:cubicBezTo>
                    <a:pt x="19286" y="0"/>
                    <a:pt x="16971" y="3323"/>
                    <a:pt x="16971" y="3323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89080" y="4154400"/>
              <a:ext cx="12564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61" y="3291"/>
                  </a:moveTo>
                  <a:cubicBezTo>
                    <a:pt x="16591" y="3909"/>
                    <a:pt x="16435" y="4320"/>
                    <a:pt x="16122" y="4731"/>
                  </a:cubicBezTo>
                  <a:cubicBezTo>
                    <a:pt x="15026" y="6171"/>
                    <a:pt x="14087" y="7611"/>
                    <a:pt x="12522" y="8229"/>
                  </a:cubicBezTo>
                  <a:cubicBezTo>
                    <a:pt x="8765" y="11726"/>
                    <a:pt x="4539" y="13989"/>
                    <a:pt x="0" y="15634"/>
                  </a:cubicBezTo>
                  <a:cubicBezTo>
                    <a:pt x="0" y="15634"/>
                    <a:pt x="783" y="21600"/>
                    <a:pt x="783" y="21600"/>
                  </a:cubicBezTo>
                  <a:cubicBezTo>
                    <a:pt x="783" y="21600"/>
                    <a:pt x="21600" y="16251"/>
                    <a:pt x="21600" y="16251"/>
                  </a:cubicBezTo>
                  <a:cubicBezTo>
                    <a:pt x="21600" y="16251"/>
                    <a:pt x="19252" y="0"/>
                    <a:pt x="19252" y="0"/>
                  </a:cubicBezTo>
                  <a:cubicBezTo>
                    <a:pt x="19252" y="0"/>
                    <a:pt x="17061" y="3291"/>
                    <a:pt x="17061" y="3291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98680" y="4083120"/>
              <a:ext cx="12528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38" y="3323"/>
                  </a:moveTo>
                  <a:cubicBezTo>
                    <a:pt x="16627" y="3738"/>
                    <a:pt x="16472" y="4154"/>
                    <a:pt x="16006" y="4569"/>
                  </a:cubicBezTo>
                  <a:cubicBezTo>
                    <a:pt x="15073" y="6023"/>
                    <a:pt x="14141" y="7477"/>
                    <a:pt x="12742" y="8515"/>
                  </a:cubicBezTo>
                  <a:cubicBezTo>
                    <a:pt x="8858" y="12046"/>
                    <a:pt x="4506" y="14123"/>
                    <a:pt x="0" y="15785"/>
                  </a:cubicBezTo>
                  <a:cubicBezTo>
                    <a:pt x="0" y="15785"/>
                    <a:pt x="932" y="21600"/>
                    <a:pt x="932" y="21600"/>
                  </a:cubicBezTo>
                  <a:cubicBezTo>
                    <a:pt x="932" y="21600"/>
                    <a:pt x="21600" y="16200"/>
                    <a:pt x="21600" y="16200"/>
                  </a:cubicBezTo>
                  <a:cubicBezTo>
                    <a:pt x="21600" y="16200"/>
                    <a:pt x="19269" y="0"/>
                    <a:pt x="19269" y="0"/>
                  </a:cubicBezTo>
                  <a:cubicBezTo>
                    <a:pt x="19269" y="0"/>
                    <a:pt x="16938" y="3323"/>
                    <a:pt x="16938" y="3323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52840" y="4025880"/>
              <a:ext cx="12528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94" y="3464"/>
                  </a:moveTo>
                  <a:cubicBezTo>
                    <a:pt x="16783" y="4075"/>
                    <a:pt x="16317" y="4483"/>
                    <a:pt x="16006" y="4891"/>
                  </a:cubicBezTo>
                  <a:cubicBezTo>
                    <a:pt x="14918" y="6317"/>
                    <a:pt x="13986" y="7540"/>
                    <a:pt x="12587" y="8355"/>
                  </a:cubicBezTo>
                  <a:cubicBezTo>
                    <a:pt x="8702" y="11819"/>
                    <a:pt x="4351" y="13857"/>
                    <a:pt x="0" y="15283"/>
                  </a:cubicBezTo>
                  <a:cubicBezTo>
                    <a:pt x="0" y="15283"/>
                    <a:pt x="932" y="21600"/>
                    <a:pt x="932" y="21600"/>
                  </a:cubicBezTo>
                  <a:cubicBezTo>
                    <a:pt x="932" y="21600"/>
                    <a:pt x="21600" y="15894"/>
                    <a:pt x="21600" y="15894"/>
                  </a:cubicBezTo>
                  <a:cubicBezTo>
                    <a:pt x="21600" y="15894"/>
                    <a:pt x="19424" y="0"/>
                    <a:pt x="19424" y="0"/>
                  </a:cubicBezTo>
                  <a:cubicBezTo>
                    <a:pt x="19424" y="0"/>
                    <a:pt x="17094" y="3464"/>
                    <a:pt x="17094" y="3464"/>
                  </a:cubicBez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90760" y="3951360"/>
            <a:ext cx="1274760" cy="414360"/>
            <a:chOff x="1490760" y="3951360"/>
            <a:chExt cx="1274760" cy="414360"/>
          </a:xfrm>
        </p:grpSpPr>
        <p:sp>
          <p:nvSpPr>
            <p:cNvPr id="208" name=""/>
            <p:cNvSpPr/>
            <p:nvPr/>
          </p:nvSpPr>
          <p:spPr>
            <a:xfrm>
              <a:off x="1490760" y="422280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04"/>
                  </a:moveTo>
                  <a:cubicBezTo>
                    <a:pt x="0" y="1504"/>
                    <a:pt x="19152" y="0"/>
                    <a:pt x="19152" y="0"/>
                  </a:cubicBezTo>
                  <a:cubicBezTo>
                    <a:pt x="19152" y="0"/>
                    <a:pt x="21600" y="11347"/>
                    <a:pt x="21600" y="11347"/>
                  </a:cubicBezTo>
                  <a:cubicBezTo>
                    <a:pt x="19728" y="13397"/>
                    <a:pt x="18000" y="15311"/>
                    <a:pt x="15552" y="16815"/>
                  </a:cubicBezTo>
                  <a:cubicBezTo>
                    <a:pt x="11808" y="19139"/>
                    <a:pt x="7776" y="20506"/>
                    <a:pt x="3600" y="21600"/>
                  </a:cubicBezTo>
                  <a:cubicBezTo>
                    <a:pt x="3600" y="21600"/>
                    <a:pt x="0" y="1504"/>
                    <a:pt x="0" y="1504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78040" y="415116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94"/>
                  </a:moveTo>
                  <a:cubicBezTo>
                    <a:pt x="0" y="1494"/>
                    <a:pt x="19152" y="0"/>
                    <a:pt x="19152" y="0"/>
                  </a:cubicBezTo>
                  <a:cubicBezTo>
                    <a:pt x="19152" y="0"/>
                    <a:pt x="21600" y="11275"/>
                    <a:pt x="21600" y="11275"/>
                  </a:cubicBezTo>
                  <a:cubicBezTo>
                    <a:pt x="19728" y="13449"/>
                    <a:pt x="17856" y="15079"/>
                    <a:pt x="15552" y="16709"/>
                  </a:cubicBezTo>
                  <a:cubicBezTo>
                    <a:pt x="11808" y="19019"/>
                    <a:pt x="7920" y="20377"/>
                    <a:pt x="3600" y="21600"/>
                  </a:cubicBezTo>
                  <a:cubicBezTo>
                    <a:pt x="3600" y="21600"/>
                    <a:pt x="0" y="1494"/>
                    <a:pt x="0" y="1494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65320" y="407988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04"/>
                  </a:moveTo>
                  <a:cubicBezTo>
                    <a:pt x="0" y="1504"/>
                    <a:pt x="19152" y="0"/>
                    <a:pt x="19152" y="0"/>
                  </a:cubicBezTo>
                  <a:cubicBezTo>
                    <a:pt x="19152" y="0"/>
                    <a:pt x="21600" y="11210"/>
                    <a:pt x="21600" y="11210"/>
                  </a:cubicBezTo>
                  <a:cubicBezTo>
                    <a:pt x="19872" y="13397"/>
                    <a:pt x="18000" y="15311"/>
                    <a:pt x="15408" y="16678"/>
                  </a:cubicBezTo>
                  <a:cubicBezTo>
                    <a:pt x="11952" y="19003"/>
                    <a:pt x="8064" y="20506"/>
                    <a:pt x="3888" y="21600"/>
                  </a:cubicBezTo>
                  <a:cubicBezTo>
                    <a:pt x="3888" y="21600"/>
                    <a:pt x="0" y="1504"/>
                    <a:pt x="0" y="1504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6360" y="4008600"/>
              <a:ext cx="135000" cy="14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7"/>
                  </a:moveTo>
                  <a:cubicBezTo>
                    <a:pt x="0" y="1367"/>
                    <a:pt x="19152" y="0"/>
                    <a:pt x="19152" y="0"/>
                  </a:cubicBezTo>
                  <a:cubicBezTo>
                    <a:pt x="19152" y="0"/>
                    <a:pt x="21600" y="11210"/>
                    <a:pt x="21600" y="11210"/>
                  </a:cubicBezTo>
                  <a:cubicBezTo>
                    <a:pt x="19728" y="13397"/>
                    <a:pt x="18000" y="15175"/>
                    <a:pt x="15552" y="16815"/>
                  </a:cubicBezTo>
                  <a:cubicBezTo>
                    <a:pt x="11952" y="19139"/>
                    <a:pt x="7920" y="20506"/>
                    <a:pt x="3744" y="21600"/>
                  </a:cubicBezTo>
                  <a:cubicBezTo>
                    <a:pt x="3744" y="21600"/>
                    <a:pt x="0" y="1367"/>
                    <a:pt x="0" y="1367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0520" y="395136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641"/>
                  </a:moveTo>
                  <a:cubicBezTo>
                    <a:pt x="0" y="1641"/>
                    <a:pt x="19152" y="0"/>
                    <a:pt x="19152" y="0"/>
                  </a:cubicBezTo>
                  <a:cubicBezTo>
                    <a:pt x="19152" y="0"/>
                    <a:pt x="21600" y="11347"/>
                    <a:pt x="21600" y="11347"/>
                  </a:cubicBezTo>
                  <a:cubicBezTo>
                    <a:pt x="19440" y="13671"/>
                    <a:pt x="17712" y="15585"/>
                    <a:pt x="15264" y="16952"/>
                  </a:cubicBezTo>
                  <a:cubicBezTo>
                    <a:pt x="11664" y="19276"/>
                    <a:pt x="7632" y="20643"/>
                    <a:pt x="3600" y="21600"/>
                  </a:cubicBezTo>
                  <a:cubicBezTo>
                    <a:pt x="3600" y="21600"/>
                    <a:pt x="0" y="1641"/>
                    <a:pt x="0" y="1641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28720" y="5810400"/>
            <a:ext cx="590400" cy="1998360"/>
            <a:chOff x="828720" y="5810400"/>
            <a:chExt cx="590400" cy="1998360"/>
          </a:xfrm>
        </p:grpSpPr>
        <p:sp>
          <p:nvSpPr>
            <p:cNvPr id="214" name=""/>
            <p:cNvSpPr/>
            <p:nvPr/>
          </p:nvSpPr>
          <p:spPr>
            <a:xfrm>
              <a:off x="981000" y="7572240"/>
              <a:ext cx="96840" cy="23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000" y="20779"/>
                    <a:pt x="3400" y="19629"/>
                    <a:pt x="4600" y="18561"/>
                  </a:cubicBezTo>
                  <a:cubicBezTo>
                    <a:pt x="5000" y="18151"/>
                    <a:pt x="5000" y="17740"/>
                    <a:pt x="5000" y="17576"/>
                  </a:cubicBezTo>
                  <a:cubicBezTo>
                    <a:pt x="5400" y="17329"/>
                    <a:pt x="5800" y="16919"/>
                    <a:pt x="6400" y="16508"/>
                  </a:cubicBezTo>
                  <a:cubicBezTo>
                    <a:pt x="8400" y="14455"/>
                    <a:pt x="10400" y="12484"/>
                    <a:pt x="10400" y="10184"/>
                  </a:cubicBezTo>
                  <a:cubicBezTo>
                    <a:pt x="10400" y="7392"/>
                    <a:pt x="3600" y="4599"/>
                    <a:pt x="5800" y="1971"/>
                  </a:cubicBezTo>
                  <a:cubicBezTo>
                    <a:pt x="6400" y="1643"/>
                    <a:pt x="6600" y="1478"/>
                    <a:pt x="7000" y="1314"/>
                  </a:cubicBezTo>
                  <a:cubicBezTo>
                    <a:pt x="7000" y="1314"/>
                    <a:pt x="11800" y="0"/>
                    <a:pt x="11800" y="0"/>
                  </a:cubicBezTo>
                  <a:cubicBezTo>
                    <a:pt x="15600" y="7884"/>
                    <a:pt x="21600" y="19218"/>
                    <a:pt x="21600" y="19218"/>
                  </a:cubicBezTo>
                  <a:cubicBezTo>
                    <a:pt x="21600" y="19218"/>
                    <a:pt x="0" y="21600"/>
                    <a:pt x="0" y="21600"/>
                  </a:cubicBez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41560" y="7013520"/>
              <a:ext cx="98280" cy="23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00" y="20700"/>
                    <a:pt x="3400" y="19473"/>
                    <a:pt x="4600" y="18573"/>
                  </a:cubicBezTo>
                  <a:cubicBezTo>
                    <a:pt x="5000" y="18164"/>
                    <a:pt x="5000" y="17918"/>
                    <a:pt x="5000" y="17673"/>
                  </a:cubicBezTo>
                  <a:cubicBezTo>
                    <a:pt x="5600" y="17345"/>
                    <a:pt x="6000" y="16936"/>
                    <a:pt x="6400" y="16691"/>
                  </a:cubicBezTo>
                  <a:cubicBezTo>
                    <a:pt x="8400" y="14482"/>
                    <a:pt x="10600" y="12518"/>
                    <a:pt x="10600" y="10309"/>
                  </a:cubicBezTo>
                  <a:cubicBezTo>
                    <a:pt x="10600" y="7445"/>
                    <a:pt x="3800" y="4664"/>
                    <a:pt x="6000" y="2127"/>
                  </a:cubicBezTo>
                  <a:cubicBezTo>
                    <a:pt x="6400" y="1718"/>
                    <a:pt x="6800" y="1555"/>
                    <a:pt x="7200" y="1391"/>
                  </a:cubicBezTo>
                  <a:cubicBezTo>
                    <a:pt x="7200" y="1391"/>
                    <a:pt x="11800" y="0"/>
                    <a:pt x="11800" y="0"/>
                  </a:cubicBezTo>
                  <a:cubicBezTo>
                    <a:pt x="15800" y="7936"/>
                    <a:pt x="21600" y="19309"/>
                    <a:pt x="21600" y="19309"/>
                  </a:cubicBezTo>
                  <a:cubicBezTo>
                    <a:pt x="21600" y="19309"/>
                    <a:pt x="0" y="21600"/>
                    <a:pt x="0" y="21600"/>
                  </a:cubicBez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30320" y="6537240"/>
              <a:ext cx="95040" cy="238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21" y="20785"/>
                    <a:pt x="3432" y="19562"/>
                    <a:pt x="4845" y="18340"/>
                  </a:cubicBezTo>
                  <a:cubicBezTo>
                    <a:pt x="5047" y="18095"/>
                    <a:pt x="5047" y="17688"/>
                    <a:pt x="5047" y="17525"/>
                  </a:cubicBezTo>
                  <a:cubicBezTo>
                    <a:pt x="5652" y="17198"/>
                    <a:pt x="6056" y="16954"/>
                    <a:pt x="6460" y="16628"/>
                  </a:cubicBezTo>
                  <a:cubicBezTo>
                    <a:pt x="8479" y="14590"/>
                    <a:pt x="10901" y="12389"/>
                    <a:pt x="10901" y="10189"/>
                  </a:cubicBezTo>
                  <a:cubicBezTo>
                    <a:pt x="10901" y="7417"/>
                    <a:pt x="4037" y="4646"/>
                    <a:pt x="6056" y="2119"/>
                  </a:cubicBezTo>
                  <a:cubicBezTo>
                    <a:pt x="6460" y="1793"/>
                    <a:pt x="6864" y="1630"/>
                    <a:pt x="7469" y="1386"/>
                  </a:cubicBezTo>
                  <a:cubicBezTo>
                    <a:pt x="7469" y="1386"/>
                    <a:pt x="11910" y="0"/>
                    <a:pt x="11910" y="0"/>
                  </a:cubicBezTo>
                  <a:cubicBezTo>
                    <a:pt x="15948" y="7988"/>
                    <a:pt x="21600" y="19155"/>
                    <a:pt x="21600" y="19155"/>
                  </a:cubicBezTo>
                  <a:cubicBezTo>
                    <a:pt x="21600" y="19155"/>
                    <a:pt x="0" y="21600"/>
                    <a:pt x="0" y="21600"/>
                  </a:cubicBez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22280" y="6445080"/>
              <a:ext cx="9684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400" y="20626"/>
                    <a:pt x="3400" y="19408"/>
                    <a:pt x="4800" y="18433"/>
                  </a:cubicBezTo>
                  <a:cubicBezTo>
                    <a:pt x="5200" y="18108"/>
                    <a:pt x="5200" y="17783"/>
                    <a:pt x="5200" y="17621"/>
                  </a:cubicBezTo>
                  <a:cubicBezTo>
                    <a:pt x="5600" y="17215"/>
                    <a:pt x="5800" y="16890"/>
                    <a:pt x="6400" y="16565"/>
                  </a:cubicBezTo>
                  <a:cubicBezTo>
                    <a:pt x="8600" y="14454"/>
                    <a:pt x="10800" y="12424"/>
                    <a:pt x="10800" y="10232"/>
                  </a:cubicBezTo>
                  <a:cubicBezTo>
                    <a:pt x="10800" y="7471"/>
                    <a:pt x="4000" y="4710"/>
                    <a:pt x="5800" y="2192"/>
                  </a:cubicBezTo>
                  <a:cubicBezTo>
                    <a:pt x="6400" y="1868"/>
                    <a:pt x="6800" y="1624"/>
                    <a:pt x="7400" y="1462"/>
                  </a:cubicBezTo>
                  <a:cubicBezTo>
                    <a:pt x="7400" y="1462"/>
                    <a:pt x="11800" y="0"/>
                    <a:pt x="11800" y="0"/>
                  </a:cubicBezTo>
                  <a:cubicBezTo>
                    <a:pt x="15800" y="8039"/>
                    <a:pt x="21600" y="19083"/>
                    <a:pt x="21600" y="19083"/>
                  </a:cubicBezTo>
                  <a:cubicBezTo>
                    <a:pt x="21600" y="19083"/>
                    <a:pt x="0" y="21600"/>
                    <a:pt x="0" y="21600"/>
                  </a:cubicBez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8720" y="5810400"/>
              <a:ext cx="103320" cy="13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17" y="3795"/>
                  </a:moveTo>
                  <a:cubicBezTo>
                    <a:pt x="12290" y="2773"/>
                    <a:pt x="13034" y="2189"/>
                    <a:pt x="13779" y="1605"/>
                  </a:cubicBezTo>
                  <a:cubicBezTo>
                    <a:pt x="13779" y="1605"/>
                    <a:pt x="16014" y="0"/>
                    <a:pt x="16014" y="0"/>
                  </a:cubicBezTo>
                  <a:cubicBezTo>
                    <a:pt x="19366" y="8465"/>
                    <a:pt x="21600" y="17659"/>
                    <a:pt x="21600" y="17659"/>
                  </a:cubicBezTo>
                  <a:cubicBezTo>
                    <a:pt x="21600" y="17659"/>
                    <a:pt x="3166" y="21600"/>
                    <a:pt x="3166" y="21600"/>
                  </a:cubicBezTo>
                  <a:cubicBezTo>
                    <a:pt x="3166" y="21600"/>
                    <a:pt x="1490" y="18243"/>
                    <a:pt x="0" y="13573"/>
                  </a:cubicBezTo>
                  <a:cubicBezTo>
                    <a:pt x="1303" y="12989"/>
                    <a:pt x="4097" y="12114"/>
                    <a:pt x="5214" y="12114"/>
                  </a:cubicBezTo>
                  <a:cubicBezTo>
                    <a:pt x="8007" y="12114"/>
                    <a:pt x="9124" y="16054"/>
                    <a:pt x="11917" y="15470"/>
                  </a:cubicBezTo>
                  <a:cubicBezTo>
                    <a:pt x="14338" y="15178"/>
                    <a:pt x="15083" y="12114"/>
                    <a:pt x="15083" y="10362"/>
                  </a:cubicBezTo>
                  <a:cubicBezTo>
                    <a:pt x="15083" y="8173"/>
                    <a:pt x="11172" y="5984"/>
                    <a:pt x="11917" y="3795"/>
                  </a:cubicBez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95240" y="5727600"/>
            <a:ext cx="579600" cy="2081160"/>
            <a:chOff x="795240" y="5727600"/>
            <a:chExt cx="579600" cy="2081160"/>
          </a:xfrm>
        </p:grpSpPr>
        <p:sp>
          <p:nvSpPr>
            <p:cNvPr id="220" name=""/>
            <p:cNvSpPr/>
            <p:nvPr/>
          </p:nvSpPr>
          <p:spPr>
            <a:xfrm>
              <a:off x="917640" y="7532640"/>
              <a:ext cx="11412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55"/>
                  </a:moveTo>
                  <a:cubicBezTo>
                    <a:pt x="0" y="2455"/>
                    <a:pt x="11981" y="21600"/>
                    <a:pt x="11981" y="21600"/>
                  </a:cubicBezTo>
                  <a:cubicBezTo>
                    <a:pt x="14513" y="20478"/>
                    <a:pt x="15863" y="18655"/>
                    <a:pt x="17381" y="17252"/>
                  </a:cubicBezTo>
                  <a:cubicBezTo>
                    <a:pt x="19069" y="15499"/>
                    <a:pt x="20756" y="13816"/>
                    <a:pt x="20756" y="11852"/>
                  </a:cubicBezTo>
                  <a:cubicBezTo>
                    <a:pt x="20756" y="9468"/>
                    <a:pt x="15019" y="7083"/>
                    <a:pt x="16875" y="4839"/>
                  </a:cubicBezTo>
                  <a:cubicBezTo>
                    <a:pt x="17550" y="3997"/>
                    <a:pt x="19406" y="3577"/>
                    <a:pt x="21600" y="3156"/>
                  </a:cubicBezTo>
                  <a:cubicBezTo>
                    <a:pt x="20756" y="1964"/>
                    <a:pt x="20419" y="1052"/>
                    <a:pt x="20081" y="0"/>
                  </a:cubicBezTo>
                  <a:cubicBezTo>
                    <a:pt x="13669" y="701"/>
                    <a:pt x="0" y="2455"/>
                    <a:pt x="0" y="2455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79640" y="6973920"/>
              <a:ext cx="11412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84"/>
                  </a:moveTo>
                  <a:cubicBezTo>
                    <a:pt x="0" y="2384"/>
                    <a:pt x="11906" y="21600"/>
                    <a:pt x="11906" y="21600"/>
                  </a:cubicBezTo>
                  <a:cubicBezTo>
                    <a:pt x="14457" y="20408"/>
                    <a:pt x="15817" y="18655"/>
                    <a:pt x="17348" y="17392"/>
                  </a:cubicBezTo>
                  <a:cubicBezTo>
                    <a:pt x="19049" y="15499"/>
                    <a:pt x="20920" y="13816"/>
                    <a:pt x="20920" y="11922"/>
                  </a:cubicBezTo>
                  <a:cubicBezTo>
                    <a:pt x="20920" y="9468"/>
                    <a:pt x="15137" y="7083"/>
                    <a:pt x="17008" y="4909"/>
                  </a:cubicBezTo>
                  <a:cubicBezTo>
                    <a:pt x="17688" y="3927"/>
                    <a:pt x="19559" y="3506"/>
                    <a:pt x="21600" y="3086"/>
                  </a:cubicBezTo>
                  <a:cubicBezTo>
                    <a:pt x="20920" y="1964"/>
                    <a:pt x="20409" y="1052"/>
                    <a:pt x="20239" y="0"/>
                  </a:cubicBezTo>
                  <a:cubicBezTo>
                    <a:pt x="13776" y="771"/>
                    <a:pt x="0" y="2384"/>
                    <a:pt x="0" y="2384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66960" y="6497640"/>
              <a:ext cx="11412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11829" y="21600"/>
                    <a:pt x="11829" y="21600"/>
                  </a:cubicBezTo>
                  <a:cubicBezTo>
                    <a:pt x="14400" y="20412"/>
                    <a:pt x="15943" y="18594"/>
                    <a:pt x="17314" y="17336"/>
                  </a:cubicBezTo>
                  <a:cubicBezTo>
                    <a:pt x="19029" y="15588"/>
                    <a:pt x="21086" y="13701"/>
                    <a:pt x="21086" y="11814"/>
                  </a:cubicBezTo>
                  <a:cubicBezTo>
                    <a:pt x="21086" y="9437"/>
                    <a:pt x="15257" y="7060"/>
                    <a:pt x="16971" y="4893"/>
                  </a:cubicBezTo>
                  <a:cubicBezTo>
                    <a:pt x="17657" y="4054"/>
                    <a:pt x="19543" y="3565"/>
                    <a:pt x="21600" y="3076"/>
                  </a:cubicBezTo>
                  <a:cubicBezTo>
                    <a:pt x="21086" y="1887"/>
                    <a:pt x="20571" y="1049"/>
                    <a:pt x="20229" y="0"/>
                  </a:cubicBezTo>
                  <a:cubicBezTo>
                    <a:pt x="13714" y="769"/>
                    <a:pt x="0" y="2377"/>
                    <a:pt x="0" y="2377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0360" y="6407280"/>
              <a:ext cx="114480" cy="27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11735" y="21600"/>
                    <a:pt x="11735" y="21600"/>
                  </a:cubicBezTo>
                  <a:cubicBezTo>
                    <a:pt x="14287" y="20342"/>
                    <a:pt x="15817" y="18594"/>
                    <a:pt x="17178" y="17266"/>
                  </a:cubicBezTo>
                  <a:cubicBezTo>
                    <a:pt x="19049" y="15449"/>
                    <a:pt x="20920" y="13701"/>
                    <a:pt x="20920" y="11814"/>
                  </a:cubicBezTo>
                  <a:cubicBezTo>
                    <a:pt x="20920" y="9437"/>
                    <a:pt x="15137" y="7060"/>
                    <a:pt x="16668" y="4893"/>
                  </a:cubicBezTo>
                  <a:cubicBezTo>
                    <a:pt x="17518" y="3984"/>
                    <a:pt x="19389" y="3565"/>
                    <a:pt x="21600" y="3006"/>
                  </a:cubicBezTo>
                  <a:cubicBezTo>
                    <a:pt x="20920" y="1887"/>
                    <a:pt x="20409" y="1049"/>
                    <a:pt x="20069" y="0"/>
                  </a:cubicBezTo>
                  <a:cubicBezTo>
                    <a:pt x="13776" y="699"/>
                    <a:pt x="0" y="2377"/>
                    <a:pt x="0" y="2377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5240" y="5727600"/>
              <a:ext cx="109800" cy="1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779"/>
                  </a:moveTo>
                  <a:cubicBezTo>
                    <a:pt x="20361" y="7307"/>
                    <a:pt x="19121" y="5051"/>
                    <a:pt x="18059" y="3224"/>
                  </a:cubicBezTo>
                  <a:cubicBezTo>
                    <a:pt x="16466" y="752"/>
                    <a:pt x="11685" y="0"/>
                    <a:pt x="7259" y="537"/>
                  </a:cubicBezTo>
                  <a:cubicBezTo>
                    <a:pt x="3364" y="1290"/>
                    <a:pt x="0" y="3116"/>
                    <a:pt x="885" y="6018"/>
                  </a:cubicBezTo>
                  <a:cubicBezTo>
                    <a:pt x="1593" y="10316"/>
                    <a:pt x="4249" y="15797"/>
                    <a:pt x="6374" y="19773"/>
                  </a:cubicBezTo>
                  <a:cubicBezTo>
                    <a:pt x="7613" y="19236"/>
                    <a:pt x="9384" y="18699"/>
                    <a:pt x="11331" y="18699"/>
                  </a:cubicBezTo>
                  <a:cubicBezTo>
                    <a:pt x="13987" y="18699"/>
                    <a:pt x="15049" y="21600"/>
                    <a:pt x="17705" y="21170"/>
                  </a:cubicBezTo>
                  <a:cubicBezTo>
                    <a:pt x="20007" y="20955"/>
                    <a:pt x="20715" y="18699"/>
                    <a:pt x="20715" y="17409"/>
                  </a:cubicBezTo>
                  <a:cubicBezTo>
                    <a:pt x="20715" y="15797"/>
                    <a:pt x="16997" y="14185"/>
                    <a:pt x="17705" y="12573"/>
                  </a:cubicBezTo>
                  <a:cubicBezTo>
                    <a:pt x="18413" y="11391"/>
                    <a:pt x="20007" y="10531"/>
                    <a:pt x="21600" y="9779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90920" y="4402080"/>
            <a:ext cx="893880" cy="1236600"/>
            <a:chOff x="3490920" y="4402080"/>
            <a:chExt cx="893880" cy="1236600"/>
          </a:xfrm>
        </p:grpSpPr>
        <p:sp>
          <p:nvSpPr>
            <p:cNvPr id="226" name=""/>
            <p:cNvSpPr/>
            <p:nvPr/>
          </p:nvSpPr>
          <p:spPr>
            <a:xfrm>
              <a:off x="3678120" y="5527800"/>
              <a:ext cx="92160" cy="11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53" y="0"/>
                  </a:moveTo>
                  <a:cubicBezTo>
                    <a:pt x="17153" y="0"/>
                    <a:pt x="0" y="2985"/>
                    <a:pt x="0" y="2985"/>
                  </a:cubicBezTo>
                  <a:cubicBezTo>
                    <a:pt x="0" y="2985"/>
                    <a:pt x="6353" y="21600"/>
                    <a:pt x="6353" y="21600"/>
                  </a:cubicBezTo>
                  <a:cubicBezTo>
                    <a:pt x="6353" y="21600"/>
                    <a:pt x="21600" y="18615"/>
                    <a:pt x="21600" y="18615"/>
                  </a:cubicBezTo>
                  <a:cubicBezTo>
                    <a:pt x="21600" y="18615"/>
                    <a:pt x="17153" y="0"/>
                    <a:pt x="17153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90920" y="5349960"/>
              <a:ext cx="74520" cy="1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943" y="0"/>
                  </a:moveTo>
                  <a:cubicBezTo>
                    <a:pt x="15943" y="0"/>
                    <a:pt x="0" y="1029"/>
                    <a:pt x="0" y="1029"/>
                  </a:cubicBezTo>
                  <a:cubicBezTo>
                    <a:pt x="0" y="1029"/>
                    <a:pt x="5143" y="21600"/>
                    <a:pt x="5143" y="21600"/>
                  </a:cubicBezTo>
                  <a:cubicBezTo>
                    <a:pt x="5143" y="21600"/>
                    <a:pt x="21600" y="20400"/>
                    <a:pt x="21600" y="20400"/>
                  </a:cubicBezTo>
                  <a:cubicBezTo>
                    <a:pt x="21600" y="20400"/>
                    <a:pt x="15943" y="0"/>
                    <a:pt x="15943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90800" y="4971960"/>
              <a:ext cx="7956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75" y="0"/>
                  </a:moveTo>
                  <a:cubicBezTo>
                    <a:pt x="15775" y="0"/>
                    <a:pt x="0" y="3135"/>
                    <a:pt x="0" y="3135"/>
                  </a:cubicBezTo>
                  <a:cubicBezTo>
                    <a:pt x="0" y="3135"/>
                    <a:pt x="7281" y="21600"/>
                    <a:pt x="7281" y="21600"/>
                  </a:cubicBezTo>
                  <a:cubicBezTo>
                    <a:pt x="7281" y="21600"/>
                    <a:pt x="21600" y="20032"/>
                    <a:pt x="21600" y="20032"/>
                  </a:cubicBezTo>
                  <a:cubicBezTo>
                    <a:pt x="21600" y="20032"/>
                    <a:pt x="15775" y="0"/>
                    <a:pt x="15775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48160" y="4557600"/>
              <a:ext cx="91800" cy="13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71" y="0"/>
                  </a:moveTo>
                  <a:cubicBezTo>
                    <a:pt x="15671" y="0"/>
                    <a:pt x="0" y="2416"/>
                    <a:pt x="0" y="2416"/>
                  </a:cubicBezTo>
                  <a:cubicBezTo>
                    <a:pt x="0" y="2416"/>
                    <a:pt x="7412" y="21600"/>
                    <a:pt x="7412" y="21600"/>
                  </a:cubicBezTo>
                  <a:cubicBezTo>
                    <a:pt x="7412" y="21600"/>
                    <a:pt x="21600" y="18047"/>
                    <a:pt x="21600" y="18047"/>
                  </a:cubicBezTo>
                  <a:cubicBezTo>
                    <a:pt x="21600" y="18047"/>
                    <a:pt x="15671" y="0"/>
                    <a:pt x="15671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70280" y="4716360"/>
              <a:ext cx="5868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673" y="0"/>
                  </a:moveTo>
                  <a:cubicBezTo>
                    <a:pt x="17673" y="0"/>
                    <a:pt x="0" y="1394"/>
                    <a:pt x="0" y="1394"/>
                  </a:cubicBezTo>
                  <a:cubicBezTo>
                    <a:pt x="0" y="1394"/>
                    <a:pt x="4582" y="21600"/>
                    <a:pt x="4582" y="21600"/>
                  </a:cubicBezTo>
                  <a:cubicBezTo>
                    <a:pt x="4582" y="21600"/>
                    <a:pt x="21600" y="20032"/>
                    <a:pt x="21600" y="20032"/>
                  </a:cubicBezTo>
                  <a:cubicBezTo>
                    <a:pt x="21600" y="20032"/>
                    <a:pt x="17673" y="0"/>
                    <a:pt x="17673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05280" y="4700520"/>
              <a:ext cx="52200" cy="1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08" y="0"/>
                  </a:moveTo>
                  <a:cubicBezTo>
                    <a:pt x="16108" y="0"/>
                    <a:pt x="0" y="708"/>
                    <a:pt x="0" y="708"/>
                  </a:cubicBezTo>
                  <a:cubicBezTo>
                    <a:pt x="0" y="708"/>
                    <a:pt x="7688" y="21600"/>
                    <a:pt x="7688" y="21600"/>
                  </a:cubicBezTo>
                  <a:cubicBezTo>
                    <a:pt x="7688" y="21600"/>
                    <a:pt x="21600" y="20184"/>
                    <a:pt x="21600" y="20184"/>
                  </a:cubicBezTo>
                  <a:cubicBezTo>
                    <a:pt x="21600" y="20184"/>
                    <a:pt x="16108" y="0"/>
                    <a:pt x="16108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21080" y="4402080"/>
              <a:ext cx="63720" cy="10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907" y="0"/>
                  </a:moveTo>
                  <a:cubicBezTo>
                    <a:pt x="14907" y="0"/>
                    <a:pt x="0" y="2014"/>
                    <a:pt x="0" y="2014"/>
                  </a:cubicBezTo>
                  <a:cubicBezTo>
                    <a:pt x="0" y="2014"/>
                    <a:pt x="2738" y="21600"/>
                    <a:pt x="2738" y="21600"/>
                  </a:cubicBezTo>
                  <a:cubicBezTo>
                    <a:pt x="2738" y="21600"/>
                    <a:pt x="21600" y="19037"/>
                    <a:pt x="21600" y="19037"/>
                  </a:cubicBezTo>
                  <a:cubicBezTo>
                    <a:pt x="21600" y="19037"/>
                    <a:pt x="14907" y="0"/>
                    <a:pt x="14907" y="0"/>
                  </a:cubicBezTo>
                </a:path>
              </a:pathLst>
            </a:custGeom>
            <a:solidFill>
              <a:srgbClr val="ffe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658880" y="5403960"/>
            <a:ext cx="1841400" cy="1684080"/>
            <a:chOff x="1658880" y="5403960"/>
            <a:chExt cx="1841400" cy="1684080"/>
          </a:xfrm>
        </p:grpSpPr>
        <p:sp>
          <p:nvSpPr>
            <p:cNvPr id="234" name=""/>
            <p:cNvSpPr/>
            <p:nvPr/>
          </p:nvSpPr>
          <p:spPr>
            <a:xfrm>
              <a:off x="2278080" y="6948360"/>
              <a:ext cx="169920" cy="5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43" y="0"/>
                  </a:moveTo>
                  <a:cubicBezTo>
                    <a:pt x="17714" y="1662"/>
                    <a:pt x="12457" y="3323"/>
                    <a:pt x="9029" y="4985"/>
                  </a:cubicBezTo>
                  <a:cubicBezTo>
                    <a:pt x="6400" y="6314"/>
                    <a:pt x="3086" y="10302"/>
                    <a:pt x="0" y="12960"/>
                  </a:cubicBezTo>
                  <a:cubicBezTo>
                    <a:pt x="229" y="15951"/>
                    <a:pt x="343" y="18609"/>
                    <a:pt x="571" y="21600"/>
                  </a:cubicBezTo>
                  <a:cubicBezTo>
                    <a:pt x="3543" y="18609"/>
                    <a:pt x="6971" y="16615"/>
                    <a:pt x="9600" y="14954"/>
                  </a:cubicBezTo>
                  <a:cubicBezTo>
                    <a:pt x="12914" y="12960"/>
                    <a:pt x="18286" y="10966"/>
                    <a:pt x="21600" y="8640"/>
                  </a:cubicBezTo>
                  <a:cubicBezTo>
                    <a:pt x="21371" y="5649"/>
                    <a:pt x="21371" y="2658"/>
                    <a:pt x="21143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28920" y="6737400"/>
              <a:ext cx="171360" cy="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32" y="0"/>
                  </a:moveTo>
                  <a:cubicBezTo>
                    <a:pt x="17735" y="1029"/>
                    <a:pt x="12392" y="3771"/>
                    <a:pt x="8981" y="5486"/>
                  </a:cubicBezTo>
                  <a:cubicBezTo>
                    <a:pt x="6480" y="6514"/>
                    <a:pt x="3069" y="10286"/>
                    <a:pt x="0" y="13029"/>
                  </a:cubicBezTo>
                  <a:cubicBezTo>
                    <a:pt x="227" y="16114"/>
                    <a:pt x="455" y="18857"/>
                    <a:pt x="682" y="21600"/>
                  </a:cubicBezTo>
                  <a:cubicBezTo>
                    <a:pt x="3638" y="18857"/>
                    <a:pt x="6935" y="16800"/>
                    <a:pt x="9549" y="15429"/>
                  </a:cubicBezTo>
                  <a:cubicBezTo>
                    <a:pt x="12960" y="13029"/>
                    <a:pt x="18189" y="11314"/>
                    <a:pt x="21600" y="8914"/>
                  </a:cubicBezTo>
                  <a:cubicBezTo>
                    <a:pt x="21259" y="6171"/>
                    <a:pt x="21259" y="2743"/>
                    <a:pt x="21032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7640" y="6784920"/>
              <a:ext cx="171360" cy="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59" y="0"/>
                  </a:moveTo>
                  <a:cubicBezTo>
                    <a:pt x="17848" y="1688"/>
                    <a:pt x="12619" y="3375"/>
                    <a:pt x="9208" y="5063"/>
                  </a:cubicBezTo>
                  <a:cubicBezTo>
                    <a:pt x="6480" y="6075"/>
                    <a:pt x="3183" y="9788"/>
                    <a:pt x="0" y="13163"/>
                  </a:cubicBezTo>
                  <a:cubicBezTo>
                    <a:pt x="341" y="15863"/>
                    <a:pt x="568" y="18563"/>
                    <a:pt x="796" y="21600"/>
                  </a:cubicBezTo>
                  <a:cubicBezTo>
                    <a:pt x="3638" y="18563"/>
                    <a:pt x="7048" y="16538"/>
                    <a:pt x="9663" y="15188"/>
                  </a:cubicBezTo>
                  <a:cubicBezTo>
                    <a:pt x="12960" y="13163"/>
                    <a:pt x="18303" y="10463"/>
                    <a:pt x="21600" y="8100"/>
                  </a:cubicBezTo>
                  <a:cubicBezTo>
                    <a:pt x="21373" y="5400"/>
                    <a:pt x="21373" y="3038"/>
                    <a:pt x="21259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57520" y="6877080"/>
              <a:ext cx="1713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45" y="0"/>
                  </a:moveTo>
                  <a:cubicBezTo>
                    <a:pt x="17735" y="1350"/>
                    <a:pt x="12505" y="3713"/>
                    <a:pt x="9095" y="4725"/>
                  </a:cubicBezTo>
                  <a:cubicBezTo>
                    <a:pt x="6480" y="6750"/>
                    <a:pt x="3183" y="10125"/>
                    <a:pt x="0" y="13163"/>
                  </a:cubicBezTo>
                  <a:cubicBezTo>
                    <a:pt x="227" y="15863"/>
                    <a:pt x="455" y="18900"/>
                    <a:pt x="682" y="21600"/>
                  </a:cubicBezTo>
                  <a:cubicBezTo>
                    <a:pt x="3524" y="18900"/>
                    <a:pt x="6935" y="16538"/>
                    <a:pt x="9549" y="15188"/>
                  </a:cubicBezTo>
                  <a:cubicBezTo>
                    <a:pt x="12960" y="13163"/>
                    <a:pt x="18303" y="10800"/>
                    <a:pt x="21600" y="9113"/>
                  </a:cubicBezTo>
                  <a:cubicBezTo>
                    <a:pt x="21259" y="6075"/>
                    <a:pt x="21259" y="3038"/>
                    <a:pt x="21145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1480" y="7029360"/>
              <a:ext cx="1713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32" y="0"/>
                  </a:moveTo>
                  <a:cubicBezTo>
                    <a:pt x="17735" y="1350"/>
                    <a:pt x="12392" y="3713"/>
                    <a:pt x="8981" y="5400"/>
                  </a:cubicBezTo>
                  <a:cubicBezTo>
                    <a:pt x="6480" y="6750"/>
                    <a:pt x="3069" y="10125"/>
                    <a:pt x="0" y="12825"/>
                  </a:cubicBezTo>
                  <a:cubicBezTo>
                    <a:pt x="114" y="15863"/>
                    <a:pt x="341" y="18563"/>
                    <a:pt x="682" y="21600"/>
                  </a:cubicBezTo>
                  <a:cubicBezTo>
                    <a:pt x="3524" y="18563"/>
                    <a:pt x="6935" y="16875"/>
                    <a:pt x="9549" y="15188"/>
                  </a:cubicBezTo>
                  <a:cubicBezTo>
                    <a:pt x="12846" y="12825"/>
                    <a:pt x="18189" y="11138"/>
                    <a:pt x="21600" y="8775"/>
                  </a:cubicBezTo>
                  <a:cubicBezTo>
                    <a:pt x="21259" y="6075"/>
                    <a:pt x="21259" y="2700"/>
                    <a:pt x="21032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95480" y="5614920"/>
              <a:ext cx="1731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19021"/>
                    <a:pt x="113" y="16442"/>
                    <a:pt x="0" y="13863"/>
                  </a:cubicBezTo>
                  <a:cubicBezTo>
                    <a:pt x="3375" y="10961"/>
                    <a:pt x="8325" y="6125"/>
                    <a:pt x="11250" y="4191"/>
                  </a:cubicBezTo>
                  <a:cubicBezTo>
                    <a:pt x="13950" y="2579"/>
                    <a:pt x="17550" y="1612"/>
                    <a:pt x="20475" y="0"/>
                  </a:cubicBezTo>
                  <a:cubicBezTo>
                    <a:pt x="20700" y="3224"/>
                    <a:pt x="21375" y="6125"/>
                    <a:pt x="21600" y="9672"/>
                  </a:cubicBezTo>
                  <a:cubicBezTo>
                    <a:pt x="18563" y="10961"/>
                    <a:pt x="14513" y="12573"/>
                    <a:pt x="11813" y="13863"/>
                  </a:cubicBezTo>
                  <a:cubicBezTo>
                    <a:pt x="8663" y="16119"/>
                    <a:pt x="3938" y="19021"/>
                    <a:pt x="67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5960" y="5948280"/>
              <a:ext cx="19188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3" y="21600"/>
                  </a:moveTo>
                  <a:cubicBezTo>
                    <a:pt x="509" y="18389"/>
                    <a:pt x="204" y="15470"/>
                    <a:pt x="0" y="12259"/>
                  </a:cubicBezTo>
                  <a:cubicBezTo>
                    <a:pt x="2853" y="9924"/>
                    <a:pt x="6725" y="7297"/>
                    <a:pt x="9272" y="5546"/>
                  </a:cubicBezTo>
                  <a:cubicBezTo>
                    <a:pt x="12532" y="3503"/>
                    <a:pt x="17626" y="1168"/>
                    <a:pt x="20683" y="0"/>
                  </a:cubicBezTo>
                  <a:cubicBezTo>
                    <a:pt x="20683" y="1168"/>
                    <a:pt x="20887" y="2627"/>
                    <a:pt x="20887" y="3503"/>
                  </a:cubicBezTo>
                  <a:cubicBezTo>
                    <a:pt x="21091" y="5546"/>
                    <a:pt x="21294" y="7297"/>
                    <a:pt x="21600" y="9049"/>
                  </a:cubicBezTo>
                  <a:cubicBezTo>
                    <a:pt x="18543" y="10508"/>
                    <a:pt x="12940" y="12259"/>
                    <a:pt x="9781" y="14011"/>
                  </a:cubicBezTo>
                  <a:cubicBezTo>
                    <a:pt x="7336" y="15762"/>
                    <a:pt x="3362" y="19265"/>
                    <a:pt x="71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5160" y="6284880"/>
              <a:ext cx="1825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" y="21600"/>
                  </a:moveTo>
                  <a:cubicBezTo>
                    <a:pt x="426" y="19166"/>
                    <a:pt x="213" y="16124"/>
                    <a:pt x="0" y="12777"/>
                  </a:cubicBezTo>
                  <a:cubicBezTo>
                    <a:pt x="2873" y="10344"/>
                    <a:pt x="6491" y="7606"/>
                    <a:pt x="9044" y="5476"/>
                  </a:cubicBezTo>
                  <a:cubicBezTo>
                    <a:pt x="12343" y="3651"/>
                    <a:pt x="17450" y="1217"/>
                    <a:pt x="20536" y="0"/>
                  </a:cubicBezTo>
                  <a:cubicBezTo>
                    <a:pt x="20855" y="3042"/>
                    <a:pt x="21387" y="6085"/>
                    <a:pt x="21600" y="9431"/>
                  </a:cubicBezTo>
                  <a:cubicBezTo>
                    <a:pt x="18408" y="10952"/>
                    <a:pt x="12768" y="12777"/>
                    <a:pt x="9364" y="14603"/>
                  </a:cubicBezTo>
                  <a:cubicBezTo>
                    <a:pt x="6916" y="16124"/>
                    <a:pt x="3618" y="19166"/>
                    <a:pt x="638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6800" y="6624720"/>
              <a:ext cx="179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1" y="21600"/>
                  </a:moveTo>
                  <a:cubicBezTo>
                    <a:pt x="543" y="18558"/>
                    <a:pt x="326" y="15211"/>
                    <a:pt x="0" y="11561"/>
                  </a:cubicBezTo>
                  <a:cubicBezTo>
                    <a:pt x="2714" y="9431"/>
                    <a:pt x="6187" y="6997"/>
                    <a:pt x="8792" y="5780"/>
                  </a:cubicBezTo>
                  <a:cubicBezTo>
                    <a:pt x="12157" y="3651"/>
                    <a:pt x="17475" y="1217"/>
                    <a:pt x="20623" y="0"/>
                  </a:cubicBezTo>
                  <a:cubicBezTo>
                    <a:pt x="20840" y="3042"/>
                    <a:pt x="21274" y="6389"/>
                    <a:pt x="21600" y="9431"/>
                  </a:cubicBezTo>
                  <a:cubicBezTo>
                    <a:pt x="18452" y="10952"/>
                    <a:pt x="12591" y="12473"/>
                    <a:pt x="9118" y="14299"/>
                  </a:cubicBezTo>
                  <a:cubicBezTo>
                    <a:pt x="6947" y="15820"/>
                    <a:pt x="3690" y="19166"/>
                    <a:pt x="651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58880" y="5695920"/>
              <a:ext cx="173160" cy="6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3" y="21600"/>
                  </a:moveTo>
                  <a:cubicBezTo>
                    <a:pt x="560" y="19021"/>
                    <a:pt x="224" y="16119"/>
                    <a:pt x="0" y="13540"/>
                  </a:cubicBezTo>
                  <a:cubicBezTo>
                    <a:pt x="3358" y="11284"/>
                    <a:pt x="8394" y="6125"/>
                    <a:pt x="11416" y="3869"/>
                  </a:cubicBezTo>
                  <a:cubicBezTo>
                    <a:pt x="13990" y="2579"/>
                    <a:pt x="17571" y="1290"/>
                    <a:pt x="20593" y="0"/>
                  </a:cubicBezTo>
                  <a:cubicBezTo>
                    <a:pt x="20928" y="3224"/>
                    <a:pt x="21376" y="6125"/>
                    <a:pt x="21600" y="9672"/>
                  </a:cubicBezTo>
                  <a:cubicBezTo>
                    <a:pt x="18466" y="11284"/>
                    <a:pt x="14549" y="12251"/>
                    <a:pt x="11863" y="13540"/>
                  </a:cubicBezTo>
                  <a:cubicBezTo>
                    <a:pt x="8841" y="15797"/>
                    <a:pt x="4141" y="19021"/>
                    <a:pt x="78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19360" y="6031080"/>
              <a:ext cx="1918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3" y="21600"/>
                  </a:moveTo>
                  <a:cubicBezTo>
                    <a:pt x="509" y="18641"/>
                    <a:pt x="306" y="15682"/>
                    <a:pt x="0" y="12427"/>
                  </a:cubicBezTo>
                  <a:cubicBezTo>
                    <a:pt x="2853" y="10060"/>
                    <a:pt x="6725" y="7397"/>
                    <a:pt x="9272" y="5622"/>
                  </a:cubicBezTo>
                  <a:cubicBezTo>
                    <a:pt x="12532" y="3551"/>
                    <a:pt x="17626" y="1184"/>
                    <a:pt x="20683" y="0"/>
                  </a:cubicBezTo>
                  <a:cubicBezTo>
                    <a:pt x="20683" y="1184"/>
                    <a:pt x="20887" y="2367"/>
                    <a:pt x="20887" y="3551"/>
                  </a:cubicBezTo>
                  <a:cubicBezTo>
                    <a:pt x="21091" y="5622"/>
                    <a:pt x="21294" y="7397"/>
                    <a:pt x="21600" y="9173"/>
                  </a:cubicBezTo>
                  <a:cubicBezTo>
                    <a:pt x="18543" y="10652"/>
                    <a:pt x="12940" y="12427"/>
                    <a:pt x="9781" y="14203"/>
                  </a:cubicBezTo>
                  <a:cubicBezTo>
                    <a:pt x="7336" y="15978"/>
                    <a:pt x="3464" y="19233"/>
                    <a:pt x="71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98560" y="6365880"/>
              <a:ext cx="1825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5" y="21600"/>
                  </a:moveTo>
                  <a:cubicBezTo>
                    <a:pt x="426" y="19200"/>
                    <a:pt x="213" y="16200"/>
                    <a:pt x="0" y="12600"/>
                  </a:cubicBezTo>
                  <a:cubicBezTo>
                    <a:pt x="2873" y="10200"/>
                    <a:pt x="6491" y="7500"/>
                    <a:pt x="9044" y="6000"/>
                  </a:cubicBezTo>
                  <a:cubicBezTo>
                    <a:pt x="12343" y="3600"/>
                    <a:pt x="17557" y="1500"/>
                    <a:pt x="20642" y="0"/>
                  </a:cubicBezTo>
                  <a:cubicBezTo>
                    <a:pt x="20855" y="3000"/>
                    <a:pt x="21387" y="6600"/>
                    <a:pt x="21600" y="9600"/>
                  </a:cubicBezTo>
                  <a:cubicBezTo>
                    <a:pt x="18514" y="11100"/>
                    <a:pt x="12768" y="12600"/>
                    <a:pt x="9364" y="14700"/>
                  </a:cubicBezTo>
                  <a:cubicBezTo>
                    <a:pt x="7023" y="16200"/>
                    <a:pt x="3618" y="19200"/>
                    <a:pt x="74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70200" y="6705720"/>
              <a:ext cx="179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1" y="21600"/>
                  </a:moveTo>
                  <a:cubicBezTo>
                    <a:pt x="543" y="18558"/>
                    <a:pt x="326" y="15515"/>
                    <a:pt x="0" y="11561"/>
                  </a:cubicBezTo>
                  <a:cubicBezTo>
                    <a:pt x="2714" y="9127"/>
                    <a:pt x="6187" y="6997"/>
                    <a:pt x="8683" y="5780"/>
                  </a:cubicBezTo>
                  <a:cubicBezTo>
                    <a:pt x="12157" y="3651"/>
                    <a:pt x="17475" y="1217"/>
                    <a:pt x="20623" y="0"/>
                  </a:cubicBezTo>
                  <a:cubicBezTo>
                    <a:pt x="20840" y="3042"/>
                    <a:pt x="21383" y="6389"/>
                    <a:pt x="21600" y="9127"/>
                  </a:cubicBezTo>
                  <a:cubicBezTo>
                    <a:pt x="18452" y="10648"/>
                    <a:pt x="12591" y="12473"/>
                    <a:pt x="9226" y="14603"/>
                  </a:cubicBezTo>
                  <a:cubicBezTo>
                    <a:pt x="6947" y="16124"/>
                    <a:pt x="3690" y="19166"/>
                    <a:pt x="651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6360" y="5543640"/>
              <a:ext cx="173160" cy="6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2" y="21600"/>
                  </a:moveTo>
                  <a:cubicBezTo>
                    <a:pt x="448" y="18741"/>
                    <a:pt x="224" y="16200"/>
                    <a:pt x="0" y="13659"/>
                  </a:cubicBezTo>
                  <a:cubicBezTo>
                    <a:pt x="3246" y="11118"/>
                    <a:pt x="8282" y="6035"/>
                    <a:pt x="11416" y="3812"/>
                  </a:cubicBezTo>
                  <a:cubicBezTo>
                    <a:pt x="13990" y="2859"/>
                    <a:pt x="17571" y="1271"/>
                    <a:pt x="20593" y="0"/>
                  </a:cubicBezTo>
                  <a:cubicBezTo>
                    <a:pt x="20817" y="3176"/>
                    <a:pt x="21376" y="6035"/>
                    <a:pt x="21600" y="9212"/>
                  </a:cubicBezTo>
                  <a:cubicBezTo>
                    <a:pt x="18466" y="11118"/>
                    <a:pt x="14437" y="12388"/>
                    <a:pt x="11751" y="13659"/>
                  </a:cubicBezTo>
                  <a:cubicBezTo>
                    <a:pt x="8730" y="15565"/>
                    <a:pt x="4029" y="18741"/>
                    <a:pt x="672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6840" y="5878440"/>
              <a:ext cx="19044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14" y="21600"/>
                  </a:moveTo>
                  <a:cubicBezTo>
                    <a:pt x="409" y="18681"/>
                    <a:pt x="205" y="15762"/>
                    <a:pt x="0" y="12551"/>
                  </a:cubicBezTo>
                  <a:cubicBezTo>
                    <a:pt x="2764" y="9924"/>
                    <a:pt x="6654" y="7589"/>
                    <a:pt x="9316" y="5838"/>
                  </a:cubicBezTo>
                  <a:cubicBezTo>
                    <a:pt x="12591" y="3795"/>
                    <a:pt x="17710" y="1459"/>
                    <a:pt x="20679" y="0"/>
                  </a:cubicBezTo>
                  <a:cubicBezTo>
                    <a:pt x="20679" y="1459"/>
                    <a:pt x="20986" y="2627"/>
                    <a:pt x="20986" y="3795"/>
                  </a:cubicBezTo>
                  <a:cubicBezTo>
                    <a:pt x="21191" y="5838"/>
                    <a:pt x="21395" y="7589"/>
                    <a:pt x="21600" y="9341"/>
                  </a:cubicBezTo>
                  <a:cubicBezTo>
                    <a:pt x="18631" y="10800"/>
                    <a:pt x="12899" y="12551"/>
                    <a:pt x="9725" y="14303"/>
                  </a:cubicBezTo>
                  <a:cubicBezTo>
                    <a:pt x="7371" y="16346"/>
                    <a:pt x="3481" y="19265"/>
                    <a:pt x="614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6215040"/>
              <a:ext cx="1843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1" y="21600"/>
                  </a:moveTo>
                  <a:cubicBezTo>
                    <a:pt x="529" y="18937"/>
                    <a:pt x="318" y="15682"/>
                    <a:pt x="0" y="12723"/>
                  </a:cubicBezTo>
                  <a:cubicBezTo>
                    <a:pt x="2965" y="10060"/>
                    <a:pt x="6565" y="7693"/>
                    <a:pt x="8894" y="5326"/>
                  </a:cubicBezTo>
                  <a:cubicBezTo>
                    <a:pt x="12282" y="4142"/>
                    <a:pt x="17471" y="1479"/>
                    <a:pt x="20647" y="0"/>
                  </a:cubicBezTo>
                  <a:cubicBezTo>
                    <a:pt x="20859" y="3255"/>
                    <a:pt x="21282" y="6510"/>
                    <a:pt x="21600" y="9468"/>
                  </a:cubicBezTo>
                  <a:cubicBezTo>
                    <a:pt x="18424" y="10652"/>
                    <a:pt x="12812" y="12723"/>
                    <a:pt x="9424" y="14499"/>
                  </a:cubicBezTo>
                  <a:cubicBezTo>
                    <a:pt x="6988" y="15682"/>
                    <a:pt x="3600" y="18937"/>
                    <a:pt x="741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87680" y="6553080"/>
              <a:ext cx="17784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5" y="21600"/>
                  </a:moveTo>
                  <a:cubicBezTo>
                    <a:pt x="327" y="18345"/>
                    <a:pt x="218" y="14795"/>
                    <a:pt x="0" y="11836"/>
                  </a:cubicBezTo>
                  <a:cubicBezTo>
                    <a:pt x="2727" y="9468"/>
                    <a:pt x="6218" y="7101"/>
                    <a:pt x="8727" y="5918"/>
                  </a:cubicBezTo>
                  <a:cubicBezTo>
                    <a:pt x="12109" y="3847"/>
                    <a:pt x="17455" y="1479"/>
                    <a:pt x="20727" y="0"/>
                  </a:cubicBezTo>
                  <a:cubicBezTo>
                    <a:pt x="20945" y="3551"/>
                    <a:pt x="21491" y="6510"/>
                    <a:pt x="21600" y="9468"/>
                  </a:cubicBezTo>
                  <a:cubicBezTo>
                    <a:pt x="18327" y="10652"/>
                    <a:pt x="12655" y="12427"/>
                    <a:pt x="9164" y="14203"/>
                  </a:cubicBezTo>
                  <a:cubicBezTo>
                    <a:pt x="6873" y="15978"/>
                    <a:pt x="3600" y="18937"/>
                    <a:pt x="65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06840" y="5450040"/>
              <a:ext cx="172800" cy="6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18783"/>
                    <a:pt x="225" y="15965"/>
                    <a:pt x="0" y="13148"/>
                  </a:cubicBezTo>
                  <a:cubicBezTo>
                    <a:pt x="3263" y="10643"/>
                    <a:pt x="8325" y="6261"/>
                    <a:pt x="11363" y="4070"/>
                  </a:cubicBezTo>
                  <a:cubicBezTo>
                    <a:pt x="14063" y="2504"/>
                    <a:pt x="17550" y="1565"/>
                    <a:pt x="20700" y="0"/>
                  </a:cubicBezTo>
                  <a:cubicBezTo>
                    <a:pt x="20813" y="3130"/>
                    <a:pt x="21375" y="6261"/>
                    <a:pt x="21600" y="9391"/>
                  </a:cubicBezTo>
                  <a:cubicBezTo>
                    <a:pt x="18563" y="10643"/>
                    <a:pt x="14400" y="11896"/>
                    <a:pt x="11925" y="13148"/>
                  </a:cubicBezTo>
                  <a:cubicBezTo>
                    <a:pt x="8775" y="15339"/>
                    <a:pt x="3938" y="18783"/>
                    <a:pt x="67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6960" y="5784840"/>
              <a:ext cx="19044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7" y="21600"/>
                  </a:moveTo>
                  <a:cubicBezTo>
                    <a:pt x="512" y="18389"/>
                    <a:pt x="205" y="15470"/>
                    <a:pt x="0" y="12259"/>
                  </a:cubicBezTo>
                  <a:cubicBezTo>
                    <a:pt x="2866" y="9924"/>
                    <a:pt x="6654" y="7589"/>
                    <a:pt x="9316" y="5546"/>
                  </a:cubicBezTo>
                  <a:cubicBezTo>
                    <a:pt x="12591" y="3795"/>
                    <a:pt x="17812" y="1168"/>
                    <a:pt x="20781" y="0"/>
                  </a:cubicBezTo>
                  <a:cubicBezTo>
                    <a:pt x="20781" y="1168"/>
                    <a:pt x="21088" y="2919"/>
                    <a:pt x="21088" y="3795"/>
                  </a:cubicBezTo>
                  <a:cubicBezTo>
                    <a:pt x="21293" y="5546"/>
                    <a:pt x="21395" y="7589"/>
                    <a:pt x="21600" y="9341"/>
                  </a:cubicBezTo>
                  <a:cubicBezTo>
                    <a:pt x="18631" y="10508"/>
                    <a:pt x="13001" y="12259"/>
                    <a:pt x="9725" y="14303"/>
                  </a:cubicBezTo>
                  <a:cubicBezTo>
                    <a:pt x="7473" y="16054"/>
                    <a:pt x="3481" y="19265"/>
                    <a:pt x="717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46520" y="6121440"/>
              <a:ext cx="1825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" y="21600"/>
                  </a:moveTo>
                  <a:cubicBezTo>
                    <a:pt x="426" y="18900"/>
                    <a:pt x="213" y="15900"/>
                    <a:pt x="0" y="12600"/>
                  </a:cubicBezTo>
                  <a:cubicBezTo>
                    <a:pt x="2979" y="10200"/>
                    <a:pt x="6384" y="7800"/>
                    <a:pt x="9044" y="5700"/>
                  </a:cubicBezTo>
                  <a:cubicBezTo>
                    <a:pt x="12343" y="3600"/>
                    <a:pt x="17557" y="1200"/>
                    <a:pt x="20749" y="0"/>
                  </a:cubicBezTo>
                  <a:cubicBezTo>
                    <a:pt x="20855" y="3300"/>
                    <a:pt x="21387" y="6300"/>
                    <a:pt x="21600" y="9600"/>
                  </a:cubicBezTo>
                  <a:cubicBezTo>
                    <a:pt x="18408" y="10800"/>
                    <a:pt x="12875" y="12600"/>
                    <a:pt x="9470" y="14700"/>
                  </a:cubicBezTo>
                  <a:cubicBezTo>
                    <a:pt x="6916" y="15900"/>
                    <a:pt x="3511" y="18900"/>
                    <a:pt x="638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17800" y="6459480"/>
              <a:ext cx="179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" y="21600"/>
                  </a:moveTo>
                  <a:cubicBezTo>
                    <a:pt x="543" y="18514"/>
                    <a:pt x="217" y="15737"/>
                    <a:pt x="0" y="12651"/>
                  </a:cubicBezTo>
                  <a:cubicBezTo>
                    <a:pt x="2822" y="9874"/>
                    <a:pt x="6187" y="7406"/>
                    <a:pt x="8792" y="5863"/>
                  </a:cubicBezTo>
                  <a:cubicBezTo>
                    <a:pt x="12265" y="3703"/>
                    <a:pt x="17475" y="1234"/>
                    <a:pt x="20732" y="0"/>
                  </a:cubicBezTo>
                  <a:cubicBezTo>
                    <a:pt x="20840" y="3394"/>
                    <a:pt x="21383" y="6480"/>
                    <a:pt x="21600" y="9874"/>
                  </a:cubicBezTo>
                  <a:cubicBezTo>
                    <a:pt x="18344" y="11109"/>
                    <a:pt x="12591" y="12960"/>
                    <a:pt x="9226" y="15120"/>
                  </a:cubicBezTo>
                  <a:cubicBezTo>
                    <a:pt x="6838" y="16354"/>
                    <a:pt x="3690" y="19131"/>
                    <a:pt x="760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6320" y="5403960"/>
              <a:ext cx="173160" cy="60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3" y="21600"/>
                  </a:moveTo>
                  <a:cubicBezTo>
                    <a:pt x="560" y="19021"/>
                    <a:pt x="224" y="16119"/>
                    <a:pt x="0" y="13863"/>
                  </a:cubicBezTo>
                  <a:cubicBezTo>
                    <a:pt x="3469" y="10961"/>
                    <a:pt x="8394" y="5803"/>
                    <a:pt x="11416" y="3869"/>
                  </a:cubicBezTo>
                  <a:cubicBezTo>
                    <a:pt x="13990" y="2579"/>
                    <a:pt x="17571" y="967"/>
                    <a:pt x="20593" y="0"/>
                  </a:cubicBezTo>
                  <a:cubicBezTo>
                    <a:pt x="20928" y="3224"/>
                    <a:pt x="21376" y="5803"/>
                    <a:pt x="21600" y="9672"/>
                  </a:cubicBezTo>
                  <a:cubicBezTo>
                    <a:pt x="18466" y="10961"/>
                    <a:pt x="14549" y="12251"/>
                    <a:pt x="11975" y="13863"/>
                  </a:cubicBezTo>
                  <a:cubicBezTo>
                    <a:pt x="8841" y="15475"/>
                    <a:pt x="4141" y="19021"/>
                    <a:pt x="78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8240" y="5738760"/>
              <a:ext cx="19044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3" y="21600"/>
                  </a:moveTo>
                  <a:cubicBezTo>
                    <a:pt x="509" y="18937"/>
                    <a:pt x="306" y="15386"/>
                    <a:pt x="0" y="12427"/>
                  </a:cubicBezTo>
                  <a:cubicBezTo>
                    <a:pt x="2853" y="9764"/>
                    <a:pt x="6725" y="7397"/>
                    <a:pt x="9272" y="5326"/>
                  </a:cubicBezTo>
                  <a:cubicBezTo>
                    <a:pt x="12532" y="3551"/>
                    <a:pt x="17728" y="888"/>
                    <a:pt x="20785" y="0"/>
                  </a:cubicBezTo>
                  <a:cubicBezTo>
                    <a:pt x="20785" y="888"/>
                    <a:pt x="20887" y="2367"/>
                    <a:pt x="20887" y="3551"/>
                  </a:cubicBezTo>
                  <a:cubicBezTo>
                    <a:pt x="21091" y="5326"/>
                    <a:pt x="21396" y="7397"/>
                    <a:pt x="21600" y="9173"/>
                  </a:cubicBezTo>
                  <a:cubicBezTo>
                    <a:pt x="18442" y="10356"/>
                    <a:pt x="13042" y="12427"/>
                    <a:pt x="9781" y="14203"/>
                  </a:cubicBezTo>
                  <a:cubicBezTo>
                    <a:pt x="7336" y="15978"/>
                    <a:pt x="3464" y="19233"/>
                    <a:pt x="71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86000" y="6073920"/>
              <a:ext cx="18252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5" y="21600"/>
                  </a:moveTo>
                  <a:cubicBezTo>
                    <a:pt x="426" y="19200"/>
                    <a:pt x="213" y="15900"/>
                    <a:pt x="0" y="12600"/>
                  </a:cubicBezTo>
                  <a:cubicBezTo>
                    <a:pt x="2979" y="10200"/>
                    <a:pt x="6491" y="7500"/>
                    <a:pt x="9044" y="6000"/>
                  </a:cubicBezTo>
                  <a:cubicBezTo>
                    <a:pt x="12449" y="4200"/>
                    <a:pt x="17557" y="1500"/>
                    <a:pt x="20642" y="0"/>
                  </a:cubicBezTo>
                  <a:cubicBezTo>
                    <a:pt x="20855" y="3300"/>
                    <a:pt x="21387" y="6300"/>
                    <a:pt x="21600" y="9600"/>
                  </a:cubicBezTo>
                  <a:cubicBezTo>
                    <a:pt x="18408" y="10800"/>
                    <a:pt x="12768" y="12600"/>
                    <a:pt x="9364" y="14700"/>
                  </a:cubicBezTo>
                  <a:cubicBezTo>
                    <a:pt x="7023" y="15900"/>
                    <a:pt x="3618" y="19200"/>
                    <a:pt x="74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57640" y="6413400"/>
              <a:ext cx="179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" y="21600"/>
                  </a:moveTo>
                  <a:cubicBezTo>
                    <a:pt x="543" y="18558"/>
                    <a:pt x="326" y="15211"/>
                    <a:pt x="0" y="11561"/>
                  </a:cubicBezTo>
                  <a:cubicBezTo>
                    <a:pt x="2714" y="9431"/>
                    <a:pt x="6187" y="6693"/>
                    <a:pt x="8792" y="5476"/>
                  </a:cubicBezTo>
                  <a:cubicBezTo>
                    <a:pt x="12265" y="3651"/>
                    <a:pt x="17475" y="913"/>
                    <a:pt x="20623" y="0"/>
                  </a:cubicBezTo>
                  <a:cubicBezTo>
                    <a:pt x="20949" y="3042"/>
                    <a:pt x="21383" y="6085"/>
                    <a:pt x="21600" y="9431"/>
                  </a:cubicBezTo>
                  <a:cubicBezTo>
                    <a:pt x="18452" y="10344"/>
                    <a:pt x="12591" y="12473"/>
                    <a:pt x="9226" y="14603"/>
                  </a:cubicBezTo>
                  <a:cubicBezTo>
                    <a:pt x="6947" y="15820"/>
                    <a:pt x="3799" y="19166"/>
                    <a:pt x="760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461960" y="3417840"/>
            <a:ext cx="1098720" cy="484200"/>
            <a:chOff x="1461960" y="3417840"/>
            <a:chExt cx="1098720" cy="484200"/>
          </a:xfrm>
        </p:grpSpPr>
        <p:sp>
          <p:nvSpPr>
            <p:cNvPr id="260" name=""/>
            <p:cNvSpPr/>
            <p:nvPr/>
          </p:nvSpPr>
          <p:spPr>
            <a:xfrm>
              <a:off x="2063880" y="3500280"/>
              <a:ext cx="160200" cy="27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27"/>
                  </a:moveTo>
                  <a:cubicBezTo>
                    <a:pt x="0" y="2727"/>
                    <a:pt x="14118" y="0"/>
                    <a:pt x="14118" y="0"/>
                  </a:cubicBezTo>
                  <a:cubicBezTo>
                    <a:pt x="14118" y="0"/>
                    <a:pt x="21600" y="19806"/>
                    <a:pt x="21600" y="19806"/>
                  </a:cubicBezTo>
                  <a:cubicBezTo>
                    <a:pt x="21600" y="19806"/>
                    <a:pt x="7723" y="21600"/>
                    <a:pt x="7723" y="21600"/>
                  </a:cubicBezTo>
                  <a:cubicBezTo>
                    <a:pt x="7723" y="21600"/>
                    <a:pt x="0" y="2727"/>
                    <a:pt x="0" y="272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01920" y="3417840"/>
              <a:ext cx="15876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89"/>
                  </a:moveTo>
                  <a:cubicBezTo>
                    <a:pt x="0" y="2789"/>
                    <a:pt x="14156" y="0"/>
                    <a:pt x="14156" y="0"/>
                  </a:cubicBezTo>
                  <a:cubicBezTo>
                    <a:pt x="14156" y="0"/>
                    <a:pt x="21600" y="19812"/>
                    <a:pt x="21600" y="19812"/>
                  </a:cubicBezTo>
                  <a:cubicBezTo>
                    <a:pt x="21600" y="19812"/>
                    <a:pt x="7566" y="21600"/>
                    <a:pt x="7566" y="21600"/>
                  </a:cubicBezTo>
                  <a:cubicBezTo>
                    <a:pt x="7566" y="21600"/>
                    <a:pt x="0" y="2789"/>
                    <a:pt x="0" y="2789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39880" y="3573360"/>
              <a:ext cx="16020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18"/>
                  </a:moveTo>
                  <a:cubicBezTo>
                    <a:pt x="0" y="2718"/>
                    <a:pt x="14198" y="0"/>
                    <a:pt x="14198" y="0"/>
                  </a:cubicBezTo>
                  <a:cubicBezTo>
                    <a:pt x="14198" y="0"/>
                    <a:pt x="21600" y="19812"/>
                    <a:pt x="21600" y="19812"/>
                  </a:cubicBezTo>
                  <a:cubicBezTo>
                    <a:pt x="21600" y="19812"/>
                    <a:pt x="7766" y="21600"/>
                    <a:pt x="7766" y="21600"/>
                  </a:cubicBezTo>
                  <a:cubicBezTo>
                    <a:pt x="7766" y="21600"/>
                    <a:pt x="0" y="2718"/>
                    <a:pt x="0" y="2718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61960" y="3629160"/>
              <a:ext cx="15876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09"/>
                  </a:moveTo>
                  <a:cubicBezTo>
                    <a:pt x="0" y="2709"/>
                    <a:pt x="14156" y="0"/>
                    <a:pt x="14156" y="0"/>
                  </a:cubicBezTo>
                  <a:cubicBezTo>
                    <a:pt x="14156" y="0"/>
                    <a:pt x="21600" y="19747"/>
                    <a:pt x="21600" y="19747"/>
                  </a:cubicBezTo>
                  <a:cubicBezTo>
                    <a:pt x="21600" y="19747"/>
                    <a:pt x="7688" y="21600"/>
                    <a:pt x="7688" y="21600"/>
                  </a:cubicBezTo>
                  <a:cubicBezTo>
                    <a:pt x="7688" y="21600"/>
                    <a:pt x="0" y="2709"/>
                    <a:pt x="0" y="2709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490760" y="3951360"/>
            <a:ext cx="1287360" cy="439560"/>
            <a:chOff x="1490760" y="3951360"/>
            <a:chExt cx="1287360" cy="439560"/>
          </a:xfrm>
        </p:grpSpPr>
        <p:sp>
          <p:nvSpPr>
            <p:cNvPr id="265" name=""/>
            <p:cNvSpPr/>
            <p:nvPr/>
          </p:nvSpPr>
          <p:spPr>
            <a:xfrm>
              <a:off x="2630520" y="3951360"/>
              <a:ext cx="147600" cy="17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71"/>
                  </a:moveTo>
                  <a:cubicBezTo>
                    <a:pt x="0" y="1371"/>
                    <a:pt x="17517" y="0"/>
                    <a:pt x="17517" y="0"/>
                  </a:cubicBezTo>
                  <a:cubicBezTo>
                    <a:pt x="17517" y="0"/>
                    <a:pt x="21600" y="18400"/>
                    <a:pt x="21600" y="18400"/>
                  </a:cubicBezTo>
                  <a:cubicBezTo>
                    <a:pt x="21600" y="18400"/>
                    <a:pt x="4083" y="21600"/>
                    <a:pt x="4083" y="21600"/>
                  </a:cubicBezTo>
                  <a:cubicBezTo>
                    <a:pt x="4083" y="21600"/>
                    <a:pt x="0" y="1371"/>
                    <a:pt x="0" y="13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76360" y="4008600"/>
              <a:ext cx="14760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161"/>
                  </a:moveTo>
                  <a:cubicBezTo>
                    <a:pt x="0" y="1161"/>
                    <a:pt x="17411" y="0"/>
                    <a:pt x="17411" y="0"/>
                  </a:cubicBezTo>
                  <a:cubicBezTo>
                    <a:pt x="17411" y="0"/>
                    <a:pt x="21600" y="18581"/>
                    <a:pt x="21600" y="18581"/>
                  </a:cubicBezTo>
                  <a:cubicBezTo>
                    <a:pt x="21600" y="18581"/>
                    <a:pt x="4189" y="21600"/>
                    <a:pt x="4189" y="21600"/>
                  </a:cubicBezTo>
                  <a:cubicBezTo>
                    <a:pt x="4189" y="21600"/>
                    <a:pt x="0" y="1161"/>
                    <a:pt x="0" y="116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5320" y="4079880"/>
              <a:ext cx="14940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71"/>
                  </a:moveTo>
                  <a:cubicBezTo>
                    <a:pt x="0" y="1271"/>
                    <a:pt x="17411" y="0"/>
                    <a:pt x="17411" y="0"/>
                  </a:cubicBezTo>
                  <a:cubicBezTo>
                    <a:pt x="17411" y="0"/>
                    <a:pt x="21600" y="18597"/>
                    <a:pt x="21600" y="18597"/>
                  </a:cubicBezTo>
                  <a:cubicBezTo>
                    <a:pt x="21600" y="18597"/>
                    <a:pt x="4189" y="21600"/>
                    <a:pt x="4189" y="21600"/>
                  </a:cubicBezTo>
                  <a:cubicBezTo>
                    <a:pt x="4189" y="21600"/>
                    <a:pt x="0" y="1271"/>
                    <a:pt x="0" y="12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8040" y="4151160"/>
              <a:ext cx="147600" cy="16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71"/>
                  </a:moveTo>
                  <a:cubicBezTo>
                    <a:pt x="0" y="1271"/>
                    <a:pt x="17411" y="0"/>
                    <a:pt x="17411" y="0"/>
                  </a:cubicBezTo>
                  <a:cubicBezTo>
                    <a:pt x="17411" y="0"/>
                    <a:pt x="21600" y="18597"/>
                    <a:pt x="21600" y="18597"/>
                  </a:cubicBezTo>
                  <a:cubicBezTo>
                    <a:pt x="21600" y="18597"/>
                    <a:pt x="4189" y="21600"/>
                    <a:pt x="4189" y="21600"/>
                  </a:cubicBezTo>
                  <a:cubicBezTo>
                    <a:pt x="4189" y="21600"/>
                    <a:pt x="0" y="1271"/>
                    <a:pt x="0" y="12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90760" y="4222800"/>
              <a:ext cx="14760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71"/>
                  </a:moveTo>
                  <a:cubicBezTo>
                    <a:pt x="0" y="1271"/>
                    <a:pt x="17517" y="0"/>
                    <a:pt x="17517" y="0"/>
                  </a:cubicBezTo>
                  <a:cubicBezTo>
                    <a:pt x="17517" y="0"/>
                    <a:pt x="21600" y="18597"/>
                    <a:pt x="21600" y="18597"/>
                  </a:cubicBezTo>
                  <a:cubicBezTo>
                    <a:pt x="21600" y="18597"/>
                    <a:pt x="4083" y="21600"/>
                    <a:pt x="4083" y="21600"/>
                  </a:cubicBezTo>
                  <a:cubicBezTo>
                    <a:pt x="4083" y="21600"/>
                    <a:pt x="0" y="1271"/>
                    <a:pt x="0" y="12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82840" y="4400640"/>
            <a:ext cx="1596960" cy="774720"/>
            <a:chOff x="1482840" y="4400640"/>
            <a:chExt cx="1596960" cy="774720"/>
          </a:xfrm>
        </p:grpSpPr>
        <p:sp>
          <p:nvSpPr>
            <p:cNvPr id="271" name=""/>
            <p:cNvSpPr/>
            <p:nvPr/>
          </p:nvSpPr>
          <p:spPr>
            <a:xfrm>
              <a:off x="2871720" y="4400640"/>
              <a:ext cx="208080" cy="48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148" y="21600"/>
                  </a:moveTo>
                  <a:cubicBezTo>
                    <a:pt x="6424" y="13778"/>
                    <a:pt x="0" y="1350"/>
                    <a:pt x="0" y="1350"/>
                  </a:cubicBezTo>
                  <a:cubicBezTo>
                    <a:pt x="0" y="1350"/>
                    <a:pt x="13128" y="0"/>
                    <a:pt x="13128" y="0"/>
                  </a:cubicBezTo>
                  <a:cubicBezTo>
                    <a:pt x="13128" y="0"/>
                    <a:pt x="21600" y="20607"/>
                    <a:pt x="21600" y="2060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49520" y="4468680"/>
              <a:ext cx="208080" cy="48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12" y="21600"/>
                  </a:moveTo>
                  <a:cubicBezTo>
                    <a:pt x="6171" y="13764"/>
                    <a:pt x="0" y="1352"/>
                    <a:pt x="0" y="1352"/>
                  </a:cubicBezTo>
                  <a:cubicBezTo>
                    <a:pt x="0" y="1352"/>
                    <a:pt x="13184" y="0"/>
                    <a:pt x="13184" y="0"/>
                  </a:cubicBezTo>
                  <a:cubicBezTo>
                    <a:pt x="13184" y="0"/>
                    <a:pt x="21600" y="20526"/>
                    <a:pt x="21600" y="20526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6720" y="4618080"/>
              <a:ext cx="208080" cy="48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776" y="21600"/>
                  </a:moveTo>
                  <a:cubicBezTo>
                    <a:pt x="6145" y="13610"/>
                    <a:pt x="0" y="1365"/>
                    <a:pt x="0" y="1365"/>
                  </a:cubicBezTo>
                  <a:cubicBezTo>
                    <a:pt x="0" y="1365"/>
                    <a:pt x="13221" y="0"/>
                    <a:pt x="13221" y="0"/>
                  </a:cubicBezTo>
                  <a:cubicBezTo>
                    <a:pt x="13221" y="0"/>
                    <a:pt x="21600" y="20556"/>
                    <a:pt x="21600" y="20556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03560" y="4535640"/>
              <a:ext cx="209520" cy="49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19" y="21600"/>
                  </a:moveTo>
                  <a:cubicBezTo>
                    <a:pt x="6211" y="13753"/>
                    <a:pt x="0" y="1387"/>
                    <a:pt x="0" y="1387"/>
                  </a:cubicBezTo>
                  <a:cubicBezTo>
                    <a:pt x="0" y="1387"/>
                    <a:pt x="13164" y="0"/>
                    <a:pt x="13164" y="0"/>
                  </a:cubicBezTo>
                  <a:cubicBezTo>
                    <a:pt x="13164" y="0"/>
                    <a:pt x="21600" y="20649"/>
                    <a:pt x="21600" y="20649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82840" y="4705200"/>
              <a:ext cx="20484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663" y="21600"/>
                  </a:moveTo>
                  <a:cubicBezTo>
                    <a:pt x="5779" y="13391"/>
                    <a:pt x="0" y="1327"/>
                    <a:pt x="0" y="1327"/>
                  </a:cubicBezTo>
                  <a:cubicBezTo>
                    <a:pt x="0" y="1327"/>
                    <a:pt x="13453" y="0"/>
                    <a:pt x="13453" y="0"/>
                  </a:cubicBezTo>
                  <a:cubicBezTo>
                    <a:pt x="13453" y="0"/>
                    <a:pt x="21600" y="20605"/>
                    <a:pt x="21600" y="20605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95240" y="5727600"/>
            <a:ext cx="623880" cy="2081160"/>
            <a:chOff x="795240" y="5727600"/>
            <a:chExt cx="623880" cy="2081160"/>
          </a:xfrm>
        </p:grpSpPr>
        <p:sp>
          <p:nvSpPr>
            <p:cNvPr id="277" name=""/>
            <p:cNvSpPr/>
            <p:nvPr/>
          </p:nvSpPr>
          <p:spPr>
            <a:xfrm>
              <a:off x="917640" y="7532640"/>
              <a:ext cx="1602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55"/>
                  </a:moveTo>
                  <a:cubicBezTo>
                    <a:pt x="0" y="2455"/>
                    <a:pt x="8568" y="21600"/>
                    <a:pt x="8568" y="21600"/>
                  </a:cubicBezTo>
                  <a:cubicBezTo>
                    <a:pt x="8568" y="21600"/>
                    <a:pt x="21600" y="19566"/>
                    <a:pt x="21600" y="19566"/>
                  </a:cubicBezTo>
                  <a:cubicBezTo>
                    <a:pt x="21600" y="19566"/>
                    <a:pt x="16653" y="6522"/>
                    <a:pt x="14360" y="0"/>
                  </a:cubicBezTo>
                  <a:cubicBezTo>
                    <a:pt x="9774" y="701"/>
                    <a:pt x="0" y="2455"/>
                    <a:pt x="0" y="2455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79640" y="6973920"/>
              <a:ext cx="1602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84"/>
                  </a:moveTo>
                  <a:cubicBezTo>
                    <a:pt x="0" y="2384"/>
                    <a:pt x="8494" y="21600"/>
                    <a:pt x="8494" y="21600"/>
                  </a:cubicBezTo>
                  <a:cubicBezTo>
                    <a:pt x="8494" y="21600"/>
                    <a:pt x="21600" y="19636"/>
                    <a:pt x="21600" y="19636"/>
                  </a:cubicBezTo>
                  <a:cubicBezTo>
                    <a:pt x="21600" y="19636"/>
                    <a:pt x="16625" y="6522"/>
                    <a:pt x="14440" y="0"/>
                  </a:cubicBezTo>
                  <a:cubicBezTo>
                    <a:pt x="9829" y="771"/>
                    <a:pt x="0" y="2384"/>
                    <a:pt x="0" y="2384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66960" y="6497640"/>
              <a:ext cx="15840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8468" y="21600"/>
                    <a:pt x="8468" y="21600"/>
                  </a:cubicBezTo>
                  <a:cubicBezTo>
                    <a:pt x="8468" y="21600"/>
                    <a:pt x="21600" y="19503"/>
                    <a:pt x="21600" y="19503"/>
                  </a:cubicBezTo>
                  <a:cubicBezTo>
                    <a:pt x="21600" y="19503"/>
                    <a:pt x="16814" y="6501"/>
                    <a:pt x="14482" y="0"/>
                  </a:cubicBezTo>
                  <a:cubicBezTo>
                    <a:pt x="9818" y="769"/>
                    <a:pt x="0" y="2377"/>
                    <a:pt x="0" y="237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0360" y="6407280"/>
              <a:ext cx="158760" cy="27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8420" y="21600"/>
                    <a:pt x="8420" y="21600"/>
                  </a:cubicBezTo>
                  <a:cubicBezTo>
                    <a:pt x="8420" y="21600"/>
                    <a:pt x="21600" y="19433"/>
                    <a:pt x="21600" y="19433"/>
                  </a:cubicBezTo>
                  <a:cubicBezTo>
                    <a:pt x="21600" y="19433"/>
                    <a:pt x="16719" y="6501"/>
                    <a:pt x="14400" y="0"/>
                  </a:cubicBezTo>
                  <a:cubicBezTo>
                    <a:pt x="9885" y="699"/>
                    <a:pt x="0" y="2377"/>
                    <a:pt x="0" y="237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5240" y="5727600"/>
              <a:ext cx="136800" cy="21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532" y="21600"/>
                  </a:moveTo>
                  <a:cubicBezTo>
                    <a:pt x="7532" y="21600"/>
                    <a:pt x="21600" y="19160"/>
                    <a:pt x="21600" y="19160"/>
                  </a:cubicBezTo>
                  <a:cubicBezTo>
                    <a:pt x="21600" y="19160"/>
                    <a:pt x="17763" y="8134"/>
                    <a:pt x="14495" y="2711"/>
                  </a:cubicBezTo>
                  <a:cubicBezTo>
                    <a:pt x="13216" y="633"/>
                    <a:pt x="9379" y="0"/>
                    <a:pt x="5826" y="452"/>
                  </a:cubicBezTo>
                  <a:cubicBezTo>
                    <a:pt x="2700" y="1085"/>
                    <a:pt x="0" y="2621"/>
                    <a:pt x="711" y="5061"/>
                  </a:cubicBezTo>
                  <a:cubicBezTo>
                    <a:pt x="1989" y="11478"/>
                    <a:pt x="7532" y="21600"/>
                    <a:pt x="7532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508200" y="4395960"/>
            <a:ext cx="908280" cy="1285560"/>
            <a:chOff x="3508200" y="4395960"/>
            <a:chExt cx="908280" cy="1285560"/>
          </a:xfrm>
        </p:grpSpPr>
        <p:sp>
          <p:nvSpPr>
            <p:cNvPr id="283" name=""/>
            <p:cNvSpPr/>
            <p:nvPr/>
          </p:nvSpPr>
          <p:spPr>
            <a:xfrm>
              <a:off x="3579840" y="4552920"/>
              <a:ext cx="9360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15" y="21600"/>
                  </a:moveTo>
                  <a:cubicBezTo>
                    <a:pt x="3115" y="21600"/>
                    <a:pt x="21600" y="18664"/>
                    <a:pt x="21600" y="18664"/>
                  </a:cubicBezTo>
                  <a:cubicBezTo>
                    <a:pt x="21600" y="18664"/>
                    <a:pt x="12254" y="0"/>
                    <a:pt x="12254" y="0"/>
                  </a:cubicBezTo>
                  <a:cubicBezTo>
                    <a:pt x="12254" y="0"/>
                    <a:pt x="8100" y="524"/>
                    <a:pt x="8100" y="524"/>
                  </a:cubicBezTo>
                  <a:cubicBezTo>
                    <a:pt x="8100" y="524"/>
                    <a:pt x="13915" y="13841"/>
                    <a:pt x="13915" y="13841"/>
                  </a:cubicBezTo>
                  <a:cubicBezTo>
                    <a:pt x="13915" y="13841"/>
                    <a:pt x="0" y="16462"/>
                    <a:pt x="0" y="16462"/>
                  </a:cubicBezTo>
                  <a:cubicBezTo>
                    <a:pt x="0" y="16462"/>
                    <a:pt x="3115" y="21600"/>
                    <a:pt x="3115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5120" y="5522760"/>
              <a:ext cx="9684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000" y="21600"/>
                  </a:moveTo>
                  <a:cubicBezTo>
                    <a:pt x="3000" y="21600"/>
                    <a:pt x="21600" y="19037"/>
                    <a:pt x="21600" y="19037"/>
                  </a:cubicBezTo>
                  <a:cubicBezTo>
                    <a:pt x="21600" y="19037"/>
                    <a:pt x="15200" y="0"/>
                    <a:pt x="15200" y="0"/>
                  </a:cubicBezTo>
                  <a:cubicBezTo>
                    <a:pt x="15200" y="0"/>
                    <a:pt x="10200" y="732"/>
                    <a:pt x="10200" y="732"/>
                  </a:cubicBezTo>
                  <a:cubicBezTo>
                    <a:pt x="10200" y="732"/>
                    <a:pt x="14400" y="13668"/>
                    <a:pt x="14400" y="13668"/>
                  </a:cubicBezTo>
                  <a:cubicBezTo>
                    <a:pt x="14400" y="13668"/>
                    <a:pt x="0" y="15742"/>
                    <a:pt x="0" y="15742"/>
                  </a:cubicBezTo>
                  <a:cubicBezTo>
                    <a:pt x="0" y="15742"/>
                    <a:pt x="3000" y="21600"/>
                    <a:pt x="3000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08200" y="5345280"/>
              <a:ext cx="9072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" y="21600"/>
                  </a:moveTo>
                  <a:cubicBezTo>
                    <a:pt x="1711" y="21600"/>
                    <a:pt x="21600" y="20514"/>
                    <a:pt x="21600" y="20514"/>
                  </a:cubicBezTo>
                  <a:cubicBezTo>
                    <a:pt x="21600" y="20514"/>
                    <a:pt x="14756" y="0"/>
                    <a:pt x="14756" y="0"/>
                  </a:cubicBezTo>
                  <a:cubicBezTo>
                    <a:pt x="14756" y="0"/>
                    <a:pt x="8982" y="724"/>
                    <a:pt x="8982" y="724"/>
                  </a:cubicBezTo>
                  <a:cubicBezTo>
                    <a:pt x="8982" y="724"/>
                    <a:pt x="13687" y="15084"/>
                    <a:pt x="13687" y="15084"/>
                  </a:cubicBezTo>
                  <a:cubicBezTo>
                    <a:pt x="13687" y="15084"/>
                    <a:pt x="0" y="15928"/>
                    <a:pt x="0" y="15928"/>
                  </a:cubicBezTo>
                  <a:cubicBezTo>
                    <a:pt x="0" y="15928"/>
                    <a:pt x="1711" y="21600"/>
                    <a:pt x="1711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7800" y="4968720"/>
              <a:ext cx="8424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47" y="21600"/>
                  </a:moveTo>
                  <a:cubicBezTo>
                    <a:pt x="3447" y="21600"/>
                    <a:pt x="21600" y="19769"/>
                    <a:pt x="21600" y="19769"/>
                  </a:cubicBezTo>
                  <a:cubicBezTo>
                    <a:pt x="21600" y="19769"/>
                    <a:pt x="14017" y="0"/>
                    <a:pt x="14017" y="0"/>
                  </a:cubicBezTo>
                  <a:cubicBezTo>
                    <a:pt x="14017" y="0"/>
                    <a:pt x="8043" y="488"/>
                    <a:pt x="8043" y="488"/>
                  </a:cubicBezTo>
                  <a:cubicBezTo>
                    <a:pt x="8043" y="488"/>
                    <a:pt x="13557" y="14522"/>
                    <a:pt x="13557" y="14522"/>
                  </a:cubicBezTo>
                  <a:cubicBezTo>
                    <a:pt x="13557" y="14522"/>
                    <a:pt x="0" y="15620"/>
                    <a:pt x="0" y="15620"/>
                  </a:cubicBezTo>
                  <a:cubicBezTo>
                    <a:pt x="0" y="15620"/>
                    <a:pt x="3447" y="21600"/>
                    <a:pt x="3447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82880" y="4710240"/>
              <a:ext cx="7776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7" y="21600"/>
                  </a:moveTo>
                  <a:cubicBezTo>
                    <a:pt x="1507" y="21600"/>
                    <a:pt x="21600" y="19929"/>
                    <a:pt x="21600" y="19929"/>
                  </a:cubicBezTo>
                  <a:cubicBezTo>
                    <a:pt x="21600" y="19929"/>
                    <a:pt x="18084" y="0"/>
                    <a:pt x="18084" y="0"/>
                  </a:cubicBezTo>
                  <a:cubicBezTo>
                    <a:pt x="18084" y="0"/>
                    <a:pt x="10047" y="835"/>
                    <a:pt x="10047" y="835"/>
                  </a:cubicBezTo>
                  <a:cubicBezTo>
                    <a:pt x="10047" y="835"/>
                    <a:pt x="13060" y="14559"/>
                    <a:pt x="13060" y="14559"/>
                  </a:cubicBezTo>
                  <a:cubicBezTo>
                    <a:pt x="13060" y="14559"/>
                    <a:pt x="0" y="15633"/>
                    <a:pt x="0" y="15633"/>
                  </a:cubicBezTo>
                  <a:cubicBezTo>
                    <a:pt x="0" y="15633"/>
                    <a:pt x="1507" y="21600"/>
                    <a:pt x="1507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24360" y="4697280"/>
              <a:ext cx="6660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335" y="21600"/>
                  </a:moveTo>
                  <a:cubicBezTo>
                    <a:pt x="2335" y="21600"/>
                    <a:pt x="21600" y="19759"/>
                    <a:pt x="21600" y="19759"/>
                  </a:cubicBezTo>
                  <a:cubicBezTo>
                    <a:pt x="21600" y="19759"/>
                    <a:pt x="15470" y="0"/>
                    <a:pt x="15470" y="0"/>
                  </a:cubicBezTo>
                  <a:cubicBezTo>
                    <a:pt x="15470" y="0"/>
                    <a:pt x="6714" y="245"/>
                    <a:pt x="6714" y="245"/>
                  </a:cubicBezTo>
                  <a:cubicBezTo>
                    <a:pt x="6714" y="245"/>
                    <a:pt x="11092" y="14236"/>
                    <a:pt x="11092" y="14236"/>
                  </a:cubicBezTo>
                  <a:cubicBezTo>
                    <a:pt x="11092" y="14236"/>
                    <a:pt x="0" y="15218"/>
                    <a:pt x="0" y="15218"/>
                  </a:cubicBezTo>
                  <a:cubicBezTo>
                    <a:pt x="0" y="15218"/>
                    <a:pt x="2335" y="21600"/>
                    <a:pt x="2335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29000" y="4395960"/>
              <a:ext cx="8748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91" y="21600"/>
                  </a:moveTo>
                  <a:cubicBezTo>
                    <a:pt x="891" y="21600"/>
                    <a:pt x="21600" y="18809"/>
                    <a:pt x="21600" y="18809"/>
                  </a:cubicBezTo>
                  <a:cubicBezTo>
                    <a:pt x="21600" y="18809"/>
                    <a:pt x="14474" y="0"/>
                    <a:pt x="14474" y="0"/>
                  </a:cubicBezTo>
                  <a:cubicBezTo>
                    <a:pt x="14474" y="0"/>
                    <a:pt x="8907" y="971"/>
                    <a:pt x="8907" y="971"/>
                  </a:cubicBezTo>
                  <a:cubicBezTo>
                    <a:pt x="8907" y="971"/>
                    <a:pt x="13806" y="13591"/>
                    <a:pt x="13806" y="13591"/>
                  </a:cubicBezTo>
                  <a:cubicBezTo>
                    <a:pt x="13806" y="13591"/>
                    <a:pt x="0" y="15047"/>
                    <a:pt x="0" y="15047"/>
                  </a:cubicBezTo>
                  <a:cubicBezTo>
                    <a:pt x="0" y="15047"/>
                    <a:pt x="891" y="21600"/>
                    <a:pt x="891" y="21600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90920" y="4398840"/>
            <a:ext cx="925560" cy="1285920"/>
            <a:chOff x="3490920" y="4398840"/>
            <a:chExt cx="925560" cy="1285920"/>
          </a:xfrm>
        </p:grpSpPr>
        <p:sp>
          <p:nvSpPr>
            <p:cNvPr id="291" name=""/>
            <p:cNvSpPr/>
            <p:nvPr/>
          </p:nvSpPr>
          <p:spPr>
            <a:xfrm>
              <a:off x="3678120" y="5524560"/>
              <a:ext cx="12384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043" y="21600"/>
                  </a:moveTo>
                  <a:cubicBezTo>
                    <a:pt x="7043" y="21600"/>
                    <a:pt x="21600" y="19037"/>
                    <a:pt x="21600" y="19037"/>
                  </a:cubicBezTo>
                  <a:cubicBezTo>
                    <a:pt x="21600" y="19037"/>
                    <a:pt x="16591" y="0"/>
                    <a:pt x="16591" y="0"/>
                  </a:cubicBezTo>
                  <a:cubicBezTo>
                    <a:pt x="16591" y="0"/>
                    <a:pt x="0" y="2807"/>
                    <a:pt x="0" y="2807"/>
                  </a:cubicBezTo>
                  <a:cubicBezTo>
                    <a:pt x="0" y="2807"/>
                    <a:pt x="7043" y="21600"/>
                    <a:pt x="7043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5348160"/>
              <a:ext cx="108000" cy="16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98" y="21600"/>
                  </a:moveTo>
                  <a:cubicBezTo>
                    <a:pt x="4998" y="21600"/>
                    <a:pt x="21600" y="20514"/>
                    <a:pt x="21600" y="20514"/>
                  </a:cubicBezTo>
                  <a:cubicBezTo>
                    <a:pt x="21600" y="20514"/>
                    <a:pt x="15888" y="0"/>
                    <a:pt x="15888" y="0"/>
                  </a:cubicBezTo>
                  <a:cubicBezTo>
                    <a:pt x="15888" y="0"/>
                    <a:pt x="0" y="1448"/>
                    <a:pt x="0" y="1448"/>
                  </a:cubicBezTo>
                  <a:cubicBezTo>
                    <a:pt x="0" y="1448"/>
                    <a:pt x="4998" y="21600"/>
                    <a:pt x="4998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90800" y="4971960"/>
              <a:ext cx="11124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39" y="21600"/>
                  </a:moveTo>
                  <a:cubicBezTo>
                    <a:pt x="7839" y="21600"/>
                    <a:pt x="21600" y="19769"/>
                    <a:pt x="21600" y="19769"/>
                  </a:cubicBezTo>
                  <a:cubicBezTo>
                    <a:pt x="21600" y="19769"/>
                    <a:pt x="15852" y="0"/>
                    <a:pt x="15852" y="0"/>
                  </a:cubicBezTo>
                  <a:cubicBezTo>
                    <a:pt x="15852" y="0"/>
                    <a:pt x="0" y="2685"/>
                    <a:pt x="0" y="2685"/>
                  </a:cubicBezTo>
                  <a:cubicBezTo>
                    <a:pt x="0" y="2685"/>
                    <a:pt x="7839" y="21600"/>
                    <a:pt x="7839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48160" y="4549680"/>
              <a:ext cx="12528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70" y="21600"/>
                  </a:moveTo>
                  <a:cubicBezTo>
                    <a:pt x="7770" y="21600"/>
                    <a:pt x="21600" y="18664"/>
                    <a:pt x="21600" y="18664"/>
                  </a:cubicBezTo>
                  <a:cubicBezTo>
                    <a:pt x="21600" y="18664"/>
                    <a:pt x="14607" y="0"/>
                    <a:pt x="14607" y="0"/>
                  </a:cubicBezTo>
                  <a:cubicBezTo>
                    <a:pt x="14607" y="0"/>
                    <a:pt x="0" y="2202"/>
                    <a:pt x="0" y="2202"/>
                  </a:cubicBezTo>
                  <a:cubicBezTo>
                    <a:pt x="0" y="2202"/>
                    <a:pt x="7770" y="21600"/>
                    <a:pt x="777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70280" y="4713120"/>
              <a:ext cx="90360" cy="16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320" y="21600"/>
                  </a:moveTo>
                  <a:cubicBezTo>
                    <a:pt x="4320" y="21600"/>
                    <a:pt x="21600" y="19929"/>
                    <a:pt x="21600" y="19929"/>
                  </a:cubicBezTo>
                  <a:cubicBezTo>
                    <a:pt x="21600" y="19929"/>
                    <a:pt x="18576" y="0"/>
                    <a:pt x="18576" y="0"/>
                  </a:cubicBezTo>
                  <a:cubicBezTo>
                    <a:pt x="18576" y="0"/>
                    <a:pt x="0" y="1790"/>
                    <a:pt x="0" y="1790"/>
                  </a:cubicBezTo>
                  <a:cubicBezTo>
                    <a:pt x="0" y="1790"/>
                    <a:pt x="4320" y="21600"/>
                    <a:pt x="432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4700520"/>
              <a:ext cx="8568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94" y="21600"/>
                  </a:moveTo>
                  <a:cubicBezTo>
                    <a:pt x="6594" y="21600"/>
                    <a:pt x="21600" y="19759"/>
                    <a:pt x="21600" y="19759"/>
                  </a:cubicBezTo>
                  <a:cubicBezTo>
                    <a:pt x="21600" y="19759"/>
                    <a:pt x="16825" y="0"/>
                    <a:pt x="16825" y="0"/>
                  </a:cubicBezTo>
                  <a:cubicBezTo>
                    <a:pt x="16825" y="0"/>
                    <a:pt x="0" y="736"/>
                    <a:pt x="0" y="736"/>
                  </a:cubicBezTo>
                  <a:cubicBezTo>
                    <a:pt x="0" y="736"/>
                    <a:pt x="6594" y="21600"/>
                    <a:pt x="6594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21080" y="4398840"/>
              <a:ext cx="9540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649" y="21600"/>
                  </a:moveTo>
                  <a:cubicBezTo>
                    <a:pt x="2649" y="21600"/>
                    <a:pt x="21600" y="18809"/>
                    <a:pt x="21600" y="18809"/>
                  </a:cubicBezTo>
                  <a:cubicBezTo>
                    <a:pt x="21600" y="18809"/>
                    <a:pt x="15079" y="0"/>
                    <a:pt x="15079" y="0"/>
                  </a:cubicBezTo>
                  <a:cubicBezTo>
                    <a:pt x="15079" y="0"/>
                    <a:pt x="0" y="2306"/>
                    <a:pt x="0" y="2306"/>
                  </a:cubicBezTo>
                  <a:cubicBezTo>
                    <a:pt x="0" y="2306"/>
                    <a:pt x="2649" y="21600"/>
                    <a:pt x="2649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464000" y="1387440"/>
            <a:ext cx="8748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635"/>
                </a:moveTo>
                <a:cubicBezTo>
                  <a:pt x="0" y="5635"/>
                  <a:pt x="7348" y="7325"/>
                  <a:pt x="7348" y="7325"/>
                </a:cubicBezTo>
                <a:cubicBezTo>
                  <a:pt x="7348" y="7325"/>
                  <a:pt x="12247" y="0"/>
                  <a:pt x="12247" y="0"/>
                </a:cubicBezTo>
                <a:cubicBezTo>
                  <a:pt x="12247" y="0"/>
                  <a:pt x="14029" y="9203"/>
                  <a:pt x="14029" y="9203"/>
                </a:cubicBezTo>
                <a:cubicBezTo>
                  <a:pt x="14029" y="9203"/>
                  <a:pt x="21600" y="9579"/>
                  <a:pt x="21600" y="9579"/>
                </a:cubicBezTo>
                <a:cubicBezTo>
                  <a:pt x="21600" y="9579"/>
                  <a:pt x="15365" y="13523"/>
                  <a:pt x="15365" y="13523"/>
                </a:cubicBezTo>
                <a:cubicBezTo>
                  <a:pt x="15365" y="13523"/>
                  <a:pt x="14029" y="21600"/>
                  <a:pt x="14029" y="21600"/>
                </a:cubicBezTo>
                <a:cubicBezTo>
                  <a:pt x="14029" y="21600"/>
                  <a:pt x="10021" y="16341"/>
                  <a:pt x="7126" y="15402"/>
                </a:cubicBezTo>
                <a:cubicBezTo>
                  <a:pt x="4676" y="14275"/>
                  <a:pt x="0" y="15777"/>
                  <a:pt x="0" y="15777"/>
                </a:cubicBezTo>
                <a:cubicBezTo>
                  <a:pt x="0" y="15777"/>
                  <a:pt x="3340" y="10330"/>
                  <a:pt x="3340" y="10330"/>
                </a:cubicBezTo>
                <a:cubicBezTo>
                  <a:pt x="3340" y="10330"/>
                  <a:pt x="0" y="5635"/>
                  <a:pt x="0" y="5635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75040" y="1496880"/>
            <a:ext cx="25524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584"/>
                </a:moveTo>
                <a:cubicBezTo>
                  <a:pt x="0" y="8584"/>
                  <a:pt x="7200" y="8373"/>
                  <a:pt x="7200" y="8373"/>
                </a:cubicBezTo>
                <a:cubicBezTo>
                  <a:pt x="7200" y="8373"/>
                  <a:pt x="9549" y="0"/>
                  <a:pt x="9549" y="0"/>
                </a:cubicBezTo>
                <a:cubicBezTo>
                  <a:pt x="9549" y="0"/>
                  <a:pt x="14324" y="8584"/>
                  <a:pt x="14324" y="8584"/>
                </a:cubicBezTo>
                <a:cubicBezTo>
                  <a:pt x="14324" y="8584"/>
                  <a:pt x="21600" y="7106"/>
                  <a:pt x="21600" y="7106"/>
                </a:cubicBezTo>
                <a:cubicBezTo>
                  <a:pt x="21600" y="7106"/>
                  <a:pt x="16598" y="13368"/>
                  <a:pt x="16598" y="13368"/>
                </a:cubicBezTo>
                <a:cubicBezTo>
                  <a:pt x="16598" y="13368"/>
                  <a:pt x="18189" y="21600"/>
                  <a:pt x="18189" y="21600"/>
                </a:cubicBezTo>
                <a:cubicBezTo>
                  <a:pt x="18189" y="21600"/>
                  <a:pt x="12733" y="16956"/>
                  <a:pt x="9549" y="16956"/>
                </a:cubicBezTo>
                <a:cubicBezTo>
                  <a:pt x="7352" y="16816"/>
                  <a:pt x="3183" y="19700"/>
                  <a:pt x="3183" y="19700"/>
                </a:cubicBezTo>
                <a:cubicBezTo>
                  <a:pt x="3183" y="19700"/>
                  <a:pt x="4851" y="12594"/>
                  <a:pt x="4851" y="12594"/>
                </a:cubicBezTo>
                <a:cubicBezTo>
                  <a:pt x="4851" y="12594"/>
                  <a:pt x="0" y="8584"/>
                  <a:pt x="0" y="8584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65240" y="2174760"/>
            <a:ext cx="21744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831"/>
                </a:moveTo>
                <a:cubicBezTo>
                  <a:pt x="0" y="11831"/>
                  <a:pt x="6812" y="9142"/>
                  <a:pt x="6812" y="9142"/>
                </a:cubicBezTo>
                <a:cubicBezTo>
                  <a:pt x="6812" y="9142"/>
                  <a:pt x="5736" y="0"/>
                  <a:pt x="5736" y="0"/>
                </a:cubicBezTo>
                <a:cubicBezTo>
                  <a:pt x="5736" y="0"/>
                  <a:pt x="13354" y="6901"/>
                  <a:pt x="13354" y="6901"/>
                </a:cubicBezTo>
                <a:cubicBezTo>
                  <a:pt x="13354" y="6901"/>
                  <a:pt x="19539" y="3047"/>
                  <a:pt x="19539" y="3047"/>
                </a:cubicBezTo>
                <a:cubicBezTo>
                  <a:pt x="19539" y="3047"/>
                  <a:pt x="17119" y="10934"/>
                  <a:pt x="17119" y="10934"/>
                </a:cubicBezTo>
                <a:cubicBezTo>
                  <a:pt x="17119" y="10934"/>
                  <a:pt x="21600" y="18463"/>
                  <a:pt x="21600" y="18463"/>
                </a:cubicBezTo>
                <a:cubicBezTo>
                  <a:pt x="21600" y="18463"/>
                  <a:pt x="14788" y="15505"/>
                  <a:pt x="12010" y="16671"/>
                </a:cubicBezTo>
                <a:cubicBezTo>
                  <a:pt x="10128" y="17567"/>
                  <a:pt x="7260" y="21600"/>
                  <a:pt x="7260" y="21600"/>
                </a:cubicBezTo>
                <a:cubicBezTo>
                  <a:pt x="7260" y="21600"/>
                  <a:pt x="6005" y="13982"/>
                  <a:pt x="6005" y="13982"/>
                </a:cubicBezTo>
                <a:cubicBezTo>
                  <a:pt x="6005" y="13982"/>
                  <a:pt x="0" y="11831"/>
                  <a:pt x="0" y="11831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73400" y="2368440"/>
            <a:ext cx="19044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0" y="4044"/>
                </a:moveTo>
                <a:cubicBezTo>
                  <a:pt x="1740" y="4044"/>
                  <a:pt x="8292" y="6710"/>
                  <a:pt x="8292" y="6710"/>
                </a:cubicBezTo>
                <a:cubicBezTo>
                  <a:pt x="8292" y="6710"/>
                  <a:pt x="13820" y="0"/>
                  <a:pt x="13820" y="0"/>
                </a:cubicBezTo>
                <a:cubicBezTo>
                  <a:pt x="13820" y="0"/>
                  <a:pt x="14639" y="9100"/>
                  <a:pt x="14639" y="9100"/>
                </a:cubicBezTo>
                <a:cubicBezTo>
                  <a:pt x="14639" y="9100"/>
                  <a:pt x="21600" y="10019"/>
                  <a:pt x="21600" y="10019"/>
                </a:cubicBezTo>
                <a:cubicBezTo>
                  <a:pt x="21600" y="10019"/>
                  <a:pt x="14639" y="13971"/>
                  <a:pt x="14639" y="13971"/>
                </a:cubicBezTo>
                <a:cubicBezTo>
                  <a:pt x="14639" y="13971"/>
                  <a:pt x="12796" y="21600"/>
                  <a:pt x="12796" y="21600"/>
                </a:cubicBezTo>
                <a:cubicBezTo>
                  <a:pt x="12796" y="21600"/>
                  <a:pt x="9827" y="15809"/>
                  <a:pt x="6859" y="14614"/>
                </a:cubicBezTo>
                <a:cubicBezTo>
                  <a:pt x="5221" y="13695"/>
                  <a:pt x="0" y="14798"/>
                  <a:pt x="0" y="14798"/>
                </a:cubicBezTo>
                <a:cubicBezTo>
                  <a:pt x="0" y="14798"/>
                  <a:pt x="4300" y="9283"/>
                  <a:pt x="4300" y="9283"/>
                </a:cubicBezTo>
                <a:cubicBezTo>
                  <a:pt x="4300" y="9283"/>
                  <a:pt x="1740" y="4044"/>
                  <a:pt x="1740" y="4044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59280" y="1677960"/>
            <a:ext cx="25704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96"/>
                </a:moveTo>
                <a:cubicBezTo>
                  <a:pt x="0" y="8696"/>
                  <a:pt x="7276" y="8556"/>
                  <a:pt x="7276" y="8556"/>
                </a:cubicBezTo>
                <a:cubicBezTo>
                  <a:pt x="7276" y="8556"/>
                  <a:pt x="9549" y="0"/>
                  <a:pt x="9549" y="0"/>
                </a:cubicBezTo>
                <a:cubicBezTo>
                  <a:pt x="9549" y="0"/>
                  <a:pt x="14400" y="8696"/>
                  <a:pt x="14400" y="8696"/>
                </a:cubicBezTo>
                <a:cubicBezTo>
                  <a:pt x="14400" y="8696"/>
                  <a:pt x="21600" y="7223"/>
                  <a:pt x="21600" y="7223"/>
                </a:cubicBezTo>
                <a:cubicBezTo>
                  <a:pt x="21600" y="7223"/>
                  <a:pt x="16598" y="13465"/>
                  <a:pt x="16598" y="13465"/>
                </a:cubicBezTo>
                <a:cubicBezTo>
                  <a:pt x="16598" y="13465"/>
                  <a:pt x="18265" y="21600"/>
                  <a:pt x="18265" y="21600"/>
                </a:cubicBezTo>
                <a:cubicBezTo>
                  <a:pt x="18265" y="21600"/>
                  <a:pt x="12808" y="16901"/>
                  <a:pt x="9549" y="16901"/>
                </a:cubicBezTo>
                <a:cubicBezTo>
                  <a:pt x="7503" y="16831"/>
                  <a:pt x="3183" y="19847"/>
                  <a:pt x="3183" y="19847"/>
                </a:cubicBezTo>
                <a:cubicBezTo>
                  <a:pt x="3183" y="19847"/>
                  <a:pt x="4926" y="12694"/>
                  <a:pt x="4926" y="12694"/>
                </a:cubicBezTo>
                <a:cubicBezTo>
                  <a:pt x="4926" y="12694"/>
                  <a:pt x="0" y="8696"/>
                  <a:pt x="0" y="8696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79800" y="1386000"/>
            <a:ext cx="19224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221"/>
                </a:moveTo>
                <a:cubicBezTo>
                  <a:pt x="0" y="10221"/>
                  <a:pt x="7166" y="9643"/>
                  <a:pt x="7166" y="9643"/>
                </a:cubicBezTo>
                <a:cubicBezTo>
                  <a:pt x="7166" y="9643"/>
                  <a:pt x="8479" y="0"/>
                  <a:pt x="8479" y="0"/>
                </a:cubicBezTo>
                <a:cubicBezTo>
                  <a:pt x="8479" y="0"/>
                  <a:pt x="14232" y="8582"/>
                  <a:pt x="14232" y="8582"/>
                </a:cubicBezTo>
                <a:cubicBezTo>
                  <a:pt x="14232" y="8582"/>
                  <a:pt x="21600" y="6171"/>
                  <a:pt x="21600" y="6171"/>
                </a:cubicBezTo>
                <a:cubicBezTo>
                  <a:pt x="21600" y="6171"/>
                  <a:pt x="16957" y="13211"/>
                  <a:pt x="16957" y="13211"/>
                </a:cubicBezTo>
                <a:cubicBezTo>
                  <a:pt x="16957" y="13211"/>
                  <a:pt x="20086" y="21600"/>
                  <a:pt x="20086" y="21600"/>
                </a:cubicBezTo>
                <a:cubicBezTo>
                  <a:pt x="20086" y="21600"/>
                  <a:pt x="13929" y="17261"/>
                  <a:pt x="10699" y="17743"/>
                </a:cubicBezTo>
                <a:cubicBezTo>
                  <a:pt x="8479" y="18225"/>
                  <a:pt x="4643" y="21600"/>
                  <a:pt x="4643" y="21600"/>
                </a:cubicBezTo>
                <a:cubicBezTo>
                  <a:pt x="4643" y="21600"/>
                  <a:pt x="5450" y="14079"/>
                  <a:pt x="5450" y="14079"/>
                </a:cubicBezTo>
                <a:cubicBezTo>
                  <a:pt x="5450" y="14079"/>
                  <a:pt x="0" y="10221"/>
                  <a:pt x="0" y="10221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64240" y="1449360"/>
            <a:ext cx="17316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962"/>
                </a:moveTo>
                <a:cubicBezTo>
                  <a:pt x="0" y="13962"/>
                  <a:pt x="5400" y="9547"/>
                  <a:pt x="5400" y="9547"/>
                </a:cubicBezTo>
                <a:cubicBezTo>
                  <a:pt x="5400" y="9547"/>
                  <a:pt x="2363" y="716"/>
                  <a:pt x="2363" y="716"/>
                </a:cubicBezTo>
                <a:cubicBezTo>
                  <a:pt x="2363" y="716"/>
                  <a:pt x="11138" y="5728"/>
                  <a:pt x="11138" y="5728"/>
                </a:cubicBezTo>
                <a:cubicBezTo>
                  <a:pt x="11138" y="5728"/>
                  <a:pt x="15863" y="0"/>
                  <a:pt x="15863" y="0"/>
                </a:cubicBezTo>
                <a:cubicBezTo>
                  <a:pt x="15863" y="0"/>
                  <a:pt x="15525" y="8592"/>
                  <a:pt x="15525" y="8592"/>
                </a:cubicBezTo>
                <a:cubicBezTo>
                  <a:pt x="15525" y="8592"/>
                  <a:pt x="21600" y="14917"/>
                  <a:pt x="21600" y="14917"/>
                </a:cubicBezTo>
                <a:cubicBezTo>
                  <a:pt x="21600" y="14917"/>
                  <a:pt x="14625" y="13962"/>
                  <a:pt x="12150" y="15991"/>
                </a:cubicBezTo>
                <a:cubicBezTo>
                  <a:pt x="10463" y="16946"/>
                  <a:pt x="8888" y="21600"/>
                  <a:pt x="8888" y="21600"/>
                </a:cubicBezTo>
                <a:cubicBezTo>
                  <a:pt x="8888" y="21600"/>
                  <a:pt x="6075" y="14559"/>
                  <a:pt x="6075" y="14559"/>
                </a:cubicBezTo>
                <a:cubicBezTo>
                  <a:pt x="6075" y="14559"/>
                  <a:pt x="0" y="13962"/>
                  <a:pt x="0" y="13962"/>
                </a:cubicBezTo>
              </a:path>
            </a:pathLst>
          </a:custGeom>
          <a:solidFill>
            <a:srgbClr val="ffff00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51040" y="1353960"/>
            <a:ext cx="4505040" cy="2762280"/>
            <a:chOff x="851040" y="1353960"/>
            <a:chExt cx="4505040" cy="2762280"/>
          </a:xfrm>
        </p:grpSpPr>
        <p:sp>
          <p:nvSpPr>
            <p:cNvPr id="306" name=""/>
            <p:cNvSpPr/>
            <p:nvPr/>
          </p:nvSpPr>
          <p:spPr>
            <a:xfrm>
              <a:off x="955800" y="3182760"/>
              <a:ext cx="1252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14"/>
                  </a:moveTo>
                  <a:cubicBezTo>
                    <a:pt x="21600" y="16762"/>
                    <a:pt x="16627" y="21600"/>
                    <a:pt x="10878" y="21600"/>
                  </a:cubicBezTo>
                  <a:cubicBezTo>
                    <a:pt x="4817" y="21600"/>
                    <a:pt x="0" y="16762"/>
                    <a:pt x="0" y="10714"/>
                  </a:cubicBezTo>
                  <a:cubicBezTo>
                    <a:pt x="0" y="4666"/>
                    <a:pt x="4817" y="0"/>
                    <a:pt x="10878" y="0"/>
                  </a:cubicBezTo>
                  <a:cubicBezTo>
                    <a:pt x="16627" y="0"/>
                    <a:pt x="21600" y="4666"/>
                    <a:pt x="21600" y="10714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5960" y="4044960"/>
              <a:ext cx="81000" cy="7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40"/>
                    <a:pt x="16378" y="21600"/>
                    <a:pt x="11156" y="21600"/>
                  </a:cubicBezTo>
                  <a:cubicBezTo>
                    <a:pt x="5222" y="21600"/>
                    <a:pt x="0" y="16740"/>
                    <a:pt x="0" y="10800"/>
                  </a:cubicBezTo>
                  <a:cubicBezTo>
                    <a:pt x="0" y="4590"/>
                    <a:pt x="5222" y="0"/>
                    <a:pt x="11156" y="0"/>
                  </a:cubicBezTo>
                  <a:cubicBezTo>
                    <a:pt x="16378" y="0"/>
                    <a:pt x="21600" y="4590"/>
                    <a:pt x="21600" y="10800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39680" y="1528920"/>
              <a:ext cx="12564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14"/>
                  </a:moveTo>
                  <a:cubicBezTo>
                    <a:pt x="21600" y="16934"/>
                    <a:pt x="16783" y="21600"/>
                    <a:pt x="10878" y="21600"/>
                  </a:cubicBezTo>
                  <a:cubicBezTo>
                    <a:pt x="4817" y="21600"/>
                    <a:pt x="0" y="16934"/>
                    <a:pt x="0" y="10714"/>
                  </a:cubicBezTo>
                  <a:cubicBezTo>
                    <a:pt x="0" y="5011"/>
                    <a:pt x="4817" y="0"/>
                    <a:pt x="10878" y="0"/>
                  </a:cubicBezTo>
                  <a:cubicBezTo>
                    <a:pt x="16783" y="0"/>
                    <a:pt x="21600" y="5011"/>
                    <a:pt x="21600" y="10714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1040" y="1785960"/>
              <a:ext cx="93600" cy="8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79"/>
                  </a:moveTo>
                  <a:cubicBezTo>
                    <a:pt x="21600" y="16989"/>
                    <a:pt x="16823" y="21600"/>
                    <a:pt x="11215" y="21600"/>
                  </a:cubicBezTo>
                  <a:cubicBezTo>
                    <a:pt x="4985" y="21600"/>
                    <a:pt x="0" y="16989"/>
                    <a:pt x="0" y="10679"/>
                  </a:cubicBezTo>
                  <a:cubicBezTo>
                    <a:pt x="0" y="4611"/>
                    <a:pt x="4985" y="0"/>
                    <a:pt x="11215" y="0"/>
                  </a:cubicBezTo>
                  <a:cubicBezTo>
                    <a:pt x="16823" y="0"/>
                    <a:pt x="21600" y="4611"/>
                    <a:pt x="21600" y="10679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14480" y="2030400"/>
              <a:ext cx="9540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1"/>
                  </a:moveTo>
                  <a:cubicBezTo>
                    <a:pt x="21600" y="16844"/>
                    <a:pt x="16663" y="21600"/>
                    <a:pt x="11109" y="21600"/>
                  </a:cubicBezTo>
                  <a:cubicBezTo>
                    <a:pt x="4937" y="21600"/>
                    <a:pt x="0" y="16844"/>
                    <a:pt x="0" y="10701"/>
                  </a:cubicBezTo>
                  <a:cubicBezTo>
                    <a:pt x="0" y="4954"/>
                    <a:pt x="4937" y="0"/>
                    <a:pt x="11109" y="0"/>
                  </a:cubicBezTo>
                  <a:cubicBezTo>
                    <a:pt x="16663" y="0"/>
                    <a:pt x="21600" y="4954"/>
                    <a:pt x="21600" y="10701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24120" y="1422360"/>
              <a:ext cx="14148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15" y="6963"/>
                  </a:moveTo>
                  <a:cubicBezTo>
                    <a:pt x="21600" y="12363"/>
                    <a:pt x="18415" y="17621"/>
                    <a:pt x="13431" y="19895"/>
                  </a:cubicBezTo>
                  <a:cubicBezTo>
                    <a:pt x="8446" y="21600"/>
                    <a:pt x="2908" y="19468"/>
                    <a:pt x="1108" y="14495"/>
                  </a:cubicBezTo>
                  <a:cubicBezTo>
                    <a:pt x="0" y="9663"/>
                    <a:pt x="2908" y="4263"/>
                    <a:pt x="8446" y="1989"/>
                  </a:cubicBezTo>
                  <a:cubicBezTo>
                    <a:pt x="13154" y="0"/>
                    <a:pt x="18415" y="2132"/>
                    <a:pt x="20215" y="6963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87760" y="1527120"/>
              <a:ext cx="58680" cy="4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800"/>
                    <a:pt x="16615" y="21600"/>
                    <a:pt x="10966" y="21600"/>
                  </a:cubicBezTo>
                  <a:cubicBezTo>
                    <a:pt x="4985" y="21600"/>
                    <a:pt x="0" y="16800"/>
                    <a:pt x="0" y="10800"/>
                  </a:cubicBezTo>
                  <a:cubicBezTo>
                    <a:pt x="0" y="4400"/>
                    <a:pt x="4985" y="0"/>
                    <a:pt x="10966" y="0"/>
                  </a:cubicBezTo>
                  <a:cubicBezTo>
                    <a:pt x="16615" y="0"/>
                    <a:pt x="21600" y="4400"/>
                    <a:pt x="21600" y="10800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46600" y="1495440"/>
              <a:ext cx="46080" cy="3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063"/>
                  </a:moveTo>
                  <a:cubicBezTo>
                    <a:pt x="21600" y="16332"/>
                    <a:pt x="17365" y="21600"/>
                    <a:pt x="11012" y="21600"/>
                  </a:cubicBezTo>
                  <a:cubicBezTo>
                    <a:pt x="4659" y="21600"/>
                    <a:pt x="0" y="16332"/>
                    <a:pt x="0" y="11063"/>
                  </a:cubicBezTo>
                  <a:cubicBezTo>
                    <a:pt x="0" y="5268"/>
                    <a:pt x="4659" y="0"/>
                    <a:pt x="11012" y="0"/>
                  </a:cubicBezTo>
                  <a:cubicBezTo>
                    <a:pt x="17365" y="0"/>
                    <a:pt x="21600" y="5268"/>
                    <a:pt x="21600" y="11063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0160" y="1353960"/>
              <a:ext cx="11592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29"/>
                  </a:moveTo>
                  <a:cubicBezTo>
                    <a:pt x="21600" y="16114"/>
                    <a:pt x="17247" y="21600"/>
                    <a:pt x="10884" y="21600"/>
                  </a:cubicBezTo>
                  <a:cubicBezTo>
                    <a:pt x="4186" y="21600"/>
                    <a:pt x="0" y="16114"/>
                    <a:pt x="0" y="10629"/>
                  </a:cubicBezTo>
                  <a:cubicBezTo>
                    <a:pt x="0" y="5314"/>
                    <a:pt x="4186" y="0"/>
                    <a:pt x="10884" y="0"/>
                  </a:cubicBezTo>
                  <a:cubicBezTo>
                    <a:pt x="17247" y="0"/>
                    <a:pt x="21600" y="5314"/>
                    <a:pt x="21600" y="10629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82800" y="2409840"/>
              <a:ext cx="58680" cy="4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389"/>
                  </a:moveTo>
                  <a:cubicBezTo>
                    <a:pt x="21600" y="17280"/>
                    <a:pt x="16691" y="21600"/>
                    <a:pt x="11127" y="21600"/>
                  </a:cubicBezTo>
                  <a:cubicBezTo>
                    <a:pt x="4909" y="21600"/>
                    <a:pt x="0" y="17280"/>
                    <a:pt x="0" y="11389"/>
                  </a:cubicBezTo>
                  <a:cubicBezTo>
                    <a:pt x="0" y="5498"/>
                    <a:pt x="4909" y="0"/>
                    <a:pt x="11127" y="0"/>
                  </a:cubicBezTo>
                  <a:cubicBezTo>
                    <a:pt x="16691" y="0"/>
                    <a:pt x="21600" y="5498"/>
                    <a:pt x="21600" y="11389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84400" y="2868480"/>
              <a:ext cx="9216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36"/>
                  </a:moveTo>
                  <a:cubicBezTo>
                    <a:pt x="21600" y="16746"/>
                    <a:pt x="16986" y="21600"/>
                    <a:pt x="11115" y="21600"/>
                  </a:cubicBezTo>
                  <a:cubicBezTo>
                    <a:pt x="5033" y="21600"/>
                    <a:pt x="0" y="16746"/>
                    <a:pt x="0" y="10436"/>
                  </a:cubicBezTo>
                  <a:cubicBezTo>
                    <a:pt x="0" y="4369"/>
                    <a:pt x="5033" y="0"/>
                    <a:pt x="11115" y="0"/>
                  </a:cubicBezTo>
                  <a:cubicBezTo>
                    <a:pt x="16986" y="0"/>
                    <a:pt x="21600" y="4369"/>
                    <a:pt x="21600" y="10436"/>
                  </a:cubicBezTo>
                </a:path>
              </a:pathLst>
            </a:custGeom>
            <a:solidFill>
              <a:srgbClr val="ffff66"/>
            </a:solidFill>
            <a:ln w="3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95560" y="2109960"/>
            <a:ext cx="1460520" cy="18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4" y="10"/>
                </a:moveTo>
                <a:cubicBezTo>
                  <a:pt x="972" y="83"/>
                  <a:pt x="772" y="177"/>
                  <a:pt x="652" y="323"/>
                </a:cubicBezTo>
                <a:cubicBezTo>
                  <a:pt x="146" y="792"/>
                  <a:pt x="0" y="1469"/>
                  <a:pt x="399" y="2001"/>
                </a:cubicBezTo>
                <a:cubicBezTo>
                  <a:pt x="705" y="2376"/>
                  <a:pt x="1384" y="2574"/>
                  <a:pt x="1504" y="3074"/>
                </a:cubicBezTo>
                <a:cubicBezTo>
                  <a:pt x="1743" y="4074"/>
                  <a:pt x="266" y="4939"/>
                  <a:pt x="399" y="5960"/>
                </a:cubicBezTo>
                <a:cubicBezTo>
                  <a:pt x="572" y="7096"/>
                  <a:pt x="2143" y="7815"/>
                  <a:pt x="2595" y="8940"/>
                </a:cubicBezTo>
                <a:cubicBezTo>
                  <a:pt x="2901" y="9701"/>
                  <a:pt x="2422" y="10513"/>
                  <a:pt x="2595" y="11326"/>
                </a:cubicBezTo>
                <a:cubicBezTo>
                  <a:pt x="2981" y="13254"/>
                  <a:pt x="4725" y="14879"/>
                  <a:pt x="6481" y="16255"/>
                </a:cubicBezTo>
                <a:cubicBezTo>
                  <a:pt x="7985" y="17443"/>
                  <a:pt x="9729" y="18599"/>
                  <a:pt x="11752" y="19412"/>
                </a:cubicBezTo>
                <a:cubicBezTo>
                  <a:pt x="13894" y="20277"/>
                  <a:pt x="16263" y="20746"/>
                  <a:pt x="18592" y="21152"/>
                </a:cubicBezTo>
                <a:cubicBezTo>
                  <a:pt x="19577" y="21329"/>
                  <a:pt x="20575" y="21496"/>
                  <a:pt x="21600" y="21600"/>
                </a:cubicBezTo>
                <a:cubicBezTo>
                  <a:pt x="21134" y="21329"/>
                  <a:pt x="20695" y="21048"/>
                  <a:pt x="20229" y="20777"/>
                </a:cubicBezTo>
                <a:cubicBezTo>
                  <a:pt x="20083" y="20683"/>
                  <a:pt x="19936" y="20589"/>
                  <a:pt x="19790" y="20506"/>
                </a:cubicBezTo>
                <a:cubicBezTo>
                  <a:pt x="19564" y="20370"/>
                  <a:pt x="19338" y="20245"/>
                  <a:pt x="19098" y="20131"/>
                </a:cubicBezTo>
                <a:cubicBezTo>
                  <a:pt x="18752" y="19954"/>
                  <a:pt x="18406" y="19787"/>
                  <a:pt x="18033" y="19641"/>
                </a:cubicBezTo>
                <a:cubicBezTo>
                  <a:pt x="16330" y="18985"/>
                  <a:pt x="14294" y="18974"/>
                  <a:pt x="12603" y="18318"/>
                </a:cubicBezTo>
                <a:cubicBezTo>
                  <a:pt x="11352" y="17828"/>
                  <a:pt x="10221" y="17151"/>
                  <a:pt x="9196" y="16421"/>
                </a:cubicBezTo>
                <a:cubicBezTo>
                  <a:pt x="7852" y="15463"/>
                  <a:pt x="6588" y="14390"/>
                  <a:pt x="5656" y="13170"/>
                </a:cubicBezTo>
                <a:cubicBezTo>
                  <a:pt x="4711" y="11931"/>
                  <a:pt x="4259" y="10493"/>
                  <a:pt x="3673" y="9128"/>
                </a:cubicBezTo>
                <a:cubicBezTo>
                  <a:pt x="3167" y="7940"/>
                  <a:pt x="2635" y="6752"/>
                  <a:pt x="2316" y="5543"/>
                </a:cubicBezTo>
                <a:cubicBezTo>
                  <a:pt x="1916" y="4053"/>
                  <a:pt x="1437" y="2522"/>
                  <a:pt x="1610" y="1021"/>
                </a:cubicBezTo>
                <a:cubicBezTo>
                  <a:pt x="1650" y="677"/>
                  <a:pt x="1770" y="333"/>
                  <a:pt x="1930" y="0"/>
                </a:cubicBezTo>
                <a:cubicBezTo>
                  <a:pt x="1930" y="0"/>
                  <a:pt x="1184" y="10"/>
                  <a:pt x="1184" y="1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92400" y="2097000"/>
            <a:ext cx="3021120" cy="323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51" y="12531"/>
                </a:moveTo>
                <a:cubicBezTo>
                  <a:pt x="9905" y="12549"/>
                  <a:pt x="10066" y="12567"/>
                  <a:pt x="10227" y="12579"/>
                </a:cubicBezTo>
                <a:cubicBezTo>
                  <a:pt x="10214" y="12664"/>
                  <a:pt x="10227" y="12772"/>
                  <a:pt x="10253" y="12874"/>
                </a:cubicBezTo>
                <a:cubicBezTo>
                  <a:pt x="10369" y="13306"/>
                  <a:pt x="10729" y="13660"/>
                  <a:pt x="10749" y="14086"/>
                </a:cubicBezTo>
                <a:cubicBezTo>
                  <a:pt x="10761" y="14590"/>
                  <a:pt x="10433" y="15016"/>
                  <a:pt x="10253" y="15502"/>
                </a:cubicBezTo>
                <a:cubicBezTo>
                  <a:pt x="10066" y="16018"/>
                  <a:pt x="10015" y="16595"/>
                  <a:pt x="10079" y="17153"/>
                </a:cubicBezTo>
                <a:cubicBezTo>
                  <a:pt x="10163" y="17789"/>
                  <a:pt x="10337" y="18443"/>
                  <a:pt x="10665" y="19001"/>
                </a:cubicBezTo>
                <a:cubicBezTo>
                  <a:pt x="10890" y="19397"/>
                  <a:pt x="11251" y="19745"/>
                  <a:pt x="11469" y="20160"/>
                </a:cubicBezTo>
                <a:cubicBezTo>
                  <a:pt x="11643" y="20490"/>
                  <a:pt x="11765" y="20880"/>
                  <a:pt x="11823" y="21240"/>
                </a:cubicBezTo>
                <a:cubicBezTo>
                  <a:pt x="11836" y="21360"/>
                  <a:pt x="11849" y="21480"/>
                  <a:pt x="11862" y="21600"/>
                </a:cubicBezTo>
                <a:cubicBezTo>
                  <a:pt x="11971" y="21534"/>
                  <a:pt x="12081" y="21468"/>
                  <a:pt x="12119" y="21438"/>
                </a:cubicBezTo>
                <a:cubicBezTo>
                  <a:pt x="12229" y="21354"/>
                  <a:pt x="12300" y="21198"/>
                  <a:pt x="12358" y="21054"/>
                </a:cubicBezTo>
                <a:cubicBezTo>
                  <a:pt x="12473" y="20820"/>
                  <a:pt x="12718" y="20310"/>
                  <a:pt x="12718" y="20310"/>
                </a:cubicBezTo>
                <a:cubicBezTo>
                  <a:pt x="12718" y="20310"/>
                  <a:pt x="13387" y="18587"/>
                  <a:pt x="13387" y="18587"/>
                </a:cubicBezTo>
                <a:cubicBezTo>
                  <a:pt x="13387" y="18587"/>
                  <a:pt x="14308" y="19205"/>
                  <a:pt x="14771" y="19499"/>
                </a:cubicBezTo>
                <a:cubicBezTo>
                  <a:pt x="14964" y="19613"/>
                  <a:pt x="15157" y="19739"/>
                  <a:pt x="15363" y="19866"/>
                </a:cubicBezTo>
                <a:cubicBezTo>
                  <a:pt x="15190" y="19475"/>
                  <a:pt x="15061" y="19061"/>
                  <a:pt x="14990" y="18629"/>
                </a:cubicBezTo>
                <a:cubicBezTo>
                  <a:pt x="14919" y="18245"/>
                  <a:pt x="14900" y="17483"/>
                  <a:pt x="14913" y="16937"/>
                </a:cubicBezTo>
                <a:cubicBezTo>
                  <a:pt x="14829" y="16889"/>
                  <a:pt x="14745" y="16841"/>
                  <a:pt x="14668" y="16787"/>
                </a:cubicBezTo>
                <a:cubicBezTo>
                  <a:pt x="14082" y="16415"/>
                  <a:pt x="13606" y="15892"/>
                  <a:pt x="13349" y="15424"/>
                </a:cubicBezTo>
                <a:cubicBezTo>
                  <a:pt x="13033" y="14866"/>
                  <a:pt x="12808" y="14170"/>
                  <a:pt x="12724" y="13444"/>
                </a:cubicBezTo>
                <a:cubicBezTo>
                  <a:pt x="12699" y="13192"/>
                  <a:pt x="12712" y="12928"/>
                  <a:pt x="12860" y="12778"/>
                </a:cubicBezTo>
                <a:cubicBezTo>
                  <a:pt x="12956" y="12676"/>
                  <a:pt x="13130" y="12706"/>
                  <a:pt x="13310" y="12712"/>
                </a:cubicBezTo>
                <a:cubicBezTo>
                  <a:pt x="13568" y="12724"/>
                  <a:pt x="13838" y="12724"/>
                  <a:pt x="14082" y="12736"/>
                </a:cubicBezTo>
                <a:cubicBezTo>
                  <a:pt x="14359" y="12754"/>
                  <a:pt x="14636" y="12748"/>
                  <a:pt x="14874" y="12712"/>
                </a:cubicBezTo>
                <a:cubicBezTo>
                  <a:pt x="14906" y="12706"/>
                  <a:pt x="14945" y="12712"/>
                  <a:pt x="14977" y="12712"/>
                </a:cubicBezTo>
                <a:cubicBezTo>
                  <a:pt x="14990" y="12712"/>
                  <a:pt x="15003" y="12712"/>
                  <a:pt x="15016" y="12706"/>
                </a:cubicBezTo>
                <a:cubicBezTo>
                  <a:pt x="15119" y="12676"/>
                  <a:pt x="15157" y="12561"/>
                  <a:pt x="15202" y="12459"/>
                </a:cubicBezTo>
                <a:cubicBezTo>
                  <a:pt x="15344" y="12015"/>
                  <a:pt x="15531" y="11595"/>
                  <a:pt x="15646" y="11169"/>
                </a:cubicBezTo>
                <a:cubicBezTo>
                  <a:pt x="15756" y="10725"/>
                  <a:pt x="15782" y="10239"/>
                  <a:pt x="15852" y="9795"/>
                </a:cubicBezTo>
                <a:cubicBezTo>
                  <a:pt x="15930" y="9255"/>
                  <a:pt x="16026" y="8690"/>
                  <a:pt x="16219" y="8186"/>
                </a:cubicBezTo>
                <a:cubicBezTo>
                  <a:pt x="16303" y="7982"/>
                  <a:pt x="16451" y="7790"/>
                  <a:pt x="16670" y="7730"/>
                </a:cubicBezTo>
                <a:cubicBezTo>
                  <a:pt x="16940" y="7640"/>
                  <a:pt x="17243" y="7742"/>
                  <a:pt x="17526" y="7820"/>
                </a:cubicBezTo>
                <a:cubicBezTo>
                  <a:pt x="18124" y="7982"/>
                  <a:pt x="18723" y="8162"/>
                  <a:pt x="19334" y="8324"/>
                </a:cubicBezTo>
                <a:cubicBezTo>
                  <a:pt x="19585" y="8390"/>
                  <a:pt x="19869" y="8456"/>
                  <a:pt x="20120" y="8480"/>
                </a:cubicBezTo>
                <a:cubicBezTo>
                  <a:pt x="20319" y="8486"/>
                  <a:pt x="20532" y="8480"/>
                  <a:pt x="20705" y="8414"/>
                </a:cubicBezTo>
                <a:cubicBezTo>
                  <a:pt x="20963" y="8330"/>
                  <a:pt x="21291" y="8168"/>
                  <a:pt x="21600" y="8012"/>
                </a:cubicBezTo>
                <a:cubicBezTo>
                  <a:pt x="21600" y="8012"/>
                  <a:pt x="21600" y="0"/>
                  <a:pt x="21600" y="0"/>
                </a:cubicBezTo>
                <a:cubicBezTo>
                  <a:pt x="21600" y="0"/>
                  <a:pt x="245" y="96"/>
                  <a:pt x="245" y="96"/>
                </a:cubicBezTo>
                <a:cubicBezTo>
                  <a:pt x="167" y="288"/>
                  <a:pt x="103" y="480"/>
                  <a:pt x="84" y="678"/>
                </a:cubicBezTo>
                <a:cubicBezTo>
                  <a:pt x="0" y="1542"/>
                  <a:pt x="232" y="2425"/>
                  <a:pt x="425" y="3283"/>
                </a:cubicBezTo>
                <a:cubicBezTo>
                  <a:pt x="579" y="3979"/>
                  <a:pt x="837" y="4663"/>
                  <a:pt x="1081" y="5347"/>
                </a:cubicBezTo>
                <a:cubicBezTo>
                  <a:pt x="1364" y="6134"/>
                  <a:pt x="1583" y="6962"/>
                  <a:pt x="2040" y="7676"/>
                </a:cubicBezTo>
                <a:cubicBezTo>
                  <a:pt x="2491" y="8378"/>
                  <a:pt x="3102" y="8996"/>
                  <a:pt x="3752" y="9549"/>
                </a:cubicBezTo>
                <a:cubicBezTo>
                  <a:pt x="4248" y="9969"/>
                  <a:pt x="4795" y="10359"/>
                  <a:pt x="5400" y="10641"/>
                </a:cubicBezTo>
                <a:cubicBezTo>
                  <a:pt x="6217" y="11019"/>
                  <a:pt x="7202" y="11025"/>
                  <a:pt x="8026" y="11403"/>
                </a:cubicBezTo>
                <a:cubicBezTo>
                  <a:pt x="8650" y="11691"/>
                  <a:pt x="9191" y="12129"/>
                  <a:pt x="9751" y="12531"/>
                </a:cubicBezTo>
              </a:path>
            </a:pathLst>
          </a:custGeom>
          <a:solidFill>
            <a:srgbClr val="eb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62000" y="5327640"/>
            <a:ext cx="540000" cy="192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36" y="21175"/>
                </a:moveTo>
                <a:cubicBezTo>
                  <a:pt x="13860" y="20458"/>
                  <a:pt x="13356" y="19710"/>
                  <a:pt x="12816" y="18972"/>
                </a:cubicBezTo>
                <a:cubicBezTo>
                  <a:pt x="11232" y="16870"/>
                  <a:pt x="9648" y="14818"/>
                  <a:pt x="8208" y="12847"/>
                </a:cubicBezTo>
                <a:cubicBezTo>
                  <a:pt x="7056" y="11230"/>
                  <a:pt x="4392" y="8389"/>
                  <a:pt x="2484" y="5569"/>
                </a:cubicBezTo>
                <a:cubicBezTo>
                  <a:pt x="1404" y="4043"/>
                  <a:pt x="756" y="2497"/>
                  <a:pt x="144" y="1041"/>
                </a:cubicBezTo>
                <a:cubicBezTo>
                  <a:pt x="0" y="687"/>
                  <a:pt x="900" y="273"/>
                  <a:pt x="2196" y="152"/>
                </a:cubicBezTo>
                <a:cubicBezTo>
                  <a:pt x="3780" y="0"/>
                  <a:pt x="5616" y="253"/>
                  <a:pt x="5904" y="637"/>
                </a:cubicBezTo>
                <a:cubicBezTo>
                  <a:pt x="6768" y="1789"/>
                  <a:pt x="7740" y="2972"/>
                  <a:pt x="8748" y="4124"/>
                </a:cubicBezTo>
                <a:cubicBezTo>
                  <a:pt x="9540" y="5125"/>
                  <a:pt x="10404" y="6135"/>
                  <a:pt x="11160" y="7106"/>
                </a:cubicBezTo>
                <a:cubicBezTo>
                  <a:pt x="12456" y="8753"/>
                  <a:pt x="13752" y="10401"/>
                  <a:pt x="14868" y="12048"/>
                </a:cubicBezTo>
                <a:cubicBezTo>
                  <a:pt x="16200" y="13898"/>
                  <a:pt x="17604" y="15768"/>
                  <a:pt x="18828" y="17638"/>
                </a:cubicBezTo>
                <a:cubicBezTo>
                  <a:pt x="19728" y="18952"/>
                  <a:pt x="20592" y="20286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25760" y="5408640"/>
            <a:ext cx="560160" cy="20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25" y="20032"/>
                </a:moveTo>
                <a:cubicBezTo>
                  <a:pt x="13405" y="19343"/>
                  <a:pt x="12884" y="18636"/>
                  <a:pt x="12397" y="17947"/>
                </a:cubicBezTo>
                <a:cubicBezTo>
                  <a:pt x="10835" y="15959"/>
                  <a:pt x="9272" y="14008"/>
                  <a:pt x="7918" y="12153"/>
                </a:cubicBezTo>
                <a:cubicBezTo>
                  <a:pt x="6806" y="10623"/>
                  <a:pt x="4237" y="7936"/>
                  <a:pt x="2396" y="5269"/>
                </a:cubicBezTo>
                <a:cubicBezTo>
                  <a:pt x="1354" y="3815"/>
                  <a:pt x="695" y="2362"/>
                  <a:pt x="139" y="994"/>
                </a:cubicBezTo>
                <a:cubicBezTo>
                  <a:pt x="0" y="650"/>
                  <a:pt x="868" y="268"/>
                  <a:pt x="2118" y="134"/>
                </a:cubicBezTo>
                <a:cubicBezTo>
                  <a:pt x="3646" y="0"/>
                  <a:pt x="5417" y="249"/>
                  <a:pt x="5695" y="602"/>
                </a:cubicBezTo>
                <a:cubicBezTo>
                  <a:pt x="6494" y="1692"/>
                  <a:pt x="7501" y="2811"/>
                  <a:pt x="8439" y="3901"/>
                </a:cubicBezTo>
                <a:cubicBezTo>
                  <a:pt x="9237" y="4838"/>
                  <a:pt x="10036" y="5794"/>
                  <a:pt x="10765" y="6722"/>
                </a:cubicBezTo>
                <a:cubicBezTo>
                  <a:pt x="12015" y="8280"/>
                  <a:pt x="13266" y="9839"/>
                  <a:pt x="14342" y="11398"/>
                </a:cubicBezTo>
                <a:cubicBezTo>
                  <a:pt x="15627" y="13147"/>
                  <a:pt x="16981" y="14916"/>
                  <a:pt x="18197" y="16685"/>
                </a:cubicBezTo>
                <a:cubicBezTo>
                  <a:pt x="19065" y="17928"/>
                  <a:pt x="20628" y="2034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1440" y="5256360"/>
            <a:ext cx="546120" cy="19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43" y="21282"/>
                </a:moveTo>
                <a:cubicBezTo>
                  <a:pt x="14008" y="20577"/>
                  <a:pt x="13259" y="19374"/>
                  <a:pt x="12725" y="18659"/>
                </a:cubicBezTo>
                <a:cubicBezTo>
                  <a:pt x="11156" y="16592"/>
                  <a:pt x="9552" y="14576"/>
                  <a:pt x="8162" y="12648"/>
                </a:cubicBezTo>
                <a:cubicBezTo>
                  <a:pt x="7022" y="11048"/>
                  <a:pt x="4384" y="8256"/>
                  <a:pt x="2495" y="5494"/>
                </a:cubicBezTo>
                <a:cubicBezTo>
                  <a:pt x="1426" y="3974"/>
                  <a:pt x="749" y="2464"/>
                  <a:pt x="178" y="1033"/>
                </a:cubicBezTo>
                <a:cubicBezTo>
                  <a:pt x="0" y="676"/>
                  <a:pt x="891" y="298"/>
                  <a:pt x="2210" y="149"/>
                </a:cubicBezTo>
                <a:cubicBezTo>
                  <a:pt x="3778" y="0"/>
                  <a:pt x="5560" y="268"/>
                  <a:pt x="5881" y="636"/>
                </a:cubicBezTo>
                <a:cubicBezTo>
                  <a:pt x="6701" y="1778"/>
                  <a:pt x="7699" y="2931"/>
                  <a:pt x="8661" y="4054"/>
                </a:cubicBezTo>
                <a:cubicBezTo>
                  <a:pt x="9481" y="5047"/>
                  <a:pt x="10337" y="6031"/>
                  <a:pt x="11085" y="6995"/>
                </a:cubicBezTo>
                <a:cubicBezTo>
                  <a:pt x="12368" y="8614"/>
                  <a:pt x="13616" y="10234"/>
                  <a:pt x="14756" y="11843"/>
                </a:cubicBezTo>
                <a:cubicBezTo>
                  <a:pt x="16040" y="13671"/>
                  <a:pt x="17465" y="15509"/>
                  <a:pt x="18677" y="17348"/>
                </a:cubicBezTo>
                <a:cubicBezTo>
                  <a:pt x="19568" y="18629"/>
                  <a:pt x="20638" y="20298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71920" y="5162400"/>
            <a:ext cx="574560" cy="208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6" y="20479"/>
                </a:moveTo>
                <a:cubicBezTo>
                  <a:pt x="13893" y="19807"/>
                  <a:pt x="12608" y="18210"/>
                  <a:pt x="12101" y="17538"/>
                </a:cubicBezTo>
                <a:cubicBezTo>
                  <a:pt x="10614" y="15577"/>
                  <a:pt x="9093" y="13700"/>
                  <a:pt x="7741" y="11879"/>
                </a:cubicBezTo>
                <a:cubicBezTo>
                  <a:pt x="6659" y="10375"/>
                  <a:pt x="4158" y="7760"/>
                  <a:pt x="2400" y="5155"/>
                </a:cubicBezTo>
                <a:cubicBezTo>
                  <a:pt x="1386" y="3735"/>
                  <a:pt x="744" y="2316"/>
                  <a:pt x="169" y="962"/>
                </a:cubicBezTo>
                <a:cubicBezTo>
                  <a:pt x="0" y="644"/>
                  <a:pt x="879" y="252"/>
                  <a:pt x="2096" y="140"/>
                </a:cubicBezTo>
                <a:cubicBezTo>
                  <a:pt x="3583" y="0"/>
                  <a:pt x="5307" y="243"/>
                  <a:pt x="5577" y="607"/>
                </a:cubicBezTo>
                <a:cubicBezTo>
                  <a:pt x="6389" y="1653"/>
                  <a:pt x="7301" y="2755"/>
                  <a:pt x="8248" y="3810"/>
                </a:cubicBezTo>
                <a:cubicBezTo>
                  <a:pt x="9025" y="4735"/>
                  <a:pt x="9803" y="5668"/>
                  <a:pt x="10546" y="6574"/>
                </a:cubicBezTo>
                <a:cubicBezTo>
                  <a:pt x="11730" y="8106"/>
                  <a:pt x="12946" y="9609"/>
                  <a:pt x="14028" y="11132"/>
                </a:cubicBezTo>
                <a:cubicBezTo>
                  <a:pt x="15211" y="12850"/>
                  <a:pt x="16597" y="14577"/>
                  <a:pt x="17713" y="16286"/>
                </a:cubicBezTo>
                <a:cubicBezTo>
                  <a:pt x="18592" y="17519"/>
                  <a:pt x="20687" y="20386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13200" y="5116680"/>
            <a:ext cx="556920" cy="20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528" y="21600"/>
                </a:moveTo>
                <a:cubicBezTo>
                  <a:pt x="15005" y="20924"/>
                  <a:pt x="12946" y="18554"/>
                  <a:pt x="12458" y="17868"/>
                </a:cubicBezTo>
                <a:cubicBezTo>
                  <a:pt x="10887" y="15888"/>
                  <a:pt x="9352" y="13956"/>
                  <a:pt x="7956" y="12099"/>
                </a:cubicBezTo>
                <a:cubicBezTo>
                  <a:pt x="6839" y="10576"/>
                  <a:pt x="4222" y="7892"/>
                  <a:pt x="2443" y="5245"/>
                </a:cubicBezTo>
                <a:cubicBezTo>
                  <a:pt x="1361" y="3798"/>
                  <a:pt x="733" y="2342"/>
                  <a:pt x="140" y="990"/>
                </a:cubicBezTo>
                <a:cubicBezTo>
                  <a:pt x="0" y="638"/>
                  <a:pt x="872" y="267"/>
                  <a:pt x="2129" y="133"/>
                </a:cubicBezTo>
                <a:cubicBezTo>
                  <a:pt x="3664" y="0"/>
                  <a:pt x="5479" y="248"/>
                  <a:pt x="5758" y="600"/>
                </a:cubicBezTo>
                <a:cubicBezTo>
                  <a:pt x="6560" y="1685"/>
                  <a:pt x="7537" y="2789"/>
                  <a:pt x="8479" y="3884"/>
                </a:cubicBezTo>
                <a:cubicBezTo>
                  <a:pt x="9282" y="4826"/>
                  <a:pt x="10085" y="5759"/>
                  <a:pt x="10817" y="6692"/>
                </a:cubicBezTo>
                <a:cubicBezTo>
                  <a:pt x="12074" y="8244"/>
                  <a:pt x="13365" y="9786"/>
                  <a:pt x="14447" y="11338"/>
                </a:cubicBezTo>
                <a:cubicBezTo>
                  <a:pt x="15668" y="13089"/>
                  <a:pt x="17099" y="14851"/>
                  <a:pt x="18285" y="16602"/>
                </a:cubicBezTo>
                <a:cubicBezTo>
                  <a:pt x="19192" y="17849"/>
                  <a:pt x="20658" y="19668"/>
                  <a:pt x="21600" y="2089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20:02:05Z</dcterms:created>
  <dc:creator>OfficeHamada</dc:creator>
  <dc:description/>
  <dc:language>en-US</dc:language>
  <cp:lastModifiedBy>OfficeHamada</cp:lastModifiedBy>
  <cp:lastPrinted>2016-03-04T05:25:31Z</cp:lastPrinted>
  <dcterms:modified xsi:type="dcterms:W3CDTF">2016-03-22T16:32:10Z</dcterms:modified>
  <cp:revision>94</cp:revision>
  <dc:subject/>
  <dc:title/>
</cp:coreProperties>
</file>